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8D78-8663-4B71-BE9B-A56FE4BE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11CF-044E-400B-A83E-C82F3B8E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0E27-77FB-4A0B-8555-4B1EE052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6890-1FC4-4BBC-A092-3C76A5C3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900F-54A7-4E52-B8A3-60C21A5D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110C-6BA9-4597-9742-05007827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2DCF-6D75-4AD8-8D70-A1EC96FC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EA48-AEE2-47F5-A38D-79820B85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F19C-57A5-41BA-A8E5-1355E72B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A511-78EA-4584-AADE-A1C0B474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7038-06DB-43FD-A86C-87047DB4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81C5-BE25-4DA5-BB21-3BFE485D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h-T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4995-E92A-457F-B07B-A084444827C6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c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C8F9-ADDA-4F2A-8DAC-62CF7335D6C3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533520" y="220968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1000"/>
          </a:bodyPr>
          <a:p>
            <a:pPr lvl="4" marL="432000" indent="-47880">
              <a:lnSpc>
                <a:spcPct val="130000"/>
              </a:lnSpc>
              <a:spcBef>
                <a:spcPts val="1100"/>
              </a:spcBef>
              <a:buClr>
                <a:srgbClr val="0000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Shampoos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lvl="4" marL="432000" indent="-47880">
              <a:lnSpc>
                <a:spcPct val="130000"/>
              </a:lnSpc>
              <a:spcBef>
                <a:spcPts val="1100"/>
              </a:spcBef>
              <a:buClr>
                <a:srgbClr val="0000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Conditioners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lvl="4" marL="432000" indent="-47880">
              <a:lnSpc>
                <a:spcPct val="130000"/>
              </a:lnSpc>
              <a:spcBef>
                <a:spcPts val="1100"/>
              </a:spcBef>
              <a:buClr>
                <a:srgbClr val="0000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  “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2 in 1” shampoos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lvl="4" marL="432000" indent="-47880">
              <a:lnSpc>
                <a:spcPct val="130000"/>
              </a:lnSpc>
              <a:spcBef>
                <a:spcPts val="1100"/>
              </a:spcBef>
              <a:buClr>
                <a:srgbClr val="0000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Hair sprays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609480" y="685800"/>
            <a:ext cx="7848720" cy="1371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1f497d"/>
                </a:solidFill>
                <a:latin typeface="Times New Roman"/>
              </a:rPr>
              <a:t>Hair Care </a:t>
            </a:r>
            <a:r>
              <a:rPr b="1" lang="th-TH" sz="6000" spc="-1" strike="noStrike">
                <a:solidFill>
                  <a:srgbClr val="1f497d"/>
                </a:solidFill>
                <a:latin typeface="Times New Roman"/>
              </a:rPr>
              <a:t>Products</a:t>
            </a:r>
            <a:endParaRPr b="1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8088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an be seen above the sca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nsist mainly of dead cell          Kerat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+ binding material + small amount of wa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erminal hairs are lubricated by natural oil (sebum)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roduced  by sebaceous glan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igh level of hormones (androgens)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igh level of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b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A92A-7369-404F-87B9-E29B6F394F24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Line 4"/>
          <p:cNvSpPr/>
          <p:nvPr/>
        </p:nvSpPr>
        <p:spPr>
          <a:xfrm>
            <a:off x="4876920" y="2514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Line 5"/>
          <p:cNvSpPr/>
          <p:nvPr/>
        </p:nvSpPr>
        <p:spPr>
          <a:xfrm>
            <a:off x="6248520" y="50292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457200" y="685800"/>
            <a:ext cx="378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Hair Shaft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761760" y="20574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scales growing over the youngest p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(closet to the scalp)  are smooth and unbroken further along the hair have been damaged by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cosmetic treatments and by mistreatment : (over-energetic brush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D0A6-6594-4637-9E94-D97E4C9CCB29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07680" y="1219320"/>
            <a:ext cx="429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ture of  cuticle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238520" y="13712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847880" indent="-2286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952560" indent="-95256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EADA-2F01-4780-BAEB-23C4438268F3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53960" y="838080"/>
            <a:ext cx="565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ture of cuticle (con.)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609480" y="1371600"/>
            <a:ext cx="79250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lvl="2" marL="971280" indent="-19404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291600" indent="-29160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little by little, they may break away :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291600" indent="-2916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“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Angsana New"/>
              </a:rPr>
              <a:t>weathering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”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291600" indent="-29160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healthy cuticle is more than just a protective layer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291600" indent="-29160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intact cuticle cells are smooth, glossy, and reflect light  from their surface  (black hair reflects less light than blond  hair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291600" indent="-29160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1847-36FE-4375-A1F4-4D3EEED5CBA6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Picture 5" descr="The cuticle scale on a normal hair"/>
          <p:cNvPicPr/>
          <p:nvPr/>
        </p:nvPicPr>
        <p:blipFill>
          <a:blip r:embed="rId1"/>
          <a:srcRect l="2737" t="2733" r="2737" b="2752"/>
          <a:stretch/>
        </p:blipFill>
        <p:spPr>
          <a:xfrm>
            <a:off x="1752480" y="380880"/>
            <a:ext cx="5715000" cy="49104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115560" y="31694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1828800" y="534996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0000ff"/>
                </a:solidFill>
                <a:latin typeface="Times New Roman"/>
              </a:rPr>
              <a:t>The cuticle scale on a normal hair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0000ff"/>
                </a:solidFill>
                <a:latin typeface="Times New Roman"/>
              </a:rPr>
              <a:t>(electronmicrograph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267080" y="3962160"/>
            <a:ext cx="5105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ff"/>
                </a:solidFill>
                <a:latin typeface="Times New Roman"/>
              </a:rPr>
              <a:t>Another normal hair - but this ca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ff"/>
                </a:solidFill>
                <a:latin typeface="Times New Roman"/>
              </a:rPr>
              <a:t>from one of  our nearest rel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n or</a:t>
            </a:r>
            <a:r>
              <a:rPr b="1" i="1" lang="th-TH" sz="2400" spc="-1" strike="noStrike">
                <a:solidFill>
                  <a:srgbClr val="0000ff"/>
                </a:solidFill>
                <a:latin typeface="Times New Roman"/>
              </a:rPr>
              <a:t>angutan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DEE1-5598-48AB-99CC-ABD8337D989E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5" name="Picture 5" descr="a perfect hair as seen under an electron microscope"/>
          <p:cNvPicPr/>
          <p:nvPr/>
        </p:nvPicPr>
        <p:blipFill>
          <a:blip r:embed="rId1"/>
          <a:stretch/>
        </p:blipFill>
        <p:spPr>
          <a:xfrm>
            <a:off x="304920" y="304920"/>
            <a:ext cx="3962160" cy="2867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orangutan hair"/>
          <p:cNvPicPr/>
          <p:nvPr/>
        </p:nvPicPr>
        <p:blipFill>
          <a:blip r:embed="rId2"/>
          <a:stretch/>
        </p:blipFill>
        <p:spPr>
          <a:xfrm>
            <a:off x="228600" y="3581280"/>
            <a:ext cx="4038480" cy="30006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8"/>
          <p:cNvSpPr/>
          <p:nvPr/>
        </p:nvSpPr>
        <p:spPr>
          <a:xfrm>
            <a:off x="4254840" y="861120"/>
            <a:ext cx="47239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0000ff"/>
                </a:solidFill>
                <a:latin typeface="Times New Roman"/>
              </a:rPr>
              <a:t>A perfect hair seen under the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0000ff"/>
                </a:solidFill>
                <a:latin typeface="Times New Roman"/>
              </a:rPr>
              <a:t>electron microscope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3352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keratin chains link by : disulphide bond  and hydrogen bon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disulphide  bonds can be changed by chemical methods : perming and  relaxing         permane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th-TH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A2BE-BE76-42A6-AB8B-8B5965BB3CD5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609588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914400" y="131904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ir shape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3352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hydrogen bonds can be  easily broken  ap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whenever the hair is wetted and form ag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as it d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when they break the shape of hair chan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wet hair is wound on the roller, the dried  hair             keep the roller shape        </a:t>
            </a:r>
            <a:r>
              <a:rPr b="1" lang="th-TH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tempora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D1CA-A5D3-4652-8B5D-4BB23070C7E5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3480" y="609480"/>
            <a:ext cx="43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ir shape (con.)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4267080" y="5181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14479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individual hair form inside a hair bulb de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in hai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follicle is tiny but powerful fact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each hair grows during many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shampooed, conditioned, cut, blown dry,  exposal t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the sun and wind, colored, bleached, permed         none of these affected the </a:t>
            </a:r>
            <a:r>
              <a:rPr b="1" lang="th-TH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hair growth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2262-2271-4474-9FB8-93B1A4552D38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7848720" y="54864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9000" y="304920"/>
            <a:ext cx="4074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ir growth cycle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62120" y="28954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hair spontaneously falls 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follicle rests for a little while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tarts to produce a new 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9E45-B8F8-41EC-97C2-A36FCC33F40D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Text Box 1028"/>
          <p:cNvSpPr/>
          <p:nvPr/>
        </p:nvSpPr>
        <p:spPr>
          <a:xfrm>
            <a:off x="609480" y="1447920"/>
            <a:ext cx="5954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ir growth cycle (con.)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09120" y="1752120"/>
            <a:ext cx="81536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nagen   : the growing phase          (</a:t>
            </a:r>
            <a:r>
              <a:rPr b="1" lang="th-TH" sz="4400" spc="-1" strike="noStrike">
                <a:solidFill>
                  <a:srgbClr val="0000ff"/>
                </a:solidFill>
                <a:latin typeface="Times New Roman"/>
              </a:rPr>
              <a:t>~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00 day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atagen  : the intermediate phase   (</a:t>
            </a:r>
            <a:r>
              <a:rPr b="1" lang="th-TH" sz="4400" spc="-1" strike="noStrike">
                <a:solidFill>
                  <a:srgbClr val="0000ff"/>
                </a:solidFill>
                <a:latin typeface="Times New Roman"/>
              </a:rPr>
              <a:t>~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 day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elogen   : the shedding phase         (</a:t>
            </a:r>
            <a:r>
              <a:rPr b="1" lang="th-TH" sz="4400" spc="-1" strike="noStrike">
                <a:solidFill>
                  <a:srgbClr val="0000ff"/>
                </a:solidFill>
                <a:latin typeface="Times New Roman"/>
              </a:rPr>
              <a:t>~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0 day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5DAE-E59D-4B2A-AC3A-2643905BEFAE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459720" y="914400"/>
            <a:ext cx="4949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ge of the hair cycle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FD0A-0086-47D1-9F7B-A21693C7AF50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53352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1f497d"/>
                </a:solidFill>
                <a:latin typeface="Times New Roman"/>
              </a:rPr>
              <a:t>Hair Care </a:t>
            </a:r>
            <a:r>
              <a:rPr b="1" lang="th-TH" sz="5400" spc="-1" strike="noStrike">
                <a:solidFill>
                  <a:srgbClr val="1f497d"/>
                </a:solidFill>
                <a:latin typeface="Times New Roman"/>
              </a:rPr>
              <a:t>Products (con.)</a:t>
            </a:r>
            <a:endParaRPr b="1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04920" y="1371600"/>
            <a:ext cx="73911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4" marL="1954440" indent="-217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1954440" indent="-217080">
              <a:lnSpc>
                <a:spcPct val="110000"/>
              </a:lnSpc>
              <a:spcBef>
                <a:spcPts val="90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Hair gels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4" marL="1954440" indent="-217080">
              <a:lnSpc>
                <a:spcPct val="110000"/>
              </a:lnSpc>
              <a:spcBef>
                <a:spcPts val="90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Perming solutions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4" marL="1954440" indent="-217080">
              <a:lnSpc>
                <a:spcPct val="110000"/>
              </a:lnSpc>
              <a:spcBef>
                <a:spcPts val="90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Hair dyes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4" marL="1954440" indent="-217080">
              <a:lnSpc>
                <a:spcPct val="110000"/>
              </a:lnSpc>
              <a:spcBef>
                <a:spcPts val="90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etc.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4" marL="1954440" indent="-217080">
              <a:lnSpc>
                <a:spcPct val="110000"/>
              </a:lnSpc>
              <a:spcBef>
                <a:spcPts val="90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General remarks about  product development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3" marL="1519920" indent="-217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09480" y="1905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last between 3-7 years without interrup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roughly 1 cm/month         &gt; 1 m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faster rate in winter than summ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melanin is made in hair bulb throughou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this phas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7DE0-64CC-4D65-9C1E-1603D138E007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434340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537840" y="990720"/>
            <a:ext cx="626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agen (the growing phase)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less pigment is made in older people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hair cycle becomes shor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follicles gradually give up producing long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strong hair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hairs become thinner and shorter          thin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of the hair          degree of baldn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9A3F-7C0A-4983-AEB2-0432F0104708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Line 1028"/>
          <p:cNvSpPr/>
          <p:nvPr/>
        </p:nvSpPr>
        <p:spPr>
          <a:xfrm>
            <a:off x="6019920" y="5181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Line 1029"/>
          <p:cNvSpPr/>
          <p:nvPr/>
        </p:nvSpPr>
        <p:spPr>
          <a:xfrm>
            <a:off x="2666880" y="6019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Text Box 1030"/>
          <p:cNvSpPr/>
          <p:nvPr/>
        </p:nvSpPr>
        <p:spPr>
          <a:xfrm>
            <a:off x="529920" y="533520"/>
            <a:ext cx="351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Times New Roman"/>
              </a:rPr>
              <a:t>Anagen (con.)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447920" y="1828440"/>
            <a:ext cx="6781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hort resting phase : 2-4 we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o pigment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llicles stop producing 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base of follicle moves  upw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owards the surface of the sk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1735-A12C-49C9-BCDE-26226ACCF5B4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91560" y="1066680"/>
            <a:ext cx="738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tagen (the intermediate phase)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990360" y="2133360"/>
            <a:ext cx="7391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ast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r</a:t>
            </a:r>
            <a:r>
              <a:rPr b="1" lang="th-TH" sz="2800" spc="-1" strike="noStrike">
                <a:solidFill>
                  <a:srgbClr val="0000ff"/>
                </a:solidFill>
                <a:latin typeface="Times New Roman"/>
              </a:rPr>
              <a:t> 3-4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on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w hair begin to grow from the hair folli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 it grow s upwards the old hair will b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hed naturally or easily be pulled 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1710-9E9E-430F-9EE7-3F16F91607B9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13800" y="1295280"/>
            <a:ext cx="648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ogen (the shedding phase)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7621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t anytime around one in ten of the  follicles  at individual’s head is in the shedding  pha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hedding is part of normal process of t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placement of old hair with new 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w hair emerges from the same op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 the old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A2B5-19ED-40E7-A6A1-C247D8CD8278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55760" y="914400"/>
            <a:ext cx="357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logen (con.)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FC73-82EE-4577-AB9E-4A847B51E931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5" name="Picture 3" descr="follicle cycle"/>
          <p:cNvPicPr/>
          <p:nvPr/>
        </p:nvPicPr>
        <p:blipFill>
          <a:blip r:embed="rId1"/>
          <a:srcRect l="0" t="0" r="0" b="3478"/>
          <a:stretch/>
        </p:blipFill>
        <p:spPr>
          <a:xfrm>
            <a:off x="1295280" y="533520"/>
            <a:ext cx="7097760" cy="44956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3011040" y="5410080"/>
            <a:ext cx="35319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0000ff"/>
                </a:solidFill>
                <a:latin typeface="Times New Roman"/>
              </a:rPr>
              <a:t>The hair follicle cycle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F105-FD26-480E-A2CE-8B4EA9723BC0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8" name="Picture 1026" descr="image004"/>
          <p:cNvPicPr/>
          <p:nvPr/>
        </p:nvPicPr>
        <p:blipFill>
          <a:blip r:embed="rId1"/>
          <a:stretch/>
        </p:blipFill>
        <p:spPr>
          <a:xfrm>
            <a:off x="762120" y="762120"/>
            <a:ext cx="777240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C232-E6BF-45DD-93D0-20F01D7137F1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04920" y="1523880"/>
            <a:ext cx="8534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ngsana New"/>
                <a:ea typeface="Angsana New"/>
              </a:rPr>
              <a:t>Pigmentation</a:t>
            </a:r>
            <a:r>
              <a:rPr b="1" lang="en-US" sz="35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endParaRPr b="1" lang="en-US" sz="3500" spc="-1" strike="noStrike">
              <a:solidFill>
                <a:srgbClr val="0000ff"/>
              </a:solidFill>
              <a:latin typeface="Times New Roman"/>
            </a:endParaRPr>
          </a:p>
          <a:p>
            <a:pPr marL="260640" indent="-260640">
              <a:lnSpc>
                <a:spcPct val="7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Melanin : 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- produced by melanocytes at  growing </a:t>
            </a:r>
            <a:endParaRPr b="1" lang="en-US" sz="3900" spc="-1" strike="noStrike">
              <a:solidFill>
                <a:srgbClr val="0000ff"/>
              </a:solidFill>
              <a:latin typeface="Times New Roman"/>
            </a:endParaRPr>
          </a:p>
          <a:p>
            <a:pPr marL="260640" indent="-260640">
              <a:lnSpc>
                <a:spcPct val="7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                  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phase (anagen)</a:t>
            </a:r>
            <a:endParaRPr b="1" lang="en-US" sz="3900" spc="-1" strike="noStrike">
              <a:solidFill>
                <a:srgbClr val="0000ff"/>
              </a:solidFill>
              <a:latin typeface="Times New Roman"/>
            </a:endParaRPr>
          </a:p>
          <a:p>
            <a:pPr marL="260640" indent="-260640">
              <a:lnSpc>
                <a:spcPct val="7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  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- spread out throughout the cortex, the more 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    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  near outer edge lie along the amino acid </a:t>
            </a:r>
            <a:endParaRPr b="1" lang="en-US" sz="3900" spc="-1" strike="noStrike">
              <a:solidFill>
                <a:srgbClr val="0000ff"/>
              </a:solidFill>
              <a:latin typeface="Times New Roman"/>
            </a:endParaRPr>
          </a:p>
          <a:p>
            <a:pPr marL="260640" indent="-260640">
              <a:lnSpc>
                <a:spcPct val="7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                  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chains</a:t>
            </a:r>
            <a:endParaRPr b="1" lang="en-US" sz="3900" spc="-1" strike="noStrike">
              <a:solidFill>
                <a:srgbClr val="0000ff"/>
              </a:solidFill>
              <a:latin typeface="Times New Roman"/>
            </a:endParaRPr>
          </a:p>
          <a:p>
            <a:pPr marL="260640" indent="-260640">
              <a:lnSpc>
                <a:spcPct val="7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  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- does not protect the harmful effect from</a:t>
            </a:r>
            <a:endParaRPr b="1" lang="en-US" sz="3900" spc="-1" strike="noStrike">
              <a:solidFill>
                <a:srgbClr val="0000ff"/>
              </a:solidFill>
              <a:latin typeface="Times New Roman"/>
            </a:endParaRPr>
          </a:p>
          <a:p>
            <a:pPr marL="260640" indent="-260640">
              <a:lnSpc>
                <a:spcPct val="7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                  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sunlight</a:t>
            </a:r>
            <a:endParaRPr b="1" lang="en-US" sz="3900" spc="-1" strike="noStrike">
              <a:solidFill>
                <a:srgbClr val="0000ff"/>
              </a:solidFill>
              <a:latin typeface="Times New Roman"/>
            </a:endParaRPr>
          </a:p>
          <a:p>
            <a:pPr marL="260640" indent="-260640">
              <a:lnSpc>
                <a:spcPct val="7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           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en-US" sz="3900" spc="-1" strike="noStrike">
                <a:solidFill>
                  <a:srgbClr val="0000ff"/>
                </a:solidFill>
                <a:latin typeface="Angsana New"/>
                <a:ea typeface="Angsana New"/>
              </a:rPr>
              <a:t>- is found in 2 forms</a:t>
            </a:r>
            <a:endParaRPr b="1" lang="en-US" sz="3900" spc="-1" strike="noStrike">
              <a:solidFill>
                <a:srgbClr val="0000ff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819800" y="304920"/>
            <a:ext cx="5795280" cy="1166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ngsana New"/>
              </a:rPr>
              <a:t>Hair Color</a:t>
            </a:r>
            <a:endParaRPr b="1" lang="en-US" sz="8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09120" y="17524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Eumelanin : dark pigmented whic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                          </a:t>
            </a: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predominates in black a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                          </a:t>
            </a: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brunette hair/oval shape          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9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Phaeomelain : lighter pigment, found in red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	</a:t>
            </a: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	</a:t>
            </a: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	</a:t>
            </a: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	</a:t>
            </a: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and blond hair/smaller, partl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	</a:t>
            </a: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	</a:t>
            </a: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	</a:t>
            </a: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        </a:t>
            </a: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	</a:t>
            </a: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oval and partly rod- sha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E4FD-A097-43EC-B232-90461E7CDCD4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-794520" y="609480"/>
            <a:ext cx="694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gsana New"/>
              </a:rPr>
              <a:t>Pigmentation (con.)</a:t>
            </a:r>
            <a:endParaRPr b="1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9CC3-1DC1-47E9-84A4-038C77C0B426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6" name="Picture 3" descr="Pigment granules in the hair shaft"/>
          <p:cNvPicPr/>
          <p:nvPr/>
        </p:nvPicPr>
        <p:blipFill>
          <a:blip r:embed="rId1"/>
          <a:stretch/>
        </p:blipFill>
        <p:spPr>
          <a:xfrm>
            <a:off x="1295280" y="380880"/>
            <a:ext cx="655344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37720" y="2361960"/>
            <a:ext cx="76964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a tiny cup-shaped pit  burried deep in th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fat of the sca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follicle is the point from which the hair grow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well supplied with minute blood vesse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temperature is normal body temperatur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9356-251E-4B1C-849C-A4BBAF8F4E7D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36320" y="401760"/>
            <a:ext cx="454392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air Structure</a:t>
            </a:r>
            <a:endParaRPr b="1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09480" y="1600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air follicl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981080" y="1676520"/>
            <a:ext cx="47246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Strength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Elasticity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Static electricit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Moisture conten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Porosit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Textur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3445-79D6-4FF2-811C-32E5896EB79B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144440" y="0"/>
            <a:ext cx="70722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hysical properties of hair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5335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 single hair can support a load of about 100 g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keratin protein of the cortex responsible for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air streng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keratin is a protein chains contain high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ncentration of an amino acid called “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cystin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atrix contains high level of cyst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F3B1-0518-4839-AD5D-C48B8497449C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63560" y="655560"/>
            <a:ext cx="37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ir strength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0880" y="14479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ach cystine unit contains 2 cysteine amino acids in different chain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chains are linked by two sulphur atom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rming a very strong chemical bond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disulphide linkag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any disulphide bonds form down the leng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f the keratin ch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5DFF-51BD-4F88-BEBB-587C1F2507E7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03120" y="533520"/>
            <a:ext cx="492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ir strength (con.)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3074-BE46-428D-89EE-6B83DBC723F8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7" name="Picture 2" descr="image002"/>
          <p:cNvPicPr/>
          <p:nvPr/>
        </p:nvPicPr>
        <p:blipFill>
          <a:blip r:embed="rId1"/>
          <a:stretch/>
        </p:blipFill>
        <p:spPr>
          <a:xfrm>
            <a:off x="1600200" y="271440"/>
            <a:ext cx="5867280" cy="53085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3"/>
          <p:cNvSpPr/>
          <p:nvPr/>
        </p:nvSpPr>
        <p:spPr>
          <a:xfrm>
            <a:off x="548640" y="5866560"/>
            <a:ext cx="79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0000ff"/>
                </a:solidFill>
                <a:latin typeface="Times New Roman"/>
              </a:rPr>
              <a:t>Chemical bonds within the hair maintain its shape</a:t>
            </a:r>
            <a:r>
              <a:rPr b="0" i="1" lang="th-TH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one of the most important 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an resist forces  that could change 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hape, volume and l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est spring back to its origin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m without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et hair can increase the length up to 30%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nd return to  original length when it is dr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EFEB-FCB0-4313-8304-0EE4A506991C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533520" y="61920"/>
            <a:ext cx="323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lasticity</a:t>
            </a:r>
            <a:endParaRPr b="1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8580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8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Times New Roman"/>
              </a:rPr>
              <a:t>elasticity of hair depends on the lo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300" spc="-1" strike="noStrike">
                <a:solidFill>
                  <a:srgbClr val="0000ff"/>
                </a:solidFill>
                <a:latin typeface="Times New Roman"/>
              </a:rPr>
              <a:t>keratin fibers in the cortex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8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Times New Roman"/>
              </a:rPr>
              <a:t>chemical treatment can alter the cortex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300" spc="-1" strike="noStrike">
                <a:solidFill>
                  <a:srgbClr val="0000ff"/>
                </a:solidFill>
                <a:latin typeface="Times New Roman"/>
              </a:rPr>
              <a:t>and change the hair elasticity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7B59-170E-4C7F-85F2-30B39A84928C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687960" y="990720"/>
            <a:ext cx="424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lasticity (con.)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58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or elasticity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 stretch only to a limited ex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 will break eas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 cannot be permed satisfactori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atural sunlight and artificial UV ligh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amage chemicals of hair and its elast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1E1C-2814-431B-B0B3-A29DFAD39E1B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532080" y="762120"/>
            <a:ext cx="391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asticity (con.)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759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c electr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ubbing drug hair / brushing / comb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uilds up static electric charg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</a:t>
            </a:r>
            <a:r>
              <a:rPr b="1" lang="th-TH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harges tend to push each other a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harged hair never lie smooth again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ach other </a:t>
            </a:r>
            <a:r>
              <a:rPr b="1" lang="th-TH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“ fly away ” 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tands out from the hea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FFC1-B7A7-4A14-8317-7F5AFFE4DF20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914400" y="26668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2819520" y="51814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BA8C-6D2F-4BE0-9198-242A1649D83D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73" name="Picture 4" descr="Charged Particles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9144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isture content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at and humid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ore mois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ess static electric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llap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at and dry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ess mois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ore static electr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ore volu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4A2F-C0E2-4235-ADD1-1D5B111C2A1A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14400" y="22093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emperature is not affected by cold or  hot 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rate of growth depends on t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mount of natural light : growing a little             faster in winter when the days are sh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9786-D933-42B6-BCC2-1EF5474333A8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489480" y="572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991080" y="1066680"/>
            <a:ext cx="637416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air Structure (con.)</a:t>
            </a:r>
            <a:endParaRPr b="1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- wet  hair         swell cortex / lift cuticl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sc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- hair surface temporaly loses its smoothn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- wet hair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Andalus"/>
              </a:rPr>
              <a:t>     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more friction        matt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and tangles (over vigorous shampoo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4C21-57DD-4E09-9CD5-E57C79031834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31000" y="609480"/>
            <a:ext cx="575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isture content (con.)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3124080" y="2057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3048120" y="449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914040" y="190512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uticle covering cortex is intact : </a:t>
            </a:r>
            <a:r>
              <a:rPr b="1" lang="th-TH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l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ater proof (very little water can go 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nd o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hampoos do not damage the cutic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reating the hair (permed or tint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8E10-DE2A-4662-90F9-FCF29F6DDC4C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838080" y="407880"/>
            <a:ext cx="3429000" cy="16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orosity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ormal hair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219320" y="175248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emperature / applying an alkaline lo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parate the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llowing chemicals to go in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fter processing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ndalus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cales close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6BC3-4500-484B-8CF3-6A12A9AD74A7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684000" y="990720"/>
            <a:ext cx="366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rosity (con.)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" name="Line 6"/>
          <p:cNvSpPr/>
          <p:nvPr/>
        </p:nvSpPr>
        <p:spPr>
          <a:xfrm flipV="1">
            <a:off x="1600200" y="21337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1600200" y="33526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4343400" y="52578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144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the larger the hair diameter          th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coarser it will fee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8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different people’s hair         naturally fee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different  soft / hard / silky / wi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8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effected by degree of weathering of hai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BD5B-4200-472C-8393-7DAA7C196B55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" name="Line 4"/>
          <p:cNvSpPr/>
          <p:nvPr/>
        </p:nvSpPr>
        <p:spPr>
          <a:xfrm>
            <a:off x="5791320" y="21337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495288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839520" y="457200"/>
            <a:ext cx="27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exture</a:t>
            </a:r>
            <a:endParaRPr b="1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exture is affected by what has been put on i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 spray : makes different fe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 conditioner : feel soft and smoo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h-TH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h-TH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h-TH" sz="28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nditioner with silicone : protect t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air cutic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 damage to cuticle : alter the hair tex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0A52-D9BD-45FD-9870-83A7AB5DE6C0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379440" y="304920"/>
            <a:ext cx="356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xture (con.)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CB79-ECF0-4F6A-B768-D8D05C586FE7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0" name="Text Box 1028"/>
          <p:cNvSpPr/>
          <p:nvPr/>
        </p:nvSpPr>
        <p:spPr>
          <a:xfrm>
            <a:off x="757080" y="1600200"/>
            <a:ext cx="49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Times New Roman"/>
              </a:rPr>
              <a:t>Chemistry of Hair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1" name="Text Box 1029"/>
          <p:cNvSpPr/>
          <p:nvPr/>
        </p:nvSpPr>
        <p:spPr>
          <a:xfrm>
            <a:off x="380880" y="289548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  </a:t>
            </a:r>
            <a:r>
              <a:rPr b="1" lang="th-TH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Keratinization process in the </a:t>
            </a:r>
            <a:r>
              <a:rPr b="1" lang="th-TH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follicle </a:t>
            </a:r>
            <a:r>
              <a:rPr b="1" lang="th-TH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   keratin + water soluble </a:t>
            </a:r>
            <a:r>
              <a:rPr b="1" lang="th-TH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substances : pentose, phenols, uric </a:t>
            </a:r>
            <a:r>
              <a:rPr b="1" lang="th-TH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acid, glycogen, glutamic acid, </a:t>
            </a:r>
            <a:r>
              <a:rPr b="1" lang="th-TH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0000ff"/>
                </a:solidFill>
                <a:latin typeface="Times New Roman"/>
                <a:ea typeface="Angsana New"/>
              </a:rPr>
              <a:t>valine, leucin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" name="Line 1030"/>
          <p:cNvSpPr/>
          <p:nvPr/>
        </p:nvSpPr>
        <p:spPr>
          <a:xfrm>
            <a:off x="2895480" y="3809880"/>
            <a:ext cx="533520" cy="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EBD1-6C09-4354-8B01-ACFDB3FC002B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4" name="Text Box 1028"/>
          <p:cNvSpPr/>
          <p:nvPr/>
        </p:nvSpPr>
        <p:spPr>
          <a:xfrm>
            <a:off x="1132560" y="685800"/>
            <a:ext cx="606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ff"/>
                </a:solidFill>
                <a:latin typeface="Times New Roman"/>
              </a:rPr>
              <a:t>Chemistry of Hair (con.)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5" name="Text Box 1029"/>
          <p:cNvSpPr/>
          <p:nvPr/>
        </p:nvSpPr>
        <p:spPr>
          <a:xfrm>
            <a:off x="1370880" y="1828800"/>
            <a:ext cx="642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</a:rPr>
              <a:t>Keratin is composed of amino acid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06" name="Picture 1030" descr="รูปที่1"/>
          <p:cNvPicPr/>
          <p:nvPr/>
        </p:nvPicPr>
        <p:blipFill>
          <a:blip r:embed="rId1"/>
          <a:stretch/>
        </p:blipFill>
        <p:spPr>
          <a:xfrm>
            <a:off x="3124080" y="2743200"/>
            <a:ext cx="2971800" cy="2114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31"/>
          <p:cNvSpPr/>
          <p:nvPr/>
        </p:nvSpPr>
        <p:spPr>
          <a:xfrm>
            <a:off x="1520640" y="5105520"/>
            <a:ext cx="59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</a:rPr>
              <a:t>18 out of 25 normal amino acid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</a:rPr>
              <a:t>are found in keratin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6C92-D8A1-41FD-B81E-16C5C13F2953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9" name="Text Box 1028"/>
          <p:cNvSpPr/>
          <p:nvPr/>
        </p:nvSpPr>
        <p:spPr>
          <a:xfrm>
            <a:off x="914400" y="1600200"/>
            <a:ext cx="676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Organization of hair protein sets up by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th-TH" sz="2800" spc="-1" strike="noStrike">
                <a:solidFill>
                  <a:srgbClr val="000000"/>
                </a:solidFill>
                <a:latin typeface="Times New Roman"/>
              </a:rPr>
              <a:t>bonding in 3 ways :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0" name="Rectangle 1029"/>
          <p:cNvSpPr/>
          <p:nvPr/>
        </p:nvSpPr>
        <p:spPr>
          <a:xfrm>
            <a:off x="1208880" y="685800"/>
            <a:ext cx="606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ff"/>
                </a:solidFill>
                <a:latin typeface="Times New Roman"/>
              </a:rPr>
              <a:t>Chemistry of Hair (con.)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11" name="Picture 1030" descr="รูปที่2"/>
          <p:cNvPicPr/>
          <p:nvPr/>
        </p:nvPicPr>
        <p:blipFill>
          <a:blip r:embed="rId1"/>
          <a:stretch/>
        </p:blipFill>
        <p:spPr>
          <a:xfrm>
            <a:off x="1905120" y="4267080"/>
            <a:ext cx="5790960" cy="213516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031"/>
          <p:cNvSpPr/>
          <p:nvPr/>
        </p:nvSpPr>
        <p:spPr>
          <a:xfrm>
            <a:off x="2133720" y="34290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imes New Roman"/>
              </a:rPr>
              <a:t>between parallel peptide chain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3" name="Rectangle 1032"/>
          <p:cNvSpPr/>
          <p:nvPr/>
        </p:nvSpPr>
        <p:spPr>
          <a:xfrm>
            <a:off x="1748880" y="2895480"/>
            <a:ext cx="39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th-TH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h-TH" sz="2800" spc="-1" strike="noStrike">
                <a:solidFill>
                  <a:srgbClr val="0000ff"/>
                </a:solidFill>
                <a:latin typeface="Times New Roman"/>
              </a:rPr>
              <a:t>Formation of H-bond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7C9B-9401-43EF-A65B-3E97CF128B4B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5" name="Text Box 1026"/>
          <p:cNvSpPr/>
          <p:nvPr/>
        </p:nvSpPr>
        <p:spPr>
          <a:xfrm>
            <a:off x="1820160" y="259092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imes New Roman"/>
              </a:rPr>
              <a:t>between acidie and basic side chai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6" name="Rectangle 1027"/>
          <p:cNvSpPr/>
          <p:nvPr/>
        </p:nvSpPr>
        <p:spPr>
          <a:xfrm>
            <a:off x="1437480" y="685800"/>
            <a:ext cx="606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ff"/>
                </a:solidFill>
                <a:latin typeface="Times New Roman"/>
              </a:rPr>
              <a:t>Chemistry of Hair (con.)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7" name="Rectangle 1028"/>
          <p:cNvSpPr/>
          <p:nvPr/>
        </p:nvSpPr>
        <p:spPr>
          <a:xfrm>
            <a:off x="1283040" y="1905120"/>
            <a:ext cx="498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ff"/>
                </a:solidFill>
                <a:latin typeface="Times New Roman"/>
              </a:rPr>
              <a:t>II  Formaton of salt linkage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18" name="Picture 1029" descr="รูปที่3"/>
          <p:cNvPicPr/>
          <p:nvPr/>
        </p:nvPicPr>
        <p:blipFill>
          <a:blip r:embed="rId1"/>
          <a:stretch/>
        </p:blipFill>
        <p:spPr>
          <a:xfrm>
            <a:off x="3276720" y="3200400"/>
            <a:ext cx="2841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20A1-4905-4B5D-A6DA-F3313CE0E8D0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056240" y="762120"/>
            <a:ext cx="606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ff"/>
                </a:solidFill>
                <a:latin typeface="Times New Roman"/>
              </a:rPr>
              <a:t>Chemistry of Hair (con.)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822680" y="2590920"/>
            <a:ext cx="64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amino acid contains two amino and two carlygl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groups link together by a disulphide bond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207800" y="1981080"/>
            <a:ext cx="64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ff"/>
                </a:solidFill>
                <a:latin typeface="Times New Roman"/>
              </a:rPr>
              <a:t>III  Formates of disulphide linkage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23" name="Picture 6" descr="รูปที่4"/>
          <p:cNvPicPr/>
          <p:nvPr/>
        </p:nvPicPr>
        <p:blipFill>
          <a:blip r:embed="rId1"/>
          <a:stretch/>
        </p:blipFill>
        <p:spPr>
          <a:xfrm>
            <a:off x="3429000" y="3505320"/>
            <a:ext cx="29718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-152280" y="456840"/>
            <a:ext cx="94485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38400" indent="-123840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air follicle                Hair bul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38400" indent="-123840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air shaf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38400" indent="-123840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air bul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38400" indent="-123840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 lines in </a:t>
            </a:r>
            <a:r>
              <a:rPr b="1" lang="th-TH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de the hair folli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38400" indent="-123840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 is a structure of actively growing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38400" indent="-123840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 produce a long fine cylinder of 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38400" indent="-123840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h-TH" sz="28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new cells are continuously produced in the low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38400" indent="-123840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rt of the bul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9BD1-4AE5-44D7-B816-BB4BC702AC84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Line 4"/>
          <p:cNvSpPr/>
          <p:nvPr/>
        </p:nvSpPr>
        <p:spPr>
          <a:xfrm>
            <a:off x="2209680" y="990720"/>
            <a:ext cx="9907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Line 5"/>
          <p:cNvSpPr/>
          <p:nvPr/>
        </p:nvSpPr>
        <p:spPr>
          <a:xfrm>
            <a:off x="2209680" y="990720"/>
            <a:ext cx="914400" cy="533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9382-BD10-43F0-8CD8-7B21FC75BCD1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25" name="Picture 2" descr="Structure"/>
          <p:cNvPicPr/>
          <p:nvPr/>
        </p:nvPicPr>
        <p:blipFill>
          <a:blip r:embed="rId1"/>
          <a:srcRect l="0" t="0" r="0" b="5406"/>
          <a:stretch/>
        </p:blipFill>
        <p:spPr>
          <a:xfrm>
            <a:off x="2666880" y="228600"/>
            <a:ext cx="3962520" cy="55627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2666880" y="5867280"/>
            <a:ext cx="3962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0000ff"/>
                </a:solidFill>
                <a:latin typeface="Times New Roman"/>
              </a:rPr>
              <a:t>Structure for  </a:t>
            </a:r>
            <a:r>
              <a:rPr b="1" i="1" lang="th-TH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i="1" lang="th-TH" sz="2800" spc="-1" strike="noStrike">
                <a:solidFill>
                  <a:srgbClr val="0000ff"/>
                </a:solidFill>
                <a:latin typeface="Times New Roman"/>
              </a:rPr>
              <a:t>- kerati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D17C-65EC-45E5-86B3-26F8E812EB40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190440" y="46080"/>
            <a:ext cx="6324840" cy="35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190440" y="46080"/>
            <a:ext cx="6324840" cy="35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190440" y="46080"/>
            <a:ext cx="6324840" cy="35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190440" y="46080"/>
            <a:ext cx="3105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AutoShape 13"/>
          <p:cNvSpPr/>
          <p:nvPr/>
        </p:nvSpPr>
        <p:spPr>
          <a:xfrm>
            <a:off x="190440" y="46080"/>
            <a:ext cx="3105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190440" y="46080"/>
            <a:ext cx="6324840" cy="35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199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6" name="Picture 18" descr="Hair pic1"/>
          <p:cNvPicPr/>
          <p:nvPr/>
        </p:nvPicPr>
        <p:blipFill>
          <a:blip r:embed="rId1"/>
          <a:stretch/>
        </p:blipFill>
        <p:spPr>
          <a:xfrm>
            <a:off x="2424240" y="152280"/>
            <a:ext cx="4311360" cy="54104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9"/>
          <p:cNvSpPr/>
          <p:nvPr/>
        </p:nvSpPr>
        <p:spPr>
          <a:xfrm>
            <a:off x="1184760" y="5526000"/>
            <a:ext cx="679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ff"/>
                </a:solidFill>
                <a:latin typeface="Times New Roman"/>
              </a:rPr>
              <a:t>(a) Longitudinal section of a hair within its follicl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ff"/>
                </a:solidFill>
                <a:latin typeface="Times New Roman"/>
              </a:rPr>
              <a:t>(b) Enlarged longitudinal section of a hair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0C95-8FB2-4C20-8BF8-B4C8CBBBF6BA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9" name="Picture 7" descr="Hair pic3"/>
          <p:cNvPicPr/>
          <p:nvPr/>
        </p:nvPicPr>
        <p:blipFill>
          <a:blip r:embed="rId1"/>
          <a:stretch/>
        </p:blipFill>
        <p:spPr>
          <a:xfrm>
            <a:off x="152280" y="152280"/>
            <a:ext cx="7391520" cy="4741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-155880" y="5006880"/>
            <a:ext cx="91936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th-TH" sz="2400" spc="-1" strike="noStrike">
                <a:solidFill>
                  <a:srgbClr val="0000ff"/>
                </a:solidFill>
                <a:latin typeface="Times New Roman"/>
              </a:rPr>
              <a:t>(c) Enlarged longitudinal view of the expanded hair bulb of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i="1" lang="th-TH" sz="2400" spc="-1" strike="noStrike">
                <a:solidFill>
                  <a:srgbClr val="0000ff"/>
                </a:solidFill>
                <a:latin typeface="Times New Roman"/>
              </a:rPr>
              <a:t>the follicle which encloses the matrix, actively dividing epithelial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i="1" lang="th-TH" sz="2400" spc="-1" strike="noStrike">
                <a:solidFill>
                  <a:srgbClr val="0000ff"/>
                </a:solidFill>
                <a:latin typeface="Times New Roman"/>
              </a:rPr>
              <a:t>cells that produce the hair.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5CF1-4054-4C04-A129-546383B8F32B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2" name="Picture 6" descr="Hair pic2"/>
          <p:cNvPicPr/>
          <p:nvPr/>
        </p:nvPicPr>
        <p:blipFill>
          <a:blip r:embed="rId1"/>
          <a:stretch/>
        </p:blipFill>
        <p:spPr>
          <a:xfrm>
            <a:off x="1523880" y="228600"/>
            <a:ext cx="6248520" cy="54324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1208880" y="5884920"/>
            <a:ext cx="66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0000ff"/>
                </a:solidFill>
                <a:latin typeface="Times New Roman"/>
              </a:rPr>
              <a:t>(d) Cross section of a hair and hair follicle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40000"/>
              </a:lnSpc>
              <a:spcBef>
                <a:spcPts val="300"/>
              </a:spcBef>
              <a:buClr>
                <a:srgbClr val="89898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5530-AEDA-452C-B55A-51A2BEBC703C}" type="slidenum">
              <a:rPr b="1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5" name="Picture 1029" descr="Hair pic4"/>
          <p:cNvPicPr/>
          <p:nvPr/>
        </p:nvPicPr>
        <p:blipFill>
          <a:blip r:embed="rId1"/>
          <a:stretch/>
        </p:blipFill>
        <p:spPr>
          <a:xfrm>
            <a:off x="914400" y="228600"/>
            <a:ext cx="7975440" cy="47005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030"/>
          <p:cNvSpPr/>
          <p:nvPr/>
        </p:nvSpPr>
        <p:spPr>
          <a:xfrm>
            <a:off x="193680" y="5073480"/>
            <a:ext cx="85064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0000ff"/>
                </a:solidFill>
                <a:latin typeface="Times New Roman"/>
              </a:rPr>
              <a:t>(e) Photomicrograph of scalp tissue showing numerou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th-TH" sz="2800" spc="-1" strike="noStrike">
                <a:solidFill>
                  <a:srgbClr val="0000ff"/>
                </a:solidFill>
                <a:latin typeface="Times New Roman"/>
              </a:rPr>
              <a:t>hair follicles (24 </a:t>
            </a:r>
            <a:r>
              <a:rPr b="1" i="1" lang="th-TH" sz="20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i="1" lang="th-TH" sz="2800" spc="-1" strike="noStrike">
                <a:solidFill>
                  <a:srgbClr val="0000ff"/>
                </a:solidFill>
                <a:latin typeface="Times New Roman"/>
              </a:rPr>
              <a:t>)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09:50:03Z</dcterms:created>
  <dc:creator>pc04</dc:creator>
  <dc:description/>
  <dc:language>en-US</dc:language>
  <cp:lastModifiedBy>User</cp:lastModifiedBy>
  <cp:lastPrinted>2004-10-19T07:50:38Z</cp:lastPrinted>
  <dcterms:modified xsi:type="dcterms:W3CDTF">2014-09-14T08:25:55Z</dcterms:modified>
  <cp:revision>338</cp:revision>
  <dc:subject/>
  <dc:title>HAIR CARE</dc:title>
</cp:coreProperties>
</file>