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051-88C2-4FA7-91B2-F32BD70E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F7C-AAEC-4A4E-B48F-0FB623C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780-0303-4F28-BD77-F0E8D231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1E8-F7FF-4526-A6E2-FF698467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BE9-3128-495E-93BA-AC8C0141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C61-6DD7-477F-A612-A375153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480-A48D-4058-8E6C-2B9BD83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906-ED27-4C57-B1E7-4B2E1D2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D0F-7A26-4286-AC1C-03ED5B1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44B-B3D4-4B3B-A18A-A110CB8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39C-0092-4F6F-8CE5-7EE1EC6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75F-5F66-405B-A51C-2F9CC6F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EDD2-F4FC-4EC7-A2A7-E5C2A432B3F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97D8-7278-487B-AE85-89A691B9197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2096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Shampoo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Conditioner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“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2 in 1” shampoo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spray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685800"/>
            <a:ext cx="784872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1f497d"/>
                </a:solidFill>
                <a:latin typeface="Times New Roman"/>
              </a:rPr>
              <a:t>Hair Care </a:t>
            </a:r>
            <a:r>
              <a:rPr b="1" lang="th-TH" sz="6000" spc="-1" strike="noStrike">
                <a:solidFill>
                  <a:srgbClr val="1f497d"/>
                </a:solidFill>
                <a:latin typeface="Times New Roman"/>
              </a:rPr>
              <a:t>Products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be seen above the sca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ist mainly of dead cell          Kerat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binding material + small amount of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al hairs are lubricated by natural oil (sebum)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duced  by sebaceous gl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gh level of hormones (androgens)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gh level of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F54-053C-4552-9DB0-D79EFD06A139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876920" y="2514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248520" y="50292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" y="685800"/>
            <a:ext cx="37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air Shaft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176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cales growing over the youngest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closet to the scalp)  are smooth and unbroken further along the hair have been damaged by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smetic treatments and by mistreatment : (over-energetic brush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32C-9F6E-4404-94B9-C7CDABC89E9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7680" y="1219320"/>
            <a:ext cx="42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e of  cuticle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2385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4788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52560" indent="-9525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823E-BF4F-410D-A590-CC091B4F705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3960" y="838080"/>
            <a:ext cx="56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e of cuticl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2" marL="971280" indent="-1940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little by little, they may break away 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Angsana New"/>
              </a:rPr>
              <a:t>weather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ealthy cuticle is more than just a protective laye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intact cuticle cells are smooth, glossy, and reflect light  from their surface  (black hair reflects less light than blond  hair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ABE3-1CD5-4955-ACCA-47AE8CFD7895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5" descr="The cuticle scale on a normal hair"/>
          <p:cNvPicPr/>
          <p:nvPr/>
        </p:nvPicPr>
        <p:blipFill>
          <a:blip r:embed="rId1"/>
          <a:srcRect l="2737" t="2733" r="2737" b="2752"/>
          <a:stretch/>
        </p:blipFill>
        <p:spPr>
          <a:xfrm>
            <a:off x="1752480" y="380880"/>
            <a:ext cx="5715000" cy="4910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155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828800" y="534996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The cuticle scale on a normal hair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electronmicrograph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67080" y="396216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Another normal hair - but this ca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from one of  our nearest rel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 or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angut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A2B-FC66-43C5-91BE-02FCEEE78E69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Picture 5" descr="a perfect hair as seen under an electron microscope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8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orangutan hair"/>
          <p:cNvPicPr/>
          <p:nvPr/>
        </p:nvPicPr>
        <p:blipFill>
          <a:blip r:embed="rId2"/>
          <a:stretch/>
        </p:blipFill>
        <p:spPr>
          <a:xfrm>
            <a:off x="228600" y="3581280"/>
            <a:ext cx="4038480" cy="3000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4254840" y="861120"/>
            <a:ext cx="4723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A perfect hair seen under the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electron microscop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keratin chains link by : disulphide bond  and hydrogen bo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sulphide  bonds can be changed by chemical methods : perming and  relaxing         perman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801-B031-494D-BCBC-B1FC3F25386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095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14400" y="13190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hape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ydrogen bonds can be  easily broken  a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henever the hair is wetted and form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s it d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hen they break the shape of hair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et hair is wound on the roller, the dried  hair             keep the roller shape        </a:t>
            </a:r>
            <a:r>
              <a:rPr b="1" lang="th-TH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empor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455E-257C-4FC7-B194-C7C95A0CD852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3480" y="609480"/>
            <a:ext cx="43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hap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5181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dividual hair form inside a hair bulb de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 ha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 is tiny but powerful fac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each hair grows during many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hampooed, conditioned, cut, blown dry,  exposal t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e sun and wind, colored, bleached, permed         none of these affected the </a:t>
            </a:r>
            <a:r>
              <a:rPr b="1" lang="th-TH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 grow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8B3-E485-4DE1-9B33-F77D590FB27F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7848720" y="54864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9000" y="304920"/>
            <a:ext cx="4074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growth cycl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2895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hair spontaneously falls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follicle rests for a little while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rts to produce a new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5573-B5E0-4CCD-85A8-A85F4710A52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609480" y="1447920"/>
            <a:ext cx="595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growth cycl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agen   : the growing phase       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tagen  : the intermediate phase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logen   : the shedding phase      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1863-F6AF-438F-A37B-660EB6B5582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9720" y="914400"/>
            <a:ext cx="494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ge of the hair cycl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2D98-DA00-4CC8-93D5-0BF0B7776DD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1f497d"/>
                </a:solidFill>
                <a:latin typeface="Times New Roman"/>
              </a:rPr>
              <a:t>Hair Care </a:t>
            </a:r>
            <a:r>
              <a:rPr b="1" lang="th-TH" sz="5400" spc="-1" strike="noStrike">
                <a:solidFill>
                  <a:srgbClr val="1f497d"/>
                </a:solidFill>
                <a:latin typeface="Times New Roman"/>
              </a:rPr>
              <a:t>Products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04920" y="1371600"/>
            <a:ext cx="7391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4" marL="1954440" indent="-217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gel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Perming solution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dye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etc.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General remarks about  product developm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last between 3-7 years without interru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roughly 1 cm/month         &gt; 1 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ster rate in winter than summ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melanin is made in hair bulb throughou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is phas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8EB-B87A-432F-979D-E349CF2F0D9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34340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37840" y="990720"/>
            <a:ext cx="62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gen (the growing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less pigment is made in older people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 cycle becomes shor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s gradually give up producing long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trong hair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s become thinner and shorter          thin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of the hair          degree of bald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64FD-C79E-42F1-9509-749E30AC391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Line 1028"/>
          <p:cNvSpPr/>
          <p:nvPr/>
        </p:nvSpPr>
        <p:spPr>
          <a:xfrm>
            <a:off x="60199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Line 1029"/>
          <p:cNvSpPr/>
          <p:nvPr/>
        </p:nvSpPr>
        <p:spPr>
          <a:xfrm>
            <a:off x="26668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Text Box 1030"/>
          <p:cNvSpPr/>
          <p:nvPr/>
        </p:nvSpPr>
        <p:spPr>
          <a:xfrm>
            <a:off x="529920" y="533520"/>
            <a:ext cx="35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Anagen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479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ort resting phase : 2-4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 pigment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llicles stop producing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base of follicle moves  up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wards the surface of the sk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E15-11F0-46F3-9992-67302712E6C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91560" y="1066680"/>
            <a:ext cx="738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agen (the intermediate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903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3-4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w hair begin to grow from the hair foll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it grow s upwards the old hair will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ed naturally or easily be pulled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DE54-1316-4376-A501-C09D010A686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3800" y="1295280"/>
            <a:ext cx="64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ogen (the shedding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 anytime around one in ten of the  follicles  at individual’s head is in the shedding  ph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edding is part of normal proces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placement of old hair with new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w hair emerges from the same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the old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2BF-071D-469E-A34F-1DEC2633F4F2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5760" y="914400"/>
            <a:ext cx="35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ogen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CA97-355F-4CCB-849B-CDF087B0BBF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Picture 3" descr="follicle cycle"/>
          <p:cNvPicPr/>
          <p:nvPr/>
        </p:nvPicPr>
        <p:blipFill>
          <a:blip r:embed="rId1"/>
          <a:srcRect l="0" t="0" r="0" b="3478"/>
          <a:stretch/>
        </p:blipFill>
        <p:spPr>
          <a:xfrm>
            <a:off x="1295280" y="533520"/>
            <a:ext cx="709776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3011040" y="5410080"/>
            <a:ext cx="3531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The hair follicle cycle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A5D7-FB3D-4074-AF98-1C1302F9F8C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Picture 1026" descr="image004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6B5A-2E10-4ABC-B27F-46593D90380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4920" y="15238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Pigmentation</a:t>
            </a:r>
            <a:r>
              <a:rPr b="1" lang="en-US" sz="35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1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Melanin :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produced by melanocytes at  growing 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phase (anagen)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spread out throughout the cortex, the more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near outer edge lie along the amino acid 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chains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does not protect the harmful effect from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sunlight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is found in 2 forms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819800" y="304920"/>
            <a:ext cx="5795280" cy="1166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ngsana New"/>
              </a:rPr>
              <a:t>Hair Color</a:t>
            </a:r>
            <a:endParaRPr b="1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091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Eumelanin : dark pigmented wh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predominates in black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brunette hair/oval shape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Phaeomelain : lighter pigment, found in re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and blond hair/smaller, part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oval and partly rod-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0B3-016E-4DCA-93DD-30A08429512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-794520" y="609480"/>
            <a:ext cx="694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Pigmentation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EA57-C110-4629-9B23-D95DA6D93A9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3" descr="Pigment granules in the hair shaft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7720" y="2361960"/>
            <a:ext cx="7696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 tiny cup-shaped pit  burried deep in t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t of the sca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 is the point from which the hair grow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ell supplied with minute blood vesse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emperature is normal body temperatur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8DF-8784-4C6E-A086-FB11E722F609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36320" y="401760"/>
            <a:ext cx="4543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ir follicl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81080" y="1676520"/>
            <a:ext cx="4724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trength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Elasticity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tatic electric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oisture cont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Poros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Textu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4CF4-A5B4-4124-9ED1-BD83A8AC717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144440" y="0"/>
            <a:ext cx="70722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ysical properties of hair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single hair can support a load of about 100 g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eratin protein of the cortex responsible for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streng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eratin is a protein chains contain high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centration of an amino acid called 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ystin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trix contains high level of cys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EA74-79D1-4993-A9C1-ED15B5C47AAE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560" y="655560"/>
            <a:ext cx="37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ir strength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cystine unit contains 2 cysteine amino acids in different chain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chains are linked by two sulphur atom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ming a very strong chemical bon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disulphide linkag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ny disulphide bonds form down the leng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f the keratin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38F-D665-4FC0-9F08-FA31AB8252B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3120" y="533520"/>
            <a:ext cx="492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trength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418-14C0-4ED3-842A-1C66069C365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Picture 2" descr="image002"/>
          <p:cNvPicPr/>
          <p:nvPr/>
        </p:nvPicPr>
        <p:blipFill>
          <a:blip r:embed="rId1"/>
          <a:stretch/>
        </p:blipFill>
        <p:spPr>
          <a:xfrm>
            <a:off x="1600200" y="271440"/>
            <a:ext cx="5867280" cy="53085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548640" y="5866560"/>
            <a:ext cx="79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Chemical bonds within the hair maintain its shape</a:t>
            </a:r>
            <a:r>
              <a:rPr b="0" i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e of the most important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n resist forces  that could change 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ape, volume and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st spring back to its orig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m withou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t hair can increase the length up to 30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d return to  original length when it is d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B14-CB16-402C-B5C2-994A9D1E598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61920"/>
            <a:ext cx="323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elasticity of hair depends on the lo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keratin fibers in the cortex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chemical treatment can alter the cortex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and change the hair elasticit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830-E781-4484-9D5A-192DC78665A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7960" y="990720"/>
            <a:ext cx="424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asticity (con.)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or elastic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stretch only to a limited ex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will break eas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cannot be permed satisfactor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tural sunlight and artificial UV l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amage chemicals of hair and its elas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E87-2DFF-4EA0-903A-E39FD6FA34D5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2080" y="762120"/>
            <a:ext cx="39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asticity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75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bbing drug hair / brushing / c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uilds up static electric char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ges tend to push each other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ged hair never lie smooth again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other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 fly away ”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nds out from the he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29B8-0CD0-41AD-BE62-C35D023367E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914400" y="26668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819520" y="5181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028-8EA2-4BB0-953B-DD9647F0E72F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3" name="Picture 4" descr="Charged Particles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isture conte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and hum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ore moi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ss static electric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ll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and dry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ss mois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re 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re volu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072-D25A-4E6E-86C5-0BDC705136C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is not affected by cold or  hot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rate of growth depends on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mount of natural light : growing a little             faster in winter when the days are 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63C6-95C7-4F4D-AD5A-C5FD109C9BC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489480" y="572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1080" y="1066680"/>
            <a:ext cx="637416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ir Structure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wet  hair         swell cortex / lift cutic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hair surface temporaly loses its smooth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wet hair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Andalus"/>
              </a:rPr>
              <a:t>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more friction        matt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nd tangles (over vigorous shampo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1364-73FC-4FC4-8A7A-9D56ED1E6A4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1000" y="60948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isture content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1240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0481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1404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icle covering cortex is intact :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ter proof (very little water can go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ampoos do not damage the cuti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reating the hair (permed or tin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8F0-EF62-4432-9D0C-1330E56769F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38080" y="407880"/>
            <a:ext cx="342900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rosity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ormal hair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21932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/ applying an alkaline l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parate th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owing chemicals to go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ter processing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dalus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ales close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A5D-E683-4200-BDDA-0356B23DA4B2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4000" y="990720"/>
            <a:ext cx="36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osity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 flipV="1">
            <a:off x="1600200" y="2133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60020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343400" y="5257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144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e larger the hair diameter          th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arser it will fe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fferent people’s hair         naturally fe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fferent  soft / hard / silky / wi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effected by degree of weathering of h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3F3-37AC-4F37-9AF4-A61E03012C22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791320" y="2133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495288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839520" y="457200"/>
            <a:ext cx="27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xture is affected by what has been put on i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spray : makes different fe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conditioner : feel soft and smo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ditioner with silicone : protect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cuti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damage to cuticle : alter the hair tex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DA0-8DE2-4AC9-B8EE-3C5ED4DCC9B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79440" y="304920"/>
            <a:ext cx="356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ur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60E0-60D7-436E-97B1-DBF739CFDC5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028"/>
          <p:cNvSpPr/>
          <p:nvPr/>
        </p:nvSpPr>
        <p:spPr>
          <a:xfrm>
            <a:off x="757080" y="1600200"/>
            <a:ext cx="49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imes New Roman"/>
              </a:rPr>
              <a:t>Chemistry of Hair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Text Box 1029"/>
          <p:cNvSpPr/>
          <p:nvPr/>
        </p:nvSpPr>
        <p:spPr>
          <a:xfrm>
            <a:off x="380880" y="2895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Keratinization process in th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follicl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 keratin + water solubl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substances : pentose, phenols, uric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acid, glycogen, glutamic acid,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valine, leucin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Line 1030"/>
          <p:cNvSpPr/>
          <p:nvPr/>
        </p:nvSpPr>
        <p:spPr>
          <a:xfrm>
            <a:off x="2895480" y="3809880"/>
            <a:ext cx="53352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360-BFEA-457D-82CE-95AD5C51031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Text Box 1028"/>
          <p:cNvSpPr/>
          <p:nvPr/>
        </p:nvSpPr>
        <p:spPr>
          <a:xfrm>
            <a:off x="113256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" name="Text Box 1029"/>
          <p:cNvSpPr/>
          <p:nvPr/>
        </p:nvSpPr>
        <p:spPr>
          <a:xfrm>
            <a:off x="1370880" y="1828800"/>
            <a:ext cx="64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Keratin is composed of amino acid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6" name="Picture 1030" descr="รูปที่1"/>
          <p:cNvPicPr/>
          <p:nvPr/>
        </p:nvPicPr>
        <p:blipFill>
          <a:blip r:embed="rId1"/>
          <a:stretch/>
        </p:blipFill>
        <p:spPr>
          <a:xfrm>
            <a:off x="3124080" y="2743200"/>
            <a:ext cx="2971800" cy="2114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31"/>
          <p:cNvSpPr/>
          <p:nvPr/>
        </p:nvSpPr>
        <p:spPr>
          <a:xfrm>
            <a:off x="1520640" y="5105520"/>
            <a:ext cx="59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18 out of 25 normal amino acid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are found in keratin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DA93-FC0D-49B4-86C2-6230F4916E7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Text Box 1028"/>
          <p:cNvSpPr/>
          <p:nvPr/>
        </p:nvSpPr>
        <p:spPr>
          <a:xfrm>
            <a:off x="914400" y="1600200"/>
            <a:ext cx="67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Organization of hair protein sets up b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onding in 3 ways 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Rectangle 1029"/>
          <p:cNvSpPr/>
          <p:nvPr/>
        </p:nvSpPr>
        <p:spPr>
          <a:xfrm>
            <a:off x="120888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1" name="Picture 1030" descr="รูปที่2"/>
          <p:cNvPicPr/>
          <p:nvPr/>
        </p:nvPicPr>
        <p:blipFill>
          <a:blip r:embed="rId1"/>
          <a:stretch/>
        </p:blipFill>
        <p:spPr>
          <a:xfrm>
            <a:off x="1905120" y="4267080"/>
            <a:ext cx="5790960" cy="21351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31"/>
          <p:cNvSpPr/>
          <p:nvPr/>
        </p:nvSpPr>
        <p:spPr>
          <a:xfrm>
            <a:off x="2133720" y="342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etween parallel peptide chai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Rectangle 1032"/>
          <p:cNvSpPr/>
          <p:nvPr/>
        </p:nvSpPr>
        <p:spPr>
          <a:xfrm>
            <a:off x="1748880" y="289548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Formation of H-bond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1A89-EFEF-45FF-B90C-5DBF57D3672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Text Box 1026"/>
          <p:cNvSpPr/>
          <p:nvPr/>
        </p:nvSpPr>
        <p:spPr>
          <a:xfrm>
            <a:off x="1820160" y="25909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etween acidie and basic side chai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Rectangle 1027"/>
          <p:cNvSpPr/>
          <p:nvPr/>
        </p:nvSpPr>
        <p:spPr>
          <a:xfrm>
            <a:off x="143748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Rectangle 1028"/>
          <p:cNvSpPr/>
          <p:nvPr/>
        </p:nvSpPr>
        <p:spPr>
          <a:xfrm>
            <a:off x="1283040" y="1905120"/>
            <a:ext cx="49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II  Formaton of salt linkage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8" name="Picture 1029" descr="รูปที่3"/>
          <p:cNvPicPr/>
          <p:nvPr/>
        </p:nvPicPr>
        <p:blipFill>
          <a:blip r:embed="rId1"/>
          <a:stretch/>
        </p:blipFill>
        <p:spPr>
          <a:xfrm>
            <a:off x="3276720" y="3200400"/>
            <a:ext cx="284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73C-CF3D-486F-9C06-C7267D7A886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56240" y="76212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22680" y="259092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amino acid contains two amino and two carlyg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groups link together by a disulphide bo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07800" y="1981080"/>
            <a:ext cx="64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III  Formates of disulphide linkage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Picture 6" descr="รูปที่4"/>
          <p:cNvPicPr/>
          <p:nvPr/>
        </p:nvPicPr>
        <p:blipFill>
          <a:blip r:embed="rId1"/>
          <a:stretch/>
        </p:blipFill>
        <p:spPr>
          <a:xfrm>
            <a:off x="3429000" y="3505320"/>
            <a:ext cx="2971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152280" y="456840"/>
            <a:ext cx="9448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follicle                Hair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shaf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lines in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de the hair foll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is a structure of actively growing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produce a long fine cylinder of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new cells are continuously produced in the low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 of the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82A9-F14F-4597-A7CD-875F224837B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209680" y="990720"/>
            <a:ext cx="99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209680" y="990720"/>
            <a:ext cx="9144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628-FB55-4013-A836-BA50500DD48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5" name="Picture 2" descr="Structure"/>
          <p:cNvPicPr/>
          <p:nvPr/>
        </p:nvPicPr>
        <p:blipFill>
          <a:blip r:embed="rId1"/>
          <a:srcRect l="0" t="0" r="0" b="5406"/>
          <a:stretch/>
        </p:blipFill>
        <p:spPr>
          <a:xfrm>
            <a:off x="2666880" y="22860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2666880" y="5867280"/>
            <a:ext cx="3962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Structure for  </a:t>
            </a:r>
            <a:r>
              <a:rPr b="1" i="1" lang="th-TH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- kerati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442-2AF0-41ED-B706-BAEFD2C2C6D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90440" y="46080"/>
            <a:ext cx="31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190440" y="46080"/>
            <a:ext cx="31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" name="Picture 18" descr="Hair pic1"/>
          <p:cNvPicPr/>
          <p:nvPr/>
        </p:nvPicPr>
        <p:blipFill>
          <a:blip r:embed="rId1"/>
          <a:stretch/>
        </p:blipFill>
        <p:spPr>
          <a:xfrm>
            <a:off x="2424240" y="152280"/>
            <a:ext cx="4311360" cy="5410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9"/>
          <p:cNvSpPr/>
          <p:nvPr/>
        </p:nvSpPr>
        <p:spPr>
          <a:xfrm>
            <a:off x="1184760" y="5526000"/>
            <a:ext cx="67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a) Longitudinal section of a hair within its follicl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b) Enlarged longitudinal section of a hai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9BC-09A6-4233-A46A-F8A573A9D63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7" descr="Hair pic3"/>
          <p:cNvPicPr/>
          <p:nvPr/>
        </p:nvPicPr>
        <p:blipFill>
          <a:blip r:embed="rId1"/>
          <a:stretch/>
        </p:blipFill>
        <p:spPr>
          <a:xfrm>
            <a:off x="152280" y="152280"/>
            <a:ext cx="7391520" cy="474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-155880" y="5006880"/>
            <a:ext cx="9193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c) Enlarged longitudinal view of the expanded hair bulb of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the follicle which encloses the matrix, actively dividing epithelial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cells that produce the hair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CA85-F928-4160-ACD8-F2140A3732C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2" name="Picture 6" descr="Hair pic2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543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208880" y="5884920"/>
            <a:ext cx="66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d) Cross section of a hair and hair follicle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1CC-0DD9-41EC-8E93-9E419EDF08A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1029" descr="Hair pic4"/>
          <p:cNvPicPr/>
          <p:nvPr/>
        </p:nvPicPr>
        <p:blipFill>
          <a:blip r:embed="rId1"/>
          <a:stretch/>
        </p:blipFill>
        <p:spPr>
          <a:xfrm>
            <a:off x="914400" y="228600"/>
            <a:ext cx="7975440" cy="4700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30"/>
          <p:cNvSpPr/>
          <p:nvPr/>
        </p:nvSpPr>
        <p:spPr>
          <a:xfrm>
            <a:off x="193680" y="5073480"/>
            <a:ext cx="85064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e) Photomicrograph of scalp tissue showing numerou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hair follicles (24 </a:t>
            </a:r>
            <a:r>
              <a:rPr b="1" i="1" lang="th-TH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9:50:03Z</dcterms:created>
  <dc:creator>pc04</dc:creator>
  <dc:description/>
  <dc:language>en-US</dc:language>
  <cp:lastModifiedBy>User</cp:lastModifiedBy>
  <cp:lastPrinted>2004-10-19T07:50:38Z</cp:lastPrinted>
  <dcterms:modified xsi:type="dcterms:W3CDTF">2014-09-14T08:25:55Z</dcterms:modified>
  <cp:revision>338</cp:revision>
  <dc:subject/>
  <dc:title>HAIR CARE</dc:title>
</cp:coreProperties>
</file>