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5A5-2345-46EA-84A4-E9A050F3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379-0E07-4DB2-A8AF-934719B6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EB2E-AF38-4DD2-BE86-C7691F38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B7AE-76CF-452F-B6EB-AC1F70C1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3D30-D494-4E9A-BE7B-0EC15C51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74F7-1D29-4A83-BBD7-80F10B01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87D5-FF72-429C-B346-07EF6DD7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0D3-3626-4C1D-AA27-AB39A8BD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D69-0363-481C-A75A-7FF9863E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AC3-7D73-417E-B8D6-00BCE89B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BDED-3C3B-4B4F-AB0D-34794C43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AA4-DE1F-4A8B-8747-C44FF83B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57150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7150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57150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A6D8-1E0F-4346-A6D2-15E0A75B3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92160" y="301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rtical Control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f Movem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cture 2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 Association Cort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or area other than M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ary motor cortex (M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motor &amp; Supplemental Motor Are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imulation - complex mov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or program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e during preparation for movement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ning of move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finger movements ~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ementary Motor Area - S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ily midline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put from PPC and prefron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lateral output to M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al &amp; proximal limb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ing hand, orienting body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motor Area - P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erior to M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put primarily from PP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iprocal connections with S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puts to M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ximal &amp; axial mus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ing body &amp; arm to target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M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rgeting vs trigger stimul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ing activity of neur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e when movement plann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pecific dir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 populations of neurons activ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ing planning (target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 execution (trigger stimulu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M active before movement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scending Spinal Tr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to Spinal 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per motor neur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with lower (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motor neur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ral pathw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 cortical contro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ntromedial pathw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in stem control ~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teral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untary mov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al limb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tra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ticospinal tr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ut 1 million ax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tico-rubrospinal tr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ial mus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anial nerv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457200" y="1400040"/>
            <a:ext cx="5105160" cy="4667040"/>
            <a:chOff x="457200" y="1400040"/>
            <a:chExt cx="5105160" cy="4667040"/>
          </a:xfrm>
        </p:grpSpPr>
        <p:sp>
          <p:nvSpPr>
            <p:cNvPr id="133" name=""/>
            <p:cNvSpPr/>
            <p:nvPr/>
          </p:nvSpPr>
          <p:spPr>
            <a:xfrm>
              <a:off x="3008880" y="1989720"/>
              <a:ext cx="2553480" cy="3269160"/>
            </a:xfrm>
            <a:custGeom>
              <a:avLst/>
              <a:gdLst/>
              <a:ahLst/>
              <a:rect l="l" t="t" r="r" b="b"/>
              <a:pathLst>
                <a:path w="1453" h="2245">
                  <a:moveTo>
                    <a:pt x="0" y="204"/>
                  </a:moveTo>
                  <a:lnTo>
                    <a:pt x="24" y="168"/>
                  </a:lnTo>
                  <a:lnTo>
                    <a:pt x="36" y="132"/>
                  </a:lnTo>
                  <a:lnTo>
                    <a:pt x="72" y="108"/>
                  </a:lnTo>
                  <a:lnTo>
                    <a:pt x="108" y="72"/>
                  </a:lnTo>
                  <a:lnTo>
                    <a:pt x="144" y="48"/>
                  </a:lnTo>
                  <a:lnTo>
                    <a:pt x="180" y="36"/>
                  </a:lnTo>
                  <a:lnTo>
                    <a:pt x="216" y="24"/>
                  </a:lnTo>
                  <a:lnTo>
                    <a:pt x="252" y="12"/>
                  </a:lnTo>
                  <a:lnTo>
                    <a:pt x="288" y="0"/>
                  </a:lnTo>
                  <a:lnTo>
                    <a:pt x="324" y="0"/>
                  </a:lnTo>
                  <a:lnTo>
                    <a:pt x="372" y="0"/>
                  </a:lnTo>
                  <a:lnTo>
                    <a:pt x="420" y="0"/>
                  </a:lnTo>
                  <a:lnTo>
                    <a:pt x="468" y="0"/>
                  </a:lnTo>
                  <a:lnTo>
                    <a:pt x="504" y="12"/>
                  </a:lnTo>
                  <a:lnTo>
                    <a:pt x="552" y="24"/>
                  </a:lnTo>
                  <a:lnTo>
                    <a:pt x="600" y="36"/>
                  </a:lnTo>
                  <a:lnTo>
                    <a:pt x="648" y="48"/>
                  </a:lnTo>
                  <a:lnTo>
                    <a:pt x="696" y="60"/>
                  </a:lnTo>
                  <a:lnTo>
                    <a:pt x="732" y="84"/>
                  </a:lnTo>
                  <a:lnTo>
                    <a:pt x="768" y="96"/>
                  </a:lnTo>
                  <a:lnTo>
                    <a:pt x="840" y="120"/>
                  </a:lnTo>
                  <a:lnTo>
                    <a:pt x="876" y="144"/>
                  </a:lnTo>
                  <a:lnTo>
                    <a:pt x="972" y="180"/>
                  </a:lnTo>
                  <a:lnTo>
                    <a:pt x="1020" y="228"/>
                  </a:lnTo>
                  <a:lnTo>
                    <a:pt x="1068" y="252"/>
                  </a:lnTo>
                  <a:lnTo>
                    <a:pt x="1104" y="288"/>
                  </a:lnTo>
                  <a:lnTo>
                    <a:pt x="1140" y="324"/>
                  </a:lnTo>
                  <a:lnTo>
                    <a:pt x="1164" y="360"/>
                  </a:lnTo>
                  <a:lnTo>
                    <a:pt x="1188" y="396"/>
                  </a:lnTo>
                  <a:lnTo>
                    <a:pt x="1212" y="432"/>
                  </a:lnTo>
                  <a:lnTo>
                    <a:pt x="1236" y="516"/>
                  </a:lnTo>
                  <a:lnTo>
                    <a:pt x="1260" y="552"/>
                  </a:lnTo>
                  <a:lnTo>
                    <a:pt x="1272" y="588"/>
                  </a:lnTo>
                  <a:lnTo>
                    <a:pt x="1296" y="624"/>
                  </a:lnTo>
                  <a:lnTo>
                    <a:pt x="1308" y="696"/>
                  </a:lnTo>
                  <a:lnTo>
                    <a:pt x="1308" y="732"/>
                  </a:lnTo>
                  <a:lnTo>
                    <a:pt x="1332" y="816"/>
                  </a:lnTo>
                  <a:lnTo>
                    <a:pt x="1356" y="864"/>
                  </a:lnTo>
                  <a:lnTo>
                    <a:pt x="1356" y="900"/>
                  </a:lnTo>
                  <a:lnTo>
                    <a:pt x="1368" y="948"/>
                  </a:lnTo>
                  <a:lnTo>
                    <a:pt x="1392" y="1044"/>
                  </a:lnTo>
                  <a:lnTo>
                    <a:pt x="1404" y="1092"/>
                  </a:lnTo>
                  <a:lnTo>
                    <a:pt x="1404" y="1140"/>
                  </a:lnTo>
                  <a:lnTo>
                    <a:pt x="1416" y="1188"/>
                  </a:lnTo>
                  <a:lnTo>
                    <a:pt x="1440" y="1284"/>
                  </a:lnTo>
                  <a:lnTo>
                    <a:pt x="1440" y="1332"/>
                  </a:lnTo>
                  <a:lnTo>
                    <a:pt x="1440" y="1380"/>
                  </a:lnTo>
                  <a:lnTo>
                    <a:pt x="1440" y="1428"/>
                  </a:lnTo>
                  <a:lnTo>
                    <a:pt x="1452" y="1476"/>
                  </a:lnTo>
                  <a:lnTo>
                    <a:pt x="1440" y="1548"/>
                  </a:lnTo>
                  <a:lnTo>
                    <a:pt x="1440" y="1584"/>
                  </a:lnTo>
                  <a:lnTo>
                    <a:pt x="1428" y="1632"/>
                  </a:lnTo>
                  <a:lnTo>
                    <a:pt x="1404" y="1728"/>
                  </a:lnTo>
                  <a:lnTo>
                    <a:pt x="1404" y="1764"/>
                  </a:lnTo>
                  <a:lnTo>
                    <a:pt x="1380" y="1800"/>
                  </a:lnTo>
                  <a:lnTo>
                    <a:pt x="1356" y="1836"/>
                  </a:lnTo>
                  <a:lnTo>
                    <a:pt x="1320" y="1884"/>
                  </a:lnTo>
                  <a:lnTo>
                    <a:pt x="1296" y="1920"/>
                  </a:lnTo>
                  <a:lnTo>
                    <a:pt x="1260" y="1956"/>
                  </a:lnTo>
                  <a:lnTo>
                    <a:pt x="1248" y="1992"/>
                  </a:lnTo>
                  <a:lnTo>
                    <a:pt x="1212" y="2028"/>
                  </a:lnTo>
                  <a:lnTo>
                    <a:pt x="1176" y="2064"/>
                  </a:lnTo>
                  <a:lnTo>
                    <a:pt x="1152" y="2100"/>
                  </a:lnTo>
                  <a:lnTo>
                    <a:pt x="1116" y="2124"/>
                  </a:lnTo>
                  <a:lnTo>
                    <a:pt x="1080" y="2136"/>
                  </a:lnTo>
                  <a:lnTo>
                    <a:pt x="1044" y="2172"/>
                  </a:lnTo>
                  <a:lnTo>
                    <a:pt x="996" y="2184"/>
                  </a:lnTo>
                  <a:lnTo>
                    <a:pt x="948" y="2208"/>
                  </a:lnTo>
                  <a:lnTo>
                    <a:pt x="900" y="2220"/>
                  </a:lnTo>
                  <a:lnTo>
                    <a:pt x="864" y="2232"/>
                  </a:lnTo>
                  <a:lnTo>
                    <a:pt x="828" y="2232"/>
                  </a:lnTo>
                  <a:lnTo>
                    <a:pt x="780" y="2244"/>
                  </a:lnTo>
                  <a:lnTo>
                    <a:pt x="744" y="2244"/>
                  </a:lnTo>
                  <a:lnTo>
                    <a:pt x="708" y="2244"/>
                  </a:lnTo>
                  <a:lnTo>
                    <a:pt x="660" y="2244"/>
                  </a:lnTo>
                  <a:lnTo>
                    <a:pt x="624" y="2244"/>
                  </a:lnTo>
                  <a:lnTo>
                    <a:pt x="588" y="2244"/>
                  </a:lnTo>
                  <a:lnTo>
                    <a:pt x="552" y="2232"/>
                  </a:lnTo>
                  <a:lnTo>
                    <a:pt x="516" y="2232"/>
                  </a:lnTo>
                  <a:lnTo>
                    <a:pt x="420" y="2232"/>
                  </a:lnTo>
                  <a:lnTo>
                    <a:pt x="384" y="2220"/>
                  </a:lnTo>
                  <a:lnTo>
                    <a:pt x="312" y="2220"/>
                  </a:lnTo>
                  <a:lnTo>
                    <a:pt x="276" y="2220"/>
                  </a:lnTo>
                  <a:lnTo>
                    <a:pt x="228" y="2208"/>
                  </a:lnTo>
                  <a:lnTo>
                    <a:pt x="180" y="2196"/>
                  </a:lnTo>
                  <a:lnTo>
                    <a:pt x="96" y="2172"/>
                  </a:lnTo>
                  <a:lnTo>
                    <a:pt x="60" y="2148"/>
                  </a:lnTo>
                  <a:lnTo>
                    <a:pt x="48" y="2112"/>
                  </a:lnTo>
                  <a:lnTo>
                    <a:pt x="48" y="2076"/>
                  </a:lnTo>
                  <a:lnTo>
                    <a:pt x="48" y="2040"/>
                  </a:lnTo>
                  <a:lnTo>
                    <a:pt x="48" y="2004"/>
                  </a:lnTo>
                  <a:lnTo>
                    <a:pt x="48" y="1968"/>
                  </a:lnTo>
                  <a:lnTo>
                    <a:pt x="48" y="1932"/>
                  </a:lnTo>
                  <a:lnTo>
                    <a:pt x="48" y="1884"/>
                  </a:lnTo>
                  <a:lnTo>
                    <a:pt x="36" y="1848"/>
                  </a:lnTo>
                  <a:lnTo>
                    <a:pt x="36" y="1812"/>
                  </a:lnTo>
                  <a:lnTo>
                    <a:pt x="36" y="1776"/>
                  </a:lnTo>
                  <a:lnTo>
                    <a:pt x="36" y="1740"/>
                  </a:lnTo>
                  <a:lnTo>
                    <a:pt x="24" y="1704"/>
                  </a:lnTo>
                  <a:lnTo>
                    <a:pt x="24" y="1668"/>
                  </a:lnTo>
                  <a:lnTo>
                    <a:pt x="12" y="1632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3f00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2007360"/>
              <a:ext cx="2553480" cy="3269160"/>
            </a:xfrm>
            <a:custGeom>
              <a:avLst/>
              <a:gdLst/>
              <a:ahLst/>
              <a:rect l="l" t="t" r="r" b="b"/>
              <a:pathLst>
                <a:path w="1453" h="2245">
                  <a:moveTo>
                    <a:pt x="1452" y="204"/>
                  </a:moveTo>
                  <a:lnTo>
                    <a:pt x="1428" y="168"/>
                  </a:lnTo>
                  <a:lnTo>
                    <a:pt x="1416" y="132"/>
                  </a:lnTo>
                  <a:lnTo>
                    <a:pt x="1380" y="108"/>
                  </a:lnTo>
                  <a:lnTo>
                    <a:pt x="1344" y="72"/>
                  </a:lnTo>
                  <a:lnTo>
                    <a:pt x="1308" y="48"/>
                  </a:lnTo>
                  <a:lnTo>
                    <a:pt x="1272" y="36"/>
                  </a:lnTo>
                  <a:lnTo>
                    <a:pt x="1236" y="24"/>
                  </a:lnTo>
                  <a:lnTo>
                    <a:pt x="1200" y="12"/>
                  </a:lnTo>
                  <a:lnTo>
                    <a:pt x="1164" y="0"/>
                  </a:lnTo>
                  <a:lnTo>
                    <a:pt x="1128" y="0"/>
                  </a:lnTo>
                  <a:lnTo>
                    <a:pt x="1080" y="0"/>
                  </a:lnTo>
                  <a:lnTo>
                    <a:pt x="1032" y="0"/>
                  </a:lnTo>
                  <a:lnTo>
                    <a:pt x="984" y="0"/>
                  </a:lnTo>
                  <a:lnTo>
                    <a:pt x="948" y="12"/>
                  </a:lnTo>
                  <a:lnTo>
                    <a:pt x="900" y="24"/>
                  </a:lnTo>
                  <a:lnTo>
                    <a:pt x="852" y="36"/>
                  </a:lnTo>
                  <a:lnTo>
                    <a:pt x="804" y="48"/>
                  </a:lnTo>
                  <a:lnTo>
                    <a:pt x="756" y="60"/>
                  </a:lnTo>
                  <a:lnTo>
                    <a:pt x="720" y="84"/>
                  </a:lnTo>
                  <a:lnTo>
                    <a:pt x="684" y="96"/>
                  </a:lnTo>
                  <a:lnTo>
                    <a:pt x="612" y="120"/>
                  </a:lnTo>
                  <a:lnTo>
                    <a:pt x="576" y="144"/>
                  </a:lnTo>
                  <a:lnTo>
                    <a:pt x="480" y="180"/>
                  </a:lnTo>
                  <a:lnTo>
                    <a:pt x="432" y="228"/>
                  </a:lnTo>
                  <a:lnTo>
                    <a:pt x="384" y="252"/>
                  </a:lnTo>
                  <a:lnTo>
                    <a:pt x="348" y="288"/>
                  </a:lnTo>
                  <a:lnTo>
                    <a:pt x="312" y="324"/>
                  </a:lnTo>
                  <a:lnTo>
                    <a:pt x="288" y="360"/>
                  </a:lnTo>
                  <a:lnTo>
                    <a:pt x="264" y="396"/>
                  </a:lnTo>
                  <a:lnTo>
                    <a:pt x="240" y="432"/>
                  </a:lnTo>
                  <a:lnTo>
                    <a:pt x="216" y="516"/>
                  </a:lnTo>
                  <a:lnTo>
                    <a:pt x="192" y="552"/>
                  </a:lnTo>
                  <a:lnTo>
                    <a:pt x="180" y="588"/>
                  </a:lnTo>
                  <a:lnTo>
                    <a:pt x="156" y="624"/>
                  </a:lnTo>
                  <a:lnTo>
                    <a:pt x="144" y="696"/>
                  </a:lnTo>
                  <a:lnTo>
                    <a:pt x="144" y="732"/>
                  </a:lnTo>
                  <a:lnTo>
                    <a:pt x="120" y="816"/>
                  </a:lnTo>
                  <a:lnTo>
                    <a:pt x="96" y="864"/>
                  </a:lnTo>
                  <a:lnTo>
                    <a:pt x="96" y="900"/>
                  </a:lnTo>
                  <a:lnTo>
                    <a:pt x="84" y="948"/>
                  </a:lnTo>
                  <a:lnTo>
                    <a:pt x="60" y="1044"/>
                  </a:lnTo>
                  <a:lnTo>
                    <a:pt x="48" y="1092"/>
                  </a:lnTo>
                  <a:lnTo>
                    <a:pt x="48" y="1140"/>
                  </a:lnTo>
                  <a:lnTo>
                    <a:pt x="36" y="1188"/>
                  </a:lnTo>
                  <a:lnTo>
                    <a:pt x="12" y="1284"/>
                  </a:lnTo>
                  <a:lnTo>
                    <a:pt x="12" y="1332"/>
                  </a:lnTo>
                  <a:lnTo>
                    <a:pt x="12" y="1380"/>
                  </a:lnTo>
                  <a:lnTo>
                    <a:pt x="12" y="1428"/>
                  </a:lnTo>
                  <a:lnTo>
                    <a:pt x="0" y="1476"/>
                  </a:lnTo>
                  <a:lnTo>
                    <a:pt x="12" y="1548"/>
                  </a:lnTo>
                  <a:lnTo>
                    <a:pt x="12" y="1584"/>
                  </a:lnTo>
                  <a:lnTo>
                    <a:pt x="24" y="1632"/>
                  </a:lnTo>
                  <a:lnTo>
                    <a:pt x="48" y="1728"/>
                  </a:lnTo>
                  <a:lnTo>
                    <a:pt x="48" y="1764"/>
                  </a:lnTo>
                  <a:lnTo>
                    <a:pt x="72" y="1800"/>
                  </a:lnTo>
                  <a:lnTo>
                    <a:pt x="96" y="1836"/>
                  </a:lnTo>
                  <a:lnTo>
                    <a:pt x="132" y="1884"/>
                  </a:lnTo>
                  <a:lnTo>
                    <a:pt x="156" y="1920"/>
                  </a:lnTo>
                  <a:lnTo>
                    <a:pt x="192" y="1956"/>
                  </a:lnTo>
                  <a:lnTo>
                    <a:pt x="204" y="1992"/>
                  </a:lnTo>
                  <a:lnTo>
                    <a:pt x="240" y="2028"/>
                  </a:lnTo>
                  <a:lnTo>
                    <a:pt x="276" y="2064"/>
                  </a:lnTo>
                  <a:lnTo>
                    <a:pt x="300" y="2100"/>
                  </a:lnTo>
                  <a:lnTo>
                    <a:pt x="336" y="2124"/>
                  </a:lnTo>
                  <a:lnTo>
                    <a:pt x="372" y="2136"/>
                  </a:lnTo>
                  <a:lnTo>
                    <a:pt x="408" y="2172"/>
                  </a:lnTo>
                  <a:lnTo>
                    <a:pt x="456" y="2184"/>
                  </a:lnTo>
                  <a:lnTo>
                    <a:pt x="504" y="2208"/>
                  </a:lnTo>
                  <a:lnTo>
                    <a:pt x="552" y="2220"/>
                  </a:lnTo>
                  <a:lnTo>
                    <a:pt x="588" y="2232"/>
                  </a:lnTo>
                  <a:lnTo>
                    <a:pt x="624" y="2232"/>
                  </a:lnTo>
                  <a:lnTo>
                    <a:pt x="672" y="2244"/>
                  </a:lnTo>
                  <a:lnTo>
                    <a:pt x="708" y="2244"/>
                  </a:lnTo>
                  <a:lnTo>
                    <a:pt x="744" y="2244"/>
                  </a:lnTo>
                  <a:lnTo>
                    <a:pt x="792" y="2244"/>
                  </a:lnTo>
                  <a:lnTo>
                    <a:pt x="828" y="2244"/>
                  </a:lnTo>
                  <a:lnTo>
                    <a:pt x="864" y="2244"/>
                  </a:lnTo>
                  <a:lnTo>
                    <a:pt x="900" y="2232"/>
                  </a:lnTo>
                  <a:lnTo>
                    <a:pt x="936" y="2232"/>
                  </a:lnTo>
                  <a:lnTo>
                    <a:pt x="1032" y="2232"/>
                  </a:lnTo>
                  <a:lnTo>
                    <a:pt x="1068" y="2220"/>
                  </a:lnTo>
                  <a:lnTo>
                    <a:pt x="1140" y="2220"/>
                  </a:lnTo>
                  <a:lnTo>
                    <a:pt x="1176" y="2220"/>
                  </a:lnTo>
                  <a:lnTo>
                    <a:pt x="1224" y="2208"/>
                  </a:lnTo>
                  <a:lnTo>
                    <a:pt x="1272" y="2196"/>
                  </a:lnTo>
                  <a:lnTo>
                    <a:pt x="1356" y="2172"/>
                  </a:lnTo>
                  <a:lnTo>
                    <a:pt x="1392" y="2148"/>
                  </a:lnTo>
                  <a:lnTo>
                    <a:pt x="1404" y="2112"/>
                  </a:lnTo>
                  <a:lnTo>
                    <a:pt x="1404" y="2076"/>
                  </a:lnTo>
                  <a:lnTo>
                    <a:pt x="1404" y="2040"/>
                  </a:lnTo>
                  <a:lnTo>
                    <a:pt x="1404" y="2004"/>
                  </a:lnTo>
                  <a:lnTo>
                    <a:pt x="1404" y="1968"/>
                  </a:lnTo>
                  <a:lnTo>
                    <a:pt x="1404" y="1932"/>
                  </a:lnTo>
                  <a:lnTo>
                    <a:pt x="1404" y="1884"/>
                  </a:lnTo>
                  <a:lnTo>
                    <a:pt x="1416" y="1848"/>
                  </a:lnTo>
                  <a:lnTo>
                    <a:pt x="1416" y="1812"/>
                  </a:lnTo>
                  <a:lnTo>
                    <a:pt x="1416" y="1776"/>
                  </a:lnTo>
                  <a:lnTo>
                    <a:pt x="1416" y="1740"/>
                  </a:lnTo>
                  <a:lnTo>
                    <a:pt x="1428" y="1704"/>
                  </a:lnTo>
                  <a:lnTo>
                    <a:pt x="1428" y="1668"/>
                  </a:lnTo>
                  <a:lnTo>
                    <a:pt x="1440" y="1632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3f00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53160" y="1400040"/>
              <a:ext cx="13564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rs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77640" y="5490720"/>
              <a:ext cx="1467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Ventr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344240" y="2174760"/>
              <a:ext cx="3282840" cy="2446200"/>
              <a:chOff x="1344240" y="2174760"/>
              <a:chExt cx="3282840" cy="2446200"/>
            </a:xfrm>
          </p:grpSpPr>
          <p:sp>
            <p:nvSpPr>
              <p:cNvPr id="138" name=""/>
              <p:cNvSpPr/>
              <p:nvPr/>
            </p:nvSpPr>
            <p:spPr>
              <a:xfrm>
                <a:off x="2951280" y="2174760"/>
                <a:ext cx="1675800" cy="2446200"/>
              </a:xfrm>
              <a:custGeom>
                <a:avLst/>
                <a:gdLst/>
                <a:ahLst/>
                <a:rect l="l" t="t" r="r" b="b"/>
                <a:pathLst>
                  <a:path w="1167" h="1767">
                    <a:moveTo>
                      <a:pt x="0" y="1045"/>
                    </a:moveTo>
                    <a:cubicBezTo>
                      <a:pt x="127" y="1032"/>
                      <a:pt x="152" y="1039"/>
                      <a:pt x="222" y="934"/>
                    </a:cubicBezTo>
                    <a:cubicBezTo>
                      <a:pt x="236" y="891"/>
                      <a:pt x="257" y="843"/>
                      <a:pt x="289" y="812"/>
                    </a:cubicBezTo>
                    <a:cubicBezTo>
                      <a:pt x="297" y="788"/>
                      <a:pt x="319" y="770"/>
                      <a:pt x="322" y="745"/>
                    </a:cubicBezTo>
                    <a:cubicBezTo>
                      <a:pt x="331" y="675"/>
                      <a:pt x="328" y="604"/>
                      <a:pt x="333" y="534"/>
                    </a:cubicBezTo>
                    <a:cubicBezTo>
                      <a:pt x="335" y="501"/>
                      <a:pt x="328" y="464"/>
                      <a:pt x="344" y="434"/>
                    </a:cubicBezTo>
                    <a:cubicBezTo>
                      <a:pt x="361" y="402"/>
                      <a:pt x="445" y="375"/>
                      <a:pt x="477" y="367"/>
                    </a:cubicBezTo>
                    <a:cubicBezTo>
                      <a:pt x="564" y="346"/>
                      <a:pt x="663" y="331"/>
                      <a:pt x="744" y="289"/>
                    </a:cubicBezTo>
                    <a:cubicBezTo>
                      <a:pt x="849" y="235"/>
                      <a:pt x="914" y="130"/>
                      <a:pt x="1011" y="67"/>
                    </a:cubicBezTo>
                    <a:cubicBezTo>
                      <a:pt x="1056" y="0"/>
                      <a:pt x="1101" y="34"/>
                      <a:pt x="1166" y="56"/>
                    </a:cubicBezTo>
                    <a:cubicBezTo>
                      <a:pt x="1134" y="104"/>
                      <a:pt x="1113" y="89"/>
                      <a:pt x="1078" y="134"/>
                    </a:cubicBezTo>
                    <a:cubicBezTo>
                      <a:pt x="1061" y="155"/>
                      <a:pt x="1052" y="182"/>
                      <a:pt x="1033" y="201"/>
                    </a:cubicBezTo>
                    <a:cubicBezTo>
                      <a:pt x="1011" y="223"/>
                      <a:pt x="988" y="245"/>
                      <a:pt x="966" y="267"/>
                    </a:cubicBezTo>
                    <a:cubicBezTo>
                      <a:pt x="955" y="278"/>
                      <a:pt x="933" y="301"/>
                      <a:pt x="933" y="301"/>
                    </a:cubicBezTo>
                    <a:cubicBezTo>
                      <a:pt x="929" y="312"/>
                      <a:pt x="928" y="324"/>
                      <a:pt x="922" y="334"/>
                    </a:cubicBezTo>
                    <a:cubicBezTo>
                      <a:pt x="909" y="357"/>
                      <a:pt x="877" y="401"/>
                      <a:pt x="877" y="401"/>
                    </a:cubicBezTo>
                    <a:cubicBezTo>
                      <a:pt x="861" y="449"/>
                      <a:pt x="847" y="496"/>
                      <a:pt x="833" y="545"/>
                    </a:cubicBezTo>
                    <a:cubicBezTo>
                      <a:pt x="826" y="568"/>
                      <a:pt x="818" y="590"/>
                      <a:pt x="811" y="612"/>
                    </a:cubicBezTo>
                    <a:cubicBezTo>
                      <a:pt x="807" y="623"/>
                      <a:pt x="800" y="645"/>
                      <a:pt x="800" y="645"/>
                    </a:cubicBezTo>
                    <a:cubicBezTo>
                      <a:pt x="804" y="682"/>
                      <a:pt x="803" y="720"/>
                      <a:pt x="811" y="756"/>
                    </a:cubicBezTo>
                    <a:cubicBezTo>
                      <a:pt x="814" y="772"/>
                      <a:pt x="827" y="785"/>
                      <a:pt x="833" y="800"/>
                    </a:cubicBezTo>
                    <a:cubicBezTo>
                      <a:pt x="852" y="846"/>
                      <a:pt x="861" y="898"/>
                      <a:pt x="877" y="945"/>
                    </a:cubicBezTo>
                    <a:cubicBezTo>
                      <a:pt x="895" y="998"/>
                      <a:pt x="889" y="979"/>
                      <a:pt x="933" y="1045"/>
                    </a:cubicBezTo>
                    <a:cubicBezTo>
                      <a:pt x="940" y="1056"/>
                      <a:pt x="955" y="1078"/>
                      <a:pt x="955" y="1078"/>
                    </a:cubicBezTo>
                    <a:cubicBezTo>
                      <a:pt x="974" y="1137"/>
                      <a:pt x="991" y="1197"/>
                      <a:pt x="1011" y="1256"/>
                    </a:cubicBezTo>
                    <a:cubicBezTo>
                      <a:pt x="1015" y="1267"/>
                      <a:pt x="1014" y="1281"/>
                      <a:pt x="1022" y="1289"/>
                    </a:cubicBezTo>
                    <a:cubicBezTo>
                      <a:pt x="1041" y="1308"/>
                      <a:pt x="1078" y="1345"/>
                      <a:pt x="1078" y="1345"/>
                    </a:cubicBezTo>
                    <a:cubicBezTo>
                      <a:pt x="1093" y="1391"/>
                      <a:pt x="1112" y="1390"/>
                      <a:pt x="1144" y="1423"/>
                    </a:cubicBezTo>
                    <a:cubicBezTo>
                      <a:pt x="1150" y="1449"/>
                      <a:pt x="1166" y="1473"/>
                      <a:pt x="1166" y="1500"/>
                    </a:cubicBezTo>
                    <a:cubicBezTo>
                      <a:pt x="1166" y="1548"/>
                      <a:pt x="1167" y="1598"/>
                      <a:pt x="1155" y="1645"/>
                    </a:cubicBezTo>
                    <a:cubicBezTo>
                      <a:pt x="1128" y="1749"/>
                      <a:pt x="1007" y="1757"/>
                      <a:pt x="922" y="1767"/>
                    </a:cubicBezTo>
                    <a:cubicBezTo>
                      <a:pt x="769" y="1755"/>
                      <a:pt x="629" y="1715"/>
                      <a:pt x="477" y="1700"/>
                    </a:cubicBezTo>
                    <a:cubicBezTo>
                      <a:pt x="462" y="1678"/>
                      <a:pt x="448" y="1656"/>
                      <a:pt x="433" y="1634"/>
                    </a:cubicBezTo>
                    <a:cubicBezTo>
                      <a:pt x="327" y="1476"/>
                      <a:pt x="481" y="1635"/>
                      <a:pt x="377" y="1534"/>
                    </a:cubicBezTo>
                    <a:cubicBezTo>
                      <a:pt x="363" y="1476"/>
                      <a:pt x="348" y="1431"/>
                      <a:pt x="322" y="1378"/>
                    </a:cubicBezTo>
                    <a:cubicBezTo>
                      <a:pt x="317" y="1368"/>
                      <a:pt x="318" y="1354"/>
                      <a:pt x="311" y="1345"/>
                    </a:cubicBezTo>
                    <a:cubicBezTo>
                      <a:pt x="302" y="1335"/>
                      <a:pt x="288" y="1330"/>
                      <a:pt x="277" y="1323"/>
                    </a:cubicBezTo>
                    <a:cubicBezTo>
                      <a:pt x="253" y="1250"/>
                      <a:pt x="207" y="1220"/>
                      <a:pt x="144" y="1178"/>
                    </a:cubicBezTo>
                    <a:cubicBezTo>
                      <a:pt x="54" y="1118"/>
                      <a:pt x="124" y="1130"/>
                      <a:pt x="55" y="1112"/>
                    </a:cubicBezTo>
                    <a:cubicBezTo>
                      <a:pt x="37" y="1107"/>
                      <a:pt x="18" y="1104"/>
                      <a:pt x="0" y="1100"/>
                    </a:cubicBezTo>
                    <a:cubicBezTo>
                      <a:pt x="14" y="1059"/>
                      <a:pt x="16" y="1077"/>
                      <a:pt x="0" y="1045"/>
                    </a:cubicBez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343880" y="2174760"/>
                <a:ext cx="1675800" cy="2446200"/>
              </a:xfrm>
              <a:custGeom>
                <a:avLst/>
                <a:gdLst/>
                <a:ahLst/>
                <a:rect l="l" t="t" r="r" b="b"/>
                <a:pathLst>
                  <a:path w="1167" h="1767">
                    <a:moveTo>
                      <a:pt x="0" y="1045"/>
                    </a:moveTo>
                    <a:cubicBezTo>
                      <a:pt x="127" y="1032"/>
                      <a:pt x="152" y="1039"/>
                      <a:pt x="222" y="934"/>
                    </a:cubicBezTo>
                    <a:cubicBezTo>
                      <a:pt x="236" y="891"/>
                      <a:pt x="257" y="843"/>
                      <a:pt x="289" y="812"/>
                    </a:cubicBezTo>
                    <a:cubicBezTo>
                      <a:pt x="297" y="788"/>
                      <a:pt x="319" y="770"/>
                      <a:pt x="322" y="745"/>
                    </a:cubicBezTo>
                    <a:cubicBezTo>
                      <a:pt x="331" y="675"/>
                      <a:pt x="328" y="604"/>
                      <a:pt x="333" y="534"/>
                    </a:cubicBezTo>
                    <a:cubicBezTo>
                      <a:pt x="335" y="501"/>
                      <a:pt x="328" y="464"/>
                      <a:pt x="344" y="434"/>
                    </a:cubicBezTo>
                    <a:cubicBezTo>
                      <a:pt x="361" y="402"/>
                      <a:pt x="445" y="375"/>
                      <a:pt x="477" y="367"/>
                    </a:cubicBezTo>
                    <a:cubicBezTo>
                      <a:pt x="564" y="346"/>
                      <a:pt x="663" y="331"/>
                      <a:pt x="744" y="289"/>
                    </a:cubicBezTo>
                    <a:cubicBezTo>
                      <a:pt x="849" y="235"/>
                      <a:pt x="914" y="130"/>
                      <a:pt x="1011" y="67"/>
                    </a:cubicBezTo>
                    <a:cubicBezTo>
                      <a:pt x="1056" y="0"/>
                      <a:pt x="1101" y="34"/>
                      <a:pt x="1166" y="56"/>
                    </a:cubicBezTo>
                    <a:cubicBezTo>
                      <a:pt x="1134" y="104"/>
                      <a:pt x="1113" y="89"/>
                      <a:pt x="1078" y="134"/>
                    </a:cubicBezTo>
                    <a:cubicBezTo>
                      <a:pt x="1061" y="155"/>
                      <a:pt x="1052" y="182"/>
                      <a:pt x="1033" y="201"/>
                    </a:cubicBezTo>
                    <a:cubicBezTo>
                      <a:pt x="1011" y="223"/>
                      <a:pt x="988" y="245"/>
                      <a:pt x="966" y="267"/>
                    </a:cubicBezTo>
                    <a:cubicBezTo>
                      <a:pt x="955" y="278"/>
                      <a:pt x="933" y="301"/>
                      <a:pt x="933" y="301"/>
                    </a:cubicBezTo>
                    <a:cubicBezTo>
                      <a:pt x="929" y="312"/>
                      <a:pt x="928" y="324"/>
                      <a:pt x="922" y="334"/>
                    </a:cubicBezTo>
                    <a:cubicBezTo>
                      <a:pt x="909" y="357"/>
                      <a:pt x="877" y="401"/>
                      <a:pt x="877" y="401"/>
                    </a:cubicBezTo>
                    <a:cubicBezTo>
                      <a:pt x="861" y="449"/>
                      <a:pt x="847" y="496"/>
                      <a:pt x="833" y="545"/>
                    </a:cubicBezTo>
                    <a:cubicBezTo>
                      <a:pt x="826" y="568"/>
                      <a:pt x="818" y="590"/>
                      <a:pt x="811" y="612"/>
                    </a:cubicBezTo>
                    <a:cubicBezTo>
                      <a:pt x="807" y="623"/>
                      <a:pt x="800" y="645"/>
                      <a:pt x="800" y="645"/>
                    </a:cubicBezTo>
                    <a:cubicBezTo>
                      <a:pt x="804" y="682"/>
                      <a:pt x="803" y="720"/>
                      <a:pt x="811" y="756"/>
                    </a:cubicBezTo>
                    <a:cubicBezTo>
                      <a:pt x="814" y="772"/>
                      <a:pt x="827" y="785"/>
                      <a:pt x="833" y="800"/>
                    </a:cubicBezTo>
                    <a:cubicBezTo>
                      <a:pt x="852" y="846"/>
                      <a:pt x="861" y="898"/>
                      <a:pt x="877" y="945"/>
                    </a:cubicBezTo>
                    <a:cubicBezTo>
                      <a:pt x="895" y="998"/>
                      <a:pt x="889" y="979"/>
                      <a:pt x="933" y="1045"/>
                    </a:cubicBezTo>
                    <a:cubicBezTo>
                      <a:pt x="940" y="1056"/>
                      <a:pt x="955" y="1078"/>
                      <a:pt x="955" y="1078"/>
                    </a:cubicBezTo>
                    <a:cubicBezTo>
                      <a:pt x="974" y="1137"/>
                      <a:pt x="991" y="1197"/>
                      <a:pt x="1011" y="1256"/>
                    </a:cubicBezTo>
                    <a:cubicBezTo>
                      <a:pt x="1015" y="1267"/>
                      <a:pt x="1014" y="1281"/>
                      <a:pt x="1022" y="1289"/>
                    </a:cubicBezTo>
                    <a:cubicBezTo>
                      <a:pt x="1041" y="1308"/>
                      <a:pt x="1078" y="1345"/>
                      <a:pt x="1078" y="1345"/>
                    </a:cubicBezTo>
                    <a:cubicBezTo>
                      <a:pt x="1093" y="1391"/>
                      <a:pt x="1112" y="1390"/>
                      <a:pt x="1144" y="1423"/>
                    </a:cubicBezTo>
                    <a:cubicBezTo>
                      <a:pt x="1150" y="1449"/>
                      <a:pt x="1166" y="1473"/>
                      <a:pt x="1166" y="1500"/>
                    </a:cubicBezTo>
                    <a:cubicBezTo>
                      <a:pt x="1166" y="1548"/>
                      <a:pt x="1167" y="1598"/>
                      <a:pt x="1155" y="1645"/>
                    </a:cubicBezTo>
                    <a:cubicBezTo>
                      <a:pt x="1128" y="1749"/>
                      <a:pt x="1007" y="1757"/>
                      <a:pt x="922" y="1767"/>
                    </a:cubicBezTo>
                    <a:cubicBezTo>
                      <a:pt x="769" y="1755"/>
                      <a:pt x="629" y="1715"/>
                      <a:pt x="477" y="1700"/>
                    </a:cubicBezTo>
                    <a:cubicBezTo>
                      <a:pt x="462" y="1678"/>
                      <a:pt x="448" y="1656"/>
                      <a:pt x="433" y="1634"/>
                    </a:cubicBezTo>
                    <a:cubicBezTo>
                      <a:pt x="327" y="1476"/>
                      <a:pt x="481" y="1635"/>
                      <a:pt x="377" y="1534"/>
                    </a:cubicBezTo>
                    <a:cubicBezTo>
                      <a:pt x="363" y="1476"/>
                      <a:pt x="348" y="1431"/>
                      <a:pt x="322" y="1378"/>
                    </a:cubicBezTo>
                    <a:cubicBezTo>
                      <a:pt x="317" y="1368"/>
                      <a:pt x="318" y="1354"/>
                      <a:pt x="311" y="1345"/>
                    </a:cubicBezTo>
                    <a:cubicBezTo>
                      <a:pt x="302" y="1335"/>
                      <a:pt x="288" y="1330"/>
                      <a:pt x="277" y="1323"/>
                    </a:cubicBezTo>
                    <a:cubicBezTo>
                      <a:pt x="253" y="1250"/>
                      <a:pt x="207" y="1220"/>
                      <a:pt x="144" y="1178"/>
                    </a:cubicBezTo>
                    <a:cubicBezTo>
                      <a:pt x="54" y="1118"/>
                      <a:pt x="124" y="1130"/>
                      <a:pt x="55" y="1112"/>
                    </a:cubicBezTo>
                    <a:cubicBezTo>
                      <a:pt x="37" y="1107"/>
                      <a:pt x="18" y="1104"/>
                      <a:pt x="0" y="1100"/>
                    </a:cubicBezTo>
                    <a:cubicBezTo>
                      <a:pt x="14" y="1059"/>
                      <a:pt x="16" y="1077"/>
                      <a:pt x="0" y="1045"/>
                    </a:cubicBez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3014280" y="2315880"/>
              <a:ext cx="0" cy="20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91160" y="3572640"/>
              <a:ext cx="253080" cy="244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nal Cord: Lateral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85800" y="3657600"/>
            <a:ext cx="4572000" cy="304920"/>
            <a:chOff x="685800" y="3657600"/>
            <a:chExt cx="4572000" cy="304920"/>
          </a:xfrm>
        </p:grpSpPr>
        <p:sp>
          <p:nvSpPr>
            <p:cNvPr id="144" name=""/>
            <p:cNvSpPr/>
            <p:nvPr/>
          </p:nvSpPr>
          <p:spPr>
            <a:xfrm>
              <a:off x="4876920" y="3657600"/>
              <a:ext cx="3808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" y="3657600"/>
              <a:ext cx="3808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62120" y="1589040"/>
            <a:ext cx="7354440" cy="2220840"/>
            <a:chOff x="762120" y="1589040"/>
            <a:chExt cx="7354440" cy="2220840"/>
          </a:xfrm>
        </p:grpSpPr>
        <p:grpSp>
          <p:nvGrpSpPr>
            <p:cNvPr id="147" name=""/>
            <p:cNvGrpSpPr/>
            <p:nvPr/>
          </p:nvGrpSpPr>
          <p:grpSpPr>
            <a:xfrm>
              <a:off x="762120" y="2971800"/>
              <a:ext cx="4419360" cy="838080"/>
              <a:chOff x="762120" y="2971800"/>
              <a:chExt cx="4419360" cy="838080"/>
            </a:xfrm>
          </p:grpSpPr>
          <p:sp>
            <p:nvSpPr>
              <p:cNvPr id="148" name=""/>
              <p:cNvSpPr/>
              <p:nvPr/>
            </p:nvSpPr>
            <p:spPr>
              <a:xfrm>
                <a:off x="4343400" y="2971800"/>
                <a:ext cx="838080" cy="8380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2120" y="2971800"/>
                <a:ext cx="838080" cy="8380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5565960" y="1589040"/>
              <a:ext cx="255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Corticospina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       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trac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105160" y="2209680"/>
              <a:ext cx="685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175440" y="4800600"/>
            <a:ext cx="223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tic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brospi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334120" y="4038120"/>
            <a:ext cx="9144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icospinal 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called Pyramidal tr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or cortex ---&gt; spinal 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nterrupted ax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/3 of axons from motor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/3 from somatosensory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ussates at medullary pyrami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alateral control movement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rtico-rubrospinal 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or Cortex ---&gt; red nucle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 nucleus ---&gt; spinal 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puts from motor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ger role in other mammalian species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archical Control of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ociation cortices &amp; Basal Gangl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y : goals &amp; plan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d on integration of sensory inf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or cortex &amp; cerebell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ctics: activation of motor progr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inal 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cution: activation of alpha motor neurons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ral Pathway Da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ion both tra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independent movement of distal limb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untary movements slow &amp; less accur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ticospinal on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e defici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very over several month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nsation by rubrospinal tract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Ventromedial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ns originate in brain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stibulospinal &amp; tectospinal tra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 &amp; posture pos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ing respon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ntine &amp; medullary reticulospinal tra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ginate in reticular 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nk &amp; antigravity leg mus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cts are antagonistic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752480" y="1143000"/>
            <a:ext cx="5105160" cy="5185080"/>
            <a:chOff x="1752480" y="1143000"/>
            <a:chExt cx="5105160" cy="5185080"/>
          </a:xfrm>
        </p:grpSpPr>
        <p:sp>
          <p:nvSpPr>
            <p:cNvPr id="163" name=""/>
            <p:cNvSpPr/>
            <p:nvPr/>
          </p:nvSpPr>
          <p:spPr>
            <a:xfrm>
              <a:off x="4304160" y="1807200"/>
              <a:ext cx="2553480" cy="3683160"/>
            </a:xfrm>
            <a:custGeom>
              <a:avLst/>
              <a:gdLst/>
              <a:ahLst/>
              <a:rect l="l" t="t" r="r" b="b"/>
              <a:pathLst>
                <a:path w="1453" h="2245">
                  <a:moveTo>
                    <a:pt x="0" y="204"/>
                  </a:moveTo>
                  <a:lnTo>
                    <a:pt x="24" y="168"/>
                  </a:lnTo>
                  <a:lnTo>
                    <a:pt x="36" y="132"/>
                  </a:lnTo>
                  <a:lnTo>
                    <a:pt x="72" y="108"/>
                  </a:lnTo>
                  <a:lnTo>
                    <a:pt x="108" y="72"/>
                  </a:lnTo>
                  <a:lnTo>
                    <a:pt x="144" y="48"/>
                  </a:lnTo>
                  <a:lnTo>
                    <a:pt x="180" y="36"/>
                  </a:lnTo>
                  <a:lnTo>
                    <a:pt x="216" y="24"/>
                  </a:lnTo>
                  <a:lnTo>
                    <a:pt x="252" y="12"/>
                  </a:lnTo>
                  <a:lnTo>
                    <a:pt x="288" y="0"/>
                  </a:lnTo>
                  <a:lnTo>
                    <a:pt x="324" y="0"/>
                  </a:lnTo>
                  <a:lnTo>
                    <a:pt x="372" y="0"/>
                  </a:lnTo>
                  <a:lnTo>
                    <a:pt x="420" y="0"/>
                  </a:lnTo>
                  <a:lnTo>
                    <a:pt x="468" y="0"/>
                  </a:lnTo>
                  <a:lnTo>
                    <a:pt x="504" y="12"/>
                  </a:lnTo>
                  <a:lnTo>
                    <a:pt x="552" y="24"/>
                  </a:lnTo>
                  <a:lnTo>
                    <a:pt x="600" y="36"/>
                  </a:lnTo>
                  <a:lnTo>
                    <a:pt x="648" y="48"/>
                  </a:lnTo>
                  <a:lnTo>
                    <a:pt x="696" y="60"/>
                  </a:lnTo>
                  <a:lnTo>
                    <a:pt x="732" y="84"/>
                  </a:lnTo>
                  <a:lnTo>
                    <a:pt x="768" y="96"/>
                  </a:lnTo>
                  <a:lnTo>
                    <a:pt x="840" y="120"/>
                  </a:lnTo>
                  <a:lnTo>
                    <a:pt x="876" y="144"/>
                  </a:lnTo>
                  <a:lnTo>
                    <a:pt x="972" y="180"/>
                  </a:lnTo>
                  <a:lnTo>
                    <a:pt x="1020" y="228"/>
                  </a:lnTo>
                  <a:lnTo>
                    <a:pt x="1068" y="252"/>
                  </a:lnTo>
                  <a:lnTo>
                    <a:pt x="1104" y="288"/>
                  </a:lnTo>
                  <a:lnTo>
                    <a:pt x="1140" y="324"/>
                  </a:lnTo>
                  <a:lnTo>
                    <a:pt x="1164" y="360"/>
                  </a:lnTo>
                  <a:lnTo>
                    <a:pt x="1188" y="396"/>
                  </a:lnTo>
                  <a:lnTo>
                    <a:pt x="1212" y="432"/>
                  </a:lnTo>
                  <a:lnTo>
                    <a:pt x="1236" y="516"/>
                  </a:lnTo>
                  <a:lnTo>
                    <a:pt x="1260" y="552"/>
                  </a:lnTo>
                  <a:lnTo>
                    <a:pt x="1272" y="588"/>
                  </a:lnTo>
                  <a:lnTo>
                    <a:pt x="1296" y="624"/>
                  </a:lnTo>
                  <a:lnTo>
                    <a:pt x="1308" y="696"/>
                  </a:lnTo>
                  <a:lnTo>
                    <a:pt x="1308" y="732"/>
                  </a:lnTo>
                  <a:lnTo>
                    <a:pt x="1332" y="816"/>
                  </a:lnTo>
                  <a:lnTo>
                    <a:pt x="1356" y="864"/>
                  </a:lnTo>
                  <a:lnTo>
                    <a:pt x="1356" y="900"/>
                  </a:lnTo>
                  <a:lnTo>
                    <a:pt x="1368" y="948"/>
                  </a:lnTo>
                  <a:lnTo>
                    <a:pt x="1392" y="1044"/>
                  </a:lnTo>
                  <a:lnTo>
                    <a:pt x="1404" y="1092"/>
                  </a:lnTo>
                  <a:lnTo>
                    <a:pt x="1404" y="1140"/>
                  </a:lnTo>
                  <a:lnTo>
                    <a:pt x="1416" y="1188"/>
                  </a:lnTo>
                  <a:lnTo>
                    <a:pt x="1440" y="1284"/>
                  </a:lnTo>
                  <a:lnTo>
                    <a:pt x="1440" y="1332"/>
                  </a:lnTo>
                  <a:lnTo>
                    <a:pt x="1440" y="1380"/>
                  </a:lnTo>
                  <a:lnTo>
                    <a:pt x="1440" y="1428"/>
                  </a:lnTo>
                  <a:lnTo>
                    <a:pt x="1452" y="1476"/>
                  </a:lnTo>
                  <a:lnTo>
                    <a:pt x="1440" y="1548"/>
                  </a:lnTo>
                  <a:lnTo>
                    <a:pt x="1440" y="1584"/>
                  </a:lnTo>
                  <a:lnTo>
                    <a:pt x="1428" y="1632"/>
                  </a:lnTo>
                  <a:lnTo>
                    <a:pt x="1404" y="1728"/>
                  </a:lnTo>
                  <a:lnTo>
                    <a:pt x="1404" y="1764"/>
                  </a:lnTo>
                  <a:lnTo>
                    <a:pt x="1380" y="1800"/>
                  </a:lnTo>
                  <a:lnTo>
                    <a:pt x="1356" y="1836"/>
                  </a:lnTo>
                  <a:lnTo>
                    <a:pt x="1320" y="1884"/>
                  </a:lnTo>
                  <a:lnTo>
                    <a:pt x="1296" y="1920"/>
                  </a:lnTo>
                  <a:lnTo>
                    <a:pt x="1260" y="1956"/>
                  </a:lnTo>
                  <a:lnTo>
                    <a:pt x="1248" y="1992"/>
                  </a:lnTo>
                  <a:lnTo>
                    <a:pt x="1212" y="2028"/>
                  </a:lnTo>
                  <a:lnTo>
                    <a:pt x="1176" y="2064"/>
                  </a:lnTo>
                  <a:lnTo>
                    <a:pt x="1152" y="2100"/>
                  </a:lnTo>
                  <a:lnTo>
                    <a:pt x="1116" y="2124"/>
                  </a:lnTo>
                  <a:lnTo>
                    <a:pt x="1080" y="2136"/>
                  </a:lnTo>
                  <a:lnTo>
                    <a:pt x="1044" y="2172"/>
                  </a:lnTo>
                  <a:lnTo>
                    <a:pt x="996" y="2184"/>
                  </a:lnTo>
                  <a:lnTo>
                    <a:pt x="948" y="2208"/>
                  </a:lnTo>
                  <a:lnTo>
                    <a:pt x="900" y="2220"/>
                  </a:lnTo>
                  <a:lnTo>
                    <a:pt x="864" y="2232"/>
                  </a:lnTo>
                  <a:lnTo>
                    <a:pt x="828" y="2232"/>
                  </a:lnTo>
                  <a:lnTo>
                    <a:pt x="780" y="2244"/>
                  </a:lnTo>
                  <a:lnTo>
                    <a:pt x="744" y="2244"/>
                  </a:lnTo>
                  <a:lnTo>
                    <a:pt x="708" y="2244"/>
                  </a:lnTo>
                  <a:lnTo>
                    <a:pt x="660" y="2244"/>
                  </a:lnTo>
                  <a:lnTo>
                    <a:pt x="624" y="2244"/>
                  </a:lnTo>
                  <a:lnTo>
                    <a:pt x="588" y="2244"/>
                  </a:lnTo>
                  <a:lnTo>
                    <a:pt x="552" y="2232"/>
                  </a:lnTo>
                  <a:lnTo>
                    <a:pt x="516" y="2232"/>
                  </a:lnTo>
                  <a:lnTo>
                    <a:pt x="420" y="2232"/>
                  </a:lnTo>
                  <a:lnTo>
                    <a:pt x="384" y="2220"/>
                  </a:lnTo>
                  <a:lnTo>
                    <a:pt x="312" y="2220"/>
                  </a:lnTo>
                  <a:lnTo>
                    <a:pt x="276" y="2220"/>
                  </a:lnTo>
                  <a:lnTo>
                    <a:pt x="228" y="2208"/>
                  </a:lnTo>
                  <a:lnTo>
                    <a:pt x="180" y="2196"/>
                  </a:lnTo>
                  <a:lnTo>
                    <a:pt x="96" y="2172"/>
                  </a:lnTo>
                  <a:lnTo>
                    <a:pt x="60" y="2148"/>
                  </a:lnTo>
                  <a:lnTo>
                    <a:pt x="48" y="2112"/>
                  </a:lnTo>
                  <a:lnTo>
                    <a:pt x="48" y="2076"/>
                  </a:lnTo>
                  <a:lnTo>
                    <a:pt x="48" y="2040"/>
                  </a:lnTo>
                  <a:lnTo>
                    <a:pt x="48" y="2004"/>
                  </a:lnTo>
                  <a:lnTo>
                    <a:pt x="48" y="1968"/>
                  </a:lnTo>
                  <a:lnTo>
                    <a:pt x="48" y="1932"/>
                  </a:lnTo>
                  <a:lnTo>
                    <a:pt x="48" y="1884"/>
                  </a:lnTo>
                  <a:lnTo>
                    <a:pt x="36" y="1848"/>
                  </a:lnTo>
                  <a:lnTo>
                    <a:pt x="36" y="1812"/>
                  </a:lnTo>
                  <a:lnTo>
                    <a:pt x="36" y="1776"/>
                  </a:lnTo>
                  <a:lnTo>
                    <a:pt x="36" y="1740"/>
                  </a:lnTo>
                  <a:lnTo>
                    <a:pt x="24" y="1704"/>
                  </a:lnTo>
                  <a:lnTo>
                    <a:pt x="24" y="1668"/>
                  </a:lnTo>
                  <a:lnTo>
                    <a:pt x="12" y="1632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3f00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52480" y="1827000"/>
              <a:ext cx="2553480" cy="3683160"/>
            </a:xfrm>
            <a:custGeom>
              <a:avLst/>
              <a:gdLst/>
              <a:ahLst/>
              <a:rect l="l" t="t" r="r" b="b"/>
              <a:pathLst>
                <a:path w="1453" h="2245">
                  <a:moveTo>
                    <a:pt x="1452" y="204"/>
                  </a:moveTo>
                  <a:lnTo>
                    <a:pt x="1428" y="168"/>
                  </a:lnTo>
                  <a:lnTo>
                    <a:pt x="1416" y="132"/>
                  </a:lnTo>
                  <a:lnTo>
                    <a:pt x="1380" y="108"/>
                  </a:lnTo>
                  <a:lnTo>
                    <a:pt x="1344" y="72"/>
                  </a:lnTo>
                  <a:lnTo>
                    <a:pt x="1308" y="48"/>
                  </a:lnTo>
                  <a:lnTo>
                    <a:pt x="1272" y="36"/>
                  </a:lnTo>
                  <a:lnTo>
                    <a:pt x="1236" y="24"/>
                  </a:lnTo>
                  <a:lnTo>
                    <a:pt x="1200" y="12"/>
                  </a:lnTo>
                  <a:lnTo>
                    <a:pt x="1164" y="0"/>
                  </a:lnTo>
                  <a:lnTo>
                    <a:pt x="1128" y="0"/>
                  </a:lnTo>
                  <a:lnTo>
                    <a:pt x="1080" y="0"/>
                  </a:lnTo>
                  <a:lnTo>
                    <a:pt x="1032" y="0"/>
                  </a:lnTo>
                  <a:lnTo>
                    <a:pt x="984" y="0"/>
                  </a:lnTo>
                  <a:lnTo>
                    <a:pt x="948" y="12"/>
                  </a:lnTo>
                  <a:lnTo>
                    <a:pt x="900" y="24"/>
                  </a:lnTo>
                  <a:lnTo>
                    <a:pt x="852" y="36"/>
                  </a:lnTo>
                  <a:lnTo>
                    <a:pt x="804" y="48"/>
                  </a:lnTo>
                  <a:lnTo>
                    <a:pt x="756" y="60"/>
                  </a:lnTo>
                  <a:lnTo>
                    <a:pt x="720" y="84"/>
                  </a:lnTo>
                  <a:lnTo>
                    <a:pt x="684" y="96"/>
                  </a:lnTo>
                  <a:lnTo>
                    <a:pt x="612" y="120"/>
                  </a:lnTo>
                  <a:lnTo>
                    <a:pt x="576" y="144"/>
                  </a:lnTo>
                  <a:lnTo>
                    <a:pt x="480" y="180"/>
                  </a:lnTo>
                  <a:lnTo>
                    <a:pt x="432" y="228"/>
                  </a:lnTo>
                  <a:lnTo>
                    <a:pt x="384" y="252"/>
                  </a:lnTo>
                  <a:lnTo>
                    <a:pt x="348" y="288"/>
                  </a:lnTo>
                  <a:lnTo>
                    <a:pt x="312" y="324"/>
                  </a:lnTo>
                  <a:lnTo>
                    <a:pt x="288" y="360"/>
                  </a:lnTo>
                  <a:lnTo>
                    <a:pt x="264" y="396"/>
                  </a:lnTo>
                  <a:lnTo>
                    <a:pt x="240" y="432"/>
                  </a:lnTo>
                  <a:lnTo>
                    <a:pt x="216" y="516"/>
                  </a:lnTo>
                  <a:lnTo>
                    <a:pt x="192" y="552"/>
                  </a:lnTo>
                  <a:lnTo>
                    <a:pt x="180" y="588"/>
                  </a:lnTo>
                  <a:lnTo>
                    <a:pt x="156" y="624"/>
                  </a:lnTo>
                  <a:lnTo>
                    <a:pt x="144" y="696"/>
                  </a:lnTo>
                  <a:lnTo>
                    <a:pt x="144" y="732"/>
                  </a:lnTo>
                  <a:lnTo>
                    <a:pt x="120" y="816"/>
                  </a:lnTo>
                  <a:lnTo>
                    <a:pt x="96" y="864"/>
                  </a:lnTo>
                  <a:lnTo>
                    <a:pt x="96" y="900"/>
                  </a:lnTo>
                  <a:lnTo>
                    <a:pt x="84" y="948"/>
                  </a:lnTo>
                  <a:lnTo>
                    <a:pt x="60" y="1044"/>
                  </a:lnTo>
                  <a:lnTo>
                    <a:pt x="48" y="1092"/>
                  </a:lnTo>
                  <a:lnTo>
                    <a:pt x="48" y="1140"/>
                  </a:lnTo>
                  <a:lnTo>
                    <a:pt x="36" y="1188"/>
                  </a:lnTo>
                  <a:lnTo>
                    <a:pt x="12" y="1284"/>
                  </a:lnTo>
                  <a:lnTo>
                    <a:pt x="12" y="1332"/>
                  </a:lnTo>
                  <a:lnTo>
                    <a:pt x="12" y="1380"/>
                  </a:lnTo>
                  <a:lnTo>
                    <a:pt x="12" y="1428"/>
                  </a:lnTo>
                  <a:lnTo>
                    <a:pt x="0" y="1476"/>
                  </a:lnTo>
                  <a:lnTo>
                    <a:pt x="12" y="1548"/>
                  </a:lnTo>
                  <a:lnTo>
                    <a:pt x="12" y="1584"/>
                  </a:lnTo>
                  <a:lnTo>
                    <a:pt x="24" y="1632"/>
                  </a:lnTo>
                  <a:lnTo>
                    <a:pt x="48" y="1728"/>
                  </a:lnTo>
                  <a:lnTo>
                    <a:pt x="48" y="1764"/>
                  </a:lnTo>
                  <a:lnTo>
                    <a:pt x="72" y="1800"/>
                  </a:lnTo>
                  <a:lnTo>
                    <a:pt x="96" y="1836"/>
                  </a:lnTo>
                  <a:lnTo>
                    <a:pt x="132" y="1884"/>
                  </a:lnTo>
                  <a:lnTo>
                    <a:pt x="156" y="1920"/>
                  </a:lnTo>
                  <a:lnTo>
                    <a:pt x="192" y="1956"/>
                  </a:lnTo>
                  <a:lnTo>
                    <a:pt x="204" y="1992"/>
                  </a:lnTo>
                  <a:lnTo>
                    <a:pt x="240" y="2028"/>
                  </a:lnTo>
                  <a:lnTo>
                    <a:pt x="276" y="2064"/>
                  </a:lnTo>
                  <a:lnTo>
                    <a:pt x="300" y="2100"/>
                  </a:lnTo>
                  <a:lnTo>
                    <a:pt x="336" y="2124"/>
                  </a:lnTo>
                  <a:lnTo>
                    <a:pt x="372" y="2136"/>
                  </a:lnTo>
                  <a:lnTo>
                    <a:pt x="408" y="2172"/>
                  </a:lnTo>
                  <a:lnTo>
                    <a:pt x="456" y="2184"/>
                  </a:lnTo>
                  <a:lnTo>
                    <a:pt x="504" y="2208"/>
                  </a:lnTo>
                  <a:lnTo>
                    <a:pt x="552" y="2220"/>
                  </a:lnTo>
                  <a:lnTo>
                    <a:pt x="588" y="2232"/>
                  </a:lnTo>
                  <a:lnTo>
                    <a:pt x="624" y="2232"/>
                  </a:lnTo>
                  <a:lnTo>
                    <a:pt x="672" y="2244"/>
                  </a:lnTo>
                  <a:lnTo>
                    <a:pt x="708" y="2244"/>
                  </a:lnTo>
                  <a:lnTo>
                    <a:pt x="744" y="2244"/>
                  </a:lnTo>
                  <a:lnTo>
                    <a:pt x="792" y="2244"/>
                  </a:lnTo>
                  <a:lnTo>
                    <a:pt x="828" y="2244"/>
                  </a:lnTo>
                  <a:lnTo>
                    <a:pt x="864" y="2244"/>
                  </a:lnTo>
                  <a:lnTo>
                    <a:pt x="900" y="2232"/>
                  </a:lnTo>
                  <a:lnTo>
                    <a:pt x="936" y="2232"/>
                  </a:lnTo>
                  <a:lnTo>
                    <a:pt x="1032" y="2232"/>
                  </a:lnTo>
                  <a:lnTo>
                    <a:pt x="1068" y="2220"/>
                  </a:lnTo>
                  <a:lnTo>
                    <a:pt x="1140" y="2220"/>
                  </a:lnTo>
                  <a:lnTo>
                    <a:pt x="1176" y="2220"/>
                  </a:lnTo>
                  <a:lnTo>
                    <a:pt x="1224" y="2208"/>
                  </a:lnTo>
                  <a:lnTo>
                    <a:pt x="1272" y="2196"/>
                  </a:lnTo>
                  <a:lnTo>
                    <a:pt x="1356" y="2172"/>
                  </a:lnTo>
                  <a:lnTo>
                    <a:pt x="1392" y="2148"/>
                  </a:lnTo>
                  <a:lnTo>
                    <a:pt x="1404" y="2112"/>
                  </a:lnTo>
                  <a:lnTo>
                    <a:pt x="1404" y="2076"/>
                  </a:lnTo>
                  <a:lnTo>
                    <a:pt x="1404" y="2040"/>
                  </a:lnTo>
                  <a:lnTo>
                    <a:pt x="1404" y="2004"/>
                  </a:lnTo>
                  <a:lnTo>
                    <a:pt x="1404" y="1968"/>
                  </a:lnTo>
                  <a:lnTo>
                    <a:pt x="1404" y="1932"/>
                  </a:lnTo>
                  <a:lnTo>
                    <a:pt x="1404" y="1884"/>
                  </a:lnTo>
                  <a:lnTo>
                    <a:pt x="1416" y="1848"/>
                  </a:lnTo>
                  <a:lnTo>
                    <a:pt x="1416" y="1812"/>
                  </a:lnTo>
                  <a:lnTo>
                    <a:pt x="1416" y="1776"/>
                  </a:lnTo>
                  <a:lnTo>
                    <a:pt x="1416" y="1740"/>
                  </a:lnTo>
                  <a:lnTo>
                    <a:pt x="1428" y="1704"/>
                  </a:lnTo>
                  <a:lnTo>
                    <a:pt x="1428" y="1668"/>
                  </a:lnTo>
                  <a:lnTo>
                    <a:pt x="1440" y="1632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3f00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48440" y="1143000"/>
              <a:ext cx="13564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rs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72920" y="5751720"/>
              <a:ext cx="1467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Ventr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639520" y="2015640"/>
              <a:ext cx="3282840" cy="2755800"/>
              <a:chOff x="2639520" y="2015640"/>
              <a:chExt cx="3282840" cy="2755800"/>
            </a:xfrm>
          </p:grpSpPr>
          <p:sp>
            <p:nvSpPr>
              <p:cNvPr id="168" name=""/>
              <p:cNvSpPr/>
              <p:nvPr/>
            </p:nvSpPr>
            <p:spPr>
              <a:xfrm>
                <a:off x="4246560" y="2015640"/>
                <a:ext cx="1675800" cy="2755800"/>
              </a:xfrm>
              <a:custGeom>
                <a:avLst/>
                <a:gdLst/>
                <a:ahLst/>
                <a:rect l="l" t="t" r="r" b="b"/>
                <a:pathLst>
                  <a:path w="1167" h="1767">
                    <a:moveTo>
                      <a:pt x="0" y="1045"/>
                    </a:moveTo>
                    <a:cubicBezTo>
                      <a:pt x="127" y="1032"/>
                      <a:pt x="152" y="1039"/>
                      <a:pt x="222" y="934"/>
                    </a:cubicBezTo>
                    <a:cubicBezTo>
                      <a:pt x="236" y="891"/>
                      <a:pt x="257" y="843"/>
                      <a:pt x="289" y="812"/>
                    </a:cubicBezTo>
                    <a:cubicBezTo>
                      <a:pt x="297" y="788"/>
                      <a:pt x="319" y="770"/>
                      <a:pt x="322" y="745"/>
                    </a:cubicBezTo>
                    <a:cubicBezTo>
                      <a:pt x="331" y="675"/>
                      <a:pt x="328" y="604"/>
                      <a:pt x="333" y="534"/>
                    </a:cubicBezTo>
                    <a:cubicBezTo>
                      <a:pt x="335" y="501"/>
                      <a:pt x="328" y="464"/>
                      <a:pt x="344" y="434"/>
                    </a:cubicBezTo>
                    <a:cubicBezTo>
                      <a:pt x="361" y="402"/>
                      <a:pt x="445" y="375"/>
                      <a:pt x="477" y="367"/>
                    </a:cubicBezTo>
                    <a:cubicBezTo>
                      <a:pt x="564" y="346"/>
                      <a:pt x="663" y="331"/>
                      <a:pt x="744" y="289"/>
                    </a:cubicBezTo>
                    <a:cubicBezTo>
                      <a:pt x="849" y="235"/>
                      <a:pt x="914" y="130"/>
                      <a:pt x="1011" y="67"/>
                    </a:cubicBezTo>
                    <a:cubicBezTo>
                      <a:pt x="1056" y="0"/>
                      <a:pt x="1101" y="34"/>
                      <a:pt x="1166" y="56"/>
                    </a:cubicBezTo>
                    <a:cubicBezTo>
                      <a:pt x="1134" y="104"/>
                      <a:pt x="1113" y="89"/>
                      <a:pt x="1078" y="134"/>
                    </a:cubicBezTo>
                    <a:cubicBezTo>
                      <a:pt x="1061" y="155"/>
                      <a:pt x="1052" y="182"/>
                      <a:pt x="1033" y="201"/>
                    </a:cubicBezTo>
                    <a:cubicBezTo>
                      <a:pt x="1011" y="223"/>
                      <a:pt x="988" y="245"/>
                      <a:pt x="966" y="267"/>
                    </a:cubicBezTo>
                    <a:cubicBezTo>
                      <a:pt x="955" y="278"/>
                      <a:pt x="933" y="301"/>
                      <a:pt x="933" y="301"/>
                    </a:cubicBezTo>
                    <a:cubicBezTo>
                      <a:pt x="929" y="312"/>
                      <a:pt x="928" y="324"/>
                      <a:pt x="922" y="334"/>
                    </a:cubicBezTo>
                    <a:cubicBezTo>
                      <a:pt x="909" y="357"/>
                      <a:pt x="877" y="401"/>
                      <a:pt x="877" y="401"/>
                    </a:cubicBezTo>
                    <a:cubicBezTo>
                      <a:pt x="861" y="449"/>
                      <a:pt x="847" y="496"/>
                      <a:pt x="833" y="545"/>
                    </a:cubicBezTo>
                    <a:cubicBezTo>
                      <a:pt x="826" y="568"/>
                      <a:pt x="818" y="590"/>
                      <a:pt x="811" y="612"/>
                    </a:cubicBezTo>
                    <a:cubicBezTo>
                      <a:pt x="807" y="623"/>
                      <a:pt x="800" y="645"/>
                      <a:pt x="800" y="645"/>
                    </a:cubicBezTo>
                    <a:cubicBezTo>
                      <a:pt x="804" y="682"/>
                      <a:pt x="803" y="720"/>
                      <a:pt x="811" y="756"/>
                    </a:cubicBezTo>
                    <a:cubicBezTo>
                      <a:pt x="814" y="772"/>
                      <a:pt x="827" y="785"/>
                      <a:pt x="833" y="800"/>
                    </a:cubicBezTo>
                    <a:cubicBezTo>
                      <a:pt x="852" y="846"/>
                      <a:pt x="861" y="898"/>
                      <a:pt x="877" y="945"/>
                    </a:cubicBezTo>
                    <a:cubicBezTo>
                      <a:pt x="895" y="998"/>
                      <a:pt x="889" y="979"/>
                      <a:pt x="933" y="1045"/>
                    </a:cubicBezTo>
                    <a:cubicBezTo>
                      <a:pt x="940" y="1056"/>
                      <a:pt x="955" y="1078"/>
                      <a:pt x="955" y="1078"/>
                    </a:cubicBezTo>
                    <a:cubicBezTo>
                      <a:pt x="974" y="1137"/>
                      <a:pt x="991" y="1197"/>
                      <a:pt x="1011" y="1256"/>
                    </a:cubicBezTo>
                    <a:cubicBezTo>
                      <a:pt x="1015" y="1267"/>
                      <a:pt x="1014" y="1281"/>
                      <a:pt x="1022" y="1289"/>
                    </a:cubicBezTo>
                    <a:cubicBezTo>
                      <a:pt x="1041" y="1308"/>
                      <a:pt x="1078" y="1345"/>
                      <a:pt x="1078" y="1345"/>
                    </a:cubicBezTo>
                    <a:cubicBezTo>
                      <a:pt x="1093" y="1391"/>
                      <a:pt x="1112" y="1390"/>
                      <a:pt x="1144" y="1423"/>
                    </a:cubicBezTo>
                    <a:cubicBezTo>
                      <a:pt x="1150" y="1449"/>
                      <a:pt x="1166" y="1473"/>
                      <a:pt x="1166" y="1500"/>
                    </a:cubicBezTo>
                    <a:cubicBezTo>
                      <a:pt x="1166" y="1548"/>
                      <a:pt x="1167" y="1598"/>
                      <a:pt x="1155" y="1645"/>
                    </a:cubicBezTo>
                    <a:cubicBezTo>
                      <a:pt x="1128" y="1749"/>
                      <a:pt x="1007" y="1757"/>
                      <a:pt x="922" y="1767"/>
                    </a:cubicBezTo>
                    <a:cubicBezTo>
                      <a:pt x="769" y="1755"/>
                      <a:pt x="629" y="1715"/>
                      <a:pt x="477" y="1700"/>
                    </a:cubicBezTo>
                    <a:cubicBezTo>
                      <a:pt x="462" y="1678"/>
                      <a:pt x="448" y="1656"/>
                      <a:pt x="433" y="1634"/>
                    </a:cubicBezTo>
                    <a:cubicBezTo>
                      <a:pt x="327" y="1476"/>
                      <a:pt x="481" y="1635"/>
                      <a:pt x="377" y="1534"/>
                    </a:cubicBezTo>
                    <a:cubicBezTo>
                      <a:pt x="363" y="1476"/>
                      <a:pt x="348" y="1431"/>
                      <a:pt x="322" y="1378"/>
                    </a:cubicBezTo>
                    <a:cubicBezTo>
                      <a:pt x="317" y="1368"/>
                      <a:pt x="318" y="1354"/>
                      <a:pt x="311" y="1345"/>
                    </a:cubicBezTo>
                    <a:cubicBezTo>
                      <a:pt x="302" y="1335"/>
                      <a:pt x="288" y="1330"/>
                      <a:pt x="277" y="1323"/>
                    </a:cubicBezTo>
                    <a:cubicBezTo>
                      <a:pt x="253" y="1250"/>
                      <a:pt x="207" y="1220"/>
                      <a:pt x="144" y="1178"/>
                    </a:cubicBezTo>
                    <a:cubicBezTo>
                      <a:pt x="54" y="1118"/>
                      <a:pt x="124" y="1130"/>
                      <a:pt x="55" y="1112"/>
                    </a:cubicBezTo>
                    <a:cubicBezTo>
                      <a:pt x="37" y="1107"/>
                      <a:pt x="18" y="1104"/>
                      <a:pt x="0" y="1100"/>
                    </a:cubicBezTo>
                    <a:cubicBezTo>
                      <a:pt x="14" y="1059"/>
                      <a:pt x="16" y="1077"/>
                      <a:pt x="0" y="1045"/>
                    </a:cubicBez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2639160" y="2015640"/>
                <a:ext cx="1675800" cy="2755800"/>
              </a:xfrm>
              <a:custGeom>
                <a:avLst/>
                <a:gdLst/>
                <a:ahLst/>
                <a:rect l="l" t="t" r="r" b="b"/>
                <a:pathLst>
                  <a:path w="1167" h="1767">
                    <a:moveTo>
                      <a:pt x="0" y="1045"/>
                    </a:moveTo>
                    <a:cubicBezTo>
                      <a:pt x="127" y="1032"/>
                      <a:pt x="152" y="1039"/>
                      <a:pt x="222" y="934"/>
                    </a:cubicBezTo>
                    <a:cubicBezTo>
                      <a:pt x="236" y="891"/>
                      <a:pt x="257" y="843"/>
                      <a:pt x="289" y="812"/>
                    </a:cubicBezTo>
                    <a:cubicBezTo>
                      <a:pt x="297" y="788"/>
                      <a:pt x="319" y="770"/>
                      <a:pt x="322" y="745"/>
                    </a:cubicBezTo>
                    <a:cubicBezTo>
                      <a:pt x="331" y="675"/>
                      <a:pt x="328" y="604"/>
                      <a:pt x="333" y="534"/>
                    </a:cubicBezTo>
                    <a:cubicBezTo>
                      <a:pt x="335" y="501"/>
                      <a:pt x="328" y="464"/>
                      <a:pt x="344" y="434"/>
                    </a:cubicBezTo>
                    <a:cubicBezTo>
                      <a:pt x="361" y="402"/>
                      <a:pt x="445" y="375"/>
                      <a:pt x="477" y="367"/>
                    </a:cubicBezTo>
                    <a:cubicBezTo>
                      <a:pt x="564" y="346"/>
                      <a:pt x="663" y="331"/>
                      <a:pt x="744" y="289"/>
                    </a:cubicBezTo>
                    <a:cubicBezTo>
                      <a:pt x="849" y="235"/>
                      <a:pt x="914" y="130"/>
                      <a:pt x="1011" y="67"/>
                    </a:cubicBezTo>
                    <a:cubicBezTo>
                      <a:pt x="1056" y="0"/>
                      <a:pt x="1101" y="34"/>
                      <a:pt x="1166" y="56"/>
                    </a:cubicBezTo>
                    <a:cubicBezTo>
                      <a:pt x="1134" y="104"/>
                      <a:pt x="1113" y="89"/>
                      <a:pt x="1078" y="134"/>
                    </a:cubicBezTo>
                    <a:cubicBezTo>
                      <a:pt x="1061" y="155"/>
                      <a:pt x="1052" y="182"/>
                      <a:pt x="1033" y="201"/>
                    </a:cubicBezTo>
                    <a:cubicBezTo>
                      <a:pt x="1011" y="223"/>
                      <a:pt x="988" y="245"/>
                      <a:pt x="966" y="267"/>
                    </a:cubicBezTo>
                    <a:cubicBezTo>
                      <a:pt x="955" y="278"/>
                      <a:pt x="933" y="301"/>
                      <a:pt x="933" y="301"/>
                    </a:cubicBezTo>
                    <a:cubicBezTo>
                      <a:pt x="929" y="312"/>
                      <a:pt x="928" y="324"/>
                      <a:pt x="922" y="334"/>
                    </a:cubicBezTo>
                    <a:cubicBezTo>
                      <a:pt x="909" y="357"/>
                      <a:pt x="877" y="401"/>
                      <a:pt x="877" y="401"/>
                    </a:cubicBezTo>
                    <a:cubicBezTo>
                      <a:pt x="861" y="449"/>
                      <a:pt x="847" y="496"/>
                      <a:pt x="833" y="545"/>
                    </a:cubicBezTo>
                    <a:cubicBezTo>
                      <a:pt x="826" y="568"/>
                      <a:pt x="818" y="590"/>
                      <a:pt x="811" y="612"/>
                    </a:cubicBezTo>
                    <a:cubicBezTo>
                      <a:pt x="807" y="623"/>
                      <a:pt x="800" y="645"/>
                      <a:pt x="800" y="645"/>
                    </a:cubicBezTo>
                    <a:cubicBezTo>
                      <a:pt x="804" y="682"/>
                      <a:pt x="803" y="720"/>
                      <a:pt x="811" y="756"/>
                    </a:cubicBezTo>
                    <a:cubicBezTo>
                      <a:pt x="814" y="772"/>
                      <a:pt x="827" y="785"/>
                      <a:pt x="833" y="800"/>
                    </a:cubicBezTo>
                    <a:cubicBezTo>
                      <a:pt x="852" y="846"/>
                      <a:pt x="861" y="898"/>
                      <a:pt x="877" y="945"/>
                    </a:cubicBezTo>
                    <a:cubicBezTo>
                      <a:pt x="895" y="998"/>
                      <a:pt x="889" y="979"/>
                      <a:pt x="933" y="1045"/>
                    </a:cubicBezTo>
                    <a:cubicBezTo>
                      <a:pt x="940" y="1056"/>
                      <a:pt x="955" y="1078"/>
                      <a:pt x="955" y="1078"/>
                    </a:cubicBezTo>
                    <a:cubicBezTo>
                      <a:pt x="974" y="1137"/>
                      <a:pt x="991" y="1197"/>
                      <a:pt x="1011" y="1256"/>
                    </a:cubicBezTo>
                    <a:cubicBezTo>
                      <a:pt x="1015" y="1267"/>
                      <a:pt x="1014" y="1281"/>
                      <a:pt x="1022" y="1289"/>
                    </a:cubicBezTo>
                    <a:cubicBezTo>
                      <a:pt x="1041" y="1308"/>
                      <a:pt x="1078" y="1345"/>
                      <a:pt x="1078" y="1345"/>
                    </a:cubicBezTo>
                    <a:cubicBezTo>
                      <a:pt x="1093" y="1391"/>
                      <a:pt x="1112" y="1390"/>
                      <a:pt x="1144" y="1423"/>
                    </a:cubicBezTo>
                    <a:cubicBezTo>
                      <a:pt x="1150" y="1449"/>
                      <a:pt x="1166" y="1473"/>
                      <a:pt x="1166" y="1500"/>
                    </a:cubicBezTo>
                    <a:cubicBezTo>
                      <a:pt x="1166" y="1548"/>
                      <a:pt x="1167" y="1598"/>
                      <a:pt x="1155" y="1645"/>
                    </a:cubicBezTo>
                    <a:cubicBezTo>
                      <a:pt x="1128" y="1749"/>
                      <a:pt x="1007" y="1757"/>
                      <a:pt x="922" y="1767"/>
                    </a:cubicBezTo>
                    <a:cubicBezTo>
                      <a:pt x="769" y="1755"/>
                      <a:pt x="629" y="1715"/>
                      <a:pt x="477" y="1700"/>
                    </a:cubicBezTo>
                    <a:cubicBezTo>
                      <a:pt x="462" y="1678"/>
                      <a:pt x="448" y="1656"/>
                      <a:pt x="433" y="1634"/>
                    </a:cubicBezTo>
                    <a:cubicBezTo>
                      <a:pt x="327" y="1476"/>
                      <a:pt x="481" y="1635"/>
                      <a:pt x="377" y="1534"/>
                    </a:cubicBezTo>
                    <a:cubicBezTo>
                      <a:pt x="363" y="1476"/>
                      <a:pt x="348" y="1431"/>
                      <a:pt x="322" y="1378"/>
                    </a:cubicBezTo>
                    <a:cubicBezTo>
                      <a:pt x="317" y="1368"/>
                      <a:pt x="318" y="1354"/>
                      <a:pt x="311" y="1345"/>
                    </a:cubicBezTo>
                    <a:cubicBezTo>
                      <a:pt x="302" y="1335"/>
                      <a:pt x="288" y="1330"/>
                      <a:pt x="277" y="1323"/>
                    </a:cubicBezTo>
                    <a:cubicBezTo>
                      <a:pt x="253" y="1250"/>
                      <a:pt x="207" y="1220"/>
                      <a:pt x="144" y="1178"/>
                    </a:cubicBezTo>
                    <a:cubicBezTo>
                      <a:pt x="54" y="1118"/>
                      <a:pt x="124" y="1130"/>
                      <a:pt x="55" y="1112"/>
                    </a:cubicBezTo>
                    <a:cubicBezTo>
                      <a:pt x="37" y="1107"/>
                      <a:pt x="18" y="1104"/>
                      <a:pt x="0" y="1100"/>
                    </a:cubicBezTo>
                    <a:cubicBezTo>
                      <a:pt x="14" y="1059"/>
                      <a:pt x="16" y="1077"/>
                      <a:pt x="0" y="1045"/>
                    </a:cubicBez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309560" y="217476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86440" y="3590640"/>
              <a:ext cx="253080" cy="275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nal Cord: Ventromedial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962520" y="4114800"/>
            <a:ext cx="609120" cy="228600"/>
            <a:chOff x="3962520" y="4114800"/>
            <a:chExt cx="609120" cy="228600"/>
          </a:xfrm>
        </p:grpSpPr>
        <p:sp>
          <p:nvSpPr>
            <p:cNvPr id="174" name=""/>
            <p:cNvSpPr/>
            <p:nvPr/>
          </p:nvSpPr>
          <p:spPr>
            <a:xfrm>
              <a:off x="3962520" y="4114800"/>
              <a:ext cx="22824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43400" y="4114800"/>
              <a:ext cx="22824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16200000">
            <a:off x="3504960" y="4876200"/>
            <a:ext cx="152280" cy="914400"/>
          </a:xfrm>
          <a:prstGeom prst="flowChartOnlineStorag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5029200" y="4876200"/>
            <a:ext cx="152280" cy="914400"/>
          </a:xfrm>
          <a:prstGeom prst="flowChartOnlineStorag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962520" y="4419720"/>
            <a:ext cx="609120" cy="228600"/>
            <a:chOff x="3962520" y="4419720"/>
            <a:chExt cx="609120" cy="228600"/>
          </a:xfrm>
        </p:grpSpPr>
        <p:sp>
          <p:nvSpPr>
            <p:cNvPr id="179" name=""/>
            <p:cNvSpPr/>
            <p:nvPr/>
          </p:nvSpPr>
          <p:spPr>
            <a:xfrm>
              <a:off x="3962520" y="4419720"/>
              <a:ext cx="228240" cy="228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43400" y="4419720"/>
              <a:ext cx="228240" cy="228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505320" y="5029200"/>
            <a:ext cx="1600200" cy="133200"/>
            <a:chOff x="3505320" y="5029200"/>
            <a:chExt cx="1600200" cy="133200"/>
          </a:xfrm>
        </p:grpSpPr>
        <p:sp>
          <p:nvSpPr>
            <p:cNvPr id="182" name=""/>
            <p:cNvSpPr/>
            <p:nvPr/>
          </p:nvSpPr>
          <p:spPr>
            <a:xfrm rot="16200000">
              <a:off x="3667320" y="4867200"/>
              <a:ext cx="133200" cy="457200"/>
            </a:xfrm>
            <a:prstGeom prst="flowChartOnlineStorag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200000">
              <a:off x="4810320" y="4867200"/>
              <a:ext cx="133200" cy="457200"/>
            </a:xfrm>
            <a:prstGeom prst="flowChartOnlineStorag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134800" y="4389120"/>
            <a:ext cx="4263840" cy="597600"/>
            <a:chOff x="2134800" y="4389120"/>
            <a:chExt cx="4263840" cy="597600"/>
          </a:xfrm>
        </p:grpSpPr>
        <p:sp>
          <p:nvSpPr>
            <p:cNvPr id="185" name=""/>
            <p:cNvSpPr/>
            <p:nvPr/>
          </p:nvSpPr>
          <p:spPr>
            <a:xfrm rot="18558000">
              <a:off x="2347560" y="4357440"/>
              <a:ext cx="231840" cy="660240"/>
            </a:xfrm>
            <a:prstGeom prst="flowChartOnlineStorage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3042000">
              <a:off x="5953680" y="4357800"/>
              <a:ext cx="231840" cy="659880"/>
            </a:xfrm>
            <a:prstGeom prst="flowChartOnlineStorage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647960" y="3200400"/>
            <a:ext cx="4093560" cy="1295280"/>
            <a:chOff x="4647960" y="3200400"/>
            <a:chExt cx="4093560" cy="1295280"/>
          </a:xfrm>
        </p:grpSpPr>
        <p:sp>
          <p:nvSpPr>
            <p:cNvPr id="188" name=""/>
            <p:cNvSpPr/>
            <p:nvPr/>
          </p:nvSpPr>
          <p:spPr>
            <a:xfrm flipH="1">
              <a:off x="4647960" y="3505320"/>
              <a:ext cx="1981080" cy="99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2400" y="3200400"/>
              <a:ext cx="195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Arial"/>
                </a:rPr>
                <a:t>Tectospin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Arial"/>
                </a:rPr>
                <a:t>        </a:t>
              </a:r>
              <a:r>
                <a:rPr b="1" lang="en-US" sz="2400" spc="-1" strike="noStrike">
                  <a:solidFill>
                    <a:srgbClr val="009900"/>
                  </a:solidFill>
                  <a:latin typeface="Arial"/>
                </a:rPr>
                <a:t>tr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115520" y="5105520"/>
            <a:ext cx="4494240" cy="1267200"/>
            <a:chOff x="4115520" y="5105520"/>
            <a:chExt cx="4494240" cy="1267200"/>
          </a:xfrm>
        </p:grpSpPr>
        <p:sp>
          <p:nvSpPr>
            <p:cNvPr id="191" name=""/>
            <p:cNvSpPr/>
            <p:nvPr/>
          </p:nvSpPr>
          <p:spPr>
            <a:xfrm>
              <a:off x="6345720" y="5181480"/>
              <a:ext cx="226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onti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Reticulospi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tr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5520" y="5105520"/>
              <a:ext cx="243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20" y="4800600"/>
            <a:ext cx="2264040" cy="1648440"/>
            <a:chOff x="720" y="4800600"/>
            <a:chExt cx="2264040" cy="1648440"/>
          </a:xfrm>
        </p:grpSpPr>
        <p:sp>
          <p:nvSpPr>
            <p:cNvPr id="194" name=""/>
            <p:cNvSpPr/>
            <p:nvPr/>
          </p:nvSpPr>
          <p:spPr>
            <a:xfrm>
              <a:off x="720" y="5257800"/>
              <a:ext cx="226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99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990099"/>
                  </a:solidFill>
                  <a:latin typeface="Arial"/>
                </a:rPr>
                <a:t>Medullar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99"/>
                  </a:solidFill>
                  <a:latin typeface="Arial"/>
                </a:rPr>
                <a:t>Reticulospi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99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990099"/>
                  </a:solidFill>
                  <a:latin typeface="Arial"/>
                </a:rPr>
                <a:t>tr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219320" y="4800600"/>
              <a:ext cx="9903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2720" y="1844640"/>
            <a:ext cx="3737160" cy="3336840"/>
            <a:chOff x="72720" y="1844640"/>
            <a:chExt cx="3737160" cy="3336840"/>
          </a:xfrm>
        </p:grpSpPr>
        <p:sp>
          <p:nvSpPr>
            <p:cNvPr id="197" name=""/>
            <p:cNvSpPr/>
            <p:nvPr/>
          </p:nvSpPr>
          <p:spPr>
            <a:xfrm>
              <a:off x="72720" y="1844640"/>
              <a:ext cx="251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Vestibulospin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         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tr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23880" y="2743200"/>
              <a:ext cx="1752840" cy="2438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23880" y="2743200"/>
              <a:ext cx="2286000" cy="1371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Descending Spinal Tr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19320" y="1219320"/>
            <a:ext cx="6400440" cy="914400"/>
            <a:chOff x="1219320" y="1219320"/>
            <a:chExt cx="6400440" cy="914400"/>
          </a:xfrm>
        </p:grpSpPr>
        <p:sp>
          <p:nvSpPr>
            <p:cNvPr id="202" name=""/>
            <p:cNvSpPr/>
            <p:nvPr/>
          </p:nvSpPr>
          <p:spPr>
            <a:xfrm>
              <a:off x="1219320" y="1219320"/>
              <a:ext cx="6400440" cy="91440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91120" y="1481760"/>
              <a:ext cx="2078280" cy="45972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otor Corte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04920" y="5791320"/>
            <a:ext cx="8001000" cy="685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in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3809880"/>
            <a:ext cx="12952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1981080"/>
            <a:ext cx="533520" cy="3733920"/>
          </a:xfrm>
          <a:prstGeom prst="downArrow">
            <a:avLst>
              <a:gd name="adj1" fmla="val 50000"/>
              <a:gd name="adj2" fmla="val 17496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rot="16200000">
            <a:off x="2018160" y="2476440"/>
            <a:ext cx="838440" cy="1676520"/>
          </a:xfrm>
          <a:custGeom>
            <a:avLst/>
            <a:gdLst>
              <a:gd name="textAreaLeft" fmla="*/ -360 w 838440"/>
              <a:gd name="textAreaRight" fmla="*/ 838440 w 8384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4800600"/>
            <a:ext cx="685800" cy="914400"/>
          </a:xfrm>
          <a:prstGeom prst="downArrow">
            <a:avLst>
              <a:gd name="adj1" fmla="val 50000"/>
              <a:gd name="adj2" fmla="val 3333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2480" y="2867040"/>
            <a:ext cx="4143240" cy="866880"/>
            <a:chOff x="3552480" y="2867040"/>
            <a:chExt cx="4143240" cy="866880"/>
          </a:xfrm>
        </p:grpSpPr>
        <p:sp>
          <p:nvSpPr>
            <p:cNvPr id="210" name=""/>
            <p:cNvSpPr/>
            <p:nvPr/>
          </p:nvSpPr>
          <p:spPr>
            <a:xfrm rot="5400000">
              <a:off x="3971520" y="2476440"/>
              <a:ext cx="838440" cy="167652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1676520"/>
                <a:gd name="textAreaBottom" fmla="*/ 167688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4343400" y="2867040"/>
              <a:ext cx="3352320" cy="838080"/>
              <a:chOff x="4343400" y="2867040"/>
              <a:chExt cx="3352320" cy="838080"/>
            </a:xfrm>
          </p:grpSpPr>
          <p:sp>
            <p:nvSpPr>
              <p:cNvPr id="212" name=""/>
              <p:cNvSpPr/>
              <p:nvPr/>
            </p:nvSpPr>
            <p:spPr>
              <a:xfrm rot="5400000">
                <a:off x="6476400" y="2485800"/>
                <a:ext cx="838080" cy="1600200"/>
              </a:xfrm>
              <a:custGeom>
                <a:avLst/>
                <a:gdLst>
                  <a:gd name="textAreaLeft" fmla="*/ 0 w 838080"/>
                  <a:gd name="textAreaRight" fmla="*/ 838440 w 838080"/>
                  <a:gd name="textAreaTop" fmla="*/ 0 h 1600200"/>
                  <a:gd name="textAreaBottom" fmla="*/ 160056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343400" y="2867040"/>
                <a:ext cx="2209680" cy="228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4495680" y="4800600"/>
            <a:ext cx="3200400" cy="914400"/>
            <a:chOff x="4495680" y="4800600"/>
            <a:chExt cx="3200400" cy="914400"/>
          </a:xfrm>
        </p:grpSpPr>
        <p:sp>
          <p:nvSpPr>
            <p:cNvPr id="215" name=""/>
            <p:cNvSpPr/>
            <p:nvPr/>
          </p:nvSpPr>
          <p:spPr>
            <a:xfrm>
              <a:off x="4495680" y="4800600"/>
              <a:ext cx="685800" cy="914400"/>
            </a:xfrm>
            <a:prstGeom prst="downArrow">
              <a:avLst>
                <a:gd name="adj1" fmla="val 50000"/>
                <a:gd name="adj2" fmla="val 3333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10280" y="4800600"/>
              <a:ext cx="685800" cy="914400"/>
            </a:xfrm>
            <a:prstGeom prst="downArrow">
              <a:avLst>
                <a:gd name="adj1" fmla="val 50000"/>
                <a:gd name="adj2" fmla="val 3333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962520" y="3733920"/>
            <a:ext cx="1523880" cy="914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ic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cl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33920"/>
            <a:ext cx="29718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erior Colli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stibular nucl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35720" y="2274840"/>
            <a:ext cx="24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ntrome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8680" y="230040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orimotor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atosensory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s spatial coordin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or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cutes mov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s in meaningful behavior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orimotor Cortica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of sensory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directed mov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ending spinal tra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ral pathwa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yramidal Motor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ntromedial pathw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rapyramidal pathway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ical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1 - postcentral gyr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PC - Posterior Parietal Cortex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1 - Precentral Gyru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ntal Lob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atotopic orga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2 - Secondary Motor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 - Supplementary Motor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M - Premotor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932120" y="1514520"/>
            <a:ext cx="5860800" cy="4115520"/>
            <a:chOff x="1932120" y="1514520"/>
            <a:chExt cx="5860800" cy="4115520"/>
          </a:xfrm>
        </p:grpSpPr>
        <p:sp>
          <p:nvSpPr>
            <p:cNvPr id="51" name=""/>
            <p:cNvSpPr/>
            <p:nvPr/>
          </p:nvSpPr>
          <p:spPr>
            <a:xfrm>
              <a:off x="1932120" y="1514520"/>
              <a:ext cx="5491080" cy="308448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20700000">
              <a:off x="3296520" y="2728440"/>
              <a:ext cx="4259160" cy="23907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87880" y="3400560"/>
              <a:ext cx="2325600" cy="1058760"/>
            </a:xfrm>
            <a:custGeom>
              <a:avLst/>
              <a:gdLst/>
              <a:ahLst/>
              <a:rect l="l" t="t" r="r" b="b"/>
              <a:pathLst>
                <a:path w="1465" h="667">
                  <a:moveTo>
                    <a:pt x="0" y="666"/>
                  </a:moveTo>
                  <a:lnTo>
                    <a:pt x="24" y="628"/>
                  </a:lnTo>
                  <a:lnTo>
                    <a:pt x="36" y="596"/>
                  </a:lnTo>
                  <a:lnTo>
                    <a:pt x="47" y="562"/>
                  </a:lnTo>
                  <a:lnTo>
                    <a:pt x="59" y="530"/>
                  </a:lnTo>
                  <a:lnTo>
                    <a:pt x="91" y="507"/>
                  </a:lnTo>
                  <a:lnTo>
                    <a:pt x="114" y="475"/>
                  </a:lnTo>
                  <a:lnTo>
                    <a:pt x="134" y="440"/>
                  </a:lnTo>
                  <a:lnTo>
                    <a:pt x="157" y="397"/>
                  </a:lnTo>
                  <a:lnTo>
                    <a:pt x="235" y="376"/>
                  </a:lnTo>
                  <a:lnTo>
                    <a:pt x="279" y="309"/>
                  </a:lnTo>
                  <a:lnTo>
                    <a:pt x="299" y="276"/>
                  </a:lnTo>
                  <a:lnTo>
                    <a:pt x="333" y="266"/>
                  </a:lnTo>
                  <a:lnTo>
                    <a:pt x="365" y="255"/>
                  </a:lnTo>
                  <a:lnTo>
                    <a:pt x="409" y="231"/>
                  </a:lnTo>
                  <a:lnTo>
                    <a:pt x="443" y="231"/>
                  </a:lnTo>
                  <a:lnTo>
                    <a:pt x="475" y="211"/>
                  </a:lnTo>
                  <a:lnTo>
                    <a:pt x="510" y="211"/>
                  </a:lnTo>
                  <a:lnTo>
                    <a:pt x="541" y="199"/>
                  </a:lnTo>
                  <a:lnTo>
                    <a:pt x="651" y="166"/>
                  </a:lnTo>
                  <a:lnTo>
                    <a:pt x="683" y="166"/>
                  </a:lnTo>
                  <a:lnTo>
                    <a:pt x="773" y="166"/>
                  </a:lnTo>
                  <a:lnTo>
                    <a:pt x="805" y="166"/>
                  </a:lnTo>
                  <a:lnTo>
                    <a:pt x="839" y="145"/>
                  </a:lnTo>
                  <a:lnTo>
                    <a:pt x="871" y="133"/>
                  </a:lnTo>
                  <a:lnTo>
                    <a:pt x="915" y="110"/>
                  </a:lnTo>
                  <a:lnTo>
                    <a:pt x="949" y="89"/>
                  </a:lnTo>
                  <a:lnTo>
                    <a:pt x="981" y="78"/>
                  </a:lnTo>
                  <a:lnTo>
                    <a:pt x="1025" y="67"/>
                  </a:lnTo>
                  <a:lnTo>
                    <a:pt x="1059" y="55"/>
                  </a:lnTo>
                  <a:lnTo>
                    <a:pt x="1091" y="55"/>
                  </a:lnTo>
                  <a:lnTo>
                    <a:pt x="1178" y="55"/>
                  </a:lnTo>
                  <a:lnTo>
                    <a:pt x="1212" y="46"/>
                  </a:lnTo>
                  <a:lnTo>
                    <a:pt x="1288" y="34"/>
                  </a:lnTo>
                  <a:lnTo>
                    <a:pt x="1377" y="23"/>
                  </a:lnTo>
                  <a:lnTo>
                    <a:pt x="1464" y="0"/>
                  </a:lnTo>
                </a:path>
              </a:pathLst>
            </a:custGeom>
            <a:solidFill>
              <a:srgbClr val="ffcccc"/>
            </a:solidFill>
            <a:ln cap="rnd" w="127080">
              <a:solidFill>
                <a:srgbClr val="d931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26000" y="1538280"/>
              <a:ext cx="350640" cy="2058840"/>
            </a:xfrm>
            <a:custGeom>
              <a:avLst/>
              <a:gdLst/>
              <a:ahLst/>
              <a:rect l="l" t="t" r="r" b="b"/>
              <a:pathLst>
                <a:path w="221" h="1297">
                  <a:moveTo>
                    <a:pt x="212" y="0"/>
                  </a:moveTo>
                  <a:lnTo>
                    <a:pt x="212" y="25"/>
                  </a:lnTo>
                  <a:lnTo>
                    <a:pt x="212" y="50"/>
                  </a:lnTo>
                  <a:lnTo>
                    <a:pt x="212" y="82"/>
                  </a:lnTo>
                  <a:lnTo>
                    <a:pt x="212" y="107"/>
                  </a:lnTo>
                  <a:lnTo>
                    <a:pt x="220" y="132"/>
                  </a:lnTo>
                  <a:lnTo>
                    <a:pt x="220" y="157"/>
                  </a:lnTo>
                  <a:lnTo>
                    <a:pt x="212" y="182"/>
                  </a:lnTo>
                  <a:lnTo>
                    <a:pt x="212" y="206"/>
                  </a:lnTo>
                  <a:lnTo>
                    <a:pt x="159" y="272"/>
                  </a:lnTo>
                  <a:lnTo>
                    <a:pt x="150" y="297"/>
                  </a:lnTo>
                  <a:lnTo>
                    <a:pt x="150" y="322"/>
                  </a:lnTo>
                  <a:lnTo>
                    <a:pt x="150" y="355"/>
                  </a:lnTo>
                  <a:lnTo>
                    <a:pt x="150" y="380"/>
                  </a:lnTo>
                  <a:lnTo>
                    <a:pt x="150" y="404"/>
                  </a:lnTo>
                  <a:lnTo>
                    <a:pt x="150" y="429"/>
                  </a:lnTo>
                  <a:lnTo>
                    <a:pt x="150" y="454"/>
                  </a:lnTo>
                  <a:lnTo>
                    <a:pt x="150" y="479"/>
                  </a:lnTo>
                  <a:lnTo>
                    <a:pt x="132" y="504"/>
                  </a:lnTo>
                  <a:lnTo>
                    <a:pt x="132" y="536"/>
                  </a:lnTo>
                  <a:lnTo>
                    <a:pt x="115" y="561"/>
                  </a:lnTo>
                  <a:lnTo>
                    <a:pt x="88" y="594"/>
                  </a:lnTo>
                  <a:lnTo>
                    <a:pt x="79" y="627"/>
                  </a:lnTo>
                  <a:lnTo>
                    <a:pt x="71" y="652"/>
                  </a:lnTo>
                  <a:lnTo>
                    <a:pt x="62" y="677"/>
                  </a:lnTo>
                  <a:lnTo>
                    <a:pt x="62" y="702"/>
                  </a:lnTo>
                  <a:lnTo>
                    <a:pt x="53" y="726"/>
                  </a:lnTo>
                  <a:lnTo>
                    <a:pt x="35" y="751"/>
                  </a:lnTo>
                  <a:lnTo>
                    <a:pt x="26" y="776"/>
                  </a:lnTo>
                  <a:lnTo>
                    <a:pt x="26" y="809"/>
                  </a:lnTo>
                  <a:lnTo>
                    <a:pt x="26" y="834"/>
                  </a:lnTo>
                  <a:lnTo>
                    <a:pt x="26" y="858"/>
                  </a:lnTo>
                  <a:lnTo>
                    <a:pt x="26" y="883"/>
                  </a:lnTo>
                  <a:lnTo>
                    <a:pt x="9" y="908"/>
                  </a:lnTo>
                  <a:lnTo>
                    <a:pt x="0" y="933"/>
                  </a:lnTo>
                  <a:lnTo>
                    <a:pt x="0" y="958"/>
                  </a:lnTo>
                  <a:lnTo>
                    <a:pt x="0" y="990"/>
                  </a:lnTo>
                  <a:lnTo>
                    <a:pt x="0" y="1015"/>
                  </a:lnTo>
                  <a:lnTo>
                    <a:pt x="0" y="1040"/>
                  </a:lnTo>
                  <a:lnTo>
                    <a:pt x="0" y="1065"/>
                  </a:lnTo>
                  <a:lnTo>
                    <a:pt x="0" y="1090"/>
                  </a:lnTo>
                  <a:lnTo>
                    <a:pt x="0" y="1114"/>
                  </a:lnTo>
                  <a:lnTo>
                    <a:pt x="0" y="1139"/>
                  </a:lnTo>
                  <a:lnTo>
                    <a:pt x="0" y="1172"/>
                  </a:lnTo>
                  <a:lnTo>
                    <a:pt x="9" y="1197"/>
                  </a:lnTo>
                  <a:lnTo>
                    <a:pt x="9" y="1222"/>
                  </a:lnTo>
                  <a:lnTo>
                    <a:pt x="9" y="1246"/>
                  </a:lnTo>
                  <a:lnTo>
                    <a:pt x="9" y="1271"/>
                  </a:lnTo>
                  <a:lnTo>
                    <a:pt x="9" y="1296"/>
                  </a:lnTo>
                </a:path>
              </a:pathLst>
            </a:custGeom>
            <a:solidFill>
              <a:srgbClr val="ffcccc"/>
            </a:solidFill>
            <a:ln cap="rnd" w="127080">
              <a:solidFill>
                <a:srgbClr val="d931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916680" y="54000"/>
            <a:ext cx="1301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92400" y="1555920"/>
            <a:ext cx="282600" cy="2209680"/>
          </a:xfrm>
          <a:custGeom>
            <a:avLst/>
            <a:gdLst/>
            <a:ahLst/>
            <a:rect l="l" t="t" r="r" b="b"/>
            <a:pathLst>
              <a:path w="178" h="1392">
                <a:moveTo>
                  <a:pt x="177" y="0"/>
                </a:moveTo>
                <a:lnTo>
                  <a:pt x="177" y="41"/>
                </a:lnTo>
                <a:lnTo>
                  <a:pt x="136" y="81"/>
                </a:lnTo>
                <a:lnTo>
                  <a:pt x="136" y="122"/>
                </a:lnTo>
                <a:lnTo>
                  <a:pt x="136" y="163"/>
                </a:lnTo>
                <a:lnTo>
                  <a:pt x="122" y="218"/>
                </a:lnTo>
                <a:lnTo>
                  <a:pt x="68" y="245"/>
                </a:lnTo>
                <a:lnTo>
                  <a:pt x="54" y="286"/>
                </a:lnTo>
                <a:lnTo>
                  <a:pt x="13" y="327"/>
                </a:lnTo>
                <a:lnTo>
                  <a:pt x="13" y="368"/>
                </a:lnTo>
                <a:lnTo>
                  <a:pt x="13" y="409"/>
                </a:lnTo>
                <a:lnTo>
                  <a:pt x="0" y="450"/>
                </a:lnTo>
                <a:lnTo>
                  <a:pt x="0" y="491"/>
                </a:lnTo>
                <a:lnTo>
                  <a:pt x="0" y="545"/>
                </a:lnTo>
                <a:lnTo>
                  <a:pt x="13" y="586"/>
                </a:lnTo>
                <a:lnTo>
                  <a:pt x="13" y="627"/>
                </a:lnTo>
                <a:lnTo>
                  <a:pt x="27" y="668"/>
                </a:lnTo>
                <a:lnTo>
                  <a:pt x="41" y="709"/>
                </a:lnTo>
                <a:lnTo>
                  <a:pt x="41" y="750"/>
                </a:lnTo>
                <a:lnTo>
                  <a:pt x="41" y="791"/>
                </a:lnTo>
                <a:lnTo>
                  <a:pt x="41" y="845"/>
                </a:lnTo>
                <a:lnTo>
                  <a:pt x="41" y="886"/>
                </a:lnTo>
                <a:lnTo>
                  <a:pt x="41" y="927"/>
                </a:lnTo>
                <a:lnTo>
                  <a:pt x="54" y="968"/>
                </a:lnTo>
                <a:lnTo>
                  <a:pt x="54" y="1009"/>
                </a:lnTo>
                <a:lnTo>
                  <a:pt x="54" y="1050"/>
                </a:lnTo>
                <a:lnTo>
                  <a:pt x="54" y="1091"/>
                </a:lnTo>
                <a:lnTo>
                  <a:pt x="54" y="1145"/>
                </a:lnTo>
                <a:lnTo>
                  <a:pt x="54" y="1186"/>
                </a:lnTo>
                <a:lnTo>
                  <a:pt x="54" y="1227"/>
                </a:lnTo>
                <a:lnTo>
                  <a:pt x="54" y="1268"/>
                </a:lnTo>
                <a:lnTo>
                  <a:pt x="54" y="1309"/>
                </a:lnTo>
                <a:lnTo>
                  <a:pt x="54" y="1350"/>
                </a:lnTo>
                <a:lnTo>
                  <a:pt x="54" y="1391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030200" y="1989000"/>
            <a:ext cx="745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16080" y="1849320"/>
            <a:ext cx="1024200" cy="284400"/>
          </a:xfrm>
          <a:custGeom>
            <a:avLst/>
            <a:gdLst/>
            <a:ahLst/>
            <a:rect l="l" t="t" r="r" b="b"/>
            <a:pathLst>
              <a:path w="645" h="372">
                <a:moveTo>
                  <a:pt x="644" y="371"/>
                </a:moveTo>
                <a:lnTo>
                  <a:pt x="301" y="336"/>
                </a:lnTo>
                <a:lnTo>
                  <a:pt x="245" y="336"/>
                </a:lnTo>
                <a:lnTo>
                  <a:pt x="188" y="322"/>
                </a:lnTo>
                <a:lnTo>
                  <a:pt x="131" y="293"/>
                </a:lnTo>
                <a:lnTo>
                  <a:pt x="112" y="249"/>
                </a:lnTo>
                <a:lnTo>
                  <a:pt x="94" y="205"/>
                </a:lnTo>
                <a:lnTo>
                  <a:pt x="37" y="175"/>
                </a:lnTo>
                <a:lnTo>
                  <a:pt x="0" y="117"/>
                </a:lnTo>
                <a:lnTo>
                  <a:pt x="18" y="44"/>
                </a:lnTo>
                <a:lnTo>
                  <a:pt x="5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040" y="1036800"/>
            <a:ext cx="108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07200" y="1320840"/>
            <a:ext cx="101520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04080" y="2300400"/>
            <a:ext cx="91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8920" y="1598760"/>
            <a:ext cx="131760" cy="1863720"/>
          </a:xfrm>
          <a:custGeom>
            <a:avLst/>
            <a:gdLst/>
            <a:ahLst/>
            <a:rect l="l" t="t" r="r" b="b"/>
            <a:pathLst>
              <a:path w="83" h="1174">
                <a:moveTo>
                  <a:pt x="55" y="0"/>
                </a:moveTo>
                <a:lnTo>
                  <a:pt x="55" y="41"/>
                </a:lnTo>
                <a:lnTo>
                  <a:pt x="55" y="82"/>
                </a:lnTo>
                <a:lnTo>
                  <a:pt x="55" y="123"/>
                </a:lnTo>
                <a:lnTo>
                  <a:pt x="82" y="164"/>
                </a:lnTo>
                <a:lnTo>
                  <a:pt x="82" y="218"/>
                </a:lnTo>
                <a:lnTo>
                  <a:pt x="55" y="259"/>
                </a:lnTo>
                <a:lnTo>
                  <a:pt x="55" y="300"/>
                </a:lnTo>
                <a:lnTo>
                  <a:pt x="55" y="341"/>
                </a:lnTo>
                <a:lnTo>
                  <a:pt x="55" y="382"/>
                </a:lnTo>
                <a:lnTo>
                  <a:pt x="55" y="423"/>
                </a:lnTo>
                <a:lnTo>
                  <a:pt x="55" y="464"/>
                </a:lnTo>
                <a:lnTo>
                  <a:pt x="55" y="518"/>
                </a:lnTo>
                <a:lnTo>
                  <a:pt x="55" y="559"/>
                </a:lnTo>
                <a:lnTo>
                  <a:pt x="55" y="600"/>
                </a:lnTo>
                <a:lnTo>
                  <a:pt x="82" y="641"/>
                </a:lnTo>
                <a:lnTo>
                  <a:pt x="82" y="682"/>
                </a:lnTo>
                <a:lnTo>
                  <a:pt x="82" y="723"/>
                </a:lnTo>
                <a:lnTo>
                  <a:pt x="82" y="764"/>
                </a:lnTo>
                <a:lnTo>
                  <a:pt x="82" y="818"/>
                </a:lnTo>
                <a:lnTo>
                  <a:pt x="41" y="832"/>
                </a:lnTo>
                <a:lnTo>
                  <a:pt x="27" y="873"/>
                </a:lnTo>
                <a:lnTo>
                  <a:pt x="27" y="914"/>
                </a:lnTo>
                <a:lnTo>
                  <a:pt x="27" y="968"/>
                </a:lnTo>
                <a:lnTo>
                  <a:pt x="27" y="1009"/>
                </a:lnTo>
                <a:lnTo>
                  <a:pt x="27" y="1050"/>
                </a:lnTo>
                <a:lnTo>
                  <a:pt x="27" y="1091"/>
                </a:lnTo>
                <a:lnTo>
                  <a:pt x="0" y="1132"/>
                </a:lnTo>
                <a:lnTo>
                  <a:pt x="0" y="1173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73240" y="2465280"/>
            <a:ext cx="678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760" y="2971800"/>
            <a:ext cx="713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2057400"/>
            <a:ext cx="596880" cy="1919160"/>
          </a:xfrm>
          <a:custGeom>
            <a:avLst/>
            <a:gdLst/>
            <a:ahLst/>
            <a:rect l="l" t="t" r="r" b="b"/>
            <a:pathLst>
              <a:path w="300" h="997">
                <a:moveTo>
                  <a:pt x="0" y="0"/>
                </a:moveTo>
                <a:cubicBezTo>
                  <a:pt x="40" y="40"/>
                  <a:pt x="50" y="83"/>
                  <a:pt x="81" y="130"/>
                </a:cubicBezTo>
                <a:cubicBezTo>
                  <a:pt x="86" y="146"/>
                  <a:pt x="88" y="164"/>
                  <a:pt x="97" y="179"/>
                </a:cubicBezTo>
                <a:cubicBezTo>
                  <a:pt x="105" y="192"/>
                  <a:pt x="127" y="196"/>
                  <a:pt x="130" y="211"/>
                </a:cubicBezTo>
                <a:cubicBezTo>
                  <a:pt x="166" y="377"/>
                  <a:pt x="112" y="391"/>
                  <a:pt x="211" y="487"/>
                </a:cubicBezTo>
                <a:cubicBezTo>
                  <a:pt x="255" y="621"/>
                  <a:pt x="207" y="460"/>
                  <a:pt x="243" y="763"/>
                </a:cubicBezTo>
                <a:cubicBezTo>
                  <a:pt x="271" y="997"/>
                  <a:pt x="243" y="644"/>
                  <a:pt x="292" y="844"/>
                </a:cubicBezTo>
                <a:cubicBezTo>
                  <a:pt x="300" y="875"/>
                  <a:pt x="292" y="909"/>
                  <a:pt x="292" y="94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971800" y="297144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05880" y="2301840"/>
            <a:ext cx="910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352760" y="2616120"/>
            <a:ext cx="939960" cy="8636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65440" y="2790720"/>
            <a:ext cx="745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5600" y="2616120"/>
            <a:ext cx="939600" cy="8636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94600" y="2790720"/>
            <a:ext cx="678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3459240"/>
            <a:ext cx="1101960" cy="8636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3611520"/>
            <a:ext cx="838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143080" y="1681200"/>
            <a:ext cx="1168560" cy="863640"/>
            <a:chOff x="2143080" y="1681200"/>
            <a:chExt cx="1168560" cy="863640"/>
          </a:xfrm>
        </p:grpSpPr>
        <p:sp>
          <p:nvSpPr>
            <p:cNvPr id="75" name=""/>
            <p:cNvSpPr/>
            <p:nvPr/>
          </p:nvSpPr>
          <p:spPr>
            <a:xfrm>
              <a:off x="2143080" y="1681200"/>
              <a:ext cx="1168560" cy="863640"/>
            </a:xfrm>
            <a:prstGeom prst="rect">
              <a:avLst/>
            </a:prstGeom>
            <a:noFill/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79440" y="1779480"/>
              <a:ext cx="10850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M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362400" y="2158920"/>
            <a:ext cx="711000" cy="1752480"/>
            <a:chOff x="3362400" y="2158920"/>
            <a:chExt cx="711000" cy="1752480"/>
          </a:xfrm>
        </p:grpSpPr>
        <p:sp>
          <p:nvSpPr>
            <p:cNvPr id="78" name=""/>
            <p:cNvSpPr/>
            <p:nvPr/>
          </p:nvSpPr>
          <p:spPr>
            <a:xfrm>
              <a:off x="3362400" y="2158920"/>
              <a:ext cx="711000" cy="711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362400" y="3098520"/>
              <a:ext cx="7110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743200" y="254484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807320" y="2641680"/>
            <a:ext cx="1168560" cy="863640"/>
            <a:chOff x="7807320" y="2641680"/>
            <a:chExt cx="1168560" cy="863640"/>
          </a:xfrm>
        </p:grpSpPr>
        <p:sp>
          <p:nvSpPr>
            <p:cNvPr id="82" name=""/>
            <p:cNvSpPr/>
            <p:nvPr/>
          </p:nvSpPr>
          <p:spPr>
            <a:xfrm>
              <a:off x="7807320" y="2641680"/>
              <a:ext cx="1168560" cy="863640"/>
            </a:xfrm>
            <a:prstGeom prst="rect">
              <a:avLst/>
            </a:prstGeom>
            <a:noFill/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844040" y="2740320"/>
              <a:ext cx="1018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P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556160" y="3657600"/>
            <a:ext cx="609480" cy="2666880"/>
          </a:xfrm>
          <a:prstGeom prst="downArrow">
            <a:avLst>
              <a:gd name="adj1" fmla="val 50000"/>
              <a:gd name="adj2" fmla="val 109392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444640" y="3048120"/>
            <a:ext cx="2235600" cy="0"/>
            <a:chOff x="5444640" y="3048120"/>
            <a:chExt cx="2235600" cy="0"/>
          </a:xfrm>
        </p:grpSpPr>
        <p:sp>
          <p:nvSpPr>
            <p:cNvPr id="86" name=""/>
            <p:cNvSpPr/>
            <p:nvPr/>
          </p:nvSpPr>
          <p:spPr>
            <a:xfrm flipH="1">
              <a:off x="5444640" y="3048120"/>
              <a:ext cx="660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47080" y="30481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76320" y="1249200"/>
            <a:ext cx="838080" cy="464832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401840"/>
            <a:ext cx="417600" cy="43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-6308640" y="1784520"/>
            <a:ext cx="14750640" cy="3461040"/>
            <a:chOff x="-6308640" y="1784520"/>
            <a:chExt cx="14750640" cy="3461040"/>
          </a:xfrm>
        </p:grpSpPr>
        <p:sp>
          <p:nvSpPr>
            <p:cNvPr id="91" name=""/>
            <p:cNvSpPr/>
            <p:nvPr/>
          </p:nvSpPr>
          <p:spPr>
            <a:xfrm>
              <a:off x="-1310760" y="1784520"/>
              <a:ext cx="9600480" cy="115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911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911010"/>
                </a:path>
              </a:pathLst>
            </a:custGeom>
            <a:noFill/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-6308640" y="2124720"/>
              <a:ext cx="14750640" cy="3120840"/>
              <a:chOff x="-6308640" y="2124720"/>
              <a:chExt cx="14750640" cy="3120840"/>
            </a:xfrm>
          </p:grpSpPr>
          <p:sp>
            <p:nvSpPr>
              <p:cNvPr id="93" name=""/>
              <p:cNvSpPr/>
              <p:nvPr/>
            </p:nvSpPr>
            <p:spPr>
              <a:xfrm flipV="1">
                <a:off x="-6308640" y="2254320"/>
                <a:ext cx="14750640" cy="295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flipV="1" rot="21158400">
                <a:off x="1341720" y="2199600"/>
                <a:ext cx="1371960" cy="296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09" y="29"/>
                    </a:moveTo>
                    <a:arcTo wR="10800" hR="10800" stAng="-5652086" swAng="111212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09" y="29"/>
                    </a:moveTo>
                    <a:arcTo wR="10800" hR="10800" stAng="-5652086" swAng="11121272"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914400" y="2011320"/>
            <a:ext cx="1219320" cy="1828800"/>
            <a:chOff x="914400" y="2011320"/>
            <a:chExt cx="1219320" cy="1828800"/>
          </a:xfrm>
        </p:grpSpPr>
        <p:sp>
          <p:nvSpPr>
            <p:cNvPr id="96" name=""/>
            <p:cNvSpPr/>
            <p:nvPr/>
          </p:nvSpPr>
          <p:spPr>
            <a:xfrm>
              <a:off x="914400" y="2011320"/>
              <a:ext cx="106668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4400" y="3840120"/>
              <a:ext cx="121932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orimotor Pathw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Motor Cort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atotopic orga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ns have preferred direction of mov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or homunculus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1: Coding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vement for limb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n most ac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ferred direct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active at 45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rom preferre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is direction determin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ulations of M1 neur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activity of neurons with different preferred dire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ctors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1: Coding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409320" y="1958400"/>
            <a:ext cx="2950920" cy="2094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111320" y="2052720"/>
            <a:ext cx="2809800" cy="2931480"/>
            <a:chOff x="1111320" y="2052720"/>
            <a:chExt cx="2809800" cy="2931480"/>
          </a:xfrm>
        </p:grpSpPr>
        <p:sp>
          <p:nvSpPr>
            <p:cNvPr id="106" name=""/>
            <p:cNvSpPr/>
            <p:nvPr/>
          </p:nvSpPr>
          <p:spPr>
            <a:xfrm flipH="1" flipV="1">
              <a:off x="2773800" y="2362320"/>
              <a:ext cx="579240" cy="161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3353040" y="2705760"/>
              <a:ext cx="190440" cy="127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3353040" y="3135600"/>
              <a:ext cx="568080" cy="84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507760" y="3977640"/>
              <a:ext cx="844920" cy="100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082600" y="3977640"/>
              <a:ext cx="1270440" cy="89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56280" y="3900600"/>
              <a:ext cx="1681920" cy="26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1111320" y="3342960"/>
              <a:ext cx="1897200" cy="40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1808280" y="2061360"/>
              <a:ext cx="1200240" cy="168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1240200" y="2904480"/>
              <a:ext cx="1768320" cy="84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314440" y="2052720"/>
              <a:ext cx="809280" cy="177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096280" y="3943800"/>
              <a:ext cx="946080" cy="41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6672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MostM1 active for every mov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Activity of each neuron 1 “vot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direction determined by averaging all votes ~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1T19:47:02Z</dcterms:created>
  <dc:creator>Mike Baker</dc:creator>
  <dc:description/>
  <dc:language>en-US</dc:language>
  <cp:lastModifiedBy>Mike Baker</cp:lastModifiedBy>
  <dcterms:modified xsi:type="dcterms:W3CDTF">1999-04-12T13:45:24Z</dcterms:modified>
  <cp:revision>91</cp:revision>
  <dc:subject/>
  <dc:title>Convert</dc:title>
</cp:coreProperties>
</file>