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2D07-3645-427E-A052-46E9C8DD81D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9897-AD05-4C5B-ADF8-C2DB75C52A9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A99-DC18-44E0-9451-DB260FCB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785-E20B-4C5F-8710-27E50EC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250-2849-47A7-8D02-E774D94D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A64-B413-4A1D-B36A-B53E87B0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62A-9FFA-404E-84AF-5259032A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395-918D-44E6-AE02-939A407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B8F-D813-4EBE-B8FB-0151091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0FA-7B1A-4D4A-898A-C7AE9545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1CD-F603-45F8-B89D-08165CA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5DB-3B63-45ED-A4BF-7276875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A20-24D1-4D8A-90FD-EF7B4C0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DDD-93E3-4AE8-8146-014B38C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5D7-E897-4E5C-B7C8-5AC2923905A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110-3638-4BB4-9E96-A4AFE495F19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315-E7B2-462C-BD11-081F050BFA0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0395-940D-426F-A3F0-406E9D3D9D2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ne, two, three, we’re…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2819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Count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0A72-6F71-4731-B59C-112F5422493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A998-98E0-4DF0-85B2-20A5409F5D9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ends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ways to pick the first bit (0 or 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seventh bit (0)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2 can be done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64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DC8-2481-4243-8F11-1394827CC85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53A-5E5C-4B30-BAEB-2A9C603B5A5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ince there are 128 ways to do Task 1 and 64 ways to do Task 2, does this mean that there are 192 bit strings either starting with 1 or ending with 00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, because here Task 1 and Task 2 can be do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t the same t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we carry out Task 1 and create strings starting with 1, some of these strings end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sometimes do Tasks 1 and 2 at the same time, s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 does not app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DB4-C63F-4AB5-B0BC-643542938BE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523-781F-4B81-9791-4A5393C8EFE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use the sum rule in such a case, we have to subtract the cases when Tasks 1 and 2 are done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cases are there, that is, how many strings start with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for the second, …,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for the seventh,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2 cases, Tasks 1 and 2 are carried out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806-E601-4715-82A6-3F68289B6C9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F7B8-D030-4E9E-9A2C-5C69AB9868E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there are 128 ways to complete Task 1 and 64 ways to complete Task 2, and in 32 of these cases Tasks 1 and 2 are completed at the same time, there 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8 + 64 – 32 = 160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set theory, this corresponds to set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sjoint. Then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-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inclusion-exclu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326-C5A6-4E18-8B3E-68676668EB6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B8FE-E5F2-4BBD-B3AB-A5013E1D6A1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e Diagra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four do not have two consecutive 1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3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4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4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57200" y="4724280"/>
            <a:ext cx="152280" cy="15264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5"/>
          <p:cNvSpPr/>
          <p:nvPr/>
        </p:nvSpPr>
        <p:spPr>
          <a:xfrm flipV="1">
            <a:off x="609480" y="4190760"/>
            <a:ext cx="1143000" cy="5331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905120" y="3657600"/>
            <a:ext cx="1752480" cy="4572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3809880" y="335232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638680" y="3200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638680" y="3429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809880" y="365760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638680" y="396252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5120" y="4114800"/>
            <a:ext cx="1752480" cy="3808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809880" y="4495680"/>
            <a:ext cx="167652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5638680" y="4343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638680" y="4572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09480" y="4876920"/>
            <a:ext cx="1143000" cy="6094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05120" y="5562720"/>
            <a:ext cx="17524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3809880" y="525744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9"/>
          <p:cNvSpPr/>
          <p:nvPr/>
        </p:nvSpPr>
        <p:spPr>
          <a:xfrm flipV="1">
            <a:off x="5638680" y="510516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5638680" y="533412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809880" y="5562720"/>
            <a:ext cx="1676520" cy="3045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638680" y="586728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1676520" y="3581280"/>
            <a:ext cx="304560" cy="609840"/>
            <a:chOff x="1676520" y="3581280"/>
            <a:chExt cx="304560" cy="609840"/>
          </a:xfrm>
        </p:grpSpPr>
        <p:sp>
          <p:nvSpPr>
            <p:cNvPr id="124" name="Oval 24"/>
            <p:cNvSpPr/>
            <p:nvPr/>
          </p:nvSpPr>
          <p:spPr>
            <a:xfrm>
              <a:off x="1752480" y="40384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1676520" y="3581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3581280" y="3124080"/>
            <a:ext cx="304920" cy="609840"/>
            <a:chOff x="3581280" y="3124080"/>
            <a:chExt cx="304920" cy="609840"/>
          </a:xfrm>
        </p:grpSpPr>
        <p:sp>
          <p:nvSpPr>
            <p:cNvPr id="127" name="Oval 27"/>
            <p:cNvSpPr/>
            <p:nvPr/>
          </p:nvSpPr>
          <p:spPr>
            <a:xfrm>
              <a:off x="3657600" y="3581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358128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410080" y="2819520"/>
            <a:ext cx="304920" cy="609480"/>
            <a:chOff x="5410080" y="2819520"/>
            <a:chExt cx="304920" cy="609480"/>
          </a:xfrm>
        </p:grpSpPr>
        <p:sp>
          <p:nvSpPr>
            <p:cNvPr id="130" name="Oval 30"/>
            <p:cNvSpPr/>
            <p:nvPr/>
          </p:nvSpPr>
          <p:spPr>
            <a:xfrm>
              <a:off x="5486400" y="3276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54100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238880" y="2971800"/>
            <a:ext cx="457200" cy="398880"/>
            <a:chOff x="7238880" y="2971800"/>
            <a:chExt cx="457200" cy="398880"/>
          </a:xfrm>
        </p:grpSpPr>
        <p:sp>
          <p:nvSpPr>
            <p:cNvPr id="133" name="Oval 33"/>
            <p:cNvSpPr/>
            <p:nvPr/>
          </p:nvSpPr>
          <p:spPr>
            <a:xfrm>
              <a:off x="7238880" y="3124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7391520" y="2971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238880" y="3352680"/>
            <a:ext cx="457200" cy="398880"/>
            <a:chOff x="7238880" y="3352680"/>
            <a:chExt cx="457200" cy="398880"/>
          </a:xfrm>
        </p:grpSpPr>
        <p:sp>
          <p:nvSpPr>
            <p:cNvPr id="136" name="Oval 36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7391520" y="3352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5410080" y="3505320"/>
            <a:ext cx="304920" cy="533160"/>
            <a:chOff x="5410080" y="3505320"/>
            <a:chExt cx="304920" cy="533160"/>
          </a:xfrm>
        </p:grpSpPr>
        <p:sp>
          <p:nvSpPr>
            <p:cNvPr id="139" name="Oval 39"/>
            <p:cNvSpPr/>
            <p:nvPr/>
          </p:nvSpPr>
          <p:spPr>
            <a:xfrm>
              <a:off x="5486400" y="3886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541008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238880" y="3733920"/>
            <a:ext cx="457200" cy="398880"/>
            <a:chOff x="7238880" y="3733920"/>
            <a:chExt cx="457200" cy="398880"/>
          </a:xfrm>
        </p:grpSpPr>
        <p:sp>
          <p:nvSpPr>
            <p:cNvPr id="142" name="Oval 42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73915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3581280" y="4038480"/>
            <a:ext cx="304920" cy="533520"/>
            <a:chOff x="3581280" y="4038480"/>
            <a:chExt cx="304920" cy="533520"/>
          </a:xfrm>
        </p:grpSpPr>
        <p:sp>
          <p:nvSpPr>
            <p:cNvPr id="145" name="Oval 45"/>
            <p:cNvSpPr/>
            <p:nvPr/>
          </p:nvSpPr>
          <p:spPr>
            <a:xfrm>
              <a:off x="36576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35812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5410080" y="4076640"/>
            <a:ext cx="304920" cy="495360"/>
            <a:chOff x="5410080" y="4076640"/>
            <a:chExt cx="304920" cy="495360"/>
          </a:xfrm>
        </p:grpSpPr>
        <p:sp>
          <p:nvSpPr>
            <p:cNvPr id="148" name="Oval 48"/>
            <p:cNvSpPr/>
            <p:nvPr/>
          </p:nvSpPr>
          <p:spPr>
            <a:xfrm>
              <a:off x="54864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5410080" y="40766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238880" y="4114800"/>
            <a:ext cx="457200" cy="398880"/>
            <a:chOff x="7238880" y="4114800"/>
            <a:chExt cx="457200" cy="398880"/>
          </a:xfrm>
        </p:grpSpPr>
        <p:sp>
          <p:nvSpPr>
            <p:cNvPr id="151" name="Oval 51"/>
            <p:cNvSpPr/>
            <p:nvPr/>
          </p:nvSpPr>
          <p:spPr>
            <a:xfrm>
              <a:off x="7238880" y="4267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7391520" y="4114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238880" y="4495680"/>
            <a:ext cx="457200" cy="398880"/>
            <a:chOff x="7238880" y="4495680"/>
            <a:chExt cx="457200" cy="398880"/>
          </a:xfrm>
        </p:grpSpPr>
        <p:sp>
          <p:nvSpPr>
            <p:cNvPr id="154" name="Oval 54"/>
            <p:cNvSpPr/>
            <p:nvPr/>
          </p:nvSpPr>
          <p:spPr>
            <a:xfrm>
              <a:off x="72388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7391520" y="4495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1676520" y="5029200"/>
            <a:ext cx="304560" cy="609480"/>
            <a:chOff x="1676520" y="5029200"/>
            <a:chExt cx="304560" cy="609480"/>
          </a:xfrm>
        </p:grpSpPr>
        <p:sp>
          <p:nvSpPr>
            <p:cNvPr id="157" name="Oval 57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1676520" y="5029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3581280" y="5105520"/>
            <a:ext cx="304920" cy="533160"/>
            <a:chOff x="3581280" y="5105520"/>
            <a:chExt cx="304920" cy="533160"/>
          </a:xfrm>
        </p:grpSpPr>
        <p:sp>
          <p:nvSpPr>
            <p:cNvPr id="160" name="Oval 60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3581280" y="5105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" name="Group 62"/>
          <p:cNvGrpSpPr/>
          <p:nvPr/>
        </p:nvGrpSpPr>
        <p:grpSpPr>
          <a:xfrm>
            <a:off x="5410080" y="4800600"/>
            <a:ext cx="304920" cy="533520"/>
            <a:chOff x="5410080" y="4800600"/>
            <a:chExt cx="304920" cy="533520"/>
          </a:xfrm>
        </p:grpSpPr>
        <p:sp>
          <p:nvSpPr>
            <p:cNvPr id="163" name="Oval 63"/>
            <p:cNvSpPr/>
            <p:nvPr/>
          </p:nvSpPr>
          <p:spPr>
            <a:xfrm>
              <a:off x="5486400" y="51814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64"/>
            <p:cNvSpPr/>
            <p:nvPr/>
          </p:nvSpPr>
          <p:spPr>
            <a:xfrm>
              <a:off x="541008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65"/>
          <p:cNvGrpSpPr/>
          <p:nvPr/>
        </p:nvGrpSpPr>
        <p:grpSpPr>
          <a:xfrm>
            <a:off x="7238880" y="4876920"/>
            <a:ext cx="457200" cy="398880"/>
            <a:chOff x="7238880" y="4876920"/>
            <a:chExt cx="457200" cy="398880"/>
          </a:xfrm>
        </p:grpSpPr>
        <p:sp>
          <p:nvSpPr>
            <p:cNvPr id="166" name="Oval 66"/>
            <p:cNvSpPr/>
            <p:nvPr/>
          </p:nvSpPr>
          <p:spPr>
            <a:xfrm>
              <a:off x="7238880" y="5029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Text Box 67"/>
            <p:cNvSpPr/>
            <p:nvPr/>
          </p:nvSpPr>
          <p:spPr>
            <a:xfrm>
              <a:off x="7391520" y="4876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7238880" y="5257800"/>
            <a:ext cx="457200" cy="398880"/>
            <a:chOff x="7238880" y="5257800"/>
            <a:chExt cx="457200" cy="398880"/>
          </a:xfrm>
        </p:grpSpPr>
        <p:sp>
          <p:nvSpPr>
            <p:cNvPr id="169" name="Oval 69"/>
            <p:cNvSpPr/>
            <p:nvPr/>
          </p:nvSpPr>
          <p:spPr>
            <a:xfrm>
              <a:off x="7238880" y="5410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Text Box 70"/>
            <p:cNvSpPr/>
            <p:nvPr/>
          </p:nvSpPr>
          <p:spPr>
            <a:xfrm>
              <a:off x="7391520" y="5257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71"/>
          <p:cNvGrpSpPr/>
          <p:nvPr/>
        </p:nvGrpSpPr>
        <p:grpSpPr>
          <a:xfrm>
            <a:off x="5410080" y="5410080"/>
            <a:ext cx="304920" cy="533520"/>
            <a:chOff x="5410080" y="5410080"/>
            <a:chExt cx="304920" cy="533520"/>
          </a:xfrm>
        </p:grpSpPr>
        <p:sp>
          <p:nvSpPr>
            <p:cNvPr id="172" name="Oval 72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Text Box 73"/>
            <p:cNvSpPr/>
            <p:nvPr/>
          </p:nvSpPr>
          <p:spPr>
            <a:xfrm>
              <a:off x="5410080" y="5410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4" name="Group 74"/>
          <p:cNvGrpSpPr/>
          <p:nvPr/>
        </p:nvGrpSpPr>
        <p:grpSpPr>
          <a:xfrm>
            <a:off x="7238880" y="5638680"/>
            <a:ext cx="457200" cy="398880"/>
            <a:chOff x="7238880" y="5638680"/>
            <a:chExt cx="457200" cy="398880"/>
          </a:xfrm>
        </p:grpSpPr>
        <p:sp>
          <p:nvSpPr>
            <p:cNvPr id="175" name="Oval 75"/>
            <p:cNvSpPr/>
            <p:nvPr/>
          </p:nvSpPr>
          <p:spPr>
            <a:xfrm>
              <a:off x="7238880" y="5791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76"/>
            <p:cNvSpPr/>
            <p:nvPr/>
          </p:nvSpPr>
          <p:spPr>
            <a:xfrm>
              <a:off x="7391520" y="5638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7" name="Text Box 77"/>
          <p:cNvSpPr/>
          <p:nvPr/>
        </p:nvSpPr>
        <p:spPr>
          <a:xfrm>
            <a:off x="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8 string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09C7-12E1-47A4-83FF-B6FF892A172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E688-45A8-4D96-96E8-2C2B7A0DA9B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(k + 1) or more objects are placed into k boxes, then there is at least one box containing two or more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re are 11 players in a soccer team that wins 12-0, there must be at least one player in the team who scored at least twi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you have 6 classes from Monday to Friday, there must be at least one day on which you have at least two cla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017-FB1A-4CC5-B8D2-C4B1B389C86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7BDF-48B1-469F-ABFA-363203B57C2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generalized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N objects are placed into k boxes, then there is at least one box containing at least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/k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our 60-student class, at least 12 students will get the same letter grade (A, B, C, D, or 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5F0-8D28-4E92-9AEF-0B9045BE6BD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5162-CA94-44AE-9A0A-B39F9CCFAB3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you have a drawer containing a random distribution of a dozen brown socks and a dozen black socks. It is dark, so how many socks do you have to pick to be sure that among them there is a matching pai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types of socks, so if you pick at least 3 socks, there must be either at least two brown socks or at least two black soc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neralized pigeonhole principl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594-4F2C-4964-96A6-AA9A6C06C6F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CCD-4EDB-40BB-97E0-26A62089B01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6 choices for the first person, 5 for the second one, and 4 for the third one, so there ar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 = 120 ways to do th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his is not the correct result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picking person C, then person A, and then person E leads to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ame grou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first picking E, then C, and then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these cases are count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parat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above equ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5B6-D168-4CD7-B501-07073CAB85D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9E64-09CC-4E32-9EE2-EFF34CE188A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how can we compute how many different subsets of people can be picked (that is, we want to disregard the order of picking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find out about this, we need to look 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of distinct objects is an ordered arrangement of thes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ordered arrangement of r elements of a set is call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1141-8049-4F47-AF97-4898FCC77C3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BFA-06E1-4E9C-B9AF-2B6CC9A956D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unting proble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of the following kind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8-letter passwords are there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ossible ways are there to pick 11 soccer players out of a 20-player team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 importantly, counting is the basis for compu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babilities of discrete ev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“What is the probability of winning the lottery?”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5D9-D54E-41A6-BCEB-5670FA03224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62E-70FF-4BC2-A287-854454F1872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1, 2 is a 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2 is a 2-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permutations of a set with n distinct elements is denoted by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calculate P(n, r) with 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1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2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r +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n choices for the first element, (n – 1) for the second one, (n – 2) for the third one…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CEB5-B629-40F9-B925-3FE50B5DA44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C4F-752A-497C-96F4-D910C36083A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8, 3) = 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33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/(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!/(n – r)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ing this, we can return to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B2F1-B7B9-430A-ACAC-B91D67CB573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CCD-5038-403F-AA8C-8580A7E325C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combin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 of a set is an unordered selection of r elements from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us, an r-combination is simply a subset of the set with 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{1, 3, 4} is a 3-combination from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combinations of a set with n distinct elements is denoted by C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4, 2) = 6, since, for example, the 2-combinations of a set {1, 2, 3, 4} are {1, 2}, {1, 3}, {1, 4}, {2, 3}, {2, 4}, {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733D-FCCD-4EA8-87FD-DE5083C190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5917-791A-4C72-9B7C-2950E6F94B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can we calculate C(n, r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that we can obtain the r-permutation of a se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form all the r-combinations of the se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there are C(n, r) such r-combination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generate all possible orderings in each of these r-combinations (there are P(r, r) such orderings in each case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C(n, r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A01-846E-447D-A70F-52B7010A56C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4326-B80E-44F0-93EC-3F1D8706F7A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n, r) = P(n, r)/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n – r)!/(r!/(r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r!(n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we can answer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6, 3) = 6!/(3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!) = 720/(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) = 720/36 = 2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are 20 different ways, that is, 20 different groups to be pick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B11-D7DF-4CEF-9223-2300FAF5DE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8F03-A633-417D-BD7C-49E82E56266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r be nonnegative integers with 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, r) = C(n, n –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te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picking a group of r people from a group of n people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splitting a group of n people into a group of r people and another group of (n – r) people”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se also look at proof on page 25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7FDC-4E4B-4458-B9C8-39575C0C792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03E8-A5AB-4164-B49A-B354767E415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soccer club has 8 female and 7 male members. For today’s match, the coach wants to have 6 female and 5 male players on the grass. How many possible configuration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8, 6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7, 5) = 8!/(6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7!/(5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58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4AD-7EA0-41EE-9E7B-ACAD43821FE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4D82-4D40-44A4-906F-5FF5D19DA0B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so saw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28600" y="1295280"/>
                <a:ext cx="85806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5"/>
          <p:cNvSpPr/>
          <p:nvPr/>
        </p:nvSpPr>
        <p:spPr>
          <a:xfrm>
            <a:off x="152280" y="2438280"/>
            <a:ext cx="8763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ymmetry is intuitively plausible. For example, let us consider a set containing six elements (n = 6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essentially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ither case, our number of choices is the number of possibilities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vid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et into one set containing two elements and another set containing fou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DB01-56F2-468E-A4F5-3B6C1B7999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D717-2EDC-4698-9732-529B4519F5F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ascal’s Identit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k be positive integers with n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k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this be explaine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it good fo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3A17-8E99-45D6-B41D-6B8F4A9CFE7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9A4-2AF7-4A9C-A653-3EE56278295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a set S containing n elements and a set T containing (n + 1) elements, namely all elements in S plus a new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lculating C(n + 1, k) is equivalent to answering the question: How many subsets of T containing k item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(k – 1) elements of 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plus the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 – 1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k elements of S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does not contai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CA24-0E25-4674-B873-F629F21ADA3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2568-E3E8-4A96-8361-28A5C8DC394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task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and a second task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and if these two tasks cannot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epartment will award a free computer to either a CS student or a CS professor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choices are there, if there are 530 students and 15 professo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530 + 15 = 545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D48A-55E2-47D5-B301-5B2B77590E2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3C0-4273-45E7-9390-5EABDB3BF32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Pascal’s triangle, each number is the sum of the numbers to its upper left and upper righ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1911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98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5720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19112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9528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8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8098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572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334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66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429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19112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4952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715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209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895480" y="54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37339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495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33412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095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42E1-4AE5-481B-B25A-C41E5BB4339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DFC-9A1D-43B2-A649-A5428D77EE4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we have C(n + 1, k) = C(n, k – 1) + C(n, k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0, 0) = 1, we can use Pascal’s triangle to simplify the computation of C(n, k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09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0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9718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48320" y="3809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1337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4864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2952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7180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876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3244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1337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809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4864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1629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4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304920" y="2895480"/>
            <a:ext cx="0" cy="28958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304920" y="2895480"/>
            <a:ext cx="82296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343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4B8A-17A8-4321-89AA-C928152AE27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F82-1B05-4821-A581-932C22666B6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pressions of the form C(n, k)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coeffici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om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expres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um of two terms, such as 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conside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expanding such expressions, we have to form all possible products of a term in the first factor and a term in the second factor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·a + a·b + b·a + b·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we can sum identical term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196-2268-4941-A2EC-58A459EBEFB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592-A6F4-468E-89B3-F96E17FA10B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(a + b) we hav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aa + aab + aba + abb + baa + bab + bba + bbb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3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3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ly on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there is only one possibility to form it: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all three factors: C(3, 3) =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three times th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because there are three possibilities to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two out of the three factors: C(3, 2) =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ilarly, there is three times the term 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C(3, 1) = 3) and once the ter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C(3, 0) =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2A1-EC76-4878-9B52-6B90E5E105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6AA-AE7F-4AC3-87DA-56AD33F8DF5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us to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457200" y="1600200"/>
                <a:ext cx="40719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5"/>
          <p:cNvSpPr/>
          <p:nvPr/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e help of Pascal’s triangle, this formula can considerably simplify the process of expanding powers of binomial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fifth row of Pascal’s triang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1 – 4 – 6 – 4 – 1) helps us to compute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6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76920" y="1752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inomial Theore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288-30D8-48D5-9E80-F7827DAF42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0D29-BD19-4143-A72D-C8C4A145BF3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and no two of these tasks can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one of these tas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D55C-E410-44AB-805D-5DF30475EF8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AC9-C1DC-4C5A-8CC2-1534F9E88A8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ose that a procedure can be broken down into two successive tasks. If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first task and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second task after the first task has been don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F7B-DA67-4470-9FEE-F09A9516A2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2911-8D99-435C-9C46-3F7DC8647BA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license plates are there that containing exactly three English letters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6 possibilities to pick the first letter, then 26 possibilities for the second one, and 26 for the last on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re are 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 = 17576 different license plat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BEF-F942-4914-96FD-EA93CE1350F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FC1-6894-4119-A4BD-332B631D877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cedure consisting of sequential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carry out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1F76-3398-4930-BE59-28A545A86A3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31D-7272-411F-8FC1-87CE7F46B30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um and product rules can also be phrased in terms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disjoint sets. Then the number of ways to choose any element from one of these sets is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…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inite sets. Then the number of ways to choose one element from each set in the order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38E9-C011-4EEA-9EFE-BF94212A7F6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EC1-A3CB-45AD-8587-A88BCEDCD8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8 either start with a 1 or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starts with a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thir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eighth bit (0 or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1 can be done in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28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1:30Z</dcterms:modified>
  <cp:revision>115</cp:revision>
  <dc:subject/>
  <dc:title>PowerPoint Presentation</dc:title>
</cp:coreProperties>
</file>