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8573-ED94-40A8-ACCF-C930A43EF77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D74-10FC-46E8-B272-84430BB153D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7F-1BC3-472E-86A8-43F1DAB5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A19-7CF3-4073-8C4D-51396B84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30F-170E-4AEC-B030-98D23F2E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D59-B73C-4D44-A059-4FF556C0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7E4-609C-4F45-99FE-ADC77EA9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484-E15F-4998-87D7-1C7FEF14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AA4-68BF-4F1F-8F57-CC730639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DAA-2AB5-4902-9492-BDD89294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A0B-D238-486C-AFA6-280C49A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378-2ABE-4945-99EE-607FF65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F8E-1DD5-4FA0-9180-0D22641E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8DF-42C6-4506-8AE8-A3825047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957A-F49A-4C6E-9072-B4713DB623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5E8-E555-4F8B-B5AF-644C02D0F37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34E2-4028-4D4A-9C0B-7A852DFCC63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3341-3BD3-40D7-950B-5AE7B6A7BA1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One, two, three, we’re…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2819520"/>
            <a:ext cx="46483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ffff"/>
                </a:solidFill>
                <a:latin typeface="Comic Sans MS"/>
              </a:rPr>
              <a:t>Count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9FED-39AB-4158-BB0D-A63C2C7EAE3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54D7-8C99-45EC-8CAD-88400487633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ends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ways to pick the first bit (0 or 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seventh bit (0)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to pick the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2 can be done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64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550D-BB71-4A7D-B0D3-70A75BF8B21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35C-293B-40B0-B5DB-9EA98199BD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ince there are 128 ways to do Task 1 and 64 ways to do Task 2, does this mean that there are 192 bit strings either starting with 1 or ending with 00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, because here Task 1 and Task 2 can be don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t the same t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we carry out Task 1 and create strings starting with 1, some of these strings end with 0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sometimes do Tasks 1 and 2 at the same time, s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 does not app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5B4C-07E4-471F-BCA6-D4D77379FDF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08EF-885D-4850-8086-181D35832D5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want to use the sum rule in such a case, we have to subtract the cases when Tasks 1 and 2 are done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cases are there, that is, how many strings start with 1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for the second, …, sixth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way for the seventh, eighth bit (0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32 cases, Tasks 1 and 2 are carried out at the same ti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195C-FFC5-42A4-86E6-45703BFF71B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B0B3-2B38-4B5B-A209-E2F7F4502B5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there are 128 ways to complete Task 1 and 64 ways to complete Task 2, and in 32 of these cases Tasks 1 and 2 are completed at the same time, there 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28 + 64 – 32 = 160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set theory, this corresponds to sets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sjoint. Then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-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inclusion-exclu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4F8E-C586-4E2B-A83D-33E8F88C17C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841C-3B03-406D-9BAE-FBFDFE1F223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ree Diagram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four do not have two consecutive 1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1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2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3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ask 4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1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3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rd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4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bi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457200" y="4724280"/>
            <a:ext cx="152280" cy="152640"/>
          </a:xfrm>
          <a:prstGeom prst="ellipse">
            <a:avLst/>
          </a:prstGeom>
          <a:solidFill>
            <a:srgbClr val="ff33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Line 5"/>
          <p:cNvSpPr/>
          <p:nvPr/>
        </p:nvSpPr>
        <p:spPr>
          <a:xfrm flipV="1">
            <a:off x="609480" y="4190760"/>
            <a:ext cx="1143000" cy="5331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905120" y="3657600"/>
            <a:ext cx="1752480" cy="45720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3809880" y="335232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638680" y="3200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638680" y="3429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3809880" y="365760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5638680" y="396252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1905120" y="4114800"/>
            <a:ext cx="1752480" cy="3808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809880" y="4495680"/>
            <a:ext cx="167652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5638680" y="434304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638680" y="457200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09480" y="4876920"/>
            <a:ext cx="1143000" cy="6094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1905120" y="5562720"/>
            <a:ext cx="175248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3809880" y="5257440"/>
            <a:ext cx="1676520" cy="30492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Line 19"/>
          <p:cNvSpPr/>
          <p:nvPr/>
        </p:nvSpPr>
        <p:spPr>
          <a:xfrm flipV="1">
            <a:off x="5638680" y="510516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5638680" y="5334120"/>
            <a:ext cx="1600200" cy="15228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809880" y="5562720"/>
            <a:ext cx="1676520" cy="30456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Line 22"/>
          <p:cNvSpPr/>
          <p:nvPr/>
        </p:nvSpPr>
        <p:spPr>
          <a:xfrm>
            <a:off x="5638680" y="5867280"/>
            <a:ext cx="1600200" cy="0"/>
          </a:xfrm>
          <a:prstGeom prst="line">
            <a:avLst/>
          </a:prstGeom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3" name="Group 23"/>
          <p:cNvGrpSpPr/>
          <p:nvPr/>
        </p:nvGrpSpPr>
        <p:grpSpPr>
          <a:xfrm>
            <a:off x="1676520" y="3581280"/>
            <a:ext cx="304560" cy="609840"/>
            <a:chOff x="1676520" y="3581280"/>
            <a:chExt cx="304560" cy="609840"/>
          </a:xfrm>
        </p:grpSpPr>
        <p:sp>
          <p:nvSpPr>
            <p:cNvPr id="124" name="Oval 24"/>
            <p:cNvSpPr/>
            <p:nvPr/>
          </p:nvSpPr>
          <p:spPr>
            <a:xfrm>
              <a:off x="1752480" y="40384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1676520" y="35812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6" name="Group 26"/>
          <p:cNvGrpSpPr/>
          <p:nvPr/>
        </p:nvGrpSpPr>
        <p:grpSpPr>
          <a:xfrm>
            <a:off x="3581280" y="3124080"/>
            <a:ext cx="304920" cy="609840"/>
            <a:chOff x="3581280" y="3124080"/>
            <a:chExt cx="304920" cy="609840"/>
          </a:xfrm>
        </p:grpSpPr>
        <p:sp>
          <p:nvSpPr>
            <p:cNvPr id="127" name="Oval 27"/>
            <p:cNvSpPr/>
            <p:nvPr/>
          </p:nvSpPr>
          <p:spPr>
            <a:xfrm>
              <a:off x="3657600" y="35812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3581280" y="3124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9" name="Group 29"/>
          <p:cNvGrpSpPr/>
          <p:nvPr/>
        </p:nvGrpSpPr>
        <p:grpSpPr>
          <a:xfrm>
            <a:off x="5410080" y="2819520"/>
            <a:ext cx="304920" cy="609480"/>
            <a:chOff x="5410080" y="2819520"/>
            <a:chExt cx="304920" cy="609480"/>
          </a:xfrm>
        </p:grpSpPr>
        <p:sp>
          <p:nvSpPr>
            <p:cNvPr id="130" name="Oval 30"/>
            <p:cNvSpPr/>
            <p:nvPr/>
          </p:nvSpPr>
          <p:spPr>
            <a:xfrm>
              <a:off x="5486400" y="3276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Text Box 31"/>
            <p:cNvSpPr/>
            <p:nvPr/>
          </p:nvSpPr>
          <p:spPr>
            <a:xfrm>
              <a:off x="5410080" y="2819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2" name="Group 32"/>
          <p:cNvGrpSpPr/>
          <p:nvPr/>
        </p:nvGrpSpPr>
        <p:grpSpPr>
          <a:xfrm>
            <a:off x="7238880" y="2971800"/>
            <a:ext cx="457200" cy="398880"/>
            <a:chOff x="7238880" y="2971800"/>
            <a:chExt cx="457200" cy="398880"/>
          </a:xfrm>
        </p:grpSpPr>
        <p:sp>
          <p:nvSpPr>
            <p:cNvPr id="133" name="Oval 33"/>
            <p:cNvSpPr/>
            <p:nvPr/>
          </p:nvSpPr>
          <p:spPr>
            <a:xfrm>
              <a:off x="7238880" y="3124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7391520" y="2971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5" name="Group 35"/>
          <p:cNvGrpSpPr/>
          <p:nvPr/>
        </p:nvGrpSpPr>
        <p:grpSpPr>
          <a:xfrm>
            <a:off x="7238880" y="3352680"/>
            <a:ext cx="457200" cy="398880"/>
            <a:chOff x="7238880" y="3352680"/>
            <a:chExt cx="457200" cy="398880"/>
          </a:xfrm>
        </p:grpSpPr>
        <p:sp>
          <p:nvSpPr>
            <p:cNvPr id="136" name="Oval 36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>
              <a:off x="7391520" y="3352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8" name="Group 38"/>
          <p:cNvGrpSpPr/>
          <p:nvPr/>
        </p:nvGrpSpPr>
        <p:grpSpPr>
          <a:xfrm>
            <a:off x="5410080" y="3505320"/>
            <a:ext cx="304920" cy="533160"/>
            <a:chOff x="5410080" y="3505320"/>
            <a:chExt cx="304920" cy="533160"/>
          </a:xfrm>
        </p:grpSpPr>
        <p:sp>
          <p:nvSpPr>
            <p:cNvPr id="139" name="Oval 39"/>
            <p:cNvSpPr/>
            <p:nvPr/>
          </p:nvSpPr>
          <p:spPr>
            <a:xfrm>
              <a:off x="5486400" y="3886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Text Box 40"/>
            <p:cNvSpPr/>
            <p:nvPr/>
          </p:nvSpPr>
          <p:spPr>
            <a:xfrm>
              <a:off x="5410080" y="35053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1" name="Group 41"/>
          <p:cNvGrpSpPr/>
          <p:nvPr/>
        </p:nvGrpSpPr>
        <p:grpSpPr>
          <a:xfrm>
            <a:off x="7238880" y="3733920"/>
            <a:ext cx="457200" cy="398880"/>
            <a:chOff x="7238880" y="3733920"/>
            <a:chExt cx="457200" cy="398880"/>
          </a:xfrm>
        </p:grpSpPr>
        <p:sp>
          <p:nvSpPr>
            <p:cNvPr id="142" name="Oval 42"/>
            <p:cNvSpPr/>
            <p:nvPr/>
          </p:nvSpPr>
          <p:spPr>
            <a:xfrm>
              <a:off x="7238880" y="3886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3" name="Text Box 43"/>
            <p:cNvSpPr/>
            <p:nvPr/>
          </p:nvSpPr>
          <p:spPr>
            <a:xfrm>
              <a:off x="7391520" y="3733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3581280" y="4038480"/>
            <a:ext cx="304920" cy="533520"/>
            <a:chOff x="3581280" y="4038480"/>
            <a:chExt cx="304920" cy="533520"/>
          </a:xfrm>
        </p:grpSpPr>
        <p:sp>
          <p:nvSpPr>
            <p:cNvPr id="145" name="Oval 45"/>
            <p:cNvSpPr/>
            <p:nvPr/>
          </p:nvSpPr>
          <p:spPr>
            <a:xfrm>
              <a:off x="36576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Text Box 46"/>
            <p:cNvSpPr/>
            <p:nvPr/>
          </p:nvSpPr>
          <p:spPr>
            <a:xfrm>
              <a:off x="3581280" y="40384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47"/>
          <p:cNvGrpSpPr/>
          <p:nvPr/>
        </p:nvGrpSpPr>
        <p:grpSpPr>
          <a:xfrm>
            <a:off x="5410080" y="4076640"/>
            <a:ext cx="304920" cy="495360"/>
            <a:chOff x="5410080" y="4076640"/>
            <a:chExt cx="304920" cy="495360"/>
          </a:xfrm>
        </p:grpSpPr>
        <p:sp>
          <p:nvSpPr>
            <p:cNvPr id="148" name="Oval 48"/>
            <p:cNvSpPr/>
            <p:nvPr/>
          </p:nvSpPr>
          <p:spPr>
            <a:xfrm>
              <a:off x="5486400" y="44197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Text Box 49"/>
            <p:cNvSpPr/>
            <p:nvPr/>
          </p:nvSpPr>
          <p:spPr>
            <a:xfrm>
              <a:off x="5410080" y="407664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0"/>
          <p:cNvGrpSpPr/>
          <p:nvPr/>
        </p:nvGrpSpPr>
        <p:grpSpPr>
          <a:xfrm>
            <a:off x="7238880" y="4114800"/>
            <a:ext cx="457200" cy="398880"/>
            <a:chOff x="7238880" y="4114800"/>
            <a:chExt cx="457200" cy="398880"/>
          </a:xfrm>
        </p:grpSpPr>
        <p:sp>
          <p:nvSpPr>
            <p:cNvPr id="151" name="Oval 51"/>
            <p:cNvSpPr/>
            <p:nvPr/>
          </p:nvSpPr>
          <p:spPr>
            <a:xfrm>
              <a:off x="7238880" y="4267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Text Box 52"/>
            <p:cNvSpPr/>
            <p:nvPr/>
          </p:nvSpPr>
          <p:spPr>
            <a:xfrm>
              <a:off x="7391520" y="4114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3" name="Group 53"/>
          <p:cNvGrpSpPr/>
          <p:nvPr/>
        </p:nvGrpSpPr>
        <p:grpSpPr>
          <a:xfrm>
            <a:off x="7238880" y="4495680"/>
            <a:ext cx="457200" cy="398880"/>
            <a:chOff x="7238880" y="4495680"/>
            <a:chExt cx="457200" cy="398880"/>
          </a:xfrm>
        </p:grpSpPr>
        <p:sp>
          <p:nvSpPr>
            <p:cNvPr id="154" name="Oval 54"/>
            <p:cNvSpPr/>
            <p:nvPr/>
          </p:nvSpPr>
          <p:spPr>
            <a:xfrm>
              <a:off x="7238880" y="4648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Text Box 55"/>
            <p:cNvSpPr/>
            <p:nvPr/>
          </p:nvSpPr>
          <p:spPr>
            <a:xfrm>
              <a:off x="7391520" y="4495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6" name="Group 56"/>
          <p:cNvGrpSpPr/>
          <p:nvPr/>
        </p:nvGrpSpPr>
        <p:grpSpPr>
          <a:xfrm>
            <a:off x="1676520" y="5029200"/>
            <a:ext cx="304560" cy="609480"/>
            <a:chOff x="1676520" y="5029200"/>
            <a:chExt cx="304560" cy="609480"/>
          </a:xfrm>
        </p:grpSpPr>
        <p:sp>
          <p:nvSpPr>
            <p:cNvPr id="157" name="Oval 57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Text Box 58"/>
            <p:cNvSpPr/>
            <p:nvPr/>
          </p:nvSpPr>
          <p:spPr>
            <a:xfrm>
              <a:off x="1676520" y="50292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9" name="Group 59"/>
          <p:cNvGrpSpPr/>
          <p:nvPr/>
        </p:nvGrpSpPr>
        <p:grpSpPr>
          <a:xfrm>
            <a:off x="3581280" y="5105520"/>
            <a:ext cx="304920" cy="533160"/>
            <a:chOff x="3581280" y="5105520"/>
            <a:chExt cx="304920" cy="533160"/>
          </a:xfrm>
        </p:grpSpPr>
        <p:sp>
          <p:nvSpPr>
            <p:cNvPr id="160" name="Oval 60"/>
            <p:cNvSpPr/>
            <p:nvPr/>
          </p:nvSpPr>
          <p:spPr>
            <a:xfrm>
              <a:off x="3657600" y="54864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Text Box 61"/>
            <p:cNvSpPr/>
            <p:nvPr/>
          </p:nvSpPr>
          <p:spPr>
            <a:xfrm>
              <a:off x="3581280" y="510552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2" name="Group 62"/>
          <p:cNvGrpSpPr/>
          <p:nvPr/>
        </p:nvGrpSpPr>
        <p:grpSpPr>
          <a:xfrm>
            <a:off x="5410080" y="4800600"/>
            <a:ext cx="304920" cy="533520"/>
            <a:chOff x="5410080" y="4800600"/>
            <a:chExt cx="304920" cy="533520"/>
          </a:xfrm>
        </p:grpSpPr>
        <p:sp>
          <p:nvSpPr>
            <p:cNvPr id="163" name="Oval 63"/>
            <p:cNvSpPr/>
            <p:nvPr/>
          </p:nvSpPr>
          <p:spPr>
            <a:xfrm>
              <a:off x="5486400" y="5181480"/>
              <a:ext cx="15228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Text Box 64"/>
            <p:cNvSpPr/>
            <p:nvPr/>
          </p:nvSpPr>
          <p:spPr>
            <a:xfrm>
              <a:off x="5410080" y="48006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65"/>
          <p:cNvGrpSpPr/>
          <p:nvPr/>
        </p:nvGrpSpPr>
        <p:grpSpPr>
          <a:xfrm>
            <a:off x="7238880" y="4876920"/>
            <a:ext cx="457200" cy="398880"/>
            <a:chOff x="7238880" y="4876920"/>
            <a:chExt cx="457200" cy="398880"/>
          </a:xfrm>
        </p:grpSpPr>
        <p:sp>
          <p:nvSpPr>
            <p:cNvPr id="166" name="Oval 66"/>
            <p:cNvSpPr/>
            <p:nvPr/>
          </p:nvSpPr>
          <p:spPr>
            <a:xfrm>
              <a:off x="7238880" y="502920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Text Box 67"/>
            <p:cNvSpPr/>
            <p:nvPr/>
          </p:nvSpPr>
          <p:spPr>
            <a:xfrm>
              <a:off x="7391520" y="487692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7238880" y="5257800"/>
            <a:ext cx="457200" cy="398880"/>
            <a:chOff x="7238880" y="5257800"/>
            <a:chExt cx="457200" cy="398880"/>
          </a:xfrm>
        </p:grpSpPr>
        <p:sp>
          <p:nvSpPr>
            <p:cNvPr id="169" name="Oval 69"/>
            <p:cNvSpPr/>
            <p:nvPr/>
          </p:nvSpPr>
          <p:spPr>
            <a:xfrm>
              <a:off x="7238880" y="5410080"/>
              <a:ext cx="152640" cy="15264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Text Box 70"/>
            <p:cNvSpPr/>
            <p:nvPr/>
          </p:nvSpPr>
          <p:spPr>
            <a:xfrm>
              <a:off x="7391520" y="525780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71"/>
          <p:cNvGrpSpPr/>
          <p:nvPr/>
        </p:nvGrpSpPr>
        <p:grpSpPr>
          <a:xfrm>
            <a:off x="5410080" y="5410080"/>
            <a:ext cx="304920" cy="533520"/>
            <a:chOff x="5410080" y="5410080"/>
            <a:chExt cx="304920" cy="533520"/>
          </a:xfrm>
        </p:grpSpPr>
        <p:sp>
          <p:nvSpPr>
            <p:cNvPr id="172" name="Oval 72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Text Box 73"/>
            <p:cNvSpPr/>
            <p:nvPr/>
          </p:nvSpPr>
          <p:spPr>
            <a:xfrm>
              <a:off x="5410080" y="541008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4" name="Group 74"/>
          <p:cNvGrpSpPr/>
          <p:nvPr/>
        </p:nvGrpSpPr>
        <p:grpSpPr>
          <a:xfrm>
            <a:off x="7238880" y="5638680"/>
            <a:ext cx="457200" cy="398880"/>
            <a:chOff x="7238880" y="5638680"/>
            <a:chExt cx="457200" cy="398880"/>
          </a:xfrm>
        </p:grpSpPr>
        <p:sp>
          <p:nvSpPr>
            <p:cNvPr id="175" name="Oval 75"/>
            <p:cNvSpPr/>
            <p:nvPr/>
          </p:nvSpPr>
          <p:spPr>
            <a:xfrm>
              <a:off x="7238880" y="5791320"/>
              <a:ext cx="152640" cy="152280"/>
            </a:xfrm>
            <a:prstGeom prst="ellipse">
              <a:avLst/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Text Box 76"/>
            <p:cNvSpPr/>
            <p:nvPr/>
          </p:nvSpPr>
          <p:spPr>
            <a:xfrm>
              <a:off x="7391520" y="563868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77" name="Text Box 77"/>
          <p:cNvSpPr/>
          <p:nvPr/>
        </p:nvSpPr>
        <p:spPr>
          <a:xfrm>
            <a:off x="0" y="5791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8 string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8B29-851A-4E74-B375-4056BD2DA6C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116E-7ED5-49FF-A6B6-69EB71F0102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(k + 1) or more objects are placed into k boxes, then there is at least one box containing two or more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there are 11 players in a soccer team that wins 12-0, there must be at least one player in the team who scored at least twic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you have 6 classes from Monday to Friday, there must be at least one day on which you have at least two class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DAC-24A0-4EAB-B14F-D5F2CD7155E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737F-3BC6-4733-8D8C-AD6C62AE643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generalized pigeonhole princi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N objects are placed into k boxes, then there is at least one box containing at least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/k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our 60-student class, at least 12 students will get the same letter grade (A, B, C, D, or 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7EF-6BB9-4CE8-A78A-6043F15F785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8A1D-40A0-48EA-BDCB-E9FD629EB7C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he Pigeonhole Princi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you have a drawer containing a random distribution of a dozen brown socks and a dozen black socks. It is dark, so how many socks do you have to pick to be sure that among them there is a matching pai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wo types of socks, so if you pick at least 3 socks, there must be either at least two brown socks or at least two black soc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neralized pigeonhole principle: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712-96EF-4F6F-B820-17726A0E689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B58-0BEC-4E7B-B8C9-7620B299B07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6 choices for the first person, 5 for the second one, and 4 for the third one, so there ar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 = 120 ways to do thi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This is not the correct result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picking person C, then person A, and then person E leads to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ame grou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 first picking E, then C, and then 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these cases are count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paratel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above equa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AE13-E973-4C84-B4D4-3DCA3AFBDBD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A3B7-5021-4FCB-B3FF-C6BBDDD9E41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how can we compute how many different subsets of people can be picked (that is, we want to disregard the order of picking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o find out about this, we need to look 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set of distinct objects is an ordered arrangement of these objec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ordered arrangement of r elements of a set is call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permut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F152-A16F-445B-B055-3131D7E25A4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F01D-20BE-47EC-8019-9655D38D6B7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unting proble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of the following kind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8-letter passwords are there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ow man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ossible ways are there to pick 11 soccer players out of a 20-player team?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ost importantly, counting is the basis for compu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babilities of discrete ev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“What is the probability of winning the lottery?”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776F-2E41-4B20-BD2F-B25CDFDBEBD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EA77-0BB2-45AE-8848-375C5FC22C7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1, 2 is a 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arrangement 3, 2 is a 2-permutation of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permutations of a set with n distinct elements is denoted by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calculate P(n, r) with 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1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2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n – r +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n choices for the first element, (n – 1) for the second one, (n – 2) for the third one…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C280-D11D-41A0-89E3-8C4193DB97A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8C0A-9700-4C9D-9269-47CF9D8E3B3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8, 3) = 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 = 33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/(5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n!/(n – r)!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nowing this, we can return to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F2BE-4ED0-4D4C-9DA5-0FEED414C7E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48C-090F-454F-A0A5-DD1D9A06DAD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-combin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elements of a set is an unordered selection of r elements from the se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us, an r-combination is simply a subset of the set with 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S = {1, 2, 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{1, 3, 4} is a 3-combination from 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umber of r-combinations of a set with n distinct elements is denoted by C(n,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4, 2) = 6, since, for example, the 2-combinations of a set {1, 2, 3, 4} are {1, 2}, {1, 3}, {1, 4}, {2, 3}, {2, 4}, {3, 4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9365-34F2-4016-B294-8E2F5C70EEE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006B-2A83-4111-A43A-FB57FD9F030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How can we calculate C(n, r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that we can obtain the r-permutation of a se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irst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form all the r-combinations of the se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there are C(n, r) such r-combination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n,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e generate all possible orderings in each of these r-combinations (there are P(r, r) such orderings in each case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we hav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n, r) = C(n, r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5906-084B-4F00-B588-BA2979E6E60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63E5-0E23-419C-AC90-2809C808DE4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n, r) = P(n, r)/P(r, 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n – r)!/(r!/(r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n!/(r!(n – r)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we can answer our initial ques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ways are there to pick a set of 3 people from a group of 6 (disregarding the order of picking)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6, 3) = 6!/(3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!) = 720/(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) = 720/36 = 2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are 20 different ways, that is, 20 different groups to be pick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3B33-49AC-4829-9AE3-8D94FDC12A8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A173-0DA3-4C31-8030-8BBBCB789E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r be nonnegative integers with 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, r) = C(n, n – 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te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picking a group of r people from a group of n people”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“splitting a group of n people into a group of r people and another group of (n – r) people”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lease also look at proof on page 25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12FF-5654-4A42-8BE1-890E49CB10D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E679-0B99-43E1-B876-424E1EEB4B0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ermutations and Combina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soccer club has 8 female and 7 male members. For today’s match, the coach wants to have 6 female and 5 male players on the grass. How many possible configuration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8, 6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7, 5) = 8!/(6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7!/(5!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!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8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1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588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8BD6-54D4-4638-A29A-028CF774393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AFBA-721D-4F9E-8570-FB5BF601346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lso saw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228600" y="1295280"/>
                <a:ext cx="858060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r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5"/>
          <p:cNvSpPr/>
          <p:nvPr/>
        </p:nvSpPr>
        <p:spPr>
          <a:xfrm>
            <a:off x="152280" y="2438280"/>
            <a:ext cx="8763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ymmetry is intuitively plausible. For example, let us consider a set containing six elements (n = 6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essentially the same a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icking fou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elements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ving tw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either case, our number of choices is the number of possibilities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vid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et into one set containing two elements and another set containing four ele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F084-9DDC-4A84-8731-DA26C933945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C0F-26C4-429F-A1DD-DE3A7C6E129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ascal’s Identity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n and k be positive integers with n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k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an this be explaine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it good for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68F1-E2DA-4B1E-A5D5-3AC29FA898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299-B38D-460F-8660-CEB8B6B3AFB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bin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agine a set S containing n elements and a set T containing (n + 1) elements, namely all elements in S plus a new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lculating C(n + 1, k) is equivalent to answering the question: How many subsets of T containing k items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(k – 1) elements of 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plus the elemen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 – 1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Case II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subset contains k elements of S and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      does not contai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 C(n, k)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(n + 1, k) = C(n, k – 1) + C(n, 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24AE-E42F-470C-802B-0DBD5A7007F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4314-C078-44AB-95C6-4EDDB3953CB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a task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and a second task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and if these two tasks cannot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either task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epartment will award a free computer to either a CS student or a CS professor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choices are there, if there are 530 students and 15 professo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530 + 15 = 545 choic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AFCC-5BD5-4C82-A11D-BB7991ACB7A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6C69-AB7F-4AC9-8D4A-FC03F28780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n Pascal’s triangle, each number is the sum of the numbers to its upper left and upper righ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4191120" y="21337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9880" y="28195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572000" y="28195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42900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4191120" y="3505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49528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8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809880" y="4191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457200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334120" y="4191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666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3429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419112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7" name="Text Box 17"/>
          <p:cNvSpPr/>
          <p:nvPr/>
        </p:nvSpPr>
        <p:spPr>
          <a:xfrm>
            <a:off x="4952880" y="48769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5715000" y="4876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2209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895480" y="54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Text Box 21"/>
          <p:cNvSpPr/>
          <p:nvPr/>
        </p:nvSpPr>
        <p:spPr>
          <a:xfrm>
            <a:off x="3733920" y="5486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2" name="Text Box 22"/>
          <p:cNvSpPr/>
          <p:nvPr/>
        </p:nvSpPr>
        <p:spPr>
          <a:xfrm>
            <a:off x="44956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33412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095880" y="5486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EA3D-B27C-45CC-93BE-AF11FE4B24B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316-38F1-4726-8230-E09D3FEDE8F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ascal’s Triangl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we have C(n + 1, k) = C(n, k – 1) + C(n, k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(0, 0) = 1, we can use Pascal’s triangle to simplify the computation of C(n, k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09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0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97180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48320" y="3809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1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2133720" y="4343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0988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486400" y="4343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2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12952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7180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4648320" y="4876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63244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3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4572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0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21337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1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380988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2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2" name="Text Box 17"/>
          <p:cNvSpPr/>
          <p:nvPr/>
        </p:nvSpPr>
        <p:spPr>
          <a:xfrm>
            <a:off x="54864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3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162920" y="5410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(4, 4) =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4" name="Line 19"/>
          <p:cNvSpPr/>
          <p:nvPr/>
        </p:nvSpPr>
        <p:spPr>
          <a:xfrm>
            <a:off x="304920" y="2895480"/>
            <a:ext cx="0" cy="289584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304920" y="2895480"/>
            <a:ext cx="8229600" cy="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6" name="Text Box 21"/>
          <p:cNvSpPr/>
          <p:nvPr/>
        </p:nvSpPr>
        <p:spPr>
          <a:xfrm>
            <a:off x="434340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8AA2-0169-4EC6-BFDA-D59007E1064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03B-4B02-4218-AF57-E43FFE3CA32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pressions of the form C(n, k) are also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coefficien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com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inomial express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he sum of two terms, such as 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w conside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en expanding such expressions, we have to form all possible products of a term in the first factor and a term in the second factor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·a + a·b + b·a + b·b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we can sum identical term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AD14-FEDF-4AA8-8E6B-6A2802FD31F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17B9-7572-4F5F-B519-6B4266ABE41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a + b)(a + b)(a + b) we hav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aaa + aab + aba + abb + baa + bab + bba + bbb</a:t>
            </a:r>
            <a:endParaRPr b="0" lang="en-US" sz="2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3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3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ly on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there is only one possibility to form it: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all three factors: C(3, 3) =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three times the term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because there are three possibilities to choos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two out of the three factors: C(3, 2) = 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milarly, there is three times the term 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C(3, 1) = 3) and once the ter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C(3, 0) =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90AE-1513-42B1-AEF1-72BDA1B5C64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3E8-3AC4-43F8-BF64-EF5E35E5D6D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inomial Coeffici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leads us to the following formula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457200" y="1600200"/>
                <a:ext cx="40719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5"/>
          <p:cNvSpPr/>
          <p:nvPr/>
        </p:nvSpPr>
        <p:spPr>
          <a:xfrm>
            <a:off x="304920" y="2819520"/>
            <a:ext cx="85341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ith the help of Pascal’s triangle, this formula can considerably simplify the process of expanding powers of binomial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fifth row of Pascal’s triangle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1 – 4 – 6 – 4 – 1) helps us to compute 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 + b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+ 6a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a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4876920" y="17524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inomial Theorem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995-2554-4F98-AF63-9961284165F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F4B2-DD63-4E0C-BE5C-C018EFB3D74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sum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and no two of these tasks can be done at the same tim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… +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one of these task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655-FBDD-4CFB-8E76-0ADC449353B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6B0-60EA-48FB-9563-CF661024ACD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uppose that a procedure can be broken down into two successive tasks. If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first task and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second task after the first task has been done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do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D710-7DCB-4384-845A-5D807798315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D5CB-BE7B-4DC1-8877-DBCCC7D941F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different license plates are there that containing exactly three English letters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6 possibilities to pick the first letter, then 26 possibilities for the second one, and 26 for the last on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re are 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6 = 17576 different license plat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D21-0921-4D54-875D-AA7D003D207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D504-30F9-412D-A852-303E8BE4E4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Generalized product ru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cedure consisting of sequential tasks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T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at can be done in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, respectively, then there are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ays to carry out the proced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08CA-702D-43C9-BB72-62F9DAEB58E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6A3D-3515-442D-B14C-CCDB8B03994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asic Counting Princi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um and product rules can also be phrased in terms of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et theo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um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disjoint sets. Then the number of ways to choose any element from one of these sets is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+ … +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 finite sets. Then the number of ways to choose one element from each set in the order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 =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|A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|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1725-021D-4ABB-B4F6-BD70379B538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2996-CDC3-4135-9A2F-419C3872DA3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clusion-Exclus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 many bit strings of length 8 either start with a 1 or end with 00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ask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onstruct a string of length 8 that starts with a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one way to pick the first bit (1),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secon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third bit (0 or 1)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ways to pick the eighth bit (0 or 1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duct ru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ask 1 can be done in 1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128 way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1:30Z</dcterms:modified>
  <cp:revision>115</cp:revision>
  <dc:subject/>
  <dc:title>PowerPoint Presentation</dc:title>
</cp:coreProperties>
</file>