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FEC-9E8C-4640-8C51-EEDC5D95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6FD-7489-4838-AC57-3586953D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D63-A963-4438-88FF-229D926B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1A5-3316-4689-9E9E-E500F1A5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309-D686-4165-8A04-01372DDF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E6A-49C0-4E39-A1C0-50F1AB1F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845-E670-4C56-B31F-84EFCBE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601-4B57-4F7B-AD7A-18992AA6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01F-8821-41B5-8A71-8EE2075E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E34-F74F-4130-8630-45B6542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D44-E9A4-4CEA-AD5F-D84FFA5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AA6-30D8-4EC1-8DA2-DA01BB7C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9EEF-B94B-4B15-AF9B-F1935DC38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vision R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se a set A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ts and is partitioned by the collection {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...,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, where each partition set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ts. The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 if a set is partitioned into equal-sized partition sets, then the number of partition sets is the quotient of the size of the set with the size of any partition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if a set has 100 elements and is partitioned in 20-element subsets, then there must be 5 subsets (equivalence class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can I fill a box holding 100 pieces of candy from 30 different types of can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ere #slots = 100, #transitions = 3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ere are C(100+29,100) = 129!/(100!29!) different ways to fill the box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if I must have at least 1 piece of each ty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w, we are reducing the #slots to choose over to (10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0) slots, so there are C(70+29,70) = 99!/70!29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Use Generalized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ides categorizing a problem based on its order and repetition requirements as a generalized combination, there are a couple of other characteristics which help us sor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ized combinations, having all the slots filled in by only selections from one category is allowed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possible to have more slots than categ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Solutions to Equ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ther type of problem to be solved by the generalized combination formula is of the form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many non-negative integer solutions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there to the equation a + b + c + d = 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could have 100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or 99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and 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r 98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and 2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see that the #slots = 100 and we are ranging over 4 categories, so #transitions =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re are C(100+3,100) = 103!/100!3! non-negative solutions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Solutions with Restr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integer solutions are there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solution “strings” are 1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er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,b,c,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the remaining numbers of each category to fill in the remaining sl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e number of slots has effectively been reduced to 9 after accounting for a total of 6 restri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 there are C(9+3,9) = 12!/(9!3!) solu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Integer Solutions &amp; Restr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integer solutions are there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alter the restrictions and equation so that the restrictions “go away.” To do this, we need each restri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 and balance the number of slots according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3+2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there are C(21+3,21) = 24!/(21!3!) solu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integer solutions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...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, ...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sel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egorie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tal restrictions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is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rollar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sel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egories with at least 1 thing from each category is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(se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utations teach us how to count the number of orderings of the lette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UT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8!). What about the number of orderings of the lette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SSISSIPP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note that not all the letters are distinct. In particula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SSISSIPP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IIISSSSPP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 although we are still searching for an ordering structures, there are sub-unorderings present, induced by the repeated letters, for which we have to accou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 Tak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apply the Division Rule to negate the effect of the unordering portions of the overall order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ves us with a total count of 11!/4!4!2!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, the first quotient of 4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the second quotient of 4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and the last quotient of 2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 Tak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model this problem, purely as a combination, and not a permutation at all, we can reason the task a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Choose 4 slots from 11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Choose 4 slots from the remaining 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hoose 2 slots from the remaining 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Plac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nly 1 way remaining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yields: C(11,4)C(7,4)C(3,2)C(1,1)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1!7!3!)/(7!4!4!3!2!1!) = 11!/(4!4!2!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 Theor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se a collection consist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of which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1, indistinguishable from each other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2, indistinguishable from each other; ..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indistinguishable from each other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...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n the number of distinct permutations of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i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..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 /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..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binations with Re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last section, we saw how to count combinations, where order does not matter, based on permutation counts, and we saw how to count permutations where repetitions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e shall consider the case where we don’t want order to matter, but we will allow repetitions to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ill complete the matrix of counting formulae, indexed by order and re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tivatin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can I select 15 cans of soda from a cooler containing large quantities of Coke, Pepsi, Diet Coke, Root Beer and Spri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to model this problem using the char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p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et Co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ot Be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p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111     111         111             111           111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 11                  111111        111111         1  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          1111    1111111         1111               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, we set an order of the categories and just count how many from each category are chos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tivating Exampl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ont’d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each event will contain fifteen 1’s, but we need to indicate where we transition from one category to the next. If we use 0 to mark our transitions, then the events bec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 11101110111011101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 1100111111011111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 00111101111111011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associated with each event is a binary string with #1’s = #things to be chosen and #0’s = #transitions between categ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Generalized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7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is example we see that the number of ways to select 15 sodas from a collection of 5 types of soda is C(15 + 4,15) = C(19,15) = C(19,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#zeros = #transitions = #categori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fi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lot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gories with repetition allowed i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ords, the counts 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#slots + #transitions, #slot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#slots + #transitions, #transition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2T23:48:12Z</dcterms:created>
  <dc:creator>Paul Artola</dc:creator>
  <dc:description/>
  <dc:language>en-US</dc:language>
  <cp:lastModifiedBy>Paul Artola</cp:lastModifiedBy>
  <cp:lastPrinted>1998-04-19T16:58:46Z</cp:lastPrinted>
  <dcterms:modified xsi:type="dcterms:W3CDTF">2003-04-17T15:12:40Z</dcterms:modified>
  <cp:revision>207</cp:revision>
  <dc:subject/>
  <dc:title>Chapter 5 - Set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www.cs.umbc.edu/~artola/spring98</vt:lpwstr>
  </property>
  <property fmtid="{D5CDD505-2E9C-101B-9397-08002B2CF9AE}" pid="9" name="LinkColor">
    <vt:r8>16711782</vt:r8>
  </property>
  <property fmtid="{D5CDD505-2E9C-101B-9397-08002B2CF9AE}" pid="10" name="MailAddress">
    <vt:lpwstr>artola@jagunet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PaulFiles\UMBC\Spring98\htm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