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7E6-7C9C-422B-AB33-F5EB079D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D32-CD57-45AE-80F4-CF3AF15B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4AF-C6B6-4B1D-B662-17251D32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C06-063A-4DC4-999E-8424F5D3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341-01E2-4CD0-8A25-E567FC3E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48DC-4E20-4B5F-BB7C-17699B4A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975-E8C4-45D6-949B-0D45881B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CD7-8E16-4F9B-95DF-21A5758D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E0D-D275-4F69-9C36-0C3A641D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2E9-9B15-480D-8C32-DC1618D1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BD2-D233-426B-9C43-2C62A222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6A5-EA7D-4A35-9EFA-8329ED43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9B33-B1A2-48E7-AB61-743A81AEAB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Division R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se a set A h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ts and is partitioned by the collection {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...,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, where each partition set h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lements. Then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other words, if a set is partitioned into equal-sized partition sets, then the number of partition sets is the quotient of the size of the set with the size of any partition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if a set has 100 elements and is partitioned in 20-element subsets, then there must be 5 subsets (equivalence class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can I fill a box holding 100 pieces of candy from 30 different types of cand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Here #slots = 100, #transitions = 3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ere are C(100+29,100) = 129!/(100!29!) different ways to fill the box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if I must have at least 1 piece of each typ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olutio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ow, we are reducing the #slots to choose over to (100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30) slots, so there are C(70+29,70) = 99!/70!29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Use Generalized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ides categorizing a problem based on its order and repetition requirements as a generalized combination, there are a couple of other characteristics which help us sor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generalized combinations, having all the slots filled in by only selections from one category is allowed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possible to have more slots than catego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er Solutions to Equ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ther type of problem to be solved by the generalized combination formula is of the form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w many non-negative integer solutions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e there to the equation a + b + c + d = 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could have 100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or 99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and 1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or 98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 and 2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see that the #slots = 100 and we are ranging over 4 categories, so #transitions =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, there are C(100+3,100) = 103!/100!3! non-negative solutions to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ger Solutions with Restri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integer solutions are there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3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solution “strings” are 1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1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1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ere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,b,c,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the remaining numbers of each category to fill in the remaining slo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the number of slots has effectively been reduced to 9 after accounting for a total of 6 restri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 there are C(9+3,9) = 12!/(9!3!) solu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Integer Solutions &amp; Restri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integer solutions are there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alter the restrictions and equation so that the restrictions “go away.” To do this, we need each restri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 and balance the number of slots according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nc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0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ield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5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+3+2+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, there are C(21+3,21) = 24!/(21!3!) solu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integer solutions to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...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, ...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sel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egories wit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tal restrictions on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is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rollary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selec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ing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egories with at least 1 thing from each category is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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(se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utations teach us how to count the number of orderings of the letter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PUT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8!). What about the number of orderings of the letter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SSISSIPP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case, we note that not all the letters are distinct. In particula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SSISSIPP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IIISSSSPP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 although we are still searching for an ordering structures, there are sub-unorderings present, induced by the repeated letters, for which we have to accou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 Take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apply the Division Rule to negate the effect of the unordering portions of the overall order probl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leaves us with a total count of 11!/4!4!2!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, the first quotient of 4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the second quotient of 4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, and the last quotient of 2! “mods” out the effect of the unorder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s Take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we model this problem, purely as a combination, and not a permutation at all, we can reason the task a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Choose 4 slots from 11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Choose 4 slots from the remaining 7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Choose 2 slots from the remaining 3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for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’s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Place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nly 1 way remaining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yields: C(11,4)C(7,4)C(3,2)C(1,1) 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1!7!3!)/(7!4!4!3!2!1!) = 11!/(4!4!2!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ized Permutation Theor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116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uppose a collection consists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of which: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1, indistinguishable from each other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2, indistinguishable from each other; ...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of typ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indistinguishable from each other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...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Then the number of distinct permutations of th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bjects i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..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 /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...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!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binations with Repeti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last section, we saw how to count combinations, where order does not matter, based on permutation counts, and we saw how to count permutations where repetitions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we shall consider the case where we don’t want order to matter, but we will allow repetitions to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will complete the matrix of counting formulae, indexed by order and repet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tivating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ways can I select 15 cans of soda from a cooler containing large quantities of Coke, Pepsi, Diet Coke, Root Beer and Sprit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to model this problem using the char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eps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et Co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ot Be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p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111     111         111             111           111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 11                  111111        111111         1  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          1111    1111111         1111                =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e, we set an order of the categories and just count how many from each category are chos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tivating Exampl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ont’d.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each event will contain fifteen 1’s, but we need to indicate where we transition from one category to the next. If we use 0 to mark our transitions, then the events bec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:  11101110111011101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:  11001111110111111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:  00111101111111011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associated with each event is a binary string with #1’s = #things to be chosen and #0’s = #transitions between catego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unting Generalized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72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m this example we see that the number of ways to select 15 sodas from a collection of 5 types of soda is C(15 + 4,15) = C(19,15) = C(19,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#zeros = #transitions = #categorie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orem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 number of ways to fil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lots fro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tgories with repetition allowed is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= C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ords, the counts 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#slots + #transitions, #slots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(#slots + #transitions, #transition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2T23:48:12Z</dcterms:created>
  <dc:creator>Paul Artola</dc:creator>
  <dc:description/>
  <dc:language>en-US</dc:language>
  <cp:lastModifiedBy>Paul Artola</cp:lastModifiedBy>
  <cp:lastPrinted>1998-04-19T16:58:46Z</cp:lastPrinted>
  <dcterms:modified xsi:type="dcterms:W3CDTF">2003-04-17T15:12:40Z</dcterms:modified>
  <cp:revision>207</cp:revision>
  <dc:subject/>
  <dc:title>Chapter 5 - Set Theo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www.cs.umbc.edu/~artola/spring98</vt:lpwstr>
  </property>
  <property fmtid="{D5CDD505-2E9C-101B-9397-08002B2CF9AE}" pid="9" name="LinkColor">
    <vt:r8>16711782</vt:r8>
  </property>
  <property fmtid="{D5CDD505-2E9C-101B-9397-08002B2CF9AE}" pid="10" name="MailAddress">
    <vt:lpwstr>artola@jagunet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PaulFiles\UMBC\Spring98\htm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