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73D-C413-411D-8473-6956820F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D5C-138C-454D-BDA3-D503AF13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56E-6D5A-49DC-A3C4-E093F18D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6C6F-77BD-46CC-8EAF-7E459B33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A8DD-0133-4C77-B930-EB990760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92F3-3DCC-4156-AD38-10CFE96F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A69D-2182-42F1-B0BD-FB1B2829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799-C119-4F1F-8E20-F2D4DEE2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C18-11B2-4A0D-ADBD-5EC39E25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6E2-60D3-447B-9D9A-CB0FAF35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AD2-C4A1-4694-BCC5-7E6F6378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062-7633-4E4B-9107-F1F5BE91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4ED1-9C13-49D4-9CD2-E0B74D1DF4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4701-8727-4D8F-846D-100EC754F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source=images&amp;cd=&amp;docid=HkNqUfyrObiwAM&amp;tbnid=zTt6IymhqVA26M:&amp;ved=0CAgQjRw41wQ&amp;url=http%3A%2F%2Fwww.lab.ls.manchester.ac.uk%2Fenzymology%2FPeople%2FDefault.aspx%3FPersonID%3D1461%26view%3Dresearch&amp;ei=3OMKVKPEHsSWaoeKgsgP&amp;psig=AFQjCNE5qawftO5-1DS5VOQr-M3ZB6OEqQ&amp;ust=1410086236555625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aldbass@ksu.edu.s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ology (320B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http://www.intranet.ls.manchester.ac.uk/images/userimages/1461/image/ReshighlightScrutt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990720"/>
            <a:ext cx="4876920" cy="46051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1600200" y="594360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ab.ls.manchester.ac.uk/enzymology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B8E3-27B1-46DD-9CE9-AFE8A6853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or Contact Informatio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tructor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Mona Alonazi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Saud University, Science of collag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chemistry department- Building 5, Room 5T29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:  moalonazi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@ksu.edu.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schedule for the cours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9A03-7927-4112-90BE-2A37094A4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66680" y="4495680"/>
          <a:ext cx="6934320" cy="1219320"/>
        </p:xfrm>
        <a:graphic>
          <a:graphicData uri="http://schemas.openxmlformats.org/drawingml/2006/table">
            <a:tbl>
              <a:tblPr/>
              <a:tblGrid>
                <a:gridCol w="1733760"/>
                <a:gridCol w="1733400"/>
                <a:gridCol w="1733760"/>
                <a:gridCol w="1733400"/>
              </a:tblGrid>
              <a:tr h="609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cture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cture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ro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5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3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122 2 0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se eval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ark distribu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447920"/>
            <a:ext cx="404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20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 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20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izz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5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 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5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ework'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  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5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 II          5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inal exam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0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ota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100  m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3920" y="1294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Dates of ex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723920" y="2057400"/>
            <a:ext cx="4041720" cy="3581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-\--\1438H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 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-\--\1438H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\--\1438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 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\--\1438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 I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\--\1438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z I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-\--\1438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8A56-8CC6-4142-B1E5-94913B82E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knowledge gained will be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call biocatalysts, their importance; and method of naming an enzy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cognize methods that can be used to determine the presence of an enzyme and units and its purific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emorize structure and functions of enzymes and how alterations in the enzyme structure can alter the functions and activity of enzy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3599-F9C7-4283-9E72-424310416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scribe the kinetics of enzyme catalysis and factors that influence enzyme activity, including inhibitors and how these can be utilized in various way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call how enzymes are essential in controlling metabolic pathways in living syste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knowledge gained will be: (Cont.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3B00-2D3E-48EA-B26A-27407E0FB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cognize how enzymes and their isoforms can be used to diagnose different dis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understand how could the enzymes catalyze the reactions using different types of cataly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tudy the Cofactors and their role in the enzyme’s mech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knowledge gained will be:(Cont.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1BEC-F7A5-4630-B2E8-D0D4A5C64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quired Text 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damentals of Biochemistry, by Voet D., Voet JG, and Pratt CW, John Wiley &amp; Sons, Inc (1999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hninger Principles of Biochemistry, 5th edition, by Nelson DL and Cox MM, W.H. Freeman and Company (2008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chemistry, 6th edition, by Berg JM, Tymoczko JL, and Stryer L, W.H. Freeman and Company (2006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488A-A02E-40FE-96E1-E016A5B5E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pincott's Illustrated Reviews: Biochemistry, by Pamela C. Champe &amp; Richard A. Harvey (20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chemical Calculations: How to Solve Mathematical Problems in General Biochemistry, by Irwin H. Segel 2nd Edition (1976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 (cont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B94C-1E77-43A8-A524-7722C00AD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Luck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13EA-D7D9-477D-943C-0FB9F46A1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4T05:05:16Z</dcterms:created>
  <dc:creator>Al-Dbass</dc:creator>
  <dc:description/>
  <dc:language>en-US</dc:language>
  <cp:lastModifiedBy>mona</cp:lastModifiedBy>
  <dcterms:modified xsi:type="dcterms:W3CDTF">2016-09-17T18:38:55Z</dcterms:modified>
  <cp:revision>17</cp:revision>
  <dc:subject/>
  <dc:title>Enzymology</dc:title>
</cp:coreProperties>
</file>