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149-D2FC-4098-9DC6-E6BC4AF1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0A0-C127-479D-BAC5-AD552E2D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CD8-0408-4F3E-83A8-F90203B5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ED4-F852-47E6-BD14-8B0E814F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D38-6F94-4EE3-8451-9B20FBC0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2BB-EF09-47A4-BA0A-B557852B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2E8-455D-4B72-903F-CF8B996A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FB3-A193-441E-84BE-3BCD8108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288-FF7B-4488-A183-353DD9FE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C77-9BA3-4CE5-AFF2-62CCB0F7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8E8-4C81-4272-BB26-890BB1FD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1728-B585-46F8-B216-5EC7D36C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097B-251C-408D-8EC1-BC5F71F7AA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2514-C0B9-4602-9F07-A57919CF7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source=images&amp;cd=&amp;docid=HkNqUfyrObiwAM&amp;tbnid=zTt6IymhqVA26M:&amp;ved=0CAgQjRw41wQ&amp;url=http%3A%2F%2Fwww.lab.ls.manchester.ac.uk%2Fenzymology%2FPeople%2FDefault.aspx%3FPersonID%3D1461%26view%3Dresearch&amp;ei=3OMKVKPEHsSWaoeKgsgP&amp;psig=AFQjCNE5qawftO5-1DS5VOQr-M3ZB6OEqQ&amp;ust=1410086236555625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aldbass@ksu.edu.s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ology (320B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http://www.intranet.ls.manchester.ac.uk/images/userimages/1461/image/ReshighlightScrutt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990720"/>
            <a:ext cx="4876920" cy="46051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1600200" y="594360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ab.ls.manchester.ac.uk/enzymology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FD84-46E0-4ED3-8C59-B6D6D0E41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 Contact Informatio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tructor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Mona Alonazi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Saud University, Science of collag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chemistry department- Building 5, Room 5T29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:  moalonazi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@ksu.edu.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schedule for the cours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775D-3094-47BF-884E-C00DF8903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66680" y="4495680"/>
          <a:ext cx="6934320" cy="1219320"/>
        </p:xfrm>
        <a:graphic>
          <a:graphicData uri="http://schemas.openxmlformats.org/drawingml/2006/table">
            <a:tbl>
              <a:tblPr/>
              <a:tblGrid>
                <a:gridCol w="1733760"/>
                <a:gridCol w="1733400"/>
                <a:gridCol w="1733760"/>
                <a:gridCol w="1733400"/>
              </a:tblGrid>
              <a:tr h="609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cture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cture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ro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5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3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122 2 0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se eval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ark distribu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447920"/>
            <a:ext cx="404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20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 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20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izz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5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 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5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ework'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 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5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 II          5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inal exam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0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ota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100 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392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Dates of ex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723920" y="2057400"/>
            <a:ext cx="4041720" cy="3581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-\--\1438H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 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-\--\1438H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\--\1438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 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\--\1438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 I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\--\1438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 I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-\--\1438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5C36-2250-4F3A-8923-148A1F150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knowledge gained will be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call biocatalysts, their importance; and method of naming an enzy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cognize methods that can be used to determine the presence of an enzyme and units and its purific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emorize structure and functions of enzymes and how alterations in the enzyme structure can alter the functions and activity of enzy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CC44-9EDD-4BCA-99DF-703456630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scribe the kinetics of enzyme catalysis and factors that influence enzyme activity, including inhibitors and how these can be utilized in various way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call how enzymes are essential in controlling metabolic pathways in living syste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knowledge gained will be: (Cont.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4A97-1DF6-4583-8BB1-3F8AA723A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cognize how enzymes and their isoforms can be used to diagnose different dis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understand how could the enzymes catalyze the reactions using different types of cataly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tudy the Cofactors and their role in the enzyme’s mech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knowledge gained will be:(Cont.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110E-E84E-4B96-AF98-C1AD13B10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quired Text 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damentals of Biochemistry, by Voet D., Voet JG, and Pratt CW, John Wiley &amp; Sons, Inc (1999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hninger Principles of Biochemistry, 5th edition, by Nelson DL and Cox MM, W.H. Freeman and Company (2008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chemistry, 6th edition, by Berg JM, Tymoczko JL, and Stryer L, W.H. Freeman and Company (2006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D8A0-561E-4EA8-A095-7C7E44E1D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pincott's Illustrated Reviews: Biochemistry, by Pamela C. Champe &amp; Richard A. Harvey (20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chemical Calculations: How to Solve Mathematical Problems in General Biochemistry, by Irwin H. Segel 2nd Edition (1976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 (cont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6537-93BE-4CFD-A337-64E298B40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Luck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B058-0440-443A-81C1-6A9A140CD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4T05:05:16Z</dcterms:created>
  <dc:creator>Al-Dbass</dc:creator>
  <dc:description/>
  <dc:language>en-US</dc:language>
  <cp:lastModifiedBy>mona</cp:lastModifiedBy>
  <dcterms:modified xsi:type="dcterms:W3CDTF">2016-09-17T18:38:55Z</dcterms:modified>
  <cp:revision>17</cp:revision>
  <dc:subject/>
  <dc:title>Enzymology</dc:title>
</cp:coreProperties>
</file>