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C01C-FD10-46A9-8371-E5DBB6F09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0870-BCF6-40EF-843B-E20DC3DA2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B84-FE62-4E2C-8465-8E314182F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0C36-9487-42CD-8DE3-AE849D210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5A5F-2B71-4AB9-9814-38D88E8435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B398-965F-4254-AD40-0D8B275BA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85F0-4305-4185-A013-BA4A5EE699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BA13-C16D-42A4-BA84-84C5C0BCE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BCA9-7A6A-4264-B9EB-D7F4DE53D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CFA6-6C05-4ECF-BC91-5B6C32BAA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1B45-0327-4E30-84E0-2D6665CB7A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8936-C36D-41D3-9DF5-2A05E3176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AC83-502C-43E2-8735-76EC7B5DF6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70BB-0CA3-4EBD-BA06-8561E8BF4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57BC-51D4-4396-881C-133B60FE6E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DF69-6B03-456D-8160-B7CC8C4A0C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7778-FD14-458E-B7AF-9A09A9080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2F8D-E0DC-4652-A39C-17273C2F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AE18-0C6A-4B10-9928-40712120A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734A-1EA5-465B-80B6-D5052FF9D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6B7A-2076-4EDB-B1E2-22F849921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9CAA-DFD5-4A7A-B893-10DBCA2D9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17EB-B195-4688-8826-F2BDEC852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4F47-8EED-45C9-A555-3C3D83284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7B4-6A50-4D3A-8090-E7587941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7AF-E5B2-404B-B851-BC23A8229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w3.org/Consortium/Process/Process-19991111/process.html#RecsCR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8916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ersonal Computing, Distributed Computing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,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sual Basic, Visual C++ and C#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rdwar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F3DA-96C0-47F1-9E6F-966907B4E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7: Appl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1: IBM Personal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lone”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telephone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area networks (LAN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’s 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0D28C-0C87-461B-996D-05E14FE83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enormou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shared across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common store of program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file servers acro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, Linux, Microsoft’s Window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1009-85B5-430B-A18A-0CB43D4961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language computer directly 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language”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hard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consist of strings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imately 0s and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 computers to perform elementar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8550-DC55-4D51-9508-F0A41B7D2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r to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rehensible t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9732-FB2F-4BBB-AD34-D6D4E4537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common mathematical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atements accomplish substanti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requires many instructions to accomplis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execute high-level langua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367D-E3EE-4C91-AF6C-8586E7F242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from two other programming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L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less”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nis Ritchie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data typing, oth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language of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9: ANSI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ANSI and ISO standar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/ISO 9899: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81D8-6C0D-4D3A-BAD9-16CB961E7D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+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1980s: Bjarne Stroustrup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ruces up”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reusable software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items in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lik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435F-5552-425B-8ED0-805D0B7B9D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 collections of existing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” to crea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57D7-70D0-4A64-AC5B-B0FB3FB95E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: Sun Micro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5: Sun Micr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announced Java at tra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pagers, personal digital assista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D450-EE8C-4FAA-83FC-080134F5D2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60s: Prof. John Kemeny and Thomas Kurtz (Dartmouth Colle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icrosoft Windows 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late 1980s, early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event handling, access to Win32 API, object-oriented programming, 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Basic 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D8A1-CFDA-4244-A400-4BD2D716C5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Inte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orld Wide Web Consortium (W3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inking About Objects: Introduction to Object Technology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d the Unified Modeling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2B96-73B6-4812-93D2-F14D90AE8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mplementation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Foundation Classes (M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graphics, networking, multithreading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mong Visual Basic, Visual C++, C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-based appli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o great variety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desktop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in disparate languages can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3E7B-FE07-4F8D-8487-FAA013A0BE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ers Hejlsberg and Scott Wiltamuth (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specifically for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s in C, C++ and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migration to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-driven, fully object-oriented, visual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 (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un, test and debug C#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7817-766E-4FB0-97B1-B4FD2445AF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ula TRANs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4-1957: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mathematical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Business Oriented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9: computer manufacturers, government and industrial computer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and efficient manipulation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F585-6C69-4A47-A134-CC8D148C70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.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8260-235A-4F39-A24E-DEC9351063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(196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1: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0s - early 1980s: US Department of Defense (D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can specify many activities to run in parall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4B42-348B-4C7C-A5F0-6EB21FA81B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FC (Microsoft Foundation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65B9-7554-4BF0-83D9-E7CAFB9BE2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6186-CC0F-45E2-B8BC-CE6D3381CD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87880" y="1057320"/>
            <a:ext cx="4656240" cy="5572080"/>
            <a:chOff x="4187880" y="1057320"/>
            <a:chExt cx="4656240" cy="5572080"/>
          </a:xfrm>
        </p:grpSpPr>
        <p:sp>
          <p:nvSpPr>
            <p:cNvPr id="142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676920" y="3504600"/>
              <a:ext cx="342720" cy="1524600"/>
              <a:chOff x="6676920" y="3504600"/>
              <a:chExt cx="34272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6920" y="35053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676920" y="42660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848280" y="42670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6848280" y="35042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76920" y="5104800"/>
              <a:ext cx="342720" cy="1524600"/>
              <a:chOff x="6676920" y="5104800"/>
              <a:chExt cx="342720" cy="152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76920" y="51055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676920" y="58662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848280" y="58672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848280" y="51044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76920" y="1065960"/>
              <a:ext cx="342720" cy="458640"/>
              <a:chOff x="6676920" y="1065960"/>
              <a:chExt cx="342720" cy="458640"/>
            </a:xfrm>
          </p:grpSpPr>
          <p:sp>
            <p:nvSpPr>
              <p:cNvPr id="162" name=""/>
              <p:cNvSpPr/>
              <p:nvPr/>
            </p:nvSpPr>
            <p:spPr>
              <a:xfrm>
                <a:off x="6676920" y="1067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67692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4828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848280" y="10656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76920" y="168120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76920" y="190944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48640" y="1909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48640" y="1680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76920" y="2288160"/>
              <a:ext cx="342720" cy="458640"/>
              <a:chOff x="6676920" y="2288160"/>
              <a:chExt cx="342720" cy="458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676920" y="22892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676920" y="2516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848280" y="25174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6848280" y="22878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76920" y="289728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76920" y="312552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848640" y="312588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848640" y="289692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212" name="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EBA1-4328-4830-9037-969DA37A7A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ADAD-66FE-4195-A06B-607D6B8CCB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ies of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double every year or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programs and data over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at which computers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9A2-1B45-4D51-81C2-3C0E2F5221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to command computer to perform actions and make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version of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Organization for Standardization (I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E23E-E89A-45D8-9868-9D1BB5B39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1960s: 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Research Project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mail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multiple users to send/receive data simultaneously over same communication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network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E91C-752D-4020-A660-B996B19461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out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rived i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variety of networking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rchitecture of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4FA0-CEDA-4AFC-B061-082CADF287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Tim Berners-Lee (CE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worldwide expo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nd small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way busines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EF64-97BB-4C88-A60D-5835C3477B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orld Wide Web Consortium (W3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4: Tim Berners-L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onproprietary, interoperable technolog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atio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’s INRIA (Institut National de Recherche en Informatique et Auto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o University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400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71C3-687F-40D2-8C3B-893C5A38E4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p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evolv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version that industry can begin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bly mature 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D916-26B6-4AE0-9D93-2E6F0EBD37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ss programming cla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features of current versions of C++ not compatible with older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03F7-5514-4CD5-A734-73007BC8DA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analyzed one statement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E2AB-6428-47EA-A1E0-6C62C82097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program read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8549-B5EA-440E-9C34-41C27ADF77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314" name="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318" name="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321" name="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324" name="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327" name="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333" name="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336" name="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339" name="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342" name="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CBBE-AA5C-4F8F-A9D4-4CB9F14DAF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using name that belongs to “namespace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ved through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special” character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42A1-5C95-435A-9969-94E56084C9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processing unit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458B-04F6-4305-B32F-46AFA591A8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63800" y="1879560"/>
          <a:ext cx="708948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879560"/>
                    <a:ext cx="70894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CC30-7EFE-4858-9F76-8E41460F08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4: fig0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line with multiple 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971800" y="990720"/>
            <a:ext cx="4114800" cy="990360"/>
            <a:chOff x="2971800" y="990720"/>
            <a:chExt cx="4114800" cy="990360"/>
          </a:xfrm>
        </p:grpSpPr>
        <p:sp>
          <p:nvSpPr>
            <p:cNvPr id="354" name=""/>
            <p:cNvSpPr/>
            <p:nvPr/>
          </p:nvSpPr>
          <p:spPr>
            <a:xfrm>
              <a:off x="44197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stream insertion statements produce one line of out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718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123720" y="11430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9DCB-B812-40B7-A378-E9602FFD3C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5: fig0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multiple lines with a singl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\nto\n\n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666880" y="914400"/>
            <a:ext cx="4114800" cy="837720"/>
            <a:chOff x="2666880" y="914400"/>
            <a:chExt cx="4114800" cy="837720"/>
          </a:xfrm>
        </p:grpSpPr>
        <p:sp>
          <p:nvSpPr>
            <p:cNvPr id="361" name=""/>
            <p:cNvSpPr/>
            <p:nvPr/>
          </p:nvSpPr>
          <p:spPr>
            <a:xfrm>
              <a:off x="41148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newline characters to print on multiple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6688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47760" y="1066680"/>
              <a:ext cx="10670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352320" y="1066680"/>
              <a:ext cx="762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809520" y="106668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75EBE-4470-484E-ACC3-480991CC9C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2968-CDB3-49E9-8ABC-F6CB61129E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es of characters (letters, digits, under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di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6DE4-E720-46A6-84E5-3EFB9AE0781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93DA-23A2-4721-A784-4B7FBDDB4F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375" name="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383" name="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386" name="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391" name="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6769-251C-4659-A812-4E427886997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irs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cond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0A43-DD4B-4A74-B79A-CDBC2444EF4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nondestru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C068-63F1-473E-B736-3A45AFFD0A7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15080" y="2406600"/>
            <a:ext cx="2109600" cy="102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5080" y="1219320"/>
            <a:ext cx="2109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5080" y="4038480"/>
            <a:ext cx="2109600" cy="1479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= integer1 +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890680" y="1371600"/>
            <a:ext cx="1957680" cy="321120"/>
            <a:chOff x="5890680" y="1371600"/>
            <a:chExt cx="1957680" cy="321120"/>
          </a:xfrm>
        </p:grpSpPr>
        <p:sp>
          <p:nvSpPr>
            <p:cNvPr id="403" name=""/>
            <p:cNvSpPr/>
            <p:nvPr/>
          </p:nvSpPr>
          <p:spPr>
            <a:xfrm>
              <a:off x="7251480" y="13716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57680" y="13888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0680" y="13874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9000" y="1371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90680" y="2527200"/>
            <a:ext cx="1957680" cy="321120"/>
            <a:chOff x="5890680" y="2527200"/>
            <a:chExt cx="1957680" cy="321120"/>
          </a:xfrm>
        </p:grpSpPr>
        <p:sp>
          <p:nvSpPr>
            <p:cNvPr id="408" name=""/>
            <p:cNvSpPr/>
            <p:nvPr/>
          </p:nvSpPr>
          <p:spPr>
            <a:xfrm>
              <a:off x="7251480" y="25272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7680" y="25444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0680" y="25430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9000" y="25272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0680" y="3000240"/>
            <a:ext cx="1957680" cy="321120"/>
            <a:chOff x="5890680" y="3000240"/>
            <a:chExt cx="1957680" cy="321120"/>
          </a:xfrm>
        </p:grpSpPr>
        <p:sp>
          <p:nvSpPr>
            <p:cNvPr id="413" name=""/>
            <p:cNvSpPr/>
            <p:nvPr/>
          </p:nvSpPr>
          <p:spPr>
            <a:xfrm>
              <a:off x="7251480" y="300024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7680" y="301752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0680" y="3016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000" y="30002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0680" y="4159080"/>
            <a:ext cx="1957680" cy="321120"/>
            <a:chOff x="5890680" y="4159080"/>
            <a:chExt cx="1957680" cy="321120"/>
          </a:xfrm>
        </p:grpSpPr>
        <p:sp>
          <p:nvSpPr>
            <p:cNvPr id="418" name=""/>
            <p:cNvSpPr/>
            <p:nvPr/>
          </p:nvSpPr>
          <p:spPr>
            <a:xfrm>
              <a:off x="7251480" y="41590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57680" y="41763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0680" y="41749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89000" y="41590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890680" y="4616280"/>
            <a:ext cx="1957680" cy="321120"/>
            <a:chOff x="5890680" y="4616280"/>
            <a:chExt cx="1957680" cy="321120"/>
          </a:xfrm>
        </p:grpSpPr>
        <p:sp>
          <p:nvSpPr>
            <p:cNvPr id="423" name=""/>
            <p:cNvSpPr/>
            <p:nvPr/>
          </p:nvSpPr>
          <p:spPr>
            <a:xfrm>
              <a:off x="7251480" y="46162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7680" y="46335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90680" y="46321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89000" y="46162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58040" y="5089680"/>
            <a:ext cx="1390680" cy="320760"/>
            <a:chOff x="6458040" y="5089680"/>
            <a:chExt cx="1390680" cy="320760"/>
          </a:xfrm>
        </p:grpSpPr>
        <p:sp>
          <p:nvSpPr>
            <p:cNvPr id="428" name=""/>
            <p:cNvSpPr/>
            <p:nvPr/>
          </p:nvSpPr>
          <p:spPr>
            <a:xfrm>
              <a:off x="7251840" y="5089680"/>
              <a:ext cx="596880" cy="301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8040" y="5106600"/>
              <a:ext cx="630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7200" y="510516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9720" y="5089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85F3-0C09-4089-88CD-DD54C3E160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microphone, scanner, network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formation processed by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information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, printer, network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used to control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CDDC-A598-444C-B7EC-AB0285FA8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us operator returns rema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7391-4E80-4365-B980-3B8136F3E4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in parentheses evaluat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/embedded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in innermost pair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ication, division, modulus applied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, subtraction appli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33240" y="4108320"/>
          <a:ext cx="7824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582F-73F6-4D2B-8241-9FD10C27BD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decision based on truth or falsity of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dition met, bod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, body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e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5CB8-C3C5-4AF0-848E-FCA963C3DF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5330-89BF-42B5-953F-9110073FB5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C245-2F25-445F-B04A-9F5F1CF3350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14: fig0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if statements, rel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ors, and equality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, and I will tell you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lationships they satisf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1 &gt;&gt; num2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two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== num2 )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!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5120" y="1371240"/>
            <a:ext cx="4991040" cy="657360"/>
            <a:chOff x="1905120" y="1371240"/>
            <a:chExt cx="4991040" cy="657360"/>
          </a:xfrm>
        </p:grpSpPr>
        <p:sp>
          <p:nvSpPr>
            <p:cNvPr id="448" name=""/>
            <p:cNvSpPr/>
            <p:nvPr/>
          </p:nvSpPr>
          <p:spPr>
            <a:xfrm>
              <a:off x="4229280" y="1447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s eliminate ne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5120" y="160020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1905120" y="1371240"/>
              <a:ext cx="232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5120" y="1600200"/>
              <a:ext cx="23241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990360" y="2670120"/>
            <a:ext cx="4305600" cy="1292400"/>
            <a:chOff x="990360" y="2670120"/>
            <a:chExt cx="4305600" cy="1292400"/>
          </a:xfrm>
        </p:grpSpPr>
        <p:sp>
          <p:nvSpPr>
            <p:cNvPr id="453" name=""/>
            <p:cNvSpPr/>
            <p:nvPr/>
          </p:nvSpPr>
          <p:spPr>
            <a:xfrm>
              <a:off x="2629080" y="2670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181160" y="2822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90360" y="2822400"/>
              <a:ext cx="163836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99840" y="2038320"/>
            <a:ext cx="3200760" cy="1085760"/>
            <a:chOff x="1599840" y="2038320"/>
            <a:chExt cx="3200760" cy="1085760"/>
          </a:xfrm>
        </p:grpSpPr>
        <p:sp>
          <p:nvSpPr>
            <p:cNvPr id="457" name=""/>
            <p:cNvSpPr/>
            <p:nvPr/>
          </p:nvSpPr>
          <p:spPr>
            <a:xfrm>
              <a:off x="3124080" y="2038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76160" y="219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99840" y="2190600"/>
              <a:ext cx="15238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160" y="3508200"/>
            <a:ext cx="4115160" cy="838440"/>
            <a:chOff x="1676160" y="3508200"/>
            <a:chExt cx="4115160" cy="838440"/>
          </a:xfrm>
        </p:grpSpPr>
        <p:sp>
          <p:nvSpPr>
            <p:cNvPr id="461" name=""/>
            <p:cNvSpPr/>
            <p:nvPr/>
          </p:nvSpPr>
          <p:spPr>
            <a:xfrm>
              <a:off x="3124080" y="3508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76160" y="3660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95480" y="3768840"/>
            <a:ext cx="4114800" cy="838080"/>
            <a:chOff x="2895480" y="376884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37688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392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160" y="4191120"/>
            <a:ext cx="4115160" cy="837720"/>
            <a:chOff x="1676160" y="4191120"/>
            <a:chExt cx="4115160" cy="837720"/>
          </a:xfrm>
        </p:grpSpPr>
        <p:sp>
          <p:nvSpPr>
            <p:cNvPr id="467" name=""/>
            <p:cNvSpPr/>
            <p:nvPr/>
          </p:nvSpPr>
          <p:spPr>
            <a:xfrm>
              <a:off x="3124080" y="4191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in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76160" y="4343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95480" y="4419720"/>
            <a:ext cx="4114800" cy="838080"/>
            <a:chOff x="2895480" y="4419720"/>
            <a:chExt cx="4114800" cy="838080"/>
          </a:xfrm>
        </p:grpSpPr>
        <p:sp>
          <p:nvSpPr>
            <p:cNvPr id="470" name=""/>
            <p:cNvSpPr/>
            <p:nvPr/>
          </p:nvSpPr>
          <p:spPr>
            <a:xfrm>
              <a:off x="4343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not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8954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A926-B3B4-4B47-8B43-C4420F47970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greater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8862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2880" y="1066680"/>
            <a:ext cx="4114800" cy="838440"/>
            <a:chOff x="4952880" y="1066680"/>
            <a:chExt cx="4114800" cy="838440"/>
          </a:xfrm>
        </p:grpSpPr>
        <p:sp>
          <p:nvSpPr>
            <p:cNvPr id="476" name=""/>
            <p:cNvSpPr/>
            <p:nvPr/>
          </p:nvSpPr>
          <p:spPr>
            <a:xfrm>
              <a:off x="64008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may be split over several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AE66-0ACB-4909-A728-63937766D57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less than or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1771-69D1-4CDD-AD80-BED4B0E964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programming (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-world objects with software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state)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(operations)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 data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across well-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B1A1-75CC-42D5-8DB5-51638C3278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 (classes,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7C1B-78BB-4EE3-BE2F-7DCDE734924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relatively low capacity “warehouse”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information from input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vailable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process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placed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B864-83A0-469C-B6B4-03EC6BA7E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design (OOAD)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of project’s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for satisfy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s of express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to guid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7F0B-E1FF-4676-822D-AC88971D4F4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: Object Management Group (OM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d UML version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-oriented systems and ai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many OOA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ndard set of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D11A-13BA-4B8D-A04E-0462FFA9E5B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other sections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, high-capacity “warehous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tive program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to access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xpensive per unit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B0CF-A519-4167-8B0D-4EB87A4DB2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user batch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job or tas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in groups (b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ks of punche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4A99-0039-475F-9BFC-DF1830091E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taneous” operation of many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ase of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s access computer through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 with keyboards and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zens, even hundred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small portion of one user’s job, then moves on to servic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receives almost immediate responses to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E611-BE12-4D88-8EEE-D7B0E9B1D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Pearson Education</cp:lastModifiedBy>
  <dcterms:modified xsi:type="dcterms:W3CDTF">2002-08-01T20:29:32Z</dcterms:modified>
  <cp:revision>147</cp:revision>
  <dc:subject/>
  <dc:title>Chapter 1 – Introduction to Computers and C++ Programming</dc:title>
</cp:coreProperties>
</file>