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455D-009C-465D-91F0-2C9DEA72F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68E8-92AC-4614-8AD3-45F84CDDE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4BBD-5768-44B5-AC5B-B69646838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D3CDC-A368-436D-BC31-443D24BB91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C42AF-ABF7-4CE2-AF80-1513B4744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4571D-FFC7-44EF-AB08-5B638231C6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ACA5-76A8-49BD-9CBA-E35850B948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12B32-F09C-4400-8F1F-4BA215E8D3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E534-9063-40B4-AB04-A4A717DAF0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CCB19-22B6-4B12-83F6-F3F4EA8C42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CCA52-2ECD-4930-BCCA-1501781755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F8906-450A-42E0-A9D2-47AF87238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EEA02-541F-4DB8-8BB9-5BA45F6224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3D03-397F-46FF-AACD-8902A9F4AB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2632-6300-4E25-979E-5F10F1B92EF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A06F-9492-4989-AE5A-0354ADE76A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89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54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75024-473F-4BF3-A2A8-914CCE3F55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2F9A0-A4D0-48E2-8C75-B7AB36B9C3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D69FE-454D-4932-81CA-C3772016D0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78D9-DC27-49D0-AC6A-8CA45465A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03DE-F82D-4E58-AE09-BB38A3C57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2DBAA-0D1B-43E3-826D-540E7A4AF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654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C6D12-F52E-4F54-B1C0-0A9C111B0F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89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654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A935-1933-4490-A786-59BB51371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96E-A275-4D90-AD12-7047E9FEA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86600" y="6324480"/>
            <a:ext cx="1981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3 Prentice Hall, Inc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2920" y="152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086240" y="76320"/>
            <a:ext cx="305280" cy="685800"/>
            <a:chOff x="7086240" y="76320"/>
            <a:chExt cx="305280" cy="685800"/>
          </a:xfrm>
        </p:grpSpPr>
        <p:sp>
          <p:nvSpPr>
            <p:cNvPr id="45" name="">
              <a:hlinkClick r:id="" action="ppaction://hlinkshowjump?jump=previousslide"/>
            </p:cNvPr>
            <p:cNvSpPr/>
            <p:nvPr/>
          </p:nvSpPr>
          <p:spPr>
            <a:xfrm rot="5400000">
              <a:off x="708624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>
              <a:hlinkClick r:id="" action="ppaction://hlinkshowjump?jump=nextslide"/>
            </p:cNvPr>
            <p:cNvSpPr/>
            <p:nvPr/>
          </p:nvSpPr>
          <p:spPr>
            <a:xfrm rot="16200000">
              <a:off x="708660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Num" idx="2"/>
          </p:nvPr>
        </p:nvSpPr>
        <p:spPr>
          <a:xfrm>
            <a:off x="8686800" y="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3253-7B46-45A9-B96B-E45D1690F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w3.org/" TargetMode="External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w3.org/Consortium/Process/Process-19991111/process.html#RecsCR" TargetMode="Externa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89160"/>
            <a:ext cx="7772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hat is a Computer?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omputer Organization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Evolution of Operating System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Personal Computing, Distributed Computing and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ient/Server Comput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achine Languages, Assembly Languages, and High-Level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C and C++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++ Standard Librar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Java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Visual Basic, Visual C++ and C#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ther High-Level Language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Structured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e Key Software Trend: Object Technology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Basics of a Typical C++ Environmen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ardware Tr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ACFA8-BC76-4178-A6DE-2252B25E845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7: Apple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conomical enough for individu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1: IBM Personal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lone”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telephone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l area networks (LANs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ed comput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rganization’s computing distributed over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74DB-A878-44CA-B5F7-42E0D90BDB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5 Personal Computing, Distributed Computing, and Client/Server Comput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enormous capabiliti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shared across network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/server comp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le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er common store of programs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ent compute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ss file servers across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X, Linux, Microsoft’s Window-bas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DDD5B-28A4-45A3-87D0-B4F8C03C45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chine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language computer directly underst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ural language”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d by hard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-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ly consist of strings of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imately 0s and 1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 computers to perform elementary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mbersome for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300042774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400593419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12002740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AABC-54D1-4567-889D-34A766C3DE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embly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lish-like abbreviations representing elementary computer 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earer to hum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rehensible to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assemb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2096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AD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ASE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VERPA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OR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A19BA-AB52-434B-BE28-4D816053C60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6 Machine Languages, Assembly Languages, and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comput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igh-level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everyday English, use common mathematical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statements accomplish substantial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anguage requires many instructions to accomplish simple t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or programs (compile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to machine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preter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execute high-level languag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grossPay = basePay + overTim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1586B-4C12-4034-B90A-5B137C18ADB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olved from two other programming languag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CPL and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less”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nnis Ritchie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ed data typing, other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ment language of UN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rdware in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bl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89: ANSI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ANSI and ISO standar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SI/ISO 9899: 19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77814-F981-405B-A8F2-691D364381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7 History of C and C++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 of C++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tension of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rly 1980s: Bjarne Stroustrup (Bell Laboratori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ruces up”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s capabilities for object-oriented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: reusable software compon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items in rea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understand, correct and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ybrid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-lik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-oriented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CC11-C375-43BD-B503-9959F24D60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8 C++ Standard Librar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uilt from pieces called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ich collections of existing classes and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block approach” to creating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reus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DEEA-B7E6-4DE2-A3EB-7D26B4824D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9 Java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: Sun Microsystem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een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5: Sun Micro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ly announced Java at trade 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 pages with dynamic and interactive cont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large-scale enterprise applic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hance functionality of web serv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vide applications for consumer devic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pagers, personal digital assistant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64F2F-AB5B-439A-AFA1-CA2DED5002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ner’s All-Purpose Symbolic Instruction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d-1960s: Prof. John Kemeny and Thomas Kurtz (Dartmouth Colleg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Bas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of Microsoft Windows graphical user interface (GU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late 1980s, early 199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werful feat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event handling, access to Win32 API, object-oriented programming, error hand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isual Basic .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5B580-D866-4A7B-A534-D5EC6E9DC0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 – Introduction to Computers and C++ Programm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37160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Interne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7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History of the World Wide Web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8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World Wide Web Consortium (W3C)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19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General Notes About C++ and This Book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0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 to C++ Programming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1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 Simple Program: Printing a Line of Text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2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other Simple Program: Adding Two Intege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3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Memory Concept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4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rithmetic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5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Decision Making: Equality and Relational Operators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.26 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hinking About Objects: Introduction to Object Technology 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and the Unified Modeling Langu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6577-30D9-4BBF-9DE6-37951A3AA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ual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icrosoft’s implementation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soft Foundation Classes (MF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libr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, graphics, networking, multithreading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ed among Visual Basic, Visual C++, C#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NET plat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eb-based applica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to great variety of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 phones, desktop comp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lications in disparate languages can communic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3071-DF3D-438D-85DF-7BC8F651D7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0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Visual Basic, Visual C++ and C#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ers Hejlsberg and Scott Wiltamuth (Microsof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ed specifically for .NET platfor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oots in C, C++ and Ja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migration to 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nt-driven, fully object-oriented, visual programming 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grated Development Environment (ID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, run, test and debug C#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pplication Development (R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 interoper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9564-67DA-478B-9452-22B8FB6820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TR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mula TRANsla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4-1957: IB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 mathematical compu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entific and engineer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Business Oriented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59: computer manufacturers, government and industrial computer us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ise and efficient manipulation of large amounts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ercial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8D2C3-9A16-4C3E-BFF0-D26F0A7F39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1 Other High-level Languag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f.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cademic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6BE6B-3EB0-41FE-9CFA-62179D443D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2 Structured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 (1960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ciplined approach to writing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ear, easy to test and debug, and easy to modif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1: Niklaus Wirt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70s - early 1980s: US Department of Defense (Do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tas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er can specify many activities to run in parall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E1D8B-05F2-41C3-9157-BFB3D56D88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3 The Key Software Trend: Object Technology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able software components that model real world i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ingful software uni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e objects, time objects, paycheck objects, invoice objects, audio objects, video objects, file objects, record objec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oun can be represented as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re understandable, better organized and easier to maintain than procedural 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vor modular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re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FC (Microsoft Foundation Class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gue W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8ACB-537E-4152-B161-0805E5010C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-development environ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++ Standard Libr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8B12-706B-4E7C-B8EA-91C4852F31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0" name=""/>
          <p:cNvSpPr/>
          <p:nvPr/>
        </p:nvSpPr>
        <p:spPr>
          <a:xfrm>
            <a:off x="152280" y="1143000"/>
            <a:ext cx="472464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s of C++ Progra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187880" y="1057320"/>
            <a:ext cx="4656240" cy="5572080"/>
            <a:chOff x="4187880" y="1057320"/>
            <a:chExt cx="4656240" cy="5572080"/>
          </a:xfrm>
        </p:grpSpPr>
        <p:sp>
          <p:nvSpPr>
            <p:cNvPr id="142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solidFill>
              <a:srgbClr val="4db3e6"/>
            </a:solidFill>
            <a:ln w="3240">
              <a:solidFill>
                <a:srgbClr val="4db3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187880" y="362772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514760" y="3772080"/>
              <a:ext cx="54288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Load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1000" y="12956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91000" y="1919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1000" y="38563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05440" y="35146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391000" y="545652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676920" y="3504600"/>
              <a:ext cx="342720" cy="1524600"/>
              <a:chOff x="6676920" y="3504600"/>
              <a:chExt cx="342720" cy="1524600"/>
            </a:xfrm>
          </p:grpSpPr>
          <p:sp>
            <p:nvSpPr>
              <p:cNvPr id="152" name=""/>
              <p:cNvSpPr/>
              <p:nvPr/>
            </p:nvSpPr>
            <p:spPr>
              <a:xfrm>
                <a:off x="6676920" y="35053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V="1">
                <a:off x="6676920" y="42660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6848280" y="42670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>
                <a:off x="6848280" y="35042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6676920" y="5104800"/>
              <a:ext cx="342720" cy="1524600"/>
              <a:chOff x="6676920" y="5104800"/>
              <a:chExt cx="342720" cy="1524600"/>
            </a:xfrm>
          </p:grpSpPr>
          <p:sp>
            <p:nvSpPr>
              <p:cNvPr id="157" name=""/>
              <p:cNvSpPr/>
              <p:nvPr/>
            </p:nvSpPr>
            <p:spPr>
              <a:xfrm>
                <a:off x="6676920" y="510552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676920" y="586620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848280" y="586728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6848280" y="5104440"/>
                <a:ext cx="17136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676920" y="1065960"/>
              <a:ext cx="342720" cy="458640"/>
              <a:chOff x="6676920" y="1065960"/>
              <a:chExt cx="342720" cy="458640"/>
            </a:xfrm>
          </p:grpSpPr>
          <p:sp>
            <p:nvSpPr>
              <p:cNvPr id="162" name=""/>
              <p:cNvSpPr/>
              <p:nvPr/>
            </p:nvSpPr>
            <p:spPr>
              <a:xfrm>
                <a:off x="6676920" y="1067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6676920" y="12938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6848280" y="12952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6848280" y="10656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676920" y="168120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76920" y="190944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6848640" y="190980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6848640" y="168084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15320" y="1096920"/>
              <a:ext cx="182376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gram is created 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he editor and stor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15320" y="1781280"/>
              <a:ext cx="18237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eprocessor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es the code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020000" y="4138560"/>
              <a:ext cx="1824120" cy="3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ader puts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 memory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015320" y="5432400"/>
              <a:ext cx="182376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PU takes ea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struction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 it, possib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ing 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values as the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execute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87880" y="2300400"/>
              <a:ext cx="1200240" cy="457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88" y="0"/>
                  </a:moveTo>
                  <a:lnTo>
                    <a:pt x="19988" y="19972"/>
                  </a:lnTo>
                  <a:lnTo>
                    <a:pt x="0" y="19972"/>
                  </a:lnTo>
                  <a:lnTo>
                    <a:pt x="0" y="0"/>
                  </a:lnTo>
                  <a:lnTo>
                    <a:pt x="19988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29080" y="2443320"/>
              <a:ext cx="71460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Mincho"/>
                </a:rPr>
                <a:t>Compil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391000" y="252900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6676920" y="2288160"/>
              <a:ext cx="342720" cy="458640"/>
              <a:chOff x="6676920" y="2288160"/>
              <a:chExt cx="342720" cy="458640"/>
            </a:xfrm>
          </p:grpSpPr>
          <p:sp>
            <p:nvSpPr>
              <p:cNvPr id="178" name=""/>
              <p:cNvSpPr/>
              <p:nvPr/>
            </p:nvSpPr>
            <p:spPr>
              <a:xfrm>
                <a:off x="6676920" y="22892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6676920" y="251604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6848280" y="251748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flipV="1">
                <a:off x="6848280" y="2287800"/>
                <a:ext cx="171360" cy="229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7015320" y="2260800"/>
              <a:ext cx="18237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mpiler cre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object code and s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t on disk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1000" y="3137040"/>
              <a:ext cx="514440" cy="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72" y="0"/>
                  </a:move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676920" y="2897280"/>
              <a:ext cx="17136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76920" y="3125520"/>
              <a:ext cx="17136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6848640" y="3125880"/>
              <a:ext cx="170640" cy="22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6848640" y="2896920"/>
              <a:ext cx="170640" cy="22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15320" y="2895840"/>
              <a:ext cx="18237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inker links the ob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de with the libraries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reates 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a.out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ores it on dis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4187880" y="1057320"/>
              <a:ext cx="1200240" cy="457200"/>
              <a:chOff x="4187880" y="1057320"/>
              <a:chExt cx="1200240" cy="457200"/>
            </a:xfrm>
          </p:grpSpPr>
          <p:sp>
            <p:nvSpPr>
              <p:cNvPr id="190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87880" y="10573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515840" y="1201320"/>
                <a:ext cx="54360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Edi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4187880" y="1690920"/>
              <a:ext cx="1200240" cy="457200"/>
              <a:chOff x="4187880" y="1690920"/>
              <a:chExt cx="1200240" cy="457200"/>
            </a:xfrm>
          </p:grpSpPr>
          <p:sp>
            <p:nvSpPr>
              <p:cNvPr id="194" name=""/>
              <p:cNvSpPr/>
              <p:nvPr/>
            </p:nvSpPr>
            <p:spPr>
              <a:xfrm>
                <a:off x="4187880" y="169092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187880" y="1690920"/>
                <a:ext cx="1200240" cy="457200"/>
                <a:chOff x="4187880" y="1690920"/>
                <a:chExt cx="1200240" cy="45720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187880" y="1690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258440" y="1824840"/>
                  <a:ext cx="105804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Preprocesso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8" name=""/>
            <p:cNvGrpSpPr/>
            <p:nvPr/>
          </p:nvGrpSpPr>
          <p:grpSpPr>
            <a:xfrm>
              <a:off x="4187880" y="2908440"/>
              <a:ext cx="1200240" cy="457200"/>
              <a:chOff x="4187880" y="2908440"/>
              <a:chExt cx="1200240" cy="457200"/>
            </a:xfrm>
          </p:grpSpPr>
          <p:sp>
            <p:nvSpPr>
              <p:cNvPr id="199" name=""/>
              <p:cNvSpPr/>
              <p:nvPr/>
            </p:nvSpPr>
            <p:spPr>
              <a:xfrm>
                <a:off x="4187880" y="2908440"/>
                <a:ext cx="1200240" cy="457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8" y="0"/>
                    </a:moveTo>
                    <a:lnTo>
                      <a:pt x="19988" y="19972"/>
                    </a:lnTo>
                    <a:lnTo>
                      <a:pt x="0" y="19972"/>
                    </a:lnTo>
                    <a:lnTo>
                      <a:pt x="0" y="0"/>
                    </a:lnTo>
                    <a:lnTo>
                      <a:pt x="19988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187880" y="2908440"/>
                <a:ext cx="1200240" cy="457200"/>
                <a:chOff x="4187880" y="2908440"/>
                <a:chExt cx="1200240" cy="45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187880" y="290844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15840" y="3043080"/>
                  <a:ext cx="54360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Link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187880" y="5227920"/>
              <a:ext cx="1200240" cy="457200"/>
              <a:chOff x="4187880" y="5227920"/>
              <a:chExt cx="1200240" cy="457200"/>
            </a:xfrm>
          </p:grpSpPr>
          <p:grpSp>
            <p:nvGrpSpPr>
              <p:cNvPr id="204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4772880" y="5507280"/>
                  <a:ext cx="29160" cy="5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187880" y="5227920"/>
                <a:ext cx="1200240" cy="457200"/>
                <a:chOff x="4187880" y="5227920"/>
                <a:chExt cx="1200240" cy="4572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4187880" y="5227920"/>
                  <a:ext cx="1200240" cy="457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8" y="0"/>
                      </a:moveTo>
                      <a:lnTo>
                        <a:pt x="19988" y="19972"/>
                      </a:lnTo>
                      <a:lnTo>
                        <a:pt x="0" y="19972"/>
                      </a:lnTo>
                      <a:lnTo>
                        <a:pt x="0" y="0"/>
                      </a:lnTo>
                      <a:lnTo>
                        <a:pt x="19988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644360" y="5380200"/>
                  <a:ext cx="286560" cy="17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  <a:ea typeface="Mincho"/>
                    </a:rPr>
                    <a:t>CP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0" name=""/>
            <p:cNvSpPr/>
            <p:nvPr/>
          </p:nvSpPr>
          <p:spPr>
            <a:xfrm>
              <a:off x="5905440" y="5102280"/>
              <a:ext cx="7714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Prima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vantGarde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5905440" y="5367600"/>
              <a:ext cx="773280" cy="1212840"/>
              <a:chOff x="5905440" y="5367600"/>
              <a:chExt cx="773280" cy="1212840"/>
            </a:xfrm>
          </p:grpSpPr>
          <p:sp>
            <p:nvSpPr>
              <p:cNvPr id="212" name=""/>
              <p:cNvSpPr/>
              <p:nvPr/>
            </p:nvSpPr>
            <p:spPr>
              <a:xfrm>
                <a:off x="6227640" y="6131160"/>
                <a:ext cx="86400" cy="33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05440" y="5367600"/>
                <a:ext cx="767160" cy="12128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06520" y="53686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06520" y="552132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06520" y="567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906520" y="58230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06520" y="597420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906520" y="6126120"/>
                <a:ext cx="772200" cy="3031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58"/>
                    </a:lnTo>
                    <a:lnTo>
                      <a:pt x="0" y="19958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906520" y="642924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249240" y="6126120"/>
                <a:ext cx="86400" cy="32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Courier New"/>
                  </a:rPr>
                  <a:t>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5905440" y="3780000"/>
              <a:ext cx="773280" cy="1214280"/>
              <a:chOff x="5905440" y="3780000"/>
              <a:chExt cx="773280" cy="1214280"/>
            </a:xfrm>
          </p:grpSpPr>
          <p:sp>
            <p:nvSpPr>
              <p:cNvPr id="223" name=""/>
              <p:cNvSpPr/>
              <p:nvPr/>
            </p:nvSpPr>
            <p:spPr>
              <a:xfrm>
                <a:off x="5905440" y="3780000"/>
                <a:ext cx="767160" cy="121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90"/>
                    </a:lnTo>
                    <a:lnTo>
                      <a:pt x="0" y="19990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906520" y="3781080"/>
                <a:ext cx="772200" cy="1512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6"/>
                    </a:lnTo>
                    <a:lnTo>
                      <a:pt x="0" y="19916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906520" y="3933360"/>
                <a:ext cx="772200" cy="1522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17"/>
                    </a:lnTo>
                    <a:lnTo>
                      <a:pt x="0" y="19917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5906520" y="4086000"/>
                <a:ext cx="772200" cy="908280"/>
                <a:chOff x="5906520" y="4086000"/>
                <a:chExt cx="772200" cy="90828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227640" y="4545360"/>
                  <a:ext cx="86400" cy="330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906520" y="40860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906520" y="423720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906520" y="4388400"/>
                  <a:ext cx="772200" cy="1512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906520" y="4540320"/>
                  <a:ext cx="772200" cy="3027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58"/>
                      </a:lnTo>
                      <a:lnTo>
                        <a:pt x="0" y="19958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906520" y="4843440"/>
                  <a:ext cx="772200" cy="15084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16"/>
                      </a:lnTo>
                      <a:lnTo>
                        <a:pt x="0" y="19916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248880" y="4540320"/>
                  <a:ext cx="86400" cy="32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Courier New"/>
                    </a:rPr>
                    <a:t>.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5905440" y="1141560"/>
              <a:ext cx="771480" cy="309600"/>
              <a:chOff x="5905440" y="1141560"/>
              <a:chExt cx="771480" cy="30960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5905440" y="1142640"/>
                <a:ext cx="771480" cy="308520"/>
                <a:chOff x="5905440" y="1142640"/>
                <a:chExt cx="771480" cy="3085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5905440" y="13741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906160" y="11818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905440" y="11426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5905440" y="13737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906160" y="11808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913000" y="13730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105240" y="12427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910840" y="11743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905440" y="11415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905440" y="1764000"/>
              <a:ext cx="771480" cy="309240"/>
              <a:chOff x="5905440" y="1764000"/>
              <a:chExt cx="771480" cy="309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5905440" y="1765080"/>
                <a:ext cx="771480" cy="308160"/>
                <a:chOff x="5905440" y="1765080"/>
                <a:chExt cx="771480" cy="308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5905440" y="199656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906160" y="180432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905440" y="176508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0" name=""/>
              <p:cNvSpPr/>
              <p:nvPr/>
            </p:nvSpPr>
            <p:spPr>
              <a:xfrm>
                <a:off x="5905440" y="199584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906160" y="180324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913000" y="199512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05240" y="186480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910840" y="179676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905440" y="17640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905440" y="2379960"/>
              <a:ext cx="771480" cy="309240"/>
              <a:chOff x="5905440" y="2379960"/>
              <a:chExt cx="771480" cy="309240"/>
            </a:xfrm>
          </p:grpSpPr>
          <p:grpSp>
            <p:nvGrpSpPr>
              <p:cNvPr id="257" name=""/>
              <p:cNvGrpSpPr/>
              <p:nvPr/>
            </p:nvGrpSpPr>
            <p:grpSpPr>
              <a:xfrm>
                <a:off x="5905440" y="2381040"/>
                <a:ext cx="771480" cy="308160"/>
                <a:chOff x="5905440" y="2381040"/>
                <a:chExt cx="771480" cy="3081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5905440" y="261252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906160" y="2420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905440" y="2381040"/>
                  <a:ext cx="771480" cy="7668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" name=""/>
              <p:cNvSpPr/>
              <p:nvPr/>
            </p:nvSpPr>
            <p:spPr>
              <a:xfrm>
                <a:off x="5905440" y="261180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906160" y="2419200"/>
                <a:ext cx="770760" cy="22860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913000" y="261108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105240" y="248076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910840" y="2412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905440" y="2379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5905440" y="2982960"/>
              <a:ext cx="771480" cy="309600"/>
              <a:chOff x="5905440" y="2982960"/>
              <a:chExt cx="771480" cy="30960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5905440" y="2984040"/>
                <a:ext cx="771480" cy="308520"/>
                <a:chOff x="5905440" y="2984040"/>
                <a:chExt cx="771480" cy="30852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5905440" y="321552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5906160" y="3023280"/>
                  <a:ext cx="770760" cy="22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905440" y="2984040"/>
                  <a:ext cx="77148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5905440" y="32151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906160" y="3022200"/>
                <a:ext cx="77076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913000" y="3214440"/>
                <a:ext cx="75672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05240" y="3084120"/>
                <a:ext cx="371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910840" y="3015720"/>
                <a:ext cx="76248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905440" y="2982960"/>
                <a:ext cx="77148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4405320" y="4357800"/>
              <a:ext cx="773280" cy="309600"/>
              <a:chOff x="4405320" y="4357800"/>
              <a:chExt cx="773280" cy="3096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4405680" y="4358160"/>
                <a:ext cx="772920" cy="309240"/>
                <a:chOff x="4405680" y="4358160"/>
                <a:chExt cx="772920" cy="309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405680" y="45903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406040" y="4397400"/>
                  <a:ext cx="772560" cy="2293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81" y="0"/>
                      </a:moveTo>
                      <a:lnTo>
                        <a:pt x="19981" y="19944"/>
                      </a:lnTo>
                      <a:lnTo>
                        <a:pt x="0" y="19944"/>
                      </a:lnTo>
                      <a:lnTo>
                        <a:pt x="0" y="0"/>
                      </a:lnTo>
                      <a:lnTo>
                        <a:pt x="19981" y="0"/>
                      </a:lnTo>
                      <a:close/>
                    </a:path>
                  </a:pathLst>
                </a:custGeom>
                <a:solidFill>
                  <a:srgbClr val="4db3e6"/>
                </a:solidFill>
                <a:ln w="3240">
                  <a:solidFill>
                    <a:srgbClr val="4db3e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05680" y="4358160"/>
                  <a:ext cx="772920" cy="77040"/>
                </a:xfrm>
                <a:prstGeom prst="ellipse">
                  <a:avLst/>
                </a:prstGeom>
                <a:solidFill>
                  <a:srgbClr val="4db3e6"/>
                </a:solidFill>
                <a:ln w="3240">
                  <a:solidFill>
                    <a:srgbClr val="4db3e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3" name=""/>
              <p:cNvSpPr/>
              <p:nvPr/>
            </p:nvSpPr>
            <p:spPr>
              <a:xfrm>
                <a:off x="4405320" y="458928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05680" y="4397040"/>
                <a:ext cx="772200" cy="22896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944"/>
                    </a:lnTo>
                    <a:lnTo>
                      <a:pt x="0" y="19944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412880" y="4589280"/>
                <a:ext cx="757800" cy="4104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692"/>
                    </a:lnTo>
                    <a:lnTo>
                      <a:pt x="0" y="19692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05480" y="4458240"/>
                <a:ext cx="372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  <a:ea typeface="Mincho"/>
                  </a:rPr>
                  <a:t>Dis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411440" y="4390200"/>
                <a:ext cx="763560" cy="424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19981" y="0"/>
                    </a:moveTo>
                    <a:lnTo>
                      <a:pt x="19981" y="19701"/>
                    </a:lnTo>
                    <a:lnTo>
                      <a:pt x="0" y="19701"/>
                    </a:lnTo>
                    <a:lnTo>
                      <a:pt x="0" y="0"/>
                    </a:lnTo>
                    <a:lnTo>
                      <a:pt x="19981" y="0"/>
                    </a:lnTo>
                    <a:close/>
                  </a:path>
                </a:pathLst>
              </a:custGeom>
              <a:solidFill>
                <a:srgbClr val="4db3e6"/>
              </a:solidFill>
              <a:ln w="3240">
                <a:solidFill>
                  <a:srgbClr val="4db3e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405320" y="4357800"/>
                <a:ext cx="772920" cy="7668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4791240" y="4084920"/>
              <a:ext cx="360" cy="3045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5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  <a:head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6C7AE-878D-4046-9494-38B9902529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4 Basics of a Typical C++ Environmen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/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i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n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key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output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ly computer scre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er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error st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error mess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15F0-5695-46E6-8D64-F5980BFCFE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5 Hardware Tr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ies of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pproximately double every year or tw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sed to execute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mount of secondary stora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programs and data over long 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or spee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ed at which computers execut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DCFB-E0C8-4697-8D24-FE167AF6776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 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ructions to command computer to perform actions and make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ized version of C+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erican National Standards Institute (AN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Organization for Standardization (I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DA602-6F94-4674-A0BB-835F985628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te 1960s: AR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ced Research Projects Agen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artment of Defe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PAne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ectronic mail (e-mail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switch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fer digital data via small pac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 multiple users to send/receive data simultaneously over same communication path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entralized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f one part of network fails, other parts can still opera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45B2E-9D32-47C5-9BE6-EAE6194B5D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6 History of the Interne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ransmission Control Protocol (TC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routed proper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s arrived int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et Protocol (I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among variety of networking hardware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architecture of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widt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rrying capacity of communications li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CFC2-03B5-4A5B-85F7-01F6AE36787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7 History of the World Wide Web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ld Wide We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0: Tim Berners-Lee (CER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e and view multimedia-based docu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formation instantly and conveniently accessible worldwi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ossible worldwide exposu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s and small 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hanging way business d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B189B-44C3-46C8-913D-5B37EC739F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World Wide Web Consortium (W3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94: Tim Berners-Le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elop nonproprietary, interoperable technologi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ndardization organ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ee hos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sachusetts Institute of Technology (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ance’s INRIA (Institut National de Recherche en Informatique et Automatiq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io University of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ver 400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y fina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ategic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BC64-D070-4EDC-B120-5619147971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1.18  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World Wide Web Consortium (W3C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 pha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evolving dr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le version that industry can begin to impl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ably mature Candidate Recommen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7768-D8CB-4660-8B40-87D5465F489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19 General Notes About C++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nd This Book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 geared toward novice program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ess programming clarit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are portable languag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 and C++ programs can run on many different comput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t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features of current versions of C++ not compatible with older implementa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1629-04AA-4F65-9E1A-6881C0D9D2D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0 Introduction to C++ Programmin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acilitates structured and disciplined approach to computer program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llowing several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llustrate many important features of C+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ach analyzed one statement at a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4E8E3-CF9A-44B9-99A7-DBB5A1F865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cument progra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mprove program read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gnored by compil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line com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rocessor dir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cessed by preprocessor before compil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gin with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D6B5-EF5C-466A-9CB6-4EFC1AE593F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2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2: fig01_02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 first program in C++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2895480"/>
            <a:ext cx="701028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2971800" y="228600"/>
            <a:ext cx="3505320" cy="337320"/>
            <a:chOff x="2971800" y="228600"/>
            <a:chExt cx="3505320" cy="337320"/>
          </a:xfrm>
        </p:grpSpPr>
        <p:sp>
          <p:nvSpPr>
            <p:cNvPr id="314" name=""/>
            <p:cNvSpPr/>
            <p:nvPr/>
          </p:nvSpPr>
          <p:spPr>
            <a:xfrm>
              <a:off x="4419720" y="228600"/>
              <a:ext cx="20574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ngle-line comment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flipV="1">
              <a:off x="2971800" y="30456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971800" y="38088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209680" y="665280"/>
            <a:ext cx="4114800" cy="824040"/>
            <a:chOff x="2209680" y="665280"/>
            <a:chExt cx="4114800" cy="824040"/>
          </a:xfrm>
        </p:grpSpPr>
        <p:sp>
          <p:nvSpPr>
            <p:cNvPr id="318" name=""/>
            <p:cNvSpPr/>
            <p:nvPr/>
          </p:nvSpPr>
          <p:spPr>
            <a:xfrm>
              <a:off x="3657600" y="66528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processor directive to include input/output stream header fil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iostream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2209680" y="741240"/>
              <a:ext cx="1447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1447920" y="993600"/>
            <a:ext cx="4114800" cy="824040"/>
            <a:chOff x="1447920" y="993600"/>
            <a:chExt cx="4114800" cy="824040"/>
          </a:xfrm>
        </p:grpSpPr>
        <p:sp>
          <p:nvSpPr>
            <p:cNvPr id="321" name=""/>
            <p:cNvSpPr/>
            <p:nvPr/>
          </p:nvSpPr>
          <p:spPr>
            <a:xfrm>
              <a:off x="2895840" y="99360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ppears exactly once in every C++ program.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447920" y="1145880"/>
              <a:ext cx="144792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533160" y="457200"/>
            <a:ext cx="4115160" cy="838080"/>
            <a:chOff x="533160" y="457200"/>
            <a:chExt cx="4115160" cy="838080"/>
          </a:xfrm>
        </p:grpSpPr>
        <p:sp>
          <p:nvSpPr>
            <p:cNvPr id="324" name=""/>
            <p:cNvSpPr/>
            <p:nvPr/>
          </p:nvSpPr>
          <p:spPr>
            <a:xfrm>
              <a:off x="1981080" y="4572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returns an integer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533160" y="6094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09480" y="741240"/>
            <a:ext cx="4114800" cy="838440"/>
            <a:chOff x="609480" y="741240"/>
            <a:chExt cx="4114800" cy="838440"/>
          </a:xfrm>
        </p:grpSpPr>
        <p:sp>
          <p:nvSpPr>
            <p:cNvPr id="327" name=""/>
            <p:cNvSpPr/>
            <p:nvPr/>
          </p:nvSpPr>
          <p:spPr>
            <a:xfrm>
              <a:off x="2057400" y="74124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f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gin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609480" y="8938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533160" y="1828800"/>
            <a:ext cx="4115160" cy="838080"/>
            <a:chOff x="533160" y="1828800"/>
            <a:chExt cx="4115160" cy="838080"/>
          </a:xfrm>
        </p:grpSpPr>
        <p:sp>
          <p:nvSpPr>
            <p:cNvPr id="330" name=""/>
            <p:cNvSpPr/>
            <p:nvPr/>
          </p:nvSpPr>
          <p:spPr>
            <a:xfrm>
              <a:off x="1981080" y="1828800"/>
              <a:ext cx="266724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rresponding right br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ds function bod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533160" y="198108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886200" y="990720"/>
            <a:ext cx="4114800" cy="837720"/>
            <a:chOff x="3886200" y="990720"/>
            <a:chExt cx="4114800" cy="837720"/>
          </a:xfrm>
        </p:grpSpPr>
        <p:sp>
          <p:nvSpPr>
            <p:cNvPr id="333" name=""/>
            <p:cNvSpPr/>
            <p:nvPr/>
          </p:nvSpPr>
          <p:spPr>
            <a:xfrm>
              <a:off x="5334120" y="9907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end with a semicol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886200" y="114300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066680" y="1920960"/>
            <a:ext cx="4114800" cy="980640"/>
            <a:chOff x="1066680" y="1920960"/>
            <a:chExt cx="4114800" cy="980640"/>
          </a:xfrm>
        </p:grpSpPr>
        <p:sp>
          <p:nvSpPr>
            <p:cNvPr id="336" name=""/>
            <p:cNvSpPr/>
            <p:nvPr/>
          </p:nvSpPr>
          <p:spPr>
            <a:xfrm>
              <a:off x="2514600" y="2320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am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longs to namespac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066680" y="1920960"/>
              <a:ext cx="1447920" cy="55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1752480" y="1905120"/>
            <a:ext cx="4114800" cy="683280"/>
            <a:chOff x="1752480" y="1905120"/>
            <a:chExt cx="4114800" cy="683280"/>
          </a:xfrm>
        </p:grpSpPr>
        <p:sp>
          <p:nvSpPr>
            <p:cNvPr id="339" name=""/>
            <p:cNvSpPr/>
            <p:nvPr/>
          </p:nvSpPr>
          <p:spPr>
            <a:xfrm>
              <a:off x="3200400" y="22510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insertion operat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1752480" y="1905120"/>
              <a:ext cx="1447920" cy="49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47560" y="2403000"/>
            <a:ext cx="4191120" cy="1727280"/>
            <a:chOff x="1447560" y="2403000"/>
            <a:chExt cx="4191120" cy="1727280"/>
          </a:xfrm>
        </p:grpSpPr>
        <p:sp>
          <p:nvSpPr>
            <p:cNvPr id="342" name=""/>
            <p:cNvSpPr/>
            <p:nvPr/>
          </p:nvSpPr>
          <p:spPr>
            <a:xfrm>
              <a:off x="2971800" y="2819520"/>
              <a:ext cx="2666880" cy="1310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wor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retur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one of several means to exit function; valu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0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dicates program terminated successful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1447560" y="2403000"/>
              <a:ext cx="1523880" cy="56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858D-99E7-4F0F-8A8C-89FAD49C98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out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nnected” to scree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&lt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am insertion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to right (right operand) inserted into output strea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pecifies using name that belongs to “namespace”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removed through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cape charac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\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dicates “special” character outpu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96488-E382-4C70-83ED-C24BA68B599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    What is a Computer?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vice capable of performing computations and making logical decis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ts of instructions that control computer’s processing of da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ous devices comprising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screen, mouse, disks, memory, CD-ROM, processing unit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grams that run on compu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1F55B-26F3-4DEF-B3D0-4FD0C2A1F3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1 A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Printing a Line of Tex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063800" y="1879560"/>
          <a:ext cx="7089480" cy="474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879560"/>
                    <a:ext cx="7089480" cy="474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87DA-9B68-481D-814E-C5C0162082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31240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4: fig01_0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a line with multiple statement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to 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048120"/>
            <a:ext cx="7010280" cy="533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elcome to C++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2971800" y="990720"/>
            <a:ext cx="4114800" cy="990360"/>
            <a:chOff x="2971800" y="990720"/>
            <a:chExt cx="4114800" cy="990360"/>
          </a:xfrm>
        </p:grpSpPr>
        <p:sp>
          <p:nvSpPr>
            <p:cNvPr id="354" name=""/>
            <p:cNvSpPr/>
            <p:nvPr/>
          </p:nvSpPr>
          <p:spPr>
            <a:xfrm>
              <a:off x="4419720" y="990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ultiple stream insertion statements produce one line of out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71800" y="1143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123720" y="1143000"/>
              <a:ext cx="12956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13441-8E3A-4B05-AD09-2E9AC2D619D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5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28954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5: fig01_05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ing multiple lines with a single statemen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Welcome\nto\n\nC++!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819520"/>
            <a:ext cx="701028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++!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2666880" y="914400"/>
            <a:ext cx="4114800" cy="837720"/>
            <a:chOff x="2666880" y="914400"/>
            <a:chExt cx="4114800" cy="837720"/>
          </a:xfrm>
        </p:grpSpPr>
        <p:sp>
          <p:nvSpPr>
            <p:cNvPr id="361" name=""/>
            <p:cNvSpPr/>
            <p:nvPr/>
          </p:nvSpPr>
          <p:spPr>
            <a:xfrm>
              <a:off x="4114800" y="91440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newline characters to print on multiple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666880" y="1066680"/>
              <a:ext cx="1447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3047760" y="1066680"/>
              <a:ext cx="106704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3352320" y="1066680"/>
              <a:ext cx="7621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809520" y="1066680"/>
              <a:ext cx="30492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C2071-82EF-4015-BFA5-627881956E19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ocation in memory where value can be sto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mon data typ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integer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floating point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clare variables with name and data type before u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declare several variables of same type in one declar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a-separa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integer1, integer2, su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4AA0-0F7B-4ADA-9E48-4CBA26FC429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ident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es of characters (letters, digits, underscor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not begin with dig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se sen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4310-82F4-4F85-91D8-55EB1FD869A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2 Another Simple Program: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Adding Two Integ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stream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stream extraction operator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d::c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s for user to input value, then pres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Return)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value in variable to right of 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value to variable data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ssignment opera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s value to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operator (two opera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variable1 + variable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08637-512F-4E1A-9EA6-645C0688992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54864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6: fig01_06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ddition program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input by user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input by user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um;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variable in which sum will be stored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first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1;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 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second integer\n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mp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in &gt;&gt; integer2;            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an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um = integer1 + integer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assign result to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std::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Sum is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sum &lt;&lt; std::endl;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int sum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523880" y="1336680"/>
            <a:ext cx="4648320" cy="949320"/>
            <a:chOff x="1523880" y="1336680"/>
            <a:chExt cx="4648320" cy="949320"/>
          </a:xfrm>
        </p:grpSpPr>
        <p:sp>
          <p:nvSpPr>
            <p:cNvPr id="375" name=""/>
            <p:cNvSpPr/>
            <p:nvPr/>
          </p:nvSpPr>
          <p:spPr>
            <a:xfrm>
              <a:off x="3505320" y="1336680"/>
              <a:ext cx="266688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integer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2057400" y="1523880"/>
              <a:ext cx="1447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2057400" y="152388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523880" y="1523880"/>
              <a:ext cx="198144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1676160" y="1981080"/>
            <a:ext cx="4115160" cy="838440"/>
            <a:chOff x="1676160" y="1981080"/>
            <a:chExt cx="4115160" cy="838440"/>
          </a:xfrm>
        </p:grpSpPr>
        <p:sp>
          <p:nvSpPr>
            <p:cNvPr id="380" name=""/>
            <p:cNvSpPr/>
            <p:nvPr/>
          </p:nvSpPr>
          <p:spPr>
            <a:xfrm>
              <a:off x="3124080" y="198108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e stream extraction operator with standard input stream to obtain user inpu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1676160" y="213372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343400" y="3484440"/>
            <a:ext cx="4114800" cy="1067400"/>
            <a:chOff x="4343400" y="3484440"/>
            <a:chExt cx="4114800" cy="1067400"/>
          </a:xfrm>
        </p:grpSpPr>
        <p:sp>
          <p:nvSpPr>
            <p:cNvPr id="383" name=""/>
            <p:cNvSpPr/>
            <p:nvPr/>
          </p:nvSpPr>
          <p:spPr>
            <a:xfrm>
              <a:off x="5791320" y="3484440"/>
              <a:ext cx="266688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ream manipulat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endl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s a newline, then “flushes output buffer.”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4343400" y="363708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1828440" y="4543560"/>
            <a:ext cx="5677200" cy="1400040"/>
            <a:chOff x="1828440" y="4543560"/>
            <a:chExt cx="5677200" cy="1400040"/>
          </a:xfrm>
        </p:grpSpPr>
        <p:sp>
          <p:nvSpPr>
            <p:cNvPr id="386" name=""/>
            <p:cNvSpPr/>
            <p:nvPr/>
          </p:nvSpPr>
          <p:spPr>
            <a:xfrm>
              <a:off x="4838760" y="511956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catenating, chaining or cascading stream insertion opera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3543480" y="4543560"/>
              <a:ext cx="129528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2971800" y="4543560"/>
              <a:ext cx="1866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1828440" y="4543560"/>
              <a:ext cx="3009960" cy="72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1676160" y="3400560"/>
            <a:ext cx="7086960" cy="1006560"/>
            <a:chOff x="1676160" y="3400560"/>
            <a:chExt cx="7086960" cy="1006560"/>
          </a:xfrm>
        </p:grpSpPr>
        <p:sp>
          <p:nvSpPr>
            <p:cNvPr id="391" name=""/>
            <p:cNvSpPr/>
            <p:nvPr/>
          </p:nvSpPr>
          <p:spPr>
            <a:xfrm>
              <a:off x="3124080" y="3400560"/>
              <a:ext cx="5639040" cy="1006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ulations can be performed in output statements: alternative for lines 18 and 20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td::cout &lt;&lt; </a:t>
              </a:r>
              <a:r>
                <a:rPr b="1" lang="en-US" sz="1200" spc="-1" strike="noStrike">
                  <a:solidFill>
                    <a:srgbClr val="0099ff"/>
                  </a:solidFill>
                  <a:latin typeface="Courier New"/>
                  <a:ea typeface="Courier New"/>
                </a:rPr>
                <a:t>"Sum is "</a:t>
              </a: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&lt;&lt; integer1 + integer2 &lt;&lt; std::endl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676160" y="3552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B1F94-CEED-4E2F-85D6-B0ED9C7C6A6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06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1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first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45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second integ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2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m is 11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806C-1AF9-4857-9B19-4A10A803262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rrespond to actual locations in computer's memo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very variable has name, type, size and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new value placed into variable, overwrites previous va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ading variables from memory nondestruc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E5018-C8C3-49BE-AE7C-6BBCF9D077F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815080" y="2406600"/>
            <a:ext cx="2109600" cy="1022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15080" y="1219320"/>
            <a:ext cx="2109600" cy="609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15080" y="4038480"/>
            <a:ext cx="2109600" cy="1479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3 Memory Concep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4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d::cin &gt;&gt;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ume user entered 7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 = integer1 + integer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890680" y="1371600"/>
            <a:ext cx="1957680" cy="321120"/>
            <a:chOff x="5890680" y="1371600"/>
            <a:chExt cx="1957680" cy="321120"/>
          </a:xfrm>
        </p:grpSpPr>
        <p:sp>
          <p:nvSpPr>
            <p:cNvPr id="403" name=""/>
            <p:cNvSpPr/>
            <p:nvPr/>
          </p:nvSpPr>
          <p:spPr>
            <a:xfrm>
              <a:off x="7251480" y="13716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57680" y="13888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90680" y="13874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89000" y="13716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890680" y="2527200"/>
            <a:ext cx="1957680" cy="321120"/>
            <a:chOff x="5890680" y="2527200"/>
            <a:chExt cx="1957680" cy="321120"/>
          </a:xfrm>
        </p:grpSpPr>
        <p:sp>
          <p:nvSpPr>
            <p:cNvPr id="408" name=""/>
            <p:cNvSpPr/>
            <p:nvPr/>
          </p:nvSpPr>
          <p:spPr>
            <a:xfrm>
              <a:off x="7251480" y="252720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57680" y="254448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890680" y="254304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89000" y="252720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890680" y="3000240"/>
            <a:ext cx="1957680" cy="321120"/>
            <a:chOff x="5890680" y="3000240"/>
            <a:chExt cx="1957680" cy="321120"/>
          </a:xfrm>
        </p:grpSpPr>
        <p:sp>
          <p:nvSpPr>
            <p:cNvPr id="413" name=""/>
            <p:cNvSpPr/>
            <p:nvPr/>
          </p:nvSpPr>
          <p:spPr>
            <a:xfrm>
              <a:off x="7251480" y="300024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57680" y="301752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90680" y="301608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389000" y="300024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5890680" y="4159080"/>
            <a:ext cx="1957680" cy="321120"/>
            <a:chOff x="5890680" y="4159080"/>
            <a:chExt cx="1957680" cy="321120"/>
          </a:xfrm>
        </p:grpSpPr>
        <p:sp>
          <p:nvSpPr>
            <p:cNvPr id="418" name=""/>
            <p:cNvSpPr/>
            <p:nvPr/>
          </p:nvSpPr>
          <p:spPr>
            <a:xfrm>
              <a:off x="7251480" y="41590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57680" y="41763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890680" y="41749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389000" y="41590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4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5890680" y="4616280"/>
            <a:ext cx="1957680" cy="321120"/>
            <a:chOff x="5890680" y="4616280"/>
            <a:chExt cx="1957680" cy="321120"/>
          </a:xfrm>
        </p:grpSpPr>
        <p:sp>
          <p:nvSpPr>
            <p:cNvPr id="423" name=""/>
            <p:cNvSpPr/>
            <p:nvPr/>
          </p:nvSpPr>
          <p:spPr>
            <a:xfrm>
              <a:off x="7251480" y="4616280"/>
              <a:ext cx="596880" cy="301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457680" y="4633560"/>
              <a:ext cx="63000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90680" y="4632120"/>
              <a:ext cx="1220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ege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389000" y="4616280"/>
              <a:ext cx="305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7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6458040" y="5089680"/>
            <a:ext cx="1390680" cy="320760"/>
            <a:chOff x="6458040" y="5089680"/>
            <a:chExt cx="1390680" cy="320760"/>
          </a:xfrm>
        </p:grpSpPr>
        <p:sp>
          <p:nvSpPr>
            <p:cNvPr id="428" name=""/>
            <p:cNvSpPr/>
            <p:nvPr/>
          </p:nvSpPr>
          <p:spPr>
            <a:xfrm>
              <a:off x="7251840" y="5089680"/>
              <a:ext cx="596880" cy="3013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458040" y="5106600"/>
              <a:ext cx="63036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77200" y="5105160"/>
              <a:ext cx="51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89720" y="5089680"/>
              <a:ext cx="457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11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88306-2015-43DB-9252-1BD5FFBDDCE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put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tains information from input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board, mouse, microphone, scanner, networks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utput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pp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kes information processed by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s information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reen, printer, networks, …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used to control other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3BE1C-C742-4A30-858D-F824ACDD77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thmetic 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division truncates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/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ulus operator returns remai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7 % 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valuates t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22C29-6230-44E0-80A0-B42E0632FC4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4      Arithmetic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of operator prece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s in parentheses evaluated fir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/embedded parenthe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in innermost pair fir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ltiplication, division, modulus applied nex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dition, subtraction appli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applied from left to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633240" y="4108320"/>
          <a:ext cx="782496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3240" y="4108320"/>
                    <a:ext cx="78249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FB6B-2AEC-4418-80B7-3CC2C944792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ke decision based on truth or falsity of condi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dition met, body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, body not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ality and relational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quality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level of prece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e left to righ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D59F9-BF2A-490B-BF0B-3AA46B38926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-1295280" y="1447920"/>
          <a:ext cx="11734560" cy="444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295280" y="1447920"/>
                    <a:ext cx="1173456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AB13-5629-4156-8ABF-002112059C0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5  Decision Making: Equality and Relational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liminate use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refi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rit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ut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d::co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74CA-7123-4B8B-9B2D-BF7CC59830C5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56386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g. 1.14: fig01_14.cpp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Using if statements, relationa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  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operators, and equality operators.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#includ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iostream&gt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5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6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out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out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7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cin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cin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8  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using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d::endl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program uses endl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9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0 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unction main begins program executio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1 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1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first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2;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second number to be read from user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out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Enter two integers, and I will tell you\n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the relationships they satisfy: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cin &gt;&gt; num1 &gt;&gt; num2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read two integers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1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== num2 )                            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1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2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!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not equal to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905120" y="1371240"/>
            <a:ext cx="4991040" cy="657360"/>
            <a:chOff x="1905120" y="1371240"/>
            <a:chExt cx="4991040" cy="657360"/>
          </a:xfrm>
        </p:grpSpPr>
        <p:sp>
          <p:nvSpPr>
            <p:cNvPr id="448" name=""/>
            <p:cNvSpPr/>
            <p:nvPr/>
          </p:nvSpPr>
          <p:spPr>
            <a:xfrm>
              <a:off x="4229280" y="14479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using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atements eliminate need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1905120" y="1600200"/>
              <a:ext cx="232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>
              <a:off x="1905120" y="1371240"/>
              <a:ext cx="2324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1905120" y="1600200"/>
              <a:ext cx="232416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990360" y="2670120"/>
            <a:ext cx="4305600" cy="1292400"/>
            <a:chOff x="990360" y="2670120"/>
            <a:chExt cx="4305600" cy="1292400"/>
          </a:xfrm>
        </p:grpSpPr>
        <p:sp>
          <p:nvSpPr>
            <p:cNvPr id="453" name=""/>
            <p:cNvSpPr/>
            <p:nvPr/>
          </p:nvSpPr>
          <p:spPr>
            <a:xfrm>
              <a:off x="2629080" y="267012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n writ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ithou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d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prefix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1181160" y="28224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990360" y="2822400"/>
              <a:ext cx="1638360" cy="11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1599840" y="2038320"/>
            <a:ext cx="3200760" cy="1085760"/>
            <a:chOff x="1599840" y="2038320"/>
            <a:chExt cx="3200760" cy="1085760"/>
          </a:xfrm>
        </p:grpSpPr>
        <p:sp>
          <p:nvSpPr>
            <p:cNvPr id="457" name=""/>
            <p:cNvSpPr/>
            <p:nvPr/>
          </p:nvSpPr>
          <p:spPr>
            <a:xfrm>
              <a:off x="3124080" y="2038320"/>
              <a:ext cx="167652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lare variabl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1676160" y="219060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1599840" y="2190600"/>
              <a:ext cx="152388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76160" y="3508200"/>
            <a:ext cx="4115160" cy="838440"/>
            <a:chOff x="1676160" y="3508200"/>
            <a:chExt cx="4115160" cy="838440"/>
          </a:xfrm>
        </p:grpSpPr>
        <p:sp>
          <p:nvSpPr>
            <p:cNvPr id="461" name=""/>
            <p:cNvSpPr/>
            <p:nvPr/>
          </p:nvSpPr>
          <p:spPr>
            <a:xfrm>
              <a:off x="3124080" y="350820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1676160" y="3660840"/>
              <a:ext cx="14475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895480" y="3768840"/>
            <a:ext cx="4114800" cy="838080"/>
            <a:chOff x="2895480" y="3768840"/>
            <a:chExt cx="4114800" cy="838080"/>
          </a:xfrm>
        </p:grpSpPr>
        <p:sp>
          <p:nvSpPr>
            <p:cNvPr id="464" name=""/>
            <p:cNvSpPr/>
            <p:nvPr/>
          </p:nvSpPr>
          <p:spPr>
            <a:xfrm>
              <a:off x="4343400" y="376884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2895480" y="39211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676160" y="4191120"/>
            <a:ext cx="4115160" cy="837720"/>
            <a:chOff x="1676160" y="4191120"/>
            <a:chExt cx="4115160" cy="837720"/>
          </a:xfrm>
        </p:grpSpPr>
        <p:sp>
          <p:nvSpPr>
            <p:cNvPr id="467" name=""/>
            <p:cNvSpPr/>
            <p:nvPr/>
          </p:nvSpPr>
          <p:spPr>
            <a:xfrm>
              <a:off x="3124080" y="4191120"/>
              <a:ext cx="26672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f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structure compares values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1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2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o test for inequalit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1676160" y="4343400"/>
              <a:ext cx="1447560" cy="6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2895480" y="4419720"/>
            <a:ext cx="4114800" cy="838080"/>
            <a:chOff x="2895480" y="4419720"/>
            <a:chExt cx="4114800" cy="838080"/>
          </a:xfrm>
        </p:grpSpPr>
        <p:sp>
          <p:nvSpPr>
            <p:cNvPr id="470" name=""/>
            <p:cNvSpPr/>
            <p:nvPr/>
          </p:nvSpPr>
          <p:spPr>
            <a:xfrm>
              <a:off x="4343400" y="4419720"/>
              <a:ext cx="26668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condition is true (i.e., values are not equal), execute this stat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2895480" y="457200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2E661-6448-4BA8-B9D0-95FA9A04393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2 of 2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1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-360" y="-360"/>
            <a:ext cx="7010280" cy="396252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8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29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greater than 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l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3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" is less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4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5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6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 num1 &gt;= num2 )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7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cout &lt;&lt; num1 &lt;&lt;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 " is greater than or equal to "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8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&lt;&lt; num2 &lt;&lt; endl;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39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0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99ff"/>
                </a:solidFill>
                <a:latin typeface="Courier New"/>
                <a:ea typeface="Courier New"/>
              </a:rPr>
              <a:t>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 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indicate that program ended successfully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1   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AvantGarde"/>
                <a:ea typeface="Times New Roman"/>
              </a:rPr>
              <a:t>42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Courier New"/>
              </a:rPr>
              <a:t>// end function main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886200"/>
            <a:ext cx="7010280" cy="137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2880" bIns="1828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22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not equal to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2 is greater than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22 is greater than or equal to 1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952880" y="1066680"/>
            <a:ext cx="4114800" cy="838440"/>
            <a:chOff x="4952880" y="1066680"/>
            <a:chExt cx="4114800" cy="838440"/>
          </a:xfrm>
        </p:grpSpPr>
        <p:sp>
          <p:nvSpPr>
            <p:cNvPr id="476" name=""/>
            <p:cNvSpPr/>
            <p:nvPr/>
          </p:nvSpPr>
          <p:spPr>
            <a:xfrm>
              <a:off x="6400800" y="1066680"/>
              <a:ext cx="26668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tatements may be split over several line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952880" y="1219320"/>
              <a:ext cx="14479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AAFD2-007C-4AB6-B90A-72025EB67DA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086240" y="83772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g01_14.cp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utput (2 of 2)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-360" y="0"/>
            <a:ext cx="7010280" cy="1447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182880" bIns="1828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two integers, and I will tell you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relationships they satisfy: 7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7 is less than or equal to 7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 is greater than or equal to 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1D3C8-C332-4F59-93C8-CEF797237806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 oriented programming (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real-world objects with software counterpar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ttributes (state) - properties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, shape, color, weight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Behaviors (operations) - a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all rolls, bounces, inflates and def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can perform action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classes of objects absorb characteristics from existing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apsulate data a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tion hi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e across well-defined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122D-56FE-44F1-B975-759E2D66DF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-defined types (classes, compon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ata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components of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use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2D53B-75E4-412C-9FED-ED049697BA9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ory uni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access, relatively low capacity “warehouse” se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information from input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mediately available for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ains processed inform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til placed on out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,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hmetic and logic unit (ALU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facturing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s arithmetic calculations and logic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B6846-7B7D-494E-A9C9-6344BBB7D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-oriented analysis and design (OOAD)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alysis of project’s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ign for satisfying requiremen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seudoco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l means of expressing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line to guid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8F8B9-CA60-471E-8B52-F6B191C7246D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26 Thinking About Objects: Introduction to Object Technology and the Unified Modeling Languag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ied Modeling Language (UM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001: Object Management Group (OMG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eased UML version 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odel object-oriented systems and aid desig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lexi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end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of many OOAD pro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standard set of no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lex, feature-rich graphical languag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9B75-090F-4270-AA9C-889312E9E62E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3 Computer Organiza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 logical units of compu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entral processing unit (CPU)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v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vises and coordinates other sections of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ary storage unit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-term, high-capacity “warehouse”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tive programs o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y storage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to access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expensive per unit than primary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F288-6E11-4DF7-A733-E86190079E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rly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ngle-user batch process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job or task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 data in groups (batch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ks of punched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ng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ftwar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age transitions between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reased throughp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unt of work computers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EE3A-9D77-4601-A864-FE69BB8555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1.4 Evolution of Operating System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any jobs or tasks sharing computer’s resour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multaneous” operation of many job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960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pecial case of multiprogra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rs access computer through termin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ices with keyboards and scre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zens, even hundreds of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erform small portion of one user’s job, then moves on to service next us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dvantag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receives almost immediate responses to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18AF-E64E-4BF3-80C4-4AA6DC8693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1T20:42:50Z</dcterms:created>
  <dc:creator>Audrey Lee</dc:creator>
  <dc:description/>
  <dc:language>en-US</dc:language>
  <cp:lastModifiedBy>Pearson Education</cp:lastModifiedBy>
  <dcterms:modified xsi:type="dcterms:W3CDTF">2002-08-01T20:29:32Z</dcterms:modified>
  <cp:revision>147</cp:revision>
  <dc:subject/>
  <dc:title>Chapter 1 – Introduction to Computers and C++ Programming</dc:title>
</cp:coreProperties>
</file>