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</p:sldIdLst>
  <p:sldSz cx="9144000" cy="6858000"/>
  <p:notesSz cx="6948488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F20FBB-882B-4968-A5AC-7E8CA2A870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701028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-360" y="2945160"/>
            <a:ext cx="701028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1C42A8-EBB6-4DB7-AB69-8AC383CFEB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91720" y="-3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-360" y="29451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591720" y="29451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255053-4E8B-4DAE-A263-0D1867D288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22572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370240" y="-360"/>
            <a:ext cx="22572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740480" y="-360"/>
            <a:ext cx="22572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-360" y="2945160"/>
            <a:ext cx="22572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370240" y="2945160"/>
            <a:ext cx="22572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4740480" y="2945160"/>
            <a:ext cx="22572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6C57B8-43E8-471B-B550-05465473EF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B200C8-7C3D-4995-B024-FA9D20FB68E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681DF0-20D0-40F0-B527-9FF9C3DBFCB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DACF52-9A17-4501-9959-CA8E61BE3BD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342072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591720" y="-360"/>
            <a:ext cx="342072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F59380-5018-4756-AC52-A0DB72D2F75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2F189E-073A-4303-924B-B685F9EB51F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7086240" y="837720"/>
            <a:ext cx="2057400" cy="222541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9177A3-913A-4603-B063-0749DE68F6B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3591720" y="-360"/>
            <a:ext cx="342072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-360" y="29451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464D2C-5831-4D03-863C-63BEEC93B02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09AA67-B285-4DB8-B50C-67A8E68A2D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342072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591720" y="-3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591720" y="29451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038AF8-F383-4158-8F07-EFF18761D32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591720" y="-3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-360" y="2945160"/>
            <a:ext cx="701028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3B730D-732F-44AF-806F-B4F93C3D582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701028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-360" y="2945160"/>
            <a:ext cx="701028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B69FC0-C047-4CEF-8062-B9915D58B76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91720" y="-3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-360" y="29451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591720" y="29451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31F0B2-6EB2-495B-BEEE-4759653018E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22572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2370240" y="-360"/>
            <a:ext cx="22572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740480" y="-360"/>
            <a:ext cx="22572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-360" y="2945160"/>
            <a:ext cx="22572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2370240" y="2945160"/>
            <a:ext cx="22572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4740480" y="2945160"/>
            <a:ext cx="22572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0DDBB2-2ECE-4485-9DDD-EA8A865D9F0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937A5C-E47E-4DEE-A7F9-197E085055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342072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3591720" y="-360"/>
            <a:ext cx="342072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94CF03-A2BA-4E28-8603-C0552EE177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DA1E98-1B6C-47CE-A3B9-949C5EB8CE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086240" y="837720"/>
            <a:ext cx="2057400" cy="222541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7C8A9A-6B49-4A47-81D8-E91413CFE6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591720" y="-360"/>
            <a:ext cx="342072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-360" y="29451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73F2BF-6A4D-47C5-8490-385EF0260F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342072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591720" y="-3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591720" y="29451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551FE3-E9F7-4425-B3BD-58EF2CBA01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591720" y="-3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-360" y="2945160"/>
            <a:ext cx="701028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4B9173-427D-4D27-A095-ED3D4FB994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lick to edit the title text forma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553080"/>
            <a:ext cx="358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3 Prentice Hall, Inc. 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nextslide"/>
          </p:cNvPr>
          <p:cNvSpPr/>
          <p:nvPr/>
        </p:nvSpPr>
        <p:spPr>
          <a:xfrm>
            <a:off x="3886200" y="655308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previousslide"/>
          </p:cNvPr>
          <p:cNvSpPr/>
          <p:nvPr/>
        </p:nvSpPr>
        <p:spPr>
          <a:xfrm rot="10800000">
            <a:off x="3505320" y="655272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3794"/>
                </a:moveTo>
                <a:lnTo>
                  <a:pt x="21390" y="10800"/>
                </a:lnTo>
                <a:lnTo>
                  <a:pt x="7377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85CB8-5537-4BEF-B512-424AD354D9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7086600" y="6324480"/>
            <a:ext cx="198108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3 Prentice Hall, Inc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162920" y="15228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vantGarde"/>
              </a:rPr>
              <a:t>Out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7086240" y="76320"/>
            <a:ext cx="305280" cy="685800"/>
            <a:chOff x="7086240" y="76320"/>
            <a:chExt cx="305280" cy="685800"/>
          </a:xfrm>
        </p:grpSpPr>
        <p:sp>
          <p:nvSpPr>
            <p:cNvPr id="45" name="">
              <a:hlinkClick r:id="" action="ppaction://hlinkshowjump?jump=previousslide"/>
            </p:cNvPr>
            <p:cNvSpPr/>
            <p:nvPr/>
          </p:nvSpPr>
          <p:spPr>
            <a:xfrm rot="5400000">
              <a:off x="7086240" y="75960"/>
              <a:ext cx="304920" cy="304920"/>
            </a:xfrm>
            <a:custGeom>
              <a:avLst/>
              <a:gdLst>
                <a:gd name="textAreaLeft" fmla="*/ 19440 w 304920"/>
                <a:gd name="textAreaRight" fmla="*/ 285480 w 30492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1600" h="21600">
                  <a:moveTo>
                    <a:pt x="3794" y="10800"/>
                  </a:moveTo>
                  <a:lnTo>
                    <a:pt x="17806" y="3794"/>
                  </a:lnTo>
                  <a:lnTo>
                    <a:pt x="17806" y="17806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>
              <a:hlinkClick r:id="" action="ppaction://hlinkshowjump?jump=nextslide"/>
            </p:cNvPr>
            <p:cNvSpPr/>
            <p:nvPr/>
          </p:nvSpPr>
          <p:spPr>
            <a:xfrm rot="16200000">
              <a:off x="7086600" y="457200"/>
              <a:ext cx="304560" cy="304920"/>
            </a:xfrm>
            <a:custGeom>
              <a:avLst/>
              <a:gdLst>
                <a:gd name="textAreaLeft" fmla="*/ 19440 w 304560"/>
                <a:gd name="textAreaRight" fmla="*/ 285120 w 30456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26">
                  <a:moveTo>
                    <a:pt x="0" y="0"/>
                  </a:moveTo>
                  <a:lnTo>
                    <a:pt x="21600" y="0"/>
                  </a:lnTo>
                  <a:lnTo>
                    <a:pt x="21600" y="21626"/>
                  </a:lnTo>
                  <a:lnTo>
                    <a:pt x="0" y="21626"/>
                  </a:lnTo>
                  <a:close/>
                </a:path>
                <a:path fill="lightenLess" w="21600" h="21626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26">
                  <a:moveTo>
                    <a:pt x="21600" y="0"/>
                  </a:moveTo>
                  <a:lnTo>
                    <a:pt x="21600" y="21626"/>
                  </a:lnTo>
                  <a:lnTo>
                    <a:pt x="20200" y="20226"/>
                  </a:lnTo>
                  <a:lnTo>
                    <a:pt x="20200" y="1400"/>
                  </a:lnTo>
                  <a:close/>
                </a:path>
                <a:path fill="darkenLess" w="21600" h="21626">
                  <a:moveTo>
                    <a:pt x="21600" y="21626"/>
                  </a:moveTo>
                  <a:lnTo>
                    <a:pt x="0" y="21626"/>
                  </a:lnTo>
                  <a:lnTo>
                    <a:pt x="1400" y="20226"/>
                  </a:lnTo>
                  <a:lnTo>
                    <a:pt x="20200" y="20226"/>
                  </a:lnTo>
                  <a:close/>
                </a:path>
                <a:path fill="lighten" w="21600" h="21626">
                  <a:moveTo>
                    <a:pt x="0" y="21626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26"/>
                  </a:lnTo>
                  <a:close/>
                </a:path>
                <a:path fill="darken" w="21600" h="21626">
                  <a:moveTo>
                    <a:pt x="3794" y="10813"/>
                  </a:moveTo>
                  <a:lnTo>
                    <a:pt x="17806" y="3806"/>
                  </a:lnTo>
                  <a:lnTo>
                    <a:pt x="17806" y="17819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6705720" y="838080"/>
            <a:ext cx="243828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sldNum" idx="2"/>
          </p:nvPr>
        </p:nvSpPr>
        <p:spPr>
          <a:xfrm>
            <a:off x="8686800" y="0"/>
            <a:ext cx="457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DD200-0CA6-4525-A61A-B274EF59B1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apter 3 - Functions</a:t>
            </a:r>
            <a:endParaRPr b="1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8" name=""/>
          <p:cNvSpPr/>
          <p:nvPr/>
        </p:nvSpPr>
        <p:spPr>
          <a:xfrm>
            <a:off x="609480" y="1143000"/>
            <a:ext cx="77724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AvantGarde"/>
              </a:rPr>
              <a:t>Outline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3.1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Introduction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3.2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Program Components in C++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3.3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Math Library Functions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3.4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Functions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3.5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Function Definitions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3.6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Function Prototypes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3.7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Header Files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3.8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Random Number Generation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3.9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Example: A Game of Chance and Introducing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enum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3.10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Storage Classes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3.11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Scope Rules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3.12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Recursion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3.13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Example Using Recursion: The Fibonacci Series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3.14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Recursion vs. Iteration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3.15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Functions with Empty Parameter Lists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290D73-2389-4823-BEAC-5C453EA4795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3.5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Function Definition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nction prototy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ells compiler argument type and return type of func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square( int 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unction takes a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returns a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plained in more detail lat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lling/invoking a 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quare(x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arentheses an operator used to call func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ss argument 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unction gets its own copy of argu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fter finished, passes back resul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CEB49-304B-41D4-B0A9-180E47D862A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3.5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Function Definition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mat for function defini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return-value-type  function-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parameter-lis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)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{</a:t>
            </a:r>
            <a:br>
              <a:rPr sz="2200"/>
            </a:b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  declarations and statements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arameter lis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a separated list of argu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 type needed for each argu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no arguments, 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oi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r leave blan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turn-value-typ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 type of result returned (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oi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f nothing return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56E81A-16B4-4868-8460-948C08A0C86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3.5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Function Definition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 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square( int y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y * 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retur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keywo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turns data, and control goes to function’s call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no data to return, 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unction ends when reaches right bra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rol goes to ca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nctions cannot be defined inside other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xt: program exam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9C9254-26E6-4E63-8DC0-DEAC5347599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3_03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0292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3.3: fig03_03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reating and using a programmer-defined function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quar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function prototyp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loop 10 times and calculate and output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quare of x each ti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x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x &lt;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x++ )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square( x )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unction cal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dicates successful termin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2590560" y="2362320"/>
            <a:ext cx="4115160" cy="838080"/>
            <a:chOff x="2590560" y="2362320"/>
            <a:chExt cx="4115160" cy="838080"/>
          </a:xfrm>
        </p:grpSpPr>
        <p:sp>
          <p:nvSpPr>
            <p:cNvPr id="115" name=""/>
            <p:cNvSpPr/>
            <p:nvPr/>
          </p:nvSpPr>
          <p:spPr>
            <a:xfrm>
              <a:off x="4038480" y="2362320"/>
              <a:ext cx="266724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renthese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()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cause function to be called. When done, it returns the resul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flipH="1">
              <a:off x="2590560" y="251460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1676160" y="762120"/>
            <a:ext cx="4115160" cy="1310760"/>
            <a:chOff x="1676160" y="762120"/>
            <a:chExt cx="4115160" cy="1310760"/>
          </a:xfrm>
        </p:grpSpPr>
        <p:sp>
          <p:nvSpPr>
            <p:cNvPr id="118" name=""/>
            <p:cNvSpPr/>
            <p:nvPr/>
          </p:nvSpPr>
          <p:spPr>
            <a:xfrm>
              <a:off x="3124080" y="762120"/>
              <a:ext cx="2667240" cy="1310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Function prototype: specifies data types of arguments and return values.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quar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expects an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, and returns a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flipH="1">
              <a:off x="1676160" y="91440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E37FFE-4409-4B05-B15B-A1F58F98A51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3_03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2)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3_03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1828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quare function definition returns square of an integer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quar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y )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y is a copy of argument to func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     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y * y;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returns square of y as an int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square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1676520"/>
            <a:ext cx="7010280" cy="60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  4  9  16  25  36  49  64  81  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2057400" y="990720"/>
            <a:ext cx="4495680" cy="1122480"/>
            <a:chOff x="2057400" y="990720"/>
            <a:chExt cx="4495680" cy="1122480"/>
          </a:xfrm>
        </p:grpSpPr>
        <p:sp>
          <p:nvSpPr>
            <p:cNvPr id="124" name=""/>
            <p:cNvSpPr/>
            <p:nvPr/>
          </p:nvSpPr>
          <p:spPr>
            <a:xfrm>
              <a:off x="3886200" y="1289160"/>
              <a:ext cx="26668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efinition of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quar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y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is a copy of the argument passed. Return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y * y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, or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y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squared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 flipH="1" flipV="1">
              <a:off x="2057400" y="990720"/>
              <a:ext cx="182880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8C932A-73C9-48EF-8957-16D1382B661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3_04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3.4: fig03_04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nding the maximum of three floating-point numbers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i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ximum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unction prototyp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umber1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umber2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umber3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Enter three floating-point numbers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in &gt;&gt; number1 &gt;&gt; number2 &gt;&gt; number3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number1, number2 and number3 are arguments to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the maximum function cal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Maximum is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maximum( number1, number2, number3 )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dicates successful termin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1828440" y="2209320"/>
            <a:ext cx="3810240" cy="1434240"/>
            <a:chOff x="1828440" y="2209320"/>
            <a:chExt cx="3810240" cy="1434240"/>
          </a:xfrm>
        </p:grpSpPr>
        <p:sp>
          <p:nvSpPr>
            <p:cNvPr id="129" name=""/>
            <p:cNvSpPr/>
            <p:nvPr/>
          </p:nvSpPr>
          <p:spPr>
            <a:xfrm>
              <a:off x="2971800" y="2819520"/>
              <a:ext cx="26668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Functio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maximum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takes 3 arguments (all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) and returns a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flipH="1" flipV="1">
              <a:off x="1828440" y="2209320"/>
              <a:ext cx="114300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6F55E0-B01E-40C4-AC82-C418439078A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3_04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2)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3_04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44197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unction maximum definition;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x, y and z are parameters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ximum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x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y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z )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x = x;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ssume x is largest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y &gt; max )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// if y is larger,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max = y;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ssign y to max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z &gt; max )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f z is larger,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max = z;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ssign z to max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x;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max is largest value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maximum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4267080"/>
            <a:ext cx="7010280" cy="19814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nter three floating-point numbers: 99.32 37.3 27.192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aximum is: 99.3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nter three floating-point numbers: 1.1 3.333 2.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aximum is: 3.33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nter three floating-point numbers: 27.9 14.31 88.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aximum is: 88.99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2514600" y="457200"/>
            <a:ext cx="4114800" cy="838080"/>
            <a:chOff x="2514600" y="457200"/>
            <a:chExt cx="4114800" cy="838080"/>
          </a:xfrm>
        </p:grpSpPr>
        <p:sp>
          <p:nvSpPr>
            <p:cNvPr id="135" name=""/>
            <p:cNvSpPr/>
            <p:nvPr/>
          </p:nvSpPr>
          <p:spPr>
            <a:xfrm>
              <a:off x="3962520" y="45720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mma separated list for multiple parameter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flipH="1">
              <a:off x="2514600" y="60948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BCCD3A-0912-4E92-8E2A-63EA0F52288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3.6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Function Prototyp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nction prototype contai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unction nam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arameters (number and data type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turn type 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void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if returns nothing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nly needed if function definition after function cal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totype must match function defini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unction prototyp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ouble maximum( double, double, double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Defini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ouble maximum( double x, double y, double z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47D89D-8E66-44FC-9FE0-D588AFFF1F6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3.6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Function Prototyp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nction signa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art of prototype with name and paramet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ouble maximum( double, double, double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gument Coerc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orce arguments to be of proper typ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verting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4) t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oub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4.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ut &lt;&lt; sqrt(4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nversion ru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guments usually converted automatical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nging from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oub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 truncate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.4 to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ixed type goes to highest type (promotion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* dou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2743200" y="2286000"/>
            <a:ext cx="4038480" cy="503640"/>
            <a:chOff x="2743200" y="2286000"/>
            <a:chExt cx="4038480" cy="503640"/>
          </a:xfrm>
        </p:grpSpPr>
        <p:sp>
          <p:nvSpPr>
            <p:cNvPr id="142" name=""/>
            <p:cNvSpPr/>
            <p:nvPr/>
          </p:nvSpPr>
          <p:spPr>
            <a:xfrm>
              <a:off x="3352680" y="2482560"/>
              <a:ext cx="312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unction signatur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2743200" y="2514600"/>
              <a:ext cx="4038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743200" y="2286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781680" y="2286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FFBDBB-F92D-4FD3-AA26-2D6FA47F238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3.6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Function Prototyp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681120" y="1338120"/>
          <a:ext cx="7765920" cy="5170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1120" y="1338120"/>
                    <a:ext cx="7765920" cy="517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449A7C-1114-4685-ABD1-8F058A61228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apter 3 - Functions</a:t>
            </a:r>
            <a:endParaRPr b="1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0" name=""/>
          <p:cNvSpPr/>
          <p:nvPr/>
        </p:nvSpPr>
        <p:spPr>
          <a:xfrm>
            <a:off x="609480" y="1143000"/>
            <a:ext cx="54864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AvantGarde"/>
              </a:rPr>
              <a:t>Outline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3.16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Inline Functions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3.17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References and Reference Parameters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3.18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Default Arguments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3.19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Unary Scope Resolution Operator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3.20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Function Overloading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3.21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Function Templates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963E39-967A-4BCB-9D62-A3E9CFBF8FD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3.7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Header Fil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ader files cont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unction prototyp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finitions of data types and consta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ader files ending with .h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ogrammer-defined header fi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#include “myheader.h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brary header fi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#include &lt;cmath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3DBD0A-1F89-4653-B731-709F3D9398B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3.8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Random Number Genera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ra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unction (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&lt;cstdlib&gt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 = rand(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Generates unsigned integer between 0 and RAND_MAX (usually 32767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aling and shif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odulus (remainder) operator: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%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0 % 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 % 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betwe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y –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 = rand() % 6 + 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and() % 6”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generates a number betwee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5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(scalin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+ 1”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makes the range 1 to 6 (shif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ext: program to roll di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BCAF06-08C5-48C5-AB92-E36D68F2052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3_07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8672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3.7: fig03_07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hifted, scaled integers produced by 1 + rand() % 6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mani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setw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cstdlib&gt;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ontains function prototype for rand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loop 20 tim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unter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counter &lt;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counter++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pick random number from 1 to 6 and output i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 rand() %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6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if counter divisible by 5, begin new line of outpu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counter %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out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end for structur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3809880" y="3505320"/>
            <a:ext cx="4114800" cy="838080"/>
            <a:chOff x="3809880" y="3505320"/>
            <a:chExt cx="4114800" cy="838080"/>
          </a:xfrm>
        </p:grpSpPr>
        <p:sp>
          <p:nvSpPr>
            <p:cNvPr id="156" name=""/>
            <p:cNvSpPr/>
            <p:nvPr/>
          </p:nvSpPr>
          <p:spPr>
            <a:xfrm>
              <a:off x="5257800" y="3505320"/>
              <a:ext cx="26668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utput of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rand()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scaled and shifted to be a number between 1 and 6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>
              <a:off x="3809880" y="365760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FE935F-1627-474A-AC6C-3BB7C5F3303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3_07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2)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3_07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1066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dicates successful termin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1066680"/>
            <a:ext cx="7010280" cy="1219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6         6         5         5        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5         1         1         5        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6         6         2         4        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6         2         3         4        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AF97BA-666A-4929-85E5-6F6BFDE5547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3.8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Random Number Genera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x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ogram to show distribution of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rand(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imulate 6000 rolls of a di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int number of 1’s, 2’s, 3’s, etc. roll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hould be roughly 1000 of each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30F91B-B6E9-44D0-8DCE-99D97CBD739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3_08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257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3.8: fig03_08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oll a six-sided die 6000 times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mani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setw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cstdlib&gt;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ontains function prototype for ran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frequency1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frequency2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frequency3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frequency4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frequency5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frequency6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face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presents one roll of the di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3EA340-254B-4595-AFA9-4DF36D901D6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3_08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8672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loop 6000 times and summarize resul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oll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roll &lt;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60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roll++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fac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 rand() %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6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andom number from 1 to 6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determine face value and increment appropriate count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wi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face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 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olled 1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++frequency1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reak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 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olled 2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++frequency2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reak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rolled 3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++frequency3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reak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 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olled 4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++frequency4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reak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rolled 5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++frequency5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reak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865633-3EF8-4069-AA7F-06ECFC9951BC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3_08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3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4864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6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rolled 6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++frequency6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reak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efaul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valid value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rogram should never get here!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swi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or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isplay results in tabular forma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Fac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"Frequency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   1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frequency1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   2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frequency2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   3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frequency3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   4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frequency4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   5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frequency5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   6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frequency6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dicates successful termin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1905120" y="1676520"/>
            <a:ext cx="3962160" cy="1296000"/>
            <a:chOff x="1905120" y="1676520"/>
            <a:chExt cx="3962160" cy="1296000"/>
          </a:xfrm>
        </p:grpSpPr>
        <p:sp>
          <p:nvSpPr>
            <p:cNvPr id="170" name=""/>
            <p:cNvSpPr/>
            <p:nvPr/>
          </p:nvSpPr>
          <p:spPr>
            <a:xfrm>
              <a:off x="3200400" y="1905120"/>
              <a:ext cx="266688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efault case included even though it should never be reached. This is a matter of good coding sty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 flipV="1">
              <a:off x="1905120" y="1676520"/>
              <a:ext cx="129528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AA014D-5C41-49A0-83AF-8E7289C11D7B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3_08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1752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Face    Frequenc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         1003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         1017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3          983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4          994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5         1004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6          999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02D6E1-DFFF-47CE-A201-A6E1560F0E4F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3.8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Random Number Genera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lling rand() repeatedl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Gives the same sequence of numb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seudorandom numb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eset sequence of "random" numb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ame sequence generated whenever program ru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get different random seque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ovide a seed valu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ke a random starting point in the sequ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same seed will give the same sequ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rand(seed)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cstdlib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d befor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and(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set the se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E9FE81-5088-492D-895B-FBEDB5014DD9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3.1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Introduc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vide and conqu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nstruct a program from smaller pieces or compone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ach piece more manageable than the original progra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A90ABA-A915-4259-8786-E0E544FE68C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3_09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4100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3.9: fig03_09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andomizing die-rolling program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i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mani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setw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ontains prototypes for functions srand and ran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cstdlib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main function begins program execu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nsigne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ed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Enter seed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in &gt;&gt; seed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rand( seed )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ed random number genera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1904760" y="4114800"/>
            <a:ext cx="3505320" cy="838080"/>
            <a:chOff x="1904760" y="4114800"/>
            <a:chExt cx="3505320" cy="838080"/>
          </a:xfrm>
        </p:grpSpPr>
        <p:sp>
          <p:nvSpPr>
            <p:cNvPr id="179" name=""/>
            <p:cNvSpPr/>
            <p:nvPr/>
          </p:nvSpPr>
          <p:spPr>
            <a:xfrm>
              <a:off x="3352680" y="4114800"/>
              <a:ext cx="20574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etting the seed with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rand()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904760" y="426708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4A8330-7CAC-41E5-BDE2-6A5E8BAD8D08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3_09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2)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3_09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35053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loop 10 tim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unter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counter &lt;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counter++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pick random number from 1 to 6 and output i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 rand() %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6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if counter divisible by 5, begin new line of outpu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counter %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out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or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dicates successful termin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83" name=""/>
          <p:cNvSpPr/>
          <p:nvPr/>
        </p:nvSpPr>
        <p:spPr>
          <a:xfrm>
            <a:off x="0" y="3505320"/>
            <a:ext cx="7010280" cy="2666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nter seed: 6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6         1         4         6        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         6         1         6        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nter seed: 43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4         6         3         1        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3         1         5         4        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nter seed: 6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6         1         4         6        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         6         1         6        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1523880" y="2819520"/>
            <a:ext cx="4114800" cy="2743200"/>
            <a:chOff x="1523880" y="2819520"/>
            <a:chExt cx="4114800" cy="2743200"/>
          </a:xfrm>
        </p:grpSpPr>
        <p:sp>
          <p:nvSpPr>
            <p:cNvPr id="185" name=""/>
            <p:cNvSpPr/>
            <p:nvPr/>
          </p:nvSpPr>
          <p:spPr>
            <a:xfrm>
              <a:off x="2971800" y="2819520"/>
              <a:ext cx="26668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rand()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gives the same sequence if it has the same initial seed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H="1">
              <a:off x="1523880" y="3200760"/>
              <a:ext cx="14479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1523880" y="3200760"/>
              <a:ext cx="1447920" cy="2361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B345D5-3C39-47D0-92EF-1ECA87CE2CEC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3.8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Random Number Genera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use the current time to set the se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o need to explicitly set seed every tim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rand( time( 0 ) 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ime( 0 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c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s current time in secon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l shifting and sc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Number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shiftingValu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rand()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%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scalingFa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hiftingValue = first number in desired rang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calingFactor = width of desired rang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964D42-3FE6-4637-BEC8-DF51D5C0D296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3.9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Example: Game of Chance and Introducing enum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um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t of integers with identifi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u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ype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onstant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onstant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nstants start at 0 (default), incremented by 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nstants need unique nam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nnot assign integer to enumeration variab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st use a previously defined enumeration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um Status {CONTINUE, WON, LOST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atus enumVar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umVar = WON; // cannot do enumVar =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FA58FB-C4D2-440C-8BB5-5A65B5B4CD8D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3.9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Example: Game of Chance and Introducing enum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umeration constants can have preset val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num Months { JAN = 1, FEB, MAR, APR, MAY, JUN, JUL, AUG, SEP, OCT, NOV, DEC}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tarts at 1, increments by 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xt: craps simula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oll two di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7 or 11 on first throw: player wi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2, 3, or 12 on first throw: player lo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4, 5, 6, 8, 9, 1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becomes player's "point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layer must roll his point before rolling 7 to w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4AD526-B539-49D9-8668-4285C94A4823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3_10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5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4100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3.10: fig03_10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raps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ontains function prototypes for functions srand and ran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cstdlib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ctime&gt;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ontains prototype for function ti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ollDic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unction prototyp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enumeration constants represent game statu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num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us {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CONTIN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W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LO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}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um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yPoin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atus gameStatus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an contain CONTINUE, WON or LO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2057400" y="1981080"/>
            <a:ext cx="4114800" cy="838440"/>
            <a:chOff x="2057400" y="1981080"/>
            <a:chExt cx="4114800" cy="838440"/>
          </a:xfrm>
        </p:grpSpPr>
        <p:sp>
          <p:nvSpPr>
            <p:cNvPr id="197" name=""/>
            <p:cNvSpPr/>
            <p:nvPr/>
          </p:nvSpPr>
          <p:spPr>
            <a:xfrm>
              <a:off x="3505320" y="198108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Function to roll 2 dice and return the result as a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H="1">
              <a:off x="2057400" y="213372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1752480" y="3048120"/>
            <a:ext cx="4114800" cy="838080"/>
            <a:chOff x="1752480" y="3048120"/>
            <a:chExt cx="4114800" cy="838080"/>
          </a:xfrm>
        </p:grpSpPr>
        <p:sp>
          <p:nvSpPr>
            <p:cNvPr id="200" name=""/>
            <p:cNvSpPr/>
            <p:nvPr/>
          </p:nvSpPr>
          <p:spPr>
            <a:xfrm>
              <a:off x="3200400" y="304812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Enumeration to keep track of the current gam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>
              <a:off x="1752480" y="320040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9D781C-20F4-45F5-A377-99024B131CB9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3_10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5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48006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randomize random number generator using current ti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rand( tim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um = rollDice();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rst roll of the di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etermine game status and point based on sum of di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wi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sum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win on first rol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gameStatus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W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reak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lose on first rol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gameStatus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LO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reak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1828800" y="685800"/>
            <a:ext cx="4114800" cy="838080"/>
            <a:chOff x="1828800" y="685800"/>
            <a:chExt cx="4114800" cy="838080"/>
          </a:xfrm>
        </p:grpSpPr>
        <p:sp>
          <p:nvSpPr>
            <p:cNvPr id="205" name=""/>
            <p:cNvSpPr/>
            <p:nvPr/>
          </p:nvSpPr>
          <p:spPr>
            <a:xfrm>
              <a:off x="3276720" y="685800"/>
              <a:ext cx="26668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witch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statement determines outcome based on die roll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 flipH="1">
              <a:off x="1828800" y="83808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BC46C7-83D2-43E3-8BDB-3787F281C8C0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3_10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3 of 5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0292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remember poi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efaul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gameStatus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CONTIN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myPoint = sum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oint is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myPoint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reak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 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optional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switch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while game not complete ..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whi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gameStatus =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CONTIN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um = rollDice(); 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roll dice ag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9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determine game statu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sum == myPoint )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win by making poi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gameStatus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W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sum =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lose by rolling 7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gameStatus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LO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while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FADB45-037F-4B49-AA0F-F605AA70A9F2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3_10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4 of 5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48006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8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isplay won or lost messag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gameStatus =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W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layer wins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layer loses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dicates successful termin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8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oll dice, calculate sum and display resul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ollDic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ie1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ie2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workSum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die1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 rand() %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6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ick random die1 valu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die2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 rand() %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6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ick random die2 valu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workSum = die1 + die2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sum die1 and die2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1981080" y="1752480"/>
            <a:ext cx="4114800" cy="838440"/>
            <a:chOff x="1981080" y="1752480"/>
            <a:chExt cx="4114800" cy="838440"/>
          </a:xfrm>
        </p:grpSpPr>
        <p:sp>
          <p:nvSpPr>
            <p:cNvPr id="212" name=""/>
            <p:cNvSpPr/>
            <p:nvPr/>
          </p:nvSpPr>
          <p:spPr>
            <a:xfrm>
              <a:off x="3429000" y="1752480"/>
              <a:ext cx="26668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Functio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rollDic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takes no arguments, so ha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voi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in the parameter lis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 flipH="1">
              <a:off x="1981080" y="190512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68D8DE-AB7B-4B0B-A94C-6020661C94C3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3_10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5 of 5)</a:t>
            </a: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3_10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17524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9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isplay results of this rol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layer rolled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die1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+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die2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 = 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workSum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workSum;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turn sum of di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rollDi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1752480"/>
            <a:ext cx="7010280" cy="3276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layer rolled 2 + 5 =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layer win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layer rolled 6 + 6 =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layer lose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layer rolled 3 + 3 =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oint is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layer rolled 5 + 3 =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layer rolled 4 + 5 =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layer rolled 2 + 1 =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layer rolled 1 + 5 =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layer win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C4AB8D-137D-4077-AF92-FD4C97FDF186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3.2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Program Components in C++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ules: functions and cla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grams use new and “prepackaged” modu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ew: programmer-defined functions, clas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epackaged: from the standard library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nctions invoked by function ca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unction name and information (arguments) it need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nction defini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nly written on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Hidden from other func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5ACA47-31F2-4589-9D89-9C71FF92D52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3_10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2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2666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layer rolled 1 + 3 = 4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oint is 4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layer rolled 4 + 6 = 1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layer rolled 2 + 4 = 6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layer rolled 6 + 4 = 1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layer rolled 2 + 3 = 5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layer rolled 2 + 4 = 6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layer rolled 1 + 1 = 2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layer rolled 4 + 4 = 8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layer rolled 4 + 3 = 7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layer lose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6F3B7F-1B02-4DC3-993C-DC169D2CD706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3.10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Storage Class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riables have attribu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Have seen name, type, size, valu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torage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w long variable exists i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ere variable can be referenced in progr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inkag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multiple-file program (see Ch. 6), which files can use 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6CF71E-5CF3-46A0-A26A-7FC896E78358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3.10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Storage Class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tomatic storage cla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Variable created when program enters its bloc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Variable destroyed when program leaves bloc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nly local variables of functions can be automat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omatic by defa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ywor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uto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licitly declares automa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registe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keywor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nt to place variable in high-speed regis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od for often-used items (loop counter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ten unnecessary, compiler optimiz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pecify either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registe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auto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not both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gister int counter = 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423CFF-2BD2-4DF8-8BC7-062BEFA87449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3.10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Storage Class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ic storage cla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Variables exist for entire progra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functions, name exists for entire progr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ay not be accessible, scope rules still apply (more later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tati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keywo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ocal variables in func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Keeps value between function call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nly known in own func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exter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keywo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fault for global variables/func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s: defined outside of a function blo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Known in any function that comes after i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4A4107-7272-4DA9-AE29-61417849AA1D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3.11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Scope Rul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ortion of program where identifier can be us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e scop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fined outside a function, known in all func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Global variables, function definitions and prototyp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nction sco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n only be referenced inside defining func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nly labels, e.g., identifiers with a colon 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ase: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900C2B-701B-46B6-A9D4-00B7BAB5CE71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3.11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Scope Rul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lock sco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Begins at declaration, ends at right brac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only be referenced in this ran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ocal variables, function paramet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atic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variables still have block scop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rage class separate from sco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nction-prototype sco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arameter list of prototyp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ames in prototype option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iler ign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 a single prototype, name can be used on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45E479-895E-4B7F-9C92-CEBE8027333E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3_12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5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8672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3.12: fig03_12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 scoping example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useLocal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unction prototyp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useStaticLocal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unction prototyp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useGlobal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function prototyp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x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global variab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x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local variable to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local x in main's outer scope is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x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tart new scope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x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local x in main's inner scope is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x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new scope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1447560" y="1752480"/>
            <a:ext cx="4115160" cy="838080"/>
            <a:chOff x="1447560" y="1752480"/>
            <a:chExt cx="4115160" cy="838080"/>
          </a:xfrm>
        </p:grpSpPr>
        <p:sp>
          <p:nvSpPr>
            <p:cNvPr id="232" name=""/>
            <p:cNvSpPr/>
            <p:nvPr/>
          </p:nvSpPr>
          <p:spPr>
            <a:xfrm>
              <a:off x="2895480" y="1752480"/>
              <a:ext cx="266724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eclared outside of function; global variable with file scop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1447560" y="2133360"/>
              <a:ext cx="14475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"/>
          <p:cNvGrpSpPr/>
          <p:nvPr/>
        </p:nvGrpSpPr>
        <p:grpSpPr>
          <a:xfrm>
            <a:off x="1752480" y="2666880"/>
            <a:ext cx="4114800" cy="838440"/>
            <a:chOff x="1752480" y="2666880"/>
            <a:chExt cx="4114800" cy="838440"/>
          </a:xfrm>
        </p:grpSpPr>
        <p:sp>
          <p:nvSpPr>
            <p:cNvPr id="235" name=""/>
            <p:cNvSpPr/>
            <p:nvPr/>
          </p:nvSpPr>
          <p:spPr>
            <a:xfrm>
              <a:off x="3200400" y="266688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Local variable with function scop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 flipH="1">
              <a:off x="1752480" y="2971800"/>
              <a:ext cx="144792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1981080" y="3886200"/>
            <a:ext cx="4114800" cy="914400"/>
            <a:chOff x="1981080" y="3886200"/>
            <a:chExt cx="4114800" cy="914400"/>
          </a:xfrm>
        </p:grpSpPr>
        <p:sp>
          <p:nvSpPr>
            <p:cNvPr id="238" name=""/>
            <p:cNvSpPr/>
            <p:nvPr/>
          </p:nvSpPr>
          <p:spPr>
            <a:xfrm>
              <a:off x="3429000" y="3886200"/>
              <a:ext cx="26668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 a new block, giving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x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block scope. When the block ends, thi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x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is destroyed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 flipH="1">
              <a:off x="1981080" y="411480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8459BD-1789-4E25-A32A-F006DE1F98C4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3_12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5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36576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local x in main's outer scope is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x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useLocal();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useLocal has local x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useStaticLocal()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useStaticLocal has static local x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useGlobal();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useGlobal uses global x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useLocal();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useLocal reinitializes its local x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useStaticLocal()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tatic local x retains its prior valu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useGlobal();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global x also retains its valu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local x in main is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x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dicates successful termin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C15EAC-0266-43F0-BCBE-A84F953E51A4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3_12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3 of 5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31240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useLocal reinitializes local variable x during each cal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useLocal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x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itialized each time useLocal is call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endl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local x is 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x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on entering useLocal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++x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local x is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x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on exiting useLocal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useLoca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1828800" y="1142640"/>
            <a:ext cx="3962520" cy="1311120"/>
            <a:chOff x="1828800" y="1142640"/>
            <a:chExt cx="3962520" cy="1311120"/>
          </a:xfrm>
        </p:grpSpPr>
        <p:sp>
          <p:nvSpPr>
            <p:cNvPr id="245" name=""/>
            <p:cNvSpPr/>
            <p:nvPr/>
          </p:nvSpPr>
          <p:spPr>
            <a:xfrm>
              <a:off x="3124080" y="1143000"/>
              <a:ext cx="2667240" cy="1310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utomatic variable (local variable of function). This is destroyed when the function exits, and reinitialized when the function begin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 flipH="1" flipV="1">
              <a:off x="1828800" y="1142640"/>
              <a:ext cx="12952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181385-17AE-400E-BB88-885BAA2BC59B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3_12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4 of 5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37339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marL="2286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useStaticLocal initializes static local variable x only th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7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rst time the function is called; value of x is sav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8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between calls to this func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useStaticLocal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initialized only first time useStaticLocal is call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tatic 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x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endl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local static x is 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x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on entering useStaticLocal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++x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local static x is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x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on exiting useStaticLocal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useStaticLoca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1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49" name=""/>
          <p:cNvGrpSpPr/>
          <p:nvPr/>
        </p:nvGrpSpPr>
        <p:grpSpPr>
          <a:xfrm>
            <a:off x="1828800" y="1676160"/>
            <a:ext cx="4419720" cy="1823400"/>
            <a:chOff x="1828800" y="1676160"/>
            <a:chExt cx="4419720" cy="1823400"/>
          </a:xfrm>
        </p:grpSpPr>
        <p:sp>
          <p:nvSpPr>
            <p:cNvPr id="250" name=""/>
            <p:cNvSpPr/>
            <p:nvPr/>
          </p:nvSpPr>
          <p:spPr>
            <a:xfrm>
              <a:off x="3581280" y="2432160"/>
              <a:ext cx="266724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tatic local variable of function; it is initialized only once, and retains its value between function call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H="1" flipV="1">
              <a:off x="1828800" y="1676160"/>
              <a:ext cx="175248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82F444-56FC-4098-AF7A-86F764684ADD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3.2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Program Components in C++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ss to worker analo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 boss (the calling function or caller) asks a worker (the called function) to perform a task and return (i.e., report back) the results when the task is don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981936-E54E-443F-83FB-FFC9363D416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3_12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5 of 5)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3_12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24382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useGlobal modifies global variable x during each cal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useGlobal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endl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global x is 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x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on entering useGlobal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x *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global x is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x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on exiting useGlobal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useGloba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438280"/>
            <a:ext cx="7010280" cy="28958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local x in main's outer scope is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local x in main's inner scope is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local x in main's outer scope is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local x is 25 on entering use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local x is 26 on exiting use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local static x is 50 on entering useStatic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local static x is 51 on exiting useStatic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global x is 1 on entering useGlob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global x is 10 on exiting useGlob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3276360" y="762120"/>
            <a:ext cx="4115160" cy="1067400"/>
            <a:chOff x="3276360" y="762120"/>
            <a:chExt cx="4115160" cy="1067400"/>
          </a:xfrm>
        </p:grpSpPr>
        <p:sp>
          <p:nvSpPr>
            <p:cNvPr id="256" name=""/>
            <p:cNvSpPr/>
            <p:nvPr/>
          </p:nvSpPr>
          <p:spPr>
            <a:xfrm>
              <a:off x="4724280" y="762120"/>
              <a:ext cx="266724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This function does not declare any variables. It uses the global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x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declared in the beginning of the program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 flipH="1">
              <a:off x="3276360" y="91440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C7739B-5345-4B6D-848C-FA8324BF649C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3_12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2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2666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local x is 25 on entering useLoca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local x is 26 on exiting useLoca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local static x is 51 on entering useStaticLoca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local static x is 52 on exiting useStaticLoca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global x is 10 on entering useGloba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global x is 100 on exiting useGloba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local x in main is 5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31805E-02A7-4231-BEF2-D95A7F65E3BD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3.12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Recurs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ursive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unctions that call themselv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n only solve a base ca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not base c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Break problem into smaller problem(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aunch new copy of function to work on the smaller problem (recursive call/recursive step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lowly converges towards base c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unction makes call to itself inside the return stat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ventually base case gets solv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swer works way back up, solves entire 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A22ED5-EDBB-47E2-9D16-C4045A506060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3.12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Recurs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 factor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! = n * ( n – 1 ) * ( n – 2 ) * … *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cursive relationship ( n! = n * ( n – 1 )! 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5! = 5 * 4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4! = 4 * 3!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Base case (1! = 0! = 1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21B6D2-089D-4755-8A96-886DEDB36F5A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3_14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3.14: fig03_14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cursive factorial function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mani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setw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nsigned lo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factorial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nsigne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lo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unction prototyp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Loop 10 times. During each iteration, calculate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factorial( i ) and display result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 &lt;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++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i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! =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&lt;&lt; factorial( i )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dicates successful termin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3276360" y="1676520"/>
            <a:ext cx="4115160" cy="838080"/>
            <a:chOff x="3276360" y="1676520"/>
            <a:chExt cx="4115160" cy="838080"/>
          </a:xfrm>
        </p:grpSpPr>
        <p:sp>
          <p:nvSpPr>
            <p:cNvPr id="267" name=""/>
            <p:cNvSpPr/>
            <p:nvPr/>
          </p:nvSpPr>
          <p:spPr>
            <a:xfrm>
              <a:off x="4724280" y="1676520"/>
              <a:ext cx="266724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ata typ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unsigned long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can hold an integer from 0 to 4 bill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flipH="1">
              <a:off x="3276360" y="182880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8687CD-6EA6-4288-A073-037EDAF20A79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3_14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2)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3_14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cursive definition of function factorial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nsigned lo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factorial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nsigned lo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umber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base case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number &lt;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recursive step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umber * factorial( number -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factorial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71" name=""/>
          <p:cNvSpPr/>
          <p:nvPr/>
        </p:nvSpPr>
        <p:spPr>
          <a:xfrm>
            <a:off x="0" y="3124080"/>
            <a:ext cx="7010280" cy="25909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! =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! =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! =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3! =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4! = 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5! = 1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6! = 7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7! = 50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8! = 403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9! = 36288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0! = 36288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2514600" y="457200"/>
            <a:ext cx="4114800" cy="1067400"/>
            <a:chOff x="2514600" y="457200"/>
            <a:chExt cx="4114800" cy="1067400"/>
          </a:xfrm>
        </p:grpSpPr>
        <p:sp>
          <p:nvSpPr>
            <p:cNvPr id="273" name=""/>
            <p:cNvSpPr/>
            <p:nvPr/>
          </p:nvSpPr>
          <p:spPr>
            <a:xfrm>
              <a:off x="3962520" y="457200"/>
              <a:ext cx="266688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The base case occurs when we hav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0!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or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1!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 All other cases must be split up (recursive step)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>
              <a:off x="2514600" y="60948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44B7DB-9FAE-4343-9E81-FBD25E715791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3.13 Example Using Recursion: Fibonacci Seri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bonacci series: 0, 1, 1, 2, 3, 5, 8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ach number sum of two previous on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ample of a recursive formula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ib(n) = fib(n-1) + fib(n-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++ code for Fibonacci 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ng fibonacci( long n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 ( n == 0 || n == 1 )  // base c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n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ls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fibonacci( n - 1 ) +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bonacci( n – 2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BF4703-CAC2-43A2-9631-9490544A5B85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3.13 Example Using Recursion: Fibonacci Seri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1752480" y="2389320"/>
            <a:ext cx="4571640" cy="1954080"/>
            <a:chOff x="1752480" y="2389320"/>
            <a:chExt cx="4571640" cy="1954080"/>
          </a:xfrm>
        </p:grpSpPr>
        <p:sp>
          <p:nvSpPr>
            <p:cNvPr id="280" name=""/>
            <p:cNvSpPr/>
            <p:nvPr/>
          </p:nvSpPr>
          <p:spPr>
            <a:xfrm>
              <a:off x="2226960" y="4051440"/>
              <a:ext cx="1245600" cy="759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83" y="19833"/>
                  </a:moveTo>
                  <a:lnTo>
                    <a:pt x="19983" y="0"/>
                  </a:lnTo>
                  <a:lnTo>
                    <a:pt x="0" y="0"/>
                  </a:lnTo>
                  <a:lnTo>
                    <a:pt x="0" y="19833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636360" y="4051440"/>
              <a:ext cx="1244880" cy="759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83" y="19833"/>
                  </a:moveTo>
                  <a:lnTo>
                    <a:pt x="19983" y="0"/>
                  </a:lnTo>
                  <a:lnTo>
                    <a:pt x="0" y="0"/>
                  </a:lnTo>
                  <a:lnTo>
                    <a:pt x="0" y="19833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078520" y="3492360"/>
              <a:ext cx="1245600" cy="7632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83" y="19833"/>
                  </a:moveTo>
                  <a:lnTo>
                    <a:pt x="19983" y="0"/>
                  </a:lnTo>
                  <a:lnTo>
                    <a:pt x="0" y="0"/>
                  </a:lnTo>
                  <a:lnTo>
                    <a:pt x="0" y="19833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752480" y="3492360"/>
              <a:ext cx="2864160" cy="7632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93" y="19833"/>
                  </a:moveTo>
                  <a:lnTo>
                    <a:pt x="19993" y="0"/>
                  </a:lnTo>
                  <a:lnTo>
                    <a:pt x="0" y="0"/>
                  </a:lnTo>
                  <a:lnTo>
                    <a:pt x="0" y="19833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774880" y="2941560"/>
              <a:ext cx="2988720" cy="7632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93" y="19833"/>
                  </a:moveTo>
                  <a:lnTo>
                    <a:pt x="19993" y="0"/>
                  </a:lnTo>
                  <a:lnTo>
                    <a:pt x="0" y="0"/>
                  </a:lnTo>
                  <a:lnTo>
                    <a:pt x="0" y="19833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854160" y="2389320"/>
              <a:ext cx="747000" cy="2286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72" y="0"/>
                  </a:moveTo>
                  <a:lnTo>
                    <a:pt x="19972" y="19944"/>
                  </a:lnTo>
                  <a:lnTo>
                    <a:pt x="0" y="19944"/>
                  </a:lnTo>
                  <a:lnTo>
                    <a:pt x="0" y="0"/>
                  </a:lnTo>
                  <a:lnTo>
                    <a:pt x="19972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3666960" y="2998800"/>
              <a:ext cx="747000" cy="2286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72" y="0"/>
                  </a:moveTo>
                  <a:lnTo>
                    <a:pt x="19972" y="19944"/>
                  </a:lnTo>
                  <a:lnTo>
                    <a:pt x="0" y="19944"/>
                  </a:lnTo>
                  <a:lnTo>
                    <a:pt x="0" y="0"/>
                  </a:lnTo>
                  <a:lnTo>
                    <a:pt x="19972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840200" y="2998800"/>
              <a:ext cx="747000" cy="2286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72" y="0"/>
                  </a:moveTo>
                  <a:lnTo>
                    <a:pt x="19972" y="19944"/>
                  </a:lnTo>
                  <a:lnTo>
                    <a:pt x="0" y="19944"/>
                  </a:lnTo>
                  <a:lnTo>
                    <a:pt x="0" y="0"/>
                  </a:lnTo>
                  <a:lnTo>
                    <a:pt x="19972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5203080" y="3556080"/>
              <a:ext cx="996120" cy="2286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79" y="0"/>
                  </a:moveTo>
                  <a:lnTo>
                    <a:pt x="19979" y="19944"/>
                  </a:lnTo>
                  <a:lnTo>
                    <a:pt x="0" y="19944"/>
                  </a:lnTo>
                  <a:lnTo>
                    <a:pt x="0" y="0"/>
                  </a:lnTo>
                  <a:lnTo>
                    <a:pt x="19979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773520" y="3556080"/>
              <a:ext cx="747000" cy="2286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72" y="0"/>
                  </a:moveTo>
                  <a:lnTo>
                    <a:pt x="19972" y="19944"/>
                  </a:lnTo>
                  <a:lnTo>
                    <a:pt x="0" y="19944"/>
                  </a:lnTo>
                  <a:lnTo>
                    <a:pt x="0" y="0"/>
                  </a:lnTo>
                  <a:lnTo>
                    <a:pt x="19972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587680" y="3556080"/>
              <a:ext cx="747000" cy="2286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72" y="0"/>
                  </a:moveTo>
                  <a:lnTo>
                    <a:pt x="19972" y="19944"/>
                  </a:lnTo>
                  <a:lnTo>
                    <a:pt x="0" y="19944"/>
                  </a:lnTo>
                  <a:lnTo>
                    <a:pt x="0" y="0"/>
                  </a:lnTo>
                  <a:lnTo>
                    <a:pt x="19972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354400" y="4114800"/>
              <a:ext cx="996120" cy="2286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79" y="0"/>
                  </a:moveTo>
                  <a:lnTo>
                    <a:pt x="19979" y="19944"/>
                  </a:lnTo>
                  <a:lnTo>
                    <a:pt x="0" y="19944"/>
                  </a:lnTo>
                  <a:lnTo>
                    <a:pt x="0" y="0"/>
                  </a:lnTo>
                  <a:lnTo>
                    <a:pt x="19979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758040" y="4114800"/>
              <a:ext cx="996120" cy="2286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79" y="0"/>
                  </a:moveTo>
                  <a:lnTo>
                    <a:pt x="19979" y="19944"/>
                  </a:lnTo>
                  <a:lnTo>
                    <a:pt x="0" y="19944"/>
                  </a:lnTo>
                  <a:lnTo>
                    <a:pt x="0" y="0"/>
                  </a:lnTo>
                  <a:lnTo>
                    <a:pt x="19979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248360" y="2624040"/>
              <a:ext cx="360" cy="31752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19960"/>
                  </a:move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  <a:head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612960" y="3233880"/>
              <a:ext cx="423000" cy="2584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19951"/>
                  </a:moveTo>
                  <a:lnTo>
                    <a:pt x="19951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  <a:head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234400" y="3230640"/>
              <a:ext cx="270000" cy="26172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23" y="19952"/>
                  </a:move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  <a:head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2968920" y="3786120"/>
              <a:ext cx="360" cy="26532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19952"/>
                  </a:move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  <a:head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160160" y="3786120"/>
              <a:ext cx="360" cy="26532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19952"/>
                  </a:move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  <a:head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3898080" y="2417760"/>
              <a:ext cx="78840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urier New"/>
                </a:rPr>
                <a:t>f( 3 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4886640" y="3030480"/>
              <a:ext cx="788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urier New"/>
                </a:rPr>
                <a:t>f( 1 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719160" y="3029040"/>
              <a:ext cx="78840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urier New"/>
                </a:rPr>
                <a:t>f( 2 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624400" y="3589200"/>
              <a:ext cx="78840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urier New"/>
                </a:rPr>
                <a:t>f( 1 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812400" y="3589200"/>
              <a:ext cx="788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urier New"/>
                </a:rPr>
                <a:t>f( 0 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5249520" y="3589200"/>
              <a:ext cx="103788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urier New"/>
                </a:rPr>
                <a:t>return 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409120" y="4154400"/>
              <a:ext cx="103788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urier New"/>
                </a:rPr>
                <a:t>return 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799440" y="4154400"/>
              <a:ext cx="103788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urier New"/>
                </a:rPr>
                <a:t>return 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1822320" y="3589200"/>
              <a:ext cx="788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urier New"/>
                </a:rPr>
                <a:t>retur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495600" y="3594240"/>
              <a:ext cx="1663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urier New"/>
                </a:rPr>
                <a:t>+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575240" y="3030480"/>
              <a:ext cx="16560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urier New"/>
                </a:rPr>
                <a:t>+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917440" y="3027240"/>
              <a:ext cx="788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urier New"/>
                </a:rPr>
                <a:t>retur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361E30-E786-4BFA-BD59-CE4EFBB56633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3.13 Example Using Recursion: Fibonacci Seri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der of oper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fibonacci( n - 1 ) + fibonacci( n - 2 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 not know which one executed fir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++ does not specif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nly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amp;&amp;,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||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?: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guaranteed left-to-right evalu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ursive function cal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ach level of recursion doubles the number of function call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number = 2^30 ~ 4 billion function ca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ponential complexit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25F380-75DA-44B7-B34A-503037FF4175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3_15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3.15: fig03_15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cursive fibonacci function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i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nsigned lo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fibonacci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nsigned lo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function prototyp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nsigned lo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esult, numbe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obtain integer from us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Enter an integer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in &gt;&gt; numbe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calculate fibonacci value for number input by us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result = fibonacci( number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isplay resul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"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Fibonacci(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number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) = 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result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dicates successful termin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14" name=""/>
          <p:cNvGrpSpPr/>
          <p:nvPr/>
        </p:nvGrpSpPr>
        <p:grpSpPr>
          <a:xfrm>
            <a:off x="3276360" y="1038240"/>
            <a:ext cx="4115160" cy="1310760"/>
            <a:chOff x="3276360" y="1038240"/>
            <a:chExt cx="4115160" cy="1310760"/>
          </a:xfrm>
        </p:grpSpPr>
        <p:sp>
          <p:nvSpPr>
            <p:cNvPr id="315" name=""/>
            <p:cNvSpPr/>
            <p:nvPr/>
          </p:nvSpPr>
          <p:spPr>
            <a:xfrm>
              <a:off x="4724280" y="1038240"/>
              <a:ext cx="2667240" cy="1310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The Fibonacci numbers get large very quickly, and are all non-negative integers. Thus, we use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unsigned long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data typ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flipH="1">
              <a:off x="3276360" y="119052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730C6E-A587-48DB-9A13-17651652701F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3.3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Math Library Function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form common mathematical calcul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clude the header fil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cmath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nctions called by wri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unctionName (argument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unctionName(argument1, argument2, …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ut &lt;&lt; sqrt( 900.0 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qrt (square root) function The preceding statement would print 3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ll functions in math library return a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doub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BFC424-9135-4372-96CA-59DFB348D0C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3_15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2)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3_15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35812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cursive definition of function fibonacci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nsigned lo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fibonacci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nsigned lo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 )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base case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n =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|| n =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;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recursive step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else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fibonacci( n -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+ fibonacci( n -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fibonacci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19" name=""/>
          <p:cNvSpPr/>
          <p:nvPr/>
        </p:nvSpPr>
        <p:spPr>
          <a:xfrm>
            <a:off x="0" y="3505320"/>
            <a:ext cx="7010280" cy="25905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nter an integer: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Fibonacci(0) =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nter an integer: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Fibonacci(1) =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nter an integer: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Fibonacci(2) =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nter an integer: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Fibonacci(3) =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4C0B91-C244-4CA1-AE30-375317188136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3_15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2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4572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nter an integer: 4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Fibonacci(4) = 3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nter an integer: 5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Fibonacci(5) = 5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nter an integer: 6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Fibonacci(6) = 8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nter an integer: 1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Fibonacci(10) = 55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nter an integer: 2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Fibonacci(20) = 6765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nter an integer: 3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Fibonacci(30) = 83204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nter an integer: 35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Fibonacci(35) = 9227465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39BEB4-0361-40D9-ABEC-6ADA2C68F2B1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3.14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Recursion vs. Itera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peti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teration: explicit loo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cursion: repeated function call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rmin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teration: loop condition fail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cursion: base case recogniz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th can have infinite loo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lance between performance (iteration) and good software engineering (recursi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FB2A8B-D80E-4D5B-A191-76B908CF8B62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3.15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Functions with Empty Parameter List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pty parameter li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void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or leave parameter list empt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dicates function takes no argume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uncti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rin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takes no arguments and returns no valu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oid print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oid print( void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74B2A4-5C04-4C0B-AC04-AFF77A7FA446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3_18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43434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3.18: fig03_18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unctions that take no arguments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function1();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unction prototyp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function2( void );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// function prototyp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function1()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all function1 with no argumen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function2()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all function2 with no argumen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dicates successful termin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D5CB61-28E9-4357-8837-05A22CAADA54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3_18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2)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3_18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35812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unction1 uses an empty parameter list to specify that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he function receives no arguments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function1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function1 takes no arguments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1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unction2 uses a void parameter list to specify that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he function receives no arguments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function2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function2 also takes no arguments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2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30" name=""/>
          <p:cNvSpPr/>
          <p:nvPr/>
        </p:nvSpPr>
        <p:spPr>
          <a:xfrm>
            <a:off x="0" y="3581280"/>
            <a:ext cx="7010280" cy="685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1 takes no argu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2 also takes no argu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0FC5D8-D099-47E1-9199-38E008B3FDA3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3.16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Inline Function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line funct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Keyword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nlin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before func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sks the compiler to copy code into program instead of making function cal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duce function-call overhe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iler can ignor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Good for small, often-used func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line double cube( const double s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 return s * s * s; }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ns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tells compiler that function does not modify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cussed in chapters 6-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BE3D19-2F23-45A6-BAB0-CD7DBE567521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3_19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43434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3.19: fig03_19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Using an inline function to calculate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he volume of a cube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i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finition of inline function cube. Definition of func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ppears before function is called, so a function prototype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s not required. First line of function definition acts as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he prototype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line 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ub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 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ide )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ide * side * side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alculate cub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cube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8F1E8A-6D93-4C57-8408-9DF54D75B882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3_19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2)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fig03_19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35812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Enter the side length of your cube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ideValu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in &gt;&gt; sideValu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alculate cube of sideValue and display resul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Volume of cube with side "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sideValue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 is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cube( sideValue )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dicates successful termin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37" name=""/>
          <p:cNvSpPr/>
          <p:nvPr/>
        </p:nvSpPr>
        <p:spPr>
          <a:xfrm>
            <a:off x="0" y="3581280"/>
            <a:ext cx="7010280" cy="685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nter the side length of your cube: 3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olume of cube with side 3.5 is 42.87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6A73C4-7055-4222-8248-BF91DDCDCC43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3.17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References and Reference Parameter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ll by val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py of data passed to func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hanges to copy do not change origin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event unwanted side effe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ll by referen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unction can directly access dat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hanges affect origin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5576AB-158E-4FC0-A08F-1C300FDFD2AB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3.3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Math Library Function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nction arguments can 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nsta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qrt( 4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Variab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qrt( x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press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qrt( sqrt( x ) ) 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qrt( 3 - 6x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93EE61-A1B3-48C9-9BFE-20E6F4C82EE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3.17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References and Reference Parameter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ference parame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lias for argument in function cal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sses parameter by refer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amp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after data type in prototyp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oid myFunction( int &amp;data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ad “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at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a reference to a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unction call format the sam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wever, original can now be chang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FCB3AA-AB71-4B2D-8BE9-24935E0D353C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3_20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0292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3.20: fig03_20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omparing pass-by-value and pass-by-referen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with references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quareByValu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unction prototyp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quareByReferenc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amp; )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unction prototyp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x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z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emonstrate squareByValu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x =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x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before squareByValue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Value returned by squareByValue: 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squareByValue( x ) &lt;&lt; endl;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x =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x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after squareByValue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44" name=""/>
          <p:cNvGrpSpPr/>
          <p:nvPr/>
        </p:nvGrpSpPr>
        <p:grpSpPr>
          <a:xfrm>
            <a:off x="2895480" y="1295280"/>
            <a:ext cx="4114800" cy="838440"/>
            <a:chOff x="2895480" y="1295280"/>
            <a:chExt cx="4114800" cy="838440"/>
          </a:xfrm>
        </p:grpSpPr>
        <p:sp>
          <p:nvSpPr>
            <p:cNvPr id="345" name=""/>
            <p:cNvSpPr/>
            <p:nvPr/>
          </p:nvSpPr>
          <p:spPr>
            <a:xfrm>
              <a:off x="4343400" y="129528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otice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&amp;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operator, indicating pass-by-referenc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H="1">
              <a:off x="2895480" y="144792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82FE6A-3BE6-44FB-8C0A-E35C2938CF17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3_20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emonstrate squareByReferen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z = 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z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before squareByReferenc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quareByReference( z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z = 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z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after squareByReferenc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dicates successful termin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quareByValue multiplies number by itself, stores the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sult in number and returns the new value of number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quareByValu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umber )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        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umber *= number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aller's argument not modifi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squareByValue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quareByReference multiplies numberRef by itself and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tores the result in the variable to which numberRef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fers in function main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quareByReferenc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amp;numberRef )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    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numberRef *= numberRef;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aller's argument modifi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squareByReference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49" name=""/>
          <p:cNvGrpSpPr/>
          <p:nvPr/>
        </p:nvGrpSpPr>
        <p:grpSpPr>
          <a:xfrm>
            <a:off x="2895480" y="1523880"/>
            <a:ext cx="4114800" cy="838440"/>
            <a:chOff x="2895480" y="1523880"/>
            <a:chExt cx="4114800" cy="838440"/>
          </a:xfrm>
        </p:grpSpPr>
        <p:sp>
          <p:nvSpPr>
            <p:cNvPr id="350" name=""/>
            <p:cNvSpPr/>
            <p:nvPr/>
          </p:nvSpPr>
          <p:spPr>
            <a:xfrm>
              <a:off x="4343400" y="1523880"/>
              <a:ext cx="26668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numb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, but original parameter (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x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) is not modified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H="1">
              <a:off x="2895480" y="167652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2" name=""/>
          <p:cNvGrpSpPr/>
          <p:nvPr/>
        </p:nvGrpSpPr>
        <p:grpSpPr>
          <a:xfrm>
            <a:off x="3352680" y="3429000"/>
            <a:ext cx="4114800" cy="1067400"/>
            <a:chOff x="3352680" y="3429000"/>
            <a:chExt cx="4114800" cy="1067400"/>
          </a:xfrm>
        </p:grpSpPr>
        <p:sp>
          <p:nvSpPr>
            <p:cNvPr id="353" name=""/>
            <p:cNvSpPr/>
            <p:nvPr/>
          </p:nvSpPr>
          <p:spPr>
            <a:xfrm>
              <a:off x="4800600" y="3429000"/>
              <a:ext cx="266688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numberRef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, an alias for the original parameter. Thus,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z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is changed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H="1">
              <a:off x="3352680" y="358128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28F1DA-ABDF-45CC-8A80-0F05A61F44E2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3_20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16002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2 before squareByValu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 returned by squareByValue: 4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2 after squareByValu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z = 4 before squareByReferen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z = 16 after squareByReferen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B63D37-C638-456A-BEE7-5573C77E87AF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3.17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References and Reference Parameter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inters (chapter 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nother way to pass-by-refern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ferences as aliases to other varia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fer to same variab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n be used within a func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t count = 1; // declare integer variable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t &amp;cRef = count; // create cRef as an alias for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++cRef; // increment count (using its alia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ferences must be initialized when decla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therwise, compiler err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angling referen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ference to undefined vari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04B8E6-E625-409A-ABCF-238FE3A55440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3_21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1)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3_21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48006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3.21: fig03_21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ferences must be initialized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x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y refers to (is an alias for) x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amp;y = x;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x =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x &lt;&lt; endl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y =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y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y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x =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x &lt;&lt; endl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y = 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y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dicates successful termin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61" name=""/>
          <p:cNvSpPr/>
          <p:nvPr/>
        </p:nvSpPr>
        <p:spPr>
          <a:xfrm>
            <a:off x="0" y="4800600"/>
            <a:ext cx="701028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y =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y =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1828800" y="2057400"/>
            <a:ext cx="4114800" cy="838080"/>
            <a:chOff x="1828800" y="2057400"/>
            <a:chExt cx="4114800" cy="838080"/>
          </a:xfrm>
        </p:grpSpPr>
        <p:sp>
          <p:nvSpPr>
            <p:cNvPr id="363" name=""/>
            <p:cNvSpPr/>
            <p:nvPr/>
          </p:nvSpPr>
          <p:spPr>
            <a:xfrm>
              <a:off x="3276720" y="2057400"/>
              <a:ext cx="266688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y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declared as a reference to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x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H="1">
              <a:off x="1828800" y="220968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5EAC4B-C42A-462B-B8FD-5E3CDE14AAE3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3_22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1)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3_22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43434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3.22: fig03_22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ferences must be initialized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x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cc0000"/>
                </a:solidFill>
                <a:latin typeface="Courier New"/>
                <a:ea typeface="Courier New"/>
              </a:rPr>
              <a:t>int &amp;y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rror: y must be initializ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x =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x &lt;&lt; endl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y =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y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y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x = 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x &lt;&lt; endl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y =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y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dicates successful termin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67" name=""/>
          <p:cNvSpPr/>
          <p:nvPr/>
        </p:nvSpPr>
        <p:spPr>
          <a:xfrm>
            <a:off x="0" y="4343400"/>
            <a:ext cx="7010280" cy="1752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orland C++ command-line compiler error messag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 E2304 Fig03_22.cpp 11: Reference variable 'y' must b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lized­ in function main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icrosoft Visual C++ compiler error messag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:\cpphtp4_examples\ch03\Fig03_22.cpp(11) : error C2530: 'y' 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ferences must be initializ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8" name=""/>
          <p:cNvGrpSpPr/>
          <p:nvPr/>
        </p:nvGrpSpPr>
        <p:grpSpPr>
          <a:xfrm>
            <a:off x="1371600" y="1600200"/>
            <a:ext cx="4114800" cy="838080"/>
            <a:chOff x="1371600" y="1600200"/>
            <a:chExt cx="4114800" cy="838080"/>
          </a:xfrm>
        </p:grpSpPr>
        <p:sp>
          <p:nvSpPr>
            <p:cNvPr id="369" name=""/>
            <p:cNvSpPr/>
            <p:nvPr/>
          </p:nvSpPr>
          <p:spPr>
            <a:xfrm>
              <a:off x="2819520" y="160020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Uninitialized reference – compiler error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 flipH="1">
              <a:off x="1371600" y="175248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E2670D-466D-47B6-B7FC-FE01483E0DC0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3.18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Default Argument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nction call with omitted parame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f not enough parameters, rightmost go to their defaul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fault valu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be constants, global variables, or function ca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defaults in function prototy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myFunction( int x = 1, int y = 2, int z = 3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yFunction(3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 = 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get defaults (rightmos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yFunction(3, 5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 = 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y = 5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gets defa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16F5C7-0F8C-44AA-A983-E3FDA200EF78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3_23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257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3.23: fig03_23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Using default arguments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unction prototype that specifies default argumen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oxVolum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length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width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height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no arguments--use default values for all dimension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he default box volume is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boxVolum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pecify length; default width and heigh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The volume of a box with length 10,\n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width 1 and height 1 is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boxVolum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pecify length and width; default heigh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The volume of a box with length 10,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width 5 and height 1 is: 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boxVolum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75" name=""/>
          <p:cNvGrpSpPr/>
          <p:nvPr/>
        </p:nvGrpSpPr>
        <p:grpSpPr>
          <a:xfrm>
            <a:off x="2438280" y="1066680"/>
            <a:ext cx="4114800" cy="838440"/>
            <a:chOff x="2438280" y="1066680"/>
            <a:chExt cx="4114800" cy="838440"/>
          </a:xfrm>
        </p:grpSpPr>
        <p:sp>
          <p:nvSpPr>
            <p:cNvPr id="376" name=""/>
            <p:cNvSpPr/>
            <p:nvPr/>
          </p:nvSpPr>
          <p:spPr>
            <a:xfrm>
              <a:off x="3886200" y="106668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et defaults in function prototyp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 flipH="1">
              <a:off x="2438280" y="121932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8" name=""/>
          <p:cNvGrpSpPr/>
          <p:nvPr/>
        </p:nvGrpSpPr>
        <p:grpSpPr>
          <a:xfrm>
            <a:off x="4724280" y="2654280"/>
            <a:ext cx="4114800" cy="1231920"/>
            <a:chOff x="4724280" y="2654280"/>
            <a:chExt cx="4114800" cy="1231920"/>
          </a:xfrm>
        </p:grpSpPr>
        <p:sp>
          <p:nvSpPr>
            <p:cNvPr id="379" name=""/>
            <p:cNvSpPr/>
            <p:nvPr/>
          </p:nvSpPr>
          <p:spPr>
            <a:xfrm>
              <a:off x="6172200" y="2654280"/>
              <a:ext cx="266688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Function calls with some parameters missing – the rightmost parameters get their default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 flipH="1">
              <a:off x="4724280" y="320040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A04F12-D728-4594-ACB1-EE67AFDD69A8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3_23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2)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3_23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35053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pecify all argumen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The volume of a box with length 10,\n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width 5 and height 2 is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boxVolum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dicates successful termin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unction boxVolume calculates the volume of a box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oxVolum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length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width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height )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length * width * height;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boxVolume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83" name=""/>
          <p:cNvSpPr/>
          <p:nvPr/>
        </p:nvSpPr>
        <p:spPr>
          <a:xfrm>
            <a:off x="0" y="3505320"/>
            <a:ext cx="7010280" cy="24382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default box volume is: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volume of a box with length 10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width 1 and height 1 is: 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volume of a box with length 10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width 5 and height 1 is: 5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volume of a box with length 10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width 5 and height 2 is: 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C02C0C-B2FD-413D-9742-7D2FB1D85C66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453960" y="380880"/>
          <a:ext cx="8425080" cy="6908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3960" y="380880"/>
                    <a:ext cx="8425080" cy="690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FA0370-0BAE-457C-BD72-BB3950D9E4F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3.19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Unitary Scope Resolution Operator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ary scope resolution operator (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: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ccess global variable if local variable has same nam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ot needed if names are differ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::variab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y = ::x + 3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Good to avoid using same names for locals and global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42AE57-DF10-45E5-845D-D6432C797E10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3_24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3.24: fig03_24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Using the unary scope resolution operator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mani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setprecisi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fine global constant PI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 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PI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.14159265358979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efine local constant PI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 floa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PI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tatic_ca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loa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gt;( ::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PI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isplay values of local and global PI constan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setprecisio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 Local float value of PI =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PI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Global double value of PI =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::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PI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dicates successful termin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88" name=""/>
          <p:cNvGrpSpPr/>
          <p:nvPr/>
        </p:nvGrpSpPr>
        <p:grpSpPr>
          <a:xfrm>
            <a:off x="3733560" y="2209680"/>
            <a:ext cx="4115160" cy="2040840"/>
            <a:chOff x="3733560" y="2209680"/>
            <a:chExt cx="4115160" cy="2040840"/>
          </a:xfrm>
        </p:grpSpPr>
        <p:sp>
          <p:nvSpPr>
            <p:cNvPr id="389" name=""/>
            <p:cNvSpPr/>
            <p:nvPr/>
          </p:nvSpPr>
          <p:spPr>
            <a:xfrm>
              <a:off x="5181480" y="2209680"/>
              <a:ext cx="2667240" cy="20408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ccess the global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I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with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::PI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st the global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I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to a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floa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for the local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I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 This example will show the difference betwee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floa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an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flipH="1">
              <a:off x="3733560" y="320040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88E5C1-BA21-45E1-8810-1C9196C7B990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3_24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2)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3_24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8380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93" name=""/>
          <p:cNvSpPr/>
          <p:nvPr/>
        </p:nvSpPr>
        <p:spPr>
          <a:xfrm>
            <a:off x="0" y="762120"/>
            <a:ext cx="7010280" cy="2286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orland C++ command-line compiler outpu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Local float value of PI = 3.14159274101257324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Global double value of PI = 3.1415926535897900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icrosoft Visual C++ compiler outpu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Local float value of PI = 3.141592741012573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Global double value of PI = 3.1415926535897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05533F-107C-45D7-9676-921FA9065BEC}" type="slidenum">
              <a:t>8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3.20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Function Overloading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nction overloa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unctions with same name and different paramet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hould perform similar task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.e., function to squar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 and function to squar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loa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square( int x) {return x * x;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loat square(float x) { return x * 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verloaded functions distinguished by signa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Based on name and parameter types (order matter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ame mangl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codes function identifier with parame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ype-safe linkag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sures proper overloaded function call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EC01A6-D9A7-4C67-932B-0F24607CD29F}" type="slidenum">
              <a:t>8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3_25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3341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3.25: fig03_25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Using overloaded functions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unction square for int values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quar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x )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      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alled square with int argument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x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x * x;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int version of function square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unction square for double values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quar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y )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         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alled square with double argument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y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y * y;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double version of function square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98" name=""/>
          <p:cNvGrpSpPr/>
          <p:nvPr/>
        </p:nvGrpSpPr>
        <p:grpSpPr>
          <a:xfrm>
            <a:off x="2209680" y="1066680"/>
            <a:ext cx="4114800" cy="2667240"/>
            <a:chOff x="2209680" y="1066680"/>
            <a:chExt cx="4114800" cy="2667240"/>
          </a:xfrm>
        </p:grpSpPr>
        <p:sp>
          <p:nvSpPr>
            <p:cNvPr id="399" name=""/>
            <p:cNvSpPr/>
            <p:nvPr/>
          </p:nvSpPr>
          <p:spPr>
            <a:xfrm>
              <a:off x="3657600" y="1066680"/>
              <a:ext cx="266688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verloaded functions have the same name, but the different parameters distinguish them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 flipH="1">
              <a:off x="2209680" y="1676520"/>
              <a:ext cx="1447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 flipH="1">
              <a:off x="2666880" y="1676520"/>
              <a:ext cx="99072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4578DA-91C4-4F7D-9BB2-F08A58D996DF}" type="slidenum">
              <a:t>8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3_25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2)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3_25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28954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tResult = squar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calls int vers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oubleResult = squar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7.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alls double vers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\nThe square of integer 7 is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intResul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The square of double 7.5 is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doubleResult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endl;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dicates successful termin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04" name=""/>
          <p:cNvSpPr/>
          <p:nvPr/>
        </p:nvSpPr>
        <p:spPr>
          <a:xfrm>
            <a:off x="0" y="2819520"/>
            <a:ext cx="7010280" cy="13716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alled square with int argument: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alled square with double argument: 7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square of integer 7 is 4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square of double 7.5 is 56.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5" name=""/>
          <p:cNvGrpSpPr/>
          <p:nvPr/>
        </p:nvGrpSpPr>
        <p:grpSpPr>
          <a:xfrm>
            <a:off x="3048120" y="1143000"/>
            <a:ext cx="3124080" cy="976320"/>
            <a:chOff x="3048120" y="1143000"/>
            <a:chExt cx="3124080" cy="976320"/>
          </a:xfrm>
        </p:grpSpPr>
        <p:sp>
          <p:nvSpPr>
            <p:cNvPr id="406" name=""/>
            <p:cNvSpPr/>
            <p:nvPr/>
          </p:nvSpPr>
          <p:spPr>
            <a:xfrm>
              <a:off x="3505320" y="1295280"/>
              <a:ext cx="26668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The proper function is called based upon the argument (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or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)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 flipH="1" flipV="1">
              <a:off x="3048120" y="1143000"/>
              <a:ext cx="4572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DDA6DD-B590-4B8D-B73A-B86A6012B9DA}" type="slidenum">
              <a:t>8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3_26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0292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3.26: fig03_26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Name mangling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unction square for int valu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quar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x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x * x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unction square for double valu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quar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y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y * y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unction that receives arguments of types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t, float, char and int *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othing1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loa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d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empty function bod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BAD185-7978-4CC2-81DD-83C6013965E1}" type="slidenum">
              <a:t>8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3_26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2)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3_26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28954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unction that receives arguments of types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har, int, float * and double *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nothing2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loa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c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d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mai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dicates successful termin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12" name=""/>
          <p:cNvSpPr/>
          <p:nvPr/>
        </p:nvSpPr>
        <p:spPr>
          <a:xfrm>
            <a:off x="0" y="2895480"/>
            <a:ext cx="7010280" cy="13716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_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@nothing2$qcipfp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@nothing1$qifc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@square$q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@square$q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3" name=""/>
          <p:cNvGrpSpPr/>
          <p:nvPr/>
        </p:nvGrpSpPr>
        <p:grpSpPr>
          <a:xfrm>
            <a:off x="1752480" y="2514600"/>
            <a:ext cx="4114800" cy="2040840"/>
            <a:chOff x="1752480" y="2514600"/>
            <a:chExt cx="4114800" cy="2040840"/>
          </a:xfrm>
        </p:grpSpPr>
        <p:sp>
          <p:nvSpPr>
            <p:cNvPr id="414" name=""/>
            <p:cNvSpPr/>
            <p:nvPr/>
          </p:nvSpPr>
          <p:spPr>
            <a:xfrm>
              <a:off x="3200400" y="2514600"/>
              <a:ext cx="2666880" cy="20408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Mangled names produced in assembly languag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$q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separates the function name from its parameters.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i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ha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i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i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i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f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is a pointer to a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floa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, etc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 flipH="1">
              <a:off x="1752480" y="266688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0D70E9-C0AE-4CBB-9BFC-C71C3C3F8320}" type="slidenum">
              <a:t>8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3.21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Function Templat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act way to make overloaded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Generate separate function for different data typ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Begin with keyword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empla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ormal type parameters in bracke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ery type parameter preceded b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ype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las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synonym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laceholders for built-in types (i.e.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or user-defined typ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y arguments types, return types, declare varia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unction definition like normal, except formal types us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16FDE7-EFAD-4692-BC9D-972B084F7BEC}" type="slidenum">
              <a:t>8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3.21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Function Templat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emplate &lt; class T &gt; // or template&lt; typename T 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 square( T value1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value1 * value1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is a formal type, used as parameter typ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bove function returns variable of same type as parame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 function call, T replaced by real typ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all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's becom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x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y = square(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621789-7D65-48CE-9C7E-68ACCA17761E}" type="slidenum">
              <a:t>8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3.4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Function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odularize a progra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oftware reusabilit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ll function multiple tim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cal varia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Known only in the function in which they are defin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ll variables declared in function definitions are local variab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me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ocal variables passed to function when call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ovide outside inform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8B9180-2FAA-4168-BFCC-8A49E59543B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3_27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4100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3.27: fig03_27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Using a function template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i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finition of function template maximum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empl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 &gt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r template &lt; typename T 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 maximum( T value1, T value2, T value3 )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T max = value1;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value2 &gt; max )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max = value2;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value3 &gt; max )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max = value3;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x;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template maximum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22" name=""/>
          <p:cNvGrpSpPr/>
          <p:nvPr/>
        </p:nvGrpSpPr>
        <p:grpSpPr>
          <a:xfrm>
            <a:off x="1981080" y="1295280"/>
            <a:ext cx="4114800" cy="838440"/>
            <a:chOff x="1981080" y="1295280"/>
            <a:chExt cx="4114800" cy="838440"/>
          </a:xfrm>
        </p:grpSpPr>
        <p:sp>
          <p:nvSpPr>
            <p:cNvPr id="423" name=""/>
            <p:cNvSpPr/>
            <p:nvPr/>
          </p:nvSpPr>
          <p:spPr>
            <a:xfrm>
              <a:off x="3429000" y="1295280"/>
              <a:ext cx="26668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Formal type parameter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placeholder for type of data to be tested by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maximum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1981080" y="144792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5" name=""/>
          <p:cNvGrpSpPr/>
          <p:nvPr/>
        </p:nvGrpSpPr>
        <p:grpSpPr>
          <a:xfrm>
            <a:off x="2590560" y="2590920"/>
            <a:ext cx="3733920" cy="1128600"/>
            <a:chOff x="2590560" y="2590920"/>
            <a:chExt cx="3733920" cy="1128600"/>
          </a:xfrm>
        </p:grpSpPr>
        <p:sp>
          <p:nvSpPr>
            <p:cNvPr id="426" name=""/>
            <p:cNvSpPr/>
            <p:nvPr/>
          </p:nvSpPr>
          <p:spPr>
            <a:xfrm>
              <a:off x="3657600" y="2895480"/>
              <a:ext cx="26668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maximum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expects all parameters to be of the same typ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H="1" flipV="1">
              <a:off x="2590560" y="2590920"/>
              <a:ext cx="106668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1683F8-0AD3-4420-A914-6F9CCF5483CE}" type="slidenum">
              <a:t>9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3_27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1055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emonstrate maximum with int valu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t1, int2, int3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Input three integer values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in &gt;&gt; int1 &gt;&gt; int2 &gt;&gt; int3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invoke int version of maximum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he maximum integer value is: 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maximum( int1, int2, int3 );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emonstrate maximum with double valu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ouble1, double2, double3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\n\nInput three double values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in &gt;&gt; double1 &gt;&gt; double2 &gt;&gt; double3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invoke double version of maximum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he maximum double value is: 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maximum( double1, double2, double3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30" name=""/>
          <p:cNvGrpSpPr/>
          <p:nvPr/>
        </p:nvGrpSpPr>
        <p:grpSpPr>
          <a:xfrm>
            <a:off x="3733560" y="1447920"/>
            <a:ext cx="4115160" cy="3047760"/>
            <a:chOff x="3733560" y="1447920"/>
            <a:chExt cx="4115160" cy="3047760"/>
          </a:xfrm>
        </p:grpSpPr>
        <p:sp>
          <p:nvSpPr>
            <p:cNvPr id="431" name=""/>
            <p:cNvSpPr/>
            <p:nvPr/>
          </p:nvSpPr>
          <p:spPr>
            <a:xfrm>
              <a:off x="5181480" y="1447920"/>
              <a:ext cx="26672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maximum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called with various data type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 flipH="1">
              <a:off x="3733560" y="160020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 flipH="1">
              <a:off x="4419720" y="1600200"/>
              <a:ext cx="761760" cy="289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0CD9E5-5EBA-4E48-AF3E-55B8AEA62400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3_27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3 of 3)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3_27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32767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7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emonstrate maximum with char valu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har1, char2, char3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Input three characters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in &gt;&gt; char1 &gt;&gt; char2 &gt;&gt; char3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invoke char version of maximum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he maximum character value is: 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maximum( char1, char2, char3 )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dicates successful termin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6" name=""/>
          <p:cNvSpPr/>
          <p:nvPr/>
        </p:nvSpPr>
        <p:spPr>
          <a:xfrm>
            <a:off x="0" y="3276720"/>
            <a:ext cx="7010280" cy="19810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put three integer values: 1 2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maximum integer value is: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put three double values: 3.3 2.2 1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maximum double value is: 3.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put three characters: A C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maximum character value is: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C6A526-59F5-4408-A562-15D906256E9C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31T17:44:31Z</dcterms:created>
  <dc:creator>kalid</dc:creator>
  <dc:description/>
  <dc:language>en-US</dc:language>
  <cp:lastModifiedBy>Pearson Education</cp:lastModifiedBy>
  <dcterms:modified xsi:type="dcterms:W3CDTF">2002-08-05T13:02:33Z</dcterms:modified>
  <cp:revision>636</cp:revision>
  <dc:subject/>
  <dc:title>Chapter 3 - Functions</dc:title>
</cp:coreProperties>
</file>