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2DF80-E6D0-4EB2-8456-CCF81DDAD9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A5367-FAFF-4D20-AFF4-2506B232D9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AF634-CCE6-49FE-92BF-88308317EC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37024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4048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-36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37024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4048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57A5A-BAC0-4DB4-A2D3-33A2DA0318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14E23-7CF9-49BC-987E-81D9676A2B6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E60A4-439B-4090-8DA9-9ED5BBAE6BB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51474-E3A7-4E94-B93B-8E48D49CA8D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40CA5-608D-46DC-8D05-175EDE03516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240A6-831D-4A73-BA5B-6509E6752D5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086240" y="837720"/>
            <a:ext cx="2057400" cy="2225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33CCC-5AC1-4179-A3D7-9637C1530DE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4BC20-9968-423C-BE69-43DEDD1072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FAFD2-DAEE-4664-8F7F-B7BC38E323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7BE36-F5D4-411A-8949-5876B7F9BCB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5532E-65E6-49C0-BEAC-314B4951B1C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06511-78C9-4DCC-BCB8-9632DBC2501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30186-7082-4219-A845-9156D317B87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37024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4048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-36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37024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74048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0D43B-83C5-4F23-B8E2-1D6416D62E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2C787-8405-4D32-A031-37F1F3E1EE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044BE-2C17-4CA5-8A8D-548DD09FE6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6CEAC-87D6-43E3-B0C5-C4B9202AEC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086240" y="837720"/>
            <a:ext cx="2057400" cy="2225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2084A-6059-4950-AFB8-9C73B7D104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CD7C6-C2C7-4FB0-82F7-7B6DCA3099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17D89-5D4C-4113-B642-CD0217C3DB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B5E46-F9DA-4758-9DF4-ED1DD8F3DD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23133-F0D3-4748-94C1-310B6CD0C4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ABEBB-BB3F-40C1-B24B-023CF49968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3 - Functions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1143000"/>
            <a:ext cx="7772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ntroduction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Program Components in C++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Math Library Function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4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Function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5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Function Definition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6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Function Prototype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7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Header File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8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Random Number Generation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9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Example: A Game of Chance and Introducing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enum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10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Storage Classe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1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Scope Rule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1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Recursion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1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Example Using Recursion: The Fibonacci Serie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14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Recursion vs. Iteration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15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Functions with Empty Parameter List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D747A-B709-4DAB-B28D-D4D0A5F7062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5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unction Defini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prot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ells compiler argument type and return type of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quare( int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 takes 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returns 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plained in more detail la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/invoking a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quare(x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rentheses an operator used to call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ss argument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 gets its own copy of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fter finished, passes back resul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19B4E-4F0F-4813-A331-A7BB28A57A5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5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unction Defini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t for function defi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return-value-type  function-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parameter-lis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declarations and statements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rameter l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a separated list of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type needed for each 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no arguments, 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leave bla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-value-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type of result returned (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f nothing return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B0498-4C16-400D-AFE9-9285B890D89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5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unction Defini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square( int y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y *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keyw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s data, and control goes to function’s call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no data to return, 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ends when reaches right bra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 goes to ca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 cannot be defined inside other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: program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78A20-E79D-44CD-834C-C9783A1DE6C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3.3: fig03_03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ing and using a programmer-defined func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quar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function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oop 10 times and calculate and outpu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quare of x each 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x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x++ )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quare( x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cal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590560" y="2362320"/>
            <a:ext cx="4115160" cy="838080"/>
            <a:chOff x="2590560" y="2362320"/>
            <a:chExt cx="4115160" cy="838080"/>
          </a:xfrm>
        </p:grpSpPr>
        <p:sp>
          <p:nvSpPr>
            <p:cNvPr id="115" name=""/>
            <p:cNvSpPr/>
            <p:nvPr/>
          </p:nvSpPr>
          <p:spPr>
            <a:xfrm>
              <a:off x="4038480" y="236232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renthes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(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ause function to be called. When done, it returns the resul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2590560" y="25146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676160" y="762120"/>
            <a:ext cx="4115160" cy="1310760"/>
            <a:chOff x="1676160" y="762120"/>
            <a:chExt cx="4115160" cy="1310760"/>
          </a:xfrm>
        </p:grpSpPr>
        <p:sp>
          <p:nvSpPr>
            <p:cNvPr id="118" name=""/>
            <p:cNvSpPr/>
            <p:nvPr/>
          </p:nvSpPr>
          <p:spPr>
            <a:xfrm>
              <a:off x="3124080" y="762120"/>
              <a:ext cx="26672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 prototype: specifies data types of arguments and return values.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quar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expects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and returns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1676160" y="9144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0E41F-4FEC-4D0C-924C-2031BB90B10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1828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quare function definition returns square of an intege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quar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 )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y is a copy of argument to fun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 * y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eturns square of y as an int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quare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676520"/>
            <a:ext cx="7010280" cy="609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 4  9  16  25  36  49  64  81 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057400" y="990720"/>
            <a:ext cx="4495680" cy="1122480"/>
            <a:chOff x="2057400" y="990720"/>
            <a:chExt cx="4495680" cy="1122480"/>
          </a:xfrm>
        </p:grpSpPr>
        <p:sp>
          <p:nvSpPr>
            <p:cNvPr id="124" name=""/>
            <p:cNvSpPr/>
            <p:nvPr/>
          </p:nvSpPr>
          <p:spPr>
            <a:xfrm>
              <a:off x="3886200" y="128916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inition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quar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a copy of the argument passed. Return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y * 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quar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 flipV="1">
              <a:off x="2057400" y="990720"/>
              <a:ext cx="18288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060A5-7868-4A78-9284-F5744FEE744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3.4: fig03_0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nding the maximum of three floating-point number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ximum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1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2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3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three floating-point number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number1 &gt;&gt; number2 &gt;&gt; number3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number1, number2 and number3 are arguments to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he maximum function cal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Maximum i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maximum( number1, number2, number3 )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828440" y="2209320"/>
            <a:ext cx="3810240" cy="1434240"/>
            <a:chOff x="1828440" y="2209320"/>
            <a:chExt cx="3810240" cy="1434240"/>
          </a:xfrm>
        </p:grpSpPr>
        <p:sp>
          <p:nvSpPr>
            <p:cNvPr id="129" name=""/>
            <p:cNvSpPr/>
            <p:nvPr/>
          </p:nvSpPr>
          <p:spPr>
            <a:xfrm>
              <a:off x="2971800" y="28195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aximu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akes 3 arguments (al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 and returns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 flipV="1">
              <a:off x="1828440" y="2209320"/>
              <a:ext cx="11430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4E55C-A3AD-4A17-BF36-8B7612DB299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419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maximum definition;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x, y and z are parameters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ximum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z )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x = x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ssume x is largest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y &gt; max )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if y is larger,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ax = y;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ssign y to max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z &gt; max )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f z is larger,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ax = z;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ssign z to max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x;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ax is largest value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maximum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4267080"/>
            <a:ext cx="7010280" cy="1981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three floating-point numbers: 99.32 37.3 27.19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aximum is: 99.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three floating-point numbers: 1.1 3.333 2.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aximum is: 3.33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three floating-point numbers: 27.9 14.31 88.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aximum is: 88.9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514600" y="457200"/>
            <a:ext cx="4114800" cy="838080"/>
            <a:chOff x="2514600" y="457200"/>
            <a:chExt cx="4114800" cy="838080"/>
          </a:xfrm>
        </p:grpSpPr>
        <p:sp>
          <p:nvSpPr>
            <p:cNvPr id="135" name=""/>
            <p:cNvSpPr/>
            <p:nvPr/>
          </p:nvSpPr>
          <p:spPr>
            <a:xfrm>
              <a:off x="3962520" y="4572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mma separated list for multiple paramete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2514600" y="6094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515B3-A4D2-490B-A599-A7CEA8C4AD4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6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unction Prototyp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prototype conta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rameters (number and data typ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turn type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f returns nothin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needed if function definition after function ca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type must match function defi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proto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maximum( double, double, double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Defin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maximum( double x, double y, double z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A5789-C48E-4287-AE5A-B5109D7F21C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6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unction Prototyp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sign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rt of prototype with name and parame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maximum( double, double, double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gument Coer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ce arguments to be of proper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4)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4.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t &lt;&lt; sqrt(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version ru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guments usually converted automati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ing from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 truncate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4 to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ixed type goes to highest type (promot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* do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743200" y="2286000"/>
            <a:ext cx="4038480" cy="503640"/>
            <a:chOff x="2743200" y="2286000"/>
            <a:chExt cx="4038480" cy="503640"/>
          </a:xfrm>
        </p:grpSpPr>
        <p:sp>
          <p:nvSpPr>
            <p:cNvPr id="142" name=""/>
            <p:cNvSpPr/>
            <p:nvPr/>
          </p:nvSpPr>
          <p:spPr>
            <a:xfrm>
              <a:off x="3352680" y="2482560"/>
              <a:ext cx="312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unction signatu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2743200" y="2514600"/>
              <a:ext cx="4038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4320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81680" y="22860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26FB5-EC44-40FD-A5CA-23058F0F8BD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6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unction Prototyp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681120" y="1338120"/>
          <a:ext cx="7765920" cy="517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1338120"/>
                    <a:ext cx="7765920" cy="517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F2031-EA8A-47E6-9066-6FEDE57817E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3 - Functions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143000"/>
            <a:ext cx="5486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16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nline Function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17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References and Reference Parameter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18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Default Argument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19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Unary Scope Resolution Operator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20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Function Overloading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.2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Function Template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58076-83E5-4669-877A-7E98A7BD9EC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7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Header Fil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der files cont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proto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itions of data types and consta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der files ending with .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mer-defined header fi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nclude “myheader.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brary header fi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include &lt;cmat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8355E-A989-4E8A-89AE-8852668B15B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8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andom Number Gener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cstdlib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 = rand(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enerates unsigned integer between 0 and RAND_MAX (usually 32767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aling and shif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dulus (remainder) operator: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0 % 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% 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betwe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 –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 = rand() % 6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and() % 6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generates a number betwee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scal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+ 1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makes the range 1 to 6 (shif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ext: program to roll d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FAC07-C0AA-49C7-BAD5-1A38E19AFAF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3.7: fig03_07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hifted, scaled integers produced by 1 + rand() % 6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tains function prototype for rand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oop 20 tim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nte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counter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counter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ick random number from 1 to 6 and output i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rand()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counter divisible by 5, begin new line of out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ounter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or structur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3809880" y="3505320"/>
            <a:ext cx="4114800" cy="838080"/>
            <a:chOff x="3809880" y="3505320"/>
            <a:chExt cx="4114800" cy="838080"/>
          </a:xfrm>
        </p:grpSpPr>
        <p:sp>
          <p:nvSpPr>
            <p:cNvPr id="156" name=""/>
            <p:cNvSpPr/>
            <p:nvPr/>
          </p:nvSpPr>
          <p:spPr>
            <a:xfrm>
              <a:off x="5257800" y="35053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utput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and(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caled and shifted to be a number between 1 and 6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3809880" y="36576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EB99B-D33D-4A56-A0C1-D67CDE69601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066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1066680"/>
            <a:ext cx="7010280" cy="1219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         6         5         5        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         1         1         5        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         6         2         4      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         2         3         4        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8C1CB-A6B3-4E6E-A22E-C21A0C1944E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8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andom Number Gener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 to show distribution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and(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mulate 6000 rolls of a di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int number of 1’s, 2’s, 3’s, etc. roll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ould be roughly 1000 of ea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E40E7-14A1-4490-83AA-3C714EBBA24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0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3.8: fig03_08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oll a six-sided die 6000 time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tains function prototype for ra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requency1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requency2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requency3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requency4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requency5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requency6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ace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presents one roll of the di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1E84C-D024-4C1D-831B-C6709A20E9A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0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oop 6000 times and summarize resul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ol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roll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roll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ac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rand()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andom number from 1 to 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termine face value and increment appropriate count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wi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face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olled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++frequency1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olled 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++frequency2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olled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++frequency3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olled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++frequency4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olled 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++frequency5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57836-CC75-4DD0-BBC2-1FF62D938BE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0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86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olled 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++frequency6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efaul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valid value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rogram should never get here!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swi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o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results in tabular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a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"Frequency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1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frequency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2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frequency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3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frequency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4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frequency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5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frequency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   6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frequency6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905120" y="1676520"/>
            <a:ext cx="3962160" cy="1296000"/>
            <a:chOff x="1905120" y="1676520"/>
            <a:chExt cx="3962160" cy="1296000"/>
          </a:xfrm>
        </p:grpSpPr>
        <p:sp>
          <p:nvSpPr>
            <p:cNvPr id="170" name=""/>
            <p:cNvSpPr/>
            <p:nvPr/>
          </p:nvSpPr>
          <p:spPr>
            <a:xfrm>
              <a:off x="3200400" y="190512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fault case included even though it should never be reached. This is a matter of good coding sty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1905120" y="1676520"/>
              <a:ext cx="12952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CBE5C-5884-4221-ACF6-965781C185D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0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1752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ace    Frequenc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     100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        101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          98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          99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         100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          99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02B93-ECB0-4FBB-AA8A-2DAE758CFB3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8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andom Number Gener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rand() repeatedl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ives the same sequence of nu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seudo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set sequence of "random" nu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ame sequence generated whenever program ru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get different random seq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 a seed 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ke a random starting point in the seq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ame seed will give the same seq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rand(seed)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cstdlib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befor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nd(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et the s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63E0B-32A8-4128-B935-73667B7FE65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1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and conqu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ruct a program from smaller pieces or compon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ch piece more manageable than the original 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CB311-4442-4987-99D6-731FF94DFF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0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10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3.9: fig03_09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andomizing die-rolling program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tains prototypes for functions srand and ra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ain function begins program execu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e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seed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see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rand( seed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ed random number gener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904760" y="4114800"/>
            <a:ext cx="3505320" cy="838080"/>
            <a:chOff x="1904760" y="4114800"/>
            <a:chExt cx="3505320" cy="838080"/>
          </a:xfrm>
        </p:grpSpPr>
        <p:sp>
          <p:nvSpPr>
            <p:cNvPr id="179" name=""/>
            <p:cNvSpPr/>
            <p:nvPr/>
          </p:nvSpPr>
          <p:spPr>
            <a:xfrm>
              <a:off x="3352680" y="4114800"/>
              <a:ext cx="2057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tting the seed wit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rand(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904760" y="42670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A88C1-D340-4253-A3BF-29A73A936B8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0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0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505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oop 10 tim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nte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counter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counter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pick random number from 1 to 6 and output i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rand()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if counter divisible by 5, begin new line of out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counter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or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3505320"/>
            <a:ext cx="7010280" cy="2666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seed: 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         1         4         6      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     6         1         6        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seed: 4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         6         3         1        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         1         5         4      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seed: 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         1         4         6      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     6         1         6        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523880" y="2819520"/>
            <a:ext cx="4114800" cy="2743200"/>
            <a:chOff x="1523880" y="2819520"/>
            <a:chExt cx="4114800" cy="2743200"/>
          </a:xfrm>
        </p:grpSpPr>
        <p:sp>
          <p:nvSpPr>
            <p:cNvPr id="185" name=""/>
            <p:cNvSpPr/>
            <p:nvPr/>
          </p:nvSpPr>
          <p:spPr>
            <a:xfrm>
              <a:off x="2971800" y="28195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and(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gives the same sequence if it has the same initial se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1523880" y="3200760"/>
              <a:ext cx="1447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1523880" y="3200760"/>
              <a:ext cx="1447920" cy="23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2B9C6-8AEB-4EE1-B17E-16DC2597635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8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andom Number Gener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the current time to set the s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 need to explicitly set seed every 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rand( time( 0 )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ime( 0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c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current time in seco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shifting and sc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umb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shiftingValu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and()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%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scalingFa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iftingValue = first number in desired ran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calingFactor = width of desired ran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F5815-B09B-416F-81BE-01CDE3C709F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9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ample: Game of Chance and Introducing enum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um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t of integers with identifi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u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ype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nstant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nstant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ants start at 0 (default), incremented by 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ants need unique na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assign integer to enumeration vari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use a previously defined enumeration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um Status {CONTINUE, WON, LOST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us enumVar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umVar = WON; // cannot do enumVar =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95131-B5C2-4664-9DAC-724E9B3120E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9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ample: Game of Chance and Introducing enum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umeration constants can have preset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num Months { JAN = 1, FEB, MAR, APR, MAY, JUN, JUL, AUG, SEP, OCT, NOV, DEC}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rts at 1, increments by 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: craps simul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oll two di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7 or 11 on first throw: player wi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, 3, or 12 on first throw: player lo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4, 5, 6, 8, 9, 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becomes player's "point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yer must roll his point before rolling 7 to w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AA0D0-8D89-412A-9EC4-795AB0AAC39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10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3.10: fig03_10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ap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tains function prototypes for functions srand and ra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time&gt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ntains prototype for function 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ollDic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numeration constants represent game stat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nu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us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ONTIN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W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LO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u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yPoi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atus gameStatus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n contain CONTINUE, WON or LOS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2057400" y="1981080"/>
            <a:ext cx="4114800" cy="838440"/>
            <a:chOff x="2057400" y="1981080"/>
            <a:chExt cx="4114800" cy="838440"/>
          </a:xfrm>
        </p:grpSpPr>
        <p:sp>
          <p:nvSpPr>
            <p:cNvPr id="197" name=""/>
            <p:cNvSpPr/>
            <p:nvPr/>
          </p:nvSpPr>
          <p:spPr>
            <a:xfrm>
              <a:off x="3505320" y="19810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 to roll 2 dice and return the result as 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2057400" y="21337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1752480" y="3048120"/>
            <a:ext cx="4114800" cy="838080"/>
            <a:chOff x="1752480" y="3048120"/>
            <a:chExt cx="4114800" cy="838080"/>
          </a:xfrm>
        </p:grpSpPr>
        <p:sp>
          <p:nvSpPr>
            <p:cNvPr id="200" name=""/>
            <p:cNvSpPr/>
            <p:nvPr/>
          </p:nvSpPr>
          <p:spPr>
            <a:xfrm>
              <a:off x="3200400" y="30481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numeration to keep track of the current gam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1752480" y="32004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69168-DBA6-4C1E-B645-140CCA0A611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andomize random number generator using current tim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rand( tim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um = rollDice(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rst roll of the d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termine game status and point based on sum of d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witc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um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win on first rol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ameStatu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W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ose on first rol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ameStatu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LO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828800" y="685800"/>
            <a:ext cx="4114800" cy="838080"/>
            <a:chOff x="1828800" y="685800"/>
            <a:chExt cx="4114800" cy="838080"/>
          </a:xfrm>
        </p:grpSpPr>
        <p:sp>
          <p:nvSpPr>
            <p:cNvPr id="205" name=""/>
            <p:cNvSpPr/>
            <p:nvPr/>
          </p:nvSpPr>
          <p:spPr>
            <a:xfrm>
              <a:off x="3276720" y="68580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witc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tatement determines outcome based on die rol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1828800" y="8380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88FE0-7474-46EE-8712-831EB1DA95A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remember po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efaul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ameStatu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ONTIN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yPoint = su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oint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myPoin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optional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switch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while game not complete ..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gameStatus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CONTIN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um = rollDice();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oll dice ag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determine game statu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um == myPoint )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in by making poi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gameStatu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W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um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ose by rolling 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gameStatu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LO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whil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A0445-ED68-4BEE-AA97-6E277563D50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won or lost mess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gameStatus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W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layer wins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layer loses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oll dice, calculate sum and display resul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ollDic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e1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ie2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orkSum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ie1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rand()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ick random die1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die2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rand()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ick random die2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workSum = die1 + die2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sum die1 and die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1981080" y="1752480"/>
            <a:ext cx="4114800" cy="838440"/>
            <a:chOff x="1981080" y="1752480"/>
            <a:chExt cx="4114800" cy="838440"/>
          </a:xfrm>
        </p:grpSpPr>
        <p:sp>
          <p:nvSpPr>
            <p:cNvPr id="212" name=""/>
            <p:cNvSpPr/>
            <p:nvPr/>
          </p:nvSpPr>
          <p:spPr>
            <a:xfrm>
              <a:off x="3429000" y="17524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ollDic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akes no arguments, so ha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voi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 the parameter lis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1981080" y="19051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354AB-5010-4F7B-8C01-2A20CD1EC29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5 of 5)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1752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results of this rol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Player rolled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die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+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die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 =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workSum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orkSum;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sum of d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rollDi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1752480"/>
            <a:ext cx="7010280" cy="327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 rolled 2 + 5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 wi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 rolled 6 + 6 =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 los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 rolled 3 + 3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 is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 rolled 5 + 3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 rolled 4 + 5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 rolled 2 + 1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 rolled 1 + 5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 wi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3F97C-0B23-44DC-84BA-F89B4E6C7BE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2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rogram Components in C++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es: functions and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s use new and “prepackaged” mod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ew: programmer-defined functions,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packaged: from the standard librar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 invoked by function c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name and information (arguments) it nee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defin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written o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idden from other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CD3E1-1B5D-4BD6-B2F9-627C52819F7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666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 rolled 1 + 3 =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int is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 rolled 4 + 6 = 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 rolled 2 + 4 = 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 rolled 6 + 4 = 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 rolled 2 + 3 = 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 rolled 2 + 4 = 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 rolled 1 + 1 = 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 rolled 4 + 4 =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 rolled 4 + 3 = 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layer los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3ADCC-A943-4B77-A097-DED82BD93B5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10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torage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 have attribu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ve seen name, type, size, 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orag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long variable exists i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variable can be referenced in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nk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multiple-file program (see Ch. 6), which files can us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20409-DD60-49E7-A71C-2B7126E99FF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10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torage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ic storage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 created when program enters its blo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 destroyed when program leaves bloc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local variables of functions can be automat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ic by defa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wor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ut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licitly declares autom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gist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keywor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nt to place variable in high-speed regi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od for often-used items (loop count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ten unnecessary, compiler optimiz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cify eith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registe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uto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not bo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gister int counter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D4642-3E45-4BC8-B724-F6FEC2A01BD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10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torage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c storage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s exist for entire 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functions, name exists for entire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y not be accessible, scope rules still apply (more later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keyw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cal variables in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eeps value between function call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known in own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xter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keyw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ault for global variables/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s: defined outside of a function b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nown in any function that comes after 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CC8CD-6AFD-4369-813C-76A663206E4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11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cope Rul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rtion of program where identifier can be us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e sco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ined outside a function, known in all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lobal variables, function definitions and proto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sc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only be referenced inside defining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labels, e.g., identifiers with a colon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ase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7B3E7-AD9D-4EF7-84BF-9758D923479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11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cope Rul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ck sc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egins at declaration, ends at right brac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only be referenced in this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cal variables, function parame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variables still have block sco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rage class separate from sc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-prototype sc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rameter list of proto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mes in prototype optio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iler ign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a single prototype, name can be used o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4B809-9FF0-44D8-9827-AEF24A824CA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3.12: fig03_12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 scoping exampl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seLocal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seStaticLocal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seGlobal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function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global vari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ocal variable to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ocal x in main's outer scop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x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{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rt new scope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ocal x in main's inner scop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x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new scope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447560" y="1752480"/>
            <a:ext cx="4115160" cy="838080"/>
            <a:chOff x="1447560" y="1752480"/>
            <a:chExt cx="4115160" cy="838080"/>
          </a:xfrm>
        </p:grpSpPr>
        <p:sp>
          <p:nvSpPr>
            <p:cNvPr id="232" name=""/>
            <p:cNvSpPr/>
            <p:nvPr/>
          </p:nvSpPr>
          <p:spPr>
            <a:xfrm>
              <a:off x="2895480" y="175248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ed outside of function; global variable with file scop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1447560" y="2133360"/>
              <a:ext cx="14475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1752480" y="2666880"/>
            <a:ext cx="4114800" cy="838440"/>
            <a:chOff x="1752480" y="2666880"/>
            <a:chExt cx="4114800" cy="838440"/>
          </a:xfrm>
        </p:grpSpPr>
        <p:sp>
          <p:nvSpPr>
            <p:cNvPr id="235" name=""/>
            <p:cNvSpPr/>
            <p:nvPr/>
          </p:nvSpPr>
          <p:spPr>
            <a:xfrm>
              <a:off x="3200400" y="26668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ocal variable with function scop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1752480" y="2971800"/>
              <a:ext cx="14479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1981080" y="3886200"/>
            <a:ext cx="4114800" cy="914400"/>
            <a:chOff x="1981080" y="3886200"/>
            <a:chExt cx="4114800" cy="914400"/>
          </a:xfrm>
        </p:grpSpPr>
        <p:sp>
          <p:nvSpPr>
            <p:cNvPr id="238" name=""/>
            <p:cNvSpPr/>
            <p:nvPr/>
          </p:nvSpPr>
          <p:spPr>
            <a:xfrm>
              <a:off x="3429000" y="388620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 a new block, giv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block scope. When the block ends, thi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destroy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1981080" y="41148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D14A9-DF3D-4237-8546-E2E37625A4D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657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local x in main's outer scop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x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useLocal();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Local has local 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useStaticLocal(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StaticLocal has static local 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useGlobal()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Global uses global 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useLocal()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useLocal reinitializes its local 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useStaticLocal(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tic local x retains its prior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useGlobal()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global x also retains its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local x in main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x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62AB7-2ED5-4CBA-BC8A-1059957B437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124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Local reinitializes local variable x during each cal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seLocal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ed each time useLocal is call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ocal x is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x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on entering useLoca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++x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ocal x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x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on exiting useLoca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useLoc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828800" y="1142640"/>
            <a:ext cx="3962520" cy="1311120"/>
            <a:chOff x="1828800" y="1142640"/>
            <a:chExt cx="3962520" cy="1311120"/>
          </a:xfrm>
        </p:grpSpPr>
        <p:sp>
          <p:nvSpPr>
            <p:cNvPr id="245" name=""/>
            <p:cNvSpPr/>
            <p:nvPr/>
          </p:nvSpPr>
          <p:spPr>
            <a:xfrm>
              <a:off x="3124080" y="1143000"/>
              <a:ext cx="26672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utomatic variable (local variable of function). This is destroyed when the function exits, and reinitialized when the function begi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 flipV="1">
              <a:off x="1828800" y="1142640"/>
              <a:ext cx="1295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61544-3B1E-44A7-ADBC-7D748A587A81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5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733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StaticLocal initializes static local variable x only th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rst time the function is called; value of x is sav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etween calls to this fun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seStaticLocal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itialized only first time useStaticLocal is call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ocal static x is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x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on entering useStaticLoca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++x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local static x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x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on exiting useStaticLoca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useStaticLoc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1828800" y="1676160"/>
            <a:ext cx="4419720" cy="1823400"/>
            <a:chOff x="1828800" y="1676160"/>
            <a:chExt cx="4419720" cy="1823400"/>
          </a:xfrm>
        </p:grpSpPr>
        <p:sp>
          <p:nvSpPr>
            <p:cNvPr id="250" name=""/>
            <p:cNvSpPr/>
            <p:nvPr/>
          </p:nvSpPr>
          <p:spPr>
            <a:xfrm>
              <a:off x="3581280" y="243216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tatic local variable of function; it is initialized only once, and retains its value between function call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 flipV="1">
              <a:off x="1828800" y="1676160"/>
              <a:ext cx="175248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D1999-A89F-4B98-9980-2885543534F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2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rogram Components in C++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ss to worker ana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 boss (the calling function or caller) asks a worker (the called function) to perform a task and return (i.e., report back) the results when the task is don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37AAE-E5E5-425D-AE10-7693493BCF0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5 of 5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438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eGlobal modifies global variable x during each cal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useGlobal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lobal x is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x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on entering useGlobal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x *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global x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x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on exiting useGlobal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useGlob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438280"/>
            <a:ext cx="7010280" cy="2895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l x in main's outer scope is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l x in main's inner scope is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l x in main's outer scope is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l x is 25 on entering use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l x is 26 on exiting use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l static x is 50 on entering useStatic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l static x is 51 on exiting useStatic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global x is 1 on entering useGlob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global x is 10 on exiting useGlob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3276360" y="762120"/>
            <a:ext cx="4115160" cy="1067400"/>
            <a:chOff x="3276360" y="762120"/>
            <a:chExt cx="4115160" cy="1067400"/>
          </a:xfrm>
        </p:grpSpPr>
        <p:sp>
          <p:nvSpPr>
            <p:cNvPr id="256" name=""/>
            <p:cNvSpPr/>
            <p:nvPr/>
          </p:nvSpPr>
          <p:spPr>
            <a:xfrm>
              <a:off x="4724280" y="76212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is function does not declare any variables. It uses the globa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eclared in the beginning of the program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3276360" y="9144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5918B-A777-4286-BA27-713EAEA15030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666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l x is 25 on entering useLoc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l x is 26 on exiting useLoc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l static x is 51 on entering useStaticLoc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l static x is 52 on exiting useStaticLoc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global x is 10 on entering useGlob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global x is 100 on exiting useGlob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l x in main is 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57B9E-ECB6-4FA9-93EC-EAD43CF16E9E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12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ecurs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sive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s that call themselv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only solve a base ca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not base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reak problem into smaller problem(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aunch new copy of function to work on the smaller problem (recursive call/recursive step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wly converges towards base c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 makes call to itself inside the return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ventually base case gets solv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swer works way back up, solves entire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DAB0B-FF12-4851-8CD7-DC9FED7BC820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12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ecurs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facto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! = n * ( n – 1 ) * ( n – 2 ) * … *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cursive relationship ( n! = n * ( n – 1 )!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5! = 5 * 4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4! = 4 * 3!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ase case (1! = 0! = 1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C9186-632A-4E67-BA0C-595BF854A8FC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3.14: fig03_1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cursive factorial func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 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actorial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oop 10 times. During each iteration, calculat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actorial( i ) and display result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i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!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factorial( i )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276360" y="1676520"/>
            <a:ext cx="4115160" cy="838080"/>
            <a:chOff x="3276360" y="1676520"/>
            <a:chExt cx="4115160" cy="838080"/>
          </a:xfrm>
        </p:grpSpPr>
        <p:sp>
          <p:nvSpPr>
            <p:cNvPr id="267" name=""/>
            <p:cNvSpPr/>
            <p:nvPr/>
          </p:nvSpPr>
          <p:spPr>
            <a:xfrm>
              <a:off x="4724280" y="167652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ta typ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unsigned lo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an hold an integer from 0 to 4 bill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3276360" y="18288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8D1B3-642A-4086-8847-9E310F2EAEC4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cursive definition of function factorial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 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actorial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 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base case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umber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cursive step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 * factorial( number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factorial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3124080"/>
            <a:ext cx="7010280" cy="2590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!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!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!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!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! = 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! = 1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! = 7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! = 50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! = 403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! = 3628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! = 36288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2514600" y="457200"/>
            <a:ext cx="4114800" cy="1067400"/>
            <a:chOff x="2514600" y="457200"/>
            <a:chExt cx="4114800" cy="1067400"/>
          </a:xfrm>
        </p:grpSpPr>
        <p:sp>
          <p:nvSpPr>
            <p:cNvPr id="273" name=""/>
            <p:cNvSpPr/>
            <p:nvPr/>
          </p:nvSpPr>
          <p:spPr>
            <a:xfrm>
              <a:off x="3962520" y="45720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e base case occurs when we hav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0!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1!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All other cases must be split up (recursive step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2514600" y="6094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8D9A2-ABD5-4FCE-A3F8-D1222BD35C7E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13 Example Using Recursion: Fibonacci Seri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bonacci series: 0, 1, 1, 2, 3, 5, 8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ch number sum of two previous 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 of a recursive formula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b(n) = fib(n-1) + fib(n-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code for Fibonacci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ng fibonacci( long n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( n == 0 || n == 1 )  // base c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fibonacci( n - 1 )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bonacci( n – 2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31164-A07A-40E8-AC8C-8DA45CF4C132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13 Example Using Recursion: Fibonacci Seri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1752480" y="2389320"/>
            <a:ext cx="4571640" cy="1954080"/>
            <a:chOff x="1752480" y="2389320"/>
            <a:chExt cx="4571640" cy="1954080"/>
          </a:xfrm>
        </p:grpSpPr>
        <p:sp>
          <p:nvSpPr>
            <p:cNvPr id="280" name=""/>
            <p:cNvSpPr/>
            <p:nvPr/>
          </p:nvSpPr>
          <p:spPr>
            <a:xfrm>
              <a:off x="2226960" y="4051440"/>
              <a:ext cx="1245600" cy="75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3" y="19833"/>
                  </a:moveTo>
                  <a:lnTo>
                    <a:pt x="19983" y="0"/>
                  </a:lnTo>
                  <a:lnTo>
                    <a:pt x="0" y="0"/>
                  </a:lnTo>
                  <a:lnTo>
                    <a:pt x="0" y="1983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636360" y="4051440"/>
              <a:ext cx="1244880" cy="759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3" y="19833"/>
                  </a:moveTo>
                  <a:lnTo>
                    <a:pt x="19983" y="0"/>
                  </a:lnTo>
                  <a:lnTo>
                    <a:pt x="0" y="0"/>
                  </a:lnTo>
                  <a:lnTo>
                    <a:pt x="0" y="1983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078520" y="3492360"/>
              <a:ext cx="1245600" cy="763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3" y="19833"/>
                  </a:moveTo>
                  <a:lnTo>
                    <a:pt x="19983" y="0"/>
                  </a:lnTo>
                  <a:lnTo>
                    <a:pt x="0" y="0"/>
                  </a:lnTo>
                  <a:lnTo>
                    <a:pt x="0" y="1983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752480" y="3492360"/>
              <a:ext cx="2864160" cy="763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3" y="19833"/>
                  </a:moveTo>
                  <a:lnTo>
                    <a:pt x="19993" y="0"/>
                  </a:lnTo>
                  <a:lnTo>
                    <a:pt x="0" y="0"/>
                  </a:lnTo>
                  <a:lnTo>
                    <a:pt x="0" y="1983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774880" y="2941560"/>
              <a:ext cx="2988720" cy="763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93" y="19833"/>
                  </a:moveTo>
                  <a:lnTo>
                    <a:pt x="19993" y="0"/>
                  </a:lnTo>
                  <a:lnTo>
                    <a:pt x="0" y="0"/>
                  </a:lnTo>
                  <a:lnTo>
                    <a:pt x="0" y="1983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854160" y="2389320"/>
              <a:ext cx="747000" cy="228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666960" y="2998800"/>
              <a:ext cx="747000" cy="228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840200" y="2998800"/>
              <a:ext cx="747000" cy="228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203080" y="3556080"/>
              <a:ext cx="996120" cy="228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9" y="0"/>
                  </a:moveTo>
                  <a:lnTo>
                    <a:pt x="19979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79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773520" y="3556080"/>
              <a:ext cx="747000" cy="228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587680" y="3556080"/>
              <a:ext cx="747000" cy="228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19972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72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354400" y="4114800"/>
              <a:ext cx="996120" cy="228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9" y="0"/>
                  </a:moveTo>
                  <a:lnTo>
                    <a:pt x="19979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79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758040" y="4114800"/>
              <a:ext cx="996120" cy="228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9" y="0"/>
                  </a:moveTo>
                  <a:lnTo>
                    <a:pt x="19979" y="19944"/>
                  </a:lnTo>
                  <a:lnTo>
                    <a:pt x="0" y="19944"/>
                  </a:lnTo>
                  <a:lnTo>
                    <a:pt x="0" y="0"/>
                  </a:lnTo>
                  <a:lnTo>
                    <a:pt x="19979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248360" y="2624040"/>
              <a:ext cx="360" cy="317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6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612960" y="3233880"/>
              <a:ext cx="423000" cy="2584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51"/>
                  </a:moveTo>
                  <a:lnTo>
                    <a:pt x="19951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234400" y="3230640"/>
              <a:ext cx="270000" cy="2617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23" y="19952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968920" y="3786120"/>
              <a:ext cx="360" cy="2653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52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160160" y="3786120"/>
              <a:ext cx="360" cy="2653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52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898080" y="2417760"/>
              <a:ext cx="7884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</a:rPr>
                <a:t>f( 3 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886640" y="3030480"/>
              <a:ext cx="788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</a:rPr>
                <a:t>f( 1 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719160" y="3029040"/>
              <a:ext cx="7884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</a:rPr>
                <a:t>f( 2 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624400" y="3589200"/>
              <a:ext cx="7884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</a:rPr>
                <a:t>f( 1 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812400" y="3589200"/>
              <a:ext cx="788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</a:rPr>
                <a:t>f( 0 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249520" y="3589200"/>
              <a:ext cx="1037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</a:rPr>
                <a:t>return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409120" y="4154400"/>
              <a:ext cx="1037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</a:rPr>
                <a:t>return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799440" y="4154400"/>
              <a:ext cx="1037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</a:rPr>
                <a:t>return 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822320" y="3589200"/>
              <a:ext cx="788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</a:rPr>
                <a:t>retur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495600" y="3594240"/>
              <a:ext cx="1663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575240" y="3030480"/>
              <a:ext cx="1656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917440" y="3027240"/>
              <a:ext cx="7887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</a:rPr>
                <a:t>retur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3D711-6FBC-452A-9F91-6304EDC69BB3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13 Example Using Recursion: Fibonacci Seri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der of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fibonacci( n - 1 ) + fibonacci( n - 2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 know which one executed fi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++ does not specif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amp;&amp;,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||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?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guaranteed left-to-right evalu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sive function c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ch level of recursion doubles the number of function cal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umber = 2^30 ~ 4 billion function ca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ponential complex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ECBD5-2607-44E7-835E-01A5FE8D0759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3.15: fig03_15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cursive fibonacci func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 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bonacci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 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function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 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ult, numb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btain integer from us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an integer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number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alculate fibonacci value for number input by us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result = fibonacci( number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resul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"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ibonacci(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number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) =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resul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3276360" y="1038240"/>
            <a:ext cx="4115160" cy="1310760"/>
            <a:chOff x="3276360" y="1038240"/>
            <a:chExt cx="4115160" cy="1310760"/>
          </a:xfrm>
        </p:grpSpPr>
        <p:sp>
          <p:nvSpPr>
            <p:cNvPr id="315" name=""/>
            <p:cNvSpPr/>
            <p:nvPr/>
          </p:nvSpPr>
          <p:spPr>
            <a:xfrm>
              <a:off x="4724280" y="1038240"/>
              <a:ext cx="266724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e Fibonacci numbers get large very quickly, and are all non-negative integers. Thus, we us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unsigned lo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typ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3276360" y="11905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8F837-C28E-4969-9CF8-44E744FA3371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3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Math Library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form common mathematical calcu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clude the header fi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cmath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 called by wr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Name (argument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Name(argument1, argument2, …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ut &lt;&lt; sqrt( 900.0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qrt (square root) function The preceding statement would print 3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 functions in math library return a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dou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443DC-969C-4693-9AA2-5136BF26722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581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cursive definition of function fibonacci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 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bonacci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nsigned lo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 )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ase case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|| n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;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cursive step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   else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ibonacci( n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+ fibonacci( n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fibonacci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3505320"/>
            <a:ext cx="7010280" cy="259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n integer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bonacci(0)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n integer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bonacci(1)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n integer: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bonacci(2)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n integer: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bonacci(3)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4245A-AC29-4C79-B784-B5185C488A05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572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n integer: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bonacci(4) =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n integer: 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bonacci(5) = 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n integer: 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bonacci(6) =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n integer: 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bonacci(10) = 5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n integer: 2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bonacci(20) = 676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n integer: 3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bonacci(30) = 83204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n integer: 3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bonacci(35) = 922746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5CD9C-BBF3-4E0C-B5DE-62EAF5548EC4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14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ecursion vs. Iter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et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teration: explicit loo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cursion: repeated function cal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m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teration: loop condition fai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cursion: base case recogniz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can have infinite loo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lance between performance (iteration) and good software engineering (recur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25C43-4C41-4D57-8D8E-F57E8EC0932A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15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unctions with Empty Parameter Lis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ty parameter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leave parameter list emp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dicates function takes no argu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akes no arguments and returns no 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print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print( void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A988E-5D89-40C5-BAE9-EA62B487CCCD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343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3.18: fig03_18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s that take no argument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ion1();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ion2( void );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function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function1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l function1 with no argu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function2(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l function2 with no argu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9D034-A097-425B-B758-0538A062B3ED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581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1 uses an empty parameter list to specify tha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e function receives no argument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ion1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unction1 takes no argument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2 uses a void parameter list to specify tha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e function receives no argument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ion2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unction2 also takes no argument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3581280"/>
            <a:ext cx="701028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1 takes no arg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2 also takes no arg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BEA82-3CB8-4447-9119-258571C39E24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16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line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line func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eywor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lin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efore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ks the compiler to copy code into program instead of making function ca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ce function-call over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iler can ignor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ood for small, often-used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line double cube( const double s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 return s * s * s; }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ells compiler that function does not modif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ussed in chapters 6-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030B9-B15C-4956-B420-6964FB3C53B5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343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3.19: fig03_19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an inline function to calculat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e volume of a cub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inition of inline function cube. Definition of func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ppears before function is called, so a function prototyp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s not required. First line of function definition acts a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e prototyp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line 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ub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de )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de * side * side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cub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cube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D27EC-E9F5-4F0C-BA7A-DA5E2AEFE536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1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fig03_1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581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the side length of your cube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de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sideValu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cube of sideValue and display resul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olume of cube with side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ideValue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cube( sideValue )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3581280"/>
            <a:ext cx="701028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the side length of your cube: 3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me of cube with side 3.5 is 42.87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5F4CF-227E-4DDA-ACEE-28E176FFAF9F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17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eferences and Reference Paramet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 by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py of data passed to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nges to copy do not change origi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vent unwanted side eff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 by refere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can directly access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nges affect origi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23E7F-1020-437E-B551-8C731106A0CF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3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Math Library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arguments can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a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qrt( 4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qrt( x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press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qrt( sqrt( x ) )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qrt( 3 - 6x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9CA00-0892-44CC-BBD0-4D24E07263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17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eferences and Reference Paramet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ence par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ias for argument in function ca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sses parameter by 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fter data type in proto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myFunction( int &amp;data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 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 reference to 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call format the s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ever, original can now be chan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73C8F-81DA-4349-8C69-0C8FCA1C578A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3.20: fig03_20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mparing pass-by-value and pass-by-re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with reference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quareByValu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quareByReferenc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z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monstrate squareBy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x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before squareByValue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alue returned by squareByValue: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quareByValue( x ) &lt;&lt; endl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x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after squareByValue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2895480" y="1295280"/>
            <a:ext cx="4114800" cy="838440"/>
            <a:chOff x="2895480" y="1295280"/>
            <a:chExt cx="4114800" cy="838440"/>
          </a:xfrm>
        </p:grpSpPr>
        <p:sp>
          <p:nvSpPr>
            <p:cNvPr id="345" name=""/>
            <p:cNvSpPr/>
            <p:nvPr/>
          </p:nvSpPr>
          <p:spPr>
            <a:xfrm>
              <a:off x="4343400" y="12952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ic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amp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perator, indicating pass-by-referen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2895480" y="14479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E2257-7A28-4703-86EA-7FE5FD6535B8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monstrate squareByRe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z =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z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before squareByReferen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quareByReference( z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z =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z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after squareByReferenc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quareByValue multiplies number by itself, stores the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sult in number and returns the new value of number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quareByValu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 )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ber *= number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ler's argument not modifi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quareByValue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quareByReference multiplies numberRef by itself and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ores the result in the variable to which numberRef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fers in function main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quareByReferenc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numberRef )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numberRef *= numberRef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ler's argument modifi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squareByReference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2895480" y="1523880"/>
            <a:ext cx="4114800" cy="838440"/>
            <a:chOff x="2895480" y="1523880"/>
            <a:chExt cx="4114800" cy="838440"/>
          </a:xfrm>
        </p:grpSpPr>
        <p:sp>
          <p:nvSpPr>
            <p:cNvPr id="350" name=""/>
            <p:cNvSpPr/>
            <p:nvPr/>
          </p:nvSpPr>
          <p:spPr>
            <a:xfrm>
              <a:off x="4343400" y="15238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umbe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but original parameter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 is not modifi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2895480" y="16765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3352680" y="3429000"/>
            <a:ext cx="4114800" cy="1067400"/>
            <a:chOff x="3352680" y="3429000"/>
            <a:chExt cx="4114800" cy="1067400"/>
          </a:xfrm>
        </p:grpSpPr>
        <p:sp>
          <p:nvSpPr>
            <p:cNvPr id="353" name=""/>
            <p:cNvSpPr/>
            <p:nvPr/>
          </p:nvSpPr>
          <p:spPr>
            <a:xfrm>
              <a:off x="4800600" y="342900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umberRe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an alias for the original parameter. Thus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z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chang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3352680" y="35812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7C40A-9B0F-4584-A8F3-075911D50F14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600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2 before squareBy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returned by squareByValue: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2 after squareBy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z = 4 before squareByRe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z = 16 after squareByRe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2C0BA-8110-455D-A824-C28EB19AC0BD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17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eferences and Reference Paramet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s (chapter 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other way to pass-by-refer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ences as aliases to other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fer to same vari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be used within a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count = 1; // declare integer variable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&amp;cRef = count; // create cRef as an alias for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++cRef; // increment count (using its alia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ences must be initialized when decla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therwise, compiler err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ngling refere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erence to undefined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1906A-BEF7-4E0D-8A66-9CCA5E6951DC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3.21: fig03_21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ferences must be initialized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y refers to (is an alias for) 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amp;y = x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x &lt;&lt; endl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y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y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y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x &lt;&lt; endl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y =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y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4800600"/>
            <a:ext cx="701028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y =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y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1828800" y="2057400"/>
            <a:ext cx="4114800" cy="838080"/>
            <a:chOff x="1828800" y="2057400"/>
            <a:chExt cx="4114800" cy="838080"/>
          </a:xfrm>
        </p:grpSpPr>
        <p:sp>
          <p:nvSpPr>
            <p:cNvPr id="363" name=""/>
            <p:cNvSpPr/>
            <p:nvPr/>
          </p:nvSpPr>
          <p:spPr>
            <a:xfrm>
              <a:off x="3276720" y="205740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eclared as a reference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1828800" y="22096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1A420-8937-4540-B011-FA1898FF54CE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343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3.22: fig03_22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ferences must be initialized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int &amp;y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rror: y must be initializ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x &lt;&lt; endl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y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y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y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x =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x &lt;&lt; endl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y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y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4343400"/>
            <a:ext cx="7010280" cy="1752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rland C++ command-line compiler error messag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 E2304 Fig03_22.cpp 11: Reference variable 'y' must b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lized­ in function ma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icrosoft Visual C++ compiler error messag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:\cpphtp4_examples\ch03\Fig03_22.cpp(11) : error C2530: 'y'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ferences must be initial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1371600" y="1600200"/>
            <a:ext cx="4114800" cy="838080"/>
            <a:chOff x="1371600" y="1600200"/>
            <a:chExt cx="4114800" cy="838080"/>
          </a:xfrm>
        </p:grpSpPr>
        <p:sp>
          <p:nvSpPr>
            <p:cNvPr id="369" name=""/>
            <p:cNvSpPr/>
            <p:nvPr/>
          </p:nvSpPr>
          <p:spPr>
            <a:xfrm>
              <a:off x="2819520" y="16002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ninitialized reference – compiler err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1371600" y="17524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2C27E-138A-4F08-BD00-AEE743A27001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18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Default Argumen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call with omitted para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not enough parameters, rightmost go to their defaul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ault val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be constants, global variables, or function ca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defaults in function prot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yFunction( int x = 1, int y = 2, int z = 3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yFunction(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= 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et defaults (rightmo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yFunction(3, 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 = 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 = 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ets defa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8FD72-C1FB-4368-B858-C9C48D7D3D8C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3.23: fig03_23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default argument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prototype that specifies default argu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xVolum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ength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idth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eigh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no arguments--use default values for all dimensio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default box volume i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boxVolume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pecify length; default width and heigh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The volume of a box with length 10,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idth 1 and height 1 i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boxVolum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pecify length and width; default heigh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The volume of a box with length 10,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idth 5 and height 1 is: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boxVolum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2438280" y="1066680"/>
            <a:ext cx="4114800" cy="838440"/>
            <a:chOff x="2438280" y="1066680"/>
            <a:chExt cx="4114800" cy="838440"/>
          </a:xfrm>
        </p:grpSpPr>
        <p:sp>
          <p:nvSpPr>
            <p:cNvPr id="376" name=""/>
            <p:cNvSpPr/>
            <p:nvPr/>
          </p:nvSpPr>
          <p:spPr>
            <a:xfrm>
              <a:off x="3886200" y="10666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t defaults in function prototyp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2438280" y="12193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4724280" y="2654280"/>
            <a:ext cx="4114800" cy="1231920"/>
            <a:chOff x="4724280" y="2654280"/>
            <a:chExt cx="4114800" cy="1231920"/>
          </a:xfrm>
        </p:grpSpPr>
        <p:sp>
          <p:nvSpPr>
            <p:cNvPr id="379" name=""/>
            <p:cNvSpPr/>
            <p:nvPr/>
          </p:nvSpPr>
          <p:spPr>
            <a:xfrm>
              <a:off x="6172200" y="265428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 calls with some parameters missing – the rightmost parameters get their defaul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4724280" y="32004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863D1-3638-4170-A720-E61D749D79AD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505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pecify all argu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The volume of a box with length 10,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width 5 and height 2 i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boxVolum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boxVolume calculates the volume of a box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oxVolum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ength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width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eight )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ength * width * height;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boxVolume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3505320"/>
            <a:ext cx="7010280" cy="243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default box volume is: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volume of a box with length 10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idth 1 and height 1 is: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volume of a box with length 10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idth 5 and height 1 is: 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volume of a box with length 10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idth 5 and height 2 is: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A592A-CF7B-4557-972B-E8F252E97853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3960" y="380880"/>
          <a:ext cx="8425080" cy="690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3960" y="380880"/>
                    <a:ext cx="8425080" cy="690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E6205-4E99-406B-B943-AA8428DC779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19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Unitary Scope Resolution Operato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ry scope resolution operator (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cess global variable if local variable has same 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needed if names are differ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::vari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 = ::x + 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ood to avoid using same names for locals and globa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2E5CA-1A57-4204-90C2-D7B7CCEDE5F7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3.24: fig03_2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the unary scope resolution operato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precis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ine global constant PI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I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.1415926535897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fine local constant PI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I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_ca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( ::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I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values of local and global PI consta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setpreci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Local float value of PI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I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Global double value of PI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::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PI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3733560" y="2209680"/>
            <a:ext cx="4115160" cy="2040840"/>
            <a:chOff x="3733560" y="2209680"/>
            <a:chExt cx="4115160" cy="2040840"/>
          </a:xfrm>
        </p:grpSpPr>
        <p:sp>
          <p:nvSpPr>
            <p:cNvPr id="389" name=""/>
            <p:cNvSpPr/>
            <p:nvPr/>
          </p:nvSpPr>
          <p:spPr>
            <a:xfrm>
              <a:off x="5181480" y="2209680"/>
              <a:ext cx="2667240" cy="2040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ccess the globa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I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with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::PI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st the globa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I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loa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or the local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I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This example will show the difference betwee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loa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3733560" y="32004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F0B8E-FF01-4DC5-8176-FA4B86E8522B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838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762120"/>
            <a:ext cx="7010280" cy="2286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orland C++ command-line compiler outp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l float value of PI = 3.1415927410125732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Global double value of PI = 3.141592653589790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icrosoft Visual C++ compiler outp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cal float value of PI = 3.14159274101257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Global double value of PI = 3.1415926535897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F7EAC-5175-40AB-88ED-1C2B0A995A30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20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unction Overload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overlo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s with same name and different parame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ould perform similar task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.e., function to squar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and function to squar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 square( int x) {return x * x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oat square(float x) { return x *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oaded functions distinguished by sign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ased on name and parameter types (order matter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me mangl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odes function identifier with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ype-safe link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sures proper overloaded function cal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1A0E5-1CAE-4352-AED7-BA88D11F647E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33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3.25: fig03_25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overloaded function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square for int values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quar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)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lled square with int argument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x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* x;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nt version of function square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square for double values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quar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 )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Called square with double argument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y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 * y;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double version of function square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2209680" y="1066680"/>
            <a:ext cx="4114800" cy="2667240"/>
            <a:chOff x="2209680" y="1066680"/>
            <a:chExt cx="4114800" cy="2667240"/>
          </a:xfrm>
        </p:grpSpPr>
        <p:sp>
          <p:nvSpPr>
            <p:cNvPr id="399" name=""/>
            <p:cNvSpPr/>
            <p:nvPr/>
          </p:nvSpPr>
          <p:spPr>
            <a:xfrm>
              <a:off x="3657600" y="106668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verloaded functions have the same name, but the different parameters distinguish them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2209680" y="1676520"/>
              <a:ext cx="1447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2666880" y="1676520"/>
              <a:ext cx="99072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DD617-0806-4B73-8093-E4748F494A6C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895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Result = squar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alls int ver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ubleResult = squar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.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ls double vers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The square of integer 7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intResul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The square of double 7.5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doubleResult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endl;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4" name=""/>
          <p:cNvSpPr/>
          <p:nvPr/>
        </p:nvSpPr>
        <p:spPr>
          <a:xfrm>
            <a:off x="0" y="2819520"/>
            <a:ext cx="7010280" cy="137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d square with int argument: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d square with double argument: 7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quare of integer 7 is 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quare of double 7.5 is 56.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3048120" y="1143000"/>
            <a:ext cx="3124080" cy="976320"/>
            <a:chOff x="3048120" y="1143000"/>
            <a:chExt cx="3124080" cy="976320"/>
          </a:xfrm>
        </p:grpSpPr>
        <p:sp>
          <p:nvSpPr>
            <p:cNvPr id="406" name=""/>
            <p:cNvSpPr/>
            <p:nvPr/>
          </p:nvSpPr>
          <p:spPr>
            <a:xfrm>
              <a:off x="3505320" y="12952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e proper function is called based upon the argument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 flipV="1">
              <a:off x="3048120" y="114300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21763-7878-42B4-8ABF-F0FE4B87C3CB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3.26: fig03_26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ame mangling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square for int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quar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x * x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square for double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quar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y * y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that receives arguments of type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t, float, char and int 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othing1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d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empty function bod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49362-17DC-41BD-B95D-73A14E8F834B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895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that receives arguments of types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har, int, float * and double 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nothing2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loa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c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d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mai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2" name=""/>
          <p:cNvSpPr/>
          <p:nvPr/>
        </p:nvSpPr>
        <p:spPr>
          <a:xfrm>
            <a:off x="0" y="2895480"/>
            <a:ext cx="7010280" cy="137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_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@nothing2$qcipfp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@nothing1$qifc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@square$q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@square$q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1752480" y="2514600"/>
            <a:ext cx="4114800" cy="2040840"/>
            <a:chOff x="1752480" y="2514600"/>
            <a:chExt cx="4114800" cy="2040840"/>
          </a:xfrm>
        </p:grpSpPr>
        <p:sp>
          <p:nvSpPr>
            <p:cNvPr id="414" name=""/>
            <p:cNvSpPr/>
            <p:nvPr/>
          </p:nvSpPr>
          <p:spPr>
            <a:xfrm>
              <a:off x="3200400" y="2514600"/>
              <a:ext cx="2666880" cy="2040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angled names produced in assembly languag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$q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eparates the function name from its parameters.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har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a pointer to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loa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etc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1752480" y="26668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BACEF-5F92-4021-899F-9D5346F43EC6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21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unction Templat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ct way to make overloaded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enerate separate function for different data 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egin with keywor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empl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mal type parameters in bracke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ry type parameter preceded b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synony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ceholders for built-in types (i.e.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or user-defined 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y arguments types, return types, declare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definition like normal, except formal types us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C9055-2487-4765-A5BA-1FCE11DF492A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21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unction Templat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mplate &lt; class T &gt; // or template&lt; typename T 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 square( T value1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value1 * value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is a formal type, used as parameter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ove function returns variable of same type as param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 function call, T replaced by real 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ll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's becom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y = square(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53B2B-6842-4C4D-996D-51BF0D85293D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3.4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dularize a progr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ftware reusabi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 function multiple tim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nown only in the function in which they are defin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 variables declared in function definitions are local 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cal variables passed to function when call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 outside inform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42A4A-5483-4F82-A692-7FCF1DA6DBF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10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3.27: fig03_27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a function templat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finition of function template maximum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templ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 &g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r template &lt; typename T 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 maximum( T value1, T value2, T value3 )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 max = value1;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value2 &gt; max )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ax = value2;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value3 &gt; max )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ax = value3;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x;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template maximum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1981080" y="1295280"/>
            <a:ext cx="4114800" cy="838440"/>
            <a:chOff x="1981080" y="1295280"/>
            <a:chExt cx="4114800" cy="838440"/>
          </a:xfrm>
        </p:grpSpPr>
        <p:sp>
          <p:nvSpPr>
            <p:cNvPr id="423" name=""/>
            <p:cNvSpPr/>
            <p:nvPr/>
          </p:nvSpPr>
          <p:spPr>
            <a:xfrm>
              <a:off x="3429000" y="12952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ormal type paramet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placeholder for type of data to be tested b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aximu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1981080" y="14479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2590560" y="2590920"/>
            <a:ext cx="3733920" cy="1128600"/>
            <a:chOff x="2590560" y="2590920"/>
            <a:chExt cx="3733920" cy="1128600"/>
          </a:xfrm>
        </p:grpSpPr>
        <p:sp>
          <p:nvSpPr>
            <p:cNvPr id="426" name=""/>
            <p:cNvSpPr/>
            <p:nvPr/>
          </p:nvSpPr>
          <p:spPr>
            <a:xfrm>
              <a:off x="3657600" y="28954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aximu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expects all parameters to be of the same typ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 flipV="1">
              <a:off x="2590560" y="2590920"/>
              <a:ext cx="106668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D50FB-4B36-4277-8112-0CBC268D3DE0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105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monstrate maximum with int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1, int2, int3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nput three integer value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int1 &gt;&gt; int2 &gt;&gt; int3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voke int version of maximu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maximum integer value is: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maximum( int1, int2, int3 );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monstrate maximum with double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double1, double2, double3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\nInput three double value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double1 &gt;&gt; double2 &gt;&gt; double3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voke double version of maximu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maximum double value is: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maximum( double1, double2, double3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3733560" y="1447920"/>
            <a:ext cx="4115160" cy="3047760"/>
            <a:chOff x="3733560" y="1447920"/>
            <a:chExt cx="4115160" cy="3047760"/>
          </a:xfrm>
        </p:grpSpPr>
        <p:sp>
          <p:nvSpPr>
            <p:cNvPr id="431" name=""/>
            <p:cNvSpPr/>
            <p:nvPr/>
          </p:nvSpPr>
          <p:spPr>
            <a:xfrm>
              <a:off x="5181480" y="144792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aximu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alled with various data typ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3733560" y="16002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4419720" y="1600200"/>
              <a:ext cx="76176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DB815-D6CD-43BC-8FB3-A859A379F6EE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3_2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2767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emonstrate maximum with char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r1, char2, char3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Input three character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char1 &gt;&gt; char2 &gt;&gt; char3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voke char version of maximu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maximum character value is: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maximum( char1, char2, char3 )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3276720"/>
            <a:ext cx="7010280" cy="1981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 three integer values: 1 2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maximum integer value is: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 three double values: 3.3 2.2 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maximum double value is: 3.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 three characters: A C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maximum character value is: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F3390-5456-4C23-B1E1-35ACB3EB3CE7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31T17:44:31Z</dcterms:created>
  <dc:creator>kalid</dc:creator>
  <dc:description/>
  <dc:language>en-US</dc:language>
  <cp:lastModifiedBy>Pearson Education</cp:lastModifiedBy>
  <dcterms:modified xsi:type="dcterms:W3CDTF">2002-08-05T13:02:33Z</dcterms:modified>
  <cp:revision>636</cp:revision>
  <dc:subject/>
  <dc:title>Chapter 3 - Functions</dc:title>
</cp:coreProperties>
</file>