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83C7-99BF-4E6C-8B9A-922E85C46A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6396-FB1B-437A-AC7D-86A194C2CF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DBC3-A675-47A8-9BDF-094936538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81C5-8A1D-4E38-9530-947D56651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AE58B-622B-40FF-8D88-7AD3D693372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C1D24-7868-4915-895E-5A4ECBA04B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D4ABB-D2B4-46C6-88E2-CA1EF769DB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C816-2704-4745-ADB7-56FC066DFC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3F24C-BBFA-4272-BCB9-2689CAD002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E3FE3-3932-443D-B0B8-6D3FB9E043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82DE-DDAF-4A7F-B680-EF5EB85AE0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B2E8F-B6BF-41A3-A13F-070FF6D714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3FAEB-D309-43EE-813E-A45BAC9D14F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A7652-F9E3-4F40-B511-55E079CDD5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2236-1B5B-4567-9BC1-B3E299BF9A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80484-8982-43E4-9A40-8D272CD811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37024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40480" y="-3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-36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37024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740480" y="2945160"/>
            <a:ext cx="225720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3BF54-DFB1-48AF-90F0-41A9238AC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B030D-93EE-4198-AB0E-44A5E547F4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0F20-4458-4FF1-BEB2-4F218C424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14085-0FC1-4CBB-98CB-312D7F726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86240" y="837720"/>
            <a:ext cx="2057400" cy="2225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10DD-4F5C-4F6F-8711-F3C136A03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65C0-A78F-4F47-90ED-B2E1610F36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91720" y="29451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F0BC-4B7F-4913-9733-B7C35BB2A7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-36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91720" y="-360"/>
            <a:ext cx="342072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-360" y="2945160"/>
            <a:ext cx="7010280" cy="26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DD70-15BD-4479-B2F9-61484DAD81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2394-14FC-49C9-9631-76AD82EB7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0F03-8B90-4436-81FF-3FDD4C4AF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47240"/>
            <a:ext cx="7772400" cy="99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4 - Array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371600"/>
            <a:ext cx="8077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lar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xamples Us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assing Arrays to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orting Array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ase Study: Computing Mean, Median and Mode Using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8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earching Arrays: Linear Search and Binary Search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.9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ultiple-Subscripted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08DA7-9A2D-453F-8D35-EDE9DB7129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4: fig04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 with a declaration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use initializer list to initialize array 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i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752480" y="2438280"/>
            <a:ext cx="4114800" cy="838440"/>
            <a:chOff x="1752480" y="2438280"/>
            <a:chExt cx="4114800" cy="838440"/>
          </a:xfrm>
        </p:grpSpPr>
        <p:sp>
          <p:nvSpPr>
            <p:cNvPr id="176" name=""/>
            <p:cNvSpPr/>
            <p:nvPr/>
          </p:nvSpPr>
          <p:spPr>
            <a:xfrm>
              <a:off x="3200400" y="24382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use of the initializ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752480" y="25909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0D860-864A-45C5-9A81-B64AF96D14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3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2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6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9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9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7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6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B12C-E13F-4936-B966-116AA3699A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specified with constant variabl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int size = 2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tants must be initialized when decla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so called named constants or read-only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58CC-BFBC-4BC8-BA03-A9C6D466CC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5: fig04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s to the even integers from 2 to 20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constant variable can be used to specify array siz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s has 10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et th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s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438280" y="2362320"/>
            <a:ext cx="4114800" cy="1295280"/>
            <a:chOff x="2438280" y="2362320"/>
            <a:chExt cx="4114800" cy="1295280"/>
          </a:xfrm>
        </p:grpSpPr>
        <p:grpSp>
          <p:nvGrpSpPr>
            <p:cNvPr id="185" name=""/>
            <p:cNvGrpSpPr/>
            <p:nvPr/>
          </p:nvGrpSpPr>
          <p:grpSpPr>
            <a:xfrm>
              <a:off x="2438280" y="2362320"/>
              <a:ext cx="4114800" cy="838080"/>
              <a:chOff x="2438280" y="2362320"/>
              <a:chExt cx="4114800" cy="838080"/>
            </a:xfrm>
          </p:grpSpPr>
          <p:sp>
            <p:nvSpPr>
              <p:cNvPr id="186" name=""/>
              <p:cNvSpPr/>
              <p:nvPr/>
            </p:nvSpPr>
            <p:spPr>
              <a:xfrm>
                <a:off x="3886200" y="2362320"/>
                <a:ext cx="2666880" cy="82404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Note use of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keyword. Only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can specify array siz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438280" y="2743200"/>
                <a:ext cx="144792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 flipH="1">
              <a:off x="2438280" y="2743200"/>
              <a:ext cx="1447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971800" y="3276720"/>
            <a:ext cx="4114800" cy="2040840"/>
            <a:chOff x="2971800" y="3276720"/>
            <a:chExt cx="4114800" cy="2040840"/>
          </a:xfrm>
        </p:grpSpPr>
        <p:sp>
          <p:nvSpPr>
            <p:cNvPr id="190" name=""/>
            <p:cNvSpPr/>
            <p:nvPr/>
          </p:nvSpPr>
          <p:spPr>
            <a:xfrm>
              <a:off x="4419720" y="3276720"/>
              <a:ext cx="2666880" cy="2040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program becomes more scalable when we set the array size us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 We can chang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Siz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all the loops will still work (otherwise, we’d have to update every loop in the program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2971800" y="3429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D9AD6-B556-44AB-8CDF-CA1E59F52B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828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s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7524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B0ACD-365A-4886-94B2-9FE10A8223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038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6: fig04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a properly initialized constant variab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x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d constan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constant variable x is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x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9625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value of constant variable x is: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828800" y="1371600"/>
            <a:ext cx="4114800" cy="838080"/>
            <a:chOff x="1828800" y="1371600"/>
            <a:chExt cx="4114800" cy="838080"/>
          </a:xfrm>
        </p:grpSpPr>
        <p:sp>
          <p:nvSpPr>
            <p:cNvPr id="199" name=""/>
            <p:cNvSpPr/>
            <p:nvPr/>
          </p:nvSpPr>
          <p:spPr>
            <a:xfrm>
              <a:off x="3276720" y="13716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per initializa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828800" y="152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AAB03-7C6B-4140-B6E6-9D10FA8829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7: fig04_0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const object must be initialized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const int x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x must be initializ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cc0000"/>
                </a:solidFill>
                <a:latin typeface="Courier New"/>
                <a:ea typeface="Courier New"/>
              </a:rPr>
              <a:t>x = 7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: cannot modify a const variab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895480"/>
            <a:ext cx="7010280" cy="1067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6) : error C2734: 'x' 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nst object must be initialized if not ex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07.cpp(8) : error C2166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-value specifies const 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295280" y="457200"/>
            <a:ext cx="4572000" cy="1371600"/>
            <a:chOff x="1295280" y="457200"/>
            <a:chExt cx="4572000" cy="1371600"/>
          </a:xfrm>
        </p:grpSpPr>
        <p:grpSp>
          <p:nvGrpSpPr>
            <p:cNvPr id="205" name=""/>
            <p:cNvGrpSpPr/>
            <p:nvPr/>
          </p:nvGrpSpPr>
          <p:grpSpPr>
            <a:xfrm>
              <a:off x="1752480" y="457200"/>
              <a:ext cx="4114800" cy="1067400"/>
              <a:chOff x="1752480" y="457200"/>
              <a:chExt cx="4114800" cy="1067400"/>
            </a:xfrm>
          </p:grpSpPr>
          <p:sp>
            <p:nvSpPr>
              <p:cNvPr id="206" name=""/>
              <p:cNvSpPr/>
              <p:nvPr/>
            </p:nvSpPr>
            <p:spPr>
              <a:xfrm>
                <a:off x="3200400" y="457200"/>
                <a:ext cx="2666880" cy="1067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Uninitialized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results in a syntax error. Attempting to modify the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cons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is another error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1752480" y="609480"/>
                <a:ext cx="14479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"/>
            <p:cNvSpPr/>
            <p:nvPr/>
          </p:nvSpPr>
          <p:spPr>
            <a:xfrm flipH="1">
              <a:off x="1295280" y="609480"/>
              <a:ext cx="1905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DBBD-9802-4CA9-8D20-BEF500AE4B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8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8: fig04_08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ute the sum of the elements of the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 contents of array a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[ i ];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tal of array element values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total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55627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f array element values is 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D48E3-0346-4065-BC7E-CE180F952A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9: fig04_0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Histogram printing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lement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element of array n, output a bar in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i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[ i ]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n[ i ]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ba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200400" y="4572000"/>
            <a:ext cx="4114800" cy="838080"/>
            <a:chOff x="3200400" y="4572000"/>
            <a:chExt cx="4114800" cy="838080"/>
          </a:xfrm>
        </p:grpSpPr>
        <p:sp>
          <p:nvSpPr>
            <p:cNvPr id="215" name=""/>
            <p:cNvSpPr/>
            <p:nvPr/>
          </p:nvSpPr>
          <p:spPr>
            <a:xfrm>
              <a:off x="4648320" y="45720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s asterisks corresponding to size of array element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i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3200400" y="47242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BD3D-5A09-490A-95F6-EB48D25D18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1981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tart next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981080"/>
            <a:ext cx="7010280" cy="2667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        Hist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19        **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3        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15        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7        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11        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9        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13        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5        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17        **************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1        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99C8A-0A18-4024-980B-96EADD72A6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1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uctures of related data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entity (same size throughout program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w typ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inter-based arrays (C-lik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as objects (C++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7EB8-640A-4715-BDF2-46A20D86F0D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0: fig04_1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oll a six-sided die 6000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stdlib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ctime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rand( time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ed random-number generat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oll die 6000 tim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ol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0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oll++ )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+ rand()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laces 20-line swi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                            // of Fig. 3.8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200400" y="3060720"/>
            <a:ext cx="4114800" cy="3014280"/>
            <a:chOff x="3200400" y="3060720"/>
            <a:chExt cx="4114800" cy="3014280"/>
          </a:xfrm>
        </p:grpSpPr>
        <p:sp>
          <p:nvSpPr>
            <p:cNvPr id="223" name=""/>
            <p:cNvSpPr/>
            <p:nvPr/>
          </p:nvSpPr>
          <p:spPr>
            <a:xfrm>
              <a:off x="4648320" y="3060720"/>
              <a:ext cx="2666880" cy="3014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make of old program to roll dice. An array is used instead of 6 regular variables, and the proper element can be updated easily (without needing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witch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is creates a number between 1 and 6, which determines the index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hat should be increment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3200400" y="3774960"/>
              <a:ext cx="144792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61BD8-5D54-4FAF-9CC8-D4EE48F15FF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ac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y elements 1-6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ac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face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a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face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590920"/>
            <a:ext cx="7010280" cy="1752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ce    Freq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1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1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9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1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1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BE80A-2D05-418B-9288-154975BD42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Fig. 4.11: fig04_11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tudent poll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define array siz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// size of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place survey responses in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spons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   // initialize frequency counter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Times New Roman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79A32-D42D-4430-A592-01020450DF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 each answer, select value of an element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sponses and use that value as subscript i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requency to determine element to incr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response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answer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uency[ responses[answer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Rating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frequenci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frequenc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frequency[ rating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742840" y="1295280"/>
            <a:ext cx="3734280" cy="1067400"/>
            <a:chOff x="2742840" y="1295280"/>
            <a:chExt cx="3734280" cy="1067400"/>
          </a:xfrm>
        </p:grpSpPr>
        <p:sp>
          <p:nvSpPr>
            <p:cNvPr id="233" name=""/>
            <p:cNvSpPr/>
            <p:nvPr/>
          </p:nvSpPr>
          <p:spPr>
            <a:xfrm>
              <a:off x="3809880" y="12952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sponses[answer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the rating (from 1 to 10). This determines the index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uency[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incr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2742840" y="1295280"/>
              <a:ext cx="1066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8294-677A-4487-B674-D9AC077E2A2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1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590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ng       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   1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   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       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0               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B7056-5A33-4695-8EF3-2218F0104E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s (more in ch. 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s of charac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strings end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'\0'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character implicitly a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has 6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1[] = { 'h', 'e', 'l', 'l',    'o', '\0’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bscripting is the s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0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h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1[ 2 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l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EF3C9-475A-4088-9376-38DBDC252C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from key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 string2[ 10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n &gt;&gt; string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uts user input in st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s at first whitespace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harac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too much text entered, data written beyond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ant to avoid this (section 5.12 explains how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ing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&lt;&lt; string2 &lt;&lt; endl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work for other array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racters printed until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nul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1E4F-23E9-48C5-9DFA-A1D6E1EC0AC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_12: fig04_1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reating character arrays as string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20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ring2[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 literal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serves 15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read string from user into array string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he string \"hello there\"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s "hello" [space terminates input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tring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tring1 is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tring1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2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2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with spaces between characters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590560" y="1600200"/>
            <a:ext cx="4115160" cy="1067400"/>
            <a:chOff x="2590560" y="1600200"/>
            <a:chExt cx="4115160" cy="1067400"/>
          </a:xfrm>
        </p:grpSpPr>
        <p:sp>
          <p:nvSpPr>
            <p:cNvPr id="244" name=""/>
            <p:cNvSpPr/>
            <p:nvPr/>
          </p:nvSpPr>
          <p:spPr>
            <a:xfrm>
              <a:off x="4038480" y="16002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wo different ways to declare string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ring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nitialized, and its size determined automatically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590560" y="2057400"/>
              <a:ext cx="1447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133360" y="2666880"/>
            <a:ext cx="4115160" cy="1447920"/>
            <a:chOff x="2133360" y="2666880"/>
            <a:chExt cx="4115160" cy="1447920"/>
          </a:xfrm>
        </p:grpSpPr>
        <p:sp>
          <p:nvSpPr>
            <p:cNvPr id="247" name=""/>
            <p:cNvSpPr/>
            <p:nvPr/>
          </p:nvSpPr>
          <p:spPr>
            <a:xfrm>
              <a:off x="3581280" y="26668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amples of reading strings from the keyboard and printing them o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133360" y="3124080"/>
              <a:ext cx="1447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590560" y="3124080"/>
              <a:ext cx="99036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EBD3-7A5D-4692-AC63-9D005338A76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438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haracters until null character is rea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string1[ i ]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0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tring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tring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s "there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ring1 is: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tring1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362320"/>
            <a:ext cx="7010280" cy="1523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he string "hello there": hello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2 is: string li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with spaces between characters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 e l l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1 is: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047760" y="825480"/>
            <a:ext cx="4115160" cy="1067400"/>
            <a:chOff x="3047760" y="825480"/>
            <a:chExt cx="4115160" cy="1067400"/>
          </a:xfrm>
        </p:grpSpPr>
        <p:sp>
          <p:nvSpPr>
            <p:cNvPr id="254" name=""/>
            <p:cNvSpPr/>
            <p:nvPr/>
          </p:nvSpPr>
          <p:spPr>
            <a:xfrm>
              <a:off x="4495680" y="82548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access the characters in a string using array notation. The loop ends when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ll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racter is fou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3047760" y="825480"/>
              <a:ext cx="1447560" cy="39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0B84-1668-4CD4-8E62-1991641155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all static storage (chapter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local variables save values between function cal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ible only in function bod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local arrays to be stat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ized to z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int array[3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t 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reated (and destroyed) in every function 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5449-7DD3-4895-A3F8-713B01EEAD9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secutive group of memory lo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ame name and type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fer to an el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array name and position number (inde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at: arrayname[ position number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 element at position 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-element array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1 ]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n - 1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th element as position N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F91D2-8226-43B3-9CAA-8D493E9112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3: fig04_1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tic arrays are initialized to zero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irst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Second call to each function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automaticArrayInit(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CD24-DF8D-41A1-AA25-4690937D59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76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 st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to 0 first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nter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1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1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st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1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1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st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63" name=""/>
            <p:cNvSpPr/>
            <p:nvPr/>
          </p:nvSpPr>
          <p:spPr>
            <a:xfrm>
              <a:off x="3581280" y="2286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ic array, initialized to zero on first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2361960" y="2590920"/>
            <a:ext cx="4115160" cy="838080"/>
            <a:chOff x="2361960" y="2590920"/>
            <a:chExt cx="4115160" cy="838080"/>
          </a:xfrm>
        </p:grpSpPr>
        <p:sp>
          <p:nvSpPr>
            <p:cNvPr id="266" name=""/>
            <p:cNvSpPr/>
            <p:nvPr/>
          </p:nvSpPr>
          <p:spPr>
            <a:xfrm>
              <a:off x="3809880" y="25909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data is changed; the modified values st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2361960" y="27432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FEFBB-1A48-420E-AA2C-62988738B90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demonstrate an automatic loc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utomaticArrayIni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s elements each time function is call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Values on enter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array2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2[ i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Values on exiting automaticArrayInit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odify and output contents of array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rray2[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=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( array2[ j ] +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automaticArrayIni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3581280" y="304920"/>
            <a:ext cx="4114800" cy="838080"/>
            <a:chOff x="3581280" y="304920"/>
            <a:chExt cx="4114800" cy="838080"/>
          </a:xfrm>
        </p:grpSpPr>
        <p:sp>
          <p:nvSpPr>
            <p:cNvPr id="271" name=""/>
            <p:cNvSpPr/>
            <p:nvPr/>
          </p:nvSpPr>
          <p:spPr>
            <a:xfrm>
              <a:off x="5029200" y="304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utomatic array, recreated with every function call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3581280" y="609480"/>
              <a:ext cx="1447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895480" y="2590920"/>
            <a:ext cx="4114800" cy="1067400"/>
            <a:chOff x="2895480" y="2590920"/>
            <a:chExt cx="4114800" cy="1067400"/>
          </a:xfrm>
        </p:grpSpPr>
        <p:sp>
          <p:nvSpPr>
            <p:cNvPr id="274" name=""/>
            <p:cNvSpPr/>
            <p:nvPr/>
          </p:nvSpPr>
          <p:spPr>
            <a:xfrm>
              <a:off x="4343400" y="2590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the array is changed, it will be destroyed when the function exits and the changes will be lo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2895480" y="29718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B325F-DBD1-40C2-A62A-8F0B3E519F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0  array1[1] = 0  array1[2] =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cond call to each function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5  array1[1] = 5  array1[2] =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st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1[0] = 10  array1[1] = 10  array1[2] = 1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nter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1  array2[1] = 2  array2[2] =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on exiting automaticArrayInit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2[0] = 6  array2[1] = 7  array2[2] =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6FE8B-1546-488D-97D0-B029FF1725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y name without br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pass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Arra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t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y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myArray[ 24 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unction( myArray, 24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size usually passed, but not requir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ful to iterate over al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4CA6B-09D0-438A-8A19-BB6C2DD9632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s passed-by-refer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can modify original array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lue of name of array is address of first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knows where the array is st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ange original memory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vidual array elements passed-by-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quare( myArray[3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E4E2-E153-44E3-8993-C1C9DF33912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5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assing Arrays to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s taking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prototy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b[], int arraySiz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 modifyArray( int [], int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s optional in 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th take an integer array and a single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 need for array size between br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declare array parameter a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 modified (compiler err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oid doNotModify( const int [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5E5F7-003A-4120-8044-561E6932C60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4: fig04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ssing arrays and individual array elements to function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ppears st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entire array by referenc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s of the original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2286000" y="1752480"/>
            <a:ext cx="4114800" cy="838440"/>
            <a:chOff x="2286000" y="1752480"/>
            <a:chExt cx="4114800" cy="838440"/>
          </a:xfrm>
        </p:grpSpPr>
        <p:sp>
          <p:nvSpPr>
            <p:cNvPr id="287" name=""/>
            <p:cNvSpPr/>
            <p:nvPr/>
          </p:nvSpPr>
          <p:spPr>
            <a:xfrm>
              <a:off x="3733920" y="17524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ntax for accepting an array in parameter lis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286000" y="1905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54A60-275A-48F2-AA2C-A157FDA6C81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a to modifyArray by referenc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Array( a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s of the modified array are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modifi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ffects of passing array element by value: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ass array element a[ 3 ] b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ifyElement(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value of a[ 3 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value of a[3]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133360" y="228600"/>
            <a:ext cx="4115160" cy="838080"/>
            <a:chOff x="2133360" y="228600"/>
            <a:chExt cx="4115160" cy="838080"/>
          </a:xfrm>
        </p:grpSpPr>
        <p:sp>
          <p:nvSpPr>
            <p:cNvPr id="292" name=""/>
            <p:cNvSpPr/>
            <p:nvPr/>
          </p:nvSpPr>
          <p:spPr>
            <a:xfrm>
              <a:off x="3581280" y="2286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rray name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and size to function. Arrays are passed-by-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2133360" y="3808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2438280" y="3276720"/>
            <a:ext cx="4114800" cy="838080"/>
            <a:chOff x="2438280" y="3276720"/>
            <a:chExt cx="4114800" cy="838080"/>
          </a:xfrm>
        </p:grpSpPr>
        <p:sp>
          <p:nvSpPr>
            <p:cNvPr id="295" name=""/>
            <p:cNvSpPr/>
            <p:nvPr/>
          </p:nvSpPr>
          <p:spPr>
            <a:xfrm>
              <a:off x="3886200" y="3276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ss a single array element by value; the original cannot be modifi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438280" y="365760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1085-536A-466A-B2F4-995A1681A7F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Array, "b" points to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e original array "a" in memory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each array element by 2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for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sizeOfArray; k++ )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[ k ]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ifyArray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modifyElement, "e" is a local copy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rray element a[ 3 ] passed from main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ifyElemen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multiply parameter by 2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in modifyElement is "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( e *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endl;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odifyElement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819520" y="152280"/>
            <a:ext cx="4495680" cy="824040"/>
            <a:chOff x="2819520" y="152280"/>
            <a:chExt cx="4495680" cy="824040"/>
          </a:xfrm>
        </p:grpSpPr>
        <p:sp>
          <p:nvSpPr>
            <p:cNvPr id="300" name=""/>
            <p:cNvSpPr/>
            <p:nvPr/>
          </p:nvSpPr>
          <p:spPr>
            <a:xfrm>
              <a:off x="4648320" y="152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though name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b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the array points to the original arra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It can modif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’s 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819520" y="30492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743200" y="2209680"/>
            <a:ext cx="4114800" cy="838440"/>
            <a:chOff x="2743200" y="2209680"/>
            <a:chExt cx="4114800" cy="838440"/>
          </a:xfrm>
        </p:grpSpPr>
        <p:sp>
          <p:nvSpPr>
            <p:cNvPr id="303" name=""/>
            <p:cNvSpPr/>
            <p:nvPr/>
          </p:nvSpPr>
          <p:spPr>
            <a:xfrm>
              <a:off x="4191120" y="22096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dividual array elements are passed by value, and the originals cannot be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7432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A38B8-09CC-47B9-8035-60BC8E0DB0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elements like other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ignment, printing for an integer array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0 ] = 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t &lt;&lt; c[ 0 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perform operations inside sub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 5 – 2 ]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ame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4B08E-628A-4473-83DE-5FDED9E25F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entire array by referenc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original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1  2  3 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s of the modified array ar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2  4  6 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of passing array element by value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in modifyElement is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value of a[3] is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67AC7-D34A-4F5E-BF2B-4A79A6D6C58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5: fig04_1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monstrating the const type qualifi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tryToModifyArray( a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895480" y="838080"/>
            <a:ext cx="4114800" cy="1067400"/>
            <a:chOff x="2895480" y="838080"/>
            <a:chExt cx="4114800" cy="1067400"/>
          </a:xfrm>
        </p:grpSpPr>
        <p:sp>
          <p:nvSpPr>
            <p:cNvPr id="310" name=""/>
            <p:cNvSpPr/>
            <p:nvPr/>
          </p:nvSpPr>
          <p:spPr>
            <a:xfrm>
              <a:off x="4343400" y="83808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rray parameter declared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ns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Array cannot be modified, even though it is passed by referenc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895480" y="9907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01243-EF28-48B9-9027-52EAB871373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209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 function tryToModifyArray, "b" cannot be u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 modify the original array "a" in main.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ryToModify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 )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/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rror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tryToModifyArray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9680"/>
            <a:ext cx="7010280" cy="1524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6) : error C2166: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7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:\cpphtp4_examples\ch04\Fig04_15.cpp(28) : error C2166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l-value specifies const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0DDC3-3798-4C98-8F21-D0719F6BF1A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rting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ortant computing applic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rtually every organization must sort some dat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ive amounts must be s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bble sort (sinking sor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veral passes through the arra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uccessive pairs of elements are compar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increasing order (or identical), no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decreasing order, elements ex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peat these steps for every el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43F6-32EC-4FC8-8DAD-04B9EA91EDD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Go left to right, and exchange elements as necess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ass for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iginal:   3  4  2  7 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1:      3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6  7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elements exchang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2:     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Times New Roman"/>
              </a:rPr>
              <a:t>2  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3:      2  3  4  6  7   (no changes need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4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ass 5:      2  3  4  6  7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mall elements "bubble" to the top (like 2 in this examp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1931-11C3-40C2-92A2-84F700F4765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6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ort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pping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happen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oth x and y are 3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eed a temporary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3, y = 4, temp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mp = x;  // temp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 = y;     // x gets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 = temp;  // y gets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4891-C3F5-4564-BAF1-FDDBA05E4AC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257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6: fig04_1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sorts an array's values into ascending order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array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Data items in original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original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22DD-B262-45C0-AD31-E324342076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3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7339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bubble sort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++ )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compare side-by-side elements and swap them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first element is greater than second element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4038480" y="76320"/>
            <a:ext cx="4114800" cy="590400"/>
            <a:chOff x="4038480" y="76320"/>
            <a:chExt cx="4114800" cy="590400"/>
          </a:xfrm>
        </p:grpSpPr>
        <p:sp>
          <p:nvSpPr>
            <p:cNvPr id="326" name=""/>
            <p:cNvSpPr/>
            <p:nvPr/>
          </p:nvSpPr>
          <p:spPr>
            <a:xfrm>
              <a:off x="5486400" y="763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 a pass for each element in the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4038480" y="228600"/>
              <a:ext cx="144792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3733560" y="1676520"/>
            <a:ext cx="4115160" cy="1554120"/>
            <a:chOff x="3733560" y="1676520"/>
            <a:chExt cx="4115160" cy="1554120"/>
          </a:xfrm>
        </p:grpSpPr>
        <p:sp>
          <p:nvSpPr>
            <p:cNvPr id="329" name=""/>
            <p:cNvSpPr/>
            <p:nvPr/>
          </p:nvSpPr>
          <p:spPr>
            <a:xfrm>
              <a:off x="5181480" y="1676520"/>
              <a:ext cx="266724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the element on the lef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is larger than the element on the right (index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j + 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, then we swap them. Remember the need of a temp variab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733560" y="1981080"/>
              <a:ext cx="1447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84B8D-6D70-4AE7-99FE-2BFD34B5A21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3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666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Data items in ascending ord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k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5909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original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6   4   8  10  12  89  68  45 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 items in ascending 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4   6   8  10  12  37  45  68  8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5A9C-C8F8-41D5-BF36-0DEEA17DD52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7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ase Study: Computing Mean, Median and Mode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verage (sum/number of element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in middle of sorted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2, 3, 4, 5  (3 is media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even number of elements, take average of middle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that occurs most oft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, 1, 1, 2, 3, 3, 4, 5 (1 is mo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DB57-E326-46E4-B9CB-2642A181989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2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429000" y="1066680"/>
            <a:ext cx="2437920" cy="5029200"/>
            <a:chOff x="3429000" y="1066680"/>
            <a:chExt cx="2437920" cy="5029200"/>
          </a:xfrm>
        </p:grpSpPr>
        <p:grpSp>
          <p:nvGrpSpPr>
            <p:cNvPr id="98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99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"/>
            <p:cNvSpPr/>
            <p:nvPr/>
          </p:nvSpPr>
          <p:spPr>
            <a:xfrm>
              <a:off x="3536640" y="37893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6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647960" y="2138400"/>
              <a:ext cx="356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4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62160" y="2412720"/>
              <a:ext cx="1425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62160" y="2689200"/>
              <a:ext cx="142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55960" y="296388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3996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54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47960" y="3514680"/>
              <a:ext cx="356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62160" y="378936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5960" y="40640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5960" y="434016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862160" y="4614840"/>
              <a:ext cx="1425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39960" y="488952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64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55960" y="5165640"/>
              <a:ext cx="248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7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65360" y="1066680"/>
              <a:ext cx="214596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ame of array (Note that all elements of this array have the same name,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2560" y="1765080"/>
              <a:ext cx="36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58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36640" y="213840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36640" y="2412720"/>
              <a:ext cx="46476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6640" y="268920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2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536640" y="296388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3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29000" y="516564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429000" y="4889520"/>
              <a:ext cx="572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1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46148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9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536640" y="43401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8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36640" y="406404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36640" y="3514680"/>
              <a:ext cx="4647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5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36640" y="3238560"/>
              <a:ext cx="46476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[4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5360" y="5767200"/>
              <a:ext cx="24015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osition number of the element within array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0160" y="5343480"/>
              <a:ext cx="360" cy="3664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216320" y="2098440"/>
              <a:ext cx="1288440" cy="3302280"/>
              <a:chOff x="4216320" y="2098440"/>
              <a:chExt cx="1288440" cy="3302280"/>
            </a:xfrm>
          </p:grpSpPr>
          <p:sp>
            <p:nvSpPr>
              <p:cNvPr id="141" name=""/>
              <p:cNvSpPr/>
              <p:nvPr/>
            </p:nvSpPr>
            <p:spPr>
              <a:xfrm>
                <a:off x="4216320" y="3749400"/>
                <a:ext cx="1288440" cy="275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6" y="0"/>
                    </a:moveTo>
                    <a:lnTo>
                      <a:pt x="19986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6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4216320" y="2098440"/>
                <a:ext cx="1288440" cy="3302280"/>
                <a:chOff x="4216320" y="2098440"/>
                <a:chExt cx="1288440" cy="3302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4216320" y="20984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216320" y="23734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216320" y="26485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216320" y="292392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216320" y="31989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216320" y="347436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216320" y="402480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4216320" y="42998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216320" y="457524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216320" y="48502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216320" y="5125680"/>
                  <a:ext cx="1288440" cy="2750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6" y="0"/>
                      </a:moveTo>
                      <a:lnTo>
                        <a:pt x="19986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6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54" name=""/>
          <p:cNvGrpSpPr/>
          <p:nvPr/>
        </p:nvGrpSpPr>
        <p:grpSpPr>
          <a:xfrm>
            <a:off x="0" y="57240"/>
            <a:ext cx="5486400" cy="5922360"/>
            <a:chOff x="0" y="57240"/>
            <a:chExt cx="5486400" cy="5922360"/>
          </a:xfrm>
        </p:grpSpPr>
        <p:sp>
          <p:nvSpPr>
            <p:cNvPr id="155" name=""/>
            <p:cNvSpPr/>
            <p:nvPr/>
          </p:nvSpPr>
          <p:spPr>
            <a:xfrm>
              <a:off x="0" y="950760"/>
              <a:ext cx="5486400" cy="50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0" y="57240"/>
              <a:ext cx="5486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0" y="5979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B2B6-7316-498A-A581-F0ED39EF1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7: fig04_17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his program introduces the topic of survey data analysi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t computes the mean, median, and mode of the data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howpoin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Siz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size of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5836-B284-4058-83A9-18190A25885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uency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array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array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ponse[ responseSize ] =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process respon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edian(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mode( frequency, response, response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55CC4-625F-4C71-9FDF-BB5F48CF1B1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of al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********\n  Mean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total respons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arraySize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answer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format and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mean is the average value of the data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items. The mean is equal to the total of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all the data items divided by the number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of data items (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). The mean value for\nthis run is: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total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/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arraySize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=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array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581280" y="3733920"/>
            <a:ext cx="4114800" cy="838080"/>
            <a:chOff x="3581280" y="3733920"/>
            <a:chExt cx="4114800" cy="838080"/>
          </a:xfrm>
        </p:grpSpPr>
        <p:sp>
          <p:nvSpPr>
            <p:cNvPr id="343" name=""/>
            <p:cNvSpPr/>
            <p:nvPr/>
          </p:nvSpPr>
          <p:spPr>
            <a:xfrm>
              <a:off x="5029200" y="37339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e cast to a double to get decimal points for the average (instead of an integer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581280" y="38862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76211-22C5-45A7-B812-C70B973A30A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800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 and determine median element's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edian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Median\n********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unsorted array of responses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unsorted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bubbleSort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ort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sorted array is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nswer, size )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sorted array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median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The median is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of\nthe sorted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ize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element array.\nFor this run the median is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answer[ size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133360" y="1066680"/>
            <a:ext cx="4115160" cy="838440"/>
            <a:chOff x="2133360" y="1066680"/>
            <a:chExt cx="4115160" cy="838440"/>
          </a:xfrm>
        </p:grpSpPr>
        <p:sp>
          <p:nvSpPr>
            <p:cNvPr id="348" name=""/>
            <p:cNvSpPr/>
            <p:nvPr/>
          </p:nvSpPr>
          <p:spPr>
            <a:xfrm>
              <a:off x="3581280" y="10666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ort array by passing it to a function. This keeps the program modula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133360" y="12193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4258-825A-4731-99B8-8BC5CDC5C08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952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freq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nswer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argest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largest frequenc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odeValu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presents most frequent respon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********\n  Mode\n********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frequencies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freq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ummarize frequenci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++freq[ answer[ j ]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headers for result column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Respons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requency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Histogram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1    1    2    2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5    0    5    0    5\n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D0D02-93CD-4F1A-BC89-D10617118E9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ng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 &lt;=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rating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rating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freq[ rating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keep track of mode value and largest f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freq[ rating ] &gt; largest ) {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largest = freq[ rating ];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modeValue = rating;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output histogram bar representing frequency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freq[ rating ]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8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the mod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mode is the most frequent value.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For this run the mode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mode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which occurred 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larges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times.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438280" y="685800"/>
            <a:ext cx="4114800" cy="838080"/>
            <a:chOff x="2438280" y="685800"/>
            <a:chExt cx="4114800" cy="838080"/>
          </a:xfrm>
        </p:grpSpPr>
        <p:sp>
          <p:nvSpPr>
            <p:cNvPr id="355" name=""/>
            <p:cNvSpPr/>
            <p:nvPr/>
          </p:nvSpPr>
          <p:spPr>
            <a:xfrm>
              <a:off x="3886200" y="6858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mode is the value that occurs most often (has the highest value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eq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438280" y="838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894B7-EA05-4B5C-9B13-F3E674C1F9E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7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029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4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5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hat sorts an array with bubble sort algorith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6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ubbleSort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old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emporary location used to swap elem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loop to control number of pass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ass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ass &lt; size; pass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2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// loop to control number of comparisons per pas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      // swap elements if out of or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[ j ] &gt;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old = a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] =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a[ j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hol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i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ubbleSor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2E9C-2CC1-44CE-8D57-1DC49E79EAF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8 of 8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6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contents (20 values per row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7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size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0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i %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egin new line every 20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a[ i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29DC0-6B40-4300-AD97-3BFABFA9950D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6324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an is the average value of th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ms. The mean is equal to the total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l the data items divided by the numb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f data items (99). The mean value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run is: 681 / 99 = 6.878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dia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unsorted array of responses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8 7 8 9 8 9 7 8 9 5 9 8 7 8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9 3 9 8 7 8 7 7 8 9 8 9 8 9 7 8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7 8 7 8 7 9 8 9 2 7 8 9 8 9 8 9 7 5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7 2 5 3 9 4 6 4 7 8 9 6 8 7 8 9 7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4 4 2 5 3 8 7 5 6 4 5 6 1 6 5 7 8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array i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2 2 3 3 3 3 4 4 4 4 4 5 5 5 5 5 5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6 6 6 6 6 6 6 6 6 7 7 7 7 7 7 7 7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7 7 7 7 7 7 7 7 7 7 7 7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8 8 8 8 8 8 8 8 8 8 8 8 8 8 8 8 8 8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9 9 9 9 9 9 9 9 9 9 9 9 9 9 9 9 9 9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edian is element 49 of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sorted 99 element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edian is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F834C-F0AA-4731-9E0E-27CD9D6C9D1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7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441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o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 Frequency        Histogra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1    2    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0    5    0    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1         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3          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4          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5          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8          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9          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23          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27          ********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9         19          ******************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ode is the most frequent valu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this run the mode is 8 which occurred 27 time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2A04-D81B-4806-8C90-AB866D808E8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3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claring Array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declaring arrays, spec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of arra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umber of el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ype array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rraySiz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c[ 10 ];  // array of 10 integ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 d[ 3284 ]; // array of 3284 floa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laring multiple arrays of same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comma separated list, like regular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b[ 100 ], x[ 27 ];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07966-1F90-4B96-A8FA-196D7E7901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rray for a key 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ear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each element of array with key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at one end, go to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ful for small and un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search key not present, examines every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95E08-B04D-437D-AB89-A5B2E3AB401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8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earching Arrays: Linear Search and Binary Search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used with sorted array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are middle element with ke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equal, match f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l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first half of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key &gt; mid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 search on last ha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ery fas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ost N steps, where 2     &gt; # of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element array takes at most 5 ste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    &gt; 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395600" y="4692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11480" y="5378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5099-A43B-459D-A76A-BBB43494905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19: fig04_19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inear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totyp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;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Enter integer search ke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search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attempt to locate searchKey in array a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element = linearSearch( a, search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286000" y="1066680"/>
            <a:ext cx="4114800" cy="838440"/>
            <a:chOff x="2286000" y="1066680"/>
            <a:chExt cx="4114800" cy="838440"/>
          </a:xfrm>
        </p:grpSpPr>
        <p:sp>
          <p:nvSpPr>
            <p:cNvPr id="374" name=""/>
            <p:cNvSpPr/>
            <p:nvPr/>
          </p:nvSpPr>
          <p:spPr>
            <a:xfrm>
              <a:off x="373392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akes array, search key, and array siz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228600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E6AD5-D1A7-4BC9-B4D7-A16794C5299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elemen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Found value in elem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lemen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ompare key to every element of array until location is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ound or until end of array is reached; return subscript of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lement if key or -1 if key not found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inear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OfArray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OfArray; j++ )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array[ j ] == key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found,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;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turn location of key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key not found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linearSearch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599F0-40F2-472D-9F8D-50C354F106B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19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ound value in element 1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integer search key: 3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not foun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0D333-DA8E-4D60-8892-2AE60A3726D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867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0: fig04_20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Binary search of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ize of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create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ey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lue to locate in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reate some dat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a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i;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C7CBF-C177-4AD1-BA60-EBFDC8A211F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a number between 0 and 28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key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Header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search for key in array a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result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binarySearch( a, key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arraySiz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display resul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result !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found in array element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result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key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not found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AAE29-DD9C-47AF-B446-5DD6717C11BF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5812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perform binary search of an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Search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 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archKey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until low subscript is greater than high subscri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while ( low &lt;= high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middle element of subarray being search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middle = ( low + high ) /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ubarray used in this loop iter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printRow( b, low, middle, high, size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361960" y="1523880"/>
            <a:ext cx="4115160" cy="838440"/>
            <a:chOff x="2361960" y="1523880"/>
            <a:chExt cx="4115160" cy="838440"/>
          </a:xfrm>
        </p:grpSpPr>
        <p:sp>
          <p:nvSpPr>
            <p:cNvPr id="387" name=""/>
            <p:cNvSpPr/>
            <p:nvPr/>
          </p:nvSpPr>
          <p:spPr>
            <a:xfrm>
              <a:off x="3809880" y="1523880"/>
              <a:ext cx="26672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 middle el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361960" y="16765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229B2-A1BB-4651-BB81-0C0B5A4B88B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matches middle element, return middl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== b[ middle ] )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t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dl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less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high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searchKey &lt; b[ middle ]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 = middle -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low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f searchKey greater than middle element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new low el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 = middle +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 high end of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-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archKey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binarySearch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3123720" y="609480"/>
            <a:ext cx="3886560" cy="1554120"/>
            <a:chOff x="3123720" y="609480"/>
            <a:chExt cx="3886560" cy="1554120"/>
          </a:xfrm>
        </p:grpSpPr>
        <p:sp>
          <p:nvSpPr>
            <p:cNvPr id="392" name=""/>
            <p:cNvSpPr/>
            <p:nvPr/>
          </p:nvSpPr>
          <p:spPr>
            <a:xfrm>
              <a:off x="4343400" y="60948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the rule of binary search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key equals middle, matc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less, search low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greater, search high e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123720" y="609480"/>
              <a:ext cx="12193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895480" y="2362320"/>
            <a:ext cx="4114800" cy="1067400"/>
            <a:chOff x="2895480" y="2362320"/>
            <a:chExt cx="4114800" cy="1067400"/>
          </a:xfrm>
        </p:grpSpPr>
        <p:sp>
          <p:nvSpPr>
            <p:cNvPr id="395" name=""/>
            <p:cNvSpPr/>
            <p:nvPr/>
          </p:nvSpPr>
          <p:spPr>
            <a:xfrm>
              <a:off x="4343400" y="23623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oop sets low, middle and high dynamically. If searching the high end, the new low is the element above the middl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2895480" y="25146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9D68C-DBFA-4A87-800C-7605138A4F8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header for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Header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ubscript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size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ine of - charact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k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k &lt;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* size; k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-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Head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20008-67CC-49FC-99D0-24E05D8B7B5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4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Using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ing array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loo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each e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 li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each element when array decl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t enough initializers, rightmost element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too many 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o set every element to same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 5 ] = { 0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array size omitted, initializers determine s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n[] = { 1, 2, 3, 4, 5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 initializers, therefore 5 elemen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76DFA-7A89-4C1D-9EE6-3A96306076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one row of output showing the curr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art of the array being process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Row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b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d,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iz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loop through entir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m &lt; size; m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spaces if outside current subarray ran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&lt; low || m &gt; high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middle element marked with a 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m == mid )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mark middle valu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*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9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isplay other elements in sub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1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b[ m ]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3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6A1E6-CEB5-44DC-8130-A3F342576354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found in array element 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2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6  18  20  22*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  26*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4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5 not foun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38382-B7F9-464F-AEF0-B345F0299CC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0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a number between 0 and 28: 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bscript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1   2   3   4   5   6   7   8   9  10  11  12  13  1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-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   8  10  12  14* 16  18  20  22  24  26  2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2   4   6*  8  10 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10* 1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*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found in array element 4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5233-65CF-48B7-8E4E-D72F5CE0A89E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subscrip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a[ i ][ j ]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ables with rows and colum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fy row, then colum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ray of arrays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array of 4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0][0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he first element of that arr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914400" y="4316400"/>
            <a:ext cx="6124680" cy="973080"/>
            <a:chOff x="914400" y="4316400"/>
            <a:chExt cx="6124680" cy="973080"/>
          </a:xfrm>
        </p:grpSpPr>
        <p:sp>
          <p:nvSpPr>
            <p:cNvPr id="408" name=""/>
            <p:cNvSpPr/>
            <p:nvPr/>
          </p:nvSpPr>
          <p:spPr>
            <a:xfrm>
              <a:off x="914400" y="456444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914400" y="483228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914400" y="5100120"/>
              <a:ext cx="71100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Row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997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101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2052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831280" y="4316400"/>
              <a:ext cx="1104120" cy="1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olum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797120" y="4486680"/>
              <a:ext cx="1310400" cy="802800"/>
              <a:chOff x="1797120" y="4486680"/>
              <a:chExt cx="1310400" cy="80280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1797120" y="4486680"/>
                <a:ext cx="1310400" cy="267480"/>
                <a:chOff x="1797120" y="4486680"/>
                <a:chExt cx="1310400" cy="26748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7971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18504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1797120" y="4754160"/>
                <a:ext cx="1310400" cy="267480"/>
                <a:chOff x="1797120" y="4754160"/>
                <a:chExt cx="1310400" cy="2674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17971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8504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1797120" y="5022000"/>
                <a:ext cx="1310400" cy="267480"/>
                <a:chOff x="1797120" y="5022000"/>
                <a:chExt cx="1310400" cy="26748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17971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18504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0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5" name=""/>
            <p:cNvGrpSpPr/>
            <p:nvPr/>
          </p:nvGrpSpPr>
          <p:grpSpPr>
            <a:xfrm>
              <a:off x="3107520" y="4486680"/>
              <a:ext cx="1310400" cy="802800"/>
              <a:chOff x="3107520" y="4486680"/>
              <a:chExt cx="1310400" cy="802800"/>
            </a:xfrm>
          </p:grpSpPr>
          <p:grpSp>
            <p:nvGrpSpPr>
              <p:cNvPr id="426" name=""/>
              <p:cNvGrpSpPr/>
              <p:nvPr/>
            </p:nvGrpSpPr>
            <p:grpSpPr>
              <a:xfrm>
                <a:off x="3107520" y="4486680"/>
                <a:ext cx="1310400" cy="267480"/>
                <a:chOff x="3107520" y="4486680"/>
                <a:chExt cx="1310400" cy="26748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310752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316080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107520" y="4754160"/>
                <a:ext cx="1310400" cy="267480"/>
                <a:chOff x="3107520" y="4754160"/>
                <a:chExt cx="1310400" cy="26748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10752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16080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3107520" y="5022000"/>
                <a:ext cx="1310400" cy="267480"/>
                <a:chOff x="3107520" y="5022000"/>
                <a:chExt cx="1310400" cy="26748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310752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316080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1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5" name=""/>
            <p:cNvGrpSpPr/>
            <p:nvPr/>
          </p:nvGrpSpPr>
          <p:grpSpPr>
            <a:xfrm>
              <a:off x="4418280" y="4486680"/>
              <a:ext cx="1310400" cy="802800"/>
              <a:chOff x="4418280" y="4486680"/>
              <a:chExt cx="1310400" cy="80280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4418280" y="4486680"/>
                <a:ext cx="1310400" cy="267480"/>
                <a:chOff x="4418280" y="4486680"/>
                <a:chExt cx="1310400" cy="2674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4182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71560" y="452520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4418280" y="4754160"/>
                <a:ext cx="1310400" cy="267480"/>
                <a:chOff x="4418280" y="4754160"/>
                <a:chExt cx="1310400" cy="267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44182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71560" y="479268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4418280" y="5022000"/>
                <a:ext cx="1310400" cy="267480"/>
                <a:chOff x="4418280" y="5022000"/>
                <a:chExt cx="1310400" cy="26748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44182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71560" y="5060520"/>
                  <a:ext cx="120240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2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5" name=""/>
            <p:cNvGrpSpPr/>
            <p:nvPr/>
          </p:nvGrpSpPr>
          <p:grpSpPr>
            <a:xfrm>
              <a:off x="5728680" y="4486680"/>
              <a:ext cx="1310400" cy="802800"/>
              <a:chOff x="5728680" y="4486680"/>
              <a:chExt cx="1310400" cy="8028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5728680" y="4486680"/>
                <a:ext cx="1310400" cy="267480"/>
                <a:chOff x="5728680" y="4486680"/>
                <a:chExt cx="1310400" cy="2674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5728680" y="448668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5781960" y="452520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0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5728680" y="4754160"/>
                <a:ext cx="1310400" cy="267480"/>
                <a:chOff x="5728680" y="4754160"/>
                <a:chExt cx="1310400" cy="26748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5728680" y="475416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5781960" y="479268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1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5728680" y="5022000"/>
                <a:ext cx="1310400" cy="267480"/>
                <a:chOff x="5728680" y="5022000"/>
                <a:chExt cx="1310400" cy="26748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728680" y="5022000"/>
                  <a:ext cx="1310400" cy="267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0"/>
                      </a:moveTo>
                      <a:lnTo>
                        <a:pt x="19979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7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781960" y="5060520"/>
                  <a:ext cx="1202760" cy="20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a[ 2 ][ 3 ]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55" name=""/>
          <p:cNvSpPr/>
          <p:nvPr/>
        </p:nvSpPr>
        <p:spPr>
          <a:xfrm>
            <a:off x="3152880" y="6145200"/>
            <a:ext cx="17604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ow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390760" y="5916600"/>
            <a:ext cx="13651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rray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500720" y="5564160"/>
            <a:ext cx="2152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sub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28840" y="5230800"/>
            <a:ext cx="76320" cy="6858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3304440" y="5246640"/>
            <a:ext cx="74520" cy="8985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77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86040" y="5230800"/>
            <a:ext cx="74880" cy="457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62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  <a:head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686040" y="5612760"/>
            <a:ext cx="762120" cy="7452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25" y="0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6A6F-50A5-4982-885C-D196AABD45A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fault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itializers grouped by row in br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, 2 }, { 3, 4 }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b[ 2 ][ 2 ] = { { 1 }, { 3, 4 } }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7772400" y="2362320"/>
            <a:ext cx="914400" cy="631440"/>
            <a:chOff x="7772400" y="2362320"/>
            <a:chExt cx="914400" cy="631440"/>
          </a:xfrm>
        </p:grpSpPr>
        <p:sp>
          <p:nvSpPr>
            <p:cNvPr id="465" name=""/>
            <p:cNvSpPr/>
            <p:nvPr/>
          </p:nvSpPr>
          <p:spPr>
            <a:xfrm>
              <a:off x="7772400" y="236232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229600" y="236232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772400" y="26672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772400" y="3809880"/>
            <a:ext cx="914400" cy="631440"/>
            <a:chOff x="7772400" y="3809880"/>
            <a:chExt cx="914400" cy="631440"/>
          </a:xfrm>
        </p:grpSpPr>
        <p:sp>
          <p:nvSpPr>
            <p:cNvPr id="469" name=""/>
            <p:cNvSpPr/>
            <p:nvPr/>
          </p:nvSpPr>
          <p:spPr>
            <a:xfrm>
              <a:off x="7772400" y="380988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229600" y="38098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772400" y="4114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45543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925960" y="2819520"/>
            <a:ext cx="7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w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FD88-138A-4E95-9C7B-4BFF423CBD2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d like 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 ][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reference using com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ut &lt;&lt; b[ 0, 1 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ax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prot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specify sizes of subscri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subscript not necessary, as with single-scripte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Array( int [][ 3 ] 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867280" y="1805040"/>
            <a:ext cx="914400" cy="631440"/>
            <a:chOff x="5867280" y="1805040"/>
            <a:chExt cx="914400" cy="631440"/>
          </a:xfrm>
        </p:grpSpPr>
        <p:sp>
          <p:nvSpPr>
            <p:cNvPr id="477" name=""/>
            <p:cNvSpPr/>
            <p:nvPr/>
          </p:nvSpPr>
          <p:spPr>
            <a:xfrm>
              <a:off x="5867280" y="1805040"/>
              <a:ext cx="914400" cy="63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1    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3    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24480" y="18050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867280" y="210996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4C44-7B2C-4CDC-9B55-605E0B65E715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6172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2: fig04_2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multidimensional array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1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2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;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rray3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1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1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2 by row are: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2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s in array3 by row are: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array3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00400" y="1447920"/>
            <a:ext cx="4114800" cy="1067400"/>
            <a:chOff x="3200400" y="1447920"/>
            <a:chExt cx="4114800" cy="1067400"/>
          </a:xfrm>
        </p:grpSpPr>
        <p:sp>
          <p:nvSpPr>
            <p:cNvPr id="483" name=""/>
            <p:cNvSpPr/>
            <p:nvPr/>
          </p:nvSpPr>
          <p:spPr>
            <a:xfrm>
              <a:off x="4648320" y="144792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various initialization styles. The elements i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array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re assigned to the first row and then the secon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200400" y="18288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742840" y="762120"/>
            <a:ext cx="4115160" cy="838080"/>
            <a:chOff x="2742840" y="762120"/>
            <a:chExt cx="4115160" cy="838080"/>
          </a:xfrm>
        </p:grpSpPr>
        <p:sp>
          <p:nvSpPr>
            <p:cNvPr id="486" name=""/>
            <p:cNvSpPr/>
            <p:nvPr/>
          </p:nvSpPr>
          <p:spPr>
            <a:xfrm>
              <a:off x="4190760" y="76212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e the format of the prototyp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742840" y="9144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8827-D34E-41CC-97DA-009120BE90D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352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to output array with two rows and three columns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)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{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// for each row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column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a[ i ][ j ]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' 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tart new line of output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 structure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276720"/>
            <a:ext cx="7010280" cy="22096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1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2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5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in array3 by row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2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0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819160" y="216000"/>
            <a:ext cx="4115160" cy="1067400"/>
            <a:chOff x="2819160" y="216000"/>
            <a:chExt cx="4115160" cy="1067400"/>
          </a:xfrm>
        </p:grpSpPr>
        <p:sp>
          <p:nvSpPr>
            <p:cNvPr id="492" name=""/>
            <p:cNvSpPr/>
            <p:nvPr/>
          </p:nvSpPr>
          <p:spPr>
            <a:xfrm>
              <a:off x="4267080" y="216000"/>
              <a:ext cx="266724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or loops are often used to iterate through arrays. Nested loops are helpful with multiple-subscripted array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19160" y="3682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3E134-E27E-4554-893F-EE1C076212F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4.9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	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Multiple-Subscripted Array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xt: program showing init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, program to keep track of students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e-subscripted array (tabl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ws are stud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lumns are grad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4790880" y="3048120"/>
            <a:ext cx="2292840" cy="1175400"/>
            <a:chOff x="4790880" y="3048120"/>
            <a:chExt cx="2292840" cy="1175400"/>
          </a:xfrm>
        </p:grpSpPr>
        <p:grpSp>
          <p:nvGrpSpPr>
            <p:cNvPr id="497" name=""/>
            <p:cNvGrpSpPr/>
            <p:nvPr/>
          </p:nvGrpSpPr>
          <p:grpSpPr>
            <a:xfrm>
              <a:off x="5891400" y="3589560"/>
              <a:ext cx="914400" cy="631440"/>
              <a:chOff x="5891400" y="3589560"/>
              <a:chExt cx="914400" cy="631440"/>
            </a:xfrm>
          </p:grpSpPr>
          <p:sp>
            <p:nvSpPr>
              <p:cNvPr id="498" name=""/>
              <p:cNvSpPr/>
              <p:nvPr/>
            </p:nvSpPr>
            <p:spPr>
              <a:xfrm>
                <a:off x="5891400" y="3589560"/>
                <a:ext cx="914400" cy="6314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95  8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89  8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48600" y="3589560"/>
                <a:ext cx="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91400" y="38944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5589360" y="306396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51480" y="3048120"/>
              <a:ext cx="73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iz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825800" y="35370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90880" y="3886200"/>
              <a:ext cx="104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udent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FEFA0-0B71-470B-B822-99A4AD2D3D0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3341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23: fig04_2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ouble-subscripted array example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fixed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lef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precision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student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con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umber of exam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prototyp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BED7-C2DF-4D53-9F2E-F47B9951D653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4.3: fig04_03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ing an array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manip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setw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n is an array of 10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initialize elements of array n to 0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++ )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n[ i ]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element at location i to 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lement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Value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  // output contents of array n in tabular format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++ )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j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n[ j ]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828800" y="2209680"/>
            <a:ext cx="4114800" cy="838440"/>
            <a:chOff x="1828800" y="2209680"/>
            <a:chExt cx="4114800" cy="838440"/>
          </a:xfrm>
        </p:grpSpPr>
        <p:sp>
          <p:nvSpPr>
            <p:cNvPr id="165" name=""/>
            <p:cNvSpPr/>
            <p:nvPr/>
          </p:nvSpPr>
          <p:spPr>
            <a:xfrm>
              <a:off x="3276720" y="2209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a 10-element array of integer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828800" y="2362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2590560" y="2895480"/>
            <a:ext cx="3733920" cy="835200"/>
            <a:chOff x="2590560" y="2895480"/>
            <a:chExt cx="3733920" cy="835200"/>
          </a:xfrm>
        </p:grpSpPr>
        <p:sp>
          <p:nvSpPr>
            <p:cNvPr id="168" name=""/>
            <p:cNvSpPr/>
            <p:nvPr/>
          </p:nvSpPr>
          <p:spPr>
            <a:xfrm>
              <a:off x="3657600" y="28954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itialize array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a for loop. Note that the array has element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[9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590560" y="3276720"/>
              <a:ext cx="1066680" cy="45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D992B-040A-4829-BB37-ED901597DB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5720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student grades for three students (rows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udentGrades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 =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{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6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,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{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7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9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8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} }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array studentGrad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rray is: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printArray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smallest and largest grade value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\nLow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in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Highest grade: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 maximum( studentGrades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stud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'\n'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fixed &lt;&lt; setprecision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34A5-2CC2-473C-B80E-E99664F4C40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3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9436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calculate average grade for each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erson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person &lt; students; person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he average grade for student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perso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"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average( studentGrades[ person ],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5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in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6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in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10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high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lt; low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low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low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in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276360" y="1447560"/>
            <a:ext cx="3810240" cy="1554480"/>
            <a:chOff x="3276360" y="1447560"/>
            <a:chExt cx="3810240" cy="1554480"/>
          </a:xfrm>
        </p:grpSpPr>
        <p:sp>
          <p:nvSpPr>
            <p:cNvPr id="512" name=""/>
            <p:cNvSpPr/>
            <p:nvPr/>
          </p:nvSpPr>
          <p:spPr>
            <a:xfrm>
              <a:off x="4419720" y="1447920"/>
              <a:ext cx="2666880" cy="1554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termines the average for one student. We pass the array/row containing the student’s grades. Note tha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udentGrades[0]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itself an arra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276360" y="1447560"/>
              <a:ext cx="11430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AD688-5931-484E-ADD6-218A400F76A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4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8862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1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nd maximum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2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ximum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exa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itialize to lowest possible grad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grades[ i ][ j ] &gt; highGrade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highGrade =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highGrade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6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6EC64-0789-4D49-AFD5-37F5A70FF2C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5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819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7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determine average grade for particular student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8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verage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etOfGrades[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otal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total all grades for one student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tests; i++ )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total += setOfGrades[ i ];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static_ca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( total ) / tests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verage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xim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F110F-EE3B-472C-B0F7-5F808A85147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6 of 6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46483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0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the 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1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ntArray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grades[][ exams ]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pupils,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tests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t left justification and output column head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lef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                [0]  [1]  [2]  [3]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grades in tabular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7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i &lt; pupils; i++ ) 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8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9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label for row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0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\nstudentGrades[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i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]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1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2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utput one grades for one stud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3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j =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j &lt; tests; j++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4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cout &lt;&lt; setw(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) &lt;&lt; grades[ i ][ j ]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5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6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outer fo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7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8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printArra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C9AD8-C623-495E-8D90-E24E92F570F1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2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rray is: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[0]  [1]  [2]  [3]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0] 77   68   86   73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1] 96   87   89   7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tudentGrades[2] 70   90   86   81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west grade: 68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ighest grade: 96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0 is 76.0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1 is 87.50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average grade for student 2 is 81.7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9D782-DD02-4E3F-A327-A9CC82AE98C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4_03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838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s successful termina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838080"/>
            <a:ext cx="7010280" cy="2743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       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3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5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6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8         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            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15B7-3B86-44CE-9B34-2072643834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18:48:54Z</dcterms:created>
  <dc:creator>kalid</dc:creator>
  <dc:description/>
  <dc:language>en-US</dc:language>
  <cp:lastModifiedBy>Pearson Education</cp:lastModifiedBy>
  <dcterms:modified xsi:type="dcterms:W3CDTF">2002-08-05T13:01:44Z</dcterms:modified>
  <cp:revision>478</cp:revision>
  <dc:subject/>
  <dc:title>Chapter 4 - Arrays</dc:title>
</cp:coreProperties>
</file>