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A405-B5EC-4F07-9369-C5D5579F3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D510-A0C5-47B9-BB84-296E4D1EA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060C-AAE7-4499-B6A3-AE6027B44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959B-6720-454A-BF1E-576D93F7F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C797-8766-4354-A3E8-CF963A4C62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30D7-F2E6-4612-BA83-3A1C5610C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9A76-4F8C-45C2-8608-86D479E73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1C1E-65A5-4D8F-9CD0-54C208141A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8BA6-6910-4C09-8C97-8F93C1CAF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13AA-510C-4A74-A7D4-3257CAC912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15C6-548B-4ED8-8E5F-72E593383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B8D5-5775-4756-83AC-6F1F251AE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37D9-B2BF-426F-8A60-B46BD97B27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4645-AFDB-4603-98C7-CBC4E5029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A0A4-AEFE-40E4-BF8E-92420BF70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A1A9-5512-4099-B224-1288D040B8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2F41-3692-40AD-86E4-59E3042A6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BD32-DCB3-47A2-9734-9EB7FA1E3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1CD8-DE6A-4101-B4C0-2089C46EC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7805-3588-41C6-B59F-88375911F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478B-CC84-4299-8639-A488E3BE7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DF43-B151-4616-8898-3465F66FE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6DC2-EE80-4F37-9A53-3F3573ED7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80E2-EDCA-4272-82AA-92E610A13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8084-4A30-4522-897A-13C186500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ABB-FAC3-4D10-A1F2-7CBE5FCA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9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ubscripted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F802-514C-4472-995C-BB8A9DB93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4: fig0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 with a declar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initializer list to initialize array 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i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2438280"/>
            <a:ext cx="4114800" cy="838440"/>
            <a:chOff x="1752480" y="2438280"/>
            <a:chExt cx="4114800" cy="838440"/>
          </a:xfrm>
        </p:grpSpPr>
        <p:sp>
          <p:nvSpPr>
            <p:cNvPr id="176" name=""/>
            <p:cNvSpPr/>
            <p:nvPr/>
          </p:nvSpPr>
          <p:spPr>
            <a:xfrm>
              <a:off x="32004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the initializ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5248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EE7A-76F1-4789-A17F-CCE07446EB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3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6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7C9A-9558-4508-94DB-2C0178ED32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pecified with constant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size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named constants or read-only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B257-0252-44DD-B08C-092FA4BDD6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5: fig04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s to the even integers from 2 to 20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 variable can be used to specify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 has 1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h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38280" y="2362320"/>
            <a:ext cx="4114800" cy="1295280"/>
            <a:chOff x="2438280" y="2362320"/>
            <a:chExt cx="4114800" cy="1295280"/>
          </a:xfrm>
        </p:grpSpPr>
        <p:grpSp>
          <p:nvGrpSpPr>
            <p:cNvPr id="185" name=""/>
            <p:cNvGrpSpPr/>
            <p:nvPr/>
          </p:nvGrpSpPr>
          <p:grpSpPr>
            <a:xfrm>
              <a:off x="2438280" y="2362320"/>
              <a:ext cx="4114800" cy="838080"/>
              <a:chOff x="2438280" y="2362320"/>
              <a:chExt cx="411480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6200" y="2362320"/>
                <a:ext cx="2666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use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keyword. Only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can specify array siz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438280" y="2743200"/>
                <a:ext cx="1447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2438280" y="2743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71800" y="3276720"/>
            <a:ext cx="4114800" cy="2040840"/>
            <a:chOff x="2971800" y="3276720"/>
            <a:chExt cx="4114800" cy="2040840"/>
          </a:xfrm>
        </p:grpSpPr>
        <p:sp>
          <p:nvSpPr>
            <p:cNvPr id="190" name=""/>
            <p:cNvSpPr/>
            <p:nvPr/>
          </p:nvSpPr>
          <p:spPr>
            <a:xfrm>
              <a:off x="4419720" y="32767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becomes more scalable when we set the array size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 We can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the loops will still work (otherwise, we’d have to update every loop in the program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718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E826-84A2-4F49-930D-417EE307A0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24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7CD8-FDA9-4D31-9E55-9AF988C20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6: fig04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properly initialized constant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constan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constant variable x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25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constant variable x is: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1371600"/>
            <a:ext cx="4114800" cy="838080"/>
            <a:chOff x="1828800" y="1371600"/>
            <a:chExt cx="4114800" cy="838080"/>
          </a:xfrm>
        </p:grpSpPr>
        <p:sp>
          <p:nvSpPr>
            <p:cNvPr id="199" name=""/>
            <p:cNvSpPr/>
            <p:nvPr/>
          </p:nvSpPr>
          <p:spPr>
            <a:xfrm>
              <a:off x="32767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 initial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8288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EEDF-56A0-492F-8E4D-4B2861FED3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7: fig0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st object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nst int x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x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cannot modify a cons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6) : error C2734: 'x'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object must be initialized if not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8) : error C2166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95280" y="457200"/>
            <a:ext cx="4572000" cy="1371600"/>
            <a:chOff x="1295280" y="457200"/>
            <a:chExt cx="457200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1752480" y="457200"/>
              <a:ext cx="4114800" cy="1067400"/>
              <a:chOff x="1752480" y="457200"/>
              <a:chExt cx="4114800" cy="106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400" y="45720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nitializ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results in a syntax error. Attempting to modify th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s another err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752480" y="60948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1295280" y="6094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FD84-1157-435F-A8C2-2AF17916B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8: fig0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ute the sum of the elements of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 cont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[ i ]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of array element value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ta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627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f array element values is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65EE-5FCB-4FAF-BB25-DB17608C87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9: fig04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stogram print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element of array n, output a bar in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[ i ]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n[ i ]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0400" y="4572000"/>
            <a:ext cx="4114800" cy="838080"/>
            <a:chOff x="3200400" y="4572000"/>
            <a:chExt cx="4114800" cy="838080"/>
          </a:xfrm>
        </p:grpSpPr>
        <p:sp>
          <p:nvSpPr>
            <p:cNvPr id="215" name=""/>
            <p:cNvSpPr/>
            <p:nvPr/>
          </p:nvSpPr>
          <p:spPr>
            <a:xfrm>
              <a:off x="4648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s asterisks corresponding to size of array elemen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i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1EBC-6858-4B2C-BBE7-E3A819B68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nex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F63B-235B-4E43-AE5D-AA41B367A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(same size throughout progr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-based arrays (C-l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s objects (C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F7FA-21CC-4C15-AD7D-19B4CCA48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0: fig04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oll die 600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s 20-line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            // of Fig. 3.8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00400" y="3060720"/>
            <a:ext cx="4114800" cy="3014280"/>
            <a:chOff x="3200400" y="3060720"/>
            <a:chExt cx="4114800" cy="3014280"/>
          </a:xfrm>
        </p:grpSpPr>
        <p:sp>
          <p:nvSpPr>
            <p:cNvPr id="223" name=""/>
            <p:cNvSpPr/>
            <p:nvPr/>
          </p:nvSpPr>
          <p:spPr>
            <a:xfrm>
              <a:off x="4648320" y="3060720"/>
              <a:ext cx="266688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ake of old program to roll dice. An array is used instead of 6 regular variables, and the proper element can be updated easily (without nee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reates a number between 1 and 6, which determines the index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should be increme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37749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5C38-A37A-4C16-AF70-2D6F36B104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y elements 1-6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face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0AC2-04DA-479F-B826-831E22F0C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4.11: fig04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udent poll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efine array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place survey responses in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pons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itialize frequency counter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DCA0-DCC1-4FA0-A926-B8BCA638CA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answer, select value of an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ses and use that value as subscript i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equency to determine element to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responses[answer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i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rating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2840" y="1295280"/>
            <a:ext cx="3734280" cy="1067400"/>
            <a:chOff x="2742840" y="1295280"/>
            <a:chExt cx="3734280" cy="1067400"/>
          </a:xfrm>
        </p:grpSpPr>
        <p:sp>
          <p:nvSpPr>
            <p:cNvPr id="233" name=""/>
            <p:cNvSpPr/>
            <p:nvPr/>
          </p:nvSpPr>
          <p:spPr>
            <a:xfrm>
              <a:off x="3809880" y="12952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ponses[answer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ating (from 1 to 10). This determines the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42840" y="129528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187E-8E92-4AD4-8F2C-1786201BC6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ng    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  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8361-8C28-4FF3-82E8-11E689AEE2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more in ch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acter implicitly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s 6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   'o',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2AA1-1116-4033-A705-E190D94B5E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user input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at first whitespa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ant to avoid this (section 5.12 explains h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tring2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work for other arra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printed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564E-A80A-4BB6-B901-8F3997C802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_12: fig0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ating character arrays as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2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liter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15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tring from user into array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tring \"hello there\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s "hello" [space terminates input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with spaces between characters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90560" y="1600200"/>
            <a:ext cx="4115160" cy="1067400"/>
            <a:chOff x="2590560" y="1600200"/>
            <a:chExt cx="4115160" cy="1067400"/>
          </a:xfrm>
        </p:grpSpPr>
        <p:sp>
          <p:nvSpPr>
            <p:cNvPr id="244" name=""/>
            <p:cNvSpPr/>
            <p:nvPr/>
          </p:nvSpPr>
          <p:spPr>
            <a:xfrm>
              <a:off x="4038480" y="1600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different ways to declare string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nitialized, and its size determined automatically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560" y="20574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360" y="2666880"/>
            <a:ext cx="4115160" cy="1447920"/>
            <a:chOff x="2133360" y="2666880"/>
            <a:chExt cx="4115160" cy="1447920"/>
          </a:xfrm>
        </p:grpSpPr>
        <p:sp>
          <p:nvSpPr>
            <p:cNvPr id="247" name=""/>
            <p:cNvSpPr/>
            <p:nvPr/>
          </p:nvSpPr>
          <p:spPr>
            <a:xfrm>
              <a:off x="3581280" y="2666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amples of reading strings from the keyboard and printing them 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133360" y="31240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905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B3D0-22F4-4617-94E1-654EDB760B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haracters until null character is rea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tring1[ i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s "ther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62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tring "hello there"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 e l 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7760" y="825480"/>
            <a:ext cx="4115160" cy="1067400"/>
            <a:chOff x="3047760" y="825480"/>
            <a:chExt cx="4115160" cy="1067400"/>
          </a:xfrm>
        </p:grpSpPr>
        <p:sp>
          <p:nvSpPr>
            <p:cNvPr id="254" name=""/>
            <p:cNvSpPr/>
            <p:nvPr/>
          </p:nvSpPr>
          <p:spPr>
            <a:xfrm>
              <a:off x="4495680" y="825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ccess the characters in a string using array notation. The loop end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 is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047760" y="825480"/>
              <a:ext cx="144756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FAA3-B225-458B-9CEF-0528B733A1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static storage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cal variables save values between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ble only in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local arrays to be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array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d (and destroyed) in every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FC54-DFAF-4592-837E-D23F66BD16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array name and position number (inde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 arrayname[ position number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element arra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1 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h element as position N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EFE5-CDF2-42E2-905A-BD0369ABE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3: fig0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arrays are initialized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Second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9F26-D3FC-4EC4-94C7-C59373FAF2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 st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to 0 first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nter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1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t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63" name=""/>
            <p:cNvSpPr/>
            <p:nvPr/>
          </p:nvSpPr>
          <p:spPr>
            <a:xfrm>
              <a:off x="35812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array, initialized to zero on first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361960" y="2590920"/>
            <a:ext cx="4115160" cy="838080"/>
            <a:chOff x="2361960" y="2590920"/>
            <a:chExt cx="4115160" cy="838080"/>
          </a:xfrm>
        </p:grpSpPr>
        <p:sp>
          <p:nvSpPr>
            <p:cNvPr id="266" name=""/>
            <p:cNvSpPr/>
            <p:nvPr/>
          </p:nvSpPr>
          <p:spPr>
            <a:xfrm>
              <a:off x="38098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data is changed; the modified values st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61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979A-2383-49CC-AB47-70EF1C75BC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n autom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each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Values on enter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2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2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2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2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utom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581280" y="304920"/>
            <a:ext cx="4114800" cy="838080"/>
            <a:chOff x="3581280" y="304920"/>
            <a:chExt cx="4114800" cy="838080"/>
          </a:xfrm>
        </p:grpSpPr>
        <p:sp>
          <p:nvSpPr>
            <p:cNvPr id="271" name=""/>
            <p:cNvSpPr/>
            <p:nvPr/>
          </p:nvSpPr>
          <p:spPr>
            <a:xfrm>
              <a:off x="50292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array, recreated with every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609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95480" y="2590920"/>
            <a:ext cx="4114800" cy="1067400"/>
            <a:chOff x="2895480" y="2590920"/>
            <a:chExt cx="4114800" cy="1067400"/>
          </a:xfrm>
        </p:grpSpPr>
        <p:sp>
          <p:nvSpPr>
            <p:cNvPr id="274" name=""/>
            <p:cNvSpPr/>
            <p:nvPr/>
          </p:nvSpPr>
          <p:spPr>
            <a:xfrm>
              <a:off x="434340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the array is changed, it will be destroyed when the function exits and the changes will be l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9548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2F09-D607-49AD-8ED7-7CD7E5401A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0  array1[1] = 0  array1[2] 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10  array1[1] = 10  array1[2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39C7-D907-47B6-9902-D64D604085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without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usually passed, but not 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to iterate over al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0156-580C-4549-BCA0-7C3619ADC3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can modify original arra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 myArray[3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9E62-C8DC-4AA7-869B-879C38FD44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ak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[], in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ptional in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ake an integer array and a sing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for array size between br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 array parameter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modified (compiler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NotModify( const int [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2E7C-CD5C-47CE-A178-4E7EC0362F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4: fig0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ing arrays and individual array element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st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entire array by refer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s of the original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1752480"/>
            <a:ext cx="4114800" cy="838440"/>
            <a:chOff x="2286000" y="1752480"/>
            <a:chExt cx="4114800" cy="838440"/>
          </a:xfrm>
        </p:grpSpPr>
        <p:sp>
          <p:nvSpPr>
            <p:cNvPr id="287" name=""/>
            <p:cNvSpPr/>
            <p:nvPr/>
          </p:nvSpPr>
          <p:spPr>
            <a:xfrm>
              <a:off x="37339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tax for accepting an array in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86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6EC3-9039-424A-8AFC-8DB07AE858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a to modifyArray by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Array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of the modified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modifi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array element by valu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element a[ 3 ] b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Element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92" name=""/>
            <p:cNvSpPr/>
            <p:nvPr/>
          </p:nvSpPr>
          <p:spPr>
            <a:xfrm>
              <a:off x="35812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ray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size to function. Arrays are passed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276720"/>
            <a:ext cx="4114800" cy="838080"/>
            <a:chOff x="2438280" y="3276720"/>
            <a:chExt cx="4114800" cy="838080"/>
          </a:xfrm>
        </p:grpSpPr>
        <p:sp>
          <p:nvSpPr>
            <p:cNvPr id="295" name=""/>
            <p:cNvSpPr/>
            <p:nvPr/>
          </p:nvSpPr>
          <p:spPr>
            <a:xfrm>
              <a:off x="38862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 single array element by value; the original cannot be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438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9990-131A-421E-B7C8-497A30CAD9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Array, "b" points to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original array "a" in memor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each array element by 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OfArray; k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[ k ]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ifyArra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Element, "e" is a local cop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element a[ 3 ] passed from mai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parameter by 2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in modifyElement is "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odifyElement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19520" y="152280"/>
            <a:ext cx="4495680" cy="824040"/>
            <a:chOff x="2819520" y="152280"/>
            <a:chExt cx="4495680" cy="824040"/>
          </a:xfrm>
        </p:grpSpPr>
        <p:sp>
          <p:nvSpPr>
            <p:cNvPr id="300" name=""/>
            <p:cNvSpPr/>
            <p:nvPr/>
          </p:nvSpPr>
          <p:spPr>
            <a:xfrm>
              <a:off x="46483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he array points to the original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19520" y="3049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43200" y="2209680"/>
            <a:ext cx="4114800" cy="838440"/>
            <a:chOff x="2743200" y="2209680"/>
            <a:chExt cx="4114800" cy="838440"/>
          </a:xfrm>
        </p:grpSpPr>
        <p:sp>
          <p:nvSpPr>
            <p:cNvPr id="303" name=""/>
            <p:cNvSpPr/>
            <p:nvPr/>
          </p:nvSpPr>
          <p:spPr>
            <a:xfrm>
              <a:off x="4191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array elements are passed by value, and the originals cannot b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43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BA49-1B62-4776-B5CB-0833D74E16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like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, printing for an integ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erform operations inside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5 – 2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5DCF-1B4E-4C8D-B070-8CB5D77A76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entire array by refer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original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  2  3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modified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2  4  6 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array element by valu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in modifyElement is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781F-EE56-4205-864E-4226A60BDF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5: fig0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nst type qualifi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yToModifyArray( 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95480" y="838080"/>
            <a:ext cx="4114800" cy="1067400"/>
            <a:chOff x="2895480" y="838080"/>
            <a:chExt cx="4114800" cy="1067400"/>
          </a:xfrm>
        </p:grpSpPr>
        <p:sp>
          <p:nvSpPr>
            <p:cNvPr id="310" name=""/>
            <p:cNvSpPr/>
            <p:nvPr/>
          </p:nvSpPr>
          <p:spPr>
            <a:xfrm>
              <a:off x="43434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parameter declar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rray cannot be modified, even though it is passed by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95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3EC8-D746-4E2A-A62A-0EBAF37E28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tryToModifyArray, "b" cannot be 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odify the original array "a" in main.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ryToModifyArray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70102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6) : error C2166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7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8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A668-7A55-4C70-8271-1EBF6AF6FD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82C5-A035-4214-A70C-9E530E2B82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left to right, and exchange elements a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ss for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7 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6  7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lements exchang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3:      2  3  4  6  7   (no changes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4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5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 (like 2 in this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1ED-6BFD-4659-A6AE-39A535FE3C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x and y are 3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temporary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, tem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;  // temp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     // x ge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temp;  // y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3E5-B573-4A9A-9640-6F882585479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6: fig04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sorts an array's values into ascending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arra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420C-E3B3-469B-9A5F-91FD148E48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bble sort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side-by-side elements and swap them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rst element is greater than second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76320"/>
            <a:ext cx="4114800" cy="590400"/>
            <a:chOff x="4038480" y="76320"/>
            <a:chExt cx="4114800" cy="590400"/>
          </a:xfrm>
        </p:grpSpPr>
        <p:sp>
          <p:nvSpPr>
            <p:cNvPr id="326" name=""/>
            <p:cNvSpPr/>
            <p:nvPr/>
          </p:nvSpPr>
          <p:spPr>
            <a:xfrm>
              <a:off x="54864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 a pass for each element in the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38480" y="22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733560" y="1676520"/>
            <a:ext cx="4115160" cy="1554120"/>
            <a:chOff x="3733560" y="1676520"/>
            <a:chExt cx="4115160" cy="1554120"/>
          </a:xfrm>
        </p:grpSpPr>
        <p:sp>
          <p:nvSpPr>
            <p:cNvPr id="329" name=""/>
            <p:cNvSpPr/>
            <p:nvPr/>
          </p:nvSpPr>
          <p:spPr>
            <a:xfrm>
              <a:off x="5181480" y="167652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element on the lef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larger than the element on the righ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 +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then we swap them. Remember the need of a temp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733560" y="19810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E43C4-E08D-424A-9083-656536B5320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k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590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8795-F004-4046-B9CB-E61E7782D8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(sum/number of e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ven number of elements, take average of middl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BF01-2D4E-488F-8905-E979D3C869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5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6515-E19E-454B-8CEA-B7CA2F36C6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7: fig04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introduces the topic of survey data analysi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 computes the mean, median, and mode of th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773A-DA35-4F47-81EB-D7793D1C0D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[ responseSize ]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di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e( frequency,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331C-01E8-4E67-A946-CA95AD7518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of al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*******\n  Mean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ta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nswe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mat and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ean is the average value of the data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ems. The mean is equal to the total of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the data items divided by the nu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f data items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. The mean value for\nthis run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/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81280" y="3733920"/>
            <a:ext cx="4114800" cy="838080"/>
            <a:chOff x="3581280" y="3733920"/>
            <a:chExt cx="4114800" cy="838080"/>
          </a:xfrm>
        </p:grpSpPr>
        <p:sp>
          <p:nvSpPr>
            <p:cNvPr id="343" name=""/>
            <p:cNvSpPr/>
            <p:nvPr/>
          </p:nvSpPr>
          <p:spPr>
            <a:xfrm>
              <a:off x="50292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cast to a double to get decimal points for the average (instead of an integ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451B-DE95-41E0-9563-4C7650E554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and determine median element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Median\n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nsorted array of responses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orted array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media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median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\nthe sor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 array.\nFor this run the media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nswer[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360" y="1066680"/>
            <a:ext cx="4115160" cy="838440"/>
            <a:chOff x="2133360" y="1066680"/>
            <a:chExt cx="4115160" cy="838440"/>
          </a:xfrm>
        </p:grpSpPr>
        <p:sp>
          <p:nvSpPr>
            <p:cNvPr id="348" name=""/>
            <p:cNvSpPr/>
            <p:nvPr/>
          </p:nvSpPr>
          <p:spPr>
            <a:xfrm>
              <a:off x="35812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rt array by passing it to a function. This keeps the program mod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F2FA-4A2B-47E0-B82A-BA0C7925148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rges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largest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 Mode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requencie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eq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marize frequen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[ answer[ j 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headers for result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pon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   1    2    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   0    5    0    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5FD4-4FA6-4FD3-9E64-F170491D751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req[ rating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mode value and largest f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eq[ rating ] &gt; largest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rgest = freq[ rating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Value = rating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utput histogram bar representing fr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freq[ rating ]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mod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mode is the most frequent value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r this run the mod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od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ch occur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large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ime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38280" y="685800"/>
            <a:ext cx="4114800" cy="838080"/>
            <a:chOff x="2438280" y="685800"/>
            <a:chExt cx="4114800" cy="838080"/>
          </a:xfrm>
        </p:grpSpPr>
        <p:sp>
          <p:nvSpPr>
            <p:cNvPr id="355" name=""/>
            <p:cNvSpPr/>
            <p:nvPr/>
          </p:nvSpPr>
          <p:spPr>
            <a:xfrm>
              <a:off x="388620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de is the value that occurs most often (has the highest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3828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D90B-0843-441F-A4CB-5E4C30D831C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sorts an array with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elements if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931E-3A6A-4F91-9702-854D6DFDF25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contents (20 values per row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every 20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2DFF-7B47-4C6D-B632-7C666D8AB4F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an is the average value of t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. The mean is equal to the total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the data items divided by th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data items (99). The mean value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run is: 681 / 99 = 6.87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unsorted array of responses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8 7 8 9 8 9 7 8 9 5 9 8 7 8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3 9 8 7 8 7 7 8 9 8 9 8 9 7 8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7 8 7 9 8 9 2 7 8 9 8 9 8 9 7 5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7 2 5 3 9 4 6 4 7 8 9 6 8 7 8 9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4 4 2 5 3 8 7 5 6 4 5 6 1 6 5 7 8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array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2 2 3 3 3 3 4 4 4 4 4 5 5 5 5 5 5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6 6 6 6 6 6 6 6 7 7 7 7 7 7 7 7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7 7 7 7 7 7 7 7 7 7 7 7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8 8 8 8 8 8 8 8 8 8 8 8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9 9 9 9 9 9 9 9 9 9 9 9 9 9 9 9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dian is element 49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99 element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edian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DCBF-B6ED-4D34-981E-1BE98B589C1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 Frequency       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    2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0    5    0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1         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3          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4          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5          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8          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          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23          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27          ****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19          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 is the most frequent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ode is 8 which occurred 27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2324-4321-4D5A-8942-48302A27DC1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 array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[ 10 ];  // array of 1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[ 3284 ]; // array of 3284 fl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mma separated list, 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8D95-1D88-4385-A8F2-3197A42B3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one end, go to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arch key not present, examines ever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A78A-D682-4659-9833-592878529C3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N steps, where 2     &gt; #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95600" y="4692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148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77AF-2A03-4506-930E-727E81F3B22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9: fig04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ar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integer search ke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arch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locate searchKey in array a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= linearSearch( a, search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066680"/>
            <a:ext cx="4114800" cy="838440"/>
            <a:chOff x="2286000" y="1066680"/>
            <a:chExt cx="4114800" cy="838440"/>
          </a:xfrm>
        </p:grpSpPr>
        <p:sp>
          <p:nvSpPr>
            <p:cNvPr id="374" name=""/>
            <p:cNvSpPr/>
            <p:nvPr/>
          </p:nvSpPr>
          <p:spPr>
            <a:xfrm>
              <a:off x="37339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s array, search key, and array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860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4E22-94CE-4FC9-9A2A-0B2A60BB0E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lemen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value in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l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key to every element of array until location i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or until end of array is reached; return subscrip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 if key or -1 if key not foun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OfArray; j++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j ] == ke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ound,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ocation of key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not found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inearSearch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D85C-119C-4DDE-A2A3-BA5EC30E91C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in element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not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D920-C73E-4956-9A3B-238D8A27E17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0: fig04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EDF3-9365-42C4-8017-6F8F8DE0CC4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arch for key in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narySearch( a, 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ound in array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7F7B-EDDA-4D5F-B49A-65AC76EB47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perform binary search of a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until low subscript is greater than high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ile ( low &lt;= hig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iddle element of subarray being sear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 = ( low + hig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ubarray used in this loop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Row( b, low, middle, high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61960" y="1523880"/>
            <a:ext cx="4115160" cy="838440"/>
            <a:chOff x="2361960" y="1523880"/>
            <a:chExt cx="4115160" cy="838440"/>
          </a:xfrm>
        </p:grpSpPr>
        <p:sp>
          <p:nvSpPr>
            <p:cNvPr id="387" name=""/>
            <p:cNvSpPr/>
            <p:nvPr/>
          </p:nvSpPr>
          <p:spPr>
            <a:xfrm>
              <a:off x="38098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middle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619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F360-E0A8-4394-B23A-FAF6A350F3A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matches middle element, return mid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== b[ middle ]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less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ig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&lt; b[ middl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dl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low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greater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low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d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high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Key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inarySear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123720" y="609480"/>
            <a:ext cx="3886560" cy="1554120"/>
            <a:chOff x="3123720" y="609480"/>
            <a:chExt cx="3886560" cy="1554120"/>
          </a:xfrm>
        </p:grpSpPr>
        <p:sp>
          <p:nvSpPr>
            <p:cNvPr id="392" name=""/>
            <p:cNvSpPr/>
            <p:nvPr/>
          </p:nvSpPr>
          <p:spPr>
            <a:xfrm>
              <a:off x="4343400" y="609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rule of binary searc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key equals middle, m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search low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greater, search high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123720" y="609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2362320"/>
            <a:ext cx="4114800" cy="1067400"/>
            <a:chOff x="2895480" y="2362320"/>
            <a:chExt cx="4114800" cy="1067400"/>
          </a:xfrm>
        </p:grpSpPr>
        <p:sp>
          <p:nvSpPr>
            <p:cNvPr id="395" name=""/>
            <p:cNvSpPr/>
            <p:nvPr/>
          </p:nvSpPr>
          <p:spPr>
            <a:xfrm>
              <a:off x="43434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sets low, middle and high dynamically. If searching the high end, the new low is the element above the midd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D466-6E1C-44E3-BF6F-1CB1A70F076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ader for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ubscrip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e of -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ize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0669-B0F8-4761-9C49-C8713087F7D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ach element when array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o many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every element to sam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rray size omitted, initializers determin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3BDE-EC82-4CCD-8DEC-2CAC2AAE21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row of output showing the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t of the array being pro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m &lt; size; m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paces if outside current subarray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&lt; low || m &gt; hig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iddle element marked with a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== mid )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rk midd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ther elements in sub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6A38-D607-42EE-8B49-F5B4A0DEE0B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found in array element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18  20  22*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  26*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3B82-4FEB-4A80-B10B-9D9625E1FA3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10*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found in array element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EB8D-621F-4B96-85B1-FD3A24B5513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[ i ][ j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array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ray of 4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rst element of tha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4316400"/>
            <a:ext cx="6124680" cy="973080"/>
            <a:chOff x="914400" y="4316400"/>
            <a:chExt cx="6124680" cy="973080"/>
          </a:xfrm>
        </p:grpSpPr>
        <p:sp>
          <p:nvSpPr>
            <p:cNvPr id="408" name=""/>
            <p:cNvSpPr/>
            <p:nvPr/>
          </p:nvSpPr>
          <p:spPr>
            <a:xfrm>
              <a:off x="914400" y="4564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4832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14400" y="5100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997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101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05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128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797120" y="4486680"/>
              <a:ext cx="1310400" cy="802800"/>
              <a:chOff x="1797120" y="4486680"/>
              <a:chExt cx="1310400" cy="802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797120" y="4486680"/>
                <a:ext cx="1310400" cy="267480"/>
                <a:chOff x="1797120" y="4486680"/>
                <a:chExt cx="1310400" cy="267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7971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504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797120" y="4754160"/>
                <a:ext cx="1310400" cy="267480"/>
                <a:chOff x="1797120" y="4754160"/>
                <a:chExt cx="1310400" cy="267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971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8504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7120" y="5022000"/>
                <a:ext cx="1310400" cy="267480"/>
                <a:chOff x="1797120" y="5022000"/>
                <a:chExt cx="1310400" cy="267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971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8504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3107520" y="4486680"/>
              <a:ext cx="1310400" cy="802800"/>
              <a:chOff x="3107520" y="4486680"/>
              <a:chExt cx="1310400" cy="802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107520" y="4486680"/>
                <a:ext cx="1310400" cy="267480"/>
                <a:chOff x="3107520" y="4486680"/>
                <a:chExt cx="1310400" cy="267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075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1608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107520" y="4754160"/>
                <a:ext cx="1310400" cy="267480"/>
                <a:chOff x="3107520" y="4754160"/>
                <a:chExt cx="1310400" cy="26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075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08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07520" y="5022000"/>
                <a:ext cx="1310400" cy="267480"/>
                <a:chOff x="3107520" y="5022000"/>
                <a:chExt cx="1310400" cy="26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075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608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4418280" y="4486680"/>
              <a:ext cx="1310400" cy="802800"/>
              <a:chOff x="4418280" y="4486680"/>
              <a:chExt cx="1310400" cy="8028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418280" y="4486680"/>
                <a:ext cx="1310400" cy="267480"/>
                <a:chOff x="4418280" y="4486680"/>
                <a:chExt cx="1310400" cy="267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182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71560" y="4525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418280" y="4754160"/>
                <a:ext cx="1310400" cy="267480"/>
                <a:chOff x="4418280" y="4754160"/>
                <a:chExt cx="1310400" cy="267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182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71560" y="4792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418280" y="5022000"/>
                <a:ext cx="1310400" cy="267480"/>
                <a:chOff x="4418280" y="5022000"/>
                <a:chExt cx="1310400" cy="267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4182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71560" y="5060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728680" y="4486680"/>
              <a:ext cx="1310400" cy="802800"/>
              <a:chOff x="5728680" y="4486680"/>
              <a:chExt cx="1310400" cy="8028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728680" y="4486680"/>
                <a:ext cx="1310400" cy="267480"/>
                <a:chOff x="5728680" y="4486680"/>
                <a:chExt cx="131040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7286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196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728680" y="4754160"/>
                <a:ext cx="1310400" cy="267480"/>
                <a:chOff x="5728680" y="4754160"/>
                <a:chExt cx="1310400" cy="2674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286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196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728680" y="5022000"/>
                <a:ext cx="1310400" cy="267480"/>
                <a:chOff x="5728680" y="5022000"/>
                <a:chExt cx="1310400" cy="267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7286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196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3152880" y="6145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0760" y="5916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0720" y="5564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5230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304440" y="5246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86040" y="5230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86040" y="5612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7658-90A5-481B-9CFA-EAB040EC268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772400" y="2362320"/>
            <a:ext cx="914400" cy="631440"/>
            <a:chOff x="7772400" y="2362320"/>
            <a:chExt cx="914400" cy="631440"/>
          </a:xfrm>
        </p:grpSpPr>
        <p:sp>
          <p:nvSpPr>
            <p:cNvPr id="465" name=""/>
            <p:cNvSpPr/>
            <p:nvPr/>
          </p:nvSpPr>
          <p:spPr>
            <a:xfrm>
              <a:off x="7772400" y="236232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2400" y="2667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72400" y="3809880"/>
            <a:ext cx="914400" cy="631440"/>
            <a:chOff x="7772400" y="3809880"/>
            <a:chExt cx="914400" cy="631440"/>
          </a:xfrm>
        </p:grpSpPr>
        <p:sp>
          <p:nvSpPr>
            <p:cNvPr id="469" name=""/>
            <p:cNvSpPr/>
            <p:nvPr/>
          </p:nvSpPr>
          <p:spPr>
            <a:xfrm>
              <a:off x="7772400" y="3809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543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59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0B9F-888D-476F-9A64-24EB57D579D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using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,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pecify sizes of subscri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ubscript not necessary, as with single-scripte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Array( int [][ 3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67280" y="1805040"/>
            <a:ext cx="914400" cy="631440"/>
            <a:chOff x="5867280" y="1805040"/>
            <a:chExt cx="914400" cy="631440"/>
          </a:xfrm>
        </p:grpSpPr>
        <p:sp>
          <p:nvSpPr>
            <p:cNvPr id="477" name=""/>
            <p:cNvSpPr/>
            <p:nvPr/>
          </p:nvSpPr>
          <p:spPr>
            <a:xfrm>
              <a:off x="5867280" y="180504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1805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2109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FF94-0DA5-4DE0-9502-013A23EE802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2: fig04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multidimensional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1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2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3 by row ar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00400" y="1447920"/>
            <a:ext cx="4114800" cy="1067400"/>
            <a:chOff x="3200400" y="1447920"/>
            <a:chExt cx="4114800" cy="1067400"/>
          </a:xfrm>
        </p:grpSpPr>
        <p:sp>
          <p:nvSpPr>
            <p:cNvPr id="483" name=""/>
            <p:cNvSpPr/>
            <p:nvPr/>
          </p:nvSpPr>
          <p:spPr>
            <a:xfrm>
              <a:off x="46483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various initialization styles. The elemen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assigned to the first row and then the seco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200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42840" y="762120"/>
            <a:ext cx="4115160" cy="838080"/>
            <a:chOff x="2742840" y="762120"/>
            <a:chExt cx="4115160" cy="838080"/>
          </a:xfrm>
        </p:grpSpPr>
        <p:sp>
          <p:nvSpPr>
            <p:cNvPr id="486" name=""/>
            <p:cNvSpPr/>
            <p:nvPr/>
          </p:nvSpPr>
          <p:spPr>
            <a:xfrm>
              <a:off x="419076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74284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CFD9-29DA-4C59-BD62-43015D4E15D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array with two rows and three colum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or each row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[ i ][ j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7672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1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2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3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819160" y="216000"/>
            <a:ext cx="4115160" cy="1067400"/>
            <a:chOff x="2819160" y="216000"/>
            <a:chExt cx="4115160" cy="1067400"/>
          </a:xfrm>
        </p:grpSpPr>
        <p:sp>
          <p:nvSpPr>
            <p:cNvPr id="492" name=""/>
            <p:cNvSpPr/>
            <p:nvPr/>
          </p:nvSpPr>
          <p:spPr>
            <a:xfrm>
              <a:off x="4267080" y="21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loops are often used to iterate through arrays. Nested loops are helpful with multiple-subscripted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19160" y="36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A6D1-1A6E-4479-A62B-A5513122FB4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showing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, program to keep track of students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subscripted array (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are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s are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90880" y="3048120"/>
            <a:ext cx="2292840" cy="1175400"/>
            <a:chOff x="4790880" y="3048120"/>
            <a:chExt cx="2292840" cy="1175400"/>
          </a:xfrm>
        </p:grpSpPr>
        <p:grpSp>
          <p:nvGrpSpPr>
            <p:cNvPr id="497" name=""/>
            <p:cNvGrpSpPr/>
            <p:nvPr/>
          </p:nvGrpSpPr>
          <p:grpSpPr>
            <a:xfrm>
              <a:off x="5891400" y="3589560"/>
              <a:ext cx="914400" cy="631440"/>
              <a:chOff x="5891400" y="3589560"/>
              <a:chExt cx="914400" cy="631440"/>
            </a:xfrm>
          </p:grpSpPr>
          <p:sp>
            <p:nvSpPr>
              <p:cNvPr id="498" name=""/>
              <p:cNvSpPr/>
              <p:nvPr/>
            </p:nvSpPr>
            <p:spPr>
              <a:xfrm>
                <a:off x="5891400" y="358956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95  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89  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48600" y="35895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91400" y="3894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589360" y="30639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51480" y="30481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5800" y="35370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0880" y="38862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66B9-D30A-4724-A046-D370679A38C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3: fig04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uble-subscripted array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stud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exa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596F-DDD5-47D9-A804-D4F2E7AAAF1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3: fig04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 is an array of 10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elements of array n to 0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location i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209680"/>
            <a:ext cx="4114800" cy="838440"/>
            <a:chOff x="1828800" y="22096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32767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10-element array of integ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288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90560" y="2895480"/>
            <a:ext cx="3733920" cy="835200"/>
            <a:chOff x="2590560" y="2895480"/>
            <a:chExt cx="3733920" cy="835200"/>
          </a:xfrm>
        </p:grpSpPr>
        <p:sp>
          <p:nvSpPr>
            <p:cNvPr id="168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rra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a for loop. Note that the array has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9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590560" y="3276720"/>
              <a:ext cx="106668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800A-8D93-4BDE-987B-558E1B68C4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udent grades for three students (row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Grad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studentGr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smallest and largest grad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in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gh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3D6A-C80B-46AF-B532-AFCAA097031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grade for each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erson &lt; students; perso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verage grade for stud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ers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verage( studentGrades[ person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in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high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lt; low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76360" y="1447560"/>
            <a:ext cx="3810240" cy="1554480"/>
            <a:chOff x="3276360" y="1447560"/>
            <a:chExt cx="3810240" cy="1554480"/>
          </a:xfrm>
        </p:grpSpPr>
        <p:sp>
          <p:nvSpPr>
            <p:cNvPr id="512" name=""/>
            <p:cNvSpPr/>
            <p:nvPr/>
          </p:nvSpPr>
          <p:spPr>
            <a:xfrm>
              <a:off x="4419720" y="14479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s the average for one student. We pass the array/row containing the student’s grade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udentGrades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tself a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276360" y="1447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1317-7979-45CF-A6B7-A8C90A4C2C0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ax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low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gt; high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B311-064D-4434-B2CA-72937407090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average grade for particular stud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Grades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tal all grades for one student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tests; i++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etOfGrades[ i ]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test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1BF1-48C9-47E0-854E-41FB521FE1B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exams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eft justification and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       [0]  [1]  [2]  [3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rad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abel fo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udentGrades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ne grades for one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C9E1-C108-4FB4-AF24-38F1A4D75A4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]  [1]  [2]  [3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0] 77   68   86   7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1] 96   87   89   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2] 70   90   86  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st grade: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grade: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0 is 76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1 is 87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2 is 81.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F115-88B6-43C8-A49A-580A0E77A5E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808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6446-C3D7-496E-8B8E-F74B90B3AB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8:48:54Z</dcterms:created>
  <dc:creator>kalid</dc:creator>
  <dc:description/>
  <dc:language>en-US</dc:language>
  <cp:lastModifiedBy>Pearson Education</cp:lastModifiedBy>
  <dcterms:modified xsi:type="dcterms:W3CDTF">2002-08-05T13:01:44Z</dcterms:modified>
  <cp:revision>478</cp:revision>
  <dc:subject/>
  <dc:title>Chapter 4 - Arrays</dc:title>
</cp:coreProperties>
</file>