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3D7-6A57-4550-B8DA-251F63F2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EE1-8643-4A8E-B10F-C96895EA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CDDA-197E-4CC4-A403-74D54FA9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F7B1-8D04-4A2B-BA3D-55676E5F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6D8F-9B82-45A4-96D3-91E9A350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72AD-3A94-460D-9FF9-4020AB39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9EB5-C0FE-4413-BA2A-6452FCE1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0599-E886-4332-BF02-75B611F7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1F6B-875E-4F4A-90E5-CFD40C26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C157-39C7-47DA-8E65-DE974B20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1954-2A83-4AFA-AB9C-447AECB1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1FC-6C2C-40AB-AD38-B405DE09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5CDB-B548-4728-83D4-FAD9A4F1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2133-8985-4A1C-B075-C7F294E1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100C-D304-4D4F-B1DB-04575DC9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94F4-70D0-4A0E-B81F-5F878A8E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F831-E1F9-414C-B379-915847B5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8FF-AD88-45E7-B90F-CCBEB54A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101-3FCC-4587-BF89-DF55E035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D29C-D502-4653-8297-71810B7E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24D-C91B-4F66-81C8-C951D9E6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D6E7-0029-4739-95F0-90D3AA3F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67A-33BC-46A1-8DC1-7327DA8D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00A-BB98-4D56-8982-D8BED8A1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505320" y="0"/>
            <a:ext cx="5638680" cy="813960"/>
            <a:chOff x="3505320" y="0"/>
            <a:chExt cx="5638680" cy="813960"/>
          </a:xfrm>
        </p:grpSpPr>
        <p:grpSp>
          <p:nvGrpSpPr>
            <p:cNvPr id="1" name=""/>
            <p:cNvGrpSpPr/>
            <p:nvPr/>
          </p:nvGrpSpPr>
          <p:grpSpPr>
            <a:xfrm>
              <a:off x="3505320" y="0"/>
              <a:ext cx="5638320" cy="47880"/>
              <a:chOff x="3505320" y="0"/>
              <a:chExt cx="5638320" cy="47880"/>
            </a:xfrm>
          </p:grpSpPr>
          <p:sp>
            <p:nvSpPr>
              <p:cNvPr id="2" name=""/>
              <p:cNvSpPr/>
              <p:nvPr/>
            </p:nvSpPr>
            <p:spPr>
              <a:xfrm>
                <a:off x="6546240" y="0"/>
                <a:ext cx="2597400" cy="47880"/>
              </a:xfrm>
              <a:prstGeom prst="rect">
                <a:avLst/>
              </a:prstGeom>
              <a:gradFill rotWithShape="0">
                <a:gsLst>
                  <a:gs pos="0">
                    <a:srgbClr val="6702fc"/>
                  </a:gs>
                  <a:gs pos="100000">
                    <a:srgbClr val="1d92f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505320" y="0"/>
                <a:ext cx="3040920" cy="47880"/>
              </a:xfrm>
              <a:prstGeom prst="rect">
                <a:avLst/>
              </a:prstGeom>
              <a:gradFill rotWithShape="0">
                <a:gsLst>
                  <a:gs pos="0">
                    <a:srgbClr val="1d92fd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" name=""/>
            <p:cNvSpPr/>
            <p:nvPr/>
          </p:nvSpPr>
          <p:spPr>
            <a:xfrm>
              <a:off x="7187760" y="95400"/>
              <a:ext cx="195588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898880" y="95400"/>
              <a:ext cx="22888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88320" y="191520"/>
              <a:ext cx="125532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19520" y="191520"/>
              <a:ext cx="146880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68480" y="287280"/>
              <a:ext cx="8751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243200" y="287280"/>
              <a:ext cx="10252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18400" y="383040"/>
              <a:ext cx="52524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03520" y="383040"/>
              <a:ext cx="6148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52040" y="479160"/>
              <a:ext cx="29160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10040" y="479160"/>
              <a:ext cx="34164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97480" y="574920"/>
              <a:ext cx="1461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27200" y="574920"/>
              <a:ext cx="1702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56880" y="670680"/>
              <a:ext cx="867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953920" y="670680"/>
              <a:ext cx="10296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37840" y="47880"/>
              <a:ext cx="230580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138560" y="47880"/>
              <a:ext cx="269928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7080" y="143640"/>
              <a:ext cx="154692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785920" y="143640"/>
              <a:ext cx="181080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093160" y="239400"/>
              <a:ext cx="105048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863040" y="239400"/>
              <a:ext cx="123012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502480" y="335160"/>
              <a:ext cx="64116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750080" y="335160"/>
              <a:ext cx="75240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734680" y="430920"/>
              <a:ext cx="4089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256960" y="430920"/>
              <a:ext cx="47772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939160" y="526680"/>
              <a:ext cx="20448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700120" y="526680"/>
              <a:ext cx="2386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9027720" y="622800"/>
              <a:ext cx="11592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890200" y="622800"/>
              <a:ext cx="13716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9085680" y="718560"/>
              <a:ext cx="579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9017280" y="718560"/>
              <a:ext cx="6840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114840" y="766440"/>
              <a:ext cx="2880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080280" y="766440"/>
              <a:ext cx="3420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" name=""/>
          <p:cNvSpPr/>
          <p:nvPr/>
        </p:nvSpPr>
        <p:spPr>
          <a:xfrm>
            <a:off x="-4114800" y="1371600"/>
            <a:ext cx="8229240" cy="531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2" y="0"/>
                </a:moveTo>
                <a:arcTo wR="10800" hR="10800" stAng="-5396203" swAng="10787241"/>
                <a:lnTo>
                  <a:pt x="10800" y="10800"/>
                </a:lnTo>
                <a:close/>
              </a:path>
              <a:path fill="none" w="21600" h="21600">
                <a:moveTo>
                  <a:pt x="10812" y="0"/>
                </a:moveTo>
                <a:arcTo wR="10800" hR="10800" stAng="-5396203" swAng="10787241"/>
              </a:path>
            </a:pathLst>
          </a:custGeom>
          <a:gradFill rotWithShape="0">
            <a:gsLst>
              <a:gs pos="0">
                <a:srgbClr val="1d92f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E649-DECD-49ED-8637-6E694DBFF28B}" type="slidenum">
              <a:rPr b="0" i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7794720" y="2590920"/>
            <a:ext cx="15544440" cy="83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2" y="0"/>
                </a:moveTo>
                <a:arcTo wR="10800" hR="10800" stAng="-5396203" swAng="10787241"/>
                <a:lnTo>
                  <a:pt x="10800" y="10800"/>
                </a:lnTo>
                <a:close/>
              </a:path>
              <a:path fill="none" w="21600" h="21600">
                <a:moveTo>
                  <a:pt x="10812" y="0"/>
                </a:moveTo>
                <a:arcTo wR="10800" hR="10800" stAng="-5396203" swAng="10787241"/>
              </a:path>
            </a:pathLst>
          </a:custGeom>
          <a:gradFill rotWithShape="0">
            <a:gsLst>
              <a:gs pos="0">
                <a:srgbClr val="1d92f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4459-E1EF-4EF8-BCFD-1A52BAB76B3E}" type="slidenum">
              <a:rPr b="0" i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66760" y="2057400"/>
            <a:ext cx="355464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905120" y="609480"/>
            <a:ext cx="5105160" cy="10670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The cranial ne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430960" y="2057400"/>
            <a:ext cx="3170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4038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or nucleus (branchial) in the upper pons, for the muscles of the first branchial ar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sory nucleus (somatic) divided into th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Mesencepha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Spi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002200" y="1905120"/>
            <a:ext cx="3645000" cy="4343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191120" y="685800"/>
            <a:ext cx="45720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66"/>
                </a:solidFill>
                <a:uFillTx/>
                <a:latin typeface="Tahoma"/>
              </a:rPr>
              <a:t>Trigeminal Nerve</a:t>
            </a:r>
            <a:r>
              <a:rPr b="1" i="1" lang="en-US" sz="2000" spc="-1" strike="noStrike">
                <a:solidFill>
                  <a:srgbClr val="ffff66"/>
                </a:solidFill>
                <a:latin typeface="Tahoma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(mixed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Cr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4800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sencephalic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xtend through the midbr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rst order neur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diate proprioceptive impulse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ain sens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pper pons lateral to the mo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cond order neur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diate tou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Spin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xtend from lower pons, medulla to spinal c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cond order neur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diate pain &amp; temperatur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221440" y="1676520"/>
            <a:ext cx="3416040" cy="4572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962520" y="609480"/>
            <a:ext cx="4647960" cy="7621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66"/>
                </a:solidFill>
                <a:uFillTx/>
                <a:latin typeface="Tahoma"/>
              </a:rPr>
              <a:t>Trigeminal Nerve</a:t>
            </a:r>
            <a:r>
              <a:rPr b="1" i="1" lang="en-US" sz="2400" spc="-1" strike="noStrike">
                <a:solidFill>
                  <a:srgbClr val="ffff66"/>
                </a:solidFill>
                <a:latin typeface="Tahoma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mixe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ff66"/>
                </a:solidFill>
                <a:uFillTx/>
                <a:latin typeface="Times New Roman"/>
              </a:rPr>
              <a:t>Ophthalmic divi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nerve for the frontonasal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ing through the superior orbital fi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de into three branche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1-Lacrimal nerve.        2-Frontal nerve.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3-Nasociliary ner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133720" y="4195800"/>
            <a:ext cx="5410080" cy="2662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0" y="609480"/>
            <a:ext cx="426708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66"/>
                </a:solidFill>
                <a:uFillTx/>
                <a:latin typeface="Tahoma"/>
              </a:rPr>
              <a:t>Trigeminal Nerve</a:t>
            </a:r>
            <a:r>
              <a:rPr b="1" i="1" lang="en-US" sz="2000" spc="-1" strike="noStrike">
                <a:solidFill>
                  <a:srgbClr val="ffff66"/>
                </a:solidFill>
                <a:latin typeface="Tahoma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mixe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Maxillary divi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is the nerve to the maxillary process, leaves the skull through foramen rotundum and have a very short cou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nglionic bran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ygomatic ne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terior superior alveolar ne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fraorbital ne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78200" y="1752480"/>
            <a:ext cx="3948120" cy="4496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581280" y="533520"/>
            <a:ext cx="495324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66"/>
                </a:solidFill>
                <a:uFillTx/>
                <a:latin typeface="Tahoma"/>
              </a:rPr>
              <a:t>Trigeminal Nerve</a:t>
            </a:r>
            <a:r>
              <a:rPr b="1" i="1" lang="en-US" sz="2400" spc="-1" strike="noStrike">
                <a:solidFill>
                  <a:srgbClr val="ffff66"/>
                </a:solidFill>
                <a:latin typeface="Tahoma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mixed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Cr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ndibular divis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nerve for the first pharyngeal arch, very short and emerges through foramen ov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ompanied by the motor root of the trigeminal ne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de in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Anterior division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l motor except 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66"/>
                </a:solidFill>
                <a:latin typeface="Times New Roman"/>
              </a:rPr>
              <a:t>Posterior division</a:t>
            </a: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l sensory except 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984920" y="1752480"/>
            <a:ext cx="3619440" cy="44960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809880" y="685800"/>
            <a:ext cx="4724640" cy="838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66"/>
                </a:solidFill>
                <a:uFillTx/>
                <a:latin typeface="Tahoma"/>
              </a:rPr>
              <a:t>Trigeminal Nerve</a:t>
            </a:r>
            <a:r>
              <a:rPr b="1" i="1" lang="en-US" sz="2400" spc="-1" strike="noStrike">
                <a:solidFill>
                  <a:srgbClr val="ffff66"/>
                </a:solidFill>
                <a:latin typeface="Tahoma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mixed)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rve to medial pterygoid mus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nterior branch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erves to lateral pterygoid, masseter and two deep tempo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e long buccal nerve “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Posterior branch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uriculotempo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ferior alveolar (nerve to mylohoid “M”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e lingual nerv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78200" y="1676520"/>
            <a:ext cx="3946680" cy="4495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86200" y="533520"/>
            <a:ext cx="43434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66"/>
                </a:solidFill>
                <a:uFillTx/>
                <a:latin typeface="Tahoma"/>
              </a:rPr>
              <a:t>Trigeminal Nerve</a:t>
            </a:r>
            <a:r>
              <a:rPr b="1" i="1" lang="en-US" sz="2400" spc="-1" strike="noStrike">
                <a:solidFill>
                  <a:srgbClr val="ffff66"/>
                </a:solidFill>
                <a:latin typeface="Tahoma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mixe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86200" y="533520"/>
            <a:ext cx="4876920" cy="99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66"/>
                </a:solidFill>
                <a:uFillTx/>
                <a:latin typeface="Tahoma"/>
              </a:rPr>
              <a:t>Trigeminal Nerve</a:t>
            </a:r>
            <a:r>
              <a:rPr b="1" i="1" lang="en-US" sz="2400" spc="-1" strike="noStrike">
                <a:solidFill>
                  <a:srgbClr val="ffff66"/>
                </a:solidFill>
                <a:latin typeface="Tahoma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mixe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1600200"/>
            <a:ext cx="7010640" cy="1828800"/>
          </a:xfrm>
          <a:prstGeom prst="cube">
            <a:avLst>
              <a:gd name="adj" fmla="val 25000"/>
            </a:avLst>
          </a:prstGeom>
          <a:solidFill>
            <a:srgbClr val="33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Clinic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racture midface, zygoma or mandible might le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 anaesthesia to light touch and other moda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3505320"/>
            <a:ext cx="5790960" cy="18288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sions of the entire nerve leads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aesthesia and paralysis and atrophy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f the muscles of mastic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5410080"/>
            <a:ext cx="4191120" cy="9907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cccc"/>
                </a:solidFill>
                <a:latin typeface="Tahoma"/>
              </a:rPr>
              <a:t>Trigeminal neuralg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Herpes zo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3080" y="1676520"/>
            <a:ext cx="6494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matic, leave the brain through the superior orbital fis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ly the lateral rectus mus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191120" y="3130560"/>
            <a:ext cx="4419360" cy="3056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800600" y="533520"/>
            <a:ext cx="3962520" cy="7617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ducent</a:t>
            </a:r>
            <a:r>
              <a:rPr b="0" i="1" lang="en-US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: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moto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Cr V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038480"/>
            <a:ext cx="3048120" cy="1343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cc00"/>
                </a:solidFill>
                <a:uFillTx/>
                <a:latin typeface="Times New Roman"/>
                <a:ea typeface="Arial"/>
              </a:rPr>
              <a:t>Clinically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trabismus and diplop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on lateral ga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09480" y="1828440"/>
            <a:ext cx="4267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oined by the nervus intermedius,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nsory roo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 in the facial canal in the temporal bone before it emerges through the stylomastoid foram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sses into the parotid gland and divides into five 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ranchial motor branch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upply the muscles of the facial expression (from second pharyngeal arc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462640" y="1676520"/>
            <a:ext cx="3136680" cy="4572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038480" y="609480"/>
            <a:ext cx="3657600" cy="838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acial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ixe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 V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4267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sceral efferen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cretomotor to submandibular &amp; sublingual salivary gla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ensory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sceral affe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aste buds anterior two third of tongue &amp; soft pal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matic affe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kin of external auditory meatus and tympanic membra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433840" y="1600200"/>
            <a:ext cx="3189600" cy="4648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495680" y="685800"/>
            <a:ext cx="36576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Facial</a:t>
            </a:r>
            <a:r>
              <a:rPr b="0" i="1" lang="en-US" sz="2000" spc="-1" strike="noStrike">
                <a:solidFill>
                  <a:srgbClr val="ffff66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mixe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 V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4876920"/>
            <a:ext cx="4191120" cy="17524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Clinically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l’s Pal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ud soun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ysis of stapidus mus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se are twelve pairs and numbered from before backw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 the nerves are distributed in the head and neck except the tenth which supply structures in the thorax and abdo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Sensor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1" lang="en-US" sz="16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, 2</a:t>
            </a:r>
            <a:r>
              <a:rPr b="1" lang="en-US" sz="1600" spc="-1" strike="noStrike" baseline="30000">
                <a:solidFill>
                  <a:srgbClr val="ffcc00"/>
                </a:solidFill>
                <a:latin typeface="Times New Roman"/>
              </a:rPr>
              <a:t>nd</a:t>
            </a: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 and 8</a:t>
            </a:r>
            <a:r>
              <a:rPr b="1" lang="en-US" sz="16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Times New Roman"/>
              </a:rPr>
              <a:t>Mot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3</a:t>
            </a:r>
            <a:r>
              <a:rPr b="1" i="1" lang="en-US" sz="1600" spc="-1" strike="noStrike" baseline="30000">
                <a:solidFill>
                  <a:srgbClr val="ff00ff"/>
                </a:solidFill>
                <a:latin typeface="Times New Roman"/>
              </a:rPr>
              <a:t>rd</a:t>
            </a: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, 4</a:t>
            </a:r>
            <a:r>
              <a:rPr b="1" i="1" lang="en-US" sz="1600" spc="-1" strike="noStrike" baseline="30000">
                <a:solidFill>
                  <a:srgbClr val="ff00ff"/>
                </a:solidFill>
                <a:latin typeface="Times New Roman"/>
              </a:rPr>
              <a:t>th</a:t>
            </a: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, 6</a:t>
            </a:r>
            <a:r>
              <a:rPr b="1" i="1" lang="en-US" sz="1600" spc="-1" strike="noStrike" baseline="30000">
                <a:solidFill>
                  <a:srgbClr val="ff00ff"/>
                </a:solidFill>
                <a:latin typeface="Times New Roman"/>
              </a:rPr>
              <a:t>th</a:t>
            </a: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, 11</a:t>
            </a:r>
            <a:r>
              <a:rPr b="1" i="1" lang="en-US" sz="1600" spc="-1" strike="noStrike" baseline="30000">
                <a:solidFill>
                  <a:srgbClr val="ff00ff"/>
                </a:solidFill>
                <a:latin typeface="Times New Roman"/>
              </a:rPr>
              <a:t>th</a:t>
            </a: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 and 12</a:t>
            </a:r>
            <a:r>
              <a:rPr b="1" i="1" lang="en-US" sz="1600" spc="-1" strike="noStrike" baseline="30000">
                <a:solidFill>
                  <a:srgbClr val="ff00ff"/>
                </a:solidFill>
                <a:latin typeface="Times New Roman"/>
              </a:rPr>
              <a:t>th</a:t>
            </a: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x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16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, 7</a:t>
            </a:r>
            <a:r>
              <a:rPr b="1" lang="en-US" sz="16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, 9</a:t>
            </a:r>
            <a:r>
              <a:rPr b="1" lang="en-US" sz="16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and 10</a:t>
            </a:r>
            <a:r>
              <a:rPr b="1" lang="en-US" sz="16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609480"/>
            <a:ext cx="388620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The cranial ner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pecial sensory nerve, consist of two kinds of fibers, the vestibular and the cochl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diate sound reception and bal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581280" y="3625920"/>
            <a:ext cx="5029200" cy="2576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352680" y="609480"/>
            <a:ext cx="541044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66"/>
                </a:solidFill>
                <a:uFillTx/>
                <a:latin typeface="Tahoma"/>
              </a:rPr>
              <a:t>Vestibulocochlear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sensory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V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4038480"/>
            <a:ext cx="2438640" cy="16765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Clinically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af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ert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ens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peci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aste from the posterior 1/3 of tongu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General sens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rom the back of the tongue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wall of the pharynx and the middle ea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imes New Roman"/>
              </a:rPr>
              <a:t>Chemoreceptor &amp; press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rotid sinus concerned with regulation of respiration and circu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538960" y="1828800"/>
            <a:ext cx="3044520" cy="4419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124080" y="762120"/>
            <a:ext cx="5105520" cy="838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Glossopharyngeal Nerve: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(mixed)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 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4173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Mo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 the stylopharyngeus  muscle of the pharyn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Parasympathetic fib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 the otic ganglion, the postganglionic fibres travel with the auriculo-tempor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erve to the paroti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442120" y="1752480"/>
            <a:ext cx="3171600" cy="4496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505320" y="609480"/>
            <a:ext cx="5181480" cy="10670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Glossopharyngeal Nerve: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(mixed)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Cr 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4800600"/>
            <a:ext cx="4114800" cy="14479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linicall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euralg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ss of gagging refl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219320" y="2361960"/>
            <a:ext cx="7053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as the most extensive distribution of all the cranial nerves, supply the heart and the major part of the respiratory and alimentary tra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as one sensory and two motor nuclei in the medul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ave the cranial cavity through the jugular foram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asses vertically down the neck within the carotid she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762120"/>
            <a:ext cx="4724280" cy="838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Vagus ner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ix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ve 4 types of fib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Motor fibre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to the striated muscles of larynx and pharynx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aralysis of soft palate, dysphagia and aphon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Visceral-motor fibre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carry impulses to thoracic and abdominal visc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Sensory fibr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r pain from external auditory meat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Visceral fibr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aste buds in the epiglotti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retch receptors in the heart, aorta and common carotid bifurcation (Blood Pressure and heart ra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retch receptors in the lung and upper G-T I (rate and depth of respi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685800"/>
            <a:ext cx="48006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Vagus ner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ix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mall cranial root which is distributed to the muscles of the palate, pharynx and laryn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large spinal root to the sternocleidomastoid and trapezius mus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4110120" cy="4114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62520" y="762120"/>
            <a:ext cx="457200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Accessory nerve: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(Moto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Cr X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038480" cy="4029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114800" y="762120"/>
            <a:ext cx="457200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Accessory nerve: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(Moto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Cr X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2057400"/>
            <a:ext cx="3429000" cy="4338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cc00"/>
                </a:solidFill>
                <a:latin typeface="Times New Roman"/>
                <a:ea typeface="Arial"/>
              </a:rPr>
              <a:t> </a:t>
            </a:r>
            <a:r>
              <a:rPr b="1" i="1" lang="en-GB" sz="2400" spc="-1" strike="noStrike">
                <a:solidFill>
                  <a:srgbClr val="ffcc00"/>
                </a:solidFill>
                <a:latin typeface="Times New Roman"/>
                <a:ea typeface="Arial"/>
              </a:rPr>
              <a:t>Clinically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aresis of the laryngeal and pharyngeal muscles  leading to dysphonia and dysphagi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aresis of the trapezius and sternocleidomastoid muscle following neck dissection for tumour surge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752120"/>
            <a:ext cx="38098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ave the posterior cranial fossa via the hypoglossal canal in the occipital b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ly the intrinsic and the extrinsic muscles of the tongue with the exception of the palatogloss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962160" cy="3952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343400" y="838080"/>
            <a:ext cx="457200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Hypoglossal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nerve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(Moto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Cr X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4572000"/>
            <a:ext cx="3657600" cy="16390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cc00"/>
                </a:solidFill>
                <a:latin typeface="Times New Roman"/>
                <a:ea typeface="Arial"/>
              </a:rPr>
              <a:t> </a:t>
            </a:r>
            <a:r>
              <a:rPr b="1" i="1" lang="en-GB" sz="2000" spc="-1" strike="noStrike">
                <a:solidFill>
                  <a:srgbClr val="ffcc00"/>
                </a:solidFill>
                <a:latin typeface="Times New Roman"/>
                <a:ea typeface="Arial"/>
              </a:rPr>
              <a:t>Clinically</a:t>
            </a:r>
            <a:r>
              <a:rPr b="1" i="1" lang="en-GB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Unilateral lingual pare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hemiatrophy of the tongue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ysarth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440" y="476280"/>
            <a:ext cx="6248520" cy="898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The cranial nerves        </a:t>
            </a: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Overview</a:t>
            </a:r>
            <a:endParaRPr b="0" i="1" lang="en-US" sz="20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3581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r 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Olfact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r I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Op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r II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Oculomo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r IV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rochle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r V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Trigemi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r V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Abduc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43400" y="2438280"/>
            <a:ext cx="4114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Cr VII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Fa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Cr VIII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ibulocochl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r X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Glossopharyng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r 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V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r X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Access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r XI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Hypogloss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67644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two are merely an outdrawn part of the CNS rather than ner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609480"/>
            <a:ext cx="609588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The cranial ne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3733920"/>
            <a:ext cx="5638680" cy="114300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Olfactory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(Sensory)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Cr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5181480"/>
            <a:ext cx="5562720" cy="114300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66"/>
                </a:solidFill>
                <a:latin typeface="Tahoma"/>
              </a:rPr>
              <a:t>Optic: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sensory)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C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3733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bers originate in the upper part of the no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y are unique in being the central processes not peripheral 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4190760" cy="3775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495680" y="914400"/>
            <a:ext cx="441972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Olfactory: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Sensor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Cr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343400"/>
            <a:ext cx="3809880" cy="2057400"/>
          </a:xfrm>
          <a:prstGeom prst="foldedCorner">
            <a:avLst>
              <a:gd name="adj" fmla="val 125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702f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6702fc"/>
                </a:solidFill>
                <a:uFillTx/>
                <a:latin typeface="Tahoma"/>
              </a:rPr>
              <a:t>Clinicall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ilateral anosmia &amp; CSF le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re common signs of he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juries with anterior cran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ssa fra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809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aves the orbital cavity through the optic canal They join each other to form the chias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657600" cy="3459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43400" y="609480"/>
            <a:ext cx="426708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Optic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i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sensor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Cr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4267080"/>
            <a:ext cx="4343400" cy="1981440"/>
          </a:xfrm>
          <a:prstGeom prst="foldedCorner">
            <a:avLst>
              <a:gd name="adj" fmla="val 125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Clinically</a:t>
            </a:r>
            <a:r>
              <a:rPr b="0" i="1" lang="en-US" sz="1800" spc="-1" strike="noStrike" u="sng">
                <a:solidFill>
                  <a:srgbClr val="6702fc"/>
                </a:solidFill>
                <a:uFillTx/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ction through the optic nerve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auses epsilateral blindn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sions behind the optic chias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pituitary gland tumors) lead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ntro-lateral blindness.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238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culo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y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+  Motor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o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matic nerve to four of the six muscles of that moves the eye and the muscle that raises the eyeli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ter the orbit through superior orbital fi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733920" y="3809880"/>
            <a:ext cx="4876560" cy="2438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429000" y="609480"/>
            <a:ext cx="5181480" cy="10670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Oculomotor nerve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moto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3200400" cy="4343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y all the orbital muscles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cept the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uperior oblique,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ateral rectu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evator palpebrae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superior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y parasympathic fibers to the constrictors of the pup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581280" y="3662280"/>
            <a:ext cx="5029200" cy="2575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533520"/>
            <a:ext cx="4419720" cy="838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Oculomotor nerve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moto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r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1676520"/>
            <a:ext cx="4267440" cy="1752480"/>
          </a:xfrm>
          <a:prstGeom prst="foldedCorner">
            <a:avLst>
              <a:gd name="adj" fmla="val 12500"/>
            </a:avLst>
          </a:prstGeom>
          <a:solidFill>
            <a:srgbClr val="33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cc00"/>
                </a:solidFill>
                <a:uFillTx/>
                <a:latin typeface="Times New Roman"/>
              </a:rPr>
              <a:t>Clinicall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ability to look up, down or media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ilatation of the pupil.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tosis (drooping of the eyelid paralysis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f LP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ter through the superior orbital fi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ly the superior oblique mus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71800" y="3124080"/>
            <a:ext cx="5486400" cy="2971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429000" y="685800"/>
            <a:ext cx="5334120" cy="838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Trochlear nerve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motor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Cr 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3124080"/>
            <a:ext cx="5334120" cy="2895840"/>
          </a:xfrm>
          <a:prstGeom prst="cube">
            <a:avLst>
              <a:gd name="adj" fmla="val 25000"/>
            </a:avLst>
          </a:prstGeom>
          <a:solidFill>
            <a:srgbClr val="33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Clinically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ble to look downward and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w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iculty in walking downst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09:11:50Z</dcterms:created>
  <dc:creator>Abdin</dc:creator>
  <dc:description/>
  <dc:language>en-US</dc:language>
  <cp:lastModifiedBy>Helabdin</cp:lastModifiedBy>
  <dcterms:modified xsi:type="dcterms:W3CDTF">2004-12-11T03:59:00Z</dcterms:modified>
  <cp:revision>55</cp:revision>
  <dc:subject/>
  <dc:title>The cranial nerves</dc:title>
</cp:coreProperties>
</file>