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410-5174-41A1-97B6-19E318AD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4D1-0C3E-498A-BDA4-182D972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C1E-7316-4917-AE34-B3BAD256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AAF-DF54-4ED1-98B5-F6EC8E0C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E0B-4AB7-42B8-A70F-61F08C3B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617-70ED-419B-8A8F-51D00E6E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08C6-275D-419A-894A-0A6FA1E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F9DC-FED7-4FE9-AE7B-598EC4F0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519-BEEC-463B-9E24-8FF6805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176-71C9-4ED0-8C98-5C7F727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8F06-FDF3-4A4F-B6E2-2337B6EF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908-ECA5-4CAF-856A-297692D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747C-1BE1-49C1-AA33-173900E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9652-CFF6-4C4F-B8E8-E2AC50B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514-3935-4098-A8D3-D66A69B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3957-5EC2-4AEF-93DF-BD0105AD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BD5-879D-406A-9CE9-E37A0659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FCC-943C-419A-A175-CB1E9F7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490-26DA-4CE7-943A-2C923C3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6FB-3A19-4DD6-89EC-AB5A0124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BA2-A25F-4C79-B5E0-607F53D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CC3-3A74-4E81-9ABC-2B7E8D0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A33-B425-41B2-A15C-80433A8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1E0-43D9-45FD-B545-32F3284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36B-0C6F-4D42-8715-5317EDE88FA3}" type="slidenum"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AEB-322D-48F3-BC25-33C43EAB3531}" type="slidenum"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66760" y="2057400"/>
            <a:ext cx="355464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05120" y="609480"/>
            <a:ext cx="510516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30960" y="2057400"/>
            <a:ext cx="3170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or nucleus (branchial) in the upper pons, for the muscles of the first branchial 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y nucleus (somatic) divided into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esencepha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Sp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02200" y="1905120"/>
            <a:ext cx="364500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1120" y="685800"/>
            <a:ext cx="4572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sencephalic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d through the midb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rst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proprioceptive impuls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pper pons lateral to the mo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cond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t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pi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d from lower pons, medulla to spinal 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cond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pain &amp; temperatu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21440" y="1676520"/>
            <a:ext cx="341604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609480"/>
            <a:ext cx="464796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ff66"/>
                </a:solidFill>
                <a:uFillTx/>
                <a:latin typeface="Times New Roman"/>
              </a:rPr>
              <a:t>Ophthalmic di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nerve for the frontonas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ing through the superior orbital 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nto three branche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1-Lacrimal nerve.        2-Frontal nerve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3-Nasociliary ner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4195800"/>
            <a:ext cx="5410080" cy="2662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609480"/>
            <a:ext cx="42670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xillary di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nerve to the maxillary process, leaves the skull through foramen rotundum and have a very short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glionic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ygomatic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erior superior alveolar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raorbit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78200" y="1752480"/>
            <a:ext cx="394812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520"/>
            <a:ext cx="495324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mix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dibular divi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nerve for the first pharyngeal arch, very short and emerges through foramen o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mpanied by the motor root of the trigem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nterior divisio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motor except 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66"/>
                </a:solidFill>
                <a:latin typeface="Times New Roman"/>
              </a:rPr>
              <a:t>Posterior division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sensory except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84920" y="1752480"/>
            <a:ext cx="3619440" cy="4496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9880" y="685800"/>
            <a:ext cx="47246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rve to medial pterygoid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terior bran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rves to lateral pterygoid, masseter and two deep 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long buccal nerve “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sterior bran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riculo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erior alveolar (nerve to mylohoid “M”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lingual nerv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78200" y="1676520"/>
            <a:ext cx="3946680" cy="4495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86200" y="533520"/>
            <a:ext cx="4343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6200" y="533520"/>
            <a:ext cx="487692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600200"/>
            <a:ext cx="7010640" cy="1828800"/>
          </a:xfrm>
          <a:prstGeom prst="cube">
            <a:avLst>
              <a:gd name="adj" fmla="val 250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racture midface, zygoma or mandible might l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anaesthesia to light touch and other moda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505320"/>
            <a:ext cx="5790960" cy="1828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ions of the entire nerve leads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esthesia and paralysis and atrophy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muscles of mast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5410080"/>
            <a:ext cx="4191120" cy="9907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Trigeminal neural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Herpes zo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3080" y="1676520"/>
            <a:ext cx="6494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atic, leave the brain through the superior orbital fi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ly the lateral rectus mus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191120" y="3130560"/>
            <a:ext cx="4419360" cy="305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00600" y="533520"/>
            <a:ext cx="396252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ducent</a:t>
            </a:r>
            <a:r>
              <a:rPr b="0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 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038480"/>
            <a:ext cx="3048120" cy="1343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Times New Roman"/>
                <a:ea typeface="Arial"/>
              </a:rPr>
              <a:t>Clinically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rabismus and diplop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on lateral ga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ined by the nervus intermedius,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nsory ro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in the facial canal in the temporal bone before it emerges through the stylomastoid fora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ses into the parotid gland and divides into five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nchial motor branch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 the muscles of the facial expression (from second pharyngeal ar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62640" y="1676520"/>
            <a:ext cx="313668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038480" y="609480"/>
            <a:ext cx="3657600" cy="83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acial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 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ceral effer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omotor to submandibular &amp; sublingual salivary gl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nsor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sceral a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te buds anterior two third of tongue &amp; soft pa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matic a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kin of external auditory meatus and tympanic membr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33840" y="1600200"/>
            <a:ext cx="318960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495680" y="685800"/>
            <a:ext cx="36576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Facial</a:t>
            </a:r>
            <a:r>
              <a:rPr b="0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4876920"/>
            <a:ext cx="4191120" cy="1752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Clinically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’s Pal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ud s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ysis of stapidus 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se are twelve pairs and numbered from before back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the nerves are distributed in the head and neck except the tenth which supply structures in the thorax and abd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enso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, 2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and 8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Mo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rd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4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6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11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 and 12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x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7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9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nd 10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609480"/>
            <a:ext cx="38862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pecial sensory nerve, consist of two kinds of fibers, the vestibular and the coch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ate sound reception and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81280" y="3625920"/>
            <a:ext cx="5029200" cy="2576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352680" y="609480"/>
            <a:ext cx="541044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Vestibulocochlea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038480"/>
            <a:ext cx="2438640" cy="16765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af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ert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peci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te from the posterior 1/3 of ton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General sens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rom the back of the tongu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all of the pharynx and the middle e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Chemoreceptor &amp; press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rotid sinus concerned with regulation of respiration and circ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538960" y="1828800"/>
            <a:ext cx="3044520" cy="441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762120"/>
            <a:ext cx="51055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lossopharyngeal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ixed)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4173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he stylopharyngeus  muscle of the pharyn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arasympathetic fib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he otic ganglion, the postganglionic fibres travel with the auriculo-tempor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rve to the parot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42120" y="1752480"/>
            <a:ext cx="3171600" cy="4496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505320" y="609480"/>
            <a:ext cx="518148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lossopharyngeal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mixed)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 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800600"/>
            <a:ext cx="4114800" cy="14479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ural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s of gagging ref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705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the most extensive distribution of all the cranial nerves, supply the heart and the major part of the respiratory and alimentary tra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s one sensory and two motor nuclei in the medu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ave the cranial cavity through the jugular fora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sses vertically down the neck within the carotid sh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762120"/>
            <a:ext cx="4724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Vagus ner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ix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e 4 types of fib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Motor fibr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to the striated muscles of larynx and pharynx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alysis of soft palate, dysphagia and aphon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Visceral-motor fibr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arry impulses to thoracic and abdominal visc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Sensory fib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pain from external auditory me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Visceral fib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te buds in the epiglott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etch receptors in the heart, aorta and common carotid bifurcation (Blood Pressure and heart r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etch receptors in the lung and upper G-T I (rate and depth of respi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685800"/>
            <a:ext cx="48006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Vagus ner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ix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mall cranial root which is distributed to the muscles of the palate, pharynx and 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large spinal root to the sternocleidomastoid and trapezius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11012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62520" y="76212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ccessory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Cr X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038480" cy="4029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14800" y="76212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ccessory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Cr X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057400"/>
            <a:ext cx="3429000" cy="4338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n-GB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Clinically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resis of the laryngeal and pharyngeal muscles  leading to dysphonia and dysphag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resis of the trapezius and sternocleidomastoid muscle following neck dissection for tumour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ave the posterior cranial fossa via the hypoglossal canal in the occipital b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ly the intrinsic and the extrinsic muscles of the tongue with the exception of the palatoglos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962160" cy="3952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43400" y="83808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Hypoglossal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Cr X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572000"/>
            <a:ext cx="3657600" cy="1639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n-GB" sz="2000" spc="-1" strike="noStrike">
                <a:solidFill>
                  <a:srgbClr val="ffcc00"/>
                </a:solidFill>
                <a:latin typeface="Times New Roman"/>
                <a:ea typeface="Arial"/>
              </a:rPr>
              <a:t>Clinically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Unilateral lingual pare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emiatrophy of the tongue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ysarth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476280"/>
            <a:ext cx="6248520" cy="89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The cranial nerves        </a:t>
            </a: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Overview</a:t>
            </a:r>
            <a:endParaRPr b="0" i="1" lang="en-US" sz="2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Olfac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Op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Oculomo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 I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rochl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Trigemi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V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bduc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43400" y="24382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r VII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Fa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r VIII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bulococh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Glosso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V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Access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Hypogloss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67644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are merely an outdrawn part of the CNS rather than ner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609480"/>
            <a:ext cx="6095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733920"/>
            <a:ext cx="5638680" cy="11430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lfactory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Sensory)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181480"/>
            <a:ext cx="5562720" cy="11430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Optic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bers originate in the upper part of the 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y are unique in being the central processes not peripheral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190760" cy="377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914400"/>
            <a:ext cx="44197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lfactory: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343400"/>
            <a:ext cx="3809880" cy="205740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702f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702fc"/>
                </a:solidFill>
                <a:uFillTx/>
                <a:latin typeface="Tahoma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lateral anosmia &amp; CSF l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 common signs of h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juries with anterior cran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ssa fra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aves the orbital cavity through the optic canal They join each other to form the ch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657600" cy="345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43400" y="609480"/>
            <a:ext cx="42670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ptic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i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267080"/>
            <a:ext cx="4343400" cy="198144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Clinically</a:t>
            </a:r>
            <a:r>
              <a:rPr b="0" i="1" lang="en-US" sz="1800" spc="-1" strike="noStrike" u="sng">
                <a:solidFill>
                  <a:srgbClr val="6702fc"/>
                </a:solidFill>
                <a:uFillTx/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ction through the optic nerve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uses epsilateral blind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ions behind the optic chias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pituitary gland tumors) lea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ro-lateral blindness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lo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y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+  Motor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atic nerve to four of the six muscles of that moves the eye and the muscle that raises the eyel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ter the orbit through superior orbital fi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4876560" cy="2438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29000" y="609480"/>
            <a:ext cx="518148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culomotor nerve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3200400" cy="434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all the orbital muscles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 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perior oblique,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teral rec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vator palpebrae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uperior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parasympathic fibers to the constrictors of the pup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62280"/>
            <a:ext cx="5029200" cy="257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33520"/>
            <a:ext cx="44197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culomotor 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676520"/>
            <a:ext cx="4267440" cy="1752480"/>
          </a:xfrm>
          <a:prstGeom prst="foldedCorner">
            <a:avLst>
              <a:gd name="adj" fmla="val 125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imes New Roman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bility to look up, down or medi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latation of the pupil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tosis (drooping of the eyelid paralysis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f L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 through the superior orbital 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ly the superior oblique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548640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29000" y="685800"/>
            <a:ext cx="53341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Trochlear 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ot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124080"/>
            <a:ext cx="5334120" cy="2895840"/>
          </a:xfrm>
          <a:prstGeom prst="cube">
            <a:avLst>
              <a:gd name="adj" fmla="val 250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le to look downward and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in walking downst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9:11:50Z</dcterms:created>
  <dc:creator>Abdin</dc:creator>
  <dc:description/>
  <dc:language>en-US</dc:language>
  <cp:lastModifiedBy>Helabdin</cp:lastModifiedBy>
  <dcterms:modified xsi:type="dcterms:W3CDTF">2004-12-11T03:59:00Z</dcterms:modified>
  <cp:revision>55</cp:revision>
  <dc:subject/>
  <dc:title>The cranial nerves</dc:title>
</cp:coreProperties>
</file>