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8DD-D39B-4191-BC41-0D0AD638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CC4-2C6C-4111-A074-08D28B97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BC8-E59A-4C10-8B46-98192974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8BC-D2D5-472A-B80D-0F69F0F9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4D6-DEB9-4F32-83CA-1AA2CFF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8EC-2B3F-46E4-9AF7-752A158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5D9-5406-4FA4-A886-6EAAA31D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344-9E14-4334-BB5C-3330E049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F9F-E4BC-4C76-A35F-601E485A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26A-4BF0-4F52-869A-C43642D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CDB-E508-4CD3-A043-AF4BE53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7C4-7CB7-4326-8B9E-63432BA2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B477-C5AC-425A-9674-654F5CC0E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150-6D26-4E81-B83B-C6311432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411280" y="4005360"/>
            <a:ext cx="43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huda AlSuwai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4360" y="154152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reating Data Base &amp; Sql Data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AE03-8F87-494A-9F4C-2760926C7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1041480"/>
            <a:ext cx="7488360" cy="555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24000" y="18900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4698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SQL statement to select all table’s fields. Click Next then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DADE-11F7-4C2A-9EA2-E3153D367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682560" y="981000"/>
            <a:ext cx="7561440" cy="5327640"/>
            <a:chOff x="682560" y="981000"/>
            <a:chExt cx="7561440" cy="5327640"/>
          </a:xfrm>
        </p:grpSpPr>
        <p:pic>
          <p:nvPicPr>
            <p:cNvPr id="75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981000"/>
              <a:ext cx="756144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3"/>
            <p:cNvSpPr/>
            <p:nvPr/>
          </p:nvSpPr>
          <p:spPr>
            <a:xfrm>
              <a:off x="6773760" y="5129280"/>
              <a:ext cx="497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5"/>
          <p:cNvSpPr/>
          <p:nvPr/>
        </p:nvSpPr>
        <p:spPr>
          <a:xfrm>
            <a:off x="539640" y="3398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nsertQuery from the Properties window. Write the insert com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874C-DE01-487A-A276-42DEEB1F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82560" y="741240"/>
            <a:ext cx="7705800" cy="5640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11280" y="32544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0FA3-B7BC-4CB1-8A2D-9256CB5C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11280" y="892080"/>
            <a:ext cx="7848360" cy="5345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24000" y="3985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reating them, click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A889-28B2-44B0-A6C5-DACC29764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611280" y="1058760"/>
            <a:ext cx="7740720" cy="5322960"/>
            <a:chOff x="611280" y="1058760"/>
            <a:chExt cx="7740720" cy="5322960"/>
          </a:xfrm>
        </p:grpSpPr>
        <p:pic>
          <p:nvPicPr>
            <p:cNvPr id="86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1058760"/>
              <a:ext cx="7740720" cy="532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" descr=""/>
            <p:cNvPicPr/>
            <p:nvPr/>
          </p:nvPicPr>
          <p:blipFill>
            <a:blip r:embed="rId2"/>
            <a:srcRect l="17136" t="14460" r="16120" b="60045"/>
            <a:stretch/>
          </p:blipFill>
          <p:spPr>
            <a:xfrm>
              <a:off x="1921320" y="3065760"/>
              <a:ext cx="5166720" cy="13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5"/>
          <p:cNvSpPr/>
          <p:nvPr/>
        </p:nvSpPr>
        <p:spPr>
          <a:xfrm>
            <a:off x="468360" y="3398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control to your page, change its default text -which is “button”- to “insert”. Double-click the insert button and write the following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9CAD-FA3D-45CC-B331-6431CEEC9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8360" y="266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DeleteQuery from the Properties window. Write the delete command. Create the Parameter(s)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682560" y="907920"/>
            <a:ext cx="7561440" cy="5535720"/>
            <a:chOff x="682560" y="907920"/>
            <a:chExt cx="7561440" cy="553572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tretch/>
          </p:blipFill>
          <p:spPr>
            <a:xfrm>
              <a:off x="682560" y="907920"/>
              <a:ext cx="7561440" cy="55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Line 8"/>
            <p:cNvSpPr/>
            <p:nvPr/>
          </p:nvSpPr>
          <p:spPr>
            <a:xfrm>
              <a:off x="6730920" y="5084640"/>
              <a:ext cx="433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6519-A3B8-4596-84A4-276AF5CFA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68360" y="3398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UpdateQuery from the Properties window. Write the update command. Create the Parameter(s)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684360" y="946080"/>
            <a:ext cx="7632720" cy="5722920"/>
            <a:chOff x="684360" y="946080"/>
            <a:chExt cx="7632720" cy="5722920"/>
          </a:xfrm>
        </p:grpSpPr>
        <p:pic>
          <p:nvPicPr>
            <p:cNvPr id="97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946080"/>
              <a:ext cx="76327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Line 4"/>
            <p:cNvSpPr/>
            <p:nvPr/>
          </p:nvSpPr>
          <p:spPr>
            <a:xfrm>
              <a:off x="6732720" y="551664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D6A0-4AA7-479A-8C79-338E4F58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48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electQuery from the Properties window. Write the select command. Create the Parameter(s)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95280" y="1089000"/>
            <a:ext cx="8353440" cy="5219640"/>
            <a:chOff x="395280" y="1089000"/>
            <a:chExt cx="8353440" cy="521964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1089000"/>
              <a:ext cx="8353440" cy="52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Line 4"/>
            <p:cNvSpPr/>
            <p:nvPr/>
          </p:nvSpPr>
          <p:spPr>
            <a:xfrm>
              <a:off x="7020000" y="5084640"/>
              <a:ext cx="50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4318-1B67-4D18-94A4-85D88983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15742" t="12273" r="15742" b="21645"/>
          <a:stretch/>
        </p:blipFill>
        <p:spPr>
          <a:xfrm>
            <a:off x="539640" y="1268280"/>
            <a:ext cx="8064720" cy="486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68360" y="75888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the codes you write in the buttons (Insert, Delete, Update, Select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4CE1-60CB-49FD-9A94-6EF07BE36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28720" y="949320"/>
            <a:ext cx="7343640" cy="5216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755640" y="4698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click on App_Data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11EE-EAFF-4ACE-A2F2-FCC2A4D44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9640" y="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Right-click and choose Add New Item. A dialog box will appear, select SQL Database. Type a name for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21163" t="29270" r="19176" b="16638"/>
          <a:stretch/>
        </p:blipFill>
        <p:spPr>
          <a:xfrm>
            <a:off x="395280" y="1628640"/>
            <a:ext cx="8132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0A5-1E1A-4D6E-9786-9AB5ECF02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12720" y="1314360"/>
            <a:ext cx="7704360" cy="5210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24000" y="2811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View, and select Server Explorer window. Double-click on your database then all files which are stored in this database will appear. Right-click on Table folder and choose Add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21DA-CEA3-4CD3-821D-9B013F25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84360" y="1184400"/>
            <a:ext cx="7848360" cy="5043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24000" y="4842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2 fields “StudentID” and “StudentNa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5659-0DA9-4286-A1CD-B0D322982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3280" y="1219320"/>
            <a:ext cx="8029440" cy="5018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68360" y="685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wo textboxes to deal with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686-6BF0-4020-81F0-4D154452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38200" y="1152360"/>
            <a:ext cx="7921440" cy="5229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611280" y="411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SqlDataSource from the Data section in the Toolbox window. From the smart-tag click on Configure Data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223C-051D-46D9-9D73-3439EF980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1389240"/>
            <a:ext cx="7705440" cy="4919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39640" y="620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data connection you want to use to connect to the database, then click N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1C2-D810-458E-B47B-5B64C861A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4360" y="977760"/>
            <a:ext cx="7632720" cy="5475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826920" y="46980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, select the first choice to add your Sql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1:13Z</dcterms:created>
  <dc:creator>a</dc:creator>
  <dc:description/>
  <dc:language>en-US</dc:language>
  <cp:lastModifiedBy>balqrashi</cp:lastModifiedBy>
  <dcterms:modified xsi:type="dcterms:W3CDTF">2016-10-30T06:53:24Z</dcterms:modified>
  <cp:revision>144</cp:revision>
  <dc:subject/>
  <dc:title>Slide 1</dc:title>
</cp:coreProperties>
</file>