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15C-8C07-4A91-90ED-0152A610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5FF9-8586-4C2D-9D3D-64AA691B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2A4-2A74-4502-866C-24381B5A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C6C0-97BA-4119-9A0F-4A39C33F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514-9E2A-4151-B3F8-0D5F4097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B83-E053-4282-A9D2-1B21EC18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55B-728C-4301-A478-DA59A3E4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8E45-A7BE-4A74-A38F-82B6B56C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A160-F646-4236-B0E8-315FB77B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FE6-5D06-4CD1-A67A-04328E0A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314-7BE0-4556-8AAC-010D8023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CF4-5149-4D42-9667-B7FC3AE9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72EC-53F3-4D2B-B6EB-1151AF99A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FF4B-47AA-4E65-B008-F3B4375C5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411280" y="4005360"/>
            <a:ext cx="43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radley Hand ITC"/>
              </a:rPr>
              <a:t>huda AlSuwai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84360" y="154152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Creating Data Base &amp; Sql Data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2B32-79FE-48C9-8592-194792DEA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1041480"/>
            <a:ext cx="7488360" cy="55562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324000" y="189000"/>
            <a:ext cx="85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95280" y="4698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SQL statement to select all table’s fields. Click Next then Fin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9CDC-6893-4259-BEB1-2AF2B8EF5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4"/>
          <p:cNvGrpSpPr/>
          <p:nvPr/>
        </p:nvGrpSpPr>
        <p:grpSpPr>
          <a:xfrm>
            <a:off x="682560" y="981000"/>
            <a:ext cx="7561440" cy="5327640"/>
            <a:chOff x="682560" y="981000"/>
            <a:chExt cx="7561440" cy="5327640"/>
          </a:xfrm>
        </p:grpSpPr>
        <p:pic>
          <p:nvPicPr>
            <p:cNvPr id="75" name="Picture 2" descr=""/>
            <p:cNvPicPr/>
            <p:nvPr/>
          </p:nvPicPr>
          <p:blipFill>
            <a:blip r:embed="rId1"/>
            <a:stretch/>
          </p:blipFill>
          <p:spPr>
            <a:xfrm>
              <a:off x="682560" y="981000"/>
              <a:ext cx="756144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Line 3"/>
            <p:cNvSpPr/>
            <p:nvPr/>
          </p:nvSpPr>
          <p:spPr>
            <a:xfrm>
              <a:off x="6773760" y="5129280"/>
              <a:ext cx="497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5"/>
          <p:cNvSpPr/>
          <p:nvPr/>
        </p:nvSpPr>
        <p:spPr>
          <a:xfrm>
            <a:off x="539640" y="3398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InsertQuery from the Properties window. Write the insert comm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2EE9-AC13-42F3-9054-F9FA54D59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82560" y="741240"/>
            <a:ext cx="7705800" cy="5640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11280" y="32544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9A54-FB44-42C6-8C36-7B75C69FD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11280" y="892080"/>
            <a:ext cx="7848360" cy="5345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24000" y="39852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reating them, click 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5CAF-03C6-4A24-978E-C98A40D51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611280" y="1058760"/>
            <a:ext cx="7740720" cy="5322960"/>
            <a:chOff x="611280" y="1058760"/>
            <a:chExt cx="7740720" cy="5322960"/>
          </a:xfrm>
        </p:grpSpPr>
        <p:pic>
          <p:nvPicPr>
            <p:cNvPr id="86" name="Picture 2" descr=""/>
            <p:cNvPicPr/>
            <p:nvPr/>
          </p:nvPicPr>
          <p:blipFill>
            <a:blip r:embed="rId1"/>
            <a:stretch/>
          </p:blipFill>
          <p:spPr>
            <a:xfrm>
              <a:off x="611280" y="1058760"/>
              <a:ext cx="7740720" cy="532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" descr=""/>
            <p:cNvPicPr/>
            <p:nvPr/>
          </p:nvPicPr>
          <p:blipFill>
            <a:blip r:embed="rId2"/>
            <a:srcRect l="17136" t="14460" r="16120" b="60045"/>
            <a:stretch/>
          </p:blipFill>
          <p:spPr>
            <a:xfrm>
              <a:off x="1921320" y="3065760"/>
              <a:ext cx="5166720" cy="13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 Box 5"/>
          <p:cNvSpPr/>
          <p:nvPr/>
        </p:nvSpPr>
        <p:spPr>
          <a:xfrm>
            <a:off x="468360" y="3398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button control to your page, change its default text -which is “button”- to “insert”. Double-click the insert button and write the following c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05AD-40E2-4EA6-98CC-E697D94C0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68360" y="2667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DeleteQuery from the Properties window. Write the delete command. Create the Parameter(s)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682560" y="907920"/>
            <a:ext cx="7561440" cy="5535720"/>
            <a:chOff x="682560" y="907920"/>
            <a:chExt cx="7561440" cy="5535720"/>
          </a:xfrm>
        </p:grpSpPr>
        <p:pic>
          <p:nvPicPr>
            <p:cNvPr id="92" name="Picture 3" descr=""/>
            <p:cNvPicPr/>
            <p:nvPr/>
          </p:nvPicPr>
          <p:blipFill>
            <a:blip r:embed="rId1"/>
            <a:stretch/>
          </p:blipFill>
          <p:spPr>
            <a:xfrm>
              <a:off x="682560" y="907920"/>
              <a:ext cx="7561440" cy="553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Line 8"/>
            <p:cNvSpPr/>
            <p:nvPr/>
          </p:nvSpPr>
          <p:spPr>
            <a:xfrm>
              <a:off x="6730920" y="5084640"/>
              <a:ext cx="433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1BF0-52B9-4ACB-9F8B-2AFCB5746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68360" y="3398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UpdateQuery from the Properties window. Write the update command. Create the Parameter(s)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5"/>
          <p:cNvGrpSpPr/>
          <p:nvPr/>
        </p:nvGrpSpPr>
        <p:grpSpPr>
          <a:xfrm>
            <a:off x="684360" y="946080"/>
            <a:ext cx="7632720" cy="5722920"/>
            <a:chOff x="684360" y="946080"/>
            <a:chExt cx="7632720" cy="5722920"/>
          </a:xfrm>
        </p:grpSpPr>
        <p:pic>
          <p:nvPicPr>
            <p:cNvPr id="97" name="Picture 2" descr=""/>
            <p:cNvPicPr/>
            <p:nvPr/>
          </p:nvPicPr>
          <p:blipFill>
            <a:blip r:embed="rId1"/>
            <a:stretch/>
          </p:blipFill>
          <p:spPr>
            <a:xfrm>
              <a:off x="684360" y="946080"/>
              <a:ext cx="76327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Line 4"/>
            <p:cNvSpPr/>
            <p:nvPr/>
          </p:nvSpPr>
          <p:spPr>
            <a:xfrm>
              <a:off x="6732720" y="5516640"/>
              <a:ext cx="503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B647-C0E3-4251-A72A-1147DD416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68360" y="4842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SelectQuery from the Properties window. Write the select command. Create the Parameter(s) you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95280" y="1089000"/>
            <a:ext cx="8353440" cy="5219640"/>
            <a:chOff x="395280" y="1089000"/>
            <a:chExt cx="8353440" cy="5219640"/>
          </a:xfrm>
        </p:grpSpPr>
        <p:pic>
          <p:nvPicPr>
            <p:cNvPr id="102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1089000"/>
              <a:ext cx="8353440" cy="52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Line 4"/>
            <p:cNvSpPr/>
            <p:nvPr/>
          </p:nvSpPr>
          <p:spPr>
            <a:xfrm>
              <a:off x="7020000" y="5084640"/>
              <a:ext cx="504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6FC1-CE81-48D5-8392-2355CADAA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15742" t="12273" r="15742" b="21645"/>
          <a:stretch/>
        </p:blipFill>
        <p:spPr>
          <a:xfrm>
            <a:off x="539640" y="1268280"/>
            <a:ext cx="8064720" cy="4861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468360" y="75888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the codes you write in the buttons (Insert, Delete, Update, Select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CA92-11EF-47C6-A883-E9D1A073C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828720" y="949320"/>
            <a:ext cx="7343640" cy="5216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755640" y="4698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click on App_Data fol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30AE-7797-49C9-AEA8-F8824F792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39640" y="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Right-click and choose Add New Item. A dialog box will appear, select SQL Database. Type a name for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rcRect l="21163" t="29270" r="19176" b="16638"/>
          <a:stretch/>
        </p:blipFill>
        <p:spPr>
          <a:xfrm>
            <a:off x="395280" y="1628640"/>
            <a:ext cx="8132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0A04-FF6C-40D4-BB45-44899C844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12720" y="1314360"/>
            <a:ext cx="7704360" cy="5210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24000" y="28116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View, and select Server Explorer window. Double-click on your database then all files which are stored in this database will appear. Right-click on Table folder and choose Add New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6A4D-5A27-42CF-88F0-AB9F3D70C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84360" y="1184400"/>
            <a:ext cx="7848360" cy="50432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24000" y="48420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the fields you desire and choose their data types. Don’t forget to save your table. For example, create 2 fields “StudentID” and “StudentNam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057E-EBF8-4555-BA76-34EA6B344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03280" y="1219320"/>
            <a:ext cx="8029440" cy="5018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68360" y="685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wo textboxes to deal with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3FBE-9C4C-4EF6-A069-7705BF48F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38200" y="1152360"/>
            <a:ext cx="7921440" cy="5229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611280" y="4111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SqlDataSource from the Data section in the Toolbox window. From the smart-tag click on Configure Data Sou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EB7F-4DBD-4A82-99D0-0CFEE8FCC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84360" y="1389240"/>
            <a:ext cx="7705440" cy="4919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39640" y="620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the data connection you want to use to connect to the database, then click N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6EA-D6E5-492E-A542-63B567C24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84360" y="977760"/>
            <a:ext cx="7632720" cy="54756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826920" y="469800"/>
            <a:ext cx="640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at, select the first choice to add your Sql sta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21:13Z</dcterms:created>
  <dc:creator>a</dc:creator>
  <dc:description/>
  <dc:language>en-US</dc:language>
  <cp:lastModifiedBy>balqrashi</cp:lastModifiedBy>
  <dcterms:modified xsi:type="dcterms:W3CDTF">2016-10-30T06:53:24Z</dcterms:modified>
  <cp:revision>144</cp:revision>
  <dc:subject/>
  <dc:title>Slide 1</dc:title>
</cp:coreProperties>
</file>