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1C989-5B0D-47AB-8E1C-A91EB0E33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D72DB-FC2C-4028-A40A-4FA59BDE4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2B623-E229-44DF-B66D-8AF2A8DAB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CA492-967B-4B88-BCFF-0EFE51035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49F3B-37A7-4015-B6F8-5C1EF4C22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107FA-8AA1-419C-BF1F-0845C8619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F2117-A201-43D3-A3F5-3334E0D64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36398-DB09-455E-B26D-71537D487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3A5AE-23DE-4710-AA0D-37D25A6A3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7AA14-4EA0-4381-B479-19390AF11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C6CEA-E6DA-414D-81B1-0E8A99D9F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42C35-A6C2-4FEC-B65F-FCE4DAEBB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274FE-C82D-441E-BDDC-7613BEEBD465}"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20E4-749A-4819-8582-DA76DAD59FEB}"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4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base Instance startup and shutdown</a:t>
            </a:r>
            <a:endParaRPr b="0" lang="en-US" sz="36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0BE44-912C-460A-96AC-BC01119FDB62}"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a Database Is Mounted </a:t>
            </a:r>
            <a:endParaRPr b="0" lang="en-US" sz="3600" spc="-1" strike="noStrike">
              <a:solidFill>
                <a:srgbClr val="000000"/>
              </a:solidFill>
              <a:latin typeface="Arial"/>
            </a:endParaRPr>
          </a:p>
        </p:txBody>
      </p:sp>
      <p:sp>
        <p:nvSpPr>
          <p:cNvPr id="81" name="PlaceHolder 2"/>
          <p:cNvSpPr>
            <a:spLocks noGrp="1"/>
          </p:cNvSpPr>
          <p:nvPr>
            <p:ph/>
          </p:nvPr>
        </p:nvSpPr>
        <p:spPr>
          <a:xfrm>
            <a:off x="685800" y="1523520"/>
            <a:ext cx="7772400" cy="449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ance mounts a database to associate the database with that instanc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ount the database, the instance finds the database control files and opens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s are specified in the CONTROL_FILES in the parameter file used to start the instanc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cle then reads the control files to get the names of the database's datafiles and redo log fi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is point, the database is still closed and is accessible only to the database administrat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CB34-C7B0-4C7B-83CC-C022546FE4C0}"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Happens When You Open a Database </a:t>
            </a:r>
            <a:endParaRPr b="0" lang="en-US" sz="36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a </a:t>
            </a:r>
            <a:r>
              <a:rPr b="0" lang="en-US" sz="2400" spc="-1" strike="noStrike">
                <a:solidFill>
                  <a:srgbClr val="3333cc"/>
                </a:solidFill>
                <a:latin typeface="Arial"/>
              </a:rPr>
              <a:t>mounted database</a:t>
            </a:r>
            <a:r>
              <a:rPr b="0" lang="en-US" sz="2400" spc="-1" strike="noStrike">
                <a:solidFill>
                  <a:srgbClr val="000000"/>
                </a:solidFill>
                <a:latin typeface="Arial"/>
              </a:rPr>
              <a:t> makes it available for normal database operations. Any valid user can connect to an open database and access its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open the database, Oracle opens the online datafiles and redo log files. If a tablespace was offline when the database was previously shut down, the tablespace and its corresponding datafiles will still be offline when you reopen the databa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1A9A8-604F-4710-B6EF-37E6A72F3B1D}"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tance Recovery </a:t>
            </a:r>
            <a:endParaRPr b="0" lang="en-US" sz="36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atabase was last closed abnormally, because of a power failure, then Oracle automatically performs recovery when the database is reope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07AA9-C385-4B58-A7A4-538BBD97532C}"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9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view of Database and Instance Shutdown </a:t>
            </a:r>
            <a:endParaRPr b="0" lang="en-US" sz="3600" spc="-1" strike="noStrike">
              <a:solidFill>
                <a:srgbClr val="000000"/>
              </a:solidFill>
              <a:latin typeface="Arial"/>
            </a:endParaRPr>
          </a:p>
        </p:txBody>
      </p:sp>
      <p:sp>
        <p:nvSpPr>
          <p:cNvPr id="93"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e steps to shutting down a database and its associated instance ar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he databa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mount the databa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ut down the inst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108E8-9332-4C5A-9C1E-6EEEEE7E9397}"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ose a Database </a:t>
            </a:r>
            <a:endParaRPr b="0" lang="en-US" sz="36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close a database, Oracle writes all database data and recovery data in the SGA to the datafiles and redo log files, respectivel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Oracle closes all online datafiles and redo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is point, the database is closed and inaccessible for normal operations. The control files remain open after a database is closed but still moun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6445-9B66-4F2F-A4CE-B61D11740088}"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mount a Database </a:t>
            </a:r>
            <a:endParaRPr b="0" lang="en-US" sz="3600" spc="-1" strike="noStrike">
              <a:solidFill>
                <a:srgbClr val="000000"/>
              </a:solidFill>
              <a:latin typeface="Arial"/>
            </a:endParaRPr>
          </a:p>
        </p:txBody>
      </p:sp>
      <p:sp>
        <p:nvSpPr>
          <p:cNvPr id="101" name="PlaceHolder 2"/>
          <p:cNvSpPr>
            <a:spLocks noGrp="1"/>
          </p:cNvSpPr>
          <p:nvPr>
            <p:ph/>
          </p:nvPr>
        </p:nvSpPr>
        <p:spPr>
          <a:xfrm>
            <a:off x="685800" y="1980720"/>
            <a:ext cx="7772400" cy="3962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base is closed, Oracle unmounts the database to disassociate it from the instanc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is point, the instance remains in the memory of your comput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 database is unmounted, Oracle closes the control files of the databas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1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F3F3D-04F2-417E-B0A5-D79B34BD7A32}"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ut Down an Instance </a:t>
            </a:r>
            <a:endParaRPr b="0" lang="en-US" sz="36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nal step in database shutdown is shutting down the instance. When you shut down an instance, the SGA is removed from memory and the background processes are termin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76C4-6E9D-40B1-B585-F6D43DA6A2A6}"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base Backup and Recovery</a:t>
            </a:r>
            <a:endParaRPr b="0" lang="en-US" sz="3600" spc="-1" strike="noStrike">
              <a:solidFill>
                <a:srgbClr val="00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database administration support tasks includ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up: creating a copy of the database fi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very: restoring the database to a working state after a hardware, software, Network, process or system malfun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up operations on an Oracle</a:t>
            </a:r>
            <a:r>
              <a:rPr b="0" i="1" lang="en-US" sz="2000" spc="-1" strike="noStrike">
                <a:solidFill>
                  <a:srgbClr val="000000"/>
                </a:solidFill>
                <a:latin typeface="Arial"/>
              </a:rPr>
              <a:t> </a:t>
            </a:r>
            <a:r>
              <a:rPr b="0" lang="en-US" sz="2000" spc="-1" strike="noStrike">
                <a:solidFill>
                  <a:srgbClr val="000000"/>
                </a:solidFill>
                <a:latin typeface="Arial"/>
              </a:rPr>
              <a:t>database can be classified a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line (cold) backu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hot) backu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191BC-9AED-4A96-B511-FBF014ABD0E9}"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base Backup and Recovery</a:t>
            </a:r>
            <a:endParaRPr b="0" lang="en-US" sz="36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line Backup – (cold backup) requires shutting down the database, then copying all of the database files to an alternate loc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Backup – (hot backup) involves backing up critical database files while the instance is running, as well as creating an ongoing archive of database changes so the DBA can restore the database to its state at any point in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3C1BF-9D0B-4386-B8BE-BD1AFC53FAC1}"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ent/server Architecture: Distributed Processing</a:t>
            </a:r>
            <a:endParaRPr b="0" lang="en-US" sz="36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Processing uses More than one processor to divide the processing for a set of related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duces the load on a single processo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racle database system can easily take advantage of Distributed Processing by using client/server Architectu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architecture the database system is divided into two parts : a. client por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server por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90AC-25ED-4A83-83A5-EF1AA5D7256C}"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erver Architecture: Distributed Processing</a:t>
            </a:r>
            <a:endParaRPr b="0" lang="en-US" sz="3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ient Portion interacts with a user through the keyboard, screen, mou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ient portion has no data responsibilities , it concentrate on requesting and presenting data managed by the server por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portion runs oracle software and handles the functions required for shared data acc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receives and processes the SQL statements that comes from the client applicatio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uter that manages the server portion should have large disk capacity for fast process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14D3-F3F1-4F1C-8126-A396165392BB}"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ction to an Oracle Instance </a:t>
            </a:r>
            <a:endParaRPr b="0" lang="en-US" sz="3600" spc="-1" strike="noStrike">
              <a:solidFill>
                <a:srgbClr val="000000"/>
              </a:solidFill>
              <a:latin typeface="Arial"/>
            </a:endParaRPr>
          </a:p>
        </p:txBody>
      </p:sp>
      <p:sp>
        <p:nvSpPr>
          <p:cNvPr id="56"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running Oracle database is associated with an Oracle instanc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database is started on a database server, Oracle allocates a memory area called the System Global Area (SGA) and starts one or more Oracle process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mbination of the SGA and the Oracle processes is called an Oracle </a:t>
            </a:r>
            <a:r>
              <a:rPr b="1" lang="en-US" sz="2400" spc="-1" strike="noStrike">
                <a:solidFill>
                  <a:srgbClr val="3333cc"/>
                </a:solidFill>
                <a:latin typeface="Arial"/>
              </a:rPr>
              <a:t>insta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8375-913B-4EB2-A85C-53AC1A7F76C9}"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cription of an instance</a:t>
            </a:r>
            <a:endParaRPr b="0" lang="en-US" sz="3600" spc="-1" strike="noStrike">
              <a:solidFill>
                <a:srgbClr val="000000"/>
              </a:solidFill>
              <a:latin typeface="Arial"/>
            </a:endParaRPr>
          </a:p>
        </p:txBody>
      </p:sp>
      <p:pic>
        <p:nvPicPr>
          <p:cNvPr id="60" name="Picture 11" descr="ora3"/>
          <p:cNvPicPr/>
          <p:nvPr/>
        </p:nvPicPr>
        <p:blipFill>
          <a:blip r:embed="rId1"/>
          <a:stretch/>
        </p:blipFill>
        <p:spPr>
          <a:xfrm>
            <a:off x="533520" y="1981080"/>
            <a:ext cx="7619760" cy="407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C408-0820-42E2-A397-E47414D1638F}"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6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Instance and the Database</a:t>
            </a:r>
            <a:br>
              <a:rPr sz="3600"/>
            </a:br>
            <a:endParaRPr b="0" lang="en-US" sz="3600" spc="-1" strike="noStrike">
              <a:solidFill>
                <a:srgbClr val="000000"/>
              </a:solidFill>
              <a:latin typeface="Arial"/>
            </a:endParaRPr>
          </a:p>
        </p:txBody>
      </p:sp>
      <p:sp>
        <p:nvSpPr>
          <p:cNvPr id="64" name="PlaceHolder 2"/>
          <p:cNvSpPr>
            <a:spLocks noGrp="1"/>
          </p:cNvSpPr>
          <p:nvPr>
            <p:ph/>
          </p:nvPr>
        </p:nvSpPr>
        <p:spPr>
          <a:xfrm>
            <a:off x="685800" y="1371600"/>
            <a:ext cx="7772400" cy="4114800"/>
          </a:xfrm>
          <a:prstGeom prst="rect">
            <a:avLst/>
          </a:prstGeom>
          <a:noFill/>
          <a:ln w="0">
            <a:noFill/>
          </a:ln>
        </p:spPr>
        <p:txBody>
          <a:bodyPr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starting an instance, Oracle associates the instance with the specified database. This is a </a:t>
            </a:r>
            <a:r>
              <a:rPr b="1" lang="en-US" sz="2400" spc="-1" strike="noStrike">
                <a:solidFill>
                  <a:srgbClr val="3333cc"/>
                </a:solidFill>
                <a:latin typeface="Arial"/>
              </a:rPr>
              <a:t>mounted database</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instances can run concurrently on the same computer, each accessing its own physical database </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for database startup and shutdown is controlled through connections to Oracle with administrator privileges. Normal users do not have control over the current status of an Oracle database.</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database is </a:t>
            </a:r>
            <a:r>
              <a:rPr b="1" lang="en-US" sz="2400" spc="-1" strike="noStrike">
                <a:solidFill>
                  <a:srgbClr val="000000"/>
                </a:solidFill>
                <a:latin typeface="Arial"/>
              </a:rPr>
              <a:t>closed</a:t>
            </a:r>
            <a:r>
              <a:rPr b="0" lang="en-US" sz="2400" spc="-1" strike="noStrike">
                <a:solidFill>
                  <a:srgbClr val="000000"/>
                </a:solidFill>
                <a:latin typeface="Arial"/>
              </a:rPr>
              <a:t>, users cannot access the information that it contai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E97C-3D73-499D-BF9D-876C9601F3FF}"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ameter Files </a:t>
            </a:r>
            <a:endParaRPr b="0" lang="en-US" sz="36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tart an instance, Oracle must read </a:t>
            </a:r>
            <a:r>
              <a:rPr b="1" lang="en-US" sz="2400" spc="-1" strike="noStrike">
                <a:solidFill>
                  <a:srgbClr val="000000"/>
                </a:solidFill>
                <a:latin typeface="Arial"/>
              </a:rPr>
              <a:t>parameter fil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files contain a list of configuration parameters for that instance and database.Exampl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that name things, such as fi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that set limits, such as maximu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database for which to start up an insta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uch memory to use for memory structures in the SG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o do with filled redo log fi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s and locations of the database control fi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5446-49C9-49A2-A35E-BC177EA81F1D}"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verview of Instance and Database Startup</a:t>
            </a:r>
            <a:br>
              <a:rPr sz="3600"/>
            </a:br>
            <a:endParaRPr b="0" lang="en-US" sz="36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e steps to starting an Oracle database and making it available for system wide use ar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an insta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nt the databa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the database.</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Text Box 4"/>
          <p:cNvSpPr/>
          <p:nvPr/>
        </p:nvSpPr>
        <p:spPr>
          <a:xfrm>
            <a:off x="1127520" y="5345280"/>
            <a:ext cx="95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2DCB-E936-4B80-BE99-0B0FB5408D04}"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an Instance Is Started </a:t>
            </a:r>
            <a:endParaRPr b="0" lang="en-US" sz="36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racle starts an instance, it reads the  parameter file to determine the values of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it allocates an SGA, which is a shared area of memory used for database information and creates background process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is point, no database is associated with these memory structures and proces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1T13:08:01Z</dcterms:created>
  <dc:creator>Amity Black</dc:creator>
  <dc:description/>
  <dc:language>en-US</dc:language>
  <cp:lastModifiedBy>Nasser</cp:lastModifiedBy>
  <dcterms:modified xsi:type="dcterms:W3CDTF">2012-02-19T03:14:11Z</dcterms:modified>
  <cp:revision>131</cp:revision>
  <dc:subject/>
  <dc:title>ADVANCED SQL AND PL/SQL TOPICS</dc:title>
</cp:coreProperties>
</file>