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A12-2BF8-4469-A53F-0C55C1E3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6439-551E-451E-B32F-75EDE8AC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DB1-7580-4A7B-8005-0EB49B7D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260B-A86C-42CE-97A3-261DB2CF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0D21-A2D5-4116-A5BD-0A94783B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BB6F-50A9-4A6C-95C3-B1E0DF53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8ED7-7326-4D51-92B2-3C390353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8CCC-1D2E-42EC-ADA4-D86E7059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0518-6063-4AAE-8A86-9F9B66D6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69A8-0D14-4DB7-9849-246CFE00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B5CC-2FB9-4366-AD81-D0B32A98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C21C-4691-4EB5-A422-DD2DE644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C0F8-EE4D-48C3-8DA7-C47B3B50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7FD0-E2FA-4892-95C2-160CAB81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661A-0504-44A8-A5BD-F6C92E98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87D7-7BEB-4511-A252-2FB16428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5659-8619-4FBA-915B-DDF63515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DB36D-DB8E-43D4-93B1-539A59DD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2B818-AF31-4854-890C-D6F2AE46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839CF-8758-49A1-A88C-C2C7276E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389A5-1705-422F-84FA-4EF2A385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7A739-151E-4302-AF85-33BE5EBA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9192-18CA-435B-AE52-C55B6094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5E80C-8F47-4BFE-8B57-3147921C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9346F-7350-46E0-9BDD-33F7B979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E347E-9FDA-47ED-B190-4D0407EE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B7C19-D4B2-463C-96D5-3EB06345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16BFC-6AC9-4FBB-A1D3-8B52D489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D4C36-008E-487D-BFB0-7EE81B9C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C7F3D-8671-42AC-9D78-D39F14D3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0889B-06D0-4106-A598-F43819E6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D4E01-DD2D-4EA3-9317-75933C8D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D49CA-CFE6-4176-9D9F-35B16B8F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EC9B-31B4-40D7-8159-BFD7BCDA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174B5-3C91-4CF2-B3C4-85E79CFB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1BE16-B1DF-4A46-AA1F-CBFA56DB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D3CBA-4508-4144-900C-F28C6895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5C179-5C4F-4A76-BB5D-CE474269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A3F17-392A-4F9F-A2B2-030D9030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62EC4-54EC-446D-9BD6-EB502B58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48EF2-E006-45D8-A862-49740420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72C77-E2E8-4A41-B17A-0389086F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620BE-9342-4579-8DAB-15B71FC7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9DA1-2C71-4728-9F9E-59DFC999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08B6-5567-4447-93A6-D21AC2E4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84C4-9755-4D48-9779-9AC997EA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7B5-BFB2-4D33-BD90-D8F842C6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209-2A3F-4FC9-9AA4-AA1B6CA6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D1D2-972E-4702-87D4-B90C5BB4591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580A-42AE-4B89-8F24-14AA041C830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C854-6A31-48AC-8D48-75CFA0E7E7C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6CB7-6C67-48EB-ACA8-62F7738D512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5960" y="2143080"/>
            <a:ext cx="58579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Highway Engineering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E 431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6" name="Title 1"/>
          <p:cNvSpPr/>
          <p:nvPr/>
        </p:nvSpPr>
        <p:spPr>
          <a:xfrm>
            <a:off x="1143000" y="2928960"/>
            <a:ext cx="70722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ritical length of grad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1857240" y="4572000"/>
            <a:ext cx="58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4617b"/>
                </a:solidFill>
                <a:latin typeface="Times New Roman"/>
              </a:rPr>
              <a:t>Eng. Ali Mohammed Babalgha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traight Connector 11"/>
          <p:cNvSpPr/>
          <p:nvPr/>
        </p:nvSpPr>
        <p:spPr>
          <a:xfrm>
            <a:off x="3929040" y="3867120"/>
            <a:ext cx="4735440" cy="52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C:\Users\TOSHIBA\Desktop\f2-3us.png"/>
          <p:cNvPicPr/>
          <p:nvPr/>
        </p:nvPicPr>
        <p:blipFill>
          <a:blip r:embed="rId1"/>
          <a:srcRect l="2347" t="6011" r="3904" b="0"/>
          <a:stretch/>
        </p:blipFill>
        <p:spPr>
          <a:xfrm>
            <a:off x="0" y="285840"/>
            <a:ext cx="9144000" cy="62863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7"/>
          <p:cNvSpPr/>
          <p:nvPr/>
        </p:nvSpPr>
        <p:spPr>
          <a:xfrm>
            <a:off x="7296120" y="55008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ge 1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12"/>
          <p:cNvCxnSpPr/>
          <p:nvPr/>
        </p:nvCxnSpPr>
        <p:spPr>
          <a:xfrm>
            <a:off x="1071360" y="3071880"/>
            <a:ext cx="3215160" cy="21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2" name="Straight Arrow Connector 14"/>
          <p:cNvCxnSpPr/>
          <p:nvPr/>
        </p:nvCxnSpPr>
        <p:spPr>
          <a:xfrm flipH="1">
            <a:off x="4285440" y="3071880"/>
            <a:ext cx="1080" cy="16437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0:26:17Z</dcterms:created>
  <dc:creator>Abdulrahman</dc:creator>
  <dc:description/>
  <dc:language>en-US</dc:language>
  <cp:lastModifiedBy>TOSHIBA</cp:lastModifiedBy>
  <dcterms:modified xsi:type="dcterms:W3CDTF">2016-10-25T20:45:31Z</dcterms:modified>
  <cp:revision>144</cp:revision>
  <dc:subject/>
  <dc:title>CHAPTER 16</dc:title>
</cp:coreProperties>
</file>