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9042-6845-4AAC-B7AC-B2DCC1C49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9CF4-9A56-453A-989C-3B280254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1736-4B9A-45AC-B1EC-F7F2AF401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5D96-2951-44A0-B2C3-8FE96F17C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60F2-5BE9-4A8B-8A4A-1AA67F39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F81F-9B2D-4E3C-940D-95522A1F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0709-88AB-46E0-8B3E-CA8C5107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23F9-17DD-4A7E-8E4F-2E70DABB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AFF1-ADF9-4124-AACE-6F0C9093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40E4-BD65-4613-8FA4-8B8E79D8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2F0E-EE22-499E-8904-BF1FBB8A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F332-2075-40DF-A19F-70FDB8F3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2E83-921D-4294-BC9D-8C180072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E034-9D4C-4150-A2A2-C8A7BD72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0D24-D668-4BE8-A8FD-EBD08AE4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0DBE-30EA-4791-B9D1-7199F6B42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9039-F3C8-463A-BCC5-FD50B6646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B06C9-EF0F-403D-BEB4-44A59614C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9554F-CC85-417A-BE50-968760B0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34335-7E59-41DB-9933-C21B2F69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28752-7D57-4FF9-A12A-FDB94648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77E10-883E-4688-8876-68739826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0CF4-EFB8-4B2C-B759-3384621F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1A155-2203-4FD3-AB49-6ED7E53E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57B70-CE30-475E-8E57-1ED2B1B4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5DA19-C5FF-4EF6-847B-16B120CF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988E3-B404-47E6-B2A4-FF54DE82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1E32D-2773-4598-A159-D2C1F372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D99D8-DEB6-4602-AA12-BBDA86CAE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9487B-8745-4052-AA6E-F9ACEB146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E816A-C486-4C64-9F0D-63F939A02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036B8-448F-4470-8368-02FA5958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8B20C-5360-4D41-AE01-FB7D8196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2D07-61C6-487F-8D7A-4171A0BB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6140F-FEF7-4CD5-BA0F-70A7504A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426B3-561E-44AB-A021-86501813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BABEC-D426-438C-B718-0E6D6850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C6560-F296-4811-84F6-6E98BADA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34A3F-6BCC-40B8-83D2-BAEE7912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97987-2D41-48E6-A66A-10FC572D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8ADE2-8C10-413F-9BBF-901DABDE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6DA59-DB28-4737-9D96-7D46AB439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9E892-D0FD-4E6F-A876-352238E9E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BF9A-27FC-4D44-BA11-BFBD59B8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9481-1DF0-461F-BADD-78A1BC78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FF26-D5AD-40C4-8976-BE3D8825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181C-B6C9-4208-AF95-FE908E0F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8964-9CD0-48A4-9E85-870D36B5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79F6-AB5D-4C05-8D9A-B707F1FC394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D2A1-84AB-4F94-B817-16A6BA9D7BC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602B-A455-4919-A791-BA184401281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9362-0FA8-4FCD-A0DD-53DFBB409A2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85960" y="2143080"/>
            <a:ext cx="58579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Highway Engineering</a:t>
            </a:r>
            <a:br>
              <a:rPr sz="5000"/>
            </a:b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CE 431</a:t>
            </a: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96" name="Title 1"/>
          <p:cNvSpPr/>
          <p:nvPr/>
        </p:nvSpPr>
        <p:spPr>
          <a:xfrm>
            <a:off x="1143000" y="2928960"/>
            <a:ext cx="70722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 </a:t>
            </a: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ritical length of grad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1857240" y="4572000"/>
            <a:ext cx="5857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4617b"/>
                </a:solidFill>
                <a:latin typeface="Times New Roman"/>
              </a:rPr>
              <a:t>Eng. Ali Mohammed Babalghai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traight Connector 11"/>
          <p:cNvSpPr/>
          <p:nvPr/>
        </p:nvSpPr>
        <p:spPr>
          <a:xfrm>
            <a:off x="3929040" y="3867120"/>
            <a:ext cx="4735440" cy="52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C:\Users\TOSHIBA\Desktop\f2-3us.png"/>
          <p:cNvPicPr/>
          <p:nvPr/>
        </p:nvPicPr>
        <p:blipFill>
          <a:blip r:embed="rId1"/>
          <a:srcRect l="2347" t="6011" r="3904" b="0"/>
          <a:stretch/>
        </p:blipFill>
        <p:spPr>
          <a:xfrm>
            <a:off x="0" y="285840"/>
            <a:ext cx="9144000" cy="628632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7"/>
          <p:cNvSpPr/>
          <p:nvPr/>
        </p:nvSpPr>
        <p:spPr>
          <a:xfrm>
            <a:off x="7296120" y="550080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ge 1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Straight Arrow Connector 12"/>
          <p:cNvCxnSpPr/>
          <p:nvPr/>
        </p:nvCxnSpPr>
        <p:spPr>
          <a:xfrm>
            <a:off x="1071360" y="3071880"/>
            <a:ext cx="3215160" cy="216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02" name="Straight Arrow Connector 14"/>
          <p:cNvCxnSpPr/>
          <p:nvPr/>
        </p:nvCxnSpPr>
        <p:spPr>
          <a:xfrm flipH="1">
            <a:off x="4285440" y="3071880"/>
            <a:ext cx="1080" cy="164376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0:26:17Z</dcterms:created>
  <dc:creator>Abdulrahman</dc:creator>
  <dc:description/>
  <dc:language>en-US</dc:language>
  <cp:lastModifiedBy>TOSHIBA</cp:lastModifiedBy>
  <dcterms:modified xsi:type="dcterms:W3CDTF">2016-10-25T20:45:31Z</dcterms:modified>
  <cp:revision>144</cp:revision>
  <dc:subject/>
  <dc:title>CHAPTER 16</dc:title>
</cp:coreProperties>
</file>