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CAMERA.WAV" ContentType="audio/x-wav"/>
  <Override PartName="/ppt/media/image5.jpeg" ContentType="image/jpeg"/>
  <Override PartName="/ppt/media/image10.png" ContentType="image/png"/>
  <Override PartName="/ppt/media/image6.jpeg" ContentType="image/jpeg"/>
  <Override PartName="/ppt/media/TYPE.WAV" ContentType="audio/x-wav"/>
  <Override PartName="/ppt/media/image4.png" ContentType="image/png"/>
  <Override PartName="/ppt/media/image8.png" ContentType="image/png"/>
  <Override PartName="/ppt/media/WHOOSH.WAV" ContentType="audio/x-wav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E87-27D2-48B5-938E-BAB92F050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08C-F281-4320-A3C6-46E9C34E7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5434-E6FA-4721-9704-510ABE74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5250-BB2C-47A0-9A77-C10E14D4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86CC-B12D-491A-BF7E-06B61F6EE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4FD5-5C8E-4C5D-BE2D-D20BCED5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0828-1C86-49AF-A73A-067A41D9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8C0E-B71C-46FC-A3FB-B26B24638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BE60-FFE9-4D84-A484-CA2AD963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E5A7-6C05-4598-A497-0D778ACC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6204-22B6-420D-A544-53DCDB44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6B4-B841-4AB5-86E7-C5523284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29C7-25EC-4D7B-9523-EB565BC8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1338-2212-496C-BACD-34B74EAD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746C4-1FB7-45F2-B0FE-657A77DB9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2F14-9F0B-4EC1-B299-26F7B4E6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2B6AE-587D-42EC-988A-D767AA58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F636-E4E8-4C81-BC58-C20C5AAE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FF27-056F-4017-9458-C569ED22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69EF-8CFE-43CA-AC01-F9AC0928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CA27-BF8E-4AC3-BA56-03ADBE088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FDA-7B20-4F6D-95D9-0CF21E11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0BA-5626-4731-A70E-684ECD50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56E-7FB1-494D-ABA2-248B4114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cc9864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037B-C0DA-4C21-9D6F-9F3F566DFF6E}" type="slidenum">
              <a:rPr b="0" lang="ar-SA" sz="1400" spc="-1" strike="noStrike">
                <a:solidFill>
                  <a:srgbClr val="cc9864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cc9864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3FD3-DE93-4064-B934-9DA15AA5EE99}" type="slidenum">
              <a:rPr b="0" lang="ar-SA" sz="1400" spc="-1" strike="noStrike">
                <a:solidFill>
                  <a:srgbClr val="cc9864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rct=j&amp;q=&amp;esrc=s&amp;frm=1&amp;source=images&amp;cd=&amp;cad=rja&amp;docid=_li0gcNGiHEA7M&amp;tbnid=paacQ5bt27V1vM:&amp;ved=&amp;url=http%3A%2F%2Fwww.nimbustier.net%2Fphotos%2F2005%2F11%2Fpantanal.html&amp;ei=XiYUU_z_MIfMtAaj9oDYCg&amp;psig=AFQjCNG5NC8XCTbe9O9sQ4YymXrAeam5cw&amp;ust=1393915832322981" TargetMode="External"/><Relationship Id="rId2" Type="http://schemas.openxmlformats.org/officeDocument/2006/relationships/image" Target="../media/image9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12189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a3909"/>
                </a:solidFill>
                <a:latin typeface="Comic Sans MS"/>
              </a:rPr>
              <a:t>Alligators</a:t>
            </a:r>
            <a:r>
              <a:rPr b="0" lang="en-US" sz="5400" spc="-1" strike="noStrike">
                <a:solidFill>
                  <a:srgbClr val="221304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51e07"/>
                </a:solidFill>
                <a:latin typeface="Comic Sans MS"/>
              </a:rPr>
              <a:t>Vs</a:t>
            </a:r>
            <a:r>
              <a:rPr b="0" lang="en-US" sz="5400" spc="-1" strike="noStrike">
                <a:solidFill>
                  <a:srgbClr val="221304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8a408"/>
                </a:solidFill>
                <a:latin typeface="Comic Sans MS"/>
              </a:rPr>
              <a:t>Crocodiles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971800" cy="19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410080" y="2286000"/>
            <a:ext cx="3048120" cy="2101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9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400"/>
                            </p:stCondLst>
                            <p:childTnLst>
                              <p:par>
                                <p:cTn id="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a3909"/>
                </a:solidFill>
                <a:latin typeface="Comic Sans MS"/>
              </a:rPr>
              <a:t>Alligators</a:t>
            </a:r>
            <a:r>
              <a:rPr b="0" lang="en-US" sz="5400" spc="-1" strike="noStrike">
                <a:solidFill>
                  <a:srgbClr val="221304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51e07"/>
                </a:solidFill>
                <a:latin typeface="Comic Sans MS"/>
              </a:rPr>
              <a:t>Vs</a:t>
            </a:r>
            <a:r>
              <a:rPr b="0" lang="en-US" sz="5400" spc="-1" strike="noStrike">
                <a:solidFill>
                  <a:srgbClr val="221304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8a408"/>
                </a:solidFill>
                <a:latin typeface="Comic Sans MS"/>
              </a:rPr>
              <a:t>Crocodiles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5029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a3909"/>
                </a:solidFill>
                <a:latin typeface="Comic Sans MS"/>
              </a:rPr>
              <a:t>Alligators</a:t>
            </a:r>
            <a:r>
              <a:rPr b="0" lang="en-US" sz="5400" spc="-1" strike="noStrike">
                <a:solidFill>
                  <a:srgbClr val="221304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51e07"/>
                </a:solidFill>
                <a:latin typeface="Comic Sans MS"/>
              </a:rPr>
              <a:t>Vs</a:t>
            </a:r>
            <a:r>
              <a:rPr b="0" lang="en-US" sz="5400" spc="-1" strike="noStrike">
                <a:solidFill>
                  <a:srgbClr val="221304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8a408"/>
                </a:solidFill>
                <a:latin typeface="Comic Sans MS"/>
              </a:rPr>
              <a:t>Crocodiles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7009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600"/>
                </a:solidFill>
                <a:latin typeface="Miriam Fixed"/>
                <a:cs typeface="Arial"/>
              </a:rPr>
              <a:t>حقائق أخرى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Comic Sans MS"/>
                <a:cs typeface="Arial"/>
              </a:rPr>
              <a:t>القاطور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Allig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Comic Sans MS"/>
                <a:cs typeface="Arial"/>
              </a:rPr>
              <a:t>التمساح الأمريكي الإستوائي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ai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Comic Sans MS"/>
                <a:cs typeface="Arial"/>
              </a:rPr>
              <a:t>تمساح النيل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crocodiles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8000"/>
                </a:solidFill>
                <a:latin typeface="Comic Sans MS"/>
                <a:cs typeface="Arial"/>
              </a:rPr>
              <a:t>تمساح الهند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gharial</a:t>
            </a:r>
            <a:r>
              <a:rPr b="1" lang="ar-SA" sz="3200" spc="-1" strike="noStrike">
                <a:solidFill>
                  <a:srgbClr val="008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772400" y="5638680"/>
            <a:ext cx="939960" cy="9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6600"/>
                </a:solidFill>
                <a:latin typeface="Miriam Fixed"/>
                <a:cs typeface="Arial"/>
              </a:rPr>
              <a:t>حقائق أخرى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تمساح النيل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rocod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lnSpc>
                <a:spcPct val="10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أخضر زيتوني إلى ب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lnSpc>
                <a:spcPct val="10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الخطم شكل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lnSpc>
                <a:spcPct val="10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أكثر عدوا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lnSpc>
                <a:spcPct val="10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أفريقيا ، أستراليا ، أمريك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lnSpc>
                <a:spcPct val="10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5,8</a:t>
            </a:r>
            <a:r>
              <a:rPr b="1" lang="ar-SA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 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lnSpc>
                <a:spcPct val="100000"/>
              </a:lnSpc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تظهر الأسنان السفلية عند الإطبا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772400" y="5638680"/>
            <a:ext cx="939960" cy="9432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788000" y="1557360"/>
            <a:ext cx="3889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القاطور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Allig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رمادي إلى أسو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الخطم شكل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أقل عدوا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جنوب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USA</a:t>
            </a:r>
            <a:r>
              <a:rPr b="1" lang="ar-SA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 والص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3,4</a:t>
            </a:r>
            <a:r>
              <a:rPr b="1" lang="ar-SA" sz="2800" spc="-1" strike="noStrike">
                <a:solidFill>
                  <a:srgbClr val="008000"/>
                </a:solidFill>
                <a:latin typeface="Comic Sans MS"/>
                <a:ea typeface="Arial"/>
              </a:rPr>
              <a:t> 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r" rtl="1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00"/>
                </a:solidFill>
                <a:latin typeface="Comic Sans MS"/>
                <a:cs typeface="Arial"/>
              </a:rPr>
              <a:t>لا تظهر أسنان الفك السفلي عند الإطبا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a3909"/>
                </a:solidFill>
                <a:latin typeface="Comic Sans MS"/>
              </a:rPr>
              <a:t>Alligators</a:t>
            </a:r>
            <a:r>
              <a:rPr b="0" lang="en-US" sz="5400" spc="-1" strike="noStrike">
                <a:solidFill>
                  <a:srgbClr val="221304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f51e07"/>
                </a:solidFill>
                <a:latin typeface="Comic Sans MS"/>
              </a:rPr>
              <a:t>Vs</a:t>
            </a:r>
            <a:r>
              <a:rPr b="0" lang="en-US" sz="5400" spc="-1" strike="noStrike">
                <a:solidFill>
                  <a:srgbClr val="221304"/>
                </a:solidFill>
                <a:latin typeface="Comic Sans MS"/>
              </a:rPr>
              <a:t> </a:t>
            </a:r>
            <a:r>
              <a:rPr b="0" lang="en-US" sz="5400" spc="-1" strike="noStrike">
                <a:solidFill>
                  <a:srgbClr val="08a408"/>
                </a:solidFill>
                <a:latin typeface="Comic Sans MS"/>
              </a:rPr>
              <a:t>Crocodiles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5185080" cy="40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a3909"/>
                </a:solidFill>
                <a:latin typeface="Comic Sans MS"/>
              </a:rPr>
              <a:t>Caiman</a:t>
            </a:r>
            <a:endParaRPr b="0" lang="en-US" sz="5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2133720"/>
            <a:ext cx="49914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5280" y="6919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Gharial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134400" cy="30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514368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00:12:03Z</dcterms:created>
  <dc:creator>Amy Guyette</dc:creator>
  <dc:description/>
  <dc:language>en-US</dc:language>
  <cp:lastModifiedBy>خالد</cp:lastModifiedBy>
  <dcterms:modified xsi:type="dcterms:W3CDTF">2014-03-03T07:03:37Z</dcterms:modified>
  <cp:revision>15</cp:revision>
  <dc:subject/>
  <dc:title>Alligators vs Crocodiles</dc:title>
</cp:coreProperties>
</file>