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CAMERA.WAV" ContentType="audio/x-wav"/>
  <Override PartName="/ppt/media/image5.jpeg" ContentType="image/jpeg"/>
  <Override PartName="/ppt/media/image10.png" ContentType="image/png"/>
  <Override PartName="/ppt/media/image6.jpeg" ContentType="image/jpeg"/>
  <Override PartName="/ppt/media/TYPE.WAV" ContentType="audio/x-wav"/>
  <Override PartName="/ppt/media/image4.png" ContentType="image/png"/>
  <Override PartName="/ppt/media/image8.png" ContentType="image/png"/>
  <Override PartName="/ppt/media/WHOOSH.WAV" ContentType="audio/x-wav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39C-8174-4BF2-B386-CD2CF02F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1DF-BB64-4AD4-BA89-DB93C5B3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0B9-1947-4EAB-9411-E562749A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182-4A0F-4224-96C7-38981757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2CF0-BFE3-4DD8-847C-0BDF79F9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5065-4299-4065-A358-3EF1A779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D67B-9619-4120-ADE1-C26EAFA4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E69C-42AA-4C11-BCBA-1CD454B7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3969-636C-4AE7-92E9-E2EFF386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C8F7-A265-41D5-8766-B741B969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B924-A5CE-435E-8954-DE1FC399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2DF-5C00-4091-9164-A462D105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B5EE-6519-4188-9F91-7C03016D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E9B1-F202-4115-8894-38379FF3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6AC0-C74A-4915-B02C-6AD70E82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25B8-D9D9-422D-82F9-23586D7C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7710-1449-4AF4-89B4-89DAF97E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2F3-17EF-45B8-91E2-EB05E9F6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27C-D825-4BAB-8FA1-DD1B900D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F1C-0CB4-4A95-97C9-10257A12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2D8-17FE-47B4-8168-C1BDE4F7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FD4-A93E-4C95-90D7-02117158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9C6-43F0-4933-A387-EF2725D7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372-7B73-4F9F-A1F5-149D7A3A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9864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26C2-CAF0-4D4D-B255-00E51D18558C}" type="slidenum">
              <a:rPr b="0" lang="ar-SA" sz="1400" spc="-1" strike="noStrike">
                <a:solidFill>
                  <a:srgbClr val="cc9864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9864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D305-ABA4-4EDA-867A-6CF726BEB7A8}" type="slidenum">
              <a:rPr b="0" lang="ar-SA" sz="1400" spc="-1" strike="noStrike">
                <a:solidFill>
                  <a:srgbClr val="cc9864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frm=1&amp;source=images&amp;cd=&amp;cad=rja&amp;docid=_li0gcNGiHEA7M&amp;tbnid=paacQ5bt27V1vM:&amp;ved=&amp;url=http%3A%2F%2Fwww.nimbustier.net%2Fphotos%2F2005%2F11%2Fpantanal.html&amp;ei=XiYUU_z_MIfMtAaj9oDYCg&amp;psig=AFQjCNG5NC8XCTbe9O9sQ4YymXrAeam5cw&amp;ust=1393915832322981" TargetMode="External"/><Relationship Id="rId2" Type="http://schemas.openxmlformats.org/officeDocument/2006/relationships/image" Target="../media/image9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a3909"/>
                </a:solidFill>
                <a:latin typeface="Comic Sans MS"/>
              </a:rPr>
              <a:t>Alligators</a:t>
            </a: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51e07"/>
                </a:solidFill>
                <a:latin typeface="Comic Sans MS"/>
              </a:rPr>
              <a:t>Vs</a:t>
            </a: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8a408"/>
                </a:solidFill>
                <a:latin typeface="Comic Sans MS"/>
              </a:rPr>
              <a:t>Crocodiles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971800" cy="19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10080" y="2286000"/>
            <a:ext cx="3048120" cy="210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4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a3909"/>
                </a:solidFill>
                <a:latin typeface="Comic Sans MS"/>
              </a:rPr>
              <a:t>Alligators</a:t>
            </a: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51e07"/>
                </a:solidFill>
                <a:latin typeface="Comic Sans MS"/>
              </a:rPr>
              <a:t>Vs</a:t>
            </a: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8a408"/>
                </a:solidFill>
                <a:latin typeface="Comic Sans MS"/>
              </a:rPr>
              <a:t>Crocodiles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5029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a3909"/>
                </a:solidFill>
                <a:latin typeface="Comic Sans MS"/>
              </a:rPr>
              <a:t>Alligators</a:t>
            </a: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51e07"/>
                </a:solidFill>
                <a:latin typeface="Comic Sans MS"/>
              </a:rPr>
              <a:t>Vs</a:t>
            </a: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8a408"/>
                </a:solidFill>
                <a:latin typeface="Comic Sans MS"/>
              </a:rPr>
              <a:t>Crocodiles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7009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600"/>
                </a:solidFill>
                <a:latin typeface="Miriam Fixed"/>
                <a:cs typeface="Arial"/>
              </a:rPr>
              <a:t>حقائق أخرى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Comic Sans MS"/>
                <a:cs typeface="Arial"/>
              </a:rPr>
              <a:t>القاطور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llig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Comic Sans MS"/>
                <a:cs typeface="Arial"/>
              </a:rPr>
              <a:t>التمساح الأمريكي الإستوائي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ai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Comic Sans MS"/>
                <a:cs typeface="Arial"/>
              </a:rPr>
              <a:t>تمساح النيل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rocodiles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Comic Sans MS"/>
                <a:cs typeface="Arial"/>
              </a:rPr>
              <a:t>تمساح الهند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harial</a:t>
            </a:r>
            <a:r>
              <a:rPr b="1" lang="ar-SA" sz="3200" spc="-1" strike="noStrike">
                <a:solidFill>
                  <a:srgbClr val="008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772400" y="5638680"/>
            <a:ext cx="93996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600"/>
                </a:solidFill>
                <a:latin typeface="Miriam Fixed"/>
                <a:cs typeface="Arial"/>
              </a:rPr>
              <a:t>حقائق أخرى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تمساح النيل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rocod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أخضر زيتوني إلى ب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الخطم شكل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أكثر عدو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أفريقيا ، أستراليا ، أمريك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5,8</a:t>
            </a:r>
            <a:r>
              <a:rPr b="1" lang="ar-SA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 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تظهر الأسنان السفلية عند الإطبا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772400" y="5638680"/>
            <a:ext cx="939960" cy="943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88000" y="1557360"/>
            <a:ext cx="388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القاطور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Allig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رمادي إلى أسو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الخطم شكل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أقل عدو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جنوب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USA</a:t>
            </a:r>
            <a:r>
              <a:rPr b="1" lang="ar-SA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 والص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3,4</a:t>
            </a:r>
            <a:r>
              <a:rPr b="1" lang="ar-SA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 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لا تظهر أسنان الفك السفلي عند الإطبا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a3909"/>
                </a:solidFill>
                <a:latin typeface="Comic Sans MS"/>
              </a:rPr>
              <a:t>Alligators</a:t>
            </a: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51e07"/>
                </a:solidFill>
                <a:latin typeface="Comic Sans MS"/>
              </a:rPr>
              <a:t>Vs</a:t>
            </a: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8a408"/>
                </a:solidFill>
                <a:latin typeface="Comic Sans MS"/>
              </a:rPr>
              <a:t>Crocodiles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518508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a3909"/>
                </a:solidFill>
                <a:latin typeface="Comic Sans MS"/>
              </a:rPr>
              <a:t>Caiman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2133720"/>
            <a:ext cx="4991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Gharia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34400" cy="30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51436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0:12:03Z</dcterms:created>
  <dc:creator>Amy Guyette</dc:creator>
  <dc:description/>
  <dc:language>en-US</dc:language>
  <cp:lastModifiedBy>خالد</cp:lastModifiedBy>
  <dcterms:modified xsi:type="dcterms:W3CDTF">2014-03-03T07:03:37Z</dcterms:modified>
  <cp:revision>15</cp:revision>
  <dc:subject/>
  <dc:title>Alligators vs Crocodiles</dc:title>
</cp:coreProperties>
</file>