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A860-7D6C-4608-BC70-95832DA57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B053-6BBB-43FF-8120-0F0739C207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8B58-629B-4B52-82FD-E047FE2912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5EB-79FD-4C3E-92A6-A18ED86F1C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CE0C-5362-408A-B111-A63BB4A686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94C0-DBD4-4F75-98E1-72DD314644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ECEE-C258-4CB8-A3D2-E622D2B07B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A60B-557D-4D7D-A1E8-66A38404F4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39E8-4294-4F73-AAF3-43A7B13836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8EBA-300B-44A8-BBFA-5A120D0936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70E3-961C-46BB-A034-2641B85436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FEFC-929A-4D51-8CEA-C145DAC3B6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F379-82B2-4AD5-AC91-022DB81CD9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6C2E-2E82-4BE6-8673-648B47EDDF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0190-DAEB-4BB6-8C65-B692E40A04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1450-523C-4E17-9FF0-ED1FB68055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8E43-46D1-460B-8883-00675A6BF2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B511-C7A4-46D5-89E5-B043FCCA0C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92FE-7966-4561-82D1-D92F71F907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1FB-3410-48CE-8344-E8A863B9D6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75E9-8E05-4E4A-AC30-43CB5712B9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EBBB-9286-4AA5-BD5D-6F9FF7A981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3516-DE63-4736-8373-7EAC0A4212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A696-263A-46CC-BD09-F0D88EC9C1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3510-59E4-44E8-8D0D-215B86ADC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C719-62AB-4F5F-A3F0-C9C2E1B1C0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2714-B65E-4E16-9797-B9FC22A9F1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B6D3-A8B5-4586-984A-4A665EE974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B065-79AD-4529-97EA-5186D49BE9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9B7-BFC3-4DC0-8783-2CFD307981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EB6C-5CF7-4DA5-8629-C0BF8B2731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106C-88FA-4B83-8007-A870727F10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CB07-65B5-448D-9D13-9C4686B201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D768-17FD-4A04-B793-1795AC5FA7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CD3-2DC8-4B39-BF66-F4F99871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638-A0D0-4C02-B7CD-F8F6C85A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BA5-DB17-4D76-9E6C-8C8AFA3A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939-B721-48A4-A1E3-E81B0DEF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9A0B-07F4-40EB-863C-B0DB36DC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2A3D-EA03-4317-AE5C-75AB12C4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0AB9-E63E-4685-B63A-C7A3BEE5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2877-D1B8-49FF-BC01-C552D3A0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EDE2-E2B8-4F27-816E-709EA365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FF1D-663E-4222-B543-FF818617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3FF1-9EDF-4664-846E-EFD4A70C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3E0-42D8-47EC-9284-84DD86D0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3C8D-CCBA-49B8-80DF-523A9E32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94C5-BD52-42F7-90C3-F211111A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10E2-1C91-47EB-8047-B907F42B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DE07-E168-4F99-A010-92AA7EDF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877E-91B7-46BA-99D5-FE28143C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2EB-03C6-4134-9E83-58F332DC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DD4-A436-440C-BAA3-8C33F483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08A-B37A-4908-8F67-56BE3438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3A3-73A0-41E8-88D9-432E09DB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22C-4AA7-47AF-930C-308DD323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C8E-5A39-478F-9438-AE2A274D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E23-2DB1-4F24-82F1-0BCB817B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CB9B-584B-48D3-B3FA-46712842EF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88CC-84B9-45E2-A5B2-4559283490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Any other elements</a:t>
            </a: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-D Point Grou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ompatibility and 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3-D elements yields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2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</a:t>
            </a:r>
            <a:r>
              <a:rPr b="0" lang="en-US" sz="4800" spc="-1" strike="noStrike">
                <a:solidFill>
                  <a:srgbClr val="ffc000"/>
                </a:solidFill>
                <a:latin typeface="Arial"/>
              </a:rPr>
              <a:t>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31T22:59:58Z</dcterms:modified>
  <cp:revision>164</cp:revision>
  <dc:subject/>
  <dc:title>Chapter 8: Major Elements</dc:title>
</cp:coreProperties>
</file>