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2E98-1B24-4683-9651-6C939BF45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9407-89EC-481C-A24A-733A586CB7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141D-3BE9-49CC-96FE-ED700B19A9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A440-512F-48E3-93BB-D4A2948342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7910-EEB0-4F0E-89B4-07EFE05418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4A8-EDC0-4CE0-AECB-BCBD56B2DE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1537-421F-473B-BC8D-D68DDAFE47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0A35-040E-4672-BD50-57C699E410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A48F-1CCE-462C-AF14-B4ACB28FE8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1197-DF20-4C3C-96A7-4906B3777C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8121-D758-4E5D-905F-93377C45FC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CE4F-9837-4F71-A9DC-C48D2F2D63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7870-81BE-43F0-88EB-F427FE778B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99CB-AF76-4D88-967F-E1982619DB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820B-B9FB-4F3C-AA14-96DAB15595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7187-3730-44A5-8EEE-631B917FE3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BB42-5C99-4B87-8ED3-2C10592735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5A6E-A5CF-4C41-9580-26F85A01E3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12EF-7810-4B50-8F25-F65CF3B929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7153-798E-4763-BA34-EC8406B85B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0A21-FF7D-4C55-AC60-6D9C2E7E11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7687-8CF7-41B9-9ACA-BD3B6BF826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06F6-35D7-4021-9848-C60EB8F43F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9B65-CD0C-416F-9270-2080ADC6B1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C4DA-735F-45B7-9223-04E7FEDA8F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9F21-B0EA-493A-94D6-2FA26E7B9A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56D8-B1A9-4F1C-A6B2-E3F8CFD97F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9247-EE27-40F6-8EBA-87E6B6B4B2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DE24-6894-47C8-977B-9F7CC3EFF9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CE00-A47B-4B56-A7D6-13788C0C71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E4B1-8FA5-46CE-A9ED-C6D24D160A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C642-E2A7-4094-9EBC-F3C395196A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6A76-1A63-4760-A112-75ABF35361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4D9F-F210-4AFB-B9AF-477C2FEA79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2C4-ED46-4FD8-9E11-9354B7E1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B05-8252-42BB-94C1-B7EB4900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A27-59E1-463C-8D99-BC0E4F4D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216-6AD7-42AE-B5C9-822B3E2F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4E46-407C-4988-87EB-20B94841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63A6-3599-4C98-999B-681F8A17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6D53-5406-4D5F-83C6-2C2FA0AD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18FE-C141-47E6-827D-0040EF9E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5E3C-E414-4ECB-9754-95B24CD3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E9AB-B034-4403-9DA2-E08BEB85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024D-FA6F-4A4C-AFC3-7EFF4F65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D42-DE75-479D-9BEA-268B1ACB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B2C6-0B13-4F26-836E-79F10A41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3898-DB76-4121-9D03-1B95E79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F38-6D63-4817-B4B8-971BB4C1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6888-3054-4E08-944E-5E34C5E5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5F26-B458-45F6-A8B9-25A9B0EC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AFA-BDF8-4D68-A31A-A87E2C2A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092-7DD2-4F1E-A194-08A4A136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9A7-7B1E-4B4A-85E5-8B427CF7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3CD-05D2-4244-880C-DA11928D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A8F-5276-49DC-9D58-D3FFA766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DD0-8D92-405E-87D2-FE2ED32A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18E-36F2-4675-956C-8920B54A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B172-138F-4FD6-B3CC-6587F579F9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F926-46AA-411A-9518-3DAA16D9BD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Any other elements</a:t>
            </a: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-D Point Grou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ompatibility and 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3-D elements yields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2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</a:t>
            </a:r>
            <a:r>
              <a:rPr b="0" lang="en-US" sz="4800" spc="-1" strike="noStrike">
                <a:solidFill>
                  <a:srgbClr val="ffc000"/>
                </a:solidFill>
                <a:latin typeface="Arial"/>
              </a:rPr>
              <a:t>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31T22:59:58Z</dcterms:modified>
  <cp:revision>164</cp:revision>
  <dc:subject/>
  <dc:title>Chapter 8: Major Elements</dc:title>
</cp:coreProperties>
</file>