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944C-A43B-4001-B602-FD46F1062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07FE-9F6C-4DFD-B89D-5DE3BC56E1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7826-FCE2-4C82-87BD-FB16F300F8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74EB-B054-4631-BD2A-C47F1033EC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0E8F-17BB-405B-8BA8-B0247619BA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EA44-4F44-4F22-AB6D-1329AC30D3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221F-59C7-430C-AD5A-9A00505579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42EC-AB5C-4F04-83A8-75586BE090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6755-9B53-496B-8FB3-F61F5B7DC0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1AEF-15CD-4B1A-9A32-23D46191CF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A8D9-AAD5-4674-B981-651EC3C7C3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A9AC-AB61-4DEC-97DB-F2380C6019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6944-98F9-49E1-9353-25BF9DBB67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7745-D618-41D0-94A1-4FCF9A7885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6B9B-C978-4568-87C0-84277A2F0D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4D2C-A878-4E95-9405-4E63E68442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B5F6-71AA-4941-AD1E-2FF426165F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D8D3-252C-41B7-8D16-264E86AD4B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49F9-CB4B-40BC-9CB4-7AD2182CBD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F996-5C66-432B-A9C7-FD2A096648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7DAC-EC57-4BA2-BC79-8A3E3CD5F6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8319-88B2-4D0F-A1D3-A11B03EE14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EF31-8B28-489E-B85C-02AFDCC80F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A307-9080-4E67-A417-5F619736A9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2A34-810A-40EA-8AAE-E8E53F62FA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73DC-B625-412C-972B-833159578F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6A32-8B75-48A5-9264-F6BD4E5EBE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B1AF-C27C-4392-BB31-F2480A1176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E32C-AB1C-4724-A937-1BACC63389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EAAB-C1CF-4BF5-B73D-C5C8A098C3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1977-A28B-4B5E-9239-57A9DB8A88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A53A-5AF2-4F21-AE1B-38E5117783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D44D-5224-469C-92C7-DD94C9ABCD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9CE7-62D3-42B2-8578-2A8136EA51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925E-F560-40F2-A8BD-2DA35226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D6B0-6827-4359-87F2-07BD22CB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D126-CE09-4E56-AFA7-586B2782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35F9-7388-4789-A4B0-F6E2CB22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EF5D-B94E-4D05-B41D-C4170AD4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9303-7376-434F-BC21-D9B1BE75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C8F3-81AE-4097-84B6-E5F65101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3D06-2189-459F-8134-8B348944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D9F8-3079-4B37-B4F1-F7AE05B2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EE5B-BBA6-4465-9927-B1037D5A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B83A-8367-437F-B25A-52BBF625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ED47-288F-4736-ADBC-589169C1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6427-83CB-4DDB-9484-471C62C7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F369-4A57-4D28-987B-8DD1D80F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121B-4327-4E5E-8517-0AA8CAF7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D554-9FDA-478D-A3FE-D05A3191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E0C2-0E02-42F8-85E5-01DD3794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E836-71E3-4465-8159-CCDBC2F1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FCA9-2217-4793-BD2C-06EFCF1E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0083-256A-4D4F-984D-9DF3462A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6FDD-14FD-4CA3-9920-72C94F31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95F7-59F8-409F-9421-DADC6FC3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BC52-06D5-4DB2-B949-600E5906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CDC3-941B-4027-86BB-B7E9FEA5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A62D-3CCE-4513-A338-661EFF0F63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68C0-A3B5-4F1C-AE22-4F4727BC4E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ymmetry Elements II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90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91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94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198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199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02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21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11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12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15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19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20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23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9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24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Any other elements</a:t>
            </a: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35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36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39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43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44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47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235080" y="45291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int group name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24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25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7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60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61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64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68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69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72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7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932040" y="5140440"/>
            <a:ext cx="26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4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25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6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7"/>
          <p:cNvSpPr/>
          <p:nvPr/>
        </p:nvSpPr>
        <p:spPr>
          <a:xfrm>
            <a:off x="235080" y="45291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int group name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28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9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" name="Text Box 32"/>
          <p:cNvSpPr/>
          <p:nvPr/>
        </p:nvSpPr>
        <p:spPr>
          <a:xfrm>
            <a:off x="895320" y="5746680"/>
            <a:ext cx="26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hy not 4mmm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5169960" y="3983760"/>
            <a:ext cx="2540880" cy="15652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6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287" name="Freeform 7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8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Group 9"/>
          <p:cNvGrpSpPr/>
          <p:nvPr/>
        </p:nvGrpSpPr>
        <p:grpSpPr>
          <a:xfrm>
            <a:off x="7203600" y="4878000"/>
            <a:ext cx="786240" cy="1087560"/>
            <a:chOff x="7203600" y="4878000"/>
            <a:chExt cx="786240" cy="1087560"/>
          </a:xfrm>
        </p:grpSpPr>
        <p:sp>
          <p:nvSpPr>
            <p:cNvPr id="290" name="Freeform 10"/>
            <p:cNvSpPr/>
            <p:nvPr/>
          </p:nvSpPr>
          <p:spPr>
            <a:xfrm flipV="1" rot="17877000">
              <a:off x="7290000" y="55962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1"/>
            <p:cNvSpPr/>
            <p:nvPr/>
          </p:nvSpPr>
          <p:spPr>
            <a:xfrm flipH="1" flipV="1" rot="17877000">
              <a:off x="7647480" y="489780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Line 12"/>
          <p:cNvSpPr/>
          <p:nvPr/>
        </p:nvSpPr>
        <p:spPr>
          <a:xfrm>
            <a:off x="6462720" y="3263760"/>
            <a:ext cx="1440" cy="29847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242640" y="1472760"/>
            <a:ext cx="8615160" cy="17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fold rotation axis with a mirror creates point group 3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not 3mm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28"/>
          <p:cNvSpPr/>
          <p:nvPr/>
        </p:nvSpPr>
        <p:spPr>
          <a:xfrm flipH="1">
            <a:off x="5136120" y="4025880"/>
            <a:ext cx="2561040" cy="15321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Group 29"/>
          <p:cNvGrpSpPr/>
          <p:nvPr/>
        </p:nvGrpSpPr>
        <p:grpSpPr>
          <a:xfrm>
            <a:off x="4833000" y="4901400"/>
            <a:ext cx="937080" cy="1019160"/>
            <a:chOff x="4833000" y="4901400"/>
            <a:chExt cx="937080" cy="1019160"/>
          </a:xfrm>
        </p:grpSpPr>
        <p:sp>
          <p:nvSpPr>
            <p:cNvPr id="296" name="Freeform 30"/>
            <p:cNvSpPr/>
            <p:nvPr/>
          </p:nvSpPr>
          <p:spPr>
            <a:xfrm flipV="1" rot="3045000">
              <a:off x="4921200" y="49356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31"/>
            <p:cNvSpPr/>
            <p:nvPr/>
          </p:nvSpPr>
          <p:spPr>
            <a:xfrm flipH="1" flipV="1" rot="3045000">
              <a:off x="5425920" y="55360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AutoShape 32"/>
          <p:cNvSpPr/>
          <p:nvPr/>
        </p:nvSpPr>
        <p:spPr>
          <a:xfrm>
            <a:off x="6324480" y="4616280"/>
            <a:ext cx="304920" cy="25740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242640" y="1472760"/>
            <a:ext cx="852948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-fold rotation axis with a mirror creates point group 6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32"/>
          <p:cNvGrpSpPr/>
          <p:nvPr/>
        </p:nvGrpSpPr>
        <p:grpSpPr>
          <a:xfrm>
            <a:off x="4833000" y="3200400"/>
            <a:ext cx="3156840" cy="3048120"/>
            <a:chOff x="4833000" y="3200400"/>
            <a:chExt cx="3156840" cy="3048120"/>
          </a:xfrm>
        </p:grpSpPr>
        <p:sp>
          <p:nvSpPr>
            <p:cNvPr id="303" name="Line 3"/>
            <p:cNvSpPr/>
            <p:nvPr/>
          </p:nvSpPr>
          <p:spPr>
            <a:xfrm>
              <a:off x="5169960" y="3983760"/>
              <a:ext cx="2540880" cy="15652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Group 5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305" name="Freeform 6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7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8"/>
            <p:cNvGrpSpPr/>
            <p:nvPr/>
          </p:nvGrpSpPr>
          <p:grpSpPr>
            <a:xfrm>
              <a:off x="7203600" y="4878000"/>
              <a:ext cx="786240" cy="1087560"/>
              <a:chOff x="7203600" y="4878000"/>
              <a:chExt cx="786240" cy="1087560"/>
            </a:xfrm>
          </p:grpSpPr>
          <p:sp>
            <p:nvSpPr>
              <p:cNvPr id="308" name="Freeform 9"/>
              <p:cNvSpPr/>
              <p:nvPr/>
            </p:nvSpPr>
            <p:spPr>
              <a:xfrm flipV="1" rot="17877000">
                <a:off x="7290000" y="55962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0"/>
              <p:cNvSpPr/>
              <p:nvPr/>
            </p:nvSpPr>
            <p:spPr>
              <a:xfrm flipH="1" flipV="1" rot="17877000">
                <a:off x="7647480" y="489780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Line 11"/>
            <p:cNvSpPr/>
            <p:nvPr/>
          </p:nvSpPr>
          <p:spPr>
            <a:xfrm>
              <a:off x="6462720" y="3263760"/>
              <a:ext cx="1440" cy="29847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3"/>
            <p:cNvSpPr/>
            <p:nvPr/>
          </p:nvSpPr>
          <p:spPr>
            <a:xfrm flipH="1">
              <a:off x="5136120" y="4025880"/>
              <a:ext cx="2561040" cy="15321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2" name="Group 14"/>
            <p:cNvGrpSpPr/>
            <p:nvPr/>
          </p:nvGrpSpPr>
          <p:grpSpPr>
            <a:xfrm>
              <a:off x="4833000" y="4901400"/>
              <a:ext cx="937080" cy="1019160"/>
              <a:chOff x="4833000" y="4901400"/>
              <a:chExt cx="937080" cy="1019160"/>
            </a:xfrm>
          </p:grpSpPr>
          <p:sp>
            <p:nvSpPr>
              <p:cNvPr id="313" name="Freeform 15"/>
              <p:cNvSpPr/>
              <p:nvPr/>
            </p:nvSpPr>
            <p:spPr>
              <a:xfrm flipV="1" rot="3045000">
                <a:off x="4921200" y="49356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16"/>
              <p:cNvSpPr/>
              <p:nvPr/>
            </p:nvSpPr>
            <p:spPr>
              <a:xfrm flipH="1" flipV="1" rot="3045000">
                <a:off x="5425920" y="553608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Group 21"/>
          <p:cNvGrpSpPr/>
          <p:nvPr/>
        </p:nvGrpSpPr>
        <p:grpSpPr>
          <a:xfrm>
            <a:off x="7208640" y="3540240"/>
            <a:ext cx="820080" cy="1077480"/>
            <a:chOff x="7208640" y="3540240"/>
            <a:chExt cx="820080" cy="1077480"/>
          </a:xfrm>
        </p:grpSpPr>
        <p:sp>
          <p:nvSpPr>
            <p:cNvPr id="316" name="Freeform 22"/>
            <p:cNvSpPr/>
            <p:nvPr/>
          </p:nvSpPr>
          <p:spPr>
            <a:xfrm rot="3562800">
              <a:off x="7296120" y="3564360"/>
              <a:ext cx="255240" cy="34920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23"/>
            <p:cNvSpPr/>
            <p:nvPr/>
          </p:nvSpPr>
          <p:spPr>
            <a:xfrm flipH="1" rot="3562800">
              <a:off x="7685640" y="4244040"/>
              <a:ext cx="255240" cy="34920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Group 24"/>
          <p:cNvGrpSpPr/>
          <p:nvPr/>
        </p:nvGrpSpPr>
        <p:grpSpPr>
          <a:xfrm>
            <a:off x="5922000" y="5904720"/>
            <a:ext cx="1054440" cy="408600"/>
            <a:chOff x="5922000" y="5904720"/>
            <a:chExt cx="1054440" cy="408600"/>
          </a:xfrm>
        </p:grpSpPr>
        <p:sp>
          <p:nvSpPr>
            <p:cNvPr id="319" name="Freeform 25"/>
            <p:cNvSpPr/>
            <p:nvPr/>
          </p:nvSpPr>
          <p:spPr>
            <a:xfrm flipV="1" rot="21439800">
              <a:off x="5929920" y="59580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26"/>
            <p:cNvSpPr/>
            <p:nvPr/>
          </p:nvSpPr>
          <p:spPr>
            <a:xfrm flipH="1" flipV="1" rot="21439800">
              <a:off x="6712920" y="59104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Group 29"/>
          <p:cNvGrpSpPr/>
          <p:nvPr/>
        </p:nvGrpSpPr>
        <p:grpSpPr>
          <a:xfrm>
            <a:off x="4913280" y="3539880"/>
            <a:ext cx="674640" cy="1100520"/>
            <a:chOff x="4913280" y="3539880"/>
            <a:chExt cx="674640" cy="1100520"/>
          </a:xfrm>
        </p:grpSpPr>
        <p:sp>
          <p:nvSpPr>
            <p:cNvPr id="322" name="Freeform 30"/>
            <p:cNvSpPr/>
            <p:nvPr/>
          </p:nvSpPr>
          <p:spPr>
            <a:xfrm flipV="1" rot="6607800">
              <a:off x="5252400" y="3545280"/>
              <a:ext cx="255600" cy="34884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-360 h 348840"/>
                <a:gd name="textAreaBottom" fmla="*/ 348840 h 34884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31"/>
            <p:cNvSpPr/>
            <p:nvPr/>
          </p:nvSpPr>
          <p:spPr>
            <a:xfrm flipH="1" flipV="1" rot="6607800">
              <a:off x="4993200" y="4285800"/>
              <a:ext cx="255600" cy="34884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-360 h 348840"/>
                <a:gd name="textAreaBottom" fmla="*/ 348840 h 34884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Line 33"/>
          <p:cNvSpPr/>
          <p:nvPr/>
        </p:nvSpPr>
        <p:spPr>
          <a:xfrm>
            <a:off x="5653080" y="3394080"/>
            <a:ext cx="1612800" cy="27590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34"/>
          <p:cNvSpPr/>
          <p:nvPr/>
        </p:nvSpPr>
        <p:spPr>
          <a:xfrm flipV="1">
            <a:off x="5702400" y="3492000"/>
            <a:ext cx="1465200" cy="2551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35"/>
          <p:cNvSpPr/>
          <p:nvPr/>
        </p:nvSpPr>
        <p:spPr>
          <a:xfrm>
            <a:off x="4994280" y="4749840"/>
            <a:ext cx="2952720" cy="126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36"/>
          <p:cNvSpPr/>
          <p:nvPr/>
        </p:nvSpPr>
        <p:spPr>
          <a:xfrm>
            <a:off x="6284880" y="4605480"/>
            <a:ext cx="353880" cy="304560"/>
          </a:xfrm>
          <a:prstGeom prst="hexagon">
            <a:avLst>
              <a:gd name="adj" fmla="val 29048"/>
              <a:gd name="vf" fmla="val 115470"/>
            </a:avLst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242640" y="1473120"/>
            <a:ext cx="852948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riginal 6 elements plus the 4 combinations create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ssibl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-D Point Group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   2   3   4   6   m  2mm 3m 4mm 6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Any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-D pattern of objects surrounding a point must conform to one of these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93360" y="1162080"/>
            <a:ext cx="809316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in 2-D, the number of possible combinations is limited only b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ompatibility and redund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onl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ssible unique 3-D combinations, when combined with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l 3-D elements yields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2 3-D Poi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93720" y="755280"/>
            <a:ext cx="8082000" cy="14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32 3-D Point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3-D pattern must conform t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n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ncludes every crystal, and every point within a crys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18" descr=""/>
          <p:cNvPicPr/>
          <p:nvPr/>
        </p:nvPicPr>
        <p:blipFill>
          <a:blip r:embed="rId1"/>
          <a:stretch/>
        </p:blipFill>
        <p:spPr>
          <a:xfrm>
            <a:off x="270000" y="2746440"/>
            <a:ext cx="8588160" cy="33526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9"/>
          <p:cNvSpPr/>
          <p:nvPr/>
        </p:nvSpPr>
        <p:spPr>
          <a:xfrm>
            <a:off x="1562040" y="6262560"/>
            <a:ext cx="67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imes New Roman"/>
              </a:rPr>
              <a:t>Table 5.1 of Klein (2002) Manual of Mineral Science, John Wiley and S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ouping point groups that require a similar arrangement of axes to describe the crystal lattice. |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seven unique crystal syste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5480" y="43956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36320" y="2026800"/>
            <a:ext cx="833580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now hav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iqu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ymmetry opera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1   2   3   4   6  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3   4 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5760" y="4052880"/>
            <a:ext cx="83358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mbin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se elements are also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mple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alysis of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ymmetry about a point in sp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quires that we try all possible combinations of these symmetry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5549760" y="3132000"/>
            <a:ext cx="16524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6130800" y="3117960"/>
            <a:ext cx="16524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93720" y="1089000"/>
            <a:ext cx="8082000" cy="13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32 3-D Point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rouped by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rystal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20" descr=""/>
          <p:cNvPicPr/>
          <p:nvPr/>
        </p:nvPicPr>
        <p:blipFill>
          <a:blip r:embed="rId1"/>
          <a:stretch/>
        </p:blipFill>
        <p:spPr>
          <a:xfrm>
            <a:off x="1244520" y="2706840"/>
            <a:ext cx="6542280" cy="29574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21"/>
          <p:cNvSpPr/>
          <p:nvPr/>
        </p:nvSpPr>
        <p:spPr>
          <a:xfrm>
            <a:off x="1562040" y="6262560"/>
            <a:ext cx="67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imes New Roman"/>
              </a:rPr>
              <a:t>Table 5.3 of Klein (2002) Manual of Mineral Science, John Wiley and S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iclin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s between axes are not equ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: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9" descr="tricliniccrystal"/>
          <p:cNvPicPr/>
          <p:nvPr/>
        </p:nvPicPr>
        <p:blipFill>
          <a:blip r:embed="rId1"/>
          <a:stretch/>
        </p:blipFill>
        <p:spPr>
          <a:xfrm>
            <a:off x="509760" y="1717560"/>
            <a:ext cx="3930480" cy="2948040"/>
          </a:xfrm>
          <a:prstGeom prst="rect">
            <a:avLst/>
          </a:prstGeom>
          <a:ln w="0">
            <a:noFill/>
          </a:ln>
        </p:spPr>
      </p:pic>
      <p:sp>
        <p:nvSpPr>
          <p:cNvPr id="346" name="Line 10"/>
          <p:cNvSpPr/>
          <p:nvPr/>
        </p:nvSpPr>
        <p:spPr>
          <a:xfrm>
            <a:off x="7099200" y="435456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noclin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two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, m, 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6" descr="monocliniccrystal"/>
          <p:cNvPicPr/>
          <p:nvPr/>
        </p:nvPicPr>
        <p:blipFill>
          <a:blip r:embed="rId1"/>
          <a:stretch/>
        </p:blipFill>
        <p:spPr>
          <a:xfrm>
            <a:off x="371520" y="173988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rthorhomb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222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m2/m/2/m, 2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9" descr="tetragonalcrystal"/>
          <p:cNvPicPr/>
          <p:nvPr/>
        </p:nvPicPr>
        <p:blipFill>
          <a:blip r:embed="rId1"/>
          <a:stretch/>
        </p:blipFill>
        <p:spPr>
          <a:xfrm>
            <a:off x="457200" y="1633680"/>
            <a:ext cx="41022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etrago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xes of 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4, 4, 4/m, 4mm, 422, 42m, 4/m2/m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5" descr="orthorhombiccrystal"/>
          <p:cNvPicPr/>
          <p:nvPr/>
        </p:nvPicPr>
        <p:blipFill>
          <a:blip r:embed="rId1"/>
          <a:stretch/>
        </p:blipFill>
        <p:spPr>
          <a:xfrm>
            <a:off x="380880" y="1728720"/>
            <a:ext cx="4221360" cy="3165480"/>
          </a:xfrm>
          <a:prstGeom prst="rect">
            <a:avLst/>
          </a:prstGeom>
          <a:ln w="0">
            <a:noFill/>
          </a:ln>
        </p:spPr>
      </p:pic>
      <p:sp>
        <p:nvSpPr>
          <p:cNvPr id="356" name="Line 6"/>
          <p:cNvSpPr/>
          <p:nvPr/>
        </p:nvSpPr>
        <p:spPr>
          <a:xfrm>
            <a:off x="7723080" y="436572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7"/>
          <p:cNvSpPr/>
          <p:nvPr/>
        </p:nvSpPr>
        <p:spPr>
          <a:xfrm>
            <a:off x="7693200" y="4861080"/>
            <a:ext cx="16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exago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axes, three equal axes within one plan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between the 3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planar axes  is 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with remaining axis is 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groups: 6, 6, 6/m, 6mm, 622, 62m, 6/m2/m2/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7315200" y="480708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6"/>
          <p:cNvSpPr/>
          <p:nvPr/>
        </p:nvSpPr>
        <p:spPr>
          <a:xfrm>
            <a:off x="6629400" y="5151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Picture 8" descr="hexagonalcrystal"/>
          <p:cNvPicPr/>
          <p:nvPr/>
        </p:nvPicPr>
        <p:blipFill>
          <a:blip r:embed="rId1"/>
          <a:stretch/>
        </p:blipFill>
        <p:spPr>
          <a:xfrm>
            <a:off x="392040" y="17622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igonal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(Subset of Hexagonal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axes, three equal axes within one plan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between the 3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planar axes  is 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with remaining axis is 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groups: 3, 3, 3/m, 32, 32/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4"/>
          <p:cNvSpPr/>
          <p:nvPr/>
        </p:nvSpPr>
        <p:spPr>
          <a:xfrm>
            <a:off x="5583240" y="555948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7273800" y="5151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8" descr="trigonalcrystal"/>
          <p:cNvPicPr/>
          <p:nvPr/>
        </p:nvPicPr>
        <p:blipFill>
          <a:blip r:embed="rId1"/>
          <a:stretch/>
        </p:blipFill>
        <p:spPr>
          <a:xfrm>
            <a:off x="349200" y="16002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ubic / Isometr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axes of 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23, 423, 2/m3, 43m, 4/m3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5700600" y="4827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6"/>
          <p:cNvSpPr/>
          <p:nvPr/>
        </p:nvSpPr>
        <p:spPr>
          <a:xfrm>
            <a:off x="6078600" y="4827600"/>
            <a:ext cx="16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8" descr="cubiccrystal"/>
          <p:cNvPicPr/>
          <p:nvPr/>
        </p:nvPicPr>
        <p:blipFill>
          <a:blip r:embed="rId1"/>
          <a:stretch/>
        </p:blipFill>
        <p:spPr>
          <a:xfrm>
            <a:off x="380880" y="171936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373" name="Line 9"/>
          <p:cNvSpPr/>
          <p:nvPr/>
        </p:nvSpPr>
        <p:spPr>
          <a:xfrm>
            <a:off x="7553160" y="48402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04920" y="2286000"/>
            <a:ext cx="8534160" cy="3505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04920" y="1523880"/>
            <a:ext cx="85341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5943600" y="3733920"/>
            <a:ext cx="26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UN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04920" y="2286000"/>
            <a:ext cx="8534160" cy="3505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04920" y="1523880"/>
            <a:ext cx="85341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refringe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6782400" y="16765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ISOTR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6326640" y="373392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NISOTR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int Gro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t of symmetry operations that leave the appearance of the crystal structure unchanged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32 possible point group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.e., unique combinations of symmetry operations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304920" y="3733920"/>
            <a:ext cx="8534160" cy="2057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04920" y="2286000"/>
            <a:ext cx="853416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5410080" y="449568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UN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5638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TWO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304920" y="3733920"/>
            <a:ext cx="8534160" cy="2057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304920" y="2286000"/>
            <a:ext cx="853416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ference Fig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6860880" y="274320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UNIAX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6936840" y="44956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BIAX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304920" y="4419720"/>
            <a:ext cx="853416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304920" y="2286000"/>
            <a:ext cx="853416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4419720" y="44956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NON-ORTHO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5181480" y="28195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ORTHO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304920" y="4419720"/>
            <a:ext cx="853416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304920" y="2286000"/>
            <a:ext cx="853416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tin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6709320" y="312408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PARALL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6860880" y="48769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INC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combining a 2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ult i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int Group 2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mm”  indicates 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2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rrors are diffe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7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17" name="Freeform 8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Group 10"/>
          <p:cNvGrpSpPr/>
          <p:nvPr/>
        </p:nvGrpSpPr>
        <p:grpSpPr>
          <a:xfrm>
            <a:off x="5940360" y="5889240"/>
            <a:ext cx="1040040" cy="360360"/>
            <a:chOff x="5940360" y="5889240"/>
            <a:chExt cx="1040040" cy="360360"/>
          </a:xfrm>
        </p:grpSpPr>
        <p:sp>
          <p:nvSpPr>
            <p:cNvPr id="120" name="Freeform 11"/>
            <p:cNvSpPr/>
            <p:nvPr/>
          </p:nvSpPr>
          <p:spPr>
            <a:xfrm flipV="1">
              <a:off x="5940360" y="59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 flipH="1" flipV="1">
              <a:off x="6724800" y="588924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Line 14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6362640" y="4457880"/>
            <a:ext cx="177840" cy="622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</a:t>
            </a:r>
            <a:r>
              <a:rPr b="0" lang="en-US" sz="4800" spc="-1" strike="noStrike">
                <a:solidFill>
                  <a:srgbClr val="ffc000"/>
                </a:solidFill>
                <a:latin typeface="Arial"/>
              </a:rPr>
              <a:t>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6"/>
          <p:cNvSpPr/>
          <p:nvPr/>
        </p:nvSpPr>
        <p:spPr>
          <a:xfrm>
            <a:off x="5925960" y="3200400"/>
            <a:ext cx="255600" cy="349200"/>
          </a:xfrm>
          <a:custGeom>
            <a:avLst/>
            <a:gdLst>
              <a:gd name="textAreaLeft" fmla="*/ 0 w 255600"/>
              <a:gd name="textAreaRight" fmla="*/ 255960 w 25560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537" h="883">
                <a:moveTo>
                  <a:pt x="520" y="0"/>
                </a:moveTo>
                <a:lnTo>
                  <a:pt x="520" y="24"/>
                </a:lnTo>
                <a:lnTo>
                  <a:pt x="479" y="29"/>
                </a:lnTo>
                <a:lnTo>
                  <a:pt x="445" y="36"/>
                </a:lnTo>
                <a:lnTo>
                  <a:pt x="413" y="46"/>
                </a:lnTo>
                <a:lnTo>
                  <a:pt x="385" y="57"/>
                </a:lnTo>
                <a:lnTo>
                  <a:pt x="358" y="71"/>
                </a:lnTo>
                <a:lnTo>
                  <a:pt x="333" y="88"/>
                </a:lnTo>
                <a:lnTo>
                  <a:pt x="307" y="109"/>
                </a:lnTo>
                <a:lnTo>
                  <a:pt x="282" y="133"/>
                </a:lnTo>
                <a:lnTo>
                  <a:pt x="258" y="159"/>
                </a:lnTo>
                <a:lnTo>
                  <a:pt x="236" y="186"/>
                </a:lnTo>
                <a:lnTo>
                  <a:pt x="215" y="215"/>
                </a:lnTo>
                <a:lnTo>
                  <a:pt x="198" y="246"/>
                </a:lnTo>
                <a:lnTo>
                  <a:pt x="181" y="278"/>
                </a:lnTo>
                <a:lnTo>
                  <a:pt x="166" y="313"/>
                </a:lnTo>
                <a:lnTo>
                  <a:pt x="153" y="352"/>
                </a:lnTo>
                <a:lnTo>
                  <a:pt x="141" y="393"/>
                </a:lnTo>
                <a:lnTo>
                  <a:pt x="185" y="366"/>
                </a:lnTo>
                <a:lnTo>
                  <a:pt x="231" y="346"/>
                </a:lnTo>
                <a:lnTo>
                  <a:pt x="277" y="335"/>
                </a:lnTo>
                <a:lnTo>
                  <a:pt x="322" y="331"/>
                </a:lnTo>
                <a:lnTo>
                  <a:pt x="343" y="332"/>
                </a:lnTo>
                <a:lnTo>
                  <a:pt x="364" y="335"/>
                </a:lnTo>
                <a:lnTo>
                  <a:pt x="383" y="340"/>
                </a:lnTo>
                <a:lnTo>
                  <a:pt x="403" y="349"/>
                </a:lnTo>
                <a:lnTo>
                  <a:pt x="421" y="359"/>
                </a:lnTo>
                <a:lnTo>
                  <a:pt x="439" y="371"/>
                </a:lnTo>
                <a:lnTo>
                  <a:pt x="456" y="385"/>
                </a:lnTo>
                <a:lnTo>
                  <a:pt x="472" y="402"/>
                </a:lnTo>
                <a:lnTo>
                  <a:pt x="488" y="420"/>
                </a:lnTo>
                <a:lnTo>
                  <a:pt x="500" y="440"/>
                </a:lnTo>
                <a:lnTo>
                  <a:pt x="512" y="459"/>
                </a:lnTo>
                <a:lnTo>
                  <a:pt x="520" y="481"/>
                </a:lnTo>
                <a:lnTo>
                  <a:pt x="527" y="505"/>
                </a:lnTo>
                <a:lnTo>
                  <a:pt x="532" y="529"/>
                </a:lnTo>
                <a:lnTo>
                  <a:pt x="535" y="555"/>
                </a:lnTo>
                <a:lnTo>
                  <a:pt x="537" y="582"/>
                </a:lnTo>
                <a:lnTo>
                  <a:pt x="535" y="608"/>
                </a:lnTo>
                <a:lnTo>
                  <a:pt x="532" y="633"/>
                </a:lnTo>
                <a:lnTo>
                  <a:pt x="527" y="659"/>
                </a:lnTo>
                <a:lnTo>
                  <a:pt x="520" y="684"/>
                </a:lnTo>
                <a:lnTo>
                  <a:pt x="512" y="707"/>
                </a:lnTo>
                <a:lnTo>
                  <a:pt x="500" y="731"/>
                </a:lnTo>
                <a:lnTo>
                  <a:pt x="488" y="753"/>
                </a:lnTo>
                <a:lnTo>
                  <a:pt x="472" y="776"/>
                </a:lnTo>
                <a:lnTo>
                  <a:pt x="452" y="801"/>
                </a:lnTo>
                <a:lnTo>
                  <a:pt x="429" y="822"/>
                </a:lnTo>
                <a:lnTo>
                  <a:pt x="407" y="840"/>
                </a:lnTo>
                <a:lnTo>
                  <a:pt x="382" y="855"/>
                </a:lnTo>
                <a:lnTo>
                  <a:pt x="355" y="868"/>
                </a:lnTo>
                <a:lnTo>
                  <a:pt x="328" y="876"/>
                </a:lnTo>
                <a:lnTo>
                  <a:pt x="297" y="882"/>
                </a:lnTo>
                <a:lnTo>
                  <a:pt x="266" y="883"/>
                </a:lnTo>
                <a:lnTo>
                  <a:pt x="245" y="882"/>
                </a:lnTo>
                <a:lnTo>
                  <a:pt x="224" y="879"/>
                </a:lnTo>
                <a:lnTo>
                  <a:pt x="205" y="875"/>
                </a:lnTo>
                <a:lnTo>
                  <a:pt x="187" y="868"/>
                </a:lnTo>
                <a:lnTo>
                  <a:pt x="169" y="859"/>
                </a:lnTo>
                <a:lnTo>
                  <a:pt x="151" y="850"/>
                </a:lnTo>
                <a:lnTo>
                  <a:pt x="120" y="825"/>
                </a:lnTo>
                <a:lnTo>
                  <a:pt x="92" y="795"/>
                </a:lnTo>
                <a:lnTo>
                  <a:pt x="68" y="765"/>
                </a:lnTo>
                <a:lnTo>
                  <a:pt x="47" y="731"/>
                </a:lnTo>
                <a:lnTo>
                  <a:pt x="31" y="695"/>
                </a:lnTo>
                <a:lnTo>
                  <a:pt x="17" y="657"/>
                </a:lnTo>
                <a:lnTo>
                  <a:pt x="7" y="618"/>
                </a:lnTo>
                <a:lnTo>
                  <a:pt x="1" y="578"/>
                </a:lnTo>
                <a:lnTo>
                  <a:pt x="0" y="534"/>
                </a:lnTo>
                <a:lnTo>
                  <a:pt x="3" y="479"/>
                </a:lnTo>
                <a:lnTo>
                  <a:pt x="11" y="423"/>
                </a:lnTo>
                <a:lnTo>
                  <a:pt x="26" y="368"/>
                </a:lnTo>
                <a:lnTo>
                  <a:pt x="46" y="317"/>
                </a:lnTo>
                <a:lnTo>
                  <a:pt x="71" y="266"/>
                </a:lnTo>
                <a:lnTo>
                  <a:pt x="100" y="219"/>
                </a:lnTo>
                <a:lnTo>
                  <a:pt x="137" y="176"/>
                </a:lnTo>
                <a:lnTo>
                  <a:pt x="176" y="134"/>
                </a:lnTo>
                <a:lnTo>
                  <a:pt x="217" y="98"/>
                </a:lnTo>
                <a:lnTo>
                  <a:pt x="259" y="68"/>
                </a:lnTo>
                <a:lnTo>
                  <a:pt x="300" y="45"/>
                </a:lnTo>
                <a:lnTo>
                  <a:pt x="339" y="27"/>
                </a:lnTo>
                <a:lnTo>
                  <a:pt x="376" y="15"/>
                </a:lnTo>
                <a:lnTo>
                  <a:pt x="414" y="7"/>
                </a:lnTo>
                <a:lnTo>
                  <a:pt x="449" y="1"/>
                </a:lnTo>
                <a:lnTo>
                  <a:pt x="484" y="0"/>
                </a:lnTo>
                <a:lnTo>
                  <a:pt x="520" y="0"/>
                </a:lnTo>
                <a:close/>
                <a:moveTo>
                  <a:pt x="131" y="440"/>
                </a:moveTo>
                <a:lnTo>
                  <a:pt x="125" y="479"/>
                </a:lnTo>
                <a:lnTo>
                  <a:pt x="123" y="515"/>
                </a:lnTo>
                <a:lnTo>
                  <a:pt x="120" y="547"/>
                </a:lnTo>
                <a:lnTo>
                  <a:pt x="120" y="575"/>
                </a:lnTo>
                <a:lnTo>
                  <a:pt x="121" y="606"/>
                </a:lnTo>
                <a:lnTo>
                  <a:pt x="125" y="638"/>
                </a:lnTo>
                <a:lnTo>
                  <a:pt x="131" y="671"/>
                </a:lnTo>
                <a:lnTo>
                  <a:pt x="141" y="706"/>
                </a:lnTo>
                <a:lnTo>
                  <a:pt x="153" y="739"/>
                </a:lnTo>
                <a:lnTo>
                  <a:pt x="169" y="769"/>
                </a:lnTo>
                <a:lnTo>
                  <a:pt x="187" y="795"/>
                </a:lnTo>
                <a:lnTo>
                  <a:pt x="208" y="818"/>
                </a:lnTo>
                <a:lnTo>
                  <a:pt x="224" y="830"/>
                </a:lnTo>
                <a:lnTo>
                  <a:pt x="243" y="840"/>
                </a:lnTo>
                <a:lnTo>
                  <a:pt x="262" y="846"/>
                </a:lnTo>
                <a:lnTo>
                  <a:pt x="284" y="847"/>
                </a:lnTo>
                <a:lnTo>
                  <a:pt x="311" y="844"/>
                </a:lnTo>
                <a:lnTo>
                  <a:pt x="336" y="834"/>
                </a:lnTo>
                <a:lnTo>
                  <a:pt x="360" y="818"/>
                </a:lnTo>
                <a:lnTo>
                  <a:pt x="382" y="795"/>
                </a:lnTo>
                <a:lnTo>
                  <a:pt x="400" y="766"/>
                </a:lnTo>
                <a:lnTo>
                  <a:pt x="414" y="733"/>
                </a:lnTo>
                <a:lnTo>
                  <a:pt x="422" y="693"/>
                </a:lnTo>
                <a:lnTo>
                  <a:pt x="425" y="649"/>
                </a:lnTo>
                <a:lnTo>
                  <a:pt x="422" y="597"/>
                </a:lnTo>
                <a:lnTo>
                  <a:pt x="414" y="550"/>
                </a:lnTo>
                <a:lnTo>
                  <a:pt x="400" y="505"/>
                </a:lnTo>
                <a:lnTo>
                  <a:pt x="382" y="463"/>
                </a:lnTo>
                <a:lnTo>
                  <a:pt x="371" y="445"/>
                </a:lnTo>
                <a:lnTo>
                  <a:pt x="358" y="428"/>
                </a:lnTo>
                <a:lnTo>
                  <a:pt x="346" y="416"/>
                </a:lnTo>
                <a:lnTo>
                  <a:pt x="332" y="405"/>
                </a:lnTo>
                <a:lnTo>
                  <a:pt x="316" y="396"/>
                </a:lnTo>
                <a:lnTo>
                  <a:pt x="300" y="389"/>
                </a:lnTo>
                <a:lnTo>
                  <a:pt x="282" y="386"/>
                </a:lnTo>
                <a:lnTo>
                  <a:pt x="262" y="385"/>
                </a:lnTo>
                <a:lnTo>
                  <a:pt x="238" y="388"/>
                </a:lnTo>
                <a:lnTo>
                  <a:pt x="210" y="395"/>
                </a:lnTo>
                <a:lnTo>
                  <a:pt x="195" y="402"/>
                </a:lnTo>
                <a:lnTo>
                  <a:pt x="177" y="412"/>
                </a:lnTo>
                <a:lnTo>
                  <a:pt x="156" y="424"/>
                </a:lnTo>
                <a:lnTo>
                  <a:pt x="131" y="4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6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35" name="Freeform 7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Rectangle 13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45" name="Freeform 16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7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Group 22"/>
          <p:cNvGrpSpPr/>
          <p:nvPr/>
        </p:nvGrpSpPr>
        <p:grpSpPr>
          <a:xfrm>
            <a:off x="7635600" y="4197240"/>
            <a:ext cx="360360" cy="1040040"/>
            <a:chOff x="7635600" y="4197240"/>
            <a:chExt cx="360360" cy="1040040"/>
          </a:xfrm>
        </p:grpSpPr>
        <p:sp>
          <p:nvSpPr>
            <p:cNvPr id="148" name="Freeform 23"/>
            <p:cNvSpPr/>
            <p:nvPr/>
          </p:nvSpPr>
          <p:spPr>
            <a:xfrm rot="5400000">
              <a:off x="7693560" y="415044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 flipH="1" rot="5400000">
              <a:off x="7682400" y="49348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6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54" name="Group 7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55" name="Freeform 8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9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0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58" name="Freeform 11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2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Line 13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Group 15"/>
          <p:cNvGrpSpPr/>
          <p:nvPr/>
        </p:nvGrpSpPr>
        <p:grpSpPr>
          <a:xfrm>
            <a:off x="7635600" y="4197240"/>
            <a:ext cx="360360" cy="1040040"/>
            <a:chOff x="7635600" y="4197240"/>
            <a:chExt cx="360360" cy="1040040"/>
          </a:xfrm>
        </p:grpSpPr>
        <p:sp>
          <p:nvSpPr>
            <p:cNvPr id="162" name="Freeform 16"/>
            <p:cNvSpPr/>
            <p:nvPr/>
          </p:nvSpPr>
          <p:spPr>
            <a:xfrm rot="5400000">
              <a:off x="7693560" y="415044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7"/>
            <p:cNvSpPr/>
            <p:nvPr/>
          </p:nvSpPr>
          <p:spPr>
            <a:xfrm flipH="1" rot="5400000">
              <a:off x="7682400" y="49348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Rectangle 21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6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70" name="Group 7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71" name="Freeform 8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9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10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74" name="Freeform 11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12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Line 13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Group 14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178" name="Group 15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179" name="Freeform 16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7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8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182" name="Freeform 19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20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Rectangle 21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00:16:50Z</dcterms:created>
  <dc:creator>John D Winter</dc:creator>
  <dc:description/>
  <dc:language>en-US</dc:language>
  <cp:lastModifiedBy>ksu</cp:lastModifiedBy>
  <dcterms:modified xsi:type="dcterms:W3CDTF">2011-10-31T22:59:58Z</dcterms:modified>
  <cp:revision>164</cp:revision>
  <dc:subject/>
  <dc:title>Chapter 8: Major Elements</dc:title>
</cp:coreProperties>
</file>