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D60A-57B0-4790-BBF4-F793D1AB1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8465-796C-42BC-B0C5-76D4118E7F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9C40-2E14-4DA8-9F69-2200A6402E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27C7-B57A-4371-8251-1986A2C0E6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5DE0-BA34-4DFC-97A8-D2E0306D7D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058F-DF4C-4B2B-8DFC-5FB886BF66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84CCA-98C8-47FD-A9EA-3FF2B01336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1CBF-BF79-459F-8417-443FF4FC58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2BC9-0DDC-4D5A-B7C1-ABAB7EA294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071B-0365-412F-8A14-E99C438A66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BE24-89E9-4EBD-8FEE-9622C14258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EC67-2C55-4A10-BE5B-E5D74DB750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C9F5-C210-43A4-AFF5-67A2DDC50D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E2AB-4D7C-4F0E-9B27-94C463BFE9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D74F-1050-4F72-8A87-A89FD03C27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8633-4AE4-429E-9D1E-60C10E473B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8EAE-BEAC-40D0-A6CB-28360D4633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F954-3CE0-4C49-9837-D52259CA02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0368-9B59-42FB-8F0E-E634250406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E5D9-2BBA-407B-A4E8-1480B0DA12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3BD3-F7F4-4F0A-975B-0349166D53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842F-167A-4374-A5E7-AD27744477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BBEE-B868-45EA-818E-2D082CABC2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1350-501D-433C-8E06-2B63AADFF0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155C-042B-4CFF-8088-FDA79C6304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3CED-E33B-417A-8AFE-8575A66313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5023-17DE-4F41-830C-33182A6199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93F7-698F-4A46-85C5-90CA959EAA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9F19-DA47-4DD3-BC67-E0E8107B16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535E-D11B-472D-978E-7E47124985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6DA3-907B-4E54-8CF5-615A2662FF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B6F1-D1AD-498F-AEDB-1CAB24CAEC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D396-40AB-42B3-B8B6-68110E4C1D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C76B-0770-4F89-B266-251BD23C74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E63D-9D4B-4FEC-BED5-696F2F082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E1C3-7B21-4DA2-B597-227AEDBA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0812-C1FD-4B24-A22F-52BB2BDA7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6855-295C-44AF-A230-82458A9DA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B348-584D-4A7B-81AA-98CDEAD46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F7CC-1D9E-4DB9-86E8-91826E54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A98F-8827-42F3-BF99-D5EC7129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74133-D234-494F-B2AE-83F0E302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E9D34-20F3-4F7D-B049-9C1853B1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7D1B-71CA-469F-91B8-D80FA3A0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7ED5-DF31-4135-B488-73BC0F31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BAF8-6638-45C9-89B1-9FF11D77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E04E4-0B43-479E-9498-36665848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F097-088E-42E7-9B28-022D9A16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D2CE2-38AF-488E-9D52-878C35BA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F148-74E9-4930-86D6-CD3DA213B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F799-D0A9-474F-894C-5D5446938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68E8-EFC1-4F44-BC3F-CD808193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9807-C9DE-4D1D-B441-86F6209F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B9F9-3F47-4C19-B5B7-A62DD0D8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DF86-3584-4E3B-BEFA-E3B66597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AC49-7956-4373-A12D-6466DCE1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BFB1-3338-48AF-95B4-EE3C22C2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F1B2-1212-4963-8A23-041FF43C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D774-3AA0-4CD7-A4D6-428A3CA5C3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97BE-A371-40AA-9354-D93EFA46E5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Symmetry Elements II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" name="Group 5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190" name="Group 6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191" name="Freeform 7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8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9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194" name="Freeform 10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11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Line 12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Group 13"/>
          <p:cNvGrpSpPr/>
          <p:nvPr/>
        </p:nvGrpSpPr>
        <p:grpSpPr>
          <a:xfrm>
            <a:off x="4948200" y="4199040"/>
            <a:ext cx="3049200" cy="1053000"/>
            <a:chOff x="4948200" y="4199040"/>
            <a:chExt cx="3049200" cy="1053000"/>
          </a:xfrm>
        </p:grpSpPr>
        <p:grpSp>
          <p:nvGrpSpPr>
            <p:cNvPr id="198" name="Group 14"/>
            <p:cNvGrpSpPr/>
            <p:nvPr/>
          </p:nvGrpSpPr>
          <p:grpSpPr>
            <a:xfrm>
              <a:off x="7637040" y="4199040"/>
              <a:ext cx="360360" cy="1038960"/>
              <a:chOff x="7637040" y="4199040"/>
              <a:chExt cx="360360" cy="1038960"/>
            </a:xfrm>
          </p:grpSpPr>
          <p:sp>
            <p:nvSpPr>
              <p:cNvPr id="199" name="Freeform 15"/>
              <p:cNvSpPr/>
              <p:nvPr/>
            </p:nvSpPr>
            <p:spPr>
              <a:xfrm rot="5400000">
                <a:off x="7695000" y="415188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16"/>
              <p:cNvSpPr/>
              <p:nvPr/>
            </p:nvSpPr>
            <p:spPr>
              <a:xfrm flipH="1" rot="5400000">
                <a:off x="7683840" y="493560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17"/>
            <p:cNvGrpSpPr/>
            <p:nvPr/>
          </p:nvGrpSpPr>
          <p:grpSpPr>
            <a:xfrm>
              <a:off x="4948200" y="4213080"/>
              <a:ext cx="360360" cy="1038960"/>
              <a:chOff x="4948200" y="4213080"/>
              <a:chExt cx="360360" cy="1038960"/>
            </a:xfrm>
          </p:grpSpPr>
          <p:sp>
            <p:nvSpPr>
              <p:cNvPr id="202" name="Freeform 18"/>
              <p:cNvSpPr/>
              <p:nvPr/>
            </p:nvSpPr>
            <p:spPr>
              <a:xfrm flipV="1" rot="5400000">
                <a:off x="4995000" y="416556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19"/>
              <p:cNvSpPr/>
              <p:nvPr/>
            </p:nvSpPr>
            <p:spPr>
              <a:xfrm flipH="1" flipV="1" rot="5400000">
                <a:off x="5006160" y="494928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Rectangle 20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21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2"/>
          <p:cNvSpPr/>
          <p:nvPr/>
        </p:nvSpPr>
        <p:spPr>
          <a:xfrm>
            <a:off x="257040" y="2746440"/>
            <a:ext cx="35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Times New Roman"/>
              </a:rPr>
              <a:t>Any other elemen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Group 5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211" name="Group 6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212" name="Freeform 7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8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9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215" name="Freeform 10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11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Line 12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Group 13"/>
          <p:cNvGrpSpPr/>
          <p:nvPr/>
        </p:nvGrpSpPr>
        <p:grpSpPr>
          <a:xfrm>
            <a:off x="4948200" y="4199040"/>
            <a:ext cx="3049200" cy="1053000"/>
            <a:chOff x="4948200" y="4199040"/>
            <a:chExt cx="3049200" cy="1053000"/>
          </a:xfrm>
        </p:grpSpPr>
        <p:grpSp>
          <p:nvGrpSpPr>
            <p:cNvPr id="219" name="Group 14"/>
            <p:cNvGrpSpPr/>
            <p:nvPr/>
          </p:nvGrpSpPr>
          <p:grpSpPr>
            <a:xfrm>
              <a:off x="7637040" y="4199040"/>
              <a:ext cx="360360" cy="1038960"/>
              <a:chOff x="7637040" y="4199040"/>
              <a:chExt cx="360360" cy="1038960"/>
            </a:xfrm>
          </p:grpSpPr>
          <p:sp>
            <p:nvSpPr>
              <p:cNvPr id="220" name="Freeform 15"/>
              <p:cNvSpPr/>
              <p:nvPr/>
            </p:nvSpPr>
            <p:spPr>
              <a:xfrm rot="5400000">
                <a:off x="7695000" y="415188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6"/>
              <p:cNvSpPr/>
              <p:nvPr/>
            </p:nvSpPr>
            <p:spPr>
              <a:xfrm flipH="1" rot="5400000">
                <a:off x="7683840" y="493560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17"/>
            <p:cNvGrpSpPr/>
            <p:nvPr/>
          </p:nvGrpSpPr>
          <p:grpSpPr>
            <a:xfrm>
              <a:off x="4948200" y="4213080"/>
              <a:ext cx="360360" cy="1038960"/>
              <a:chOff x="4948200" y="4213080"/>
              <a:chExt cx="360360" cy="1038960"/>
            </a:xfrm>
          </p:grpSpPr>
          <p:sp>
            <p:nvSpPr>
              <p:cNvPr id="223" name="Freeform 18"/>
              <p:cNvSpPr/>
              <p:nvPr/>
            </p:nvSpPr>
            <p:spPr>
              <a:xfrm flipV="1" rot="5400000">
                <a:off x="4995000" y="416556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9"/>
              <p:cNvSpPr/>
              <p:nvPr/>
            </p:nvSpPr>
            <p:spPr>
              <a:xfrm flipH="1" flipV="1" rot="5400000">
                <a:off x="5006160" y="494928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19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304920" y="3882960"/>
            <a:ext cx="35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Times New Roman"/>
              </a:rPr>
              <a:t>Yes, two more mi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23"/>
          <p:cNvSpPr/>
          <p:nvPr/>
        </p:nvSpPr>
        <p:spPr>
          <a:xfrm flipV="1">
            <a:off x="5397480" y="3591000"/>
            <a:ext cx="2235240" cy="22464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24"/>
          <p:cNvSpPr/>
          <p:nvPr/>
        </p:nvSpPr>
        <p:spPr>
          <a:xfrm>
            <a:off x="5329080" y="3645720"/>
            <a:ext cx="2246400" cy="22352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20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25"/>
          <p:cNvSpPr/>
          <p:nvPr/>
        </p:nvSpPr>
        <p:spPr>
          <a:xfrm>
            <a:off x="257040" y="2746440"/>
            <a:ext cx="35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Times New Roman"/>
              </a:rPr>
              <a:t>Any other elements</a:t>
            </a:r>
            <a:r>
              <a:rPr b="0" lang="en-US" sz="2400" spc="-1" strike="noStrike">
                <a:solidFill>
                  <a:srgbClr val="010199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Group 5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235" name="Group 6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236" name="Freeform 7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8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9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239" name="Freeform 10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11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1" name="Line 12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Group 13"/>
          <p:cNvGrpSpPr/>
          <p:nvPr/>
        </p:nvGrpSpPr>
        <p:grpSpPr>
          <a:xfrm>
            <a:off x="4948200" y="4199040"/>
            <a:ext cx="3049200" cy="1053000"/>
            <a:chOff x="4948200" y="4199040"/>
            <a:chExt cx="3049200" cy="1053000"/>
          </a:xfrm>
        </p:grpSpPr>
        <p:grpSp>
          <p:nvGrpSpPr>
            <p:cNvPr id="243" name="Group 14"/>
            <p:cNvGrpSpPr/>
            <p:nvPr/>
          </p:nvGrpSpPr>
          <p:grpSpPr>
            <a:xfrm>
              <a:off x="7637040" y="4199040"/>
              <a:ext cx="360360" cy="1038960"/>
              <a:chOff x="7637040" y="4199040"/>
              <a:chExt cx="360360" cy="1038960"/>
            </a:xfrm>
          </p:grpSpPr>
          <p:sp>
            <p:nvSpPr>
              <p:cNvPr id="244" name="Freeform 15"/>
              <p:cNvSpPr/>
              <p:nvPr/>
            </p:nvSpPr>
            <p:spPr>
              <a:xfrm rot="5400000">
                <a:off x="7695000" y="415188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16"/>
              <p:cNvSpPr/>
              <p:nvPr/>
            </p:nvSpPr>
            <p:spPr>
              <a:xfrm flipH="1" rot="5400000">
                <a:off x="7683840" y="493560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17"/>
            <p:cNvGrpSpPr/>
            <p:nvPr/>
          </p:nvGrpSpPr>
          <p:grpSpPr>
            <a:xfrm>
              <a:off x="4948200" y="4213080"/>
              <a:ext cx="360360" cy="1038960"/>
              <a:chOff x="4948200" y="4213080"/>
              <a:chExt cx="360360" cy="1038960"/>
            </a:xfrm>
          </p:grpSpPr>
          <p:sp>
            <p:nvSpPr>
              <p:cNvPr id="247" name="Freeform 18"/>
              <p:cNvSpPr/>
              <p:nvPr/>
            </p:nvSpPr>
            <p:spPr>
              <a:xfrm flipV="1" rot="5400000">
                <a:off x="4995000" y="416556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19"/>
              <p:cNvSpPr/>
              <p:nvPr/>
            </p:nvSpPr>
            <p:spPr>
              <a:xfrm flipH="1" flipV="1" rot="5400000">
                <a:off x="5006160" y="494928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18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23"/>
          <p:cNvSpPr/>
          <p:nvPr/>
        </p:nvSpPr>
        <p:spPr>
          <a:xfrm>
            <a:off x="235080" y="4529160"/>
            <a:ext cx="35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int group name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24"/>
          <p:cNvSpPr/>
          <p:nvPr/>
        </p:nvSpPr>
        <p:spPr>
          <a:xfrm flipV="1">
            <a:off x="5397480" y="3591000"/>
            <a:ext cx="2235240" cy="2246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25"/>
          <p:cNvSpPr/>
          <p:nvPr/>
        </p:nvSpPr>
        <p:spPr>
          <a:xfrm>
            <a:off x="5329080" y="3645720"/>
            <a:ext cx="2246400" cy="2235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20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26"/>
          <p:cNvSpPr/>
          <p:nvPr/>
        </p:nvSpPr>
        <p:spPr>
          <a:xfrm>
            <a:off x="304920" y="3882960"/>
            <a:ext cx="35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Yes, two more mi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27"/>
          <p:cNvSpPr/>
          <p:nvPr/>
        </p:nvSpPr>
        <p:spPr>
          <a:xfrm>
            <a:off x="257040" y="2746440"/>
            <a:ext cx="35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y other elemen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" name="Group 5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260" name="Group 6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261" name="Freeform 7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8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9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264" name="Freeform 10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11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6" name="Line 12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Group 13"/>
          <p:cNvGrpSpPr/>
          <p:nvPr/>
        </p:nvGrpSpPr>
        <p:grpSpPr>
          <a:xfrm>
            <a:off x="4948200" y="4199040"/>
            <a:ext cx="3049200" cy="1053000"/>
            <a:chOff x="4948200" y="4199040"/>
            <a:chExt cx="3049200" cy="1053000"/>
          </a:xfrm>
        </p:grpSpPr>
        <p:grpSp>
          <p:nvGrpSpPr>
            <p:cNvPr id="268" name="Group 14"/>
            <p:cNvGrpSpPr/>
            <p:nvPr/>
          </p:nvGrpSpPr>
          <p:grpSpPr>
            <a:xfrm>
              <a:off x="7637040" y="4199040"/>
              <a:ext cx="360360" cy="1038960"/>
              <a:chOff x="7637040" y="4199040"/>
              <a:chExt cx="360360" cy="1038960"/>
            </a:xfrm>
          </p:grpSpPr>
          <p:sp>
            <p:nvSpPr>
              <p:cNvPr id="269" name="Freeform 15"/>
              <p:cNvSpPr/>
              <p:nvPr/>
            </p:nvSpPr>
            <p:spPr>
              <a:xfrm rot="5400000">
                <a:off x="7695000" y="415188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16"/>
              <p:cNvSpPr/>
              <p:nvPr/>
            </p:nvSpPr>
            <p:spPr>
              <a:xfrm flipH="1" rot="5400000">
                <a:off x="7683840" y="493560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17"/>
            <p:cNvGrpSpPr/>
            <p:nvPr/>
          </p:nvGrpSpPr>
          <p:grpSpPr>
            <a:xfrm>
              <a:off x="4948200" y="4213080"/>
              <a:ext cx="360360" cy="1038960"/>
              <a:chOff x="4948200" y="4213080"/>
              <a:chExt cx="360360" cy="1038960"/>
            </a:xfrm>
          </p:grpSpPr>
          <p:sp>
            <p:nvSpPr>
              <p:cNvPr id="272" name="Freeform 18"/>
              <p:cNvSpPr/>
              <p:nvPr/>
            </p:nvSpPr>
            <p:spPr>
              <a:xfrm flipV="1" rot="5400000">
                <a:off x="4995000" y="416556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19"/>
              <p:cNvSpPr/>
              <p:nvPr/>
            </p:nvSpPr>
            <p:spPr>
              <a:xfrm flipH="1" flipV="1" rot="5400000">
                <a:off x="5006160" y="494928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17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24"/>
          <p:cNvSpPr/>
          <p:nvPr/>
        </p:nvSpPr>
        <p:spPr>
          <a:xfrm>
            <a:off x="932040" y="5140440"/>
            <a:ext cx="26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4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25"/>
          <p:cNvSpPr/>
          <p:nvPr/>
        </p:nvSpPr>
        <p:spPr>
          <a:xfrm flipV="1">
            <a:off x="5397480" y="3591000"/>
            <a:ext cx="2235240" cy="22464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26"/>
          <p:cNvSpPr/>
          <p:nvPr/>
        </p:nvSpPr>
        <p:spPr>
          <a:xfrm>
            <a:off x="5329080" y="3645720"/>
            <a:ext cx="2246400" cy="22352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20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27"/>
          <p:cNvSpPr/>
          <p:nvPr/>
        </p:nvSpPr>
        <p:spPr>
          <a:xfrm>
            <a:off x="235080" y="4529160"/>
            <a:ext cx="35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int group name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28"/>
          <p:cNvSpPr/>
          <p:nvPr/>
        </p:nvSpPr>
        <p:spPr>
          <a:xfrm>
            <a:off x="304920" y="3882960"/>
            <a:ext cx="35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Yes, two more mi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29"/>
          <p:cNvSpPr/>
          <p:nvPr/>
        </p:nvSpPr>
        <p:spPr>
          <a:xfrm>
            <a:off x="257040" y="2746440"/>
            <a:ext cx="35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y other elemen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3" name="Text Box 32"/>
          <p:cNvSpPr/>
          <p:nvPr/>
        </p:nvSpPr>
        <p:spPr>
          <a:xfrm>
            <a:off x="895320" y="5746680"/>
            <a:ext cx="26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hy not 4mmm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3"/>
          <p:cNvSpPr/>
          <p:nvPr/>
        </p:nvSpPr>
        <p:spPr>
          <a:xfrm>
            <a:off x="5169960" y="3983760"/>
            <a:ext cx="2540880" cy="156528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Group 6"/>
          <p:cNvGrpSpPr/>
          <p:nvPr/>
        </p:nvGrpSpPr>
        <p:grpSpPr>
          <a:xfrm>
            <a:off x="5925960" y="3200400"/>
            <a:ext cx="1040040" cy="360360"/>
            <a:chOff x="5925960" y="3200400"/>
            <a:chExt cx="1040040" cy="360360"/>
          </a:xfrm>
        </p:grpSpPr>
        <p:sp>
          <p:nvSpPr>
            <p:cNvPr id="287" name="Freeform 7"/>
            <p:cNvSpPr/>
            <p:nvPr/>
          </p:nvSpPr>
          <p:spPr>
            <a:xfrm>
              <a:off x="5925960" y="32004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8"/>
            <p:cNvSpPr/>
            <p:nvPr/>
          </p:nvSpPr>
          <p:spPr>
            <a:xfrm flipH="1">
              <a:off x="6710400" y="321156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9" name="Group 9"/>
          <p:cNvGrpSpPr/>
          <p:nvPr/>
        </p:nvGrpSpPr>
        <p:grpSpPr>
          <a:xfrm>
            <a:off x="7203600" y="4878000"/>
            <a:ext cx="786240" cy="1087560"/>
            <a:chOff x="7203600" y="4878000"/>
            <a:chExt cx="786240" cy="1087560"/>
          </a:xfrm>
        </p:grpSpPr>
        <p:sp>
          <p:nvSpPr>
            <p:cNvPr id="290" name="Freeform 10"/>
            <p:cNvSpPr/>
            <p:nvPr/>
          </p:nvSpPr>
          <p:spPr>
            <a:xfrm flipV="1" rot="17877000">
              <a:off x="7290000" y="55962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11"/>
            <p:cNvSpPr/>
            <p:nvPr/>
          </p:nvSpPr>
          <p:spPr>
            <a:xfrm flipH="1" flipV="1" rot="17877000">
              <a:off x="7647480" y="489780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2" name="Line 12"/>
          <p:cNvSpPr/>
          <p:nvPr/>
        </p:nvSpPr>
        <p:spPr>
          <a:xfrm>
            <a:off x="6462720" y="3263760"/>
            <a:ext cx="1440" cy="298476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242640" y="1472760"/>
            <a:ext cx="8615160" cy="17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-fold rotation axis with a mirror creates point group 3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not 3mm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28"/>
          <p:cNvSpPr/>
          <p:nvPr/>
        </p:nvSpPr>
        <p:spPr>
          <a:xfrm flipH="1">
            <a:off x="5136120" y="4025880"/>
            <a:ext cx="2561040" cy="153216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5" name="Group 29"/>
          <p:cNvGrpSpPr/>
          <p:nvPr/>
        </p:nvGrpSpPr>
        <p:grpSpPr>
          <a:xfrm>
            <a:off x="4833000" y="4901400"/>
            <a:ext cx="937080" cy="1019160"/>
            <a:chOff x="4833000" y="4901400"/>
            <a:chExt cx="937080" cy="1019160"/>
          </a:xfrm>
        </p:grpSpPr>
        <p:sp>
          <p:nvSpPr>
            <p:cNvPr id="296" name="Freeform 30"/>
            <p:cNvSpPr/>
            <p:nvPr/>
          </p:nvSpPr>
          <p:spPr>
            <a:xfrm flipV="1" rot="3045000">
              <a:off x="4921200" y="49356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31"/>
            <p:cNvSpPr/>
            <p:nvPr/>
          </p:nvSpPr>
          <p:spPr>
            <a:xfrm flipH="1" flipV="1" rot="3045000">
              <a:off x="5425920" y="553608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AutoShape 32"/>
          <p:cNvSpPr/>
          <p:nvPr/>
        </p:nvSpPr>
        <p:spPr>
          <a:xfrm>
            <a:off x="6324480" y="4616280"/>
            <a:ext cx="304920" cy="257400"/>
          </a:xfrm>
          <a:prstGeom prst="triangle">
            <a:avLst>
              <a:gd name="adj" fmla="val 50000"/>
            </a:avLst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242640" y="1472760"/>
            <a:ext cx="8529480" cy="12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-fold rotation axis with a mirror creates point group 6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Group 32"/>
          <p:cNvGrpSpPr/>
          <p:nvPr/>
        </p:nvGrpSpPr>
        <p:grpSpPr>
          <a:xfrm>
            <a:off x="4833000" y="3200400"/>
            <a:ext cx="3156840" cy="3048120"/>
            <a:chOff x="4833000" y="3200400"/>
            <a:chExt cx="3156840" cy="3048120"/>
          </a:xfrm>
        </p:grpSpPr>
        <p:sp>
          <p:nvSpPr>
            <p:cNvPr id="303" name="Line 3"/>
            <p:cNvSpPr/>
            <p:nvPr/>
          </p:nvSpPr>
          <p:spPr>
            <a:xfrm>
              <a:off x="5169960" y="3983760"/>
              <a:ext cx="2540880" cy="156528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4" name="Group 5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305" name="Freeform 6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7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7" name="Group 8"/>
            <p:cNvGrpSpPr/>
            <p:nvPr/>
          </p:nvGrpSpPr>
          <p:grpSpPr>
            <a:xfrm>
              <a:off x="7203600" y="4878000"/>
              <a:ext cx="786240" cy="1087560"/>
              <a:chOff x="7203600" y="4878000"/>
              <a:chExt cx="786240" cy="1087560"/>
            </a:xfrm>
          </p:grpSpPr>
          <p:sp>
            <p:nvSpPr>
              <p:cNvPr id="308" name="Freeform 9"/>
              <p:cNvSpPr/>
              <p:nvPr/>
            </p:nvSpPr>
            <p:spPr>
              <a:xfrm flipV="1" rot="17877000">
                <a:off x="7290000" y="55962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10"/>
              <p:cNvSpPr/>
              <p:nvPr/>
            </p:nvSpPr>
            <p:spPr>
              <a:xfrm flipH="1" flipV="1" rot="17877000">
                <a:off x="7647480" y="489780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0" name="Line 11"/>
            <p:cNvSpPr/>
            <p:nvPr/>
          </p:nvSpPr>
          <p:spPr>
            <a:xfrm>
              <a:off x="6462720" y="3263760"/>
              <a:ext cx="1440" cy="298476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13"/>
            <p:cNvSpPr/>
            <p:nvPr/>
          </p:nvSpPr>
          <p:spPr>
            <a:xfrm flipH="1">
              <a:off x="5136120" y="4025880"/>
              <a:ext cx="2561040" cy="153216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2" name="Group 14"/>
            <p:cNvGrpSpPr/>
            <p:nvPr/>
          </p:nvGrpSpPr>
          <p:grpSpPr>
            <a:xfrm>
              <a:off x="4833000" y="4901400"/>
              <a:ext cx="937080" cy="1019160"/>
              <a:chOff x="4833000" y="4901400"/>
              <a:chExt cx="937080" cy="1019160"/>
            </a:xfrm>
          </p:grpSpPr>
          <p:sp>
            <p:nvSpPr>
              <p:cNvPr id="313" name="Freeform 15"/>
              <p:cNvSpPr/>
              <p:nvPr/>
            </p:nvSpPr>
            <p:spPr>
              <a:xfrm flipV="1" rot="3045000">
                <a:off x="4921200" y="49356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16"/>
              <p:cNvSpPr/>
              <p:nvPr/>
            </p:nvSpPr>
            <p:spPr>
              <a:xfrm flipH="1" flipV="1" rot="3045000">
                <a:off x="5425920" y="553608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15" name="Group 21"/>
          <p:cNvGrpSpPr/>
          <p:nvPr/>
        </p:nvGrpSpPr>
        <p:grpSpPr>
          <a:xfrm>
            <a:off x="7208640" y="3540240"/>
            <a:ext cx="820080" cy="1077480"/>
            <a:chOff x="7208640" y="3540240"/>
            <a:chExt cx="820080" cy="1077480"/>
          </a:xfrm>
        </p:grpSpPr>
        <p:sp>
          <p:nvSpPr>
            <p:cNvPr id="316" name="Freeform 22"/>
            <p:cNvSpPr/>
            <p:nvPr/>
          </p:nvSpPr>
          <p:spPr>
            <a:xfrm rot="3562800">
              <a:off x="7296120" y="3564360"/>
              <a:ext cx="255240" cy="34920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Freeform 23"/>
            <p:cNvSpPr/>
            <p:nvPr/>
          </p:nvSpPr>
          <p:spPr>
            <a:xfrm flipH="1" rot="3562800">
              <a:off x="7685640" y="4244040"/>
              <a:ext cx="255240" cy="34920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Group 24"/>
          <p:cNvGrpSpPr/>
          <p:nvPr/>
        </p:nvGrpSpPr>
        <p:grpSpPr>
          <a:xfrm>
            <a:off x="5922000" y="5904720"/>
            <a:ext cx="1054440" cy="408600"/>
            <a:chOff x="5922000" y="5904720"/>
            <a:chExt cx="1054440" cy="408600"/>
          </a:xfrm>
        </p:grpSpPr>
        <p:sp>
          <p:nvSpPr>
            <p:cNvPr id="319" name="Freeform 25"/>
            <p:cNvSpPr/>
            <p:nvPr/>
          </p:nvSpPr>
          <p:spPr>
            <a:xfrm flipV="1" rot="21439800">
              <a:off x="5929920" y="59580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Freeform 26"/>
            <p:cNvSpPr/>
            <p:nvPr/>
          </p:nvSpPr>
          <p:spPr>
            <a:xfrm flipH="1" flipV="1" rot="21439800">
              <a:off x="6712920" y="591048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Group 29"/>
          <p:cNvGrpSpPr/>
          <p:nvPr/>
        </p:nvGrpSpPr>
        <p:grpSpPr>
          <a:xfrm>
            <a:off x="4913280" y="3539880"/>
            <a:ext cx="674640" cy="1100520"/>
            <a:chOff x="4913280" y="3539880"/>
            <a:chExt cx="674640" cy="1100520"/>
          </a:xfrm>
        </p:grpSpPr>
        <p:sp>
          <p:nvSpPr>
            <p:cNvPr id="322" name="Freeform 30"/>
            <p:cNvSpPr/>
            <p:nvPr/>
          </p:nvSpPr>
          <p:spPr>
            <a:xfrm flipV="1" rot="6607800">
              <a:off x="5252400" y="3545280"/>
              <a:ext cx="255600" cy="34884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-360 h 348840"/>
                <a:gd name="textAreaBottom" fmla="*/ 348840 h 34884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31"/>
            <p:cNvSpPr/>
            <p:nvPr/>
          </p:nvSpPr>
          <p:spPr>
            <a:xfrm flipH="1" flipV="1" rot="6607800">
              <a:off x="4993200" y="4285800"/>
              <a:ext cx="255600" cy="34884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-360 h 348840"/>
                <a:gd name="textAreaBottom" fmla="*/ 348840 h 34884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4" name="Line 33"/>
          <p:cNvSpPr/>
          <p:nvPr/>
        </p:nvSpPr>
        <p:spPr>
          <a:xfrm>
            <a:off x="5653080" y="3394080"/>
            <a:ext cx="1612800" cy="27590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Line 34"/>
          <p:cNvSpPr/>
          <p:nvPr/>
        </p:nvSpPr>
        <p:spPr>
          <a:xfrm flipV="1">
            <a:off x="5702400" y="3492000"/>
            <a:ext cx="1465200" cy="2551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Line 35"/>
          <p:cNvSpPr/>
          <p:nvPr/>
        </p:nvSpPr>
        <p:spPr>
          <a:xfrm>
            <a:off x="4994280" y="4749840"/>
            <a:ext cx="2952720" cy="126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AutoShape 36"/>
          <p:cNvSpPr/>
          <p:nvPr/>
        </p:nvSpPr>
        <p:spPr>
          <a:xfrm>
            <a:off x="6284880" y="4605480"/>
            <a:ext cx="353880" cy="304560"/>
          </a:xfrm>
          <a:prstGeom prst="hexagon">
            <a:avLst>
              <a:gd name="adj" fmla="val 29048"/>
              <a:gd name="vf" fmla="val 115470"/>
            </a:avLst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242640" y="1473120"/>
            <a:ext cx="852948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0040" indent="-23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riginal 6 elements plus the 4 combinations creates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ossibl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-D Point Group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   2   3   4   6   m  2mm 3m 4mm 6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Any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-D pattern of objects surrounding a point must conform to one of these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3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693360" y="1162080"/>
            <a:ext cx="8093160" cy="30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0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in 2-D, the number of possible combinations is limited only by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compatibility and redunda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only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ossible unique 3-D combinations, when combined with th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0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iginal 3-D elements yields th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2 3-D Poi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3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93720" y="755280"/>
            <a:ext cx="8082000" cy="14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0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32 3-D Point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 3-D pattern must conform to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n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ncludes every crystal, and every point within a crys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18" descr=""/>
          <p:cNvPicPr/>
          <p:nvPr/>
        </p:nvPicPr>
        <p:blipFill>
          <a:blip r:embed="rId1"/>
          <a:stretch/>
        </p:blipFill>
        <p:spPr>
          <a:xfrm>
            <a:off x="270000" y="2746440"/>
            <a:ext cx="8588160" cy="335268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19"/>
          <p:cNvSpPr/>
          <p:nvPr/>
        </p:nvSpPr>
        <p:spPr>
          <a:xfrm>
            <a:off x="1562040" y="6262560"/>
            <a:ext cx="67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199"/>
                </a:solidFill>
                <a:latin typeface="Times New Roman"/>
              </a:rPr>
              <a:t>Table 5.1 of Klein (2002) Manual of Mineral Science, John Wiley and S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rystal System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rouping point groups that require a similar arrangement of axes to describe the crystal lattice. |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seven unique crystal system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55480" y="43956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3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36320" y="2026800"/>
            <a:ext cx="833580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now hav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niqu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3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ymmetry operation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1   2   3   4   6  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3   4  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55760" y="4052880"/>
            <a:ext cx="8335800" cy="24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ombina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these elements are also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omple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alysis of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ymmetry about a point in spa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quires that we try all possible combinations of these symmetry el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5549760" y="3132000"/>
            <a:ext cx="16524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6130800" y="3117960"/>
            <a:ext cx="16524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3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93720" y="1089000"/>
            <a:ext cx="8082000" cy="13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0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32 3-D Point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rouped by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Crystal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20" descr=""/>
          <p:cNvPicPr/>
          <p:nvPr/>
        </p:nvPicPr>
        <p:blipFill>
          <a:blip r:embed="rId1"/>
          <a:stretch/>
        </p:blipFill>
        <p:spPr>
          <a:xfrm>
            <a:off x="1244520" y="2706840"/>
            <a:ext cx="6542280" cy="29574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21"/>
          <p:cNvSpPr/>
          <p:nvPr/>
        </p:nvSpPr>
        <p:spPr>
          <a:xfrm>
            <a:off x="1562040" y="6262560"/>
            <a:ext cx="67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199"/>
                </a:solidFill>
                <a:latin typeface="Times New Roman"/>
              </a:rPr>
              <a:t>Table 5.3 of Klein (2002) Manual of Mineral Science, John Wiley and S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riclinic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axes of unequal leng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les between axes are not equ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 group: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Picture 9" descr="tricliniccrystal"/>
          <p:cNvPicPr/>
          <p:nvPr/>
        </p:nvPicPr>
        <p:blipFill>
          <a:blip r:embed="rId1"/>
          <a:stretch/>
        </p:blipFill>
        <p:spPr>
          <a:xfrm>
            <a:off x="509760" y="1717560"/>
            <a:ext cx="3930480" cy="2948040"/>
          </a:xfrm>
          <a:prstGeom prst="rect">
            <a:avLst/>
          </a:prstGeom>
          <a:ln w="0">
            <a:noFill/>
          </a:ln>
        </p:spPr>
      </p:pic>
      <p:sp>
        <p:nvSpPr>
          <p:cNvPr id="346" name="Line 10"/>
          <p:cNvSpPr/>
          <p:nvPr/>
        </p:nvSpPr>
        <p:spPr>
          <a:xfrm>
            <a:off x="7099200" y="435456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noclinic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axes of unequal leng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le between two axes is 9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 groups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, m, 2/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6" descr="monocliniccrystal"/>
          <p:cNvPicPr/>
          <p:nvPr/>
        </p:nvPicPr>
        <p:blipFill>
          <a:blip r:embed="rId1"/>
          <a:stretch/>
        </p:blipFill>
        <p:spPr>
          <a:xfrm>
            <a:off x="371520" y="1739880"/>
            <a:ext cx="417672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rthorhombic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axes of unequal leng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le between all axes is 9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 groups: 222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/m2/m/2/m, 2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Picture 9" descr="tetragonalcrystal"/>
          <p:cNvPicPr/>
          <p:nvPr/>
        </p:nvPicPr>
        <p:blipFill>
          <a:blip r:embed="rId1"/>
          <a:stretch/>
        </p:blipFill>
        <p:spPr>
          <a:xfrm>
            <a:off x="457200" y="1633680"/>
            <a:ext cx="41022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etragon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axes of equal leng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le between all axes is 9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 groups: 4, 4, 4/m, 4mm, 422, 42m, 4/m2/m2/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Picture 5" descr="orthorhombiccrystal"/>
          <p:cNvPicPr/>
          <p:nvPr/>
        </p:nvPicPr>
        <p:blipFill>
          <a:blip r:embed="rId1"/>
          <a:stretch/>
        </p:blipFill>
        <p:spPr>
          <a:xfrm>
            <a:off x="380880" y="1728720"/>
            <a:ext cx="4221360" cy="3165480"/>
          </a:xfrm>
          <a:prstGeom prst="rect">
            <a:avLst/>
          </a:prstGeom>
          <a:ln w="0">
            <a:noFill/>
          </a:ln>
        </p:spPr>
      </p:pic>
      <p:sp>
        <p:nvSpPr>
          <p:cNvPr id="356" name="Line 6"/>
          <p:cNvSpPr/>
          <p:nvPr/>
        </p:nvSpPr>
        <p:spPr>
          <a:xfrm>
            <a:off x="7723080" y="436572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Line 7"/>
          <p:cNvSpPr/>
          <p:nvPr/>
        </p:nvSpPr>
        <p:spPr>
          <a:xfrm>
            <a:off x="7693200" y="4861080"/>
            <a:ext cx="164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exagon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 axes, three equal axes within one plan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le between the 3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-planar axes  is 6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le with remaining axis is 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nt groups: 6, 6, 6/m, 6mm, 622, 62m, 6/m2/m2/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7315200" y="480708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6"/>
          <p:cNvSpPr/>
          <p:nvPr/>
        </p:nvSpPr>
        <p:spPr>
          <a:xfrm>
            <a:off x="6629400" y="515160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Picture 8" descr="hexagonalcrystal"/>
          <p:cNvPicPr/>
          <p:nvPr/>
        </p:nvPicPr>
        <p:blipFill>
          <a:blip r:embed="rId1"/>
          <a:stretch/>
        </p:blipFill>
        <p:spPr>
          <a:xfrm>
            <a:off x="392040" y="176220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rigonal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(Subset of Hexagonal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 axes, three equal axes within one plan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le between the 3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-planar axes  is 6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le with remaining axis is 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nt groups: 3, 3, 3/m, 32, 32/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Line 4"/>
          <p:cNvSpPr/>
          <p:nvPr/>
        </p:nvSpPr>
        <p:spPr>
          <a:xfrm>
            <a:off x="5583240" y="555948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5"/>
          <p:cNvSpPr/>
          <p:nvPr/>
        </p:nvSpPr>
        <p:spPr>
          <a:xfrm>
            <a:off x="7273800" y="515160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8" descr="trigonalcrystal"/>
          <p:cNvPicPr/>
          <p:nvPr/>
        </p:nvPicPr>
        <p:blipFill>
          <a:blip r:embed="rId1"/>
          <a:stretch/>
        </p:blipFill>
        <p:spPr>
          <a:xfrm>
            <a:off x="349200" y="160020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ubic / Isometric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axes of equal leng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le between all axes is 9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 groups: 23, 423, 2/m3, 43m, 4/m32/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Line 5"/>
          <p:cNvSpPr/>
          <p:nvPr/>
        </p:nvSpPr>
        <p:spPr>
          <a:xfrm>
            <a:off x="5700600" y="482760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Line 6"/>
          <p:cNvSpPr/>
          <p:nvPr/>
        </p:nvSpPr>
        <p:spPr>
          <a:xfrm>
            <a:off x="6078600" y="4827600"/>
            <a:ext cx="164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Picture 8" descr="cubiccrystal"/>
          <p:cNvPicPr/>
          <p:nvPr/>
        </p:nvPicPr>
        <p:blipFill>
          <a:blip r:embed="rId1"/>
          <a:stretch/>
        </p:blipFill>
        <p:spPr>
          <a:xfrm>
            <a:off x="380880" y="1719360"/>
            <a:ext cx="4176720" cy="3132000"/>
          </a:xfrm>
          <a:prstGeom prst="rect">
            <a:avLst/>
          </a:prstGeom>
          <a:ln w="0">
            <a:noFill/>
          </a:ln>
        </p:spPr>
      </p:pic>
      <p:sp>
        <p:nvSpPr>
          <p:cNvPr id="373" name="Line 9"/>
          <p:cNvSpPr/>
          <p:nvPr/>
        </p:nvSpPr>
        <p:spPr>
          <a:xfrm>
            <a:off x="7553160" y="484020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304920" y="2286000"/>
            <a:ext cx="8534160" cy="35053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304920" y="1523880"/>
            <a:ext cx="8534160" cy="6858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rystal System Characteristic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5794200" y="1600200"/>
            <a:ext cx="28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LL AXES 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5943600" y="3733920"/>
            <a:ext cx="26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XES UN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304920" y="2286000"/>
            <a:ext cx="8534160" cy="35053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304920" y="1523880"/>
            <a:ext cx="8534160" cy="6858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irefringen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6782400" y="167652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ISOTROP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6326640" y="3733920"/>
            <a:ext cx="22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NISOTROP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oint Group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et of symmetry operations that leave the appearance of the crystal structure unchanged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32 possible point group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.e., unique combinations of symmetry operations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2"/>
          <p:cNvSpPr/>
          <p:nvPr/>
        </p:nvSpPr>
        <p:spPr>
          <a:xfrm>
            <a:off x="304920" y="3733920"/>
            <a:ext cx="8534160" cy="2057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304920" y="2286000"/>
            <a:ext cx="853416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rystal System Characteristic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5794200" y="1600200"/>
            <a:ext cx="28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LL AXES 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5410080" y="4495680"/>
            <a:ext cx="32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LL AXES UN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8"/>
          <p:cNvSpPr/>
          <p:nvPr/>
        </p:nvSpPr>
        <p:spPr>
          <a:xfrm>
            <a:off x="5638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TWO AXES 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304920" y="3733920"/>
            <a:ext cx="8534160" cy="2057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304920" y="2286000"/>
            <a:ext cx="853416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terference Figur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6860880" y="274320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UNIAX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6936840" y="449568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BIAX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304920" y="4419720"/>
            <a:ext cx="8534160" cy="13716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304920" y="2286000"/>
            <a:ext cx="8534160" cy="1981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rystal System Characteristic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5794200" y="1600200"/>
            <a:ext cx="28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LL AXES 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7"/>
          <p:cNvSpPr/>
          <p:nvPr/>
        </p:nvSpPr>
        <p:spPr>
          <a:xfrm>
            <a:off x="4419720" y="449568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XES NON-ORTHOG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8"/>
          <p:cNvSpPr/>
          <p:nvPr/>
        </p:nvSpPr>
        <p:spPr>
          <a:xfrm>
            <a:off x="5181480" y="28195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XES ORTHOG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304920" y="4419720"/>
            <a:ext cx="8534160" cy="13716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304920" y="2286000"/>
            <a:ext cx="8534160" cy="1981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xtin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6709320" y="312408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PARALL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6860880" y="487692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INCL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y combining a 2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sult is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oint Group 2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mm”  indicates </a:t>
            </a: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2 mi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irrors are differ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Group 7"/>
          <p:cNvGrpSpPr/>
          <p:nvPr/>
        </p:nvGrpSpPr>
        <p:grpSpPr>
          <a:xfrm>
            <a:off x="5925960" y="3200400"/>
            <a:ext cx="1040040" cy="360360"/>
            <a:chOff x="5925960" y="3200400"/>
            <a:chExt cx="1040040" cy="360360"/>
          </a:xfrm>
        </p:grpSpPr>
        <p:sp>
          <p:nvSpPr>
            <p:cNvPr id="117" name="Freeform 8"/>
            <p:cNvSpPr/>
            <p:nvPr/>
          </p:nvSpPr>
          <p:spPr>
            <a:xfrm>
              <a:off x="5925960" y="32004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9"/>
            <p:cNvSpPr/>
            <p:nvPr/>
          </p:nvSpPr>
          <p:spPr>
            <a:xfrm flipH="1">
              <a:off x="6710400" y="321156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Group 10"/>
          <p:cNvGrpSpPr/>
          <p:nvPr/>
        </p:nvGrpSpPr>
        <p:grpSpPr>
          <a:xfrm>
            <a:off x="5940360" y="5889240"/>
            <a:ext cx="1040040" cy="360360"/>
            <a:chOff x="5940360" y="5889240"/>
            <a:chExt cx="1040040" cy="360360"/>
          </a:xfrm>
        </p:grpSpPr>
        <p:sp>
          <p:nvSpPr>
            <p:cNvPr id="120" name="Freeform 11"/>
            <p:cNvSpPr/>
            <p:nvPr/>
          </p:nvSpPr>
          <p:spPr>
            <a:xfrm flipV="1">
              <a:off x="5940360" y="59004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12"/>
            <p:cNvSpPr/>
            <p:nvPr/>
          </p:nvSpPr>
          <p:spPr>
            <a:xfrm flipH="1" flipV="1">
              <a:off x="6724800" y="588924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Line 14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6362640" y="4457880"/>
            <a:ext cx="177840" cy="6220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</a:t>
            </a:r>
            <a:r>
              <a:rPr b="0" lang="en-US" sz="4800" spc="-1" strike="noStrike">
                <a:solidFill>
                  <a:srgbClr val="ffc000"/>
                </a:solidFill>
                <a:latin typeface="Arial"/>
              </a:rPr>
              <a:t>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Freeform 6"/>
          <p:cNvSpPr/>
          <p:nvPr/>
        </p:nvSpPr>
        <p:spPr>
          <a:xfrm>
            <a:off x="5925960" y="3200400"/>
            <a:ext cx="255600" cy="349200"/>
          </a:xfrm>
          <a:custGeom>
            <a:avLst/>
            <a:gdLst>
              <a:gd name="textAreaLeft" fmla="*/ 0 w 255600"/>
              <a:gd name="textAreaRight" fmla="*/ 255960 w 25560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537" h="883">
                <a:moveTo>
                  <a:pt x="520" y="0"/>
                </a:moveTo>
                <a:lnTo>
                  <a:pt x="520" y="24"/>
                </a:lnTo>
                <a:lnTo>
                  <a:pt x="479" y="29"/>
                </a:lnTo>
                <a:lnTo>
                  <a:pt x="445" y="36"/>
                </a:lnTo>
                <a:lnTo>
                  <a:pt x="413" y="46"/>
                </a:lnTo>
                <a:lnTo>
                  <a:pt x="385" y="57"/>
                </a:lnTo>
                <a:lnTo>
                  <a:pt x="358" y="71"/>
                </a:lnTo>
                <a:lnTo>
                  <a:pt x="333" y="88"/>
                </a:lnTo>
                <a:lnTo>
                  <a:pt x="307" y="109"/>
                </a:lnTo>
                <a:lnTo>
                  <a:pt x="282" y="133"/>
                </a:lnTo>
                <a:lnTo>
                  <a:pt x="258" y="159"/>
                </a:lnTo>
                <a:lnTo>
                  <a:pt x="236" y="186"/>
                </a:lnTo>
                <a:lnTo>
                  <a:pt x="215" y="215"/>
                </a:lnTo>
                <a:lnTo>
                  <a:pt x="198" y="246"/>
                </a:lnTo>
                <a:lnTo>
                  <a:pt x="181" y="278"/>
                </a:lnTo>
                <a:lnTo>
                  <a:pt x="166" y="313"/>
                </a:lnTo>
                <a:lnTo>
                  <a:pt x="153" y="352"/>
                </a:lnTo>
                <a:lnTo>
                  <a:pt x="141" y="393"/>
                </a:lnTo>
                <a:lnTo>
                  <a:pt x="185" y="366"/>
                </a:lnTo>
                <a:lnTo>
                  <a:pt x="231" y="346"/>
                </a:lnTo>
                <a:lnTo>
                  <a:pt x="277" y="335"/>
                </a:lnTo>
                <a:lnTo>
                  <a:pt x="322" y="331"/>
                </a:lnTo>
                <a:lnTo>
                  <a:pt x="343" y="332"/>
                </a:lnTo>
                <a:lnTo>
                  <a:pt x="364" y="335"/>
                </a:lnTo>
                <a:lnTo>
                  <a:pt x="383" y="340"/>
                </a:lnTo>
                <a:lnTo>
                  <a:pt x="403" y="349"/>
                </a:lnTo>
                <a:lnTo>
                  <a:pt x="421" y="359"/>
                </a:lnTo>
                <a:lnTo>
                  <a:pt x="439" y="371"/>
                </a:lnTo>
                <a:lnTo>
                  <a:pt x="456" y="385"/>
                </a:lnTo>
                <a:lnTo>
                  <a:pt x="472" y="402"/>
                </a:lnTo>
                <a:lnTo>
                  <a:pt x="488" y="420"/>
                </a:lnTo>
                <a:lnTo>
                  <a:pt x="500" y="440"/>
                </a:lnTo>
                <a:lnTo>
                  <a:pt x="512" y="459"/>
                </a:lnTo>
                <a:lnTo>
                  <a:pt x="520" y="481"/>
                </a:lnTo>
                <a:lnTo>
                  <a:pt x="527" y="505"/>
                </a:lnTo>
                <a:lnTo>
                  <a:pt x="532" y="529"/>
                </a:lnTo>
                <a:lnTo>
                  <a:pt x="535" y="555"/>
                </a:lnTo>
                <a:lnTo>
                  <a:pt x="537" y="582"/>
                </a:lnTo>
                <a:lnTo>
                  <a:pt x="535" y="608"/>
                </a:lnTo>
                <a:lnTo>
                  <a:pt x="532" y="633"/>
                </a:lnTo>
                <a:lnTo>
                  <a:pt x="527" y="659"/>
                </a:lnTo>
                <a:lnTo>
                  <a:pt x="520" y="684"/>
                </a:lnTo>
                <a:lnTo>
                  <a:pt x="512" y="707"/>
                </a:lnTo>
                <a:lnTo>
                  <a:pt x="500" y="731"/>
                </a:lnTo>
                <a:lnTo>
                  <a:pt x="488" y="753"/>
                </a:lnTo>
                <a:lnTo>
                  <a:pt x="472" y="776"/>
                </a:lnTo>
                <a:lnTo>
                  <a:pt x="452" y="801"/>
                </a:lnTo>
                <a:lnTo>
                  <a:pt x="429" y="822"/>
                </a:lnTo>
                <a:lnTo>
                  <a:pt x="407" y="840"/>
                </a:lnTo>
                <a:lnTo>
                  <a:pt x="382" y="855"/>
                </a:lnTo>
                <a:lnTo>
                  <a:pt x="355" y="868"/>
                </a:lnTo>
                <a:lnTo>
                  <a:pt x="328" y="876"/>
                </a:lnTo>
                <a:lnTo>
                  <a:pt x="297" y="882"/>
                </a:lnTo>
                <a:lnTo>
                  <a:pt x="266" y="883"/>
                </a:lnTo>
                <a:lnTo>
                  <a:pt x="245" y="882"/>
                </a:lnTo>
                <a:lnTo>
                  <a:pt x="224" y="879"/>
                </a:lnTo>
                <a:lnTo>
                  <a:pt x="205" y="875"/>
                </a:lnTo>
                <a:lnTo>
                  <a:pt x="187" y="868"/>
                </a:lnTo>
                <a:lnTo>
                  <a:pt x="169" y="859"/>
                </a:lnTo>
                <a:lnTo>
                  <a:pt x="151" y="850"/>
                </a:lnTo>
                <a:lnTo>
                  <a:pt x="120" y="825"/>
                </a:lnTo>
                <a:lnTo>
                  <a:pt x="92" y="795"/>
                </a:lnTo>
                <a:lnTo>
                  <a:pt x="68" y="765"/>
                </a:lnTo>
                <a:lnTo>
                  <a:pt x="47" y="731"/>
                </a:lnTo>
                <a:lnTo>
                  <a:pt x="31" y="695"/>
                </a:lnTo>
                <a:lnTo>
                  <a:pt x="17" y="657"/>
                </a:lnTo>
                <a:lnTo>
                  <a:pt x="7" y="618"/>
                </a:lnTo>
                <a:lnTo>
                  <a:pt x="1" y="578"/>
                </a:lnTo>
                <a:lnTo>
                  <a:pt x="0" y="534"/>
                </a:lnTo>
                <a:lnTo>
                  <a:pt x="3" y="479"/>
                </a:lnTo>
                <a:lnTo>
                  <a:pt x="11" y="423"/>
                </a:lnTo>
                <a:lnTo>
                  <a:pt x="26" y="368"/>
                </a:lnTo>
                <a:lnTo>
                  <a:pt x="46" y="317"/>
                </a:lnTo>
                <a:lnTo>
                  <a:pt x="71" y="266"/>
                </a:lnTo>
                <a:lnTo>
                  <a:pt x="100" y="219"/>
                </a:lnTo>
                <a:lnTo>
                  <a:pt x="137" y="176"/>
                </a:lnTo>
                <a:lnTo>
                  <a:pt x="176" y="134"/>
                </a:lnTo>
                <a:lnTo>
                  <a:pt x="217" y="98"/>
                </a:lnTo>
                <a:lnTo>
                  <a:pt x="259" y="68"/>
                </a:lnTo>
                <a:lnTo>
                  <a:pt x="300" y="45"/>
                </a:lnTo>
                <a:lnTo>
                  <a:pt x="339" y="27"/>
                </a:lnTo>
                <a:lnTo>
                  <a:pt x="376" y="15"/>
                </a:lnTo>
                <a:lnTo>
                  <a:pt x="414" y="7"/>
                </a:lnTo>
                <a:lnTo>
                  <a:pt x="449" y="1"/>
                </a:lnTo>
                <a:lnTo>
                  <a:pt x="484" y="0"/>
                </a:lnTo>
                <a:lnTo>
                  <a:pt x="520" y="0"/>
                </a:lnTo>
                <a:close/>
                <a:moveTo>
                  <a:pt x="131" y="440"/>
                </a:moveTo>
                <a:lnTo>
                  <a:pt x="125" y="479"/>
                </a:lnTo>
                <a:lnTo>
                  <a:pt x="123" y="515"/>
                </a:lnTo>
                <a:lnTo>
                  <a:pt x="120" y="547"/>
                </a:lnTo>
                <a:lnTo>
                  <a:pt x="120" y="575"/>
                </a:lnTo>
                <a:lnTo>
                  <a:pt x="121" y="606"/>
                </a:lnTo>
                <a:lnTo>
                  <a:pt x="125" y="638"/>
                </a:lnTo>
                <a:lnTo>
                  <a:pt x="131" y="671"/>
                </a:lnTo>
                <a:lnTo>
                  <a:pt x="141" y="706"/>
                </a:lnTo>
                <a:lnTo>
                  <a:pt x="153" y="739"/>
                </a:lnTo>
                <a:lnTo>
                  <a:pt x="169" y="769"/>
                </a:lnTo>
                <a:lnTo>
                  <a:pt x="187" y="795"/>
                </a:lnTo>
                <a:lnTo>
                  <a:pt x="208" y="818"/>
                </a:lnTo>
                <a:lnTo>
                  <a:pt x="224" y="830"/>
                </a:lnTo>
                <a:lnTo>
                  <a:pt x="243" y="840"/>
                </a:lnTo>
                <a:lnTo>
                  <a:pt x="262" y="846"/>
                </a:lnTo>
                <a:lnTo>
                  <a:pt x="284" y="847"/>
                </a:lnTo>
                <a:lnTo>
                  <a:pt x="311" y="844"/>
                </a:lnTo>
                <a:lnTo>
                  <a:pt x="336" y="834"/>
                </a:lnTo>
                <a:lnTo>
                  <a:pt x="360" y="818"/>
                </a:lnTo>
                <a:lnTo>
                  <a:pt x="382" y="795"/>
                </a:lnTo>
                <a:lnTo>
                  <a:pt x="400" y="766"/>
                </a:lnTo>
                <a:lnTo>
                  <a:pt x="414" y="733"/>
                </a:lnTo>
                <a:lnTo>
                  <a:pt x="422" y="693"/>
                </a:lnTo>
                <a:lnTo>
                  <a:pt x="425" y="649"/>
                </a:lnTo>
                <a:lnTo>
                  <a:pt x="422" y="597"/>
                </a:lnTo>
                <a:lnTo>
                  <a:pt x="414" y="550"/>
                </a:lnTo>
                <a:lnTo>
                  <a:pt x="400" y="505"/>
                </a:lnTo>
                <a:lnTo>
                  <a:pt x="382" y="463"/>
                </a:lnTo>
                <a:lnTo>
                  <a:pt x="371" y="445"/>
                </a:lnTo>
                <a:lnTo>
                  <a:pt x="358" y="428"/>
                </a:lnTo>
                <a:lnTo>
                  <a:pt x="346" y="416"/>
                </a:lnTo>
                <a:lnTo>
                  <a:pt x="332" y="405"/>
                </a:lnTo>
                <a:lnTo>
                  <a:pt x="316" y="396"/>
                </a:lnTo>
                <a:lnTo>
                  <a:pt x="300" y="389"/>
                </a:lnTo>
                <a:lnTo>
                  <a:pt x="282" y="386"/>
                </a:lnTo>
                <a:lnTo>
                  <a:pt x="262" y="385"/>
                </a:lnTo>
                <a:lnTo>
                  <a:pt x="238" y="388"/>
                </a:lnTo>
                <a:lnTo>
                  <a:pt x="210" y="395"/>
                </a:lnTo>
                <a:lnTo>
                  <a:pt x="195" y="402"/>
                </a:lnTo>
                <a:lnTo>
                  <a:pt x="177" y="412"/>
                </a:lnTo>
                <a:lnTo>
                  <a:pt x="156" y="424"/>
                </a:lnTo>
                <a:lnTo>
                  <a:pt x="131" y="4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000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1: refl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Group 6"/>
          <p:cNvGrpSpPr/>
          <p:nvPr/>
        </p:nvGrpSpPr>
        <p:grpSpPr>
          <a:xfrm>
            <a:off x="5925960" y="3200400"/>
            <a:ext cx="1040040" cy="360360"/>
            <a:chOff x="5925960" y="3200400"/>
            <a:chExt cx="1040040" cy="360360"/>
          </a:xfrm>
        </p:grpSpPr>
        <p:sp>
          <p:nvSpPr>
            <p:cNvPr id="135" name="Freeform 7"/>
            <p:cNvSpPr/>
            <p:nvPr/>
          </p:nvSpPr>
          <p:spPr>
            <a:xfrm>
              <a:off x="5925960" y="32004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8"/>
            <p:cNvSpPr/>
            <p:nvPr/>
          </p:nvSpPr>
          <p:spPr>
            <a:xfrm flipH="1">
              <a:off x="6710400" y="321156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Rectangle 13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1: refl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2: rotat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2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5925960" y="3200400"/>
            <a:ext cx="1040040" cy="360360"/>
            <a:chOff x="5925960" y="3200400"/>
            <a:chExt cx="1040040" cy="360360"/>
          </a:xfrm>
        </p:grpSpPr>
        <p:sp>
          <p:nvSpPr>
            <p:cNvPr id="145" name="Freeform 16"/>
            <p:cNvSpPr/>
            <p:nvPr/>
          </p:nvSpPr>
          <p:spPr>
            <a:xfrm>
              <a:off x="5925960" y="32004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17"/>
            <p:cNvSpPr/>
            <p:nvPr/>
          </p:nvSpPr>
          <p:spPr>
            <a:xfrm flipH="1">
              <a:off x="6710400" y="321156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Group 22"/>
          <p:cNvGrpSpPr/>
          <p:nvPr/>
        </p:nvGrpSpPr>
        <p:grpSpPr>
          <a:xfrm>
            <a:off x="7635600" y="4197240"/>
            <a:ext cx="360360" cy="1040040"/>
            <a:chOff x="7635600" y="4197240"/>
            <a:chExt cx="360360" cy="1040040"/>
          </a:xfrm>
        </p:grpSpPr>
        <p:sp>
          <p:nvSpPr>
            <p:cNvPr id="148" name="Freeform 23"/>
            <p:cNvSpPr/>
            <p:nvPr/>
          </p:nvSpPr>
          <p:spPr>
            <a:xfrm rot="5400000">
              <a:off x="7693560" y="415044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24"/>
            <p:cNvSpPr/>
            <p:nvPr/>
          </p:nvSpPr>
          <p:spPr>
            <a:xfrm flipH="1" rot="5400000">
              <a:off x="7682400" y="493488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Group 6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154" name="Group 7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155" name="Freeform 8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9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10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158" name="Freeform 11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12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0" name="Line 13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Group 15"/>
          <p:cNvGrpSpPr/>
          <p:nvPr/>
        </p:nvGrpSpPr>
        <p:grpSpPr>
          <a:xfrm>
            <a:off x="7635600" y="4197240"/>
            <a:ext cx="360360" cy="1040040"/>
            <a:chOff x="7635600" y="4197240"/>
            <a:chExt cx="360360" cy="1040040"/>
          </a:xfrm>
        </p:grpSpPr>
        <p:sp>
          <p:nvSpPr>
            <p:cNvPr id="162" name="Freeform 16"/>
            <p:cNvSpPr/>
            <p:nvPr/>
          </p:nvSpPr>
          <p:spPr>
            <a:xfrm rot="5400000">
              <a:off x="7693560" y="415044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17"/>
            <p:cNvSpPr/>
            <p:nvPr/>
          </p:nvSpPr>
          <p:spPr>
            <a:xfrm flipH="1" rot="5400000">
              <a:off x="7682400" y="493488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Rectangle 21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1: refl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2: rotate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Group 6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170" name="Group 7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171" name="Freeform 8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9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10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174" name="Freeform 11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12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Line 13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Group 14"/>
          <p:cNvGrpSpPr/>
          <p:nvPr/>
        </p:nvGrpSpPr>
        <p:grpSpPr>
          <a:xfrm>
            <a:off x="4948200" y="4199040"/>
            <a:ext cx="3049200" cy="1053000"/>
            <a:chOff x="4948200" y="4199040"/>
            <a:chExt cx="3049200" cy="1053000"/>
          </a:xfrm>
        </p:grpSpPr>
        <p:grpSp>
          <p:nvGrpSpPr>
            <p:cNvPr id="178" name="Group 15"/>
            <p:cNvGrpSpPr/>
            <p:nvPr/>
          </p:nvGrpSpPr>
          <p:grpSpPr>
            <a:xfrm>
              <a:off x="7637040" y="4199040"/>
              <a:ext cx="360360" cy="1038960"/>
              <a:chOff x="7637040" y="4199040"/>
              <a:chExt cx="360360" cy="1038960"/>
            </a:xfrm>
          </p:grpSpPr>
          <p:sp>
            <p:nvSpPr>
              <p:cNvPr id="179" name="Freeform 16"/>
              <p:cNvSpPr/>
              <p:nvPr/>
            </p:nvSpPr>
            <p:spPr>
              <a:xfrm rot="5400000">
                <a:off x="7695000" y="415188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17"/>
              <p:cNvSpPr/>
              <p:nvPr/>
            </p:nvSpPr>
            <p:spPr>
              <a:xfrm flipH="1" rot="5400000">
                <a:off x="7683840" y="493560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18"/>
            <p:cNvGrpSpPr/>
            <p:nvPr/>
          </p:nvGrpSpPr>
          <p:grpSpPr>
            <a:xfrm>
              <a:off x="4948200" y="4213080"/>
              <a:ext cx="360360" cy="1038960"/>
              <a:chOff x="4948200" y="4213080"/>
              <a:chExt cx="360360" cy="1038960"/>
            </a:xfrm>
          </p:grpSpPr>
          <p:sp>
            <p:nvSpPr>
              <p:cNvPr id="182" name="Freeform 19"/>
              <p:cNvSpPr/>
              <p:nvPr/>
            </p:nvSpPr>
            <p:spPr>
              <a:xfrm flipV="1" rot="5400000">
                <a:off x="4995000" y="416556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20"/>
              <p:cNvSpPr/>
              <p:nvPr/>
            </p:nvSpPr>
            <p:spPr>
              <a:xfrm flipH="1" flipV="1" rot="5400000">
                <a:off x="5006160" y="494928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Rectangle 21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1: refl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2: rotat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7T00:16:50Z</dcterms:created>
  <dc:creator>John D Winter</dc:creator>
  <dc:description/>
  <dc:language>en-US</dc:language>
  <cp:lastModifiedBy>ksu</cp:lastModifiedBy>
  <dcterms:modified xsi:type="dcterms:W3CDTF">2011-10-31T22:59:58Z</dcterms:modified>
  <cp:revision>164</cp:revision>
  <dc:subject/>
  <dc:title>Chapter 8: Major Elements</dc:title>
</cp:coreProperties>
</file>