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C9C-8CBE-4B74-AF0F-4633E9EC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44F-31B9-4B3A-A8BB-CCE53D90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EDD-ED73-42CA-923F-0AB91653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2DE-E78D-46BA-800E-5C20D92D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758A-6C8E-49CB-BAEF-A16D5131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782B-B0D5-48A7-B2CB-95A3531D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BB8B-AEE6-4058-AC6F-150156A4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FA12-3839-46B4-A5E7-49310A40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3A93-90FC-4F6A-A334-C7D68143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16D1-CCB9-4723-B78B-2DAAC197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441B-00CE-4015-8B15-6C3F71FC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B60-BD44-4DB2-A0DC-413F2081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2A6E-A183-4226-A24F-825E79B4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E2C7-C65E-4325-AB2A-DA5F18B6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8D5A-6DDB-4A69-81BB-95149256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971E-E89A-4CD4-A167-F5761014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E5E6-ED29-43A7-BAB4-599BE061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CD4-93A0-41D7-955C-77E9E0B8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2B8-F6F8-4B1C-9614-732F1CED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361-CC85-4C6B-A06B-DC9B48E3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9D97-3057-4037-8D06-07238490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51F-284B-4F1D-8586-775D3984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0E0-3C31-41C0-ACB1-AD26EEAE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345-D88B-4895-9867-E03DFEB5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852A482-3615-4CB9-B336-AB27E7A8D815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9E9ECE0-E235-4FE6-84BF-B55A6F1AE53B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asalhadlaq@ksu.edu.sa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60000"/>
            <a:ext cx="7772040" cy="14716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S1201: Programming Language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3657600"/>
            <a:ext cx="7086240" cy="13712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Aseel Al Hadlaq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398" strike="noStrike" baseline="30000" cap="all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 Term 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S1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cturer: Aseel Alhadla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1" lang="en-US" sz="1600" spc="-1" strike="noStrike" u="sng">
                <a:solidFill>
                  <a:srgbClr val="5f5f5f"/>
                </a:solidFill>
                <a:uFillTx/>
                <a:latin typeface="Arial"/>
                <a:hlinkClick r:id="rId1"/>
              </a:rPr>
              <a:t>asalhadlaq@ksu.edu.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site: http://fac.ksu.edu.sa/asalhadlaq/ho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Re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: Object Oriented Programming in C++ By Robert Lafore 2001 or latest ed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douts and lecture No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arn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lass needs lots of work and practice !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endance is very important !! You are allowed to miss 25% of your lectures only or you will not be allowed to enter the fi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 attendance is not considered you may attend as abs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arn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covered in class will be on midterms and quizz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on’t give private lectures outside the cl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 work is not group work !! Study before the la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are allowed one late lab ONLY !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he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wo or more assignments are found to be copied, then each student will get zero mark irrespective of whether she copied or did herself and allowed to cop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are not allowed to copy from a former student or the intern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ourse 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942680" cy="57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dterm 1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dterm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torials and Quizzes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800" spc="-1" strike="noStrike" cap="all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 makes everything easie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 of luck to all of you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5C8C6970-6493-4FC0-9DEB-CC7ED45ED2A8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1D9E0130-020D-4817-9AA5-9FF0346A619B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2547</TotalTime>
  <Application>LibreOffice/7.4.7.2$Linux_X86_64 LibreOffice_project/40$Build-2</Application>
  <AppVersion>15.0000</AppVersion>
  <Words>221</Words>
  <Paragraphs>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08:48:17Z</dcterms:created>
  <dc:creator>ALjaffan</dc:creator>
  <dc:description/>
  <dc:language>en-US</dc:language>
  <cp:lastModifiedBy>Aseel</cp:lastModifiedBy>
  <dcterms:modified xsi:type="dcterms:W3CDTF">2014-02-01T19:50:10Z</dcterms:modified>
  <cp:revision>25</cp:revision>
  <dc:subject/>
  <dc:title>CS1201: Programming Languag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resentationFormat">
    <vt:lpwstr>On-screen Show (4:3)</vt:lpwstr>
  </property>
  <property fmtid="{D5CDD505-2E9C-101B-9397-08002B2CF9AE}" pid="4" name="Slides">
    <vt:r8>8</vt:r8>
  </property>
</Properties>
</file>