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EF2-805D-4A74-988D-16DD09B1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125-531D-4DF7-A60B-890C3038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805-CD70-4C6B-BA94-7F9B1F5C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7BF-14B2-4267-9A33-51A526A5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7B04-AB9B-4C14-A497-955FC175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92D2-29F6-42E0-8252-AC67C737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2D90-4670-4C57-A723-7599AE4D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AA89-D8BF-462E-BB98-DFCF5C88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494C-220E-496E-9D01-6E32D37E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2196-E69B-4C81-A6E1-25E4300D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327D-EA73-4CAF-A87F-646E4FB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456-078D-4CC4-9942-6DAF3922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A62D-885A-4731-B9C2-C0B8649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DA12-5354-49D8-B41D-27409E32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2420-31E4-46E7-9B70-912742CF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EBB4-5843-4A0A-96CB-40D3BC15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E502-EF48-4148-8FD7-6D8FD094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D82-FB09-4A9B-A5B6-4BBDD594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A52-C69A-4A69-A4E2-53E7AA00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83E-01CB-40C9-AD67-132F8501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9D9-275E-4428-A686-4B2E7C67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E61-107B-4616-A3AE-F525F471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079-BEE2-4288-85B8-7C80B630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F60-E51F-4F7F-8AF1-4D9F9FF4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BF04B51-8EB2-49A8-9BF3-FB3675D8909B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370BAD-B627-4D37-A296-48FD7065D13B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asalhadlaq@ksu.edu.sa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60000"/>
            <a:ext cx="7772040" cy="14716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S1201: Programming Languag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7086240" cy="13712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Aseel Al Hadla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398" strike="noStrike" baseline="30000" cap="all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 Term 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S1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r: Aseel Alhadla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1" lang="en-US" sz="16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asalhadlaq@ksu.edu.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site: http://fac.ksu.edu.sa/asalhadlaq/ho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: Object Oriented Programming in C++ By Robert Lafore 2001 or latest ed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outs and lecture No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ar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lass needs lots of work and practice !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dance is very important !! You are allowed to miss 25% of your lectures only or you will not be allowed to enter the fi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attendance is not considered you may attend as abs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ar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covered in class will be on midterms and quizz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on’t give private lectures outside the cl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 work is not group work !! Study before the 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re allowed one late lab ONLY !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he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wo or more assignments are found to be copied, then each student will get zero mark irrespective of whether she copied or did herself and allowed to cop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re not allowed to copy from a former student or the inter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urs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942680" cy="57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term 1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term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orials and Quizzes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 makes everything easi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of luck to all of yo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5C8C6970-6493-4FC0-9DEB-CC7ED45ED2A8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1D9E0130-020D-4817-9AA5-9FF0346A619B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2547</TotalTime>
  <Application>LibreOffice/7.4.7.2$Linux_X86_64 LibreOffice_project/40$Build-2</Application>
  <AppVersion>15.0000</AppVersion>
  <Words>221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08:48:17Z</dcterms:created>
  <dc:creator>ALjaffan</dc:creator>
  <dc:description/>
  <dc:language>en-US</dc:language>
  <cp:lastModifiedBy>Aseel</cp:lastModifiedBy>
  <dcterms:modified xsi:type="dcterms:W3CDTF">2014-02-01T19:50:10Z</dcterms:modified>
  <cp:revision>25</cp:revision>
  <dc:subject/>
  <dc:title>CS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