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9D90-0A2D-4ED4-8063-75E6FD4AC2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BC6D-BC41-4DC1-A326-C5C287A693F3}"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927F-836B-4BDF-9C25-77D16B5F0F51}"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9EF0-702C-463F-AD5A-C2B7955B1283}"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6EB6E-3B94-46FD-B296-1643AD738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574A8-B422-44E9-9F25-FBBD87B1F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B8B1F70E-B3F7-4831-A959-E7E268FE24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507F3BCB-07B7-4FEE-A0D0-224BFDE4FD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5273F711-9EA3-4AD9-A42F-6B98CD62B1D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50FA6849-9BC1-4FC7-B6B2-952C2BA92D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7B210931-97EF-4D53-B4ED-1371E6CD740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22599D6B-2B36-46CB-8ECF-8D8C918F6C0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BC992751-5B1B-4C21-8570-741F4FB8EE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1AB0C3C4-AB20-411D-BCA2-30146EA176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AD606124-B409-4DED-944A-E396E7561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3ADA5-0307-4DE1-A83B-84C479AAE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AE915-1308-400D-84DB-8E2C56D62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66B88-4D18-4596-8CCF-5B924EE51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BB13D-A343-4CAA-9D06-7545D756D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A5082-FC8D-453A-98FE-B0CD6E7DA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D9655-8061-45BA-9325-3331F59C4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300DB-4AAF-4DF4-B186-78989158E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48413-B61E-4C8C-B159-295CBFA74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4B84-2C5F-4F44-880F-3A3FD6559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45491-3E24-43F8-981E-812D3DF4B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D151-9A64-4652-A992-FD9942D86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12D57-E482-458B-BB1C-FC1F9A35E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9435F-4744-4674-A80B-772755841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757E3-CB53-4EAC-A795-769AE1C37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701C6-AE31-4858-A1C9-CC3BF90BA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49618F-AB08-4A4E-8F77-FFF0968291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C22AC-602E-4ED6-A9B9-F8FB055E4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63C06-F00A-4520-ACCE-9EE39EB8E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9A970-2F94-4F8F-8AFC-CC980B6D2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4606A-F65E-4FD0-B1DE-CAD93EB2E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32B37-C2F2-4540-BA39-DB9E8B368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D76C0-CF96-4C51-BEC1-203F983E6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DF76C-C880-40FC-8465-6384548FD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38C45-8563-407B-8937-0D64D0FBA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9DAD6-D7FB-47E9-890A-146AE62D6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CDC99-0169-4DE8-80DA-AA6D3396D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2776C-F8FA-4DFE-8951-84E8E2E005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7411B-C198-406C-B0F1-776946449C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F0AF7E-05A0-4102-B7D7-359DB841FF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4E1BD-F579-42D8-B362-BEA2E0E4E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3530A4-7723-42E6-8814-E449DE020B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A121C-7C61-48EF-B1FB-373E4FC0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5B2A0-D219-48BA-9CBB-493AFF9597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A8747-D88C-4D18-B481-9A2C370C8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E523C-08B3-4668-9462-329D92DFF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20A01-2F58-4E7E-AA8C-C86E21888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4E972-07FB-42E0-B120-716477545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A8B3F1-0A93-4D04-9242-7B47BD895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77FD3-0A31-40F6-B13D-87386D196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D1B317-A227-416D-9135-3AE8B60FEC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D01E71-9F55-4823-B619-4BBCBE50A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FED659-9EDD-4F61-ADE2-6EA1C5A09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7D06-D3F6-4DB6-A55D-9E0D5F9E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100D7-8AB0-48D0-BEA2-B25595DCD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EE16D-0B2C-4844-A7A5-6BE89EBE3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46B4E-D519-40BA-ABC7-4181A38A8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8AEED-BA94-42FA-9406-228F305CA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1DE5A-883A-4990-A2F3-F9E897D73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5A39E-4821-4CD6-9CFD-4221A6ECB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A3E96-ED63-4950-B489-BB97D3A4C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2E67D-DD8A-4BA7-ACCF-BF035A9B3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A9EFA-B99B-45F0-AE90-B1C4ED914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1F9D1-321D-478A-AF00-12958FDF5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482CA-4F80-434F-8580-D1C85FB61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F8458-7225-41A9-8CF2-6E2B8E69D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09FFCC-A872-4307-9C06-FF9F46A3F3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AA24E2-3BA4-4B47-BA63-C2F18C1E4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DDD5F-8D30-479B-B648-B345A0FC72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82D9F-4ABA-44D4-AD6F-BB6E4C6E4C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0F278-B62D-414E-B400-34A65C444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2622D4-1EDE-4DEA-AC95-9B6503331B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F6D67-0065-4A80-8889-80B837DC8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D6D6D-88FD-4417-B278-74F1992A95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1A64B-A197-4525-B67E-1BDF45FF9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9DD8-5F6D-416F-8F5B-AC1B70AA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259D9-405C-4AA7-8136-4ED1136FB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C8F86-0D1D-4C59-B67C-1E8FA47EB7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7FA340-5D1F-4F16-8DB7-0126B34F0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D6F4DD-29A5-4AE0-A8F1-526A1A809F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EE5A86-BF5E-4E73-849E-F8D77C7F6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E8C22-4031-462E-B4C1-A6CD483427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EC471F-E745-4443-BD59-1E9C9339A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C07EE-667B-4FB9-94BB-3397F0D4B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0DAEE3-C473-4FE5-BC53-AF44ACB37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97215-3E2C-4251-A057-565FBEE31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A0B3-B811-4174-8A25-F793CD76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067D3-2331-4535-9CD8-C953D45D5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3B4E6-31C8-4513-BD4C-667E1EB1C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6F77F8-E33A-47BD-A0D9-1F1E9B3EF9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F79E87-9863-439A-A1DE-100D86EB2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67395C-2D6F-4884-B7B0-86F1F7DB51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94DC17-CB8C-45D3-8247-54BD035A5A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A24EC-2BF2-42F7-A2D8-036F4F973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20C396-37D3-491B-B613-83128C3D6D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D434A-AFA4-422A-9097-7FDEBE442B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CABDD-5FA2-4BA4-9D17-EC4B1591C5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4993-24B6-42F5-8CF5-164E2506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D3FAA-5A31-4D90-B089-CF7E7AD40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9D2E0-9AA4-43CC-BB08-DD9BF80DF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EAE03-2A11-42E9-AE25-5EBB19619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CD9ED-3626-4904-9312-A9B3A00A9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42FBA-9DF6-493A-80AC-0F148C7EA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C02908-96CC-465D-AEDE-C110A27376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6DDAEE-28BB-4D25-AB8B-48C3A1BB3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84138DC-D6CA-4377-BB0A-FA36EB2203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1411073C-F47E-4812-A525-BB54D290E3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DB0CBB73-F621-41B7-83BD-A1E385F84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D952-8BE8-4A58-ADCC-8CD2117CDC99}"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B176-878A-4534-96C7-5F8B755F742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A9F1-D7B5-4F05-AA6A-F3872B629F50}"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9843-823C-467D-A05C-0EB86A8B235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BEDA-BAFB-4164-AC90-273C43B7D061}"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FD13-B52A-4B7A-8774-5C96E93B1685}"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3FEA-7E17-44CC-BA11-97F750316EA4}"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80B5-B365-4B1F-BF9D-EAB3101297F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8165-D20D-43E1-A288-2C75219F74EB}"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D4B0-AF1F-4778-9E68-3FCA3183B9D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D9EB-C71D-4C27-B414-721545D758AE}"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93AD-980B-426B-BC87-B8345882204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46BF-7088-4C75-B56C-E9DCD22C3A99}" type="datetime">
              <a:rPr b="0" lang="en-GB" sz="1400" spc="-1" strike="noStrike">
                <a:solidFill>
                  <a:srgbClr val="dde9ec"/>
                </a:solidFill>
                <a:latin typeface="Gill Sans MT"/>
              </a:rPr>
              <a:t>29/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ADB4-6883-491C-B5C0-A9FB9CED2629}"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261A-B39B-4DD0-9D78-33B2891FF304}" type="datetime">
              <a:rPr b="0" lang="en-GB" sz="1400" spc="-1" strike="noStrike">
                <a:solidFill>
                  <a:srgbClr val="464653"/>
                </a:solidFill>
                <a:latin typeface="Gill Sans MT"/>
              </a:rPr>
              <a:t>29/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6BEF-4306-4A19-BCD6-912A403EF50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E2E1-E971-48EE-950B-5D72FE5D47C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0802-D94D-48AD-812B-150B1676E07E}"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2E03-D42A-4331-96C9-586D4CA36D25}"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977F3B95-A0BB-452E-9EF1-3478DDB24DD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6DE597C2-460E-4B6E-A6BE-9DDBDAC3DB0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80481CFA-852A-4C35-865C-7B6D5F5D241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EDC0-5FCD-4862-82FD-B3B344BBD4E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3D4E-2FCA-4D82-A698-9C6E22D059A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24B8-2B86-441E-A6D8-5EB56DA9E32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271A-82E9-4B14-A3FB-DC18DC0838C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F366-99E5-4C3E-86BA-219F3DBC1D9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08DC-446A-4F43-AE84-4A8CE730422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FEB73A6E-29DB-42DC-A2D0-DB1B6D7FBAE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 </a:t>
            </a:r>
            <a:r>
              <a:rPr b="1" lang="en-US" sz="2400" spc="-1" strike="noStrike">
                <a:solidFill>
                  <a:srgbClr val="ff0000"/>
                </a:solidFill>
                <a:latin typeface="Gill Sans MT"/>
                <a:ea typeface="Arial"/>
              </a:rPr>
              <a:t>Function</a:t>
            </a:r>
            <a:r>
              <a:rPr b="0" lang="en-US" sz="2400" spc="-1" strike="noStrike">
                <a:solidFill>
                  <a:srgbClr val="000000"/>
                </a:solidFill>
                <a:latin typeface="Gill Sans MT"/>
                <a:ea typeface="Arial"/>
              </a:rPr>
              <a:t> is a group of statements that together perform a task.</a:t>
            </a:r>
            <a:br>
              <a:rPr sz="2400"/>
            </a:br>
            <a:r>
              <a:rPr b="0" lang="en-US" sz="2400" spc="-1" strike="noStrike">
                <a:solidFill>
                  <a:srgbClr val="000000"/>
                </a:solidFill>
                <a:latin typeface="Gill Sans MT"/>
                <a:ea typeface="Arial"/>
              </a:rPr>
              <a:t>It can be used anywhere in the program.</a:t>
            </a:r>
            <a:br>
              <a:rPr sz="2400"/>
            </a:br>
            <a:r>
              <a:rPr b="0" lang="en-US" sz="2400" spc="-1" strike="noStrike">
                <a:solidFill>
                  <a:srgbClr val="ff0000"/>
                </a:solidFill>
                <a:latin typeface="Gill Sans MT"/>
                <a:ea typeface="Arial"/>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2560-5415-45E5-A3FD-26A8557002C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77E1-9F8C-47E3-AC5B-2A34B56B8EE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039B-5B18-4CE7-AD78-655FB74C4E5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277D-4FDE-42E5-BD89-F80B8990354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64FA-A796-4B62-9083-9AB8F9E90DA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50E1-C810-4BF3-A127-A05A4239CB9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4BB1-38D5-499A-9511-32D423866D9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int i=100; </a:t>
            </a: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a:t>
            </a:r>
            <a:r>
              <a:rPr b="0" lang="en-US" sz="1800" spc="-1" strike="noStrike">
                <a:solidFill>
                  <a:srgbClr val="00b050"/>
                </a:solidFill>
                <a:latin typeface="Gill Sans MT"/>
                <a:ea typeface="Arial"/>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 &lt;&lt; “I is” &lt;&lt; i;</a:t>
            </a:r>
            <a:r>
              <a:rPr b="0" lang="en-US" sz="1800" spc="-1" strike="noStrike">
                <a:solidFill>
                  <a:srgbClr val="000000"/>
                </a:solidFill>
                <a:latin typeface="Gill Sans M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69A0-CD65-468B-AB3B-2E0E82B8E01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26C1-4013-423C-ADF7-2ECDE7D5F0A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C06AF48D-1D7A-4995-B67F-C4DA150C6CE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6662-7BA6-4F10-926F-9D4894AF651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clude</a:t>
            </a:r>
            <a:r>
              <a:rPr b="0" lang="en-US" sz="1800" spc="-1" strike="noStrike">
                <a:solidFill>
                  <a:srgbClr val="a31515"/>
                </a:solidFill>
                <a:latin typeface="Calibri"/>
                <a:ea typeface="Calibri"/>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using</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namespace</a:t>
            </a:r>
            <a:r>
              <a:rPr b="0" lang="en-US" sz="1800" spc="-1" strike="noStrike">
                <a:solidFill>
                  <a:srgbClr val="000000"/>
                </a:solidFill>
                <a:latin typeface="Calibri"/>
                <a:ea typeface="Calibri"/>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for</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return</a:t>
            </a:r>
            <a:r>
              <a:rPr b="0" lang="en-US" sz="1800" spc="-1" strike="noStrike">
                <a:solidFill>
                  <a:srgbClr val="000000"/>
                </a:solidFill>
                <a:latin typeface="Calibri"/>
                <a:ea typeface="Calibri"/>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0534-698C-4D0F-BE8E-311EF2F5B9A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897A-4D2A-4E27-BDD3-2A8BCD5F1FB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3EA9-BBE9-4E83-BDB8-6D83CE72E58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CAE8-3803-4FC4-BD3A-2374131D234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E882-59F5-47F3-A9A9-43F1F27E110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86A7-B0A1-42B0-BE2B-F6EE469C651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B3CD-786C-4AAF-8162-01C88C9CA50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FFA9-29A4-4882-B4B3-A42E93D0BFE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D6F2-6681-4E6B-81E8-BF8E2BC87DD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D6F3BAE2-05DD-41B9-8791-C2524199B76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69FD-62F6-42CE-A9B6-54D21C70EAB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13F5-AEF0-486C-BF5D-3CDFF17FE2B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6A8A-BDBF-4426-8956-E7FAF0AE25B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0EE-146B-482B-940C-E7C8522B75E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2840-C7B8-49DE-9A9B-3E7B9E53EE4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B9C6-E2C0-40BF-A32E-EC2CA25BE4C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6528-31DE-4939-ADE5-3E2C44CD05C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A64D-7BD3-470E-BFF7-503ABB60F75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064F-8FD7-4D65-9E75-FA4B4E0959C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0E5-7269-4AEC-8D9C-DC20BBD9615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970D-4913-4CC2-A87A-62AD67B107B1}"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ED4-2215-49BA-AB71-368A23356ED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A92F-0C3A-4402-8B11-7E7ACF844B6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F6A6-62AD-4705-B3D3-DFFD2C8204A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B380-812A-419C-BAF1-069F19F8B0E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77ED-521D-4245-A52B-0DAE6482CEA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3708-627D-43CB-B76E-841AF4B6A62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39C6-0B5C-4193-A22A-50B3F9C6881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041A-99BC-46E7-881B-66945EB5EE9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6F47-CF6E-437E-80FD-2C702BA5BA5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19F177E-23FC-4801-A959-0A9F82AA61D2}"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CE92-7697-42AA-98E9-5F72BC9A35A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44B2-9F62-42A9-B4A6-81BD78B61CE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9762-5B56-43C1-825E-1E3FB1A4200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9E6D-D6C0-40D5-A96D-CF82E0C0C96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ea typeface="Arial"/>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F75D-8880-4FF8-B7F3-BF2F0C83178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3EE0-6E8B-461A-A225-2AD60B34C07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93F4-C90F-40E5-A07E-030B75AC17F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50FD-1BF9-466F-8EEE-27342797AFA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05AE-F23B-48AB-829F-8FE8B65B60C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6BEB-9977-4B81-98FB-39A5131C0AA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C3175335-E19B-4706-88E8-82C857D77CC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D376-7F7F-405F-B2DF-CE802B15465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515A-4F10-40F6-A161-8BE9433DC36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ACB7-65A4-4914-8349-2051B0AE9F26}" type="slidenum">
              <a:rPr b="0" lang="en-US"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1D7B-F912-4A7C-9F7D-174555CF9933}"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77E7-34FA-4CA6-89EC-3069A76285DA}"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unctions </a:t>
            </a:r>
            <a:r>
              <a:rPr b="0" lang="en-US" sz="2400" spc="-1" strike="noStrike">
                <a:solidFill>
                  <a:srgbClr val="000000"/>
                </a:solidFill>
                <a:latin typeface="Courier New"/>
                <a:ea typeface="Arial"/>
              </a:rPr>
              <a:t>functionSix</a:t>
            </a:r>
            <a:r>
              <a:rPr b="0" lang="en-US" sz="2400" spc="-1" strike="noStrike">
                <a:solidFill>
                  <a:srgbClr val="000000"/>
                </a:solidFill>
                <a:latin typeface="Arial"/>
                <a:ea typeface="Arial"/>
              </a:rPr>
              <a:t> and </a:t>
            </a:r>
            <a:r>
              <a:rPr b="0" lang="en-US" sz="2400" spc="-1" strike="noStrike">
                <a:solidFill>
                  <a:srgbClr val="000000"/>
                </a:solidFill>
                <a:latin typeface="Courier New"/>
                <a:ea typeface="Arial"/>
              </a:rPr>
              <a:t>functionSeven</a:t>
            </a:r>
            <a:r>
              <a:rPr b="0" lang="en-US" sz="2400" spc="-1" strike="noStrike">
                <a:solidFill>
                  <a:srgbClr val="000000"/>
                </a:solidFill>
                <a:latin typeface="Arial"/>
                <a:ea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5E61-89A7-4AB4-86CB-DE8C07285641}"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unction overloading: creating several functions with the same name</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ignature of a function consists of the function name and its formal parameter list </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0498-6884-4481-A72C-EBDC9BF27B24}"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function headings correctly overload the function </a:t>
            </a:r>
            <a:r>
              <a:rPr b="0" lang="en-US" sz="2400" spc="-1" strike="noStrike">
                <a:solidFill>
                  <a:srgbClr val="000000"/>
                </a:solidFill>
                <a:latin typeface="Courier New"/>
                <a:ea typeface="Arial"/>
              </a:rPr>
              <a:t>functionXYZ</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oth of these function headings have the same name and same formal parameter lis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herefore, these function headings to overload the function </a:t>
            </a:r>
            <a:r>
              <a:rPr b="0" lang="en-US" sz="2300" spc="-1" strike="noStrike">
                <a:solidFill>
                  <a:srgbClr val="000000"/>
                </a:solidFill>
                <a:latin typeface="Courier New"/>
                <a:ea typeface="Arial"/>
              </a:rPr>
              <a:t>functionABC</a:t>
            </a:r>
            <a:r>
              <a:rPr b="0" lang="en-US" sz="2300" spc="-1" strike="noStrike">
                <a:solidFill>
                  <a:srgbClr val="000000"/>
                </a:solidFill>
                <a:latin typeface="Arial"/>
                <a:ea typeface="Arial"/>
              </a:rPr>
              <a:t> are incorrec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In this case, the compiler will generate a syntax error</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0D89-133A-4F70-966A-55353DA6CB40}"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8C3D-0B21-401B-A6CC-B64C05D8EC82}"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853F-81EF-403B-A4B5-01F1DB1B539B}"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9D3A-A966-409E-AF26-5E0DC39E93C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0DE5-889A-4331-B33B-563A4C054B6F}"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56E3-63A6-4D49-B0E7-83E5F92739B0}"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310A-62D1-4CF6-9E19-5548FB0513FA}"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5400-F14E-4C9D-88AB-74A56A11644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1670CEB0-45F7-46B1-9B10-6D54E6B16347}"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D5247B96-AE0F-45CA-A42A-0EA67659926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2214-FE2D-4418-A611-615F44B9298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5709-6C2E-4DAC-99FD-4DE98EE128A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9930-B2F4-45DF-A13C-E72CA209B8B3}"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DC93-2979-4037-932C-500BB0465E4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34E2-A8E9-4F30-B914-87F81FB5C7B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3D43-A589-4457-92FC-05C96C29820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 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t&lt;&lt;"enter positiv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in&gt;&gt;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yMethod(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3B77-E423-40A1-A07C-A1DCCD13950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Sara</cp:lastModifiedBy>
  <dcterms:modified xsi:type="dcterms:W3CDTF">2016-01-23T12:46:44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