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9E89-A78A-468D-9AE1-73A84BA917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3F2-9AC3-4A73-8196-39174988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895-9398-4A56-9217-E4D7CF2A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82E-04B4-4C99-9312-5BBEC7C4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7D3-EE7A-46EF-9283-C92BEF86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7DF0-F767-49C3-BCF2-9A1C270A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5C32-F08A-4D13-BC9B-09D89338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C0F8-4FB6-4DCF-9631-F55E1062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D642-7E0C-4CF0-9C29-F5A0ABE2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3616-D322-49C5-A82D-D5E7CBE9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4B8F-359E-43EB-B0A2-E2B63608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898D-BAA7-4172-94AA-2E2507F5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415-CA58-4ADF-A919-381B5C08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0A6C-31C6-4413-8E7F-4DD42819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A6CC-0A51-457B-A50A-FE327822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33F6-9756-4BB2-8171-3BF43404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54F0-379F-4901-AC88-6B8B6812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5C9B-033A-4FB9-96F1-6398CFC3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8D694-86FE-47ED-92E4-AB8D4E42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CA1FB-FB14-4133-8B4E-069115EC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A28B9-8C97-49E5-AF2A-C6BC1C91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0B5A4-A94D-487A-8F39-4E09E267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0F235-94A2-4A86-86F0-C673EECD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E27-79D4-41F8-915E-47629F35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9461B-0E2D-492F-A189-8741EF77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4F2FD-7486-4540-ADAB-E02D351B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6DAEF-9F3A-4B5A-9B72-BD071FEE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D1A84-BDCE-476B-9BE2-9BB8CAE9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85C4-E684-4C26-BB68-C3BE7743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286F8-7865-4610-9BA4-E20AE7F5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978F0-D0E1-4858-ABC8-3F5EE9C1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FEB6C-821B-4727-BF70-B02BB297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5DEBE-6DAC-4020-BA59-7AD9FEB7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49C2E-1F75-4F9B-A7E1-79D00D8F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A62B-FF32-4612-92CE-2107C3FD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F2399-5625-4B66-AF73-437A501E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74EE2-662F-4D27-9EE7-8C583FB6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4BFBC-51C8-478C-A973-9651FCC5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5C6DA-23E8-4B77-A23E-1D366932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10AC1-BB2A-4BB8-941F-5B502EBE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8C741-5975-44DE-959A-D5491F03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1DC23-8F85-4A2B-B8E5-332A5B59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758AA-3230-489D-976D-36EDCDA0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1EB3A-4574-4B92-AB68-6CCF7ADF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2D4ED-8640-43FC-9A73-405F402D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51B-FF5B-424C-9FC6-FBB55694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56EC1-A6F6-47D0-82C2-FD58AB45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643D0-C71B-472B-8D02-62A4E9C0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39214-FA04-4FFF-8668-AC512DBF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A03F1-6D19-4AA4-BB44-27244DF3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696A3-668E-4CBF-9DC2-F4CA4626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510C9-AB0C-42E0-8ABD-B216B033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483DD-BD3A-452A-84E6-EB67AAB3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5E9BA-FECB-4A17-8AA9-078954B1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8E69C-163E-47C9-98F6-855281BA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86C57-ECA1-4898-AA88-95014550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FAC-ECB5-4D76-AC05-A6D3B624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1EB25-4995-453A-8050-00595DA1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0CD99-4259-4C8C-BAD8-5B571599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9AD94-30C0-44DF-B14B-5529025A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275C4-C4A4-4F49-8B64-1E30B2FE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C3CF5-6D9E-497C-87BB-C9D7B6E1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8E38E-4520-4665-B867-EF82AC2B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6AD17-7566-43B9-A483-75C94F86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B9DB7-14EF-4504-9521-7E0BEAFE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AF0E1-F684-48A8-8A03-295EE034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D6042-4A89-47FE-847D-F89D787C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847-5AD6-4392-8F25-12FFD298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DBBFE-70DE-4C2F-8439-10A4C6EC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3BA99-BBA4-455E-9F52-C5F537EE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CAB43-765A-45E1-B76E-F3C4CFBF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F26C2-E8FB-4623-A480-55BB4BE0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73BCD-FAC6-48D6-80F5-D01EBECC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65BF3-8FAF-4C20-A2D5-3E8A16E2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DEC05-8101-4DAD-B012-D85E6620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7D14C-56BF-45CD-809E-BFDB576A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040A1-AC76-4495-A24D-B41625FF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F98E5-0F48-434F-8699-D9CA7FD1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B9D-71E5-4CBD-AB55-5D98058C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31EF4-0089-4262-8134-2BE68CEB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E6F2B-2A7E-4DE9-9E2D-4C6C3B64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C0CB2-7646-493B-9168-26BBA628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037F6-9347-43CE-8C1F-8F5562C3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9CB96-71E7-4A73-B40C-B3D1517C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046CC-A056-4073-B3DD-B20E10DD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CC84B-85D7-4C83-A71D-14AB349E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EA801-0611-4074-BACC-9C502798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E5535-B830-4DF4-873F-8CEE314C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EAB58-D20A-425A-876D-E78E7818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715-6003-4E64-BC49-B0D9E891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29C22-329E-455F-B2EE-E33AF6EC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3462E-BB84-48CB-A8A1-121DE6AC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C1D2A-2D6E-4591-80FF-7DC92185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19BDB-F1B4-4521-AA16-5DBE9D57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E107B-4BE3-4559-B584-CE53F36D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27F14-C597-49F4-9709-E5F8CD80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B4C8F-92E2-4804-8B20-BDC92FC5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1BA5-56F0-4359-8CFA-6067633FEBA3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FC9E-BC56-4084-B7B3-8FAB04BADE95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7A9A-E613-4A8A-8270-F6C00B3AAD40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B21B-DDC9-49FF-90EC-BC799F0F06B9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91F2-323E-4D96-A301-D67B72A4AB8B}" type="datetime">
              <a:rPr b="0" lang="en-GB" sz="1400" spc="-1" strike="noStrike">
                <a:solidFill>
                  <a:srgbClr val="dde9ec"/>
                </a:solidFill>
                <a:latin typeface="Gill Sans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D08C-0FFA-49A5-A054-FD5BB656AF40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B06C-9E25-4493-9EDD-77B8847C46C6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22C1-13CF-405F-B6E5-2603C6601926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443A-6044-4876-94AE-79C0F9EEBE72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732A-60D8-4D6A-8059-5D75B80C96AF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9600-F337-49AC-A1E6-C2F9EC883118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D3FE-8B25-4F5E-9C1D-116D978AF768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583E-EF77-4DE1-A0D1-FA8AF9969B4D}" type="datetime">
              <a:rPr b="0" lang="en-GB" sz="1400" spc="-1" strike="noStrike">
                <a:solidFill>
                  <a:srgbClr val="dde9ec"/>
                </a:solidFill>
                <a:latin typeface="Gill Sans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4436-2A8C-436C-9BF8-3F2E34C7E43E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7138-86AA-4DD0-906B-4CAA5268DC6D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8A83-14E3-48B6-9D9C-A11B91A522B7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280" bIns="46800" anchor="b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SC1201: Programming Language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56C3-120D-4183-9E53-04B7C49AE109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46800" anchor="ctr">
            <a:norm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Functions I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s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B88C-C2E7-4491-9A3D-AED158B64C85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rite a Function larger, which returns the larger of the two given integers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rite a Function Square, which returns the square of the given integer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Gill Sans MT"/>
              </a:rPr>
              <a:t>Write a function  number_type. The function should output the number and message saying whether the number is positive, negative, or zero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Arial"/>
              </a:rPr>
              <a:t>Example: With return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458B03E2-B865-4B3F-8D3F-C0487ABA968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arger (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x ,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y 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ax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 x &gt;= y 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 = x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 = y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ax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1800" spc="-1" strike="noStrike">
                <a:solidFill>
                  <a:srgbClr val="262699"/>
                </a:solidFill>
                <a:latin typeface="Arial"/>
              </a:rPr>
              <a:t>Function Cal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……</a:t>
            </a: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Cout &lt;&lt; “The larger of 5 and 6 is “ &lt;&lt; larger(5 , 6) &lt;&lt; endl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………</a:t>
            </a: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5" name="Rectangle 6" descr=""/>
          <p:cNvPicPr/>
          <p:nvPr/>
        </p:nvPicPr>
        <p:blipFill>
          <a:blip r:embed="rId1"/>
          <a:stretch/>
        </p:blipFill>
        <p:spPr>
          <a:xfrm>
            <a:off x="4900680" y="1547640"/>
            <a:ext cx="38894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: With return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2137BEDA-8996-4D26-ADCA-C3AB176B486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0" lang="en-GB" sz="1300" spc="-1" strike="noStrike">
                <a:solidFill>
                  <a:srgbClr val="800000"/>
                </a:solidFill>
                <a:latin typeface="Arial"/>
              </a:rPr>
              <a:t>&lt;iostream&gt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std::cin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std::cout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std::endl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ar-SA" sz="13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*x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main ( )</a:t>
            </a:r>
            <a:r>
              <a:rPr b="0" lang="ar-SA" sz="13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number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1300" spc="-1" strike="noStrike">
                <a:solidFill>
                  <a:srgbClr val="800000"/>
                </a:solidFill>
                <a:latin typeface="Arial"/>
              </a:rPr>
              <a:t>"Enter any number to Calculate the square of this number "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in&gt;&gt;number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ut&lt;&lt;endl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1300" spc="-1" strike="noStrike">
                <a:solidFill>
                  <a:srgbClr val="800000"/>
                </a:solidFill>
                <a:latin typeface="Arial"/>
              </a:rPr>
              <a:t>"the square of "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&lt;number&lt;&lt;</a:t>
            </a:r>
            <a:r>
              <a:rPr b="0" lang="en-GB" sz="1300" spc="-1" strike="noStrike">
                <a:solidFill>
                  <a:srgbClr val="800000"/>
                </a:solidFill>
                <a:latin typeface="Arial"/>
              </a:rPr>
              <a:t>" is "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&lt;&lt;square(number)&lt;&lt;endl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Rectangle 7" descr=""/>
          <p:cNvPicPr/>
          <p:nvPr/>
        </p:nvPicPr>
        <p:blipFill>
          <a:blip r:embed="rId1"/>
          <a:stretch/>
        </p:blipFill>
        <p:spPr>
          <a:xfrm>
            <a:off x="4900680" y="1547640"/>
            <a:ext cx="38894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: Without return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E89ABC7A-B437-4E36-9C5E-542778F8AB7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Void  number_type ( int x)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f ( x &gt; 0 )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ut &lt;&lt; x &lt;&lt; “ is positive.” &lt;&lt; 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lse if ( x &lt; 0 )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ut &lt;&lt; x &lt;&lt; “ is negative.” &lt;&lt; 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ut&lt;&lt; x &lt;&lt; “is a zero.”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unction Cal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……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umber_type( 5 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………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3" name="Rectangle 7" descr=""/>
          <p:cNvPicPr/>
          <p:nvPr/>
        </p:nvPicPr>
        <p:blipFill>
          <a:blip r:embed="rId1"/>
          <a:stretch/>
        </p:blipFill>
        <p:spPr>
          <a:xfrm>
            <a:off x="5059440" y="1305000"/>
            <a:ext cx="38955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fld id="{569F157F-5C4B-45EC-B6AE-E1506991CA8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4000" y="2924280"/>
            <a:ext cx="749772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Function declar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eturn_typ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uncName(</a:t>
            </a:r>
            <a:r>
              <a:rPr b="0" lang="en-GB" sz="1800" spc="-1" strike="noStrike">
                <a:solidFill>
                  <a:srgbClr val="ff0000"/>
                </a:solidFill>
                <a:latin typeface="Gill Sans MT"/>
              </a:rPr>
              <a:t>Type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arg1, </a:t>
            </a:r>
            <a:r>
              <a:rPr b="0" lang="en-GB" sz="1800" spc="-1" strike="noStrike">
                <a:solidFill>
                  <a:srgbClr val="ff0000"/>
                </a:solidFill>
                <a:latin typeface="Gill Sans MT"/>
              </a:rPr>
              <a:t>Type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arg2,….. </a:t>
            </a:r>
            <a:r>
              <a:rPr b="0" lang="en-GB" sz="1800" spc="-1" strike="noStrike">
                <a:solidFill>
                  <a:srgbClr val="ff0000"/>
                </a:solidFill>
                <a:latin typeface="Gill Sans MT"/>
              </a:rPr>
              <a:t>Type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argN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Gill Sans MT"/>
              </a:rPr>
              <a:t>{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function body </a:t>
            </a:r>
            <a:r>
              <a:rPr b="0" lang="en-GB" sz="2400" spc="-1" strike="noStrike">
                <a:solidFill>
                  <a:srgbClr val="ff0000"/>
                </a:solidFill>
                <a:latin typeface="Gill Sans M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4" name="Rectangle 6"/>
          <p:cNvGrpSpPr/>
          <p:nvPr/>
        </p:nvGrpSpPr>
        <p:grpSpPr>
          <a:xfrm>
            <a:off x="-103320" y="4651200"/>
            <a:ext cx="9356760" cy="2067120"/>
            <a:chOff x="-103320" y="4651200"/>
            <a:chExt cx="9356760" cy="2067120"/>
          </a:xfrm>
        </p:grpSpPr>
        <p:pic>
          <p:nvPicPr>
            <p:cNvPr id="365" name="Rectangle 6" descr=""/>
            <p:cNvPicPr/>
            <p:nvPr/>
          </p:nvPicPr>
          <p:blipFill>
            <a:blip r:embed="rId1"/>
            <a:stretch/>
          </p:blipFill>
          <p:spPr>
            <a:xfrm>
              <a:off x="-103320" y="4651200"/>
              <a:ext cx="9356760" cy="20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0" y="4724280"/>
              <a:ext cx="9144000" cy="18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>
                <a:spcBef>
                  <a:spcPts val="1125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Gill Sans MT"/>
                </a:rPr>
                <a:t>A program can contain  one or many functions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85840" indent="-285840" algn="just">
                <a:spcBef>
                  <a:spcPts val="1125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Gill Sans MT"/>
                </a:rPr>
                <a:t>Must always </a:t>
              </a:r>
              <a:r>
                <a:rPr b="0" lang="en-GB" sz="1800" spc="-1" strike="noStrike">
                  <a:solidFill>
                    <a:srgbClr val="ffffff"/>
                  </a:solidFill>
                  <a:latin typeface="Gill Sans MT"/>
                </a:rPr>
                <a:t>have a function called “main”.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85840" indent="-285840" algn="just">
                <a:spcBef>
                  <a:spcPts val="1125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Gill Sans MT"/>
                </a:rPr>
                <a:t>The main function is the starting point of all C++ programs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85840" indent="-285840" algn="just">
                <a:spcBef>
                  <a:spcPts val="1125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Gill Sans MT"/>
                </a:rPr>
                <a:t>The compiler will not compile the code unless it finds a function called “main” within the program. 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67" name="TextBox 9"/>
          <p:cNvSpPr/>
          <p:nvPr/>
        </p:nvSpPr>
        <p:spPr>
          <a:xfrm>
            <a:off x="755640" y="404640"/>
            <a:ext cx="788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 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is a group of statements that together perform a tas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can be used anywhere in the program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Why we need function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e code in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e are easier to maintai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“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Hello World” progra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fld id="{EAB3B9B8-D4B8-40EE-A994-349E6FFFD6C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219320"/>
            <a:ext cx="4259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#include 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using namespace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int main ()</a:t>
            </a:r>
            <a:r>
              <a:rPr b="1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cout &lt;&lt; “Hello World\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}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n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fld id="{CFBA31A4-8748-45A6-BDA1-B16DB700881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When we need functio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you need to repeat the same process over an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ver in a progra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function can be called many times but appears i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de o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1- Predefined 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D492-5225-4149-B440-C17C8D07CD0D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197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redefined functio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are functions that are built into C++ Language to perform some standard operatio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++ standard library provides numerous built-in functions that your program can call. For example, function 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rcat(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to concatenate two string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definitions have been written and it is ready to be us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r needs to include pre-defined header file  (i.e. math.h, time.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2- User defined 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B28C23A3-CEED-45B8-866A-E04E0D39ED2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that been created by the us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unctions need to be declared and defined by the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55E3B610-27C7-4C6C-B940-BE8E6D74E31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alue returning functions: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3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functions that have a return type. 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3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These functions return a value of a specific data type using the </a:t>
            </a:r>
            <a:r>
              <a:rPr b="1" lang="en-GB" sz="2200" spc="-1" strike="noStrike">
                <a:solidFill>
                  <a:srgbClr val="c00000"/>
                </a:solidFill>
                <a:latin typeface="Arial"/>
              </a:rPr>
              <a:t>return</a:t>
            </a:r>
            <a:r>
              <a:rPr b="0" lang="en-GB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statement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oid functions: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3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functions that do not have a return type. 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3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These functions do not use a return statement to return a value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alue returning 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7A1D-F658-4630-B6A3-CD93BB579BA3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The syntax is: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c00000"/>
                </a:solidFill>
                <a:latin typeface="Arial"/>
              </a:rPr>
              <a:t>FuncType </a:t>
            </a: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FuncName(formal parameter list )</a:t>
            </a:r>
            <a:r>
              <a:rPr b="0" lang="ar-SA" sz="2900" spc="-1" strike="noStrike">
                <a:solidFill>
                  <a:srgbClr val="35353e"/>
                </a:solidFill>
                <a:latin typeface="Arial"/>
                <a:ea typeface="Arial"/>
              </a:rPr>
              <a:t>‏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{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statement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oid 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E516-128E-4B69-8F39-24DE1BEB05C0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The syntax is: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c00000"/>
                </a:solidFill>
                <a:latin typeface="Arial"/>
              </a:rPr>
              <a:t>Void</a:t>
            </a:r>
            <a:r>
              <a:rPr b="0" lang="en-GB" sz="2900" spc="-1" strike="noStrike">
                <a:solidFill>
                  <a:srgbClr val="00664d"/>
                </a:solidFill>
                <a:latin typeface="Arial"/>
              </a:rPr>
              <a:t>  </a:t>
            </a: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FuncName ( formal parameter list )</a:t>
            </a:r>
            <a:r>
              <a:rPr b="0" lang="ar-SA" sz="2900" spc="-1" strike="noStrike">
                <a:solidFill>
                  <a:srgbClr val="002060"/>
                </a:solidFill>
                <a:latin typeface="Arial"/>
                <a:ea typeface="Arial"/>
              </a:rPr>
              <a:t>‏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{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statement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9:17:26Z</dcterms:created>
  <dc:creator>ALjaffan</dc:creator>
  <dc:description/>
  <dc:language>en-US</dc:language>
  <cp:lastModifiedBy>Nouf</cp:lastModifiedBy>
  <dcterms:modified xsi:type="dcterms:W3CDTF">2014-02-07T12:06:56Z</dcterms:modified>
  <cp:revision>18</cp:revision>
  <dc:subject/>
  <dc:title>CSC1201: Programming Languag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