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A6FF-86E3-48B0-821C-C12E052C1D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45F-1188-499A-81E7-8E2B1E02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6274-61B9-4A43-97D6-50481DFF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5521-FE22-4EB5-8A0B-2A6B0EA8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059D-1EA6-41CD-9DCC-D44EAE06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CC24-A86F-4A34-8B87-C2B1A0C9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00B6-BB06-4960-BCFE-631821E9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B275-708A-4A02-9DC5-20FFE4E3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DFBF-CA36-4B0A-B272-D8293E52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EB75-64E5-4FDD-8C41-0F579D73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FF58-CEB3-4F2D-B992-7A3EFD86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3F9A-40AE-4AE9-9DF0-4E5B9958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6465-7C5C-4489-AC42-182BB500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0A7D-389E-426A-86CC-6BB0D670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F7F5-5839-4CD6-B685-03A57CBB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654A-57BC-433D-810F-8DA5D01B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0892-1C4A-49B8-90DB-C4E0CEDC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4B51-68F5-413C-AF22-1A70FA6B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EDA35-2651-46AC-BC1A-4BA4517E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0E77D-DA04-48F6-87AD-DEC1FD36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E8AC-CFA8-4FE1-8204-C0657CF4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DE3F7-F03E-41D4-B60F-D2998E9D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B3D58-C4C8-4158-A0B6-DA8CB6F6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3250-6F4B-434E-8BFC-F60BBEB0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2FB54-D8D1-4670-ADA3-2D9C55CD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EDDFF-518B-457A-A19C-C3ED05D1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D0D07-39EC-4D85-B09D-E0876013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9F658-6577-4E84-905D-230D3889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2310C-391C-4AB0-9176-8440D08D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9B25F-2414-4343-B9F4-F47459D9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B6523-4C3F-45D2-8AB4-BF52107B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FA14D-5731-4E34-BA49-08C90D32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76FB6-06C6-4FE6-BF1B-B2E2A8A7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1DCE3-526A-46D7-83FE-C744C06A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CA0-AF8F-4020-BB5F-EB3929D6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36DDF-21D9-48B9-8058-14FEA080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49A55-1D67-4AA7-81DB-79DC20A4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76F2E-CD6C-490A-9781-D95628D7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296DA-5E98-4F6D-A8D9-4E8014B6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15577-DF1B-425E-B2E5-6A827622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5EE31-916B-468A-80F3-0B2C59F5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740D2-92F2-4416-AD24-EF3E37AD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9CDFC-16D5-4CC9-8815-6F763AC3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C73BE-0199-434D-8CAD-3E4547CA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DDC31-E54D-4403-BBCA-64ADF3FF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8E5-C9EA-43C8-84CC-B4F1BBA8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A3BC0-E491-4C70-94CE-4CA01823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B9901-3F5D-40DA-B68C-E612E75C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2D2C1-923D-4872-9F55-A5B89AB6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B86BB-A064-4DA4-9B6D-C512AF9A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95DE6-9FB7-4198-83D5-01FDB148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58E6E-F79D-4673-B7AD-475A3306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7FCAD-A342-4429-8EA7-6CA699B9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50200-FA22-4D97-8EA4-7AB43B1A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27E24-8BFA-4FEC-B04C-6F7EBC6D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6DBF8-0C02-45B3-8C64-9E26419D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AC4-6621-413C-8C83-B03511ED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E31E4-F66B-4429-BA47-83CF3F10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47BD1-6C50-4460-9C62-C0737FC7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44773-2053-4D4E-8FF6-A7FFF1B1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4F32B-3E2A-4ABA-B9DA-714BDD73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B854B-552B-417A-8901-B26D1E13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8EDEC-53EE-44DD-B7F0-84426FF0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0BB11-6C7C-4083-92C7-F1A89228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14A65-063F-4C38-B760-67C66791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4300A-1574-4FBA-83C2-F1AC9AD3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72A20-ACC5-4622-9058-F587561D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33C-FD6C-4D68-87D1-FC1530B5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87051-61C5-482C-A214-9BB84553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30A1E-D572-4C90-AA24-BE0992D7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F42BC-9164-4E35-9F1C-137E4B20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B1736-590A-4A30-80BF-67F26C09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FB1C5-DF02-4ED6-9457-29DBBF1F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0C52B-BBE4-493D-B163-AEAEEC27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91581-174F-4D8D-B5FE-96E77F64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D97C2-0D70-4125-A2A0-6FBC38C7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1EBCA-0E53-4843-932E-8AA9A77A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72E20-07CC-4A6D-88A2-8C55DF93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3C6-52C3-42AD-940E-1B4FA05B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4C0C2-F683-4A13-BA51-273CBAC2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FF114-4327-4CF7-84A1-E44E331B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5648A-C797-4077-99C6-9E8F3EF0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E59BA-B360-4335-8E15-C5F9449F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8D067-6B78-470A-BC78-D28E43B3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513AB-92A7-4361-9457-FF0104D6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86AF6-693D-4FCF-9E30-0D8EA51B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B2B11-3661-49C5-BE17-D9A83E1D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A99AE-08C4-449F-A485-8B6A3B0F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3656A-8B90-4409-9065-BB36D65A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11C-2175-49F4-9226-9BE4FECA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961BB-5CD5-4DDA-9C32-059AA28A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A4B5A-BCE0-4313-BA0F-C26E9E28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96F52-9B17-4A4B-B0EA-56AF6C1F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D1E4A-A2CD-4176-A2C5-F05CB09B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CAF81-48E1-4E4A-A9E8-1789526C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D0AA8-3A43-4A3E-8603-EDD1F729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61720-409C-4240-A1E1-2D1B4199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D4F2-728A-432F-942F-DBEBCCB9E067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ABDE-B5B3-4169-AAFE-EE5098CC00ED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CDB0-7914-465F-8B08-D45077FF7534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E718-A5D7-40C3-8D53-E68BD608E1D1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DB65-266A-4A4F-BF9A-DFDFE9A58413}" type="datetime">
              <a:rPr b="0" lang="en-GB" sz="1400" spc="-1" strike="noStrike">
                <a:solidFill>
                  <a:srgbClr val="dde9ec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93DB-88DA-4C22-9D99-0E44B8B31363}" type="slidenum"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5EC8-2DC8-4E2A-A419-8397C9A1708B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6E61-DA24-441D-A82E-A938EBA0978E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53E5-65C8-46C4-AA31-FC4C5210E7B6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35CD-D435-4CD2-A1DB-875B311D3C91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FA04-4F74-42A4-992B-F4E1A7A21CCC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CF30-5868-440C-9419-D04B62F2B86A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0706-9A4A-4829-9250-6ED5ACDF4903}" type="datetime">
              <a:rPr b="0" lang="en-GB" sz="1400" spc="-1" strike="noStrike">
                <a:solidFill>
                  <a:srgbClr val="dde9ec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2AFC-B478-40FC-9E0D-B76A2071E489}" type="slidenum"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D145-FF40-4505-A982-DB6DAA9D364E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4C4E-C19A-4FD0-89D0-6DFCC1AE5BFD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280" bIns="46800" anchor="b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SC1201: Programming Language 2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A6CC-8E39-4A59-9085-D46DE119CAF1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46800" anchor="ctr">
            <a:norm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Functions I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s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581B-BB2B-42B3-B195-441897376EFF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rite a Function larger, which returns the larger of the two given integers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rite a Function Square, which returns the square of the given integer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Gill Sans MT"/>
              </a:rPr>
              <a:t>Write a function  number_type. The function should output the number and message saying whether the number is positive, negative, or zero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Arial"/>
              </a:rPr>
              <a:t>Example: With return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23241CBC-CB46-4FB4-A911-E12BEF51E964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arger (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x ,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y 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ax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 x &gt;= y 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 = x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 = y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ax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1800" spc="-1" strike="noStrike">
                <a:solidFill>
                  <a:srgbClr val="262699"/>
                </a:solidFill>
                <a:latin typeface="Arial"/>
              </a:rPr>
              <a:t>Function Cal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262699"/>
                </a:solidFill>
                <a:latin typeface="Arial"/>
              </a:rPr>
              <a:t>……</a:t>
            </a:r>
            <a:r>
              <a:rPr b="0" lang="en-GB" sz="1800" spc="-1" strike="noStrike">
                <a:solidFill>
                  <a:srgbClr val="262699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262699"/>
                </a:solidFill>
                <a:latin typeface="Arial"/>
              </a:rPr>
              <a:t>Cout &lt;&lt; “The larger of 5 and 6 is “ &lt;&lt; larger(5 , 6) &lt;&lt; endl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262699"/>
                </a:solidFill>
                <a:latin typeface="Arial"/>
              </a:rPr>
              <a:t>………</a:t>
            </a:r>
            <a:r>
              <a:rPr b="0" lang="en-GB" sz="1800" spc="-1" strike="noStrike">
                <a:solidFill>
                  <a:srgbClr val="262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5" name="Rectangle 6" descr=""/>
          <p:cNvPicPr/>
          <p:nvPr/>
        </p:nvPicPr>
        <p:blipFill>
          <a:blip r:embed="rId1"/>
          <a:stretch/>
        </p:blipFill>
        <p:spPr>
          <a:xfrm>
            <a:off x="4900680" y="1547640"/>
            <a:ext cx="38894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: With return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52DE760B-2C47-4F1E-8B90-1AFCA6B1128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0" lang="en-GB" sz="1300" spc="-1" strike="noStrike">
                <a:solidFill>
                  <a:srgbClr val="800000"/>
                </a:solidFill>
                <a:latin typeface="Arial"/>
              </a:rPr>
              <a:t>&lt;iostream&gt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std::cin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std::cout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std::endl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square (</a:t>
            </a: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x)</a:t>
            </a:r>
            <a:r>
              <a:rPr b="0" lang="ar-SA" sz="13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x*x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main ( )</a:t>
            </a:r>
            <a:r>
              <a:rPr b="0" lang="ar-SA" sz="13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number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1300" spc="-1" strike="noStrike">
                <a:solidFill>
                  <a:srgbClr val="800000"/>
                </a:solidFill>
                <a:latin typeface="Arial"/>
              </a:rPr>
              <a:t>"Enter any number to Calculate the square of this number "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in&gt;&gt;number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ut&lt;&lt;endl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1300" spc="-1" strike="noStrike">
                <a:solidFill>
                  <a:srgbClr val="800000"/>
                </a:solidFill>
                <a:latin typeface="Arial"/>
              </a:rPr>
              <a:t>"the square of "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&lt;number&lt;&lt;</a:t>
            </a:r>
            <a:r>
              <a:rPr b="0" lang="en-GB" sz="1300" spc="-1" strike="noStrike">
                <a:solidFill>
                  <a:srgbClr val="800000"/>
                </a:solidFill>
                <a:latin typeface="Arial"/>
              </a:rPr>
              <a:t>" is "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&lt;&lt;square(number)&lt;&lt;endl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0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9" name="Rectangle 7" descr=""/>
          <p:cNvPicPr/>
          <p:nvPr/>
        </p:nvPicPr>
        <p:blipFill>
          <a:blip r:embed="rId1"/>
          <a:stretch/>
        </p:blipFill>
        <p:spPr>
          <a:xfrm>
            <a:off x="4900680" y="1547640"/>
            <a:ext cx="38894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: Without return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EB7188F9-E500-4795-A37C-E026B70E67D8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Void  number_type ( int x)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f ( x &gt; 0 )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ut &lt;&lt; x &lt;&lt; “ is positive.” &lt;&lt; 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lse if ( x &lt; 0 )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ut &lt;&lt; x &lt;&lt; “ is negative.” &lt;&lt; 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ut&lt;&lt; x &lt;&lt; “is a zero.”&lt;&lt;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unction Cal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……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umber_type( 5 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………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3" name="Rectangle 7" descr=""/>
          <p:cNvPicPr/>
          <p:nvPr/>
        </p:nvPicPr>
        <p:blipFill>
          <a:blip r:embed="rId1"/>
          <a:stretch/>
        </p:blipFill>
        <p:spPr>
          <a:xfrm>
            <a:off x="5059440" y="1305000"/>
            <a:ext cx="38955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fld id="{E89D516F-1308-4844-A6D2-3CA0DC1125F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4000" y="2924280"/>
            <a:ext cx="749772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Function declara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return_typ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FuncName(</a:t>
            </a:r>
            <a:r>
              <a:rPr b="0" lang="en-GB" sz="1800" spc="-1" strike="noStrike">
                <a:solidFill>
                  <a:srgbClr val="ff0000"/>
                </a:solidFill>
                <a:latin typeface="Gill Sans MT"/>
              </a:rPr>
              <a:t>Type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arg1, </a:t>
            </a:r>
            <a:r>
              <a:rPr b="0" lang="en-GB" sz="1800" spc="-1" strike="noStrike">
                <a:solidFill>
                  <a:srgbClr val="ff0000"/>
                </a:solidFill>
                <a:latin typeface="Gill Sans MT"/>
              </a:rPr>
              <a:t>Type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arg2,….. </a:t>
            </a:r>
            <a:r>
              <a:rPr b="0" lang="en-GB" sz="1800" spc="-1" strike="noStrike">
                <a:solidFill>
                  <a:srgbClr val="ff0000"/>
                </a:solidFill>
                <a:latin typeface="Gill Sans MT"/>
              </a:rPr>
              <a:t>Type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argN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Gill Sans MT"/>
              </a:rPr>
              <a:t>{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function body </a:t>
            </a:r>
            <a:r>
              <a:rPr b="0" lang="en-GB" sz="2400" spc="-1" strike="noStrike">
                <a:solidFill>
                  <a:srgbClr val="ff0000"/>
                </a:solidFill>
                <a:latin typeface="Gill Sans M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4" name="Rectangle 6"/>
          <p:cNvGrpSpPr/>
          <p:nvPr/>
        </p:nvGrpSpPr>
        <p:grpSpPr>
          <a:xfrm>
            <a:off x="-103320" y="4651200"/>
            <a:ext cx="9356760" cy="2067120"/>
            <a:chOff x="-103320" y="4651200"/>
            <a:chExt cx="9356760" cy="2067120"/>
          </a:xfrm>
        </p:grpSpPr>
        <p:pic>
          <p:nvPicPr>
            <p:cNvPr id="365" name="Rectangle 6" descr=""/>
            <p:cNvPicPr/>
            <p:nvPr/>
          </p:nvPicPr>
          <p:blipFill>
            <a:blip r:embed="rId1"/>
            <a:stretch/>
          </p:blipFill>
          <p:spPr>
            <a:xfrm>
              <a:off x="-103320" y="4651200"/>
              <a:ext cx="9356760" cy="20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0" y="4724280"/>
              <a:ext cx="9144000" cy="189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just">
                <a:spcBef>
                  <a:spcPts val="1125"/>
                </a:spcBef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Gill Sans MT"/>
                </a:rPr>
                <a:t>A program can contain  one or many functions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285840" indent="-285840" algn="just">
                <a:spcBef>
                  <a:spcPts val="1125"/>
                </a:spcBef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Gill Sans MT"/>
                </a:rPr>
                <a:t>Must always </a:t>
              </a:r>
              <a:r>
                <a:rPr b="0" lang="en-GB" sz="1800" spc="-1" strike="noStrike">
                  <a:solidFill>
                    <a:srgbClr val="ffffff"/>
                  </a:solidFill>
                  <a:latin typeface="Gill Sans MT"/>
                </a:rPr>
                <a:t>have a function called “main”.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285840" indent="-285840" algn="just">
                <a:spcBef>
                  <a:spcPts val="1125"/>
                </a:spcBef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Gill Sans MT"/>
                </a:rPr>
                <a:t>The main function is the starting point of all C++ programs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285840" indent="-285840" algn="just">
                <a:spcBef>
                  <a:spcPts val="1125"/>
                </a:spcBef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Gill Sans MT"/>
                </a:rPr>
                <a:t>The compiler will not compile the code unless it finds a function called “main” within the program. 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67" name="TextBox 9"/>
          <p:cNvSpPr/>
          <p:nvPr/>
        </p:nvSpPr>
        <p:spPr>
          <a:xfrm>
            <a:off x="755640" y="404640"/>
            <a:ext cx="788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 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is a group of statements that together perform a tas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can be used anywhere in the program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Why we need function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ganize code in progr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de are easier to maintai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“</a:t>
            </a: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Hello World” program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fld id="{0664ACCF-5893-45B0-A55E-DB39EBFABAC6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219320"/>
            <a:ext cx="42591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#include 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using namespace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int main ()</a:t>
            </a:r>
            <a:r>
              <a:rPr b="1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cout &lt;&lt; “Hello World\n”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Return 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}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un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fld id="{B3B941A3-32FF-4E89-84AB-62748B79B3C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When we need function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you need to repeat the same process over an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ver in a progra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function can be called many times but appears i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ode o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1- Predefined func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608C-119C-4DD5-868B-4211224A443C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9280" y="1197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redefined function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are functions that are built into C++ Language to perform some standard operation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++ standard library provides numerous built-in functions that your program can call. For example, function 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rcat(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to concatenate two string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definitions have been written and it is ready to be us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r needs to include pre-defined header file  (i.e. math.h, time.h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2- User defined func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055313E7-E65A-4CA9-AB2D-AABC49367A2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that been created by the us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unctions need to be declared and defined by the u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unc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8B14634D-C6BC-44ED-BF94-F5BF5D07EA1C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alue returning functions: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3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2200" spc="-1" strike="noStrike">
                <a:solidFill>
                  <a:srgbClr val="262699"/>
                </a:solidFill>
                <a:latin typeface="Arial"/>
              </a:rPr>
              <a:t>functions that have a return type. 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3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2200" spc="-1" strike="noStrike">
                <a:solidFill>
                  <a:srgbClr val="262699"/>
                </a:solidFill>
                <a:latin typeface="Arial"/>
              </a:rPr>
              <a:t>These functions return a value of a specific data type using the </a:t>
            </a:r>
            <a:r>
              <a:rPr b="1" lang="en-GB" sz="2200" spc="-1" strike="noStrike">
                <a:solidFill>
                  <a:srgbClr val="c00000"/>
                </a:solidFill>
                <a:latin typeface="Arial"/>
              </a:rPr>
              <a:t>return</a:t>
            </a:r>
            <a:r>
              <a:rPr b="0" lang="en-GB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262699"/>
                </a:solidFill>
                <a:latin typeface="Arial"/>
              </a:rPr>
              <a:t>statement.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oid functions: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3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2200" spc="-1" strike="noStrike">
                <a:solidFill>
                  <a:srgbClr val="262699"/>
                </a:solidFill>
                <a:latin typeface="Arial"/>
              </a:rPr>
              <a:t>functions that do not have a return type. 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3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2200" spc="-1" strike="noStrike">
                <a:solidFill>
                  <a:srgbClr val="262699"/>
                </a:solidFill>
                <a:latin typeface="Arial"/>
              </a:rPr>
              <a:t>These functions do not use a return statement to return a value.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Value returning func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D3F4-05C9-4BE9-B3C8-8A21D62DEF17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The syntax is: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c00000"/>
                </a:solidFill>
                <a:latin typeface="Arial"/>
              </a:rPr>
              <a:t>FuncType </a:t>
            </a:r>
            <a:r>
              <a:rPr b="0" lang="en-GB" sz="2900" spc="-1" strike="noStrike">
                <a:solidFill>
                  <a:srgbClr val="35353e"/>
                </a:solidFill>
                <a:latin typeface="Arial"/>
              </a:rPr>
              <a:t>FuncName(formal parameter list )</a:t>
            </a:r>
            <a:r>
              <a:rPr b="0" lang="ar-SA" sz="2900" spc="-1" strike="noStrike">
                <a:solidFill>
                  <a:srgbClr val="35353e"/>
                </a:solidFill>
                <a:latin typeface="Arial"/>
                <a:ea typeface="Arial"/>
              </a:rPr>
              <a:t>‏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35353e"/>
                </a:solidFill>
                <a:latin typeface="Arial"/>
              </a:rPr>
              <a:t>{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35353e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35353e"/>
                </a:solidFill>
                <a:latin typeface="Arial"/>
              </a:rPr>
              <a:t>statements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35353e"/>
                </a:solidFill>
                <a:latin typeface="Arial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Void func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76CB-81D5-4564-82FF-927E2A37790A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The syntax is: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c00000"/>
                </a:solidFill>
                <a:latin typeface="Arial"/>
              </a:rPr>
              <a:t>Void</a:t>
            </a:r>
            <a:r>
              <a:rPr b="0" lang="en-GB" sz="2900" spc="-1" strike="noStrike">
                <a:solidFill>
                  <a:srgbClr val="00664d"/>
                </a:solidFill>
                <a:latin typeface="Arial"/>
              </a:rPr>
              <a:t>  </a:t>
            </a:r>
            <a:r>
              <a:rPr b="0" lang="en-GB" sz="2900" spc="-1" strike="noStrike">
                <a:solidFill>
                  <a:srgbClr val="002060"/>
                </a:solidFill>
                <a:latin typeface="Arial"/>
              </a:rPr>
              <a:t>FuncName ( formal parameter list )</a:t>
            </a:r>
            <a:r>
              <a:rPr b="0" lang="ar-SA" sz="2900" spc="-1" strike="noStrike">
                <a:solidFill>
                  <a:srgbClr val="002060"/>
                </a:solidFill>
                <a:latin typeface="Arial"/>
                <a:ea typeface="Arial"/>
              </a:rPr>
              <a:t>‏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002060"/>
                </a:solidFill>
                <a:latin typeface="Arial"/>
              </a:rPr>
              <a:t>{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2060"/>
                </a:solidFill>
                <a:latin typeface="Arial"/>
              </a:rPr>
              <a:t>statements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002060"/>
                </a:solidFill>
                <a:latin typeface="Arial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19:17:26Z</dcterms:created>
  <dc:creator>ALjaffan</dc:creator>
  <dc:description/>
  <dc:language>en-US</dc:language>
  <cp:lastModifiedBy>Nouf</cp:lastModifiedBy>
  <dcterms:modified xsi:type="dcterms:W3CDTF">2014-02-07T12:06:56Z</dcterms:modified>
  <cp:revision>18</cp:revision>
  <dc:subject/>
  <dc:title>CSC1201: Programming Languag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