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E6E7-0EB9-49ED-BBF7-24B4A13DAD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6DE-50F6-4558-AEC2-4C34C7FE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C28-147A-4E73-B7D5-7C16798B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A08-BC01-4F03-8A18-15834F2B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320-3C61-4997-8B76-BD638298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4B45-DB8E-4827-AA89-048EAE9C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0AD7-A937-495B-964E-D062D019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C8CC-EDAC-4A1F-A033-8E433777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319-4F49-4F25-A90F-2237944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B914-C62E-4822-9169-905667F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A486-C013-405F-96CB-AE9970A9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23A7-2E30-4006-8A77-D1B298D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72B-C386-4769-897D-F3F6510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6DA0-9120-465A-A272-A3A1C9C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30B-A976-4C9D-A45D-9413B8A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FE4-6B75-47FB-98C7-0A96B43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AEC-8D06-4B48-8666-36CCC143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D94-7F87-45CE-AA28-0CCE2E31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4BF5-930D-415D-8640-7D8B9332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9C58-7D16-47EE-A379-D2A629EA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8D4E-8A2D-4EF7-9560-62345760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44AA-646E-49AB-830A-248623B2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1315-4480-4717-B5B2-721D93F0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053-7DA2-4E7B-AB78-7277E1BD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269A-D4D0-4D44-B865-BB24F0F0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0AE1-ED3E-47FE-9068-B9BF04B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7EFD-ECD5-431A-AE3A-1186EE6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574F-3167-416C-88BE-98158B3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5C65-60DE-4E95-A7C4-CFA9BEB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0D2E-6A37-4AB9-A688-37BA99A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B6CA-DE89-4E7E-B6BC-DED1ECC3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366F-EC37-4D1E-A881-42E7D986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85D1-1068-4C70-AD79-53DE6CF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FA04-9549-478C-9C4A-4E10DCD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FC8-20FA-4442-9F21-459A23C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D74F-DAC6-40F9-A5E9-F8F3235A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39FF-B808-4DF7-87B8-46D69DB4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8825-75BF-479B-9DDB-1FAC1ED0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884A-01DA-40F7-B255-2AB18CC4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C32A-F86C-4482-86A1-43B6B32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1721-1E0F-4917-8C2F-4CD796C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32C0-BC66-4FAC-ACFD-F3D5B93E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DB1F-E689-459C-888C-E0A17B31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7315-BAE3-4914-A700-F4CEECFD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C8A0-2A4B-498D-BCCA-8B68CE22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81B-9D02-4646-83DC-07FFB10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D632-6EC1-4A52-B13F-926CA55F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F170-6815-493D-9416-0DFE510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EEE0-D816-4B3F-8BCC-9142DF51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8EA3-6B9C-4D89-95C2-42B175A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94F9-B114-4C95-8F3E-329F777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FC8D-D047-4029-BC5D-15AA9B7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2CBB8-15A8-4F7F-9B1C-818710F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BB01-0ADA-4C2F-8FB0-453065F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B0615-1D82-4981-ACB4-A54568BB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08D9-C4F2-4112-89D3-C1B90F6F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4BD-D5E2-429D-9763-8EA2030A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ED0C-BD7A-422C-A165-620F3485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752C2-DD7F-4146-9AD1-8425183B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EA29-C9D4-4801-A5C4-61A84AAF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8557-DDDB-4E92-B179-BBC3F2BC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E9E5-671E-4501-A595-CBAD267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4157F-61ED-4BEB-B1DC-1ABA811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14BDA-4258-40A9-B025-C5279256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2680-79A2-4926-A5A4-CFA998A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3EC9-0121-45AF-AC19-C3E60F3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A9FA-5C9B-42B1-B3C5-7CD122C3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086-8994-462E-B8FC-81CBC69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DC64-D0E8-4F9F-89FB-BA8B51D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415A9-CEF6-4951-90F1-7C1D7A5D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D12FF-B001-4D04-B718-0E4CF69C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8CC5C-D6C7-49A9-8CF4-445B1B3E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5BFA4-E415-48C9-8183-E6E679C7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78D0-D6AD-40F4-9EC2-290F83FA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1162C-A8E6-4013-801E-8E338AEF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8315-1694-4EF4-BC6E-5411F2FE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A594-9D5B-48C5-8B2E-14F2FDBE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A8807-0766-4354-ACB6-4A5DE70D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BD0-49D4-4509-AB62-F517A46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93F3-9A4B-4EDA-A303-9F3617F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80B8-916D-4757-8255-AFDAE28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08170-DE02-48DB-A4B4-F7B4E063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4F77-0AB6-426B-9967-80D6C068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58B7-A2E5-4139-99ED-93E7D59E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355D-055D-4A5B-B179-E46464FD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AF55F-2B55-416A-B0B7-698627FB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5AC6-3B8A-40F0-97A9-2DADA653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CC93-BCE0-415C-B1A8-AEC666C9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23822-1E33-4E5C-90B3-72185F9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6F3-E871-4418-A048-52104A0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1999-7B60-4231-A391-840121A2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14C1-5ECF-4ADF-9A3C-F3E9413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6C83-11B7-4401-86B8-E9F8942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93988-031D-4592-BD43-E416148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088B-F7E0-477B-B491-6C988BBE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41B61-DFE4-466B-890E-62AF1C55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99DF-C44F-4069-B2AC-D80A21AB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DB7D-84E9-49E3-ACBC-8A168E4CF0A6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665-B8AF-4B97-BF4B-B0CABF2CBEA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452-F012-418D-BEE6-80FC95E91C0A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927-1EED-42B3-9846-4CFF6E47976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DCDE-F406-429C-B25B-DD8AB8D18DE0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F29F-8F20-4B10-A59F-F073CA148E54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204A-44AF-4F83-AD10-348030FE3003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8C5D-A56F-4187-9063-279B7DCDC89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F932-EF30-4707-B4D1-4BA7A111F534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989E-E430-4AC2-BAB4-3292C15E9B48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2668-B96F-4CF2-B9D3-FF41352F6C68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B2E5-D0C2-4B16-AB30-48B4A227537E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0BA-3624-4907-8770-8DD5FF37E4AD}" type="datetime">
              <a:rPr b="0" lang="en-GB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CDFB-8827-45E7-B4CE-08AD2DA4567F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9038-7ECF-4070-95A2-9B167CEE1CCE}" type="datetime">
              <a:rPr b="0" lang="en-GB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27C-F9E7-4441-A152-17BE17ACE8C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280" bIns="46800"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0710-03AC-4D68-BB0D-18A7C926413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46800" anchor="ctr">
            <a:norm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Functions I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s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4A4A-349A-49BB-95EA-DD6C8C71C8D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Gill Sans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65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Arial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727D005B-496A-4E11-99CC-FACF27CA297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1800" spc="-1" strike="noStrike">
                <a:solidFill>
                  <a:srgbClr val="262699"/>
                </a:solidFill>
                <a:latin typeface="Arial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8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Rectangle 6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1C38D3F5-D8C7-46E4-99C2-163E0B44AA7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#include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&lt;iostream&g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in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cou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td::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in ( )</a:t>
            </a:r>
            <a:r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3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3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Rectangle 7" descr=""/>
          <p:cNvPicPr/>
          <p:nvPr/>
        </p:nvPicPr>
        <p:blipFill>
          <a:blip r:embed="rId1"/>
          <a:stretch/>
        </p:blipFill>
        <p:spPr>
          <a:xfrm>
            <a:off x="4900680" y="1547640"/>
            <a:ext cx="3889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: Without return valu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555B158D-DB1C-4176-904B-F35E9F432B3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oid  number_type ( int x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f ( x &g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posi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 if ( x &lt; 0 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 &lt;&lt; x &lt;&lt; “ is negative.”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ut&lt;&lt; x &lt;&lt; “is a zero.”&lt;&lt;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unction Ca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umber_type( 5 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………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3" name="Rectangle 7" descr=""/>
          <p:cNvPicPr/>
          <p:nvPr/>
        </p:nvPicPr>
        <p:blipFill>
          <a:blip r:embed="rId1"/>
          <a:stretch/>
        </p:blipFill>
        <p:spPr>
          <a:xfrm>
            <a:off x="5059440" y="1305000"/>
            <a:ext cx="3895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D967A237-7CF4-4D0F-B12D-BE6165B6AF0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000" y="2924280"/>
            <a:ext cx="74977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Function declar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turn_typ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uncName(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2,…..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arg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{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Gill Sans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Rectangle 6"/>
          <p:cNvGrpSpPr/>
          <p:nvPr/>
        </p:nvGrpSpPr>
        <p:grpSpPr>
          <a:xfrm>
            <a:off x="-103320" y="4651200"/>
            <a:ext cx="9356760" cy="2067120"/>
            <a:chOff x="-103320" y="4651200"/>
            <a:chExt cx="9356760" cy="2067120"/>
          </a:xfrm>
        </p:grpSpPr>
        <p:pic>
          <p:nvPicPr>
            <p:cNvPr id="365" name="Rectangle 6" descr=""/>
            <p:cNvPicPr/>
            <p:nvPr/>
          </p:nvPicPr>
          <p:blipFill>
            <a:blip r:embed="rId1"/>
            <a:stretch/>
          </p:blipFill>
          <p:spPr>
            <a:xfrm>
              <a:off x="-103320" y="4651200"/>
              <a:ext cx="935676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4724280"/>
              <a:ext cx="914400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A program can contain  one or many function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Gill Sans MT"/>
                </a:rPr>
                <a:t>Must always </a:t>
              </a: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have a function called “main”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main function is the starting point of all C++ programs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85840" indent="-285840" algn="just">
                <a:spcBef>
                  <a:spcPts val="1125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Gill Sans MT"/>
                </a:rPr>
                <a:t>The compiler will not compile the code unless it finds a function called “main” within the program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67" name="TextBox 9"/>
          <p:cNvSpPr/>
          <p:nvPr/>
        </p:nvSpPr>
        <p:spPr>
          <a:xfrm>
            <a:off x="755640" y="404640"/>
            <a:ext cx="788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 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is a group of statements that together perform a tas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can be used anywhere in the program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Why we need function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e code in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are easier to maintai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“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Hello World” progr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A4249D33-77E9-48FD-BD82-0F0AA2FB8AA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9320"/>
            <a:ext cx="4259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int main ()</a:t>
            </a:r>
            <a:r>
              <a:rPr b="1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out &lt;&lt; “Hello World\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}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fld id="{61618A48-FB7D-4A77-B4CC-2A21B2524EE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When we need func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you need to repeat the same process over an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ver in a progra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function can be called many times but appears 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de o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1- Pre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FE3-EE80-4FD0-A521-6B5B3EF2393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197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efined func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are functions that are built into C++ Language to perform some standard oper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++ standard library provides numerous built-in functions that your program can call. For example, function 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cat(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to concatenate two st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efinitions have been written and it is ready to be u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r needs to include pre-defined header file  (i.e. math.h, time.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2- User define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2DDA08E5-8CE9-4F25-839B-81828DEE5F5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that been created by the u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s need to be declared and defined by the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fld id="{378602B3-4015-429E-A2A7-994A7FF9A0D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alue returning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2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oid function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3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GB" sz="22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alue returning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CA2C-2FA8-45CD-A266-633A3923664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FuncType 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FuncName(formal parameter list )</a:t>
            </a:r>
            <a:r>
              <a:rPr b="0" lang="ar-SA" sz="2900" spc="-1" strike="noStrike">
                <a:solidFill>
                  <a:srgbClr val="35353e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35353e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oid func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23B-F121-4C0C-8329-212AF52D582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 syntax is: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Void</a:t>
            </a:r>
            <a:r>
              <a:rPr b="0" lang="en-GB" sz="2900" spc="-1" strike="noStrike">
                <a:solidFill>
                  <a:srgbClr val="00664d"/>
                </a:solidFill>
                <a:latin typeface="Arial"/>
              </a:rPr>
              <a:t>  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FuncName ( formal parameter list )</a:t>
            </a:r>
            <a:r>
              <a:rPr b="0" lang="ar-SA" sz="2900" spc="-1" strike="noStrike">
                <a:solidFill>
                  <a:srgbClr val="002060"/>
                </a:solidFill>
                <a:latin typeface="Arial"/>
                <a:ea typeface="Arial"/>
              </a:rPr>
              <a:t>‏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{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stateme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2900" spc="-1" strike="noStrike">
                <a:solidFill>
                  <a:srgbClr val="002060"/>
                </a:solidFill>
                <a:latin typeface="Arial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9:17:26Z</dcterms:created>
  <dc:creator>ALjaffan</dc:creator>
  <dc:description/>
  <dc:language>en-US</dc:language>
  <cp:lastModifiedBy>Nouf</cp:lastModifiedBy>
  <dcterms:modified xsi:type="dcterms:W3CDTF">2014-02-07T12:06:56Z</dcterms:modified>
  <cp:revision>18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