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9C18-4A13-448C-A798-3324A79FCE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4DF-C9F2-405E-804C-BD4987F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018-B86E-4C51-8863-0F6E8787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1EA-6DB0-4437-940C-63A8915F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8D4-1DC3-4994-8AE4-74C22B2F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495E-3777-4261-9103-33BA7E06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DEE-53D2-4734-8EE7-1929E12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9BE5-190E-43E7-81B5-08D8F9E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C7B7-A8D5-48BD-9014-B7CC177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346-1FD3-4009-9384-1B413CE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5B94-2296-45E8-BF81-4CA18ECB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0AFA-2984-418D-927A-FB01B0D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4E3-8617-4223-A88C-86E073F5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44BC-3F04-4FA6-9358-F599043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097-7F89-4081-B615-467B211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1F5-C710-4120-9700-DD41FEC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768-8F63-479D-9A96-57DEC07C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7FB-FD06-4A0C-A2F1-2DE0403F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C3DD-1B8F-4822-BBB7-0CBCF4F7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A038-0F38-45A2-A3F3-88C1203C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1509-F983-4442-9920-F9D8DDE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1BA3-2052-4F94-852D-0717A38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D56D-311E-4320-85D0-57A8B41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2A6-E2A0-465A-9C53-3C9E8F5C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312F-BD91-4B6C-B10D-5B4CF8FC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8750-E5EB-4919-BFAA-98B3509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61DB-3499-44BE-83E1-ABF5568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5AEE-1288-443F-89C4-DD66418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BD0F-0C54-4BDB-961D-9D9DC31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4737-2922-4230-A631-553446A5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2FA0-AD8E-4BC5-AA3E-0C9C0DFA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92ED-6F47-4E7C-9181-4F6D8EC2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29A9-BBF6-4BB3-8DAF-0513D3E6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ED58-C885-4931-B7B5-29FC53B5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7B7-9AFB-478A-B11B-1B9C706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ABDA-C007-4DC0-BD03-71F96A26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225F-BA3C-4E36-A54C-11017CA1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02C4-8D67-4A70-ADDF-183F18F6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4AE0-5911-4043-B915-57974F8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62BA-CCB0-4F1B-8323-46C202C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A50A-E4A3-4B80-9A05-1F076EC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2D48-A6FD-4F42-BF2E-9E44E4D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FE8F-AF1D-4939-8DD8-4730825F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DF1B-EA5D-4E05-8295-15C641DC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6221-0D2A-401F-B0D1-9E077AD1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8CB-186A-4986-899C-E3E6A181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D11BA-82EE-42BB-B1AB-913974A8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6CB4-2B3F-496D-898A-945A46F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796D-B880-42A6-96E5-D98605E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7271-2D28-4AEC-9820-D1A3810E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BAFA-3EA3-4483-83F4-9AEF89BD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009F-E113-4A12-AACB-11B0647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E753-F2FB-407F-8339-F27D58D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F92F-AD60-40BC-B152-9982127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2246-433E-41E1-A845-51B0EA17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A02B-95F5-4A3E-B55D-4F1A9E09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643-8804-4604-8F07-3C4360C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CDB1-E92C-4679-9AFF-778B120C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DFE0-4E84-41C7-A146-185EB6E8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5325-4B08-4DD4-9FBB-880D34D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685E8-A9F5-41AA-83D4-C1E255B1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45BF-9275-493E-8227-93D78C18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D5D6-9B80-42C3-86A8-67D39EE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01BC9-693A-40CD-8C19-D588763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7FBE-EC1A-40BB-BED3-35CAB61E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0501-ADDB-4EB2-9B43-5BAECCB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E880-3B2B-4EB4-84ED-B615B49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6C7-E076-4278-8BC2-4AD1E89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E373-4217-4C30-BF80-ECEC0AC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BEB0-820C-4731-8777-947BCDDB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D8DE-1731-484F-8328-372B728C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9F74B-D8C8-455F-91D7-87A561BF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8545-F3AF-4383-8F4D-5C0EC917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9C69-EF0D-40D2-A8DD-E6300A9B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2540-E3DC-4CC4-A141-9DD3AB3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06A3-32A2-45B5-925B-DDA6951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85E0-14D8-4E19-9667-723E4681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6782-71D8-4756-9C1E-39970DCF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A5B-9CC5-48B2-A8F5-A9CDD10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0AA2-096B-4A6F-8711-90A00EF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64FC-4D97-413C-B390-A2247AD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AA28-3748-4719-B03F-7439109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EA7B6-1857-4EB8-A326-59C6D94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40408-E754-4C33-827B-C6E66DF4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01AE-F7BA-4E41-8336-C5C8842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B1E9-F6E0-4FF2-A52D-1900612D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D00B-21BE-4E5E-85BB-8CBAA2E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8774-E419-4E5D-801B-1FEF640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91AA-26CE-44D9-8388-8661BF2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7DC-73E0-4D17-B254-E9228F7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23AB-589A-4BA4-AF31-A1D3DB5A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474D6-A4C6-4B1D-A22F-6E427D81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1F8F0-B112-492F-9186-53CDB8A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4750-D4D9-4045-B8A4-16F2562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73A3-181F-463D-8B25-098B7F6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FE728-104E-4EE4-8112-A211DBED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ED40A-CA41-4A66-A5E2-E686AD8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542-FF48-47BC-82D0-9D657034344F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8E26-0E90-460A-B71D-D3B29DBE1B7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73C-D056-463F-8EAE-FFF23CE7770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FF50-2BBF-4C68-AA6F-3496D8EE5F8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D022-26E1-4DDE-9D3C-576BEC36FB45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3FF-EF46-4AC8-A290-9A87F1597CAA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C6A-20BF-44B3-98B1-5759C67BF171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DAAD-A9D9-4F5E-AFB6-9345F23CB66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CCD-EA20-4624-8788-35BFCFC2D8B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9E1-3B5D-4BDC-B41E-A626CD988D7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F62-A7E2-4CB3-A361-02495D0CA54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B116-5880-4BED-8004-1E3673C7351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77D7-5048-4A2B-B194-3785B3CAA99A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B2E-7A6F-452E-BA93-5E86920AF57F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39E-B92E-4124-B59D-3708BB74157A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1E7B-E852-4603-96C6-FD0BEE270F2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983A-DA62-42D7-BCA1-81FEA2D33BC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46800" anchor="ctr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Functions 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s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9DFA-70C2-4DE5-B96B-C33F9C818B8E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Gill Sans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Arial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88119222-8CC9-41FE-ADA0-546D510E886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800" spc="-1" strike="noStrike">
                <a:solidFill>
                  <a:srgbClr val="262699"/>
                </a:solidFill>
                <a:latin typeface="Arial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Rectangle 6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26A34A29-CC22-49CD-AC7A-44A566F9C84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in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ou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in ( 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Rectangle 7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out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CD72BC37-0DAE-41B1-A45E-6FB86D7A832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oid  number_type ( int x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( x &g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posi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 if ( x &l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nega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&lt;&lt; x &lt;&lt; “is a zero.”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 C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umber_type( 5 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Rectangle 7" descr=""/>
          <p:cNvPicPr/>
          <p:nvPr/>
        </p:nvPicPr>
        <p:blipFill>
          <a:blip r:embed="rId1"/>
          <a:stretch/>
        </p:blipFill>
        <p:spPr>
          <a:xfrm>
            <a:off x="5059440" y="1305000"/>
            <a:ext cx="3895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900A064A-EB05-48F5-AEFB-5808807B1A3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000" y="2924280"/>
            <a:ext cx="7497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Function declar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turn_typ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uncName(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2,…..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Rectangle 6"/>
          <p:cNvGrpSpPr/>
          <p:nvPr/>
        </p:nvGrpSpPr>
        <p:grpSpPr>
          <a:xfrm>
            <a:off x="-103320" y="4651200"/>
            <a:ext cx="9356760" cy="2067120"/>
            <a:chOff x="-103320" y="4651200"/>
            <a:chExt cx="9356760" cy="2067120"/>
          </a:xfrm>
        </p:grpSpPr>
        <p:pic>
          <p:nvPicPr>
            <p:cNvPr id="365" name="Rectangle 6" descr=""/>
            <p:cNvPicPr/>
            <p:nvPr/>
          </p:nvPicPr>
          <p:blipFill>
            <a:blip r:embed="rId1"/>
            <a:stretch/>
          </p:blipFill>
          <p:spPr>
            <a:xfrm>
              <a:off x="-103320" y="4651200"/>
              <a:ext cx="935676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4724280"/>
              <a:ext cx="914400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A program can contain  one or many function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Gill Sans MT"/>
                </a:rPr>
                <a:t>Must always </a:t>
              </a: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have a function called “main”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main function is the starting point of all C++ program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compiler will not compile the code unless it finds a function called “main” within the program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67" name="TextBox 9"/>
          <p:cNvSpPr/>
          <p:nvPr/>
        </p:nvSpPr>
        <p:spPr>
          <a:xfrm>
            <a:off x="755640" y="404640"/>
            <a:ext cx="78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is a group of statements that together perform a tas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can be used anywhere in the program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Why we need functio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e code in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are easier to maintai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“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ello World” pro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DCE26F50-D121-4E9B-963F-AB93FFAF8BD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9320"/>
            <a:ext cx="4259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r>
              <a:rPr b="1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out &lt;&lt; “Hello World\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F2E881E4-8FFD-49C1-8550-7B60EBC5A11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When we need func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you need to repeat the same process over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 in a progra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can be called many times but appears 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de o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1- Pre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083-1E44-467F-9A54-1A1773374E1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97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efined 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are functions that are built into C++ Language to perform some standard oper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++ standard library provides numerous built-in functions that your program can call. For example, function 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cat(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to concatenate two st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efinitions have been written and it is ready to be u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r needs to include pre-defined header file  (i.e. math.h, time.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2- User 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FF308A7E-0AB0-4226-95B4-1D21568CD52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that been created by the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s need to be declared and defined by the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EB15B1CF-2D39-41B7-8E61-DD58E64E34E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lue returning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2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oid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alue returning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2952-3E47-408D-A79C-241DF43AB19B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FuncType 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FuncName(formal parameter list )</a:t>
            </a:r>
            <a:r>
              <a:rPr b="0" lang="ar-SA" sz="2900" spc="-1" strike="noStrike">
                <a:solidFill>
                  <a:srgbClr val="35353e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oi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4E2-1722-4AF1-8FED-B39D31ED92D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en-GB" sz="29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FuncName ( formal parameter list )</a:t>
            </a:r>
            <a:r>
              <a:rPr b="0" lang="ar-SA" sz="2900" spc="-1" strike="noStrike">
                <a:solidFill>
                  <a:srgbClr val="002060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17:26Z</dcterms:created>
  <dc:creator>ALjaffan</dc:creator>
  <dc:description/>
  <dc:language>en-US</dc:language>
  <cp:lastModifiedBy>Nouf</cp:lastModifiedBy>
  <dcterms:modified xsi:type="dcterms:W3CDTF">2014-02-07T12:06:56Z</dcterms:modified>
  <cp:revision>18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