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D11-B2D6-42DC-B51D-E050C4EC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EA4-8EC1-412E-94D8-C925DDE9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524-F4B8-424E-A735-9BCB240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B9C-14BF-4DDA-9B24-9794C4E2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A7B4-7573-436C-8548-6A26B472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7BF-D306-4A74-99BE-A358730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9E9-B66C-4E86-B2E1-A1F53755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612F-9007-42C4-AED0-76295467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7BF-90CF-4DC3-BCA7-73A51CC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E7F-CE1E-4809-B160-7E35FA4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4C78-C7AF-4E73-975B-A85E3EC6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98F-540D-4C63-A7BC-AE0848F0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520-DB82-43EA-8FEF-5266CF74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2E4D-5027-45E4-AC80-04C075C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190A-D50C-410E-B275-7B014F1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0675-D46F-4C8B-9C9C-49D7195E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16EC-B3AD-43FE-9207-37982590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0B27-594B-4BE7-9E62-AFDE55AB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E7C4-34B4-4339-A68E-4B4778E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AB71-A392-40ED-A40E-6B53EC4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C172-1D1F-4B5D-9FAE-4A4C182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BD17-5CA1-4B26-A48F-D21C78AB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A83-42EA-4B73-A917-C9830D27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C08E-0C94-4BF0-96BB-B74B372A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A3D1-4934-44D3-81A4-A976DAE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6D27-EF26-459E-BDE0-E008C41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78F1-0E36-401E-9144-8F784B2C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4C8F-7227-421B-96D1-AC116DFD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45C2-9FE2-4F7F-A4C6-D44EDE0A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5861-8DE9-40A0-8826-DD33E667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900A-CB24-4442-BC7F-454D99EF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7F0F-8BD9-43CE-BD44-2706A6F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4132-E14B-4919-BC36-49EA71F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420-0C82-438F-8D6E-D9C366D9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D140-5DC0-4CB2-8F3D-C0B61C8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57F83-6C9A-49F5-940D-6C0EAA8C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BEAD-8526-4858-9079-2B33872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B888-20E5-4F65-9E83-46C6B03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B1D7-CA90-43F5-A54B-0F576B3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7CB3-DDDF-4165-96A2-E4D7275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CA64-26FB-4D24-B4B9-B7F7B10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1004-B5B0-44BE-85AB-C6C1AC40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BD60-369F-4686-BDB4-62A5200D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08B56-7A56-476F-9038-6798823F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BD5-B773-439D-BE43-B628671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078B-9BF2-413D-BD6B-B48D7B2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C85B-6A32-4DCE-AA76-1E467C0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6ABBD-078B-4744-936D-6C9D9008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7E36-23C4-4800-B26E-3C62B46D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4160-F284-46C5-AF15-5445CF7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4DD8-BFDF-4528-AD47-1273E15D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ACD9-E4CC-4DBE-9611-C3CB373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7D43-BAF5-4F01-9C3A-A0D95AB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9275-A92D-4ABB-9CBC-A3229D2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14F6-31BE-4F6C-BCBF-F988DB9D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EA6-24C1-48D4-A78B-80DDB5F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F20C-0474-493D-A6CD-01145EC9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94AA-F8FF-4AAC-8631-1002CE3C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964F-E1EA-446F-8E03-66F15E7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E6AF-D66F-4A84-9A3D-980035A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B438-8C8C-41DA-9033-8AF08F2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7B8C-8D4E-47E3-8AC5-498F9FC3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96C2-F363-47B7-A667-1E758364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B406-7203-4436-9287-870C279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5479D-A241-41B4-B2DC-D81B43B5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4197-AD5A-49F2-942B-7100F9F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9EB-079A-485C-AAA1-A0753B7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8239-123E-4298-B4D3-C992DCF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D9E6-9256-484B-9EFD-BB926A8F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A345C-26E3-402B-BF42-59FBDC33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9D34-98CA-4FA9-A17F-C07A2BA3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7EE8D-7BDC-4F21-95D3-29BC638C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7E59-A476-420D-8DB3-8E7095F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31A3-4062-4714-8CB8-3BD871B8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99F48-1B15-40C9-9FFE-82D96E62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92547-4467-4DE8-9082-07805674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457C-3D20-4C60-9102-1515850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1FF-9F30-4318-A98D-0E43EF4D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7810-9FE3-43E3-A108-CA69E07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233A-8C50-4E8E-9539-549DECB9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9E3C6-4224-4D4C-8B12-EDB8B0C3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F4AD-DF0B-4ED9-BA1B-A0F834ED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A47CD-95A7-4AF9-AA89-69324A72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5D1A-692C-48A5-99F3-B445C1F3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6E85-32A4-4B51-8D1B-70D1F056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6ABF7-BC67-408E-8C59-341C6A1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D457D-FC8D-4B9A-9B48-671F537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4B95-2991-4F31-A942-4A32AE9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4B8-3080-489E-9189-CCCC1CB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459AF-A536-4FA7-85AD-3B783E6D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24AF-7134-41CC-BD76-35803BF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170E-0C58-4776-B6E3-92F51E0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3F59-2A77-4EE8-901D-CF78143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C091-A27A-4D2F-921D-578B158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8DFF3-40CB-4C7A-AAFA-3DFB1F83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7BD2-0DC4-4EC5-B8CF-D91AA1AB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D5DF-62AA-480D-AD08-1FC46D4BD52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1AD3-1201-497D-ACFD-33606652006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5C24-E9D6-4CEE-A29C-31DAB29A87D8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5F5-33DB-4C5E-88EF-15BB200AAFD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717-39A6-461B-A40E-CAABD51FBDB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35DC-D8DA-4C46-B9DB-6685BD859BB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892-46A6-40D2-9EC3-0B0E38214253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8B1C-E217-476A-8A1B-AC9E30A199BA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3809880"/>
            <a:ext cx="4952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:</a:t>
            </a:r>
            <a:r>
              <a:rPr b="0" lang="en-GB" sz="1800" spc="-1" strike="noStrike">
                <a:solidFill>
                  <a:srgbClr val="525b7e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b7e"/>
                </a:solidFill>
                <a:latin typeface="Gill Sans MT"/>
              </a:rPr>
              <a:t>Edited 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 : Nouf  Almunyif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(int x, int 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x+y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6" name="Rectangle 3"/>
          <p:cNvGrpSpPr/>
          <p:nvPr/>
        </p:nvGrpSpPr>
        <p:grpSpPr>
          <a:xfrm>
            <a:off x="1285920" y="3664080"/>
            <a:ext cx="6705720" cy="1530360"/>
            <a:chOff x="1285920" y="3664080"/>
            <a:chExt cx="6705720" cy="1530360"/>
          </a:xfrm>
        </p:grpSpPr>
        <p:pic>
          <p:nvPicPr>
            <p:cNvPr id="377" name="Rectangle 3" descr=""/>
            <p:cNvPicPr/>
            <p:nvPr/>
          </p:nvPicPr>
          <p:blipFill>
            <a:blip r:embed="rId1"/>
            <a:stretch/>
          </p:blipFill>
          <p:spPr>
            <a:xfrm>
              <a:off x="1285920" y="3664080"/>
              <a:ext cx="67057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is function must 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return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an integer value as indicated in the header definition 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(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  <a:ea typeface="Courier New"/>
                </a:rPr>
                <a:t>return result;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) should be added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 if (n==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+(n-1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1" name="Rectangle 3"/>
          <p:cNvGrpSpPr/>
          <p:nvPr/>
        </p:nvGrpSpPr>
        <p:grpSpPr>
          <a:xfrm>
            <a:off x="1292400" y="3664080"/>
            <a:ext cx="6827760" cy="1547640"/>
            <a:chOff x="1292400" y="3664080"/>
            <a:chExt cx="6827760" cy="1547640"/>
          </a:xfrm>
        </p:grpSpPr>
        <p:pic>
          <p:nvPicPr>
            <p:cNvPr id="382" name="Rectangle 3" descr=""/>
            <p:cNvPicPr/>
            <p:nvPr/>
          </p:nvPicPr>
          <p:blipFill>
            <a:blip r:embed="rId1"/>
            <a:stretch/>
          </p:blipFill>
          <p:spPr>
            <a:xfrm>
              <a:off x="1292400" y="3664080"/>
              <a:ext cx="682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e result of n+sum(n-1) is not returned; sum returns an improper result, the else part should be written as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:- 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else return n+(n-1)</a:t>
              </a: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(float a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&lt;&lt;a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Rectangle 3"/>
          <p:cNvGrpSpPr/>
          <p:nvPr/>
        </p:nvGrpSpPr>
        <p:grpSpPr>
          <a:xfrm>
            <a:off x="1274760" y="3681360"/>
            <a:ext cx="6716880" cy="3238560"/>
            <a:chOff x="1274760" y="3681360"/>
            <a:chExt cx="6716880" cy="323856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1274760" y="3681360"/>
              <a:ext cx="6716880" cy="30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447920" y="3809880"/>
              <a:ext cx="64767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33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Gill Sans MT"/>
                </a:rPr>
                <a:t>;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found after function definition header.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redefining the parameter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in the function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void f(float a)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loat a2 = a + 8.9;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cout &lt;&lt;a2&lt;&lt;endl;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oduct(voi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c,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enter three integers:”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in &gt;&gt; a &gt;&gt; b &gt;&gt; 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a*b*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Result is” &lt;&lt;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1" name="Rectangle 3"/>
          <p:cNvGrpSpPr/>
          <p:nvPr/>
        </p:nvGrpSpPr>
        <p:grpSpPr>
          <a:xfrm>
            <a:off x="2170080" y="4218120"/>
            <a:ext cx="6827760" cy="2274840"/>
            <a:chOff x="2170080" y="4218120"/>
            <a:chExt cx="6827760" cy="2274840"/>
          </a:xfrm>
        </p:grpSpPr>
        <p:pic>
          <p:nvPicPr>
            <p:cNvPr id="392" name="Rectangle 3" descr=""/>
            <p:cNvPicPr/>
            <p:nvPr/>
          </p:nvPicPr>
          <p:blipFill>
            <a:blip r:embed="rId1"/>
            <a:stretch/>
          </p:blipFill>
          <p:spPr>
            <a:xfrm>
              <a:off x="2170080" y="4218120"/>
              <a:ext cx="682776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362320" y="4343400"/>
              <a:ext cx="64767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According to the definition it should not return a value , but in the block (body) it did &amp; this is </a:t>
              </a:r>
              <a:r>
                <a:rPr b="0" lang="en-US" sz="2800" spc="-1" strike="noStrike">
                  <a:solidFill>
                    <a:srgbClr val="ff0000"/>
                  </a:solidFill>
                  <a:latin typeface="Gill Sans MT"/>
                </a:rPr>
                <a:t>WRONG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Remove </a:t>
              </a: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return Result;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rameters vs Argu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p until now, we have not differentiated between function parameters and argu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common usage, the terms parameter and argument are often interchang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function parameter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a variable declared in the prototype or declaration of 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n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argument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the value that is passed to the function in place of a parameter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By default, arguments in C++ are passed by value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When arguments are </a:t>
            </a:r>
            <a:r>
              <a:rPr b="1" lang="en-GB" sz="1800" spc="-1" strike="noStrike">
                <a:solidFill>
                  <a:srgbClr val="464653"/>
                </a:solidFill>
                <a:latin typeface="Gill Sans MT"/>
              </a:rPr>
              <a:t>passed by value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, a copy of the argument is passed to the function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0" name="Content Placeholder 8"/>
          <p:cNvGrpSpPr/>
          <p:nvPr/>
        </p:nvGrpSpPr>
        <p:grpSpPr>
          <a:xfrm>
            <a:off x="4638600" y="1359000"/>
            <a:ext cx="4060800" cy="4895640"/>
            <a:chOff x="4638600" y="1359000"/>
            <a:chExt cx="4060800" cy="4895640"/>
          </a:xfrm>
        </p:grpSpPr>
        <p:pic>
          <p:nvPicPr>
            <p:cNvPr id="401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638600" y="1359000"/>
              <a:ext cx="40608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648320" y="1371600"/>
              <a:ext cx="403848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void foo(int y)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cout &lt;&lt; "y = " &lt;&lt; y &lt;&lt; endl;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main()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5); // first call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x = 6;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); // second call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+1); // third call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return 0;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ecause a copy of the argument is passed to the function, </a:t>
            </a:r>
            <a:r>
              <a:rPr b="0" i="1" lang="en-GB" sz="2800" spc="-1" strike="noStrike">
                <a:solidFill>
                  <a:srgbClr val="ff0000"/>
                </a:solidFill>
                <a:latin typeface="Gill Sans MT"/>
              </a:rPr>
              <a:t>the original argument can not be modified by the funct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5" name="Content Placeholder 8"/>
          <p:cNvGrpSpPr/>
          <p:nvPr/>
        </p:nvGrpSpPr>
        <p:grpSpPr>
          <a:xfrm>
            <a:off x="4102200" y="1133640"/>
            <a:ext cx="4749840" cy="5511600"/>
            <a:chOff x="4102200" y="1133640"/>
            <a:chExt cx="4749840" cy="5511600"/>
          </a:xfrm>
        </p:grpSpPr>
        <p:pic>
          <p:nvPicPr>
            <p:cNvPr id="406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102200" y="1133640"/>
              <a:ext cx="4749840" cy="55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4114800" y="1143000"/>
              <a:ext cx="4724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void foo(int y)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y = 6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 // y is destroyed here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main()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using namespace std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x = 5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foo(x)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600" spc="-1" strike="noStrike">
                <a:solidFill>
                  <a:srgbClr val="464653"/>
                </a:solidFill>
                <a:latin typeface="Times New Roman"/>
              </a:rPr>
              <a:t>Adv. And DisAdv. Of Passing  by valu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passed by value can be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riables (eg. x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iterals (eg. 6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r expressions (eg. x+1) or (eg foo()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are never changed by the function being called, which prevents side effect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392040" indent="-272880">
              <a:spcBef>
                <a:spcPts val="499"/>
              </a:spcBef>
              <a:buClr>
                <a:srgbClr val="9fb8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Copying large structs or classes can take a lot of time to copy, and this can cause a performance penalty, especially if the function is called many tim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94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cal variabl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ariables that declared inside a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Declared  inside any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lock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of cod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obal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Opposite of local the known throughout </a:t>
            </a:r>
            <a:r>
              <a:rPr b="0" lang="en-US" sz="2300" spc="-1" strike="noStrike" u="sng">
                <a:solidFill>
                  <a:srgbClr val="464653"/>
                </a:solidFill>
                <a:uFillTx/>
                <a:latin typeface="Times New Roman"/>
                <a:ea typeface="Times New Roman"/>
              </a:rPr>
              <a:t>the entire progr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112160" cy="24987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60948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8088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oid 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i=4;   int j=10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“ i  is “&lt;&lt;i&lt;&lt;endl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{ int i=100;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* 'i' is defined and so local to * this block */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 &lt;&lt; "i is” &lt;&lt; i;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i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"i is “&lt;&lt;i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ma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6400800" y="1523880"/>
            <a:ext cx="17524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 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10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are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may be called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cedur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outi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 object oriented programming called 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programmers’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 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rmally placed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start of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main()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ut must b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function defini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Gill Sans MT"/>
              </a:rPr>
              <a:t>General form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Gill Sans MT"/>
              </a:rPr>
              <a:t>function_return_typ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function_nam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600" spc="-1" strike="noStrike">
                <a:solidFill>
                  <a:srgbClr val="ffc000"/>
                </a:solidFill>
                <a:latin typeface="Gill Sans MT"/>
              </a:rPr>
              <a:t>type parameter1, type parameter2,…, type paramete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X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actorial 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6588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declaration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4:48Z</dcterms:created>
  <dc:creator>NOUF</dc:creator>
  <dc:description/>
  <dc:language>en-US</dc:language>
  <cp:lastModifiedBy>Nouf</cp:lastModifiedBy>
  <dcterms:modified xsi:type="dcterms:W3CDTF">2014-02-07T12:11:32Z</dcterms:modified>
  <cp:revision>35</cp:revision>
  <dc:subject/>
  <dc:title>Slide 1</dc:title>
</cp:coreProperties>
</file>