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365-87F1-4546-A8EA-CBF5D912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513-8CCC-4B30-BF50-E77CB5A9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153-5F32-4896-BD38-80685348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F15-3484-4528-B7A8-A803DC5F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F8F2-D06C-4AE5-8592-E4228D2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5DEC-DA7C-4163-9072-3D2840BE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DEF8-7D94-4275-97FD-6579FE65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F91F-6EBC-4644-B598-78463D44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B2DC-B428-4B14-BAE3-F8BC59B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6115-8FF0-4B6F-A198-AF5AF3AE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739B-E870-4C15-B100-07F45A1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F66-B290-4FB2-A386-EFA5D673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F129-907D-4333-84B2-5F9C5FD2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EC23-4FC7-4052-923E-2212789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EF1D-8037-426A-B602-0314F367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4098-712E-4F08-AF95-FD3C7CC2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D947-6EC6-401A-8FFB-C6147E33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EEF0-5DDE-460E-841B-7037457E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C0D8-DD05-48AD-ABF4-8FB40BA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55E2-F266-4CE2-B843-99C2E1D1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DA30-19C4-4692-9E12-6DC65EF0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8DFD-E89F-49C8-B58B-82A930AE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D91-950E-45FC-89FB-2AF0042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4FCE-550B-483F-936A-E9091AE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7BFE-D43C-4CE2-A039-07D433C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97ED-4AF9-4499-91BF-BAA7230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786C-B9CA-4F9C-B491-7724D487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3036-DD1A-49C9-B2D8-816C6CEC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4BC2-73E1-4F09-9EAC-F2189C9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C2D6-2926-4F30-AC59-E0B6CD48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4D39-6F26-44B3-93B0-87B62253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2396-A72E-41A4-9012-867A53ED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8F12-6385-4B03-AC2F-6925739C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21C-2859-48D3-9213-62AD437B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15B9-A01A-4056-9E53-0C032585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7B0F-C02E-4614-8EF3-451CABAD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92E2-EFB3-49CD-9E9A-E55F1D38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8797-BE8A-4DA5-8C31-1EE34BF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8AA5-ABC3-4739-B5CE-391B72A0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4349A-9815-4BAF-8C8B-567F923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F4D7-5B57-4E9B-AB5A-A34A9D75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8D99-F7DB-4D25-882C-0F402D7C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F7E2-1DFB-435D-BA9E-F9F447DA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4CF55-DFC7-4D65-840C-4F42DCFE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7F8-8D94-48AB-B6F8-68848136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E72E1-1E29-4820-8AA8-4D630123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BDD8-19F1-4B1D-BBA7-4DF42582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C7A0-A477-43C0-B13E-51E8B94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CD99-F49B-4EF8-8490-2577C557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68A67-21A7-49CD-988E-C4337A37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8FA50-FF17-48C2-86F9-4CDDD82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077E-0D0B-4F1B-B7C0-63B43C3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3343F-283B-4E83-8371-82BCEA6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26DA-9AB5-4F7C-94FD-43295CFA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1608-22E5-4FBA-86D7-CA4223FB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EAF-5490-403A-96E4-84CD0369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5C5A-3817-4337-B573-6A5E3932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B967-961D-4E02-BFC6-D7CC9A98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44A74-24F1-4FA4-B74F-1295AD4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98DD-FA49-4706-86EA-689B3101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ED786-7E4D-44F0-BD47-3541A6D4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5F66A-32F6-44EB-8FE4-A7B9461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F12B-9E96-4FFD-92BF-F74B510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FBC6B-1F12-4FC6-A0CC-3D4D8252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7CA4F-81E4-4592-8EA8-7731D4D8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C9FD-16E1-455B-807E-EECAFA39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56E-DA96-4716-BFFA-7003C87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1A331-6ECE-4046-B094-CF43F3D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4A9D-38C4-4C9B-BC92-551FB60A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D1D6-0CC1-40E1-ADB5-19E74730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73D5-6B7A-4B94-B338-6263B295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46FC-4A92-43C0-9DEE-3C2FF5F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877F3-19DA-4A20-B566-07D8741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96D5-F565-48B0-A818-4138A468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5FCDF-B41C-4C2B-AA77-F81D6C44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79593-F73B-4F3D-9E11-D6EF452A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924E0-4385-4BA3-82ED-41C3B3A1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847-B5AF-44E2-84DB-D86C5C5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21D3-8B03-4B4D-9D27-AD22094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F1E66-B9CB-4DAC-B2D7-58BBFA8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BB11B-E0C7-4FF8-9F1D-EA4E3A7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46A7-598E-4643-9D8D-82319C01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845D-633D-4682-A780-4E660B02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B2072-663E-4F48-9E3B-D649CDA7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55A90-8A80-4063-A613-233E122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40B04-280B-4F6D-A391-378D2D6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CD378-EFD7-48D3-A41B-22ECC02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45013-D9E9-494D-A6F8-A605E58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00B-D987-47B9-8F66-52E9C67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7348-F227-40A6-9AE3-B3252F1A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C39B0-9AA1-40D2-B93F-2172C7A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E13C9-A121-401A-B70F-A8C7D78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2D5A4-8B2B-4CA0-9036-7376361C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FF80-6465-4C9D-BEC1-75D0645B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24D48-0A0F-46A9-BF2E-570DDE8D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89ECA-38A1-4BC5-9C19-9C675393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6568-524B-4C7D-ABB5-F5ECA07FDB0A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8BC-02CB-42C7-B476-3998AC5019E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3E6D-6E58-46BA-B57D-F812D59C8BEE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D5D-26E8-4818-BF0A-97B599D1BF1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38B9-2B0B-4F18-B0C5-D33414B2750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69A5-A799-422D-A582-A77689C3591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6B49-FCC8-40A4-A076-560D7F7CAECD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63D-D133-4FD8-82F6-ADADBC57218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3809880"/>
            <a:ext cx="49528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:</a:t>
            </a:r>
            <a:r>
              <a:rPr b="0" lang="en-GB" sz="1800" spc="-1" strike="noStrike">
                <a:solidFill>
                  <a:srgbClr val="525b7e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b7e"/>
                </a:solidFill>
                <a:latin typeface="Gill Sans MT"/>
              </a:rPr>
              <a:t>Edited 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 : Nouf  Almunyif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(int x, int 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x+y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6" name="Rectangle 3"/>
          <p:cNvGrpSpPr/>
          <p:nvPr/>
        </p:nvGrpSpPr>
        <p:grpSpPr>
          <a:xfrm>
            <a:off x="1285920" y="3664080"/>
            <a:ext cx="6705720" cy="1530360"/>
            <a:chOff x="1285920" y="3664080"/>
            <a:chExt cx="6705720" cy="1530360"/>
          </a:xfrm>
        </p:grpSpPr>
        <p:pic>
          <p:nvPicPr>
            <p:cNvPr id="377" name="Rectangle 3" descr=""/>
            <p:cNvPicPr/>
            <p:nvPr/>
          </p:nvPicPr>
          <p:blipFill>
            <a:blip r:embed="rId1"/>
            <a:stretch/>
          </p:blipFill>
          <p:spPr>
            <a:xfrm>
              <a:off x="1285920" y="3664080"/>
              <a:ext cx="67057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is function must 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return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an integer value as indicated in the header definition 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(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  <a:ea typeface="Courier New"/>
                </a:rPr>
                <a:t>return result;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) should be added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(int n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 if (n==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+(n-1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1" name="Rectangle 3"/>
          <p:cNvGrpSpPr/>
          <p:nvPr/>
        </p:nvGrpSpPr>
        <p:grpSpPr>
          <a:xfrm>
            <a:off x="1292400" y="3664080"/>
            <a:ext cx="6827760" cy="1547640"/>
            <a:chOff x="1292400" y="3664080"/>
            <a:chExt cx="6827760" cy="1547640"/>
          </a:xfrm>
        </p:grpSpPr>
        <p:pic>
          <p:nvPicPr>
            <p:cNvPr id="382" name="Rectangle 3" descr=""/>
            <p:cNvPicPr/>
            <p:nvPr/>
          </p:nvPicPr>
          <p:blipFill>
            <a:blip r:embed="rId1"/>
            <a:stretch/>
          </p:blipFill>
          <p:spPr>
            <a:xfrm>
              <a:off x="1292400" y="3664080"/>
              <a:ext cx="682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e result of n+sum(n-1) is not returned; sum returns an improper result, the else part should be written as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:- 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else return n+(n-1)</a:t>
              </a: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(float a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&lt;&lt;a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Rectangle 3"/>
          <p:cNvGrpSpPr/>
          <p:nvPr/>
        </p:nvGrpSpPr>
        <p:grpSpPr>
          <a:xfrm>
            <a:off x="1274760" y="3681360"/>
            <a:ext cx="6716880" cy="3238560"/>
            <a:chOff x="1274760" y="3681360"/>
            <a:chExt cx="6716880" cy="323856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1274760" y="3681360"/>
              <a:ext cx="6716880" cy="30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447920" y="3809880"/>
              <a:ext cx="64767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3300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Gill Sans MT"/>
                </a:rPr>
                <a:t>;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found after function definition header.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redefining the parameter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in the function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void f(float a)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loat a2 = a + 8.9;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cout &lt;&lt;a2&lt;&lt;endl;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oduct(voi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c,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enter three integers:”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in &gt;&gt; a &gt;&gt; b &gt;&gt; 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a*b*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Result is” &lt;&lt;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1" name="Rectangle 3"/>
          <p:cNvGrpSpPr/>
          <p:nvPr/>
        </p:nvGrpSpPr>
        <p:grpSpPr>
          <a:xfrm>
            <a:off x="2170080" y="4218120"/>
            <a:ext cx="6827760" cy="2274840"/>
            <a:chOff x="2170080" y="4218120"/>
            <a:chExt cx="6827760" cy="2274840"/>
          </a:xfrm>
        </p:grpSpPr>
        <p:pic>
          <p:nvPicPr>
            <p:cNvPr id="392" name="Rectangle 3" descr=""/>
            <p:cNvPicPr/>
            <p:nvPr/>
          </p:nvPicPr>
          <p:blipFill>
            <a:blip r:embed="rId1"/>
            <a:stretch/>
          </p:blipFill>
          <p:spPr>
            <a:xfrm>
              <a:off x="2170080" y="4218120"/>
              <a:ext cx="682776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362320" y="4343400"/>
              <a:ext cx="64767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According to the definition it should not return a value , but in the block (body) it did &amp; this is </a:t>
              </a:r>
              <a:r>
                <a:rPr b="0" lang="en-US" sz="2800" spc="-1" strike="noStrike">
                  <a:solidFill>
                    <a:srgbClr val="ff0000"/>
                  </a:solidFill>
                  <a:latin typeface="Gill Sans MT"/>
                </a:rPr>
                <a:t>WRONG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Remove </a:t>
              </a: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return Result;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rameters vs Argu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p until now, we have not differentiated between function parameters and argum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common usage, the terms parameter and argument are often interchang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function parameter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a variable declared in the prototype or declaration of 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n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argument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the value that is passed to the function in place of a parameter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By default, arguments in C++ are passed by value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When arguments are </a:t>
            </a:r>
            <a:r>
              <a:rPr b="1" lang="en-GB" sz="1800" spc="-1" strike="noStrike">
                <a:solidFill>
                  <a:srgbClr val="464653"/>
                </a:solidFill>
                <a:latin typeface="Gill Sans MT"/>
              </a:rPr>
              <a:t>passed by value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, a copy of the argument is passed to the function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0" name="Content Placeholder 8"/>
          <p:cNvGrpSpPr/>
          <p:nvPr/>
        </p:nvGrpSpPr>
        <p:grpSpPr>
          <a:xfrm>
            <a:off x="4638600" y="1359000"/>
            <a:ext cx="4060800" cy="4895640"/>
            <a:chOff x="4638600" y="1359000"/>
            <a:chExt cx="4060800" cy="4895640"/>
          </a:xfrm>
        </p:grpSpPr>
        <p:pic>
          <p:nvPicPr>
            <p:cNvPr id="401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638600" y="1359000"/>
              <a:ext cx="40608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648320" y="1371600"/>
              <a:ext cx="4038480" cy="48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void foo(int y)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cout &lt;&lt; "y = " &lt;&lt; y &lt;&lt; endl;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main()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5); // first call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x = 6;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); // second call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+1); // third call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return 0;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ecause a copy of the argument is passed to the function, </a:t>
            </a:r>
            <a:r>
              <a:rPr b="0" i="1" lang="en-GB" sz="2800" spc="-1" strike="noStrike">
                <a:solidFill>
                  <a:srgbClr val="ff0000"/>
                </a:solidFill>
                <a:latin typeface="Gill Sans MT"/>
              </a:rPr>
              <a:t>the original argument can not be modified by the funct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5" name="Content Placeholder 8"/>
          <p:cNvGrpSpPr/>
          <p:nvPr/>
        </p:nvGrpSpPr>
        <p:grpSpPr>
          <a:xfrm>
            <a:off x="4102200" y="1133640"/>
            <a:ext cx="4749840" cy="5511600"/>
            <a:chOff x="4102200" y="1133640"/>
            <a:chExt cx="4749840" cy="5511600"/>
          </a:xfrm>
        </p:grpSpPr>
        <p:pic>
          <p:nvPicPr>
            <p:cNvPr id="406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102200" y="1133640"/>
              <a:ext cx="4749840" cy="55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4114800" y="1143000"/>
              <a:ext cx="4724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void foo(int y)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y = 6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 // y is destroyed here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main()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using namespace std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x = 5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foo(x)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600" spc="-1" strike="noStrike">
                <a:solidFill>
                  <a:srgbClr val="464653"/>
                </a:solidFill>
                <a:latin typeface="Times New Roman"/>
              </a:rPr>
              <a:t>Adv. And DisAdv. Of Passing  by valu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passed by value can be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ariables (eg. x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literals (eg. 6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r expressions (eg. x+1) or (eg foo()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are never changed by the function being called, which prevents side effect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392040" indent="-272880">
              <a:spcBef>
                <a:spcPts val="499"/>
              </a:spcBef>
              <a:buClr>
                <a:srgbClr val="9fb8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Copying large structs or classes can take a lot of time to copy, and this can cause a performance penalty, especially if the function is called many tim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94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cal variabl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ariables that declared inside a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Declared  inside any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lock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of cod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obal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Opposite of local the known throughout </a:t>
            </a:r>
            <a:r>
              <a:rPr b="0" lang="en-US" sz="2300" spc="-1" strike="noStrike" u="sng">
                <a:solidFill>
                  <a:srgbClr val="464653"/>
                </a:solidFill>
                <a:uFillTx/>
                <a:latin typeface="Times New Roman"/>
                <a:ea typeface="Times New Roman"/>
              </a:rPr>
              <a:t>the entire progr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112160" cy="24987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609480" y="236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8088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oid 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i=4;   int j=10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“ i  is “&lt;&lt;i&lt;&lt;endl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{ int i=100;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* 'i' is defined and so local to * this block */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 &lt;&lt; "i is” &lt;&lt; i;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i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"i is “&lt;&lt;i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ma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6400800" y="1523880"/>
            <a:ext cx="17524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 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10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are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may be called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cedur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outi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 object oriented programming called 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thod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programmers’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 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rmally placed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start of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main()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ut must b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function defini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Gill Sans MT"/>
              </a:rPr>
              <a:t>General form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Gill Sans MT"/>
              </a:rPr>
              <a:t>function_return_typ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function_nam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GB" sz="2600" spc="-1" strike="noStrike">
                <a:solidFill>
                  <a:srgbClr val="ffc000"/>
                </a:solidFill>
                <a:latin typeface="Gill Sans MT"/>
              </a:rPr>
              <a:t>type parameter1, type parameter2,…, type paramete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X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actorial 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6588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declaration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4:48Z</dcterms:created>
  <dc:creator>NOUF</dc:creator>
  <dc:description/>
  <dc:language>en-US</dc:language>
  <cp:lastModifiedBy>Nouf</cp:lastModifiedBy>
  <dcterms:modified xsi:type="dcterms:W3CDTF">2014-02-07T12:11:32Z</dcterms:modified>
  <cp:revision>35</cp:revision>
  <dc:subject/>
  <dc:title>Slide 1</dc:title>
</cp:coreProperties>
</file>