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F7BC-FFED-4867-9CBD-DD6F6043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7DB-04B7-42E5-B758-C2A797AE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6DA-BAE5-4763-AC29-E922DC44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4E2-56A0-4E4A-90E0-067F201B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363E-1F35-47F4-9F06-56908E03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5C9F-496E-46D1-B36E-8B0B54E4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6AE2-8E95-4480-AD6A-C358B081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2779-4BA7-423D-9835-C2CAEF63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327A-8916-4119-AD61-D51F6270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72EF-BD2B-4FAC-B42F-66AA9394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4919-82BD-4F84-8EC7-52D56714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5D2-98A5-46ED-952F-899E4F21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582D-37B0-4966-9BDC-5EA01100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5653-70C7-4305-BD9E-DA2DE521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FD1D-7A0C-4894-8D62-A7AB5531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4903-909B-4BA8-B88D-7760182A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EEE0-80D1-426F-B558-94390057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A245F-E0E7-49BD-B00F-9955FF84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D1B09-1C1E-48A3-A4DD-FF29E6C0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BCFC1-A324-4361-8161-BA42A7F4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F331E-C293-4C09-A5C7-29A87958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F81DE-1242-4C78-9565-AF6F762F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B51-4BA3-469E-AF37-C2815C1A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94356-DB50-40C6-8AD5-15B4AAD3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35B9B-58B8-4D03-B833-5375933F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6A052-3D03-46DA-B359-4015C9F2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71B67-AC1E-4F1B-A853-17060743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B9653-C561-4C2B-8928-70122FE7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23805-B3D1-47DE-A11C-18428AA3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7DD26-9C88-45BF-BFF6-C0529CFA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D26D4-9CDD-478F-BFE0-4BF06B01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0099B-2421-45C1-B30B-2F3B4F76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E4FCC-69DC-42EB-AF24-7E0002FE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F29-6EEF-4D35-B316-397E0F98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82843-0AF1-41B1-AFAC-AD49AD08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2FA63-67BB-4302-845A-93577EA4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FA3E2-3CD2-48EB-9298-38F20B2C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3BB9D-DC9A-41F5-8A50-69C7AEF7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F953-355A-4FD9-BEAF-5920EC24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59EA2-D4CC-4715-9375-10A7D04C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82067-E224-4DED-BC66-21CE4240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318ED-9E26-4AB6-A688-CADE52AE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A8116-E810-46DA-85F6-592E3E88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F72CA-5C4C-4E3B-9005-67DA5CBE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F70-8BAA-4C20-9BDF-3721C60E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4F90F-B820-43FE-968F-18982BB0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1F589-D750-4EED-A39A-C8EC6AC8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11CD8-23D0-45E6-A792-F432A792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E9399-8295-46CE-A0BA-D24046A9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B4739-1C4E-4EE5-8AB5-E60EE514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46BD6-63C3-4F60-A170-69912BDD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84859-FE94-450C-900D-A635B335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FD1A9-1652-4C1C-90C5-7F8C1352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8194C-46FC-4C3E-B65D-ADCA7927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10482-6124-482B-A210-A6EF71DC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B0C-BA2C-48B2-88D3-65A7CADB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54018-CD95-499B-9125-EAD95518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7147A-84E7-40C9-BB44-5AD60FDC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C35BE-2DC2-4B4E-A3B4-B7E8E6DD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D2A8D-E10A-43CE-A254-A11FA68D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C4420-5517-4099-87A9-EA42AD43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D078A-E13C-4EFC-8AE6-373BE83A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C14F8-283F-481D-923C-C313DFC6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B0050-FDC7-4ADC-BD1E-0836B504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C784A-9C9D-4699-92F7-4A45AA37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BA37B-0998-4085-9F45-423376FA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D1B8-D54F-400D-9802-0968F5F3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1D769-8DB6-44EA-A40A-8F8BA144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94DBF-48E3-4F25-8C1B-D91A03B7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20291-E6EF-4762-964E-514C4D9F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B40C1-2745-447F-98DD-B5104B62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5C5FA-99A1-4221-8A79-CC6CEECF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14E1E-BE31-4445-AF90-A671703C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97393-B860-4431-A7E3-CE1ABD73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37306-F33D-418F-9E95-9CDE566E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63C7D-E5A4-4709-B03B-898AD412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F76E1-D914-4D19-9028-B9A416B9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4F8-2D5D-4C59-B8C0-F3C842DB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90E4B-A983-47B8-BC44-4A62B84D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DABE9-D42A-4392-B7E3-705FCCD4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40668-E2EE-461F-8AAD-F049E7F0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E69F4-EE61-42DA-8A01-295DFF18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AB057-9B0E-4382-8E9B-7BA953D9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ADC53-4AF2-4A1C-94E1-F7FDDBF3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EC97C-10C8-4F20-BDEB-D03F25A4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6EF09-09CA-477A-8E0F-22051D80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EF719-40FF-42C8-AE66-CF14A010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04F0A-D566-4F80-B0B1-B2C7D592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1A9-4225-4566-B0D6-F05FD1C8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AB9F8-3451-4510-A176-331E8837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430AA-B4B7-4B30-A3E3-9A3EA0AA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A208E-FFC1-4FB4-8B5A-56499F26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EF18F-01AF-4F50-A66E-A205416D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1D1E5-74CF-4D4B-8E4B-A0F06BA1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57506-46CA-4BDA-A936-6EE8F147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EE34F-EE8A-4371-ACB1-DA44B7EB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07B5-9CD5-474A-B915-F4A03BA52209}" type="slidenum"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10A0-F84C-4F6E-9101-ED10B67606A2}" type="slidenum"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17DA-A4F3-40B7-ABBB-3C0391F7AC4D}" type="slidenum">
              <a:rPr b="0" lang="ar-SA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57B7-54B7-4A44-B276-D5D9708D91EA}" type="slidenum"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3677-EBAC-4482-ACBE-E10D89DC6EAD}" type="slidenum"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09B0-6ACB-4CA5-A0D8-4685CA6C2E53}" type="slidenum"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A16C-BD2A-413D-B930-587F17E5F243}" type="slidenum">
              <a:rPr b="0" lang="ar-SA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2D69-E78B-49BB-832C-5EBA03134E44}" type="slidenum"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S1201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rogramming Language 2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3809880"/>
            <a:ext cx="495288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 </a:t>
            </a:r>
            <a:r>
              <a:rPr b="0" lang="en-GB" sz="54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Function</a:t>
            </a:r>
            <a:r>
              <a:rPr b="0" lang="en-US" sz="54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 II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990720" y="2514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5b7e"/>
                </a:solidFill>
                <a:latin typeface="Gill Sans MT"/>
              </a:rPr>
              <a:t>By:</a:t>
            </a:r>
            <a:r>
              <a:rPr b="0" lang="en-GB" sz="1800" spc="-1" strike="noStrike">
                <a:solidFill>
                  <a:srgbClr val="525b7e"/>
                </a:solidFill>
                <a:latin typeface="Times New Roman"/>
              </a:rPr>
              <a:t>Nouf  Aljaf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5b7e"/>
                </a:solidFill>
                <a:latin typeface="Gill Sans MT"/>
              </a:rPr>
              <a:t>Edited </a:t>
            </a:r>
            <a:r>
              <a:rPr b="0" lang="en-US" sz="1800" spc="-1" strike="noStrike">
                <a:solidFill>
                  <a:srgbClr val="525b7e"/>
                </a:solidFill>
                <a:latin typeface="Gill Sans MT"/>
              </a:rPr>
              <a:t>by : Nouf  Almunyif</a:t>
            </a:r>
            <a:r>
              <a:rPr b="0" lang="en-US" sz="1800" spc="-1" strike="noStrike">
                <a:solidFill>
                  <a:srgbClr val="525b7e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53"/>
                </a:solidFill>
                <a:latin typeface="Arial"/>
              </a:rPr>
              <a:t>Variable Sco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27ca3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 variables of same name can be nested inside global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27ca3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468360" y="1773360"/>
            <a:ext cx="4390920" cy="2284200"/>
          </a:xfrm>
          <a:prstGeom prst="rect">
            <a:avLst/>
          </a:prstGeom>
          <a:solidFill>
            <a:srgbClr val="e3e5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 total = 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 main (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 total = 4;     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// OK, this is nested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 sub1 (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 i = total;         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// OK, i set t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5181480" y="1341360"/>
            <a:ext cx="3135600" cy="5275080"/>
          </a:xfrm>
          <a:prstGeom prst="rect">
            <a:avLst/>
          </a:prstGeom>
          <a:solidFill>
            <a:srgbClr val="e3e5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#include</a:t>
            </a:r>
            <a:r>
              <a:rPr b="0" lang="en-US" sz="1800" spc="-1" strike="noStrike">
                <a:solidFill>
                  <a:srgbClr val="a31515"/>
                </a:solidFill>
                <a:latin typeface="Calibri"/>
                <a:ea typeface="Calibri"/>
              </a:rPr>
              <a:t>&lt;iostrea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namespa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st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i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main (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ut&lt;&lt;i&lt;&lt;endl;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Calibri"/>
              </a:rPr>
              <a:t>/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j = 0; j &lt; 10; j++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i = 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ut&lt;&lt;i&lt;&lt;endl;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Calibri"/>
              </a:rPr>
              <a:t>/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ut&lt;&lt;i&lt;&lt;endl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Calibri"/>
              </a:rPr>
              <a:t>;/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i = 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ut&lt;&lt;i&lt;&lt;endl;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Calibri"/>
              </a:rPr>
              <a:t>/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ut&lt;&lt;i&lt;&lt;endl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Calibri"/>
              </a:rPr>
              <a:t>;/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0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5C4C-4B92-434A-B83D-61116A71E014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880" y="16765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 are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l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may be called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rocedure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Routine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n object oriented programming called 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ethod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e programmers’ ti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Prototype </a:t>
            </a:r>
            <a:r>
              <a:rPr b="0" lang="en-GB" sz="3200" spc="-1" strike="noStrike">
                <a:solidFill>
                  <a:srgbClr val="00b050"/>
                </a:solidFill>
                <a:latin typeface="Times New Roman"/>
              </a:rPr>
              <a:t>VS. </a:t>
            </a: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Declaration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088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e : n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rmally placed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befor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the start of </a:t>
            </a:r>
            <a:r>
              <a:rPr b="0" lang="en-GB" sz="2600" spc="-1" strike="noStrike">
                <a:solidFill>
                  <a:srgbClr val="ff0000"/>
                </a:solidFill>
                <a:latin typeface="Gill Sans MT"/>
              </a:rPr>
              <a:t>main()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ut must be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befor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the function defini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0000"/>
                </a:solidFill>
                <a:uFillTx/>
                <a:latin typeface="Gill Sans MT"/>
              </a:rPr>
              <a:t>General form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Gill Sans MT"/>
              </a:rPr>
              <a:t>function_return_typ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GB" sz="2600" spc="-1" strike="noStrike">
                <a:solidFill>
                  <a:srgbClr val="00b050"/>
                </a:solidFill>
                <a:latin typeface="Gill Sans MT"/>
              </a:rPr>
              <a:t>function_name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GB" sz="2600" spc="-1" strike="noStrike">
                <a:solidFill>
                  <a:srgbClr val="ffc000"/>
                </a:solidFill>
                <a:latin typeface="Gill Sans MT"/>
              </a:rPr>
              <a:t>type parameter1, type parameter2,…, type parameterN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n-GB" sz="2600" spc="-1" strike="noStrike">
                <a:solidFill>
                  <a:srgbClr val="ff0000"/>
                </a:solidFill>
                <a:latin typeface="Gill Sans M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X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Consolas"/>
              </a:rPr>
              <a:t>void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Factorial (int x); </a:t>
            </a:r>
            <a:r>
              <a:rPr b="0" lang="en-GB" sz="2000" spc="-1" strike="noStrike">
                <a:solidFill>
                  <a:srgbClr val="00b050"/>
                </a:solidFill>
                <a:latin typeface="Consolas"/>
              </a:rPr>
              <a:t>// prototype -- x is a parame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6781680" y="3733920"/>
            <a:ext cx="16588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Prototype </a:t>
            </a:r>
            <a:r>
              <a:rPr b="0" lang="en-GB" sz="3200" spc="-1" strike="noStrike">
                <a:solidFill>
                  <a:srgbClr val="00b050"/>
                </a:solidFill>
                <a:latin typeface="Times New Roman"/>
              </a:rPr>
              <a:t>VS. </a:t>
            </a: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Declaration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088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e 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Consolas"/>
              </a:rPr>
              <a:t>void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foo(int x); </a:t>
            </a:r>
            <a:r>
              <a:rPr b="0" lang="en-GB" sz="2000" spc="-1" strike="noStrike">
                <a:solidFill>
                  <a:srgbClr val="00b050"/>
                </a:solidFill>
                <a:latin typeface="Consolas"/>
              </a:rPr>
              <a:t>// prototype -- x is a parame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Consolas"/>
              </a:rPr>
              <a:t>void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foo(int x) </a:t>
            </a:r>
            <a:r>
              <a:rPr b="0" lang="en-GB" sz="2000" spc="-1" strike="noStrike">
                <a:solidFill>
                  <a:srgbClr val="00b050"/>
                </a:solidFill>
                <a:latin typeface="Consolas"/>
              </a:rPr>
              <a:t>// declaration -- x is a parame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44756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iostream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mespace std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*x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voi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( 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umb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Enter any number to Calculate the square of this number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n&gt;&gt;numb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the square of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&lt;number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 is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lt;&lt;square(number)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44756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iostream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mespace std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Voi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( 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umb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Enter any number to Calculate the square of this number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n&gt;&gt;numb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the square of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&lt;number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 is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lt;&lt;square(number)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*x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Finding Errors in Function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286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(int x, int y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x+y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97" name="Rectangle 3"/>
          <p:cNvGrpSpPr/>
          <p:nvPr/>
        </p:nvGrpSpPr>
        <p:grpSpPr>
          <a:xfrm>
            <a:off x="1292400" y="3670200"/>
            <a:ext cx="6705360" cy="1644840"/>
            <a:chOff x="1292400" y="3670200"/>
            <a:chExt cx="6705360" cy="1644840"/>
          </a:xfrm>
        </p:grpSpPr>
        <p:pic>
          <p:nvPicPr>
            <p:cNvPr id="398" name="Rectangle 3" descr=""/>
            <p:cNvPicPr/>
            <p:nvPr/>
          </p:nvPicPr>
          <p:blipFill>
            <a:blip r:embed="rId1"/>
            <a:stretch/>
          </p:blipFill>
          <p:spPr>
            <a:xfrm>
              <a:off x="1292400" y="3670200"/>
              <a:ext cx="6705360" cy="16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447920" y="3809880"/>
              <a:ext cx="64767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is function must </a:t>
              </a:r>
              <a:r>
                <a:rPr b="0" lang="en-US" sz="2400" spc="-1" strike="noStrike">
                  <a:solidFill>
                    <a:srgbClr val="35353e"/>
                  </a:solidFill>
                  <a:latin typeface="Gill Sans MT"/>
                </a:rPr>
                <a:t>return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 an integer value as indicated in the header defini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5353e"/>
                  </a:solidFill>
                  <a:latin typeface="Gill Sans MT"/>
                </a:rPr>
                <a:t>(</a:t>
              </a:r>
              <a:r>
                <a:rPr b="0" lang="en-US" sz="2400" spc="-1" strike="noStrike">
                  <a:solidFill>
                    <a:srgbClr val="35353e"/>
                  </a:solidFill>
                  <a:latin typeface="Gill Sans MT"/>
                  <a:ea typeface="Courier New"/>
                </a:rPr>
                <a:t>return result;</a:t>
              </a:r>
              <a:r>
                <a:rPr b="0" lang="en-US" sz="2400" spc="-1" strike="noStrike">
                  <a:solidFill>
                    <a:srgbClr val="35353e"/>
                  </a:solidFill>
                  <a:latin typeface="Gill Sans MT"/>
                </a:rPr>
                <a:t>) should be add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Finding Errors in Function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286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(int n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{ if (n==0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n+(n-1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2" name="Rectangle 3"/>
          <p:cNvGrpSpPr/>
          <p:nvPr/>
        </p:nvGrpSpPr>
        <p:grpSpPr>
          <a:xfrm>
            <a:off x="1298520" y="3670200"/>
            <a:ext cx="6827760" cy="1663920"/>
            <a:chOff x="1298520" y="3670200"/>
            <a:chExt cx="6827760" cy="1663920"/>
          </a:xfrm>
        </p:grpSpPr>
        <p:pic>
          <p:nvPicPr>
            <p:cNvPr id="403" name="Rectangle 3" descr=""/>
            <p:cNvPicPr/>
            <p:nvPr/>
          </p:nvPicPr>
          <p:blipFill>
            <a:blip r:embed="rId1"/>
            <a:stretch/>
          </p:blipFill>
          <p:spPr>
            <a:xfrm>
              <a:off x="1298520" y="3670200"/>
              <a:ext cx="682776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1447920" y="3809880"/>
              <a:ext cx="64767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e result of n+sum(n-1) is not returned; sum returns an improper result, the else part should be written as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:-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5353e"/>
                  </a:solidFill>
                  <a:latin typeface="Courier New"/>
                  <a:ea typeface="Courier New"/>
                </a:rPr>
                <a:t>else return n+(n-1)</a:t>
              </a:r>
              <a:r>
                <a:rPr b="0" lang="en-US" sz="2400" spc="-1" strike="noStrike">
                  <a:solidFill>
                    <a:srgbClr val="35353e"/>
                  </a:solidFill>
                  <a:latin typeface="Courier New"/>
                  <a:ea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Finding Errors in Function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286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f(float a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a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&lt;&lt;a&lt;&lt;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7" name="Rectangle 3"/>
          <p:cNvGrpSpPr/>
          <p:nvPr/>
        </p:nvGrpSpPr>
        <p:grpSpPr>
          <a:xfrm>
            <a:off x="1279440" y="3687840"/>
            <a:ext cx="6718320" cy="3232080"/>
            <a:chOff x="1279440" y="3687840"/>
            <a:chExt cx="6718320" cy="3232080"/>
          </a:xfrm>
        </p:grpSpPr>
        <p:pic>
          <p:nvPicPr>
            <p:cNvPr id="408" name="Rectangle 3" descr=""/>
            <p:cNvPicPr/>
            <p:nvPr/>
          </p:nvPicPr>
          <p:blipFill>
            <a:blip r:embed="rId1"/>
            <a:stretch/>
          </p:blipFill>
          <p:spPr>
            <a:xfrm>
              <a:off x="1279440" y="3687840"/>
              <a:ext cx="671832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447920" y="3809880"/>
              <a:ext cx="6476760" cy="31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ff3300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Gill Sans MT"/>
                </a:rPr>
                <a:t>;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 found after function definition head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redefining the parameter 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a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 in the 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void f(float 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float a2 = a + 8.9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cout &lt;&lt;a2&lt;&lt;endl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Finding Errors in Function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oduct(void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, c, resul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“enter three integers:”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in &gt;&gt; a &gt;&gt; b &gt;&gt; c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a*b*c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“Result is” &lt;&lt; resul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12" name="Rectangle 3"/>
          <p:cNvGrpSpPr/>
          <p:nvPr/>
        </p:nvGrpSpPr>
        <p:grpSpPr>
          <a:xfrm>
            <a:off x="2176560" y="4218120"/>
            <a:ext cx="6827760" cy="2427120"/>
            <a:chOff x="2176560" y="4218120"/>
            <a:chExt cx="6827760" cy="2427120"/>
          </a:xfrm>
        </p:grpSpPr>
        <p:pic>
          <p:nvPicPr>
            <p:cNvPr id="413" name="Rectangle 3" descr=""/>
            <p:cNvPicPr/>
            <p:nvPr/>
          </p:nvPicPr>
          <p:blipFill>
            <a:blip r:embed="rId1"/>
            <a:stretch/>
          </p:blipFill>
          <p:spPr>
            <a:xfrm>
              <a:off x="2176560" y="4218120"/>
              <a:ext cx="6827760" cy="24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362320" y="4343400"/>
              <a:ext cx="647676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 MT"/>
                </a:rPr>
                <a:t>According to the definition it should not return a value , but in the block (body) it did &amp; this is </a:t>
              </a:r>
              <a:r>
                <a:rPr b="0" lang="en-US" sz="2800" spc="-1" strike="noStrike">
                  <a:solidFill>
                    <a:srgbClr val="ff0000"/>
                  </a:solidFill>
                  <a:latin typeface="Gill Sans MT"/>
                </a:rPr>
                <a:t>WRONG</a:t>
              </a:r>
              <a:r>
                <a:rPr b="0" lang="en-US" sz="2800" spc="-1" strike="noStrike">
                  <a:solidFill>
                    <a:srgbClr val="ffffff"/>
                  </a:solidFill>
                  <a:latin typeface="Gill Sans MT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Gill Sans MT"/>
                </a:rPr>
                <a:t>Remove </a:t>
              </a:r>
              <a:r>
                <a:rPr b="1" lang="en-US" sz="2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return Resul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87280" y="378936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Scope of variables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Bookman Old Style"/>
              </a:rPr>
              <a:t>Parameters vs Argumen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44756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p until now, we have not differentiated between function parameters and argumen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n common usage, the terms parameter and argument are often interchange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64653"/>
                </a:solidFill>
                <a:latin typeface="Gill Sans MT"/>
              </a:rPr>
              <a:t>A </a:t>
            </a:r>
            <a:r>
              <a:rPr b="1" lang="en-GB" sz="2400" spc="-1" strike="noStrike">
                <a:solidFill>
                  <a:srgbClr val="464653"/>
                </a:solidFill>
                <a:latin typeface="Gill Sans MT"/>
              </a:rPr>
              <a:t>function parameter</a:t>
            </a:r>
            <a:r>
              <a:rPr b="0" lang="en-GB" sz="2400" spc="-1" strike="noStrike">
                <a:solidFill>
                  <a:srgbClr val="464653"/>
                </a:solidFill>
                <a:latin typeface="Gill Sans MT"/>
              </a:rPr>
              <a:t> is a variable declared in the prototype or declaration of 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64653"/>
                </a:solidFill>
                <a:latin typeface="Gill Sans MT"/>
              </a:rPr>
              <a:t>An </a:t>
            </a:r>
            <a:r>
              <a:rPr b="1" lang="en-GB" sz="2400" spc="-1" strike="noStrike">
                <a:solidFill>
                  <a:srgbClr val="464653"/>
                </a:solidFill>
                <a:latin typeface="Gill Sans MT"/>
              </a:rPr>
              <a:t>argument</a:t>
            </a:r>
            <a:r>
              <a:rPr b="0" lang="en-GB" sz="2400" spc="-1" strike="noStrike">
                <a:solidFill>
                  <a:srgbClr val="464653"/>
                </a:solidFill>
                <a:latin typeface="Gill Sans MT"/>
              </a:rPr>
              <a:t> is the value that is passed to the function in place of a parameter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methods of pass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re are 2 primary methods of passing arguments to func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ass by valu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ass by referenc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 </a:t>
            </a: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Passing arguments by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6000"/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By default, arguments in C++ are passed by value.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6000"/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When arguments are </a:t>
            </a:r>
            <a:r>
              <a:rPr b="1" lang="en-GB" sz="1800" spc="-1" strike="noStrike">
                <a:solidFill>
                  <a:srgbClr val="464653"/>
                </a:solidFill>
                <a:latin typeface="Gill Sans MT"/>
              </a:rPr>
              <a:t>passed by value</a:t>
            </a: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, a copy of the argument is passed to the function.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1" name="Content Placeholder 8"/>
          <p:cNvGrpSpPr/>
          <p:nvPr/>
        </p:nvGrpSpPr>
        <p:grpSpPr>
          <a:xfrm>
            <a:off x="4645080" y="1365120"/>
            <a:ext cx="4048200" cy="4883400"/>
            <a:chOff x="4645080" y="1365120"/>
            <a:chExt cx="4048200" cy="4883400"/>
          </a:xfrm>
        </p:grpSpPr>
        <p:pic>
          <p:nvPicPr>
            <p:cNvPr id="422" name="Content Placeholder 8" descr=""/>
            <p:cNvPicPr/>
            <p:nvPr/>
          </p:nvPicPr>
          <p:blipFill>
            <a:blip r:embed="rId1"/>
            <a:stretch/>
          </p:blipFill>
          <p:spPr>
            <a:xfrm>
              <a:off x="4645080" y="1365120"/>
              <a:ext cx="4048200" cy="488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648320" y="1371600"/>
              <a:ext cx="4038480" cy="48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void foo(int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cout &lt;&lt; "y = " &lt;&lt; y &lt;&lt; endl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int main(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foo(5); // first c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int x = 6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foo(x); // second c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foo(x+1); // third c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return 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 </a:t>
            </a: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Passing arguments by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Because a copy of the argument is passed to the function, </a:t>
            </a:r>
            <a:r>
              <a:rPr b="0" i="1" lang="en-GB" sz="2800" spc="-1" strike="noStrike">
                <a:solidFill>
                  <a:srgbClr val="ff0000"/>
                </a:solidFill>
                <a:latin typeface="Gill Sans MT"/>
              </a:rPr>
              <a:t>the original argument can not be modified by the function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6" name="Content Placeholder 8"/>
          <p:cNvGrpSpPr/>
          <p:nvPr/>
        </p:nvGrpSpPr>
        <p:grpSpPr>
          <a:xfrm>
            <a:off x="4108320" y="1139760"/>
            <a:ext cx="4737240" cy="5499000"/>
            <a:chOff x="4108320" y="1139760"/>
            <a:chExt cx="4737240" cy="5499000"/>
          </a:xfrm>
        </p:grpSpPr>
        <p:pic>
          <p:nvPicPr>
            <p:cNvPr id="427" name="Content Placeholder 8" descr=""/>
            <p:cNvPicPr/>
            <p:nvPr/>
          </p:nvPicPr>
          <p:blipFill>
            <a:blip r:embed="rId1"/>
            <a:stretch/>
          </p:blipFill>
          <p:spPr>
            <a:xfrm>
              <a:off x="4108320" y="1139760"/>
              <a:ext cx="4737240" cy="54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14800" y="1143000"/>
              <a:ext cx="47242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void foo(int 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cout &lt;&lt; "y = " &lt;&lt; y &lt;&lt; endl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y = 6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cout &lt;&lt; "y = " &lt;&lt; y &lt;&lt; endl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} // y is destroye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int main(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using namespace std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int x = 5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cout &lt;&lt; "x = " &lt;&lt; x &lt;&lt; endl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foo(x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cout &lt;&lt; "x = " &lt;&lt; x &lt;&lt; endl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return 0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 </a:t>
            </a:r>
            <a:r>
              <a:rPr b="1" lang="en-GB" sz="3600" spc="-1" strike="noStrike">
                <a:solidFill>
                  <a:srgbClr val="464653"/>
                </a:solidFill>
                <a:latin typeface="Times New Roman"/>
              </a:rPr>
              <a:t>Adv. And DisAdv. Of Passing  by value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Advantag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rguments passed by value can be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variables (eg. x)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literals (eg. 6)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r expressions (eg. x+1) or (eg foo()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rguments are never changed by the function being called, which prevents side effect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392040" indent="-272880">
              <a:spcBef>
                <a:spcPts val="499"/>
              </a:spcBef>
              <a:buClr>
                <a:srgbClr val="9fb8c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Copying large structs or classes can take a lot of time to copy, and this can cause a performance penalty, especially if the function is called many time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++ Variab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variable is a place in memory that h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 name or identifier (e.g. income, taxes, etc.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 data type (e.g. int, double, char, etc.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 size (number of bytes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 scope (the part of the program code that can use it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lobal variables – all functions can see it and using 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cal variables – only the function that declare local variables see and use these variab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 life time (the duration of its existence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lobal variables can live as long as the program is execut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cal variables are lived only when the functions that define these variables are execut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0E98-A515-4CE6-8BF2-846C7487A346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757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8534160" cy="4414680"/>
          </a:xfrm>
          <a:prstGeom prst="rect">
            <a:avLst/>
          </a:prstGeom>
          <a:ln w="0">
            <a:noFill/>
          </a:ln>
        </p:spPr>
      </p:pic>
      <p:sp>
        <p:nvSpPr>
          <p:cNvPr id="361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6FD5-E1FB-4763-B672-ECE30D61C654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Global VS Local variabl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294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cal variabl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Variables that declared inside a </a:t>
            </a:r>
            <a:r>
              <a:rPr b="1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Declared  inside any </a:t>
            </a:r>
            <a:r>
              <a:rPr b="1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block</a:t>
            </a: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 of cod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lobal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Opposite of local the known throughout </a:t>
            </a:r>
            <a:r>
              <a:rPr b="0" lang="en-US" sz="2300" spc="-1" strike="noStrike" u="sng">
                <a:solidFill>
                  <a:srgbClr val="464653"/>
                </a:solidFill>
                <a:uFillTx/>
                <a:latin typeface="Times New Roman"/>
                <a:ea typeface="Times New Roman"/>
              </a:rPr>
              <a:t>the entire progra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Global VS Local variabl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7112160" cy="24987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4"/>
          <p:cNvSpPr/>
          <p:nvPr/>
        </p:nvSpPr>
        <p:spPr>
          <a:xfrm>
            <a:off x="609480" y="2362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</a:rPr>
              <a:t>#includ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&lt; iostrea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</a:rPr>
              <a:t>Using namespace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Global VS Local variabl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380880" y="190512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</a:rPr>
              <a:t>#includ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&lt; iostrea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</a:rPr>
              <a:t>Using namespace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void 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t i=4;   int j=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f (j &g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ut&lt;&lt;“ i  is “&lt;&lt;i&lt;&lt;end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f (j &g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{ int i=100;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Gill Sans MT"/>
              </a:rPr>
              <a:t>/* 'i' is defined and so local to * this block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ut &lt;&lt; "i is” &lt;&lt; i;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} //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ut&lt;&lt;"i is “&lt;&lt;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} //end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6400800" y="1523880"/>
            <a:ext cx="175248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I is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I is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I is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Scope of Local Variables, cont.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0" y="234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Object 6"/>
          <p:cNvGraphicFramePr/>
          <p:nvPr/>
        </p:nvGraphicFramePr>
        <p:xfrm>
          <a:off x="162000" y="1393920"/>
          <a:ext cx="8396280" cy="38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393920"/>
                    <a:ext cx="839628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1FB5-2883-4694-9449-CDEA8502146D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6858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53"/>
                </a:solidFill>
                <a:latin typeface="Arial"/>
              </a:rPr>
              <a:t>Variable Sco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27ca3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fact, you can reuse names in a scope which is nested inside another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692360" y="1844640"/>
            <a:ext cx="5562360" cy="4483080"/>
          </a:xfrm>
          <a:prstGeom prst="rect">
            <a:avLst/>
          </a:prstGeom>
          <a:solidFill>
            <a:srgbClr val="e3e5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main ( )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i = 5, j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j = 0; j &lt; 10; j++) 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i = j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</a:rPr>
              <a:t>// OK, this is new 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k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Something (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sum = k;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// compile error, no k in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 = i;              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</a:rPr>
              <a:t>// sets j to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j = 0; j &lt; 100; j++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i = j;              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</a:rPr>
              <a:t>// yet another new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i = 0;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// compile error –redefined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id doSomething(int i)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out&lt;&lt;++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// OK, this is new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15F5-CEE2-4ADF-9B45-5433CE55703C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7:24:48Z</dcterms:created>
  <dc:creator>NOUF</dc:creator>
  <dc:description/>
  <dc:language>en-US</dc:language>
  <cp:lastModifiedBy>Nouf</cp:lastModifiedBy>
  <dcterms:modified xsi:type="dcterms:W3CDTF">2017-02-21T08:32:43Z</dcterms:modified>
  <cp:revision>36</cp:revision>
  <dc:subject/>
  <dc:title>Slide 1</dc:title>
</cp:coreProperties>
</file>