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CC3A-DBB1-4A53-9496-0C838AFACC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9F6-AC74-4BBB-9EC9-5B014EBA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318-1416-4524-A760-19832DC6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6EB-2911-4DE4-8FFB-9FCB9CD1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DF4-D097-4BA4-B19E-CF3E934A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2B65-C91B-49AA-9F55-C593E99C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BA53-5005-498E-92CB-4899ACFD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6127-EAD6-4EF3-8127-CF88E38C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6A45-6133-432D-A721-D55734FE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2F07-EF77-44E9-9813-7BC7E636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163D-886A-4A04-B0EA-456DB07C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2973-4E79-41DA-9838-10E7C74F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324-8051-498D-8793-A60A20B8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B148-F296-42F7-8D29-9913198D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D6F9-629A-425D-A884-FBED472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B87F-4E03-41F8-848C-CB77278D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CD13-CF9B-4FB0-8CA6-742FB2A7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C352-BBF5-439D-A978-86592F47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57C4-000D-4876-90B2-14878514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311AA-73E5-4BC2-AD2C-D1CF5FE5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3CF24-F1A2-469B-A49B-E4AB3F36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9A0C4-A02D-41E6-8F3C-B4CF003C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78C22-1EEF-4DCF-99B3-CD14EFCD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104-B6C6-4FD3-8257-91139BB4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61B68-40D7-4140-A66B-F050DA62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A61B1-5D67-4FD9-BCBB-27C39EAD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BA8A2-C99D-4BE6-8067-3395B50D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D9B3C-A9A1-4723-8E85-AA9A8431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F972-C4A6-4F20-8D71-03E7A08F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A0ACC-A1CE-4F7D-B845-E5A7A0E5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B02D-23C9-420C-B660-0B58F315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2E0A6-FA02-4C11-AAFB-40F6396F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FA982-CC67-4B3E-BCBC-F29095D3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BC820-5D83-481D-8A70-92088D7B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C1F-A8F1-4839-A610-F013EBE9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4839A-0A4C-4CCE-9DA1-C24B5122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FC76E-34FD-4A7B-9A64-DBFE9F7E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EB248-F075-4136-89AE-E744352C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2C144-E6C4-4365-A97C-1752D9DD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26BFF-E8F1-4131-8ABB-8344411B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12E05-E093-4B19-9965-FC4575D4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C1A50-4D69-450E-917B-DC73CF1A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E6673-B12B-4C50-B5E9-53C91110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B207B-C3E9-4DB4-A85F-F13B0570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A91AB-C35D-4422-B4D4-535C819A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CF3-85ED-419C-9F8D-1FFC5626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5A3A6-2B17-4934-8181-48E9A0B3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1AE02-8B5E-4CEF-AC0B-901647FF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26FEC-8AF7-455F-B080-498BBFA3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91101-83C1-464C-A4EA-A7F80456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BA040-0800-4208-B7B0-F4DFAA28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78D58-262E-46DC-9FF0-DF8E5C96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B40C9-A2FA-43A1-BEA2-7B6020F0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A51C2-F6D7-4ECB-811C-3FC2726B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86FCE-11B1-4C82-A5EA-8566DCE9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CDB12-62E9-477D-B4CE-8A07C598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438-FB5F-4D1B-9B6D-8530E538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75DBC-AE75-4057-A4F6-97D7B3D7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F6250-D4D1-4F06-ADFF-92CEE517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5E700-7EEF-4EC3-AEEF-474A0CD3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B35BD-5E11-4774-B600-410FF0DA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92515-20E6-4A6C-B805-6825878D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C8BD4-DAF2-4490-8EAB-0E88D188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D1153-8C8F-4A52-B300-7C35204F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812E9-2347-49D2-9C2E-9C913CE8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D4AA8-FC5D-4871-A637-FF954AA4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BF708-BBAC-429E-A70A-F59DFDFF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280-2F13-4944-B0D0-5114A431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45398-1E2D-433E-A7B6-F6C5F4A7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7815B-E696-4902-87DA-8BBEB0BF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AC885-9D3D-4CAE-8448-EF53BB9E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69BF3-6067-4811-94A5-C01FE665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830EC-CAF0-46DA-A5F1-0140451F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23ED7-9960-4A65-A2C6-DE3AA083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BA691-F886-41B4-83CF-BDDE7025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CA3CF-AE7C-4543-9FDF-80F0D20E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91B5D-478E-456D-B768-E671C96C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9FCE9-74B3-4D98-8A92-F99E4A32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80F-22FB-4F6A-8FC8-C5DA3C60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95548-C2FC-4A5A-86F7-B012F8B5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7DFD1-E4A3-4138-A613-F2A38BBC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07873-9AB3-4B46-BA6C-18A06318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ABD4E-CC88-40BC-8524-108C244B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8AEB1-45BD-4C26-8E57-873D5F1F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339B9-3D61-4C5E-A520-68908B51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E945B-E1DB-4FED-A7D5-FBD35BC6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5FB13-A64D-4637-B1A6-26DEC04E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2C5E6-3222-413A-A6BE-8AC66F55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EE92C-631D-4D30-B931-C4584B23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9C9-735B-4CE7-8B53-DEE190B4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A4E4F-052A-4E68-8C21-5B253F9C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A7522-719D-4515-A8EF-C1C11B8A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F2391-A872-4B4E-BC38-606240F5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B8D66-0ACC-4559-BF45-66C3C039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EE7BC-F8FE-4D03-9A6A-604C5E05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7906F-250E-492C-845D-9B46E7D5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C4C32-15D6-4A52-9F4E-9D41DD5A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925B-D462-4494-8673-182991C7D410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3FC0-F3A6-4F17-910B-94FFA521B652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3B45-2B1F-4B70-98CA-03E60F5B1456}" type="slidenum"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10C5-3FE2-4CB7-8EA0-3B6CCE6F7254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7F6F-1C7B-447A-80FF-5E8323CB468F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F82C-2660-4204-8D0E-D50AE3A992BC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5BB7-135F-478B-8F8B-EBA07F3A9527}" type="slidenum"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E437-313C-4104-B7AB-CED3D343214B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1201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ming Language 2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58920" y="3716280"/>
            <a:ext cx="495288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 </a:t>
            </a:r>
            <a:r>
              <a:rPr b="0" lang="en-GB" sz="54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</a:t>
            </a:r>
            <a:r>
              <a:rPr b="0" lang="en-US" sz="54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 III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990720" y="2514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y: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uf  Aljaffa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dited by : Nouf  Almunyif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041720" cy="457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979640" y="1341360"/>
          <a:ext cx="6337440" cy="4424400"/>
        </p:xfrm>
        <a:graphic>
          <a:graphicData uri="http://schemas.openxmlformats.org/drawingml/2006/table">
            <a:tbl>
              <a:tblPr/>
              <a:tblGrid>
                <a:gridCol w="258840"/>
                <a:gridCol w="6078600"/>
              </a:tblGrid>
              <a:tr h="4426200">
                <a:tc>
                  <a:txBody>
                    <a:bodyPr lIns="36720" rIns="3672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#include &lt;iostream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Using namespace std 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duplicate (int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a, int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b, int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c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main 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x=1,y=3,z=7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uplicate (x,y,z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“x=“&lt;&lt;x&lt;&lt;“, y=“&lt;&lt;y&lt;&lt;“,z=“&lt;&lt;z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duplicate (int&amp; a, int&amp; b, int &amp; 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a*=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b*=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*=2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041720" cy="457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835280" y="1197000"/>
          <a:ext cx="6984720" cy="4968720"/>
        </p:xfrm>
        <a:graphic>
          <a:graphicData uri="http://schemas.openxmlformats.org/drawingml/2006/table">
            <a:tbl>
              <a:tblPr/>
              <a:tblGrid>
                <a:gridCol w="285480"/>
                <a:gridCol w="6699240"/>
              </a:tblGrid>
              <a:tr h="4968720">
                <a:tc>
                  <a:txBody>
                    <a:bodyPr lIns="36720" rIns="3672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#include &lt;iostream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Using namespace std 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vo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swap(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amp;x,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amp;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i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main()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a, b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cout &lt;&lt; </a:t>
                      </a:r>
                      <a:r>
                        <a:rPr b="0" lang="en-US" sz="1800" spc="-1" strike="noStrike">
                          <a:solidFill>
                            <a:srgbClr val="ba2121"/>
                          </a:solidFill>
                          <a:latin typeface="Consolas"/>
                          <a:ea typeface="Consolas"/>
                        </a:rPr>
                        <a:t>"Enter 2 numbers: "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lt;&lt; endl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cin &gt;&gt; a &gt;&gt; b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Consolas"/>
                          <a:ea typeface="Consolas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(a&gt;b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swap(a,b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cout &lt;&lt; </a:t>
                      </a:r>
                      <a:r>
                        <a:rPr b="0" lang="en-US" sz="1800" spc="-1" strike="noStrike">
                          <a:solidFill>
                            <a:srgbClr val="ba2121"/>
                          </a:solidFill>
                          <a:latin typeface="Consolas"/>
                          <a:ea typeface="Consolas"/>
                        </a:rPr>
                        <a:t>"Sorted numbers: "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; cout &lt;&lt; a &lt;&lt; </a:t>
                      </a:r>
                      <a:r>
                        <a:rPr b="0" lang="en-US" sz="1800" spc="-1" strike="noStrike">
                          <a:solidFill>
                            <a:srgbClr val="ba2121"/>
                          </a:solidFill>
                          <a:latin typeface="Consolas"/>
                          <a:ea typeface="Consolas"/>
                        </a:rPr>
                        <a:t>" "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lt;&lt; b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Consolas"/>
                          <a:ea typeface="Consolas"/>
                        </a:rPr>
                        <a:t>retur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0; }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vo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swap(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amp;x,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amp;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{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te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temp = x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x = 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y = temp; 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79280" y="1268280"/>
          <a:ext cx="7848720" cy="5159520"/>
        </p:xfrm>
        <a:graphic>
          <a:graphicData uri="http://schemas.openxmlformats.org/drawingml/2006/table">
            <a:tbl>
              <a:tblPr/>
              <a:tblGrid>
                <a:gridCol w="565200"/>
                <a:gridCol w="7283520"/>
              </a:tblGrid>
              <a:tr h="5159520">
                <a:tc>
                  <a:txBody>
                    <a:bodyPr lIns="41400" rIns="41400" tIns="18720" bIns="18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41400" marR="41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18720" bIns="18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#include &lt;iostream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#include &lt;math.h&gt;    // for sin() and cos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Using namespace std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GetSinCos(double dX, double &amp;dSin, double &amp;dC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Sin = sin(dX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Cos = cos(dX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main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ouble dSin = 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ouble dCos = 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GetSinCos(30.0, dSin, dCos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The sin is " &lt;&lt; dSin &lt;&lt; end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The cos is " &lt;&lt; dCos &lt;&lt; end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return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41400" marR="41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Advantages of passing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t allows us to have the function </a:t>
            </a:r>
            <a:r>
              <a:rPr b="1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change</a:t>
            </a: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 the value of the argument, which is sometimes useful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Because a copy of the argument is not made, it is </a:t>
            </a:r>
            <a:r>
              <a:rPr b="1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ast</a:t>
            </a: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, even when used with large structus or classe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ada7a"/>
                </a:solidFill>
                <a:latin typeface="Times New Roman"/>
                <a:ea typeface="Times New Roman"/>
              </a:rPr>
              <a:t>We can pass by CONST reference to avoid unintentional change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We can return multiple values from a functio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 Overloading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50560" y="1341000"/>
            <a:ext cx="843588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overloa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s with same name and different parameters or return data typ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Should perform similar task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and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square( int x) {return x * x;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square(float x) { return x * x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all-time c++ complier selects the proper function by examining the number, type and order of the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381880" cy="10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 overload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4041720" cy="1760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2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8738BF14-9926-4E12-8694-B4EA5C07E57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520" y="1628640"/>
            <a:ext cx="4041720" cy="49658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#include </a:t>
            </a:r>
            <a:r>
              <a:rPr b="0" lang="en-GB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iostream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ing namespac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d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oa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(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temp, leve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oat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temp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temp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CONVERTING FAHRENHEIT TO CELSIUS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Select required level of precision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Integer (1) - Float (2) - Double (3)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&gt;&gt; leve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717800" y="1557360"/>
            <a:ext cx="4041720" cy="50371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</a:t>
            </a:r>
            <a:r>
              <a:rPr b="0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Enter Fahrenheit temperature: "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witc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evel)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&gt;&gt; inttemp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inttemp)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ea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&gt;&gt; floattemp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floattemp)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ea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&gt;&gt; doubletemp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doubletemp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ea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faul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out &lt;&lt; </a:t>
            </a:r>
            <a:r>
              <a:rPr b="0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Invalid selection\n"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ur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 overload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Con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9fb8cd"/>
              </a:solidFill>
              <a:latin typeface="Gill Sans MT"/>
            </a:endParaRPr>
          </a:p>
        </p:txBody>
      </p:sp>
      <p:sp>
        <p:nvSpPr>
          <p:cNvPr id="403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BA3F7410-38FE-4F84-B497-D1901791F784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oC(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emp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 = (itemp - 32) * 5 / 9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Integer precision: 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itemp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F is 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temp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C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oC(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oa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emp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oa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 = (ftemp - 32) * 5.0 / 9.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Float precision: 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ftemp &lt;&lt; 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F is 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temp &lt;&lt; 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C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oC( </a:t>
            </a: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temp)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 = (dtemp - 32) * 5.0 / 9.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</a:t>
            </a:r>
            <a:r>
              <a:rPr b="0" lang="en-GB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Double precision : "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dtemp &lt;&lt;</a:t>
            </a:r>
            <a:r>
              <a:rPr b="0" lang="en-GB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F is "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temp &lt;&lt;</a:t>
            </a:r>
            <a:r>
              <a:rPr b="0" lang="en-GB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C\n"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methods of pass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re are 2 primary methods of passing arguments to func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Gill Sans MT"/>
              </a:rPr>
              <a:t>pass by valu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pass by referenc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bsolute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#include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lt;iostream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nsolas"/>
                <a:ea typeface="Consolas"/>
              </a:rPr>
              <a:t>using namespace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std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absolute (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);</a:t>
            </a:r>
            <a:r>
              <a:rPr b="0" lang="en-US" sz="1600" spc="-1" strike="noStrike">
                <a:solidFill>
                  <a:srgbClr val="309670"/>
                </a:solidFill>
                <a:latin typeface="Consolas"/>
                <a:ea typeface="Consolas"/>
              </a:rPr>
              <a:t>// function prototype for absolute(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main(){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num, answer;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cout &lt;&lt; "Enter an integer (0 to stop): "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cin &gt;&gt; num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num!=0){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nswer = absolute(num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cout &lt;&lt; "The absolute value of " &lt;&lt; num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lt;&lt; " is: " &lt;&lt; answer &lt;&lt; end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cin &gt;&gt; num;    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0;    }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9670"/>
                </a:solidFill>
                <a:latin typeface="Consolas"/>
                <a:ea typeface="Consolas"/>
              </a:rPr>
              <a:t>// Define a function to take absolute value of an integer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absolute(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x){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x &gt;= 0)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x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-x; }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methods of pass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re are 2 primary methods of passing arguments to func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ass by valu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Gill Sans MT"/>
              </a:rPr>
              <a:t>pass by referenc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passing arguments by value, the only way to return a value back to the caller is via the function’s return valu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this is suitable in many cases, there are a few cases where better options are availab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600" y="1523880"/>
            <a:ext cx="500868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by refere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declare the function parameters a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normal variable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340000" y="2492280"/>
          <a:ext cx="5457960" cy="1873440"/>
        </p:xfrm>
        <a:graphic>
          <a:graphicData uri="http://schemas.openxmlformats.org/drawingml/2006/table">
            <a:tbl>
              <a:tblPr/>
              <a:tblGrid>
                <a:gridCol w="179280"/>
                <a:gridCol w="5278680"/>
              </a:tblGrid>
              <a:tr h="1873440">
                <a:tc>
                  <a:txBody>
                    <a:bodyPr lIns="33120" rIns="3312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3120" marR="3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120" rIns="331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b0f0"/>
                          </a:solidFill>
                          <a:latin typeface="Consolas"/>
                        </a:rPr>
                        <a:t>void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AddOne(int </a:t>
                      </a:r>
                      <a:r>
                        <a:rPr b="1" lang="es-ES" sz="24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) </a:t>
                      </a:r>
                      <a:r>
                        <a:rPr b="0" lang="es-ES" sz="1800" spc="-1" strike="noStrike">
                          <a:solidFill>
                            <a:srgbClr val="00b050"/>
                          </a:solidFill>
                          <a:latin typeface="Consolas"/>
                        </a:rPr>
                        <a:t>// y is a reference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 = y + 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3120" marR="3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3" name="Rectangle 6"/>
          <p:cNvSpPr/>
          <p:nvPr/>
        </p:nvSpPr>
        <p:spPr>
          <a:xfrm>
            <a:off x="395280" y="443700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hen the function is called, y will become a reference to the argument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 reference to a variable is treated exactly the same as the variable itself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Gill Sans MT"/>
              </a:rPr>
              <a:t>any changes made to the reference are passed through to the argument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880" y="1699920"/>
            <a:ext cx="836784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we need a function to return multiple valu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functions can only have one return valu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ay to return multiple values is using reference parame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Cont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32000" y="404640"/>
            <a:ext cx="4041720" cy="457200"/>
          </a:xfrm>
          <a:prstGeom prst="rect">
            <a:avLst/>
          </a:prstGeom>
          <a:solidFill>
            <a:srgbClr val="d9e3eb">
              <a:alpha val="99000"/>
            </a:srgbClr>
          </a:solidFill>
          <a:ln w="0">
            <a:noFill/>
          </a:ln>
        </p:spPr>
        <p:txBody>
          <a:bodyPr rIns="90000" tIns="46800" bIns="46800" anchor="b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067280" y="981000"/>
          <a:ext cx="4833720" cy="5594400"/>
        </p:xfrm>
        <a:graphic>
          <a:graphicData uri="http://schemas.openxmlformats.org/drawingml/2006/table">
            <a:tbl>
              <a:tblPr/>
              <a:tblGrid>
                <a:gridCol w="309600"/>
                <a:gridCol w="4524120"/>
              </a:tblGrid>
              <a:tr h="5594400">
                <a:tc>
                  <a:txBody>
                    <a:bodyPr lIns="35640" rIns="3564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70c0"/>
                          </a:solidFill>
                          <a:latin typeface="Consolas"/>
                        </a:rPr>
                        <a:t>void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foo(int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b050"/>
                          </a:solidFill>
                          <a:latin typeface="Consolas"/>
                        </a:rPr>
                        <a:t>// y is now a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y = " &lt;&lt; y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 = 6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y = " &lt;&lt; y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 </a:t>
                      </a:r>
                      <a:r>
                        <a:rPr b="0" lang="en-GB" sz="1800" spc="-1" strike="noStrike">
                          <a:solidFill>
                            <a:srgbClr val="00b050"/>
                          </a:solidFill>
                          <a:latin typeface="Consolas"/>
                        </a:rPr>
                        <a:t>// y is destroyed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70c0"/>
                          </a:solidFill>
                          <a:latin typeface="Consolas"/>
                        </a:rPr>
                        <a:t>i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main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x = 5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foo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return 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9" name=""/>
          <p:cNvSpPr txBox="1"/>
          <p:nvPr/>
        </p:nvSpPr>
        <p:spPr>
          <a:xfrm>
            <a:off x="-360" y="1483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gram is the same as the one we used for the pass by value example, except foo’s parameter is now a reference instead of a normal variab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we call foo(x), y becomes a reference to x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the value of x was changed by the function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041720" cy="457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24000" y="1916280"/>
          <a:ext cx="5327640" cy="4152600"/>
        </p:xfrm>
        <a:graphic>
          <a:graphicData uri="http://schemas.openxmlformats.org/drawingml/2006/table">
            <a:tbl>
              <a:tblPr/>
              <a:tblGrid>
                <a:gridCol w="217440"/>
                <a:gridCol w="5110200"/>
              </a:tblGrid>
              <a:tr h="4152600">
                <a:tc>
                  <a:txBody>
                    <a:bodyPr lIns="36720" rIns="3672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AddOne(int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++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main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x = 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AddOne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return 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13:12:57Z</dcterms:created>
  <dc:creator>ALjaffan</dc:creator>
  <dc:description/>
  <dc:language>en-US</dc:language>
  <cp:lastModifiedBy>Nouf</cp:lastModifiedBy>
  <dcterms:modified xsi:type="dcterms:W3CDTF">2014-02-17T18:00:05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