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6DD0-9C1E-4BC9-B12B-C2FBA24354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BB8A-EAB1-495E-AF50-85A37242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99DC-891D-4248-982A-237B2A7B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235-C2AF-4712-BD71-A1E54E84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83B-893F-417D-9700-05567BCA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8FCF-6795-4591-99B4-BB160542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ECEF-7EE7-4B94-8C7C-C423426A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2CB3-A58A-4ED2-BE15-F24E3673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FAE7-F046-451B-BDAC-4C82C097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EA4A-C7C5-464E-A883-CD55777E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5860-4CEE-436B-8E17-9542C4F8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E528-47DE-4FAA-B860-BEDBFCD5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BE8-5C90-426E-825D-9CC17076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74E7-AC9E-4EA9-B7D6-80C516A9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9527-6CC9-4A7F-BEA7-3B46CE43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5D4F-2151-429D-9C44-378077DE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1112-7E49-44D2-B339-1789FF1C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6F5B-65D5-441D-B03A-7B31ADB6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B2A2A-DF7C-4557-86D0-0E9F7D4B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0BD97-7AA1-4FEF-AAAD-F43EC349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22150-5BEF-4B20-9491-8F92EE7A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3F707-DCD9-4A3A-88AA-C754D280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83C14-9593-454C-9705-787D5580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60F-FFA9-4609-A0DD-BA9AC38C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40D40-FA00-47F8-8D27-F2D8CBAF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6C005-56D4-476A-962A-C7B68900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0B552-2F84-4E09-90CD-5C282971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C855F-6F46-447B-B73F-A8B1FC5A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DB027-8776-410C-9049-48ECDD65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29948-D242-47D1-892E-58D6C045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BD80A-E05D-4CBC-99AE-AA82C21D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92846-CADC-43F2-8F37-9E2404F9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443DD-1045-47ED-A8C3-C1137F00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6430C-CDF4-4E90-AE11-EE569C87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E69D-B11D-49BD-B25C-D0AE6027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490F5-2DC9-4E3B-A64B-69CE9C00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EFEFD-B361-475F-9133-A6E781B9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220B0-3A21-40CF-B54C-CAC30D9E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76A7F-F1FE-4935-A8B9-D1F34441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C3EA6-3F83-48D9-8641-DC1F5BCA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C9414-D6F3-48E0-8879-53523EFB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A85E2-53DF-4A32-9757-D9A6747E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ED2FC-D7A6-43A1-8EE7-BBA8BD01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73C26-48BC-425E-810E-1D7FA470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841BE-64F0-4B64-B900-5C386479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7FB2-3A8B-4F23-9511-8DF92BA1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B69FE-299A-41C1-9BBF-42BB3447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934D6-BBF7-4B62-AAD6-11749FCB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CC500-CA72-4957-BB7C-030B0D1F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F46F8-B4C4-4963-95ED-ECE48C1D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EAE19-711A-4A05-BE49-EA30C29E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85F11-99E0-437F-89B5-6DB3FEEA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79389-584A-4555-9A7D-CECFFB5F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849DA-7469-4972-A0F4-AAA58FC9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3C1D2-ADD4-417C-A20E-B51BC6BB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4BB0D-CB70-49C8-BCC0-0AE5CE98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B6F-E871-499D-84C2-AFD72DB1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A21DA-95F0-449C-8560-78CEC98D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B4F2F-ED9D-4430-821C-1D94C2AF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693EC-C3E6-4655-B171-FCD43778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388A9-CCD4-4C46-9135-A8EE63C4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B42D0-BCDC-414C-8E90-C77828E7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929C6-C188-459C-BA0B-FB962A20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4CE89-4FB7-4C87-9AB0-843189FE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9CA23-FB08-42FD-B649-2BD935AE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14A6C-CB89-405E-A9A4-2C51E2B8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37561-41C4-4C3E-8CA8-C361EEA5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33BC-29D7-4A23-888C-F7845380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0321C-C708-4596-A936-6D20EB19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D92A5-B02B-4153-9394-A5954AC7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B2F2E-B5DB-41D9-82F3-4175B7A9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6258E-D653-4D5D-8D36-6EC6F1A7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C7821-355B-4ED2-A3AD-123412B5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189C6-B117-4CD1-AFF9-5A3C2D96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A0C2C-A229-4F26-8695-0B438083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1DC59-4095-45DF-AC0B-2CBFB644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D8D7E-AF27-417F-BB29-862F0B04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665A0-B1FE-4C0D-BA36-155CD4AA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CA8-E15D-48A6-9CCF-6F63B7F5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EEDE5-D249-4BC6-86EC-21C39B53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7F5E0-90F5-437E-8232-C25D8735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CFBFB-1CEE-4918-BA82-1332606D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439BA-5ECC-4856-83D8-745944BC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D76B0-862D-482A-AD12-84CC91CB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7870E-7047-4DDC-B6CF-3FDF042D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6D2CC-D5F8-49A8-8FE0-66E5FA02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C56C4-1675-4BD1-9F48-EA673171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3330E-FBEA-4133-BEDB-D2C81855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0DFD1-AECD-43BD-A9F5-4C62E8CA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1A68-BCFA-401B-B64C-30B98388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57F5F-54CD-4FA9-B7C8-A5C12F04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ED6BF-C05A-4DEF-880E-721BF163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26231-28D0-4C05-8259-AA43CA8C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9DDD7-74B3-41E1-BAEF-C1156C75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262F1-96D2-4306-94A5-A60F997A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34309-BE48-43DB-A02B-ED514A34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44F39-4368-4C8D-9F47-2DCD9E54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783D-039D-492F-91FF-A4DCCA4DE020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16CD-4EEB-46EB-945F-00249C1A9B5C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4A94-66CA-42FB-A5C4-533E07315C77}" type="slidenum"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231F-049E-4449-B497-F583CB32A90F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DD6C-AD60-4CD2-A1B5-F0590CC191C9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9518-1A12-4E21-8FFC-9E569FC21C63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01C0-AA54-4725-B9FE-56D9A083411F}" type="slidenum"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1FCB-FCFB-4204-A664-27AEE6CDF037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1201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ming Language 2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58920" y="3716280"/>
            <a:ext cx="495288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 </a:t>
            </a:r>
            <a:r>
              <a:rPr b="0" lang="en-GB" sz="54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</a:t>
            </a:r>
            <a:r>
              <a:rPr b="0" lang="en-US" sz="54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 III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990720" y="2514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By: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ouf  Aljaffa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Edited by : Nouf  Almunyif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4041720" cy="457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979640" y="1341360"/>
          <a:ext cx="6337440" cy="4424400"/>
        </p:xfrm>
        <a:graphic>
          <a:graphicData uri="http://schemas.openxmlformats.org/drawingml/2006/table">
            <a:tbl>
              <a:tblPr/>
              <a:tblGrid>
                <a:gridCol w="258840"/>
                <a:gridCol w="6078600"/>
              </a:tblGrid>
              <a:tr h="4426200">
                <a:tc>
                  <a:txBody>
                    <a:bodyPr lIns="36720" rIns="36720" tIns="18360" bIns="18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#include &lt;iostream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Using namespace std 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oid duplicate (int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a, int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b, int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c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oid main 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x=1,y=3,z=7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uplicate (x,y,z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“x=“&lt;&lt;x&lt;&lt;“, y=“&lt;&lt;y&lt;&lt;“,z=“&lt;&lt;z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oid duplicate (int&amp; a, int&amp; b, int &amp; 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a*=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b*=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*=2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4041720" cy="457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835280" y="1197000"/>
          <a:ext cx="6984720" cy="4968720"/>
        </p:xfrm>
        <a:graphic>
          <a:graphicData uri="http://schemas.openxmlformats.org/drawingml/2006/table">
            <a:tbl>
              <a:tblPr/>
              <a:tblGrid>
                <a:gridCol w="285480"/>
                <a:gridCol w="6699240"/>
              </a:tblGrid>
              <a:tr h="4968720">
                <a:tc>
                  <a:txBody>
                    <a:bodyPr lIns="36720" rIns="36720" tIns="18360" bIns="18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#include &lt;iostream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Using namespace std 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vo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swap(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amp;x, 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amp;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i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main() 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a, b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cout &lt;&lt; </a:t>
                      </a:r>
                      <a:r>
                        <a:rPr b="0" lang="en-US" sz="1800" spc="-1" strike="noStrike">
                          <a:solidFill>
                            <a:srgbClr val="ba2121"/>
                          </a:solidFill>
                          <a:latin typeface="Consolas"/>
                          <a:ea typeface="Consolas"/>
                        </a:rPr>
                        <a:t>"Enter 2 numbers: "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lt;&lt; endl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cin &gt;&gt; a &gt;&gt; b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Consolas"/>
                          <a:ea typeface="Consolas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(a&gt;b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swap(a,b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cout &lt;&lt; </a:t>
                      </a:r>
                      <a:r>
                        <a:rPr b="0" lang="en-US" sz="1800" spc="-1" strike="noStrike">
                          <a:solidFill>
                            <a:srgbClr val="ba2121"/>
                          </a:solidFill>
                          <a:latin typeface="Consolas"/>
                          <a:ea typeface="Consolas"/>
                        </a:rPr>
                        <a:t>"Sorted numbers: "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; cout &lt;&lt; a &lt;&lt; </a:t>
                      </a:r>
                      <a:r>
                        <a:rPr b="0" lang="en-US" sz="1800" spc="-1" strike="noStrike">
                          <a:solidFill>
                            <a:srgbClr val="ba2121"/>
                          </a:solidFill>
                          <a:latin typeface="Consolas"/>
                          <a:ea typeface="Consolas"/>
                        </a:rPr>
                        <a:t>" "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lt;&lt; b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Consolas"/>
                          <a:ea typeface="Consolas"/>
                        </a:rPr>
                        <a:t>retur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0; }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vo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swap(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amp;x, 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amp;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{ 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te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temp = x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x = 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y = temp; 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79280" y="1268280"/>
          <a:ext cx="7848720" cy="5159520"/>
        </p:xfrm>
        <a:graphic>
          <a:graphicData uri="http://schemas.openxmlformats.org/drawingml/2006/table">
            <a:tbl>
              <a:tblPr/>
              <a:tblGrid>
                <a:gridCol w="565200"/>
                <a:gridCol w="7283520"/>
              </a:tblGrid>
              <a:tr h="5159520">
                <a:tc>
                  <a:txBody>
                    <a:bodyPr lIns="41400" rIns="41400" tIns="18720" bIns="18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41400" marR="41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400" rIns="41400" tIns="18720" bIns="18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#include &lt;iostream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#include &lt;math.h&gt;    // for sin() and cos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Using namespace std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oid GetSinCos(double dX, double &amp;dSin, double &amp;dC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Sin = sin(dX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Cos = cos(dX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main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ouble dSin = 0.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ouble dCos = 0.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GetSinCos(30.0, dSin, dCos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The sin is " &lt;&lt; dSin &lt;&lt; end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The cos is " &lt;&lt; dCos &lt;&lt; end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return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41400" marR="41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Advantages of passing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It allows us to have the function </a:t>
            </a:r>
            <a:r>
              <a:rPr b="1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change</a:t>
            </a:r>
            <a:r>
              <a:rPr b="0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 the value of the argument, which is sometimes useful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Because a copy of the argument is not made, it is </a:t>
            </a:r>
            <a:r>
              <a:rPr b="1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ast</a:t>
            </a:r>
            <a:r>
              <a:rPr b="0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, even when used with large structus or classe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ada7a"/>
                </a:solidFill>
                <a:latin typeface="Times New Roman"/>
                <a:ea typeface="Times New Roman"/>
              </a:rPr>
              <a:t>We can pass by CONST reference to avoid unintentional change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We can return multiple values from a function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 Overloading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50560" y="1341000"/>
            <a:ext cx="843588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overloa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s with same name and different parameters or return data typ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Should perform similar tasks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function to squar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and function to squar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square( int x) {return x * x;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square(float x) { return x * x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all-time c++ complier selects the proper function by examining the number, type and order of the parame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8381880" cy="10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 overload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4041720" cy="1760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22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4957785B-E4B6-44CB-8D07-E0A52C6AE35B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520" y="1628640"/>
            <a:ext cx="4041720" cy="49658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#include </a:t>
            </a:r>
            <a:r>
              <a:rPr b="0" lang="en-GB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iostream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ing namespac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d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loat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ubl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(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temp, level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loat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temp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ubl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temp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CONVERTING FAHRENHEIT TO CELSIUS\n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Select required level of precision\n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Integer (1) - Float (2) - Double (3)\n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 &gt;&gt; level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717800" y="1557360"/>
            <a:ext cx="4041720" cy="50371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</a:t>
            </a:r>
            <a:r>
              <a:rPr b="0" lang="en-GB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Enter Fahrenheit temperature: "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witch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evel)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 &gt;&gt; inttemp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inttemp)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ea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 &gt;&gt; floattemp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floattemp)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ea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 &gt;&gt; doubletemp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doubletemp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ea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faul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cout &lt;&lt; </a:t>
            </a:r>
            <a:r>
              <a:rPr b="0" lang="en-GB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Invalid selection\n"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tur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 overload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Con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9fb8cd"/>
              </a:solidFill>
              <a:latin typeface="Gill Sans MT"/>
            </a:endParaRPr>
          </a:p>
        </p:txBody>
      </p:sp>
      <p:sp>
        <p:nvSpPr>
          <p:cNvPr id="403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0DCEA2A5-357B-4F88-B171-5CA2A3F40F39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toC(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emp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mp = (itemp - 32) * 5 / 9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Integer precision: 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itemp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F is 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temp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C\n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toC(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loa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temp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loa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mp = (ftemp - 32) * 5.0 / 9.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Float precision: 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ftemp &lt;&lt; 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F is 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temp &lt;&lt; 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C\n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toC( </a:t>
            </a:r>
            <a:r>
              <a:rPr b="0" lang="en-GB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ubl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temp)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ubl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mp = (dtemp - 32) * 5.0 / 9.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</a:t>
            </a:r>
            <a:r>
              <a:rPr b="0" lang="en-GB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Double precision : "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dtemp &lt;&lt;</a:t>
            </a:r>
            <a:r>
              <a:rPr b="0" lang="en-GB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F is "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temp &lt;&lt;</a:t>
            </a:r>
            <a:r>
              <a:rPr b="0" lang="en-GB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C\n"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methods of pass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re are 2 primary methods of passing arguments to func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0000"/>
                </a:solidFill>
                <a:latin typeface="Gill Sans MT"/>
              </a:rPr>
              <a:t>pass by valu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pass by referenc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bsolute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#include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lt;iostream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nsolas"/>
                <a:ea typeface="Consolas"/>
              </a:rPr>
              <a:t>using namespace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std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absolute (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);</a:t>
            </a:r>
            <a:r>
              <a:rPr b="0" lang="en-US" sz="1600" spc="-1" strike="noStrike">
                <a:solidFill>
                  <a:srgbClr val="309670"/>
                </a:solidFill>
                <a:latin typeface="Consolas"/>
                <a:ea typeface="Consolas"/>
              </a:rPr>
              <a:t>// function prototype for absolute(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main(){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num, answer;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cout &lt;&lt; "Enter an integer (0 to stop): "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cin &gt;&gt; num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num!=0){    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nswer = absolute(num)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cout &lt;&lt; "The absolute value of " &lt;&lt; num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lt;&lt; " is: " &lt;&lt; answer &lt;&lt; endl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cin &gt;&gt; num;    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0;    }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9670"/>
                </a:solidFill>
                <a:latin typeface="Consolas"/>
                <a:ea typeface="Consolas"/>
              </a:rPr>
              <a:t>// Define a function to take absolute value of an integer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absolute(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x){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x &gt;= 0)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x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-x; }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methods of pass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re are 2 primary methods of passing arguments to func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ass by valu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0000"/>
                </a:solidFill>
                <a:latin typeface="Gill Sans MT"/>
              </a:rPr>
              <a:t>pass by referenc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passing arguments by value, the only way to return a value back to the caller is via the function’s return valu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this is suitable in many cases, there are a few cases where better options are availabl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600" y="1523880"/>
            <a:ext cx="500868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 by refere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declare the function parameters a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her than normal variable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340000" y="2492280"/>
          <a:ext cx="5457960" cy="1873440"/>
        </p:xfrm>
        <a:graphic>
          <a:graphicData uri="http://schemas.openxmlformats.org/drawingml/2006/table">
            <a:tbl>
              <a:tblPr/>
              <a:tblGrid>
                <a:gridCol w="179280"/>
                <a:gridCol w="5278680"/>
              </a:tblGrid>
              <a:tr h="1873440">
                <a:tc>
                  <a:txBody>
                    <a:bodyPr lIns="33120" rIns="33120" tIns="18360" bIns="18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33120" marR="3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3120" rIns="3312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b0f0"/>
                          </a:solidFill>
                          <a:latin typeface="Consolas"/>
                        </a:rPr>
                        <a:t>void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AddOne(int </a:t>
                      </a:r>
                      <a:r>
                        <a:rPr b="1" lang="es-ES" sz="24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) </a:t>
                      </a:r>
                      <a:r>
                        <a:rPr b="0" lang="es-ES" sz="1800" spc="-1" strike="noStrike">
                          <a:solidFill>
                            <a:srgbClr val="00b050"/>
                          </a:solidFill>
                          <a:latin typeface="Consolas"/>
                        </a:rPr>
                        <a:t>// y is a reference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 = y + 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33120" marR="3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3" name="Rectangle 6"/>
          <p:cNvSpPr/>
          <p:nvPr/>
        </p:nvSpPr>
        <p:spPr>
          <a:xfrm>
            <a:off x="395280" y="4437000"/>
            <a:ext cx="828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hen the function is called, y will become a reference to the argument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 reference to a variable is treated exactly the same as the variable itself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Gill Sans MT"/>
              </a:rPr>
              <a:t>any changes made to the reference are passed through to the argument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0880" y="1699920"/>
            <a:ext cx="836784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we need a function to return multiple valu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functions can only have one return valu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ay to return multiple values is using reference parame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Cont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32000" y="404640"/>
            <a:ext cx="4041720" cy="457200"/>
          </a:xfrm>
          <a:prstGeom prst="rect">
            <a:avLst/>
          </a:prstGeom>
          <a:solidFill>
            <a:srgbClr val="d9e3eb">
              <a:alpha val="99000"/>
            </a:srgbClr>
          </a:solidFill>
          <a:ln w="0">
            <a:noFill/>
          </a:ln>
        </p:spPr>
        <p:txBody>
          <a:bodyPr rIns="90000" tIns="46800" bIns="46800" anchor="b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4067280" y="981000"/>
          <a:ext cx="4833720" cy="5594400"/>
        </p:xfrm>
        <a:graphic>
          <a:graphicData uri="http://schemas.openxmlformats.org/drawingml/2006/table">
            <a:tbl>
              <a:tblPr/>
              <a:tblGrid>
                <a:gridCol w="309600"/>
                <a:gridCol w="4524120"/>
              </a:tblGrid>
              <a:tr h="5594400">
                <a:tc>
                  <a:txBody>
                    <a:bodyPr lIns="35640" rIns="35640" tIns="18360" bIns="18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70c0"/>
                          </a:solidFill>
                          <a:latin typeface="Consolas"/>
                        </a:rPr>
                        <a:t>void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foo(int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b050"/>
                          </a:solidFill>
                          <a:latin typeface="Consolas"/>
                        </a:rPr>
                        <a:t>// y is now a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y = " &lt;&lt; y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 = 6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y = " &lt;&lt; y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 </a:t>
                      </a:r>
                      <a:r>
                        <a:rPr b="0" lang="en-GB" sz="1800" spc="-1" strike="noStrike">
                          <a:solidFill>
                            <a:srgbClr val="00b050"/>
                          </a:solidFill>
                          <a:latin typeface="Consolas"/>
                        </a:rPr>
                        <a:t>// y is destroyed 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70c0"/>
                          </a:solidFill>
                          <a:latin typeface="Consolas"/>
                        </a:rPr>
                        <a:t>in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main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x = 5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x = " &lt;&lt; x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foo(x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x = " &lt;&lt; x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return 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9" name=""/>
          <p:cNvSpPr txBox="1"/>
          <p:nvPr/>
        </p:nvSpPr>
        <p:spPr>
          <a:xfrm>
            <a:off x="-360" y="1483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gram is the same as the one we used for the pass by value example, except foo’s parameter is now a reference instead of a normal variab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we call foo(x), y becomes a reference to x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 the value of x was changed by the function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4041720" cy="457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24000" y="1916280"/>
          <a:ext cx="5327640" cy="4152600"/>
        </p:xfrm>
        <a:graphic>
          <a:graphicData uri="http://schemas.openxmlformats.org/drawingml/2006/table">
            <a:tbl>
              <a:tblPr/>
              <a:tblGrid>
                <a:gridCol w="217440"/>
                <a:gridCol w="5110200"/>
              </a:tblGrid>
              <a:tr h="4152600">
                <a:tc>
                  <a:txBody>
                    <a:bodyPr lIns="36720" rIns="36720" tIns="18360" bIns="18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oid AddOne(int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++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main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x = 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x = " &lt;&lt; x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AddOne(x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x = " &lt;&lt; x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return 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13:12:57Z</dcterms:created>
  <dc:creator>ALjaffan</dc:creator>
  <dc:description/>
  <dc:language>en-US</dc:language>
  <cp:lastModifiedBy>Nouf</cp:lastModifiedBy>
  <dcterms:modified xsi:type="dcterms:W3CDTF">2014-02-17T18:00:05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