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EE28-E15B-4BAE-AA97-8BB9F20C405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76AC-EF93-493C-BEB1-CD4B0EE2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2005-A1B2-4B75-BA39-1B1E6BED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DADB-431C-478C-8B34-08BD83C39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0944-345A-43D6-AB72-FE5B1BEC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B5D0-839B-43F8-8B51-D5E68561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3030-6A60-4F98-9EE7-2B4EC3B9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D219-9ECB-4B4F-8665-AFF422C8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F653-E0ED-47F9-8CE3-6608DD86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424B-B679-4A3E-B89C-74517F7A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5EFF-14EC-4FB1-8D06-657CA571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0DEE-F1A9-41DF-AA9C-0A686D3D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E8BC-36C1-4548-B232-16D965CD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8202-63BC-4B2E-AFD5-3D3998D1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FFAA-89B3-44AF-A310-FD34A68D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B13C-9A4A-48C7-B9B5-A81EDE6A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1244-0A13-4127-B57F-5162613D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E761-2070-4DE1-B53A-CF6EE84A6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59B3D-AB0F-4CCC-9132-0571E977E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DD826-F497-4D1A-835D-F9B8F7A5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F792D-3DA1-4080-AEA6-978E899C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42D7F-419E-49BB-8761-1A9A0704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C9D9B-3FC6-461B-84CD-C1C1C856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1C15-2F4D-4134-B420-2DB43AEF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DE8CF-8D58-42CB-91B7-21268037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9D87A-DE3C-4956-8317-B4925BE8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7A651-7421-447C-887E-B462D13C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1A3AB-F9C0-4BCE-B083-6283BB09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CF503-D6DE-485B-8898-A09AC595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1674E-8734-4DCB-B768-C7C2D954F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3D1D5-D1EF-4916-A2F1-45F0E6E9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A7973-87F4-42C9-96A9-79948271A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E40C8-7B8C-46A7-A69C-AF884E9E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05947-FBB1-48C9-B8A5-19A6E371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1656-220E-49FB-92C8-3C37C614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105F6-B35F-44E0-8FC8-6CF04034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F1B9C-E31B-4D00-B004-49202E25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A783D-F247-482F-8E94-C6E4EBDF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713E0-22CF-4864-BEA5-824EF4EA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1F9F0-7A86-4338-9801-6AD19319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4F8FC-08F3-4056-8A0E-ECF04B1D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7D1D0-1CB5-409F-87D3-5A3CD633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973B8-CD8A-44DD-968F-C97FCC73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7EC4D-CB30-4338-BA14-DFE950B58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1D09B-C43E-4E2F-B275-055C1E59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66E0-5B3D-472B-A603-D45DE86F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3E3BE-57E4-4C2F-A87F-E7846F01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789D6-E30B-46DC-A8D3-C14B9599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5367F-0EE7-4CD4-AA77-6F7EF206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5A85B-E242-496E-9890-D66A38AC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73CF7-1711-4E36-90BF-9FC38333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1E6E9-B9C5-44B9-BB64-4BB33D98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BBAC3-4A32-4377-ABAC-8198A858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683E5-B432-45B7-A450-4D4183FA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FF0BB-A5C1-4278-8631-CEA153C4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704F2-ECAF-421D-AA3F-0A30A947F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FED1-091E-4B87-8DF4-9260F184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FAE1A-5BA3-4877-A08C-AF1D9183F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37787-5F64-4F23-A7B4-4C5B078F2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74E69-6FEC-4D50-B628-224E05F3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6E60E-AD39-4ABF-B198-CCC28CC9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E4F5D-CCA3-4C52-ABB6-B80015C4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32F53-C564-407B-9F18-CE66094D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7DEBA-972E-4364-B5A7-986AEBA8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263D8-2001-4538-9983-05579971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4963D-286C-4E5E-A4C6-D6952333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710D3-B041-4FDE-A2F2-F09D9A8E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B1FE-D016-4BEE-9826-2435BF10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06546-8A9D-4745-8489-FCF481FE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5A731-AE8A-4250-9E18-FECBB885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2B22A-1F45-4AB6-9245-3FC89474D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6A2E8-2732-4882-8E43-F9158853E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AA97C-A390-4DE5-8829-C23A329B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A5CBD-6D9C-48A4-A911-7BD78A67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94ACF-EA47-4FFA-802D-FF7850EE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FB637-E817-400E-951A-AB0C5410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49025-AAC5-4045-8FD9-7E23E673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0387D-6497-43C5-9475-A2338FB0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4E1A-C30D-4343-B152-C8073868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1C0F7-9A62-47A9-BAD4-DB6E3241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604DB-D1D9-4C2F-BD2A-DC1400F7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798E8-2F7F-404B-8C0E-4DAA1315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F8FDF-9F84-41A5-AC9B-013A610C1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83489-32F0-42E8-AB73-3CF9BEC7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A2473-D1AD-491A-A8C6-164F23E26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CEF23-B1DB-4FF3-B13F-E3B7B4B9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E1C7E-5EE5-478E-AF18-435ED3A5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4518B-E6DF-4C8F-9CB2-A8E7FFC2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9DFE6-E1B4-4BD2-B45E-3A3AE05F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AB8C-1DCC-4B72-8583-5A45180A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3EB06-4E9D-44D8-B17F-78E59968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E4028-6525-4385-8D9F-1B62069C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FBC6B-5C69-4190-8A5C-1F0238BE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440B0-5F02-48CB-BDC2-C88E9EEE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E64AD-5487-48AC-BBDD-A6D7DD98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78136-5D11-4687-A963-305C50FE9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2200E-732A-43A7-8893-54C0CFDCF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2E2A-8928-4CCD-B5CE-02208DE16CC2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289E-C836-45B6-9698-7A37D82AF4FF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8273-02C7-4324-8418-7BE411AAD411}" type="slidenum">
              <a:rPr b="0" lang="en-GB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D7F1-ED60-47AE-9DE3-8C723A50543D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5733-F946-45D8-BC24-7DB0210EDBC1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59FB-AD09-4DDC-B44C-C3C3EC95F1C4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8EC6-5AB1-4C25-8363-B4712DCD9713}" type="slidenum">
              <a:rPr b="0" lang="en-GB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EF0C-07F8-4986-83C4-68F10091AB51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6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1201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gramming Language 2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58920" y="3716280"/>
            <a:ext cx="495288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 </a:t>
            </a:r>
            <a:r>
              <a:rPr b="0" lang="en-GB" sz="54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Function</a:t>
            </a:r>
            <a:r>
              <a:rPr b="0" lang="en-US" sz="54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 III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TextBox 3"/>
          <p:cNvSpPr/>
          <p:nvPr/>
        </p:nvSpPr>
        <p:spPr>
          <a:xfrm>
            <a:off x="990720" y="25146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By: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ouf  Aljaff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Edited by : Nouf  Almunyi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38224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Passing arguments by refere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4041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979640" y="1341360"/>
          <a:ext cx="6337440" cy="4426200"/>
        </p:xfrm>
        <a:graphic>
          <a:graphicData uri="http://schemas.openxmlformats.org/drawingml/2006/table">
            <a:tbl>
              <a:tblPr/>
              <a:tblGrid>
                <a:gridCol w="258840"/>
                <a:gridCol w="6078600"/>
              </a:tblGrid>
              <a:tr h="4426200">
                <a:tc>
                  <a:txBody>
                    <a:bodyPr lIns="36720" rIns="36720" tIns="18360" bIns="18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18360" bIns="18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#include &lt;iostream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Using namespace std 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Void duplicate (int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Consolas"/>
                        </a:rPr>
                        <a:t>&amp;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 a, int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Consolas"/>
                        </a:rPr>
                        <a:t>&amp;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 b, int 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Consolas"/>
                        </a:rPr>
                        <a:t>&amp;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 c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Void main 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Int x=1,y=3,z=7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Duplicate (x,y,z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out &lt;&lt; “x=“&lt;&lt;x&lt;&lt;“, y=“&lt;&lt;y&lt;&lt;“,z=“&lt;&lt;z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Void duplicate (int&amp; a, int&amp; b, int &amp; 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{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a*=2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b*=2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*=2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38224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Passing arguments by refere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4041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835280" y="1197000"/>
          <a:ext cx="6984720" cy="4968720"/>
        </p:xfrm>
        <a:graphic>
          <a:graphicData uri="http://schemas.openxmlformats.org/drawingml/2006/table">
            <a:tbl>
              <a:tblPr/>
              <a:tblGrid>
                <a:gridCol w="285480"/>
                <a:gridCol w="6699240"/>
              </a:tblGrid>
              <a:tr h="4968720">
                <a:tc>
                  <a:txBody>
                    <a:bodyPr lIns="36720" rIns="36720" tIns="18360" bIns="18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18360" bIns="18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#include &lt;iostream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Using namespace std 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00040"/>
                          </a:solidFill>
                          <a:latin typeface="Consolas"/>
                          <a:ea typeface="Consolas"/>
                        </a:rPr>
                        <a:t>vo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swap(</a:t>
                      </a:r>
                      <a:r>
                        <a:rPr b="0" lang="en-US" sz="1800" spc="-1" strike="noStrike">
                          <a:solidFill>
                            <a:srgbClr val="b00040"/>
                          </a:solidFill>
                          <a:latin typeface="Consolas"/>
                          <a:ea typeface="Consolas"/>
                        </a:rPr>
                        <a:t>floa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&amp;x, </a:t>
                      </a:r>
                      <a:r>
                        <a:rPr b="0" lang="en-US" sz="1800" spc="-1" strike="noStrike">
                          <a:solidFill>
                            <a:srgbClr val="b00040"/>
                          </a:solidFill>
                          <a:latin typeface="Consolas"/>
                          <a:ea typeface="Consolas"/>
                        </a:rPr>
                        <a:t>floa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&amp;y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b00040"/>
                          </a:solidFill>
                          <a:latin typeface="Consolas"/>
                          <a:ea typeface="Consolas"/>
                        </a:rPr>
                        <a:t>in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main() 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b00040"/>
                          </a:solidFill>
                          <a:latin typeface="Consolas"/>
                          <a:ea typeface="Consolas"/>
                        </a:rPr>
                        <a:t>floa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a, b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cout &lt;&lt; </a:t>
                      </a:r>
                      <a:r>
                        <a:rPr b="0" lang="en-US" sz="1800" spc="-1" strike="noStrike">
                          <a:solidFill>
                            <a:srgbClr val="ba2121"/>
                          </a:solidFill>
                          <a:latin typeface="Consolas"/>
                          <a:ea typeface="Consolas"/>
                        </a:rPr>
                        <a:t>"Enter 2 numbers: "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&lt;&lt; endl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cin &gt;&gt; a &gt;&gt; b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Consolas"/>
                          <a:ea typeface="Consolas"/>
                        </a:rPr>
                        <a:t>i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(a&gt;b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swap(a,b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cout &lt;&lt; </a:t>
                      </a:r>
                      <a:r>
                        <a:rPr b="0" lang="en-US" sz="1800" spc="-1" strike="noStrike">
                          <a:solidFill>
                            <a:srgbClr val="ba2121"/>
                          </a:solidFill>
                          <a:latin typeface="Consolas"/>
                          <a:ea typeface="Consolas"/>
                        </a:rPr>
                        <a:t>"Sorted numbers: "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; cout &lt;&lt; a &lt;&lt; </a:t>
                      </a:r>
                      <a:r>
                        <a:rPr b="0" lang="en-US" sz="1800" spc="-1" strike="noStrike">
                          <a:solidFill>
                            <a:srgbClr val="ba2121"/>
                          </a:solidFill>
                          <a:latin typeface="Consolas"/>
                          <a:ea typeface="Consolas"/>
                        </a:rPr>
                        <a:t>" "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&lt;&lt; b &lt;&lt; end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Consolas"/>
                          <a:ea typeface="Consolas"/>
                        </a:rPr>
                        <a:t>retur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0; }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00040"/>
                          </a:solidFill>
                          <a:latin typeface="Consolas"/>
                          <a:ea typeface="Consolas"/>
                        </a:rPr>
                        <a:t>vo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swap(</a:t>
                      </a:r>
                      <a:r>
                        <a:rPr b="0" lang="en-US" sz="1800" spc="-1" strike="noStrike">
                          <a:solidFill>
                            <a:srgbClr val="b00040"/>
                          </a:solidFill>
                          <a:latin typeface="Consolas"/>
                          <a:ea typeface="Consolas"/>
                        </a:rPr>
                        <a:t>floa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&amp;x, </a:t>
                      </a:r>
                      <a:r>
                        <a:rPr b="0" lang="en-US" sz="1800" spc="-1" strike="noStrike">
                          <a:solidFill>
                            <a:srgbClr val="b00040"/>
                          </a:solidFill>
                          <a:latin typeface="Consolas"/>
                          <a:ea typeface="Consolas"/>
                        </a:rPr>
                        <a:t>floa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&amp;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{ </a:t>
                      </a:r>
                      <a:r>
                        <a:rPr b="0" lang="en-US" sz="1800" spc="-1" strike="noStrike">
                          <a:solidFill>
                            <a:srgbClr val="b00040"/>
                          </a:solidFill>
                          <a:latin typeface="Consolas"/>
                          <a:ea typeface="Consolas"/>
                        </a:rPr>
                        <a:t>floa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te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temp = x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x = y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olas"/>
                          <a:ea typeface="Consolas"/>
                        </a:rPr>
                        <a:t>y = temp; 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38188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Passing arguments by refere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179280" y="1268280"/>
          <a:ext cx="7848720" cy="5159520"/>
        </p:xfrm>
        <a:graphic>
          <a:graphicData uri="http://schemas.openxmlformats.org/drawingml/2006/table">
            <a:tbl>
              <a:tblPr/>
              <a:tblGrid>
                <a:gridCol w="565200"/>
                <a:gridCol w="7283520"/>
              </a:tblGrid>
              <a:tr h="5159520">
                <a:tc>
                  <a:txBody>
                    <a:bodyPr lIns="41400" rIns="41400" tIns="18720" bIns="18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400" rIns="41400" tIns="18720" bIns="18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#include &lt;iostream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#include &lt;math.h&gt;    // for sin() and cos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Using namespace std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void GetSinCos(double dX, double &amp;dSin, double &amp;dC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dSin = sin(dX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dCos = cos(dX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int main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double dSin = 0.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double dCos = 0.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GetSinCos(30.0, dSin, dCos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out &lt;&lt; "The sin is " &lt;&lt; dSin &lt;&lt; endl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out &lt;&lt; "The cos is " &lt;&lt; dCos &lt;&lt; endl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return 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Advantages of passing by refere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It allows us to have the function </a:t>
            </a:r>
            <a:r>
              <a:rPr b="1" lang="en-GB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change</a:t>
            </a:r>
            <a:r>
              <a:rPr b="0" lang="en-GB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 the value of the argument, which is sometimes useful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Because a copy of the argument is not made, it is </a:t>
            </a:r>
            <a:r>
              <a:rPr b="1" lang="en-GB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fast</a:t>
            </a:r>
            <a:r>
              <a:rPr b="0" lang="en-GB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, even when used with large structus or classes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We can return multiple values from a function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Function Overloading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50560" y="1341000"/>
            <a:ext cx="843588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overload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Functions with same name and different parameters or return data typ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Should perform similar tasks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, function to squar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and function to squar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square( int x) {return x * x;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 square(float x) { return x * x; 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all-time c++ complier selects the proper function by examining the number, type and order of the parame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8381880" cy="10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Function overload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4041720" cy="17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Slide Number Placeholder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fld id="{5ED4CA48-D0DC-4E1B-A068-C84034A9F5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80520" y="1628640"/>
            <a:ext cx="4041720" cy="49658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#include </a:t>
            </a:r>
            <a:r>
              <a:rPr b="0" lang="en-GB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iostream&gt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ing namespace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d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oid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oC(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oid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oC(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loat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oid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oC(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uble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()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temp, level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loat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temp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uble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temp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</a:t>
            </a:r>
            <a:r>
              <a:rPr b="0" lang="en-GB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"CONVERTING FAHRENHEIT TO CELSIUS\n"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</a:t>
            </a:r>
            <a:r>
              <a:rPr b="0" lang="en-GB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"Select required level of precision\n"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</a:t>
            </a:r>
            <a:r>
              <a:rPr b="0" lang="en-GB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"Integer (1) - Float (2) - Double (3)\n"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n &gt;&gt; level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717800" y="1557360"/>
            <a:ext cx="4041720" cy="503712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</a:t>
            </a:r>
            <a:r>
              <a:rPr b="0" lang="en-GB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Enter Fahrenheit temperature: "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witch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level)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s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n &gt;&gt; inttemp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oC(inttemp)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rea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s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n &gt;&gt; floattemp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oC(floattemp)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rea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s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n &gt;&gt; doubletemp;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oC(doubletemp)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rea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efaul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cout &lt;&lt; </a:t>
            </a:r>
            <a:r>
              <a:rPr b="0" lang="en-GB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Invalid selection\n"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tur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38188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Function overload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Cont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9fb8cd"/>
              </a:solidFill>
              <a:latin typeface="Gill Sans MT"/>
            </a:endParaRPr>
          </a:p>
        </p:txBody>
      </p:sp>
      <p:sp>
        <p:nvSpPr>
          <p:cNvPr id="403" name="Slide Number Placeholder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fld id="{0EBA41AA-CD7C-4076-8E7A-A8302130F5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txBody>
          <a:bodyPr anchor="t">
            <a:normAutofit/>
          </a:bodyPr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oi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toC( 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emp)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mp = (itemp - 32) * 5 / 9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</a:t>
            </a:r>
            <a:r>
              <a:rPr b="0" lang="en-GB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Integer precision: "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itemp &lt;&lt;</a:t>
            </a:r>
            <a:r>
              <a:rPr b="0" lang="en-GB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"F is "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&lt; temp &lt;&lt;</a:t>
            </a:r>
            <a:r>
              <a:rPr b="0" lang="en-GB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"C\n"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oi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toC( 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loa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temp)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loa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mp = (ftemp - 32) * 5.0 / 9.0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 &lt;&lt;</a:t>
            </a:r>
            <a:r>
              <a:rPr b="0" lang="en-GB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"Float precision: "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ftemp &lt;&lt; </a:t>
            </a:r>
            <a:r>
              <a:rPr b="0" lang="en-GB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F is "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&lt; temp &lt;&lt; </a:t>
            </a:r>
            <a:r>
              <a:rPr b="0" lang="en-GB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C\n"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txBody>
          <a:bodyPr anchor="t">
            <a:normAutofit/>
          </a:bodyPr>
          <a:p>
            <a:pPr marL="117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oid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toC( </a:t>
            </a:r>
            <a:r>
              <a:rPr b="0" lang="en-GB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ubl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temp)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ubl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mp = (dtemp - 32) * 5.0 / 9.0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</a:t>
            </a:r>
            <a:r>
              <a:rPr b="0" lang="en-GB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Double precision : "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t &lt;&lt; dtemp &lt;&lt;</a:t>
            </a:r>
            <a:r>
              <a:rPr b="0" lang="en-GB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"F is "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&lt; temp &lt;&lt;</a:t>
            </a:r>
            <a:r>
              <a:rPr b="0" lang="en-GB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"C\n"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117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methods of pass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re are 2 primary methods of passing arguments to function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0000"/>
                </a:solidFill>
                <a:latin typeface="Gill Sans MT"/>
              </a:rPr>
              <a:t>pass by value,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Gill Sans MT"/>
              </a:rPr>
              <a:t>pass by reference,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Absolute valu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#include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lt;iostream&gt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nsolas"/>
                <a:ea typeface="Consolas"/>
              </a:rPr>
              <a:t>using namespace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std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absolute (</a:t>
            </a: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);</a:t>
            </a:r>
            <a:r>
              <a:rPr b="0" lang="en-US" sz="1600" spc="-1" strike="noStrike">
                <a:solidFill>
                  <a:srgbClr val="309670"/>
                </a:solidFill>
                <a:latin typeface="Consolas"/>
                <a:ea typeface="Consolas"/>
              </a:rPr>
              <a:t>// function prototype for absolute(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main(){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num, answer;    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cout &lt;&lt; "Enter an integer (0 to stop): "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cin &gt;&gt; num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while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(num!=0){        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nswer = absolute(num)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cout &lt;&lt; "The absolute value of " &lt;&lt; num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lt;&lt; " is: " &lt;&lt; answer &lt;&lt; endl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cin &gt;&gt; num;    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0;    }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9670"/>
                </a:solidFill>
                <a:latin typeface="Consolas"/>
                <a:ea typeface="Consolas"/>
              </a:rPr>
              <a:t>// Define a function to take absolute value of an integer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absolute(</a:t>
            </a: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x){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(x &gt;= 0)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x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nsolas"/>
                <a:ea typeface="Consola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-x; }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methods of pass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re are 2 primary methods of passing arguments to function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pass by value,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0000"/>
                </a:solidFill>
                <a:latin typeface="Gill Sans MT"/>
              </a:rPr>
              <a:t>pass by reference,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Passing arguments by refere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passing arguments by value, the only way to return a value back to the caller is via the function’s return valu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 this is suitable in many cases, there are a few cases where better options are availabl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Passing arguments by refere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600" y="1523880"/>
            <a:ext cx="50086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 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 by referen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e declare the function parameters as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ther than normal variables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2340000" y="2492280"/>
          <a:ext cx="5457960" cy="1873440"/>
        </p:xfrm>
        <a:graphic>
          <a:graphicData uri="http://schemas.openxmlformats.org/drawingml/2006/table">
            <a:tbl>
              <a:tblPr/>
              <a:tblGrid>
                <a:gridCol w="179280"/>
                <a:gridCol w="5278680"/>
              </a:tblGrid>
              <a:tr h="1873440">
                <a:tc>
                  <a:txBody>
                    <a:bodyPr lIns="33120" rIns="33120" tIns="18360" bIns="18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120" marR="3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3120" rIns="33120" tIns="18360" bIns="18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b0f0"/>
                          </a:solidFill>
                          <a:latin typeface="Consolas"/>
                        </a:rPr>
                        <a:t>void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 AddOne(int </a:t>
                      </a:r>
                      <a:r>
                        <a:rPr b="1" lang="es-ES" sz="2400" spc="-1" strike="noStrike">
                          <a:solidFill>
                            <a:srgbClr val="ff0000"/>
                          </a:solidFill>
                          <a:latin typeface="Consolas"/>
                        </a:rPr>
                        <a:t>&amp;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y) </a:t>
                      </a:r>
                      <a:r>
                        <a:rPr b="0" lang="es-ES" sz="1800" spc="-1" strike="noStrike">
                          <a:solidFill>
                            <a:srgbClr val="00b050"/>
                          </a:solidFill>
                          <a:latin typeface="Consolas"/>
                        </a:rPr>
                        <a:t>// y is a reference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y = y + 1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120" marR="3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3" name="Rectangle 6"/>
          <p:cNvSpPr/>
          <p:nvPr/>
        </p:nvSpPr>
        <p:spPr>
          <a:xfrm>
            <a:off x="395280" y="4437000"/>
            <a:ext cx="828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hen the function is called, y will become a reference to the argu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 reference to a variable is treated exactly the same as the variable itsel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Gill Sans MT"/>
              </a:rPr>
              <a:t>any changes made to the reference are passed through to the arg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838188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Passing arguments by refere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80880" y="1699920"/>
            <a:ext cx="836784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imes we need a function to return multiple valu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functions can only have one return valu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ay to return multiple values is using reference parame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38188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Cont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932000" y="404640"/>
            <a:ext cx="4041720" cy="457200"/>
          </a:xfrm>
          <a:prstGeom prst="rect">
            <a:avLst/>
          </a:prstGeom>
          <a:solidFill>
            <a:srgbClr val="d9e3eb">
              <a:alpha val="99000"/>
            </a:srgbClr>
          </a:solidFill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4067280" y="981000"/>
          <a:ext cx="4833720" cy="5594400"/>
        </p:xfrm>
        <a:graphic>
          <a:graphicData uri="http://schemas.openxmlformats.org/drawingml/2006/table">
            <a:tbl>
              <a:tblPr/>
              <a:tblGrid>
                <a:gridCol w="307800"/>
                <a:gridCol w="4525920"/>
              </a:tblGrid>
              <a:tr h="5594400">
                <a:tc>
                  <a:txBody>
                    <a:bodyPr lIns="35640" rIns="35640" tIns="18360" bIns="18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5640" rIns="35640" tIns="18360" bIns="18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70c0"/>
                          </a:solidFill>
                          <a:latin typeface="Consolas"/>
                        </a:rPr>
                        <a:t>void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 foo(int 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Consolas"/>
                        </a:rPr>
                        <a:t>&amp;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b050"/>
                          </a:solidFill>
                          <a:latin typeface="Consolas"/>
                        </a:rPr>
                        <a:t>// y is now a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out &lt;&lt; "y = " &lt;&lt; y &lt;&lt; end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y = 6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out &lt;&lt; "y = " &lt;&lt; y &lt;&lt; end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 </a:t>
                      </a:r>
                      <a:r>
                        <a:rPr b="0" lang="en-GB" sz="1800" spc="-1" strike="noStrike">
                          <a:solidFill>
                            <a:srgbClr val="00b050"/>
                          </a:solidFill>
                          <a:latin typeface="Consolas"/>
                        </a:rPr>
                        <a:t>// y is destroyed 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70c0"/>
                          </a:solidFill>
                          <a:latin typeface="Consolas"/>
                        </a:rPr>
                        <a:t>int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 main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int x = 5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out &lt;&lt; "x = " &lt;&lt; x &lt;&lt; end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foo(x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out &lt;&lt; "x = " &lt;&lt; x &lt;&lt; end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return 0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9" name=""/>
          <p:cNvSpPr txBox="1"/>
          <p:nvPr/>
        </p:nvSpPr>
        <p:spPr>
          <a:xfrm>
            <a:off x="-360" y="1483920"/>
            <a:ext cx="4041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rogram is the same as the one we used for the pass by value example, except foo’s parameter is now a reference instead of a normal variabl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we call foo(x), y becomes a reference to x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that the value of x was changed by the function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38224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Passing arguments by refere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4041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324000" y="1916280"/>
          <a:ext cx="5327640" cy="4152600"/>
        </p:xfrm>
        <a:graphic>
          <a:graphicData uri="http://schemas.openxmlformats.org/drawingml/2006/table">
            <a:tbl>
              <a:tblPr/>
              <a:tblGrid>
                <a:gridCol w="217440"/>
                <a:gridCol w="5110200"/>
              </a:tblGrid>
              <a:tr h="4152600">
                <a:tc>
                  <a:txBody>
                    <a:bodyPr lIns="36720" rIns="36720" tIns="18360" bIns="18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18360" bIns="18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void AddOne(int 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Consolas"/>
                        </a:rPr>
                        <a:t>&amp;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y++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int main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int x = 1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out &lt;&lt; "x = " &lt;&lt; x &lt;&lt; end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AddOne(x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out &lt;&lt; "x = " &lt;&lt; x &lt;&lt; end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return 0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13:12:57Z</dcterms:created>
  <dc:creator>ALjaffan</dc:creator>
  <dc:description/>
  <dc:language>en-US</dc:language>
  <cp:lastModifiedBy>Nouf</cp:lastModifiedBy>
  <dcterms:modified xsi:type="dcterms:W3CDTF">2017-03-02T07:51:24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6594AD1C67AF545A5960EF5B4D34DFC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