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EF8-D20B-4C3E-BFAD-36E9810021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397-284B-41FC-AF61-16FFF55A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9E9-4205-4440-8AEE-EEE74FD7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FDE-EB76-46B0-953F-3692DF68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D67-AC61-4892-9D1B-88C2040B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BEC-24E9-468C-A0AD-609EB8C0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7E14-6889-4C51-89A9-370EF70B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53F2-8851-4ED2-9F19-E76B721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4571-1E0C-45D2-8935-57A91820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65F7-2B81-4793-BE49-64DEF21D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161-35A3-40AC-9995-E9F87D83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2764-5777-433F-BFF2-0C8BF93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C4A-A902-4D73-B486-133BE49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3591-BC81-4382-8F50-E2863FD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96A-D3E9-4FAE-AC6C-26B3E03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4E61-DD57-4785-BE60-F40DA5B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48F0-7492-4E01-BA1B-4AB4911B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ED1D-C35C-4D41-B658-8E9D6F5F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126D-D927-4026-B266-74F1A01F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C634-4385-483C-BCB9-2A38090A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5DFC-682F-419B-A963-48D3A8A2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B317-C1D5-43D6-ADFF-68D1A849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B66F-DEB6-491F-9E33-BAD6089C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C98-0E92-455F-A2E5-6B7D5847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2EFD-1226-4B5B-8455-D458E80B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39A6-55DB-45B2-940C-8456E881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7689-B597-4998-9874-DCE60CB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706D-1A58-47F9-9883-AD9872B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5F04-48B9-40F6-B839-B635470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13B6-E260-499E-93CA-5D59BB91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3538-1CB1-4C1C-A437-A2759BC8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BB2C3-BA0D-4275-8866-941D5048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BE55-B25F-496E-A6E0-2071ABC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7FCD-08D0-4EE1-BE37-6FB5E873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1BE-65E4-418F-977A-79E16EB0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7460-4A77-4F97-A9DE-6FC4859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404A-9485-4364-AB15-C3750C5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F105-F3FA-4676-AB41-9018A54E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B30E-7375-4A9B-8CC5-695DEC4B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2988-85B3-4FAB-9AB6-43FE1BE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C1F7-175F-450C-A5C9-AEBE38D1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7CD7-B5B5-481B-8DC5-934F98F6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B8A8-67C9-4EB3-A9FE-EECD342A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CAAA-16C2-46A6-B392-955BC694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D7F5-6E35-472A-86CE-46EBCBA1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C52-F4CE-4047-B69D-DB10E479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011A-E67B-4481-B137-2570640D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3C12-02FA-4398-8875-555C2280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31DD-8184-440D-9A49-66BF1442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9BA0-DFCF-4E4E-9D74-EA908EB4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A5974-9878-4DFA-9DB1-1435482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D98E8-F8E5-4954-9E67-6D9B45F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9BC5-5966-41A0-9514-C42A373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96E08-ACCF-4619-844E-75CA85A0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E15D-06A3-4295-AFAB-1F02CBB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9F598-5A91-4DFD-96BB-E4939947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5C0-88C7-42A4-B408-D7345E5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F1E67-0874-49F6-AADC-69B96162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4E955-8810-44BF-8ADF-7D259E59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AE81-910A-44D4-8518-127001B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DC23-445B-453E-9363-E7B3C306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034A-9A98-4D7E-BCCE-02F4EB11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F712-A4B1-488E-B8AD-087CB95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CE262-0FA2-4D31-A02E-E88F1E0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EDAF-8299-4F69-A0E6-E1A46750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5264-3A78-49C8-8E00-17140A7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526D0-A57D-4EF5-BF8A-E6076C6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B18-352E-40E4-ACFA-21A5439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2EDC-9CC1-4CBC-80BC-A3111C53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AC3B-A513-4B72-A885-56BDA002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4A5C-CF24-4E61-A5C2-909BC07E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D8F9-B698-49D0-9BCC-A060ED73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4284-8037-4E7C-9979-9B9B193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FEBE3-1B9F-4A69-8ECB-B35D063C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94C2-A1A6-4485-A2CC-1F1F45B9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C718-94E4-482E-B417-0E3BF14A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84BA6-1753-438A-9045-6E901E67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9310-919B-4534-B825-C70B50A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0EE-E359-4BD7-B628-FB372A2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7D42-3289-4C69-A71A-3589EE56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CD075-4B36-4BA4-A12A-B60980B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F356-AE62-4687-B054-FC0B261F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6D5E-CB91-45B2-99FB-D8E3D213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FDF2-D758-404E-9E70-31A072CB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2CF8-8A6F-4C45-A550-5A8F3692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32A44-6A67-4937-BCF6-52EFEE95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DC4D4-8E69-4AD5-9EC1-67FAD76D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AF57-163D-4903-B1B9-C777A5F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43EF-3221-4C03-BFA5-9A978EDD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9B2-56DA-431C-9EE4-6AF4832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6523-FAC6-4C9C-9629-F65A599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F0A2A-029E-47B3-B7F0-50CFB87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3F243-F795-484D-A9B1-9EA0E264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85A6D-67ED-41B3-B101-17AE3A8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16BE0-FDC0-45CB-A7D3-E288EFC3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BC9F-4D78-4B20-A938-3B05EC68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3CFF1-9B24-4712-BF5A-A1F93386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B6F-2EB0-4BB8-BAE0-48F74C949172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AB2-8E94-43C7-AF59-C921FA6A2628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0ACD-F73D-423B-BDC2-EA08A812C83D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3A59-AD22-4CCA-9DED-99A830195CCF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30B-45F8-4941-B0A3-715685A7E49B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D956-58A8-4D9A-9ACD-2AE6E48C245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C444-5ADD-4837-82A3-948C6757127E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D450-3B60-441E-82F1-754C8C78212A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4952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I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y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ed by : Nouf  Almuny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79640" y="1341360"/>
          <a:ext cx="6337440" cy="4426200"/>
        </p:xfrm>
        <a:graphic>
          <a:graphicData uri="http://schemas.openxmlformats.org/drawingml/2006/table">
            <a:tbl>
              <a:tblPr/>
              <a:tblGrid>
                <a:gridCol w="258840"/>
                <a:gridCol w="6078600"/>
              </a:tblGrid>
              <a:tr h="44262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, 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b, 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c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main 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=1,y=3,z=7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uplicate (x,y,z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“x=“&lt;&lt;x&lt;&lt;“, y=“&lt;&lt;y&lt;&lt;“,z=“&lt;&lt;z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&amp; a, int&amp; b, int &amp; 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*=2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835280" y="1197000"/>
          <a:ext cx="6984720" cy="4968720"/>
        </p:xfrm>
        <a:graphic>
          <a:graphicData uri="http://schemas.openxmlformats.org/drawingml/2006/table">
            <a:tbl>
              <a:tblPr/>
              <a:tblGrid>
                <a:gridCol w="285480"/>
                <a:gridCol w="6699240"/>
              </a:tblGrid>
              <a:tr h="496872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main(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a, b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Enter 2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endl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in &gt;&gt; a &gt;&gt;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(a&gt;b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swap(a,b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Sorted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; cout &lt;&lt; a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b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retur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0; 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{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te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temp = x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x = 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y = temp;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1268280"/>
          <a:ext cx="7848720" cy="5159520"/>
        </p:xfrm>
        <a:graphic>
          <a:graphicData uri="http://schemas.openxmlformats.org/drawingml/2006/table">
            <a:tbl>
              <a:tblPr/>
              <a:tblGrid>
                <a:gridCol w="565200"/>
                <a:gridCol w="7283520"/>
              </a:tblGrid>
              <a:tr h="5159520">
                <a:tc>
                  <a:txBody>
                    <a:bodyPr lIns="41400" rIns="41400" tIns="18720" bIns="18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18720" bIns="18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math.h&gt;    // for sin() and co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GetSinCos(double dX, double &amp;dSin, double &amp;d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Sin = sin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Cos = cos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Sin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Cos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GetSinCos(30.0, dSin, dCo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sin is " &lt;&lt; dSin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cos is " &lt;&lt; dCos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Advantages of passing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t allows us to have the function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hange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the value of the argument, which is sometimes usefu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ecause a copy of the argument is not made, it is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ast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, even when used with large structus or class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We can return multiple values from a functio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560" y="1341000"/>
            <a:ext cx="843588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s with same name and different parameters or return data typ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Should perform similar task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ll-time c++ complier selects the proper function by examining the number, type and order of the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38188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041720" cy="17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77475781-F51F-4F7F-94AB-9953C6A3CE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520" y="1628640"/>
            <a:ext cx="4041720" cy="49658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#include </a:t>
            </a:r>
            <a:r>
              <a:rPr b="0" lang="en-GB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ing namesp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temp,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ONVERTING FAHRENHEIT TO CELSIUS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Select required level of precision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Integer (1) - Float (2) - Double (3)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17800" y="1557360"/>
            <a:ext cx="4041720" cy="503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Enter Fahrenheit temperature: 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vel)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in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in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floa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floa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double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doubletemp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aul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valid selection\n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Co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9fb8cd"/>
              </a:solidFill>
              <a:latin typeface="Gill Sans MT"/>
            </a:endParaRPr>
          </a:p>
        </p:txBody>
      </p:sp>
      <p:sp>
        <p:nvSpPr>
          <p:cNvPr id="40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566169A3-D710-423F-B785-88ADD6BD7D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itemp - 32) * 5 / 9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teger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i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ftemp - 32) * 5.0 / 9.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loat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f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emp)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dtemp - 32) * 5.0 / 9.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Double precision :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d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bsolute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#includ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nsolas"/>
                <a:ea typeface="Consolas"/>
              </a:rPr>
              <a:t>using namespac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 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);</a:t>
            </a: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function prototype for absolute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ain(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num, answer;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Enter an integer (0 to stop): "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num!=0){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nswer = absolute(num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The absolute value of " &lt;&lt; num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&lt; " is: " &lt;&lt; answer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    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;   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Define a function to take absolute value of an integer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x &gt;= 0)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-x;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assing arguments by value, the only way to return a value back to the caller is via the function’s return val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is is suitable in many cases, there are a few cases where better options are avail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600" y="1523880"/>
            <a:ext cx="50086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by refer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declare the function parameters 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ormal variabl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40000" y="2492280"/>
          <a:ext cx="5457960" cy="1873440"/>
        </p:xfrm>
        <a:graphic>
          <a:graphicData uri="http://schemas.openxmlformats.org/drawingml/2006/table">
            <a:tbl>
              <a:tblPr/>
              <a:tblGrid>
                <a:gridCol w="179280"/>
                <a:gridCol w="5278680"/>
              </a:tblGrid>
              <a:tr h="1873440">
                <a:tc>
                  <a:txBody>
                    <a:bodyPr lIns="33120" rIns="331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120" rIns="331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b0f0"/>
                          </a:solidFill>
                          <a:latin typeface="Consolas"/>
                        </a:rPr>
                        <a:t>voi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ddOne(int </a:t>
                      </a: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 </a:t>
                      </a:r>
                      <a:r>
                        <a:rPr b="0" lang="es-ES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a reference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y +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6"/>
          <p:cNvSpPr/>
          <p:nvPr/>
        </p:nvSpPr>
        <p:spPr>
          <a:xfrm>
            <a:off x="395280" y="443700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en the function is called, y will become a reference to the arg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 reference to a variable is treated exactly the same as the variable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Gill Sans MT"/>
              </a:rPr>
              <a:t>any changes made to the reference are passed through to the arg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1699920"/>
            <a:ext cx="836784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need a function to return multiple valu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functions can only have one return val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return multiple values is using reference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ont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32000" y="404640"/>
            <a:ext cx="4041720" cy="457200"/>
          </a:xfrm>
          <a:prstGeom prst="rect">
            <a:avLst/>
          </a:prstGeom>
          <a:solidFill>
            <a:srgbClr val="d9e3eb">
              <a:alpha val="99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067280" y="981000"/>
          <a:ext cx="4833720" cy="5594400"/>
        </p:xfrm>
        <a:graphic>
          <a:graphicData uri="http://schemas.openxmlformats.org/drawingml/2006/table">
            <a:tbl>
              <a:tblPr/>
              <a:tblGrid>
                <a:gridCol w="307800"/>
                <a:gridCol w="4525920"/>
              </a:tblGrid>
              <a:tr h="5594400">
                <a:tc>
                  <a:txBody>
                    <a:bodyPr lIns="35640" rIns="3564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void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foo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now a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6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destroyed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i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foo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9" name=""/>
          <p:cNvSpPr txBox="1"/>
          <p:nvPr/>
        </p:nvSpPr>
        <p:spPr>
          <a:xfrm>
            <a:off x="-360" y="1483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gram is the same as the one we used for the pass by value example, except foo’s parameter is now a reference instead of a normal var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call foo(x), y becomes a reference to x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value of x was changed by the function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24000" y="1916280"/>
          <a:ext cx="5327640" cy="4152600"/>
        </p:xfrm>
        <a:graphic>
          <a:graphicData uri="http://schemas.openxmlformats.org/drawingml/2006/table">
            <a:tbl>
              <a:tblPr/>
              <a:tblGrid>
                <a:gridCol w="217440"/>
                <a:gridCol w="5110200"/>
              </a:tblGrid>
              <a:tr h="41526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AddOne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++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ddOne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3:12:57Z</dcterms:created>
  <dc:creator>ALjaffan</dc:creator>
  <dc:description/>
  <dc:language>en-US</dc:language>
  <cp:lastModifiedBy>Nouf</cp:lastModifiedBy>
  <dcterms:modified xsi:type="dcterms:W3CDTF">2017-03-02T07:51:2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