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310F-2E87-477C-B4B7-300D9FA2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1456-1ACF-467F-9CA6-5677A852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A143-1D86-4D85-852A-57CB08DA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82376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19032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182376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319032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FFAE-99E9-4B74-BCA6-76850038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FDD8-E0A2-4299-A4DC-CA014FFD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90F7-02B0-47B1-AC41-23566B06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0739-81F1-4130-94FB-5D650D97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AB90-C5C9-4171-AFF7-E1F8C199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541A-C531-47AC-AFB1-C118AC2E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2A9E-EC7C-4B30-A742-3EF82DAA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C148-19C3-4729-8332-CC535383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6B2D-0FEC-4F2E-A11E-71E200AB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94C8-B9FE-4C39-A371-B8760453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020C-FD3A-4D1F-B892-5FC7BD72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673D-F646-436F-AA8B-50EF5B2D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C870-6C1D-4DE7-A5EC-B53C21EA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82376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19032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182376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319032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A13D-A125-4879-AC57-CA6F7C1D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E1A9B-9C84-49D2-A785-087C3D76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2B41D-0708-447A-B48A-C5E3AD7A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0A404-A829-4561-A4EF-EE57E4F0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D0BBA-B214-4DB2-8948-78B5561F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E09E2-AB73-41F5-ADB4-5EE711A5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9A0E-86AE-42D6-B0BB-E5078AE2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861BD-F4C2-49B8-A7E9-B94F3181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110A6-DC5C-4239-B1CD-1DFA1616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DDE91-11C1-40C9-9699-7600F29F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ECBF2-5445-4C4C-9C5C-41E9D08E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CE7D0-C4D4-41BD-9E5A-50F2DA54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5EAFF-9029-4E65-952F-B836A85E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82376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19032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182376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319032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58381-1388-447D-B107-9CF478FD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BC7AF-05BD-445E-A238-59FBEEC3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6642C-67ED-43D0-86E9-E8AE65ED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1CA8E-D935-4FC5-9062-05F9B27C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D83-06C1-4448-817E-1DF884A3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C0013-6BDF-43BD-BC2A-F44B0D1D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62293-9124-4636-836D-1CE6DC1D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55D3B-090B-47F6-BC82-C86AA513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8D080-E37A-4593-A7B5-FA762E03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AB448-A94D-435F-9492-AD85953B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2050B-25AC-4F78-BEBC-F07801AB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0DE6D-92CB-4BBA-8DE7-35576B05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628D6-AE8D-4EF7-839A-92DDFBD6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82376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19032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182376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319032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14844-58DB-4118-9DDB-BB61C9DF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F41A-0882-4F35-9E8A-AD241FBD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27D0-446A-4151-969E-C2BC2864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B825-8A2C-4D69-BE94-8E19B12C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64E9-6BD3-420E-ABEE-105B4DF4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B73E-D495-456C-BEFE-1C81BE58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19EBED1-B716-4C01-B0C3-31E2B6851CBB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05D48EE-EE83-40A9-8B84-344044DEE5AC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285920"/>
            <a:ext cx="403992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/>
                </a:solidFill>
                <a:latin typeface="Gill Sans MT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body"/>
          </p:nvPr>
        </p:nvSpPr>
        <p:spPr>
          <a:xfrm>
            <a:off x="4648320" y="1295280"/>
            <a:ext cx="404136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/>
                </a:solidFill>
                <a:latin typeface="Gill Sans MT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F9FEF24-F845-4843-97D3-82DD9ADEB986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 type="body"/>
          </p:nvPr>
        </p:nvSpPr>
        <p:spPr>
          <a:xfrm>
            <a:off x="457200" y="2133720"/>
            <a:ext cx="403812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8"/>
          <p:cNvSpPr>
            <a:spLocks noGrp="1"/>
          </p:cNvSpPr>
          <p:nvPr>
            <p:ph type="body"/>
          </p:nvPr>
        </p:nvSpPr>
        <p:spPr>
          <a:xfrm>
            <a:off x="4648320" y="2133720"/>
            <a:ext cx="403812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85351E3-2793-46F8-AF57-2E8519058042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Pointer Data Type and Pointer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Dereferencing Operator (*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ferred to as indirection operat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fers to the object to which its operand (that is, the pointer) poin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For example, given the statement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899640" y="4073400"/>
            <a:ext cx="7344000" cy="2235600"/>
          </a:xfrm>
          <a:prstGeom prst="rect">
            <a:avLst/>
          </a:prstGeom>
          <a:ln w="0">
            <a:noFill/>
          </a:ln>
        </p:spPr>
      </p:pic>
      <p:grpSp>
        <p:nvGrpSpPr>
          <p:cNvPr id="208" name="Group 8"/>
          <p:cNvGrpSpPr/>
          <p:nvPr/>
        </p:nvGrpSpPr>
        <p:grpSpPr>
          <a:xfrm>
            <a:off x="6732360" y="3645000"/>
            <a:ext cx="2088000" cy="802800"/>
            <a:chOff x="6732360" y="3645000"/>
            <a:chExt cx="2088000" cy="802800"/>
          </a:xfrm>
        </p:grpSpPr>
        <p:sp>
          <p:nvSpPr>
            <p:cNvPr id="209" name="Rectangle 3"/>
            <p:cNvSpPr/>
            <p:nvPr/>
          </p:nvSpPr>
          <p:spPr>
            <a:xfrm>
              <a:off x="6732360" y="4042440"/>
              <a:ext cx="481680" cy="405360"/>
            </a:xfrm>
            <a:prstGeom prst="rect">
              <a:avLst/>
            </a:prstGeom>
            <a:solidFill>
              <a:srgbClr val="727ca3"/>
            </a:solidFill>
            <a:ln>
              <a:solidFill>
                <a:srgbClr val="545b7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8250480" y="4042440"/>
              <a:ext cx="481680" cy="405360"/>
            </a:xfrm>
            <a:prstGeom prst="rect">
              <a:avLst/>
            </a:prstGeom>
            <a:solidFill>
              <a:srgbClr val="d2da7a"/>
            </a:solidFill>
            <a:ln>
              <a:solidFill>
                <a:srgbClr val="9ba15a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800" spc="-1" strike="noStrike">
                  <a:solidFill>
                    <a:schemeClr val="lt1"/>
                  </a:solidFill>
                  <a:latin typeface="Gill Sans MT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1" name="Straight Arrow Connector 6"/>
            <p:cNvCxnSpPr>
              <a:stCxn id="209" idx="3"/>
              <a:endCxn id="210" idx="1"/>
            </p:cNvCxnSpPr>
            <p:nvPr/>
          </p:nvCxnSpPr>
          <p:spPr>
            <a:xfrm>
              <a:off x="7214040" y="4245120"/>
              <a:ext cx="1036440" cy="360"/>
            </a:xfrm>
            <a:prstGeom prst="straightConnector1">
              <a:avLst/>
            </a:prstGeom>
            <a:ln>
              <a:solidFill>
                <a:srgbClr val="727ca3"/>
              </a:solidFill>
              <a:round/>
              <a:tailEnd len="med" type="arrow" w="med"/>
            </a:ln>
          </p:spPr>
        </p:cxnSp>
        <p:sp>
          <p:nvSpPr>
            <p:cNvPr id="212" name="TextBox 7"/>
            <p:cNvSpPr/>
            <p:nvPr/>
          </p:nvSpPr>
          <p:spPr>
            <a:xfrm>
              <a:off x="8338680" y="3645000"/>
              <a:ext cx="481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GB" sz="1800" spc="-1" strike="noStrike">
                  <a:solidFill>
                    <a:srgbClr val="000000"/>
                  </a:solidFill>
                  <a:latin typeface="Gill Sans M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9"/>
            <p:cNvSpPr/>
            <p:nvPr/>
          </p:nvSpPr>
          <p:spPr>
            <a:xfrm>
              <a:off x="6732360" y="3645000"/>
              <a:ext cx="481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GB" sz="1800" spc="-1" strike="noStrike">
                  <a:solidFill>
                    <a:srgbClr val="000000"/>
                  </a:solidFill>
                  <a:latin typeface="Gill Sans MT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10"/>
          <p:cNvSpPr/>
          <p:nvPr/>
        </p:nvSpPr>
        <p:spPr>
          <a:xfrm>
            <a:off x="467640" y="5301360"/>
            <a:ext cx="5688360" cy="115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x-none" sz="1800" spc="-1" strike="noStrike">
              <a:solidFill>
                <a:schemeClr val="lt1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Dereferencing Operator (*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et us consider the following statem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43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In these statements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8" marL="4000680" indent="-4572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5000"/>
              <a:buFont typeface="Wingdings 3" charset="2"/>
              <a:buChar char=""/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 is a pointer variable of type </a:t>
            </a:r>
            <a:r>
              <a:rPr b="1" lang="en-GB" sz="1800" spc="-1" strike="noStrike">
                <a:solidFill>
                  <a:srgbClr val="000000"/>
                </a:solidFill>
                <a:latin typeface="Gill Sans MT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8" marL="4000680" indent="-4572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5000"/>
              <a:buFont typeface="Wingdings 3" charset="2"/>
              <a:buChar char=""/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ill Sans MT"/>
              </a:rPr>
              <a:t>num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 is a variable of type </a:t>
            </a:r>
            <a:r>
              <a:rPr b="1" lang="en-GB" sz="1800" spc="-1" strike="noStrike">
                <a:solidFill>
                  <a:srgbClr val="000000"/>
                </a:solidFill>
                <a:latin typeface="Gill Sans MT"/>
              </a:rPr>
              <a:t>int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et us assume that memory location 1200 is allocated for p, and memory location 1800 is allocated for nu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1187640" y="2026440"/>
            <a:ext cx="2180520" cy="682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2"/>
          <a:stretch/>
        </p:blipFill>
        <p:spPr>
          <a:xfrm>
            <a:off x="2482920" y="4869000"/>
            <a:ext cx="3885840" cy="120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3640" y="7632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Dereferencing Operator (*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94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onsider the following statemen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57160" indent="-4572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Bookman Old Style"/>
              <a:buAutoNum type="arabicPeriod"/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num = 78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57160" indent="-4572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Bookman Old Style"/>
              <a:buAutoNum type="arabicPeriod"/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p = &amp;num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57160" indent="-4572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Bookman Old Style"/>
              <a:buAutoNum type="arabicPeriod"/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*p = 24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4500000" y="2421000"/>
            <a:ext cx="3142800" cy="818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/>
          <p:cNvPicPr/>
          <p:nvPr/>
        </p:nvPicPr>
        <p:blipFill>
          <a:blip r:embed="rId2"/>
          <a:stretch/>
        </p:blipFill>
        <p:spPr>
          <a:xfrm>
            <a:off x="4515480" y="3501000"/>
            <a:ext cx="3152520" cy="790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3"/>
          <a:stretch/>
        </p:blipFill>
        <p:spPr>
          <a:xfrm>
            <a:off x="4559040" y="4581000"/>
            <a:ext cx="3180960" cy="894960"/>
          </a:xfrm>
          <a:prstGeom prst="rect">
            <a:avLst/>
          </a:prstGeom>
          <a:ln w="0">
            <a:noFill/>
          </a:ln>
        </p:spPr>
      </p:pic>
      <p:sp>
        <p:nvSpPr>
          <p:cNvPr id="224" name="Right Arrow 3"/>
          <p:cNvSpPr/>
          <p:nvPr/>
        </p:nvSpPr>
        <p:spPr>
          <a:xfrm>
            <a:off x="3132000" y="2493000"/>
            <a:ext cx="791640" cy="409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ada7a"/>
          </a:solidFill>
          <a:ln>
            <a:solidFill>
              <a:srgbClr val="b8a15a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25" name="Right Arrow 8"/>
          <p:cNvSpPr/>
          <p:nvPr/>
        </p:nvSpPr>
        <p:spPr>
          <a:xfrm>
            <a:off x="3132000" y="3630600"/>
            <a:ext cx="791640" cy="409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ada7a"/>
          </a:solidFill>
          <a:ln>
            <a:solidFill>
              <a:srgbClr val="b8a15a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26" name="Right Arrow 9"/>
          <p:cNvSpPr/>
          <p:nvPr/>
        </p:nvSpPr>
        <p:spPr>
          <a:xfrm>
            <a:off x="3129480" y="4675680"/>
            <a:ext cx="791640" cy="409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ada7a"/>
          </a:solidFill>
          <a:ln>
            <a:solidFill>
              <a:srgbClr val="b8a15a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74760" y="4464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63680"/>
            <a:ext cx="8229240" cy="5017320"/>
          </a:xfrm>
          <a:prstGeom prst="rect">
            <a:avLst/>
          </a:prstGeom>
          <a:solidFill>
            <a:schemeClr val="lt1"/>
          </a:solidFill>
          <a:ln w="19080">
            <a:solidFill>
              <a:srgbClr val="9fb8cd"/>
            </a:solidFill>
            <a:round/>
          </a:ln>
        </p:spPr>
        <p:txBody>
          <a:bodyPr lIns="90000" rIns="90000" tIns="45000" bIns="45000" anchor="t">
            <a:normAutofit fontScale="90000"/>
          </a:bodyPr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#include </a:t>
            </a: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&lt;iostream&gt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#include </a:t>
            </a: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&lt;string&gt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using namespace std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Courier New"/>
              </a:rPr>
              <a:t>//===============================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int main(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int *p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int x = 37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out &lt;&lt;</a:t>
            </a: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"x=  " &lt;&lt; x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p=&amp;x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fr-FR" sz="1400" spc="-1" strike="noStrike">
                <a:solidFill>
                  <a:srgbClr val="a31515"/>
                </a:solidFill>
                <a:latin typeface="Courier New"/>
              </a:rPr>
              <a:t>cout &lt;&lt;"*p=  "&lt;&lt; *p &lt;&lt;"  , x= "&lt;&lt;x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*p=85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fr-FR" sz="1400" spc="-1" strike="noStrike">
                <a:solidFill>
                  <a:srgbClr val="a31515"/>
                </a:solidFill>
                <a:latin typeface="Courier New"/>
              </a:rPr>
              <a:t>cout &lt;&lt;"*P=  " &lt;&lt;*p &lt;&lt;"  , x=  "&lt;&lt;x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cout &lt;&lt;" Address of p is :  "&lt;&lt; &amp;p 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cout&lt;&lt;"value of p :  "&lt;&lt; p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cout&lt;&lt; " value of memory location pointed to by *p =  "&lt;&lt;*p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cout&lt;&lt;"Address of X =  " &lt;&lt; &amp;x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cout &lt;&lt;" Value of x =   " &lt;&lt; x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611640" y="1556640"/>
            <a:ext cx="7540560" cy="3040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ummary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3" name="Content Placeholder 3" descr="Screen shot 2013-03-11 at 10.11.37 PM.png"/>
          <p:cNvPicPr/>
          <p:nvPr/>
        </p:nvPicPr>
        <p:blipFill>
          <a:blip r:embed="rId1"/>
          <a:stretch/>
        </p:blipFill>
        <p:spPr>
          <a:xfrm>
            <a:off x="571680" y="2614680"/>
            <a:ext cx="8000640" cy="21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Initializing Pointer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++ does not automatically initialize variab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ointer variables must be initialized if you do not want them to point to anyth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ointer variables are initialized using  the following two statements 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p = NULL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p = 0 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number 0 is the only number that can be directly assigned to a pointer variab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Operations on Pointer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value of one pointer variable can be assigned to another pointer variable of the same typ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wo pointer variables of the same type can be compared for equality, and so o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eger values can be added and subtracted from a pointer variabl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value of one pointer variable can be subtracted from another pointer variab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Operations on Pointer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420624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pies the value of q into p. After this statement executes, both p and q point to the same memory locatio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ny changes made to *p automatically change the value of *q, and vice vers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92120" y="1882440"/>
            <a:ext cx="8270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expressio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 == q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evaluates to true if p and q have the same value—that is, if they point to the same memory locatio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imilarly, the expressio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 != q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evaluates to true if p and q point to different memory locatio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1560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ointer Data Type and Pointer Variabl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ointer Declar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ointer Operat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itializing Pointer Variab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perations on Pointer Variab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Functions and Point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lasses, Structs, and Pointer Variab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Decrement and incr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2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0"/>
          </a:bodyPr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++ increments the value of a pointer variable by the size of the memory to which it is point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imilarly, --  the value of a pointer variable by the size of the memory to which it is point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o explain the increment and decrement operations on pointer variable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call that the size of the memory allocated for 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588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int variable is 4 byte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88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 double variable is 8 byte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88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 char variable is 1 byte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88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studentType is 40 byt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755640" y="3124080"/>
            <a:ext cx="7333920" cy="117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Decrement and incr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statemen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5400" indent="-2754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++; or p = p + 1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5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increments the value of p by 4 bytes because p is a pointer of type int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imilarly, the statement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5400" indent="-2754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q++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5400" indent="-2754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hPtr++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5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increment the value of q by 8 bytes and the value of chPtr by 1 byte, respectively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statemen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5400" indent="-2754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tdPtr++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5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increments the value of stdPtr by 40 byt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Moreover, the statemen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 = p + 2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crements the value of p by 8 byt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us, when an integer is added to a pointer variable, the value of the pointer variable is incremented by the integer times the size of the memory that the pointer is pointing to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imilarly, when an integer is subtracted from a pointer variable, the value of the pointer variable is decremented by the integer times the size of the memory to which the pointer is point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ointer arithmetic can be very dangerou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program can accidentally access the memory locations of other variables and change their content without warning. leaving the programmer trying to find out what went wro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Functions and Point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 pointer variable can be passed as a parameter to a function either by value or by referen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the function pointerParameters, both p and q are pointers. The parameter p is a reference parameter; the parameter q is a value paramet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Furthermore, the function pointerParameters can change the value of *q, but not the value of q. However, the function pointerParameters can change the value of both p and *p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971640" y="2286000"/>
            <a:ext cx="561636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52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2000"/>
          </a:bodyPr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#include </a:t>
            </a: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using namespace 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void f(int *j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int main(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int i =0 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int *p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p = &amp;i; </a:t>
            </a:r>
            <a:r>
              <a:rPr b="0" lang="en-GB" sz="2600" spc="-1" strike="noStrike">
                <a:solidFill>
                  <a:srgbClr val="008000"/>
                </a:solidFill>
                <a:latin typeface="Courier New"/>
              </a:rPr>
              <a:t>// p now points to 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8000"/>
                </a:solidFill>
                <a:latin typeface="Courier New"/>
              </a:rPr>
              <a:t>cout&lt;&lt;</a:t>
            </a: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"*p is " &lt;&lt; *p&lt;&lt;endl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&lt;&lt; "i= " &lt;&lt; i &lt;&lt;end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f(p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cout &lt;&lt; "i is  " &lt;&lt; i &lt;&lt; endl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return 0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void f(int *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*j = 100; </a:t>
            </a:r>
            <a:r>
              <a:rPr b="0" lang="en-GB" sz="2600" spc="-1" strike="noStrike">
                <a:solidFill>
                  <a:srgbClr val="008000"/>
                </a:solidFill>
                <a:latin typeface="Courier New"/>
              </a:rPr>
              <a:t>// var pointed to by j is assigned 100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8000"/>
                </a:solidFill>
                <a:latin typeface="Courier New"/>
              </a:rPr>
              <a:t>cout &lt;&lt;</a:t>
            </a: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"*j is  : "&lt;&lt; *j&lt;&lt;end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3852000" y="1124640"/>
            <a:ext cx="5133600" cy="194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Functions and Point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assing a pointer as an argument to a function is in some ways similar to passing a referen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y both permit the variable in the calling program to be modified by the function. However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mechanism is different. A reference is an alias for the original variable, while a pointer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address of the variab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ointers and Function Return Valu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C++, the return type of a function can be a pointer. For example, the return type of the functio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2699640" y="2666880"/>
            <a:ext cx="3960000" cy="32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24000" y="83664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ampl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207360"/>
            <a:ext cx="8229240" cy="65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#include </a:t>
            </a: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&lt;iostream&gt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using namespace std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double * GetSalary(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double salary = 26.48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double *HourlySalary = &amp;salary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return HourlySalary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double hours  = 46.5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double salary = *GetSalary(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out &lt;&lt; </a:t>
            </a: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"Weekly Hours:  " &lt;&lt; hours &lt;&lt; 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cout &lt;&lt; "Hourly Salary: " &lt;&lt; salary &lt;&lt; 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double WeeklySalary = hours * salary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out &lt;&lt; </a:t>
            </a: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"Weekly Salary: " &lt;&lt; WeeklySalary &lt;&lt; 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475640" y="2493000"/>
            <a:ext cx="6552000" cy="2341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ointer Data Type and Pointer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++’s data types are classified into three categorie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Simpl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Structured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Pointer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1640" y="332640"/>
            <a:ext cx="838152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Classes, Structs, and Pointer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1640" y="1412640"/>
            <a:ext cx="4098600" cy="4568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rmAutofit fontScale="54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2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chemeClr val="accent2"/>
                </a:solidFill>
                <a:latin typeface="Gill Sans MT"/>
              </a:rPr>
              <a:t>by default, all members of a class are priva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4000" y="1412640"/>
            <a:ext cx="4041360" cy="4568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rmAutofit fontScale="54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2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chemeClr val="accent2"/>
                </a:solidFill>
                <a:latin typeface="Gill Sans MT"/>
              </a:rPr>
              <a:t>by default, all members of a struct are publi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2174760"/>
            <a:ext cx="4039920" cy="4278240"/>
          </a:xfrm>
          <a:prstGeom prst="rect">
            <a:avLst/>
          </a:prstGeom>
          <a:solidFill>
            <a:schemeClr val="lt1"/>
          </a:solidFill>
          <a:ln w="19080">
            <a:solidFill>
              <a:srgbClr val="fada7a"/>
            </a:solidFill>
            <a:round/>
          </a:ln>
        </p:spPr>
        <p:txBody>
          <a:bodyPr lIns="90000" rIns="90000" tIns="45000" bIns="45000" anchor="t">
            <a:normAutofit fontScale="9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600" spc="-1" strike="noStrike">
                <a:solidFill>
                  <a:schemeClr val="dk1"/>
                </a:solidFill>
                <a:latin typeface="Gill Sans MT"/>
              </a:rPr>
              <a:t>Class </a:t>
            </a:r>
            <a:r>
              <a:rPr b="1" lang="en-GB" sz="2600" spc="-1" strike="noStrike">
                <a:solidFill>
                  <a:srgbClr val="a57b6e"/>
                </a:solidFill>
                <a:latin typeface="Gill Sans MT"/>
              </a:rPr>
              <a:t>studentTyp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char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name[26]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double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GPA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int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sID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char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grade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600" spc="-1" strike="noStrike">
                <a:solidFill>
                  <a:srgbClr val="a57b6e"/>
                </a:solidFill>
                <a:latin typeface="Gill Sans MT"/>
              </a:rPr>
              <a:t>studentType  </a:t>
            </a: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studen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600" spc="-1" strike="noStrike">
                <a:solidFill>
                  <a:srgbClr val="a57b6e"/>
                </a:solidFill>
                <a:latin typeface="Gill Sans MT"/>
              </a:rPr>
              <a:t>studentType </a:t>
            </a: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*studentPtr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45080" y="2174760"/>
            <a:ext cx="4041360" cy="4278240"/>
          </a:xfrm>
          <a:prstGeom prst="rect">
            <a:avLst/>
          </a:prstGeom>
          <a:solidFill>
            <a:schemeClr val="lt1"/>
          </a:solidFill>
          <a:ln w="19080">
            <a:solidFill>
              <a:srgbClr val="d2da7a"/>
            </a:solidFill>
            <a:round/>
          </a:ln>
        </p:spPr>
        <p:txBody>
          <a:bodyPr lIns="90000" rIns="90000" tIns="45000" bIns="45000" anchor="t">
            <a:normAutofit fontScale="9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600" spc="-1" strike="noStrike">
                <a:solidFill>
                  <a:schemeClr val="dk1"/>
                </a:solidFill>
                <a:latin typeface="Gill Sans MT"/>
              </a:rPr>
              <a:t>struct</a:t>
            </a: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 </a:t>
            </a:r>
            <a:r>
              <a:rPr b="1" lang="en-GB" sz="2600" spc="-1" strike="noStrike">
                <a:solidFill>
                  <a:srgbClr val="a57b6e"/>
                </a:solidFill>
                <a:latin typeface="Gill Sans MT"/>
              </a:rPr>
              <a:t>studentTyp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char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name[26]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double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GPA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int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sID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char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grade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600" spc="-1" strike="noStrike">
                <a:solidFill>
                  <a:srgbClr val="a57b6e"/>
                </a:solidFill>
                <a:latin typeface="Gill Sans MT"/>
              </a:rPr>
              <a:t>studentType </a:t>
            </a: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studen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600" spc="-1" strike="noStrike">
                <a:solidFill>
                  <a:srgbClr val="a57b6e"/>
                </a:solidFill>
                <a:latin typeface="Gill Sans MT"/>
              </a:rPr>
              <a:t>studentType </a:t>
            </a: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*studentPtr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Right Brace 8"/>
          <p:cNvSpPr/>
          <p:nvPr/>
        </p:nvSpPr>
        <p:spPr>
          <a:xfrm>
            <a:off x="6732360" y="3529800"/>
            <a:ext cx="503640" cy="136764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727ca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TextBox 9"/>
          <p:cNvSpPr/>
          <p:nvPr/>
        </p:nvSpPr>
        <p:spPr>
          <a:xfrm>
            <a:off x="3348000" y="3812040"/>
            <a:ext cx="46116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ight Brace 10"/>
          <p:cNvSpPr/>
          <p:nvPr/>
        </p:nvSpPr>
        <p:spPr>
          <a:xfrm>
            <a:off x="2852280" y="3653280"/>
            <a:ext cx="503640" cy="136764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727ca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TextBox 11"/>
          <p:cNvSpPr/>
          <p:nvPr/>
        </p:nvSpPr>
        <p:spPr>
          <a:xfrm>
            <a:off x="7380360" y="3840480"/>
            <a:ext cx="461160" cy="6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Member access operator (.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following statement stores 3.9 in the component GPA of the object studen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*studentPtr.gpa = 3.9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nsider the expression *studentPtr.gpa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Because. (dot) has a higher precedence than *, the expression studentPtr.gpa evaluates firs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The expression studentPtr.gpa would result in a syntax error, as studentPtr is not a struct variable, so it has no such component as GPA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Member access operator (-&gt;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C++ provides another operator called the member access operator arrow, -&gt;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759960" y="2362320"/>
            <a:ext cx="72972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580000" y="620640"/>
            <a:ext cx="26024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548640"/>
            <a:ext cx="447444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#include </a:t>
            </a: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using namespace 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class classexample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private 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int x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public 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void setX(int a ) {x=a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fr-FR" sz="2600" spc="-1" strike="noStrike">
                <a:solidFill>
                  <a:srgbClr val="0000ff"/>
                </a:solidFill>
                <a:latin typeface="Courier New"/>
              </a:rPr>
              <a:t>void print(){cout&lt;&lt;</a:t>
            </a:r>
            <a:r>
              <a:rPr b="0" lang="fr-FR" sz="2600" spc="-1" strike="noStrike">
                <a:solidFill>
                  <a:srgbClr val="a31515"/>
                </a:solidFill>
                <a:latin typeface="Courier New"/>
              </a:rPr>
              <a:t>"x= " &lt;&lt;x&lt;&lt;endl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void main ()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classexample ob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classexample *obpointer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obpointer = &amp;ob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obpointer-&gt;setX(5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obpointer-&gt;print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3477960" y="5445360"/>
            <a:ext cx="3456000" cy="1272960"/>
          </a:xfrm>
          <a:prstGeom prst="rect">
            <a:avLst/>
          </a:prstGeom>
          <a:ln w="9525">
            <a:noFill/>
          </a:ln>
        </p:spPr>
      </p:pic>
      <p:sp>
        <p:nvSpPr>
          <p:cNvPr id="284" name="Rectangle 8"/>
          <p:cNvSpPr/>
          <p:nvPr/>
        </p:nvSpPr>
        <p:spPr>
          <a:xfrm>
            <a:off x="5292000" y="1628640"/>
            <a:ext cx="3312000" cy="1583640"/>
          </a:xfrm>
          <a:prstGeom prst="rect">
            <a:avLst/>
          </a:prstGeom>
          <a:solidFill>
            <a:schemeClr val="accent1">
              <a:alpha val="19000"/>
            </a:schemeClr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7164360" y="2133000"/>
            <a:ext cx="1151640" cy="86364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5364000" y="3645000"/>
            <a:ext cx="3312000" cy="1583640"/>
          </a:xfrm>
          <a:prstGeom prst="rect">
            <a:avLst/>
          </a:prstGeom>
          <a:solidFill>
            <a:schemeClr val="accent1">
              <a:alpha val="19000"/>
            </a:schemeClr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7308360" y="4149000"/>
            <a:ext cx="1151640" cy="86364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7380360" y="2493000"/>
            <a:ext cx="431640" cy="359640"/>
          </a:xfrm>
          <a:prstGeom prst="rect">
            <a:avLst/>
          </a:prstGeom>
          <a:solidFill>
            <a:srgbClr val="727ca3"/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7596360" y="4509000"/>
            <a:ext cx="431640" cy="359640"/>
          </a:xfrm>
          <a:prstGeom prst="rect">
            <a:avLst/>
          </a:prstGeom>
          <a:solidFill>
            <a:srgbClr val="727ca3"/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5508000" y="2349000"/>
            <a:ext cx="359640" cy="359640"/>
          </a:xfrm>
          <a:prstGeom prst="rect">
            <a:avLst/>
          </a:prstGeom>
          <a:solidFill>
            <a:srgbClr val="ff0000">
              <a:alpha val="57000"/>
            </a:srgbClr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91" name="Rectangle 15"/>
          <p:cNvSpPr/>
          <p:nvPr/>
        </p:nvSpPr>
        <p:spPr>
          <a:xfrm>
            <a:off x="5580000" y="4581000"/>
            <a:ext cx="359640" cy="359640"/>
          </a:xfrm>
          <a:prstGeom prst="rect">
            <a:avLst/>
          </a:prstGeom>
          <a:solidFill>
            <a:srgbClr val="ff0000">
              <a:alpha val="57000"/>
            </a:srgbClr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cxnSp>
        <p:nvCxnSpPr>
          <p:cNvPr id="292" name="Straight Arrow Connector 17"/>
          <p:cNvCxnSpPr/>
          <p:nvPr/>
        </p:nvCxnSpPr>
        <p:spPr>
          <a:xfrm>
            <a:off x="6012000" y="2564640"/>
            <a:ext cx="1008360" cy="360"/>
          </a:xfrm>
          <a:prstGeom prst="straightConnector1">
            <a:avLst/>
          </a:prstGeom>
          <a:ln>
            <a:solidFill>
              <a:srgbClr val="727ca3"/>
            </a:solidFill>
            <a:round/>
            <a:tailEnd len="med" type="arrow" w="med"/>
          </a:ln>
        </p:spPr>
      </p:cxnSp>
      <p:cxnSp>
        <p:nvCxnSpPr>
          <p:cNvPr id="293" name="Straight Arrow Connector 19"/>
          <p:cNvCxnSpPr/>
          <p:nvPr/>
        </p:nvCxnSpPr>
        <p:spPr>
          <a:xfrm>
            <a:off x="6084000" y="4797000"/>
            <a:ext cx="1080360" cy="360"/>
          </a:xfrm>
          <a:prstGeom prst="straightConnector1">
            <a:avLst/>
          </a:prstGeom>
          <a:ln>
            <a:solidFill>
              <a:srgbClr val="727ca3"/>
            </a:solidFill>
            <a:round/>
            <a:tailEnd len="med" type="arrow" w="med"/>
          </a:ln>
        </p:spPr>
      </p:cxnSp>
      <p:sp>
        <p:nvSpPr>
          <p:cNvPr id="294" name="TextBox 20"/>
          <p:cNvSpPr/>
          <p:nvPr/>
        </p:nvSpPr>
        <p:spPr>
          <a:xfrm>
            <a:off x="7308360" y="2133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1"/>
          <p:cNvSpPr/>
          <p:nvPr/>
        </p:nvSpPr>
        <p:spPr>
          <a:xfrm>
            <a:off x="7596360" y="1628640"/>
            <a:ext cx="791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2"/>
          <p:cNvSpPr/>
          <p:nvPr/>
        </p:nvSpPr>
        <p:spPr>
          <a:xfrm>
            <a:off x="5364000" y="1917000"/>
            <a:ext cx="129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b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3"/>
          <p:cNvSpPr/>
          <p:nvPr/>
        </p:nvSpPr>
        <p:spPr>
          <a:xfrm>
            <a:off x="5508000" y="4077000"/>
            <a:ext cx="129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b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4"/>
          <p:cNvSpPr/>
          <p:nvPr/>
        </p:nvSpPr>
        <p:spPr>
          <a:xfrm>
            <a:off x="7452360" y="4149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5"/>
          <p:cNvSpPr/>
          <p:nvPr/>
        </p:nvSpPr>
        <p:spPr>
          <a:xfrm>
            <a:off x="7740360" y="3645000"/>
            <a:ext cx="791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6"/>
          <p:cNvSpPr/>
          <p:nvPr/>
        </p:nvSpPr>
        <p:spPr>
          <a:xfrm>
            <a:off x="7524360" y="4509000"/>
            <a:ext cx="43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What is the Pointer Valu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2" name="Diagram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0760" y="4464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ointer Data Type and Pointer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4640"/>
            <a:ext cx="8229240" cy="50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here is no name associated with pointer data typ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If no name is associated with a pointer data type, how do you declare pointer variabl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800" spc="-1" strike="noStrike">
                <a:solidFill>
                  <a:srgbClr val="464653"/>
                </a:solidFill>
                <a:latin typeface="Gill Sans MT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 is called a pointer variable of type </a:t>
            </a:r>
            <a:r>
              <a:rPr b="0" lang="en-GB" sz="2800" spc="-1" strike="noStrike">
                <a:solidFill>
                  <a:srgbClr val="464653"/>
                </a:solidFill>
                <a:latin typeface="Gill Sans MT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800" spc="-1" strike="noStrike">
                <a:solidFill>
                  <a:srgbClr val="464653"/>
                </a:solidFill>
                <a:latin typeface="Gill Sans MT"/>
              </a:rPr>
              <a:t>ch 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is called a pointer variable of type </a:t>
            </a:r>
            <a:r>
              <a:rPr b="0" lang="en-GB" sz="2800" spc="-1" strike="noStrike">
                <a:solidFill>
                  <a:srgbClr val="464653"/>
                </a:solidFill>
                <a:latin typeface="Gill Sans MT"/>
              </a:rPr>
              <a:t>char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835640" y="3357000"/>
            <a:ext cx="5271480" cy="16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ointer Declar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us, the character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*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can appear anywhere between the data type name and the variable nam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8" name="Diagram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ointer Declar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464653"/>
                </a:solidFill>
                <a:latin typeface="Gill Sans MT"/>
              </a:rPr>
              <a:t>int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*  p, q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this statemen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only p is the pointer variable, not q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Here, q is an int variabl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we prefer to attach the character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*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o the variable name. So the preceding statement is written a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464653"/>
                </a:solidFill>
                <a:latin typeface="Gill Sans MT"/>
              </a:rPr>
              <a:t>int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*p, q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ointer Operato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++ provides two operators operator to work with pointer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(&amp;) the address of operator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(*) the dereferencing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4464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Address of Operator (&amp;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7640" y="134064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s a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unary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operator that returns the address of its operan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For example, given the statement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25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3000" spc="-1" strike="noStrike">
                <a:solidFill>
                  <a:srgbClr val="464653"/>
                </a:solidFill>
                <a:latin typeface="Gill Sans MT"/>
              </a:rPr>
              <a:t>int </a:t>
            </a:r>
            <a:r>
              <a:rPr b="0" lang="en-GB" sz="3000" spc="-1" strike="noStrike">
                <a:solidFill>
                  <a:srgbClr val="000000"/>
                </a:solidFill>
                <a:latin typeface="Gill Sans MT"/>
              </a:rPr>
              <a:t>x;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125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3000" spc="-1" strike="noStrike">
                <a:solidFill>
                  <a:srgbClr val="464653"/>
                </a:solidFill>
                <a:latin typeface="Gill Sans MT"/>
              </a:rPr>
              <a:t>int </a:t>
            </a:r>
            <a:r>
              <a:rPr b="0" lang="en-GB" sz="3000" spc="-1" strike="noStrike">
                <a:solidFill>
                  <a:srgbClr val="000000"/>
                </a:solidFill>
                <a:latin typeface="Gill Sans MT"/>
              </a:rPr>
              <a:t>*p;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statemen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 = &amp;x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ssigns the address of x to p. That is, x and the value of p refer to the same memory loc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PublishingExpirationDate xmlns="http://schemas.microsoft.com/sharepoint/v3" xsi:nil="true"/>
    <PublishingStartDate xmlns="http://schemas.microsoft.com/sharepoint/v3" xsi:nil="true"/>
  </documentManagement>
</p:properties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Props1.xml><?xml version="1.0" encoding="utf-8"?>
<ds:datastoreItem xmlns:ds="http://schemas.openxmlformats.org/officeDocument/2006/customXml" ds:itemID="{069D6CF7-D671-45A4-A1DA-42F0ADA1F467}">
  <ds:schemaRefs>
    <ds:schemaRef ds:uri="http://schemas.microsoft.com/office/2006/metadata/properties"/>
    <ds:schemaRef ds:uri="http://schemas.microsoft.com/office/infopath/2007/PartnerControls"/>
    <ds:schemaRef ds:uri="http://schemas.microsoft.com/sharepoint/v3"/>
  </ds:schemaRefs>
</ds:datastoreItem>
</file>

<file path=customXml/itemProps2.xml><?xml version="1.0" encoding="utf-8"?>
<ds:datastoreItem xmlns:ds="http://schemas.openxmlformats.org/officeDocument/2006/customXml" ds:itemID="{57019109-EB3E-44C2-91DE-0B2ACEACC55E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9AA7E087-4DC8-46CA-AF6E-8FF646528A07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561</TotalTime>
  <Application>LibreOffice/7.4.7.2$Linux_X86_64 LibreOffice_project/40$Build-2</Application>
  <AppVersion>15.0000</AppVersion>
  <Words>1908</Words>
  <Paragraphs>28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9:09:17Z</dcterms:created>
  <dc:creator>School</dc:creator>
  <dc:description/>
  <dc:language>en-US</dc:language>
  <cp:lastModifiedBy>Mac</cp:lastModifiedBy>
  <dcterms:modified xsi:type="dcterms:W3CDTF">2013-03-11T19:38:40Z</dcterms:modified>
  <cp:revision>112</cp:revision>
  <dc:subject/>
  <dc:title>Pointer Data Type and Pointer Variab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PresentationFormat">
    <vt:lpwstr>On-screen Show (4:3)</vt:lpwstr>
  </property>
  <property fmtid="{D5CDD505-2E9C-101B-9397-08002B2CF9AE}" pid="4" name="Slides">
    <vt:r8>33</vt:r8>
  </property>
</Properties>
</file>