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31D-FA4C-417F-BBBF-76D910AB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8C5-0CC9-4C9B-934E-5A04352C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B6C-B466-49D6-B1DD-6999381D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6CEC-ADC1-45B1-B00D-5FCDAD92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E3CC-A7F3-4D2E-A664-E7CE03AD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F452-498A-4846-B182-D7B95274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3A3C-A3BF-4A14-BA54-A962B08B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8CEE-039F-42B7-945F-7DDCBA72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1D6E-9C83-48E3-9A77-9FED87BD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DDCA-4AEA-459C-99B0-0F715364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F760-23BD-4A3E-9650-53F0580D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3A1-0543-4F07-B679-256B1742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B3D8-B35B-43DD-9540-DAE1E22D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2F1E-3401-4ADE-93CF-46F49A64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EB51-31D6-4655-A1AD-869D1D4D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2B53-AF3A-4585-AFAB-79575EEC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9AB7-2148-457A-8482-00CE6E40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A8A15-BB16-43B7-B4F1-58027EEB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41CCB-A4D1-4349-98B8-CA6B99E6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F3B57-CD32-41CD-AF7C-BF96A110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728D3-C9B6-4259-B165-7457D22A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3053F-7460-4841-A214-BF833BE1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2D1-60A8-494A-B615-70A92BC3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26501-5DD0-4FE9-9283-4A9D7A6A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DADC8-978D-4468-90EA-ABF4B29F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01D1F-5B40-4C12-B5F2-C020993D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E4377-51B5-48F9-9F0E-699CA00D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0D638-FF72-4B8D-A779-1F42E631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C9E8A-872E-4A13-B5FC-3817888D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1F4FD-EDFF-4631-B6E3-A13CE816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F702A-602E-4E22-B6E5-24A515AB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A0CA7-1FBC-4A6E-8A78-39085556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0CA0D-DDD9-43C3-B6EA-73570886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8F4C-0923-4DEF-ABE4-C7736D39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6C510-6CCB-4659-9610-6DAB9207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5788F-07EF-4D6C-880F-A9B0FCFD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B3CE6-BBC1-4E92-ABBC-2DB2EB8F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D8081-67ED-4D70-8917-563B75E4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A5FD3-6E85-4E16-AA93-DE1DD894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EE1E5-338C-40B4-AF20-D8CCD506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31A29-BFDF-4D87-A9CC-2AB959BE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D2023-ED89-40C1-965F-F0031B83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60125-4D69-48ED-AEFC-DD9E24BB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F85-6F7D-4C70-9340-376DD3F3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DD6-79FD-4B3A-8D80-F70DCC45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8970-A5B2-4F13-BC32-72D778FD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FB96-337F-4D64-8EB9-E48FF7F8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B10-0D4F-4F2E-B373-3E944D5D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B8A5F92-391E-4194-8234-CCD3B1D36619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B36B8DD-4972-47CB-9BC5-80336C34AD96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403992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648320" y="1295280"/>
            <a:ext cx="404136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2757C25-2AB7-41B1-8A9B-1FBF89041F1F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 type="body"/>
          </p:nvPr>
        </p:nvSpPr>
        <p:spPr>
          <a:xfrm>
            <a:off x="45720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8"/>
          <p:cNvSpPr>
            <a:spLocks noGrp="1"/>
          </p:cNvSpPr>
          <p:nvPr>
            <p:ph type="body"/>
          </p:nvPr>
        </p:nvSpPr>
        <p:spPr>
          <a:xfrm>
            <a:off x="464832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3447ADC-FC70-46F1-8DD9-736A0539AD11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Pointer Data Type and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referencing Operator (*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ferred to as indirection operat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fers to the object to which its operand (that is, the pointer) poin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or example, given the statement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899640" y="4073400"/>
            <a:ext cx="7344000" cy="223560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8"/>
          <p:cNvGrpSpPr/>
          <p:nvPr/>
        </p:nvGrpSpPr>
        <p:grpSpPr>
          <a:xfrm>
            <a:off x="6732360" y="3645000"/>
            <a:ext cx="2088000" cy="802800"/>
            <a:chOff x="6732360" y="3645000"/>
            <a:chExt cx="2088000" cy="802800"/>
          </a:xfrm>
        </p:grpSpPr>
        <p:sp>
          <p:nvSpPr>
            <p:cNvPr id="209" name="Rectangle 3"/>
            <p:cNvSpPr/>
            <p:nvPr/>
          </p:nvSpPr>
          <p:spPr>
            <a:xfrm>
              <a:off x="6732360" y="4042440"/>
              <a:ext cx="481680" cy="405360"/>
            </a:xfrm>
            <a:prstGeom prst="rect">
              <a:avLst/>
            </a:prstGeom>
            <a:solidFill>
              <a:srgbClr val="727ca3"/>
            </a:solidFill>
            <a:ln>
              <a:solidFill>
                <a:srgbClr val="545b7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8250480" y="4042440"/>
              <a:ext cx="481680" cy="405360"/>
            </a:xfrm>
            <a:prstGeom prst="rect">
              <a:avLst/>
            </a:prstGeom>
            <a:solidFill>
              <a:srgbClr val="d2da7a"/>
            </a:solidFill>
            <a:ln>
              <a:solidFill>
                <a:srgbClr val="9ba15a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800" spc="-1" strike="noStrike">
                  <a:solidFill>
                    <a:schemeClr val="lt1"/>
                  </a:solidFill>
                  <a:latin typeface="Gill Sans MT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" name="Straight Arrow Connector 6"/>
            <p:cNvCxnSpPr>
              <a:stCxn id="209" idx="3"/>
              <a:endCxn id="210" idx="1"/>
            </p:cNvCxnSpPr>
            <p:nvPr/>
          </p:nvCxnSpPr>
          <p:spPr>
            <a:xfrm>
              <a:off x="7214040" y="4245120"/>
              <a:ext cx="1036440" cy="360"/>
            </a:xfrm>
            <a:prstGeom prst="straightConnector1">
              <a:avLst/>
            </a:prstGeom>
            <a:ln>
              <a:solidFill>
                <a:srgbClr val="727ca3"/>
              </a:solidFill>
              <a:round/>
              <a:tailEnd len="med" type="arrow" w="med"/>
            </a:ln>
          </p:spPr>
        </p:cxnSp>
        <p:sp>
          <p:nvSpPr>
            <p:cNvPr id="212" name="TextBox 7"/>
            <p:cNvSpPr/>
            <p:nvPr/>
          </p:nvSpPr>
          <p:spPr>
            <a:xfrm>
              <a:off x="8338680" y="3645000"/>
              <a:ext cx="481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1800" spc="-1" strike="noStrike">
                  <a:solidFill>
                    <a:srgbClr val="000000"/>
                  </a:solidFill>
                  <a:latin typeface="Gill Sans M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9"/>
            <p:cNvSpPr/>
            <p:nvPr/>
          </p:nvSpPr>
          <p:spPr>
            <a:xfrm>
              <a:off x="6732360" y="3645000"/>
              <a:ext cx="481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1800" spc="-1" strike="noStrike">
                  <a:solidFill>
                    <a:srgbClr val="000000"/>
                  </a:solidFill>
                  <a:latin typeface="Gill Sans MT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10"/>
          <p:cNvSpPr/>
          <p:nvPr/>
        </p:nvSpPr>
        <p:spPr>
          <a:xfrm>
            <a:off x="467640" y="5301360"/>
            <a:ext cx="5688360" cy="115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x-none" sz="1800" spc="-1" strike="noStrike">
              <a:solidFill>
                <a:schemeClr val="lt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referencing Operator (*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et us consider the following stat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43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In these statements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8" marL="4000680" indent="-4572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5000"/>
              <a:buFont typeface="Wingdings 3" charset="2"/>
              <a:buChar char=""/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is a pointer variable of type </a:t>
            </a: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8" marL="4000680" indent="-4572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5000"/>
              <a:buFont typeface="Wingdings 3" charset="2"/>
              <a:buChar char=""/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num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is a variable of type </a:t>
            </a: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et us assume that memory location 1200 is allocated for p, and memory location 1800 is allocated for nu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1187640" y="2026440"/>
            <a:ext cx="2180520" cy="682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2482920" y="4869000"/>
            <a:ext cx="3885840" cy="120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referencing Operator (*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9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onsider the following statemen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Bookman Old Style"/>
              <a:buAutoNum type="arabicPeriod"/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num = 78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Bookman Old Style"/>
              <a:buAutoNum type="arabicPeriod"/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p = &amp;num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Bookman Old Style"/>
              <a:buAutoNum type="arabicPeriod"/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*p = 24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4500000" y="2421000"/>
            <a:ext cx="3142800" cy="818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4515480" y="3501000"/>
            <a:ext cx="3152520" cy="790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3"/>
          <a:stretch/>
        </p:blipFill>
        <p:spPr>
          <a:xfrm>
            <a:off x="4559040" y="4581000"/>
            <a:ext cx="3180960" cy="894960"/>
          </a:xfrm>
          <a:prstGeom prst="rect">
            <a:avLst/>
          </a:prstGeom>
          <a:ln w="0">
            <a:noFill/>
          </a:ln>
        </p:spPr>
      </p:pic>
      <p:sp>
        <p:nvSpPr>
          <p:cNvPr id="224" name="Right Arrow 3"/>
          <p:cNvSpPr/>
          <p:nvPr/>
        </p:nvSpPr>
        <p:spPr>
          <a:xfrm>
            <a:off x="3132000" y="2493000"/>
            <a:ext cx="791640" cy="409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da7a"/>
          </a:solidFill>
          <a:ln>
            <a:solidFill>
              <a:srgbClr val="b8a15a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25" name="Right Arrow 8"/>
          <p:cNvSpPr/>
          <p:nvPr/>
        </p:nvSpPr>
        <p:spPr>
          <a:xfrm>
            <a:off x="3132000" y="3630600"/>
            <a:ext cx="791640" cy="409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da7a"/>
          </a:solidFill>
          <a:ln>
            <a:solidFill>
              <a:srgbClr val="b8a15a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26" name="Right Arrow 9"/>
          <p:cNvSpPr/>
          <p:nvPr/>
        </p:nvSpPr>
        <p:spPr>
          <a:xfrm>
            <a:off x="3129480" y="4675680"/>
            <a:ext cx="791640" cy="409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da7a"/>
          </a:solidFill>
          <a:ln>
            <a:solidFill>
              <a:srgbClr val="b8a15a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74760" y="44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63680"/>
            <a:ext cx="8229240" cy="5017320"/>
          </a:xfrm>
          <a:prstGeom prst="rect">
            <a:avLst/>
          </a:prstGeom>
          <a:solidFill>
            <a:schemeClr val="lt1"/>
          </a:solidFill>
          <a:ln w="19080">
            <a:solidFill>
              <a:srgbClr val="9fb8cd"/>
            </a:solidFill>
            <a:round/>
          </a:ln>
        </p:spPr>
        <p:txBody>
          <a:bodyPr lIns="90000" rIns="90000" tIns="45000" bIns="45000" anchor="t">
            <a:normAutofit fontScale="90000"/>
          </a:bodyPr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&lt;iostream&gt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&lt;string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 std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Courier New"/>
              </a:rPr>
              <a:t>//===============================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main(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*p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x = 37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out &lt;&lt;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"x=  " &lt;&lt; x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p=&amp;x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1400" spc="-1" strike="noStrike">
                <a:solidFill>
                  <a:srgbClr val="a31515"/>
                </a:solidFill>
                <a:latin typeface="Courier New"/>
              </a:rPr>
              <a:t>cout &lt;&lt;"*p=  "&lt;&lt; *p &lt;&lt;"  , x= "&lt;&lt;x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*p=85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1400" spc="-1" strike="noStrike">
                <a:solidFill>
                  <a:srgbClr val="a31515"/>
                </a:solidFill>
                <a:latin typeface="Courier New"/>
              </a:rPr>
              <a:t>cout &lt;&lt;"*P=  " &lt;&lt;*p &lt;&lt;"  , x=  "&lt;&lt;x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 &lt;&lt;" Address of p is :  "&lt;&lt; &amp;p 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&lt;&lt;"value of p :  "&lt;&lt; p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&lt;&lt; " value of memory location pointed to by *p =  "&lt;&lt;*p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&lt;&lt;"Address of X =  " &lt;&lt; &amp;x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 &lt;&lt;" Value of x =   " &lt;&lt; x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11640" y="1556640"/>
            <a:ext cx="7540560" cy="3040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ummary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3" name="Content Placeholder 3" descr="Screen shot 2013-03-11 at 10.11.37 PM.png"/>
          <p:cNvPicPr/>
          <p:nvPr/>
        </p:nvPicPr>
        <p:blipFill>
          <a:blip r:embed="rId1"/>
          <a:stretch/>
        </p:blipFill>
        <p:spPr>
          <a:xfrm>
            <a:off x="571680" y="2614680"/>
            <a:ext cx="8000640" cy="21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Initializing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++ does not automatically initialize variab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variables must be initialized if you do not want them to point to anyth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variables are initialized using  the following two statements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 = NULL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 = 0 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number 0 is the only number that can be directly assigned to a pointer vari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Operations on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value of one pointer variable can be assigned to another pointer variable of the same typ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wo pointer variables of the same type can be compared for equality, and so 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eger values can be added and subtracted from a pointer variabl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value of one pointer variable can be subtracted from another pointer vari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Operations on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420624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pies the value of q into p. After this statement executes, both p and q point to the same memory locati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ny changes made to *p automatically change the value of *q, and vice vers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2120" y="1882440"/>
            <a:ext cx="8270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expressio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 == q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evaluates to true if p and q have the same value—that is, if they point to the same memory locati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imilarly, the expressio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 != q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evaluates to true if p and q point to different memory loca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1560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Data Type and Pointer Variabl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Decla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Operat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itializing Pointer Variab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perations on Pointer Variab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unctions and Point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lasses, Structs, and Pointer Variab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crement and incr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2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++ increments the value of a pointer variable by the size of the memory to which it is point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imilarly, --  the value of a pointer variable by the size of the memory to which it is poin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 explain the increment and decrement operations on pointer variabl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all that the size of the memory allocated for 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588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nt variable is 4 byte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88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double variable is 8 byte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88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char variable is 1 byte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88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studentType is 40 byt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755640" y="3124080"/>
            <a:ext cx="7333920" cy="117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crement and incr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statem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-2754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++; or p = p + 1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ncrements the value of p by 4 bytes because p is a pointer of type int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imilarly, the statement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-2754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q++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-2754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hPtr++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ncrement the value of q by 8 bytes and the value of chPtr by 1 byte, respectively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statem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-2754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tdPtr++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ncrements the value of stdPtr by 40 byt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oreover, the statem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 = p + 2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crements the value of p by 8 byt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us, when an integer is added to a pointer variable, the value of the pointer variable is incremented by the integer times the size of the memory that the pointer is pointing t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imilarly, when an integer is subtracted from a pointer variable, the value of the pointer variable is decremented by the integer times the size of the memory to which the pointer is poin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arithmetic can be very dangerou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program can accidentally access the memory locations of other variables and change their content without warning. leaving the programmer trying to find out what went wro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nctions and Point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pointer variable can be passed as a parameter to a function either by value or by refere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the function pointerParameters, both p and q are pointers. The parameter p is a reference parameter; the parameter q is a value paramet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urthermore, the function pointerParameters can change the value of *q, but not the value of q. However, the function pointerParameters can change the value of both p and *p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971640" y="2286000"/>
            <a:ext cx="56163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52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2000"/>
          </a:bodyPr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using namespace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void f(int *j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int main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int i =0 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int *p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p = &amp;i; </a:t>
            </a:r>
            <a:r>
              <a:rPr b="0" lang="en-GB" sz="2600" spc="-1" strike="noStrike">
                <a:solidFill>
                  <a:srgbClr val="008000"/>
                </a:solidFill>
                <a:latin typeface="Courier New"/>
              </a:rPr>
              <a:t>// p now points to 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Courier New"/>
              </a:rPr>
              <a:t>cout&lt;&lt;</a:t>
            </a: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"*p is " &lt;&lt; *p&lt;&lt;end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&lt;&lt; "i= " &lt;&lt; i &lt;&lt;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f(p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cout &lt;&lt; "i is  " &lt;&lt; i &lt;&lt; endl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void f(int *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*j = 100; </a:t>
            </a:r>
            <a:r>
              <a:rPr b="0" lang="en-GB" sz="2600" spc="-1" strike="noStrike">
                <a:solidFill>
                  <a:srgbClr val="008000"/>
                </a:solidFill>
                <a:latin typeface="Courier New"/>
              </a:rPr>
              <a:t>// var pointed to by j is assigned 100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Courier New"/>
              </a:rPr>
              <a:t>cout &lt;&lt;</a:t>
            </a: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"*j is  : "&lt;&lt; *j&lt;&lt;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3852000" y="1124640"/>
            <a:ext cx="5133600" cy="194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nctions and Point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ssing a pointer as an argument to a function is in some ways similar to passing a refere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y both permit the variable in the calling program to be modified by the function. However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mechanism is different. A reference is an alias for the original variable, while a pointer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address of the vari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s and Function Return Valu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C++, the return type of a function can be a pointer. For example, the return type of the functio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2699640" y="2666880"/>
            <a:ext cx="3960000" cy="32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24000" y="836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207360"/>
            <a:ext cx="8229240" cy="65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&lt;iostream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 std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* GetSalary(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salary = 26.48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*HourlySalary = &amp;salary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return HourlySalary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hours  = 46.5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salary = *GetSalary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out &lt;&lt;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"Weekly Hours:  " &lt;&lt; hours &lt;&lt; 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 &lt;&lt; "Hourly Salary: " &lt;&lt; salary &lt;&lt; 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WeeklySalary = hours * salary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out &lt;&lt;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"Weekly Salary: " &lt;&lt; WeeklySalary &lt;&lt; 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475640" y="2493000"/>
            <a:ext cx="6552000" cy="2341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 Data Type and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++’s data types are classified into three categori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Simpl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Structured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ointer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1640" y="33264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lasses, Structs, and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4098600" cy="4568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rmAutofit fontScale="5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by default, all members of a class are priva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4000" y="1412640"/>
            <a:ext cx="4041360" cy="4568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rmAutofit fontScale="5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by default, all members of a struct are publi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2174760"/>
            <a:ext cx="4039920" cy="4278240"/>
          </a:xfrm>
          <a:prstGeom prst="rect">
            <a:avLst/>
          </a:prstGeom>
          <a:solidFill>
            <a:schemeClr val="lt1"/>
          </a:solidFill>
          <a:ln w="19080">
            <a:solidFill>
              <a:srgbClr val="fada7a"/>
            </a:solidFill>
            <a:round/>
          </a:ln>
        </p:spPr>
        <p:txBody>
          <a:bodyPr lIns="90000" rIns="90000" tIns="45000" bIns="45000"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chemeClr val="dk1"/>
                </a:solidFill>
                <a:latin typeface="Gill Sans MT"/>
              </a:rPr>
              <a:t>Class </a:t>
            </a: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char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name[26]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double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GPA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int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sID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char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grade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  </a:t>
            </a: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studen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 </a:t>
            </a: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*studentPtr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427824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chemeClr val="dk1"/>
                </a:solidFill>
                <a:latin typeface="Gill Sans MT"/>
              </a:rPr>
              <a:t>struct</a:t>
            </a: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 </a:t>
            </a: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char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name[26]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double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GPA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int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sID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char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grade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 </a:t>
            </a: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studen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 </a:t>
            </a: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*studentPtr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ight Brace 8"/>
          <p:cNvSpPr/>
          <p:nvPr/>
        </p:nvSpPr>
        <p:spPr>
          <a:xfrm>
            <a:off x="6732360" y="3529800"/>
            <a:ext cx="503640" cy="136764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727ca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3348000" y="3812040"/>
            <a:ext cx="46116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ight Brace 10"/>
          <p:cNvSpPr/>
          <p:nvPr/>
        </p:nvSpPr>
        <p:spPr>
          <a:xfrm>
            <a:off x="2852280" y="3653280"/>
            <a:ext cx="503640" cy="136764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727ca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TextBox 11"/>
          <p:cNvSpPr/>
          <p:nvPr/>
        </p:nvSpPr>
        <p:spPr>
          <a:xfrm>
            <a:off x="7380360" y="3840480"/>
            <a:ext cx="46116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ember access operator (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following statement stores 3.9 in the component GPA of the object stud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*studentPtr.gpa = 3.9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nsider the expression *studentPtr.gpa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Because. (dot) has a higher precedence than *, the expression studentPtr.gpa evaluates firs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The expression studentPtr.gpa would result in a syntax error, as studentPtr is not a struct variable, so it has no such component as GPA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ember access operator (-&gt;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++ provides another operator called the member access operator arrow, -&gt;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59960" y="2362320"/>
            <a:ext cx="72972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580000" y="620640"/>
            <a:ext cx="26024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548640"/>
            <a:ext cx="447444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using namespace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class classexample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private 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int x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public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void setX(int a ) {x=a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2600" spc="-1" strike="noStrike">
                <a:solidFill>
                  <a:srgbClr val="0000ff"/>
                </a:solidFill>
                <a:latin typeface="Courier New"/>
              </a:rPr>
              <a:t>void print(){cout&lt;&lt;</a:t>
            </a:r>
            <a:r>
              <a:rPr b="0" lang="fr-FR" sz="2600" spc="-1" strike="noStrike">
                <a:solidFill>
                  <a:srgbClr val="a31515"/>
                </a:solidFill>
                <a:latin typeface="Courier New"/>
              </a:rPr>
              <a:t>"x= " &lt;&lt;x&lt;&lt;endl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void main ()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classexample ob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classexample *obpointer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obpointer = &amp;ob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obpointer-&gt;setX(5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obpointer-&gt;print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477960" y="5445360"/>
            <a:ext cx="3456000" cy="1272960"/>
          </a:xfrm>
          <a:prstGeom prst="rect">
            <a:avLst/>
          </a:prstGeom>
          <a:ln w="9525">
            <a:noFill/>
          </a:ln>
        </p:spPr>
      </p:pic>
      <p:sp>
        <p:nvSpPr>
          <p:cNvPr id="284" name="Rectangle 8"/>
          <p:cNvSpPr/>
          <p:nvPr/>
        </p:nvSpPr>
        <p:spPr>
          <a:xfrm>
            <a:off x="5292000" y="1628640"/>
            <a:ext cx="3312000" cy="1583640"/>
          </a:xfrm>
          <a:prstGeom prst="rect">
            <a:avLst/>
          </a:prstGeom>
          <a:solidFill>
            <a:schemeClr val="accent1">
              <a:alpha val="19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7164360" y="2133000"/>
            <a:ext cx="1151640" cy="86364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5364000" y="3645000"/>
            <a:ext cx="3312000" cy="1583640"/>
          </a:xfrm>
          <a:prstGeom prst="rect">
            <a:avLst/>
          </a:prstGeom>
          <a:solidFill>
            <a:schemeClr val="accent1">
              <a:alpha val="19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7308360" y="4149000"/>
            <a:ext cx="1151640" cy="86364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7380360" y="2493000"/>
            <a:ext cx="431640" cy="359640"/>
          </a:xfrm>
          <a:prstGeom prst="rect">
            <a:avLst/>
          </a:prstGeom>
          <a:solidFill>
            <a:srgbClr val="727ca3"/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7596360" y="4509000"/>
            <a:ext cx="431640" cy="359640"/>
          </a:xfrm>
          <a:prstGeom prst="rect">
            <a:avLst/>
          </a:prstGeom>
          <a:solidFill>
            <a:srgbClr val="727ca3"/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5508000" y="2349000"/>
            <a:ext cx="359640" cy="359640"/>
          </a:xfrm>
          <a:prstGeom prst="rect">
            <a:avLst/>
          </a:prstGeom>
          <a:solidFill>
            <a:srgbClr val="ff0000">
              <a:alpha val="57000"/>
            </a:srgb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5580000" y="4581000"/>
            <a:ext cx="359640" cy="359640"/>
          </a:xfrm>
          <a:prstGeom prst="rect">
            <a:avLst/>
          </a:prstGeom>
          <a:solidFill>
            <a:srgbClr val="ff0000">
              <a:alpha val="57000"/>
            </a:srgb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cxnSp>
        <p:nvCxnSpPr>
          <p:cNvPr id="292" name="Straight Arrow Connector 17"/>
          <p:cNvCxnSpPr/>
          <p:nvPr/>
        </p:nvCxnSpPr>
        <p:spPr>
          <a:xfrm>
            <a:off x="6012000" y="2564640"/>
            <a:ext cx="1008360" cy="360"/>
          </a:xfrm>
          <a:prstGeom prst="straightConnector1">
            <a:avLst/>
          </a:prstGeom>
          <a:ln>
            <a:solidFill>
              <a:srgbClr val="727ca3"/>
            </a:solidFill>
            <a:round/>
            <a:tailEnd len="med" type="arrow" w="med"/>
          </a:ln>
        </p:spPr>
      </p:cxnSp>
      <p:cxnSp>
        <p:nvCxnSpPr>
          <p:cNvPr id="293" name="Straight Arrow Connector 19"/>
          <p:cNvCxnSpPr/>
          <p:nvPr/>
        </p:nvCxnSpPr>
        <p:spPr>
          <a:xfrm>
            <a:off x="6084000" y="4797000"/>
            <a:ext cx="1080360" cy="360"/>
          </a:xfrm>
          <a:prstGeom prst="straightConnector1">
            <a:avLst/>
          </a:prstGeom>
          <a:ln>
            <a:solidFill>
              <a:srgbClr val="727ca3"/>
            </a:solidFill>
            <a:round/>
            <a:tailEnd len="med" type="arrow" w="med"/>
          </a:ln>
        </p:spPr>
      </p:cxnSp>
      <p:sp>
        <p:nvSpPr>
          <p:cNvPr id="294" name="TextBox 20"/>
          <p:cNvSpPr/>
          <p:nvPr/>
        </p:nvSpPr>
        <p:spPr>
          <a:xfrm>
            <a:off x="7308360" y="2133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1"/>
          <p:cNvSpPr/>
          <p:nvPr/>
        </p:nvSpPr>
        <p:spPr>
          <a:xfrm>
            <a:off x="7596360" y="1628640"/>
            <a:ext cx="79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2"/>
          <p:cNvSpPr/>
          <p:nvPr/>
        </p:nvSpPr>
        <p:spPr>
          <a:xfrm>
            <a:off x="5364000" y="1917000"/>
            <a:ext cx="129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b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3"/>
          <p:cNvSpPr/>
          <p:nvPr/>
        </p:nvSpPr>
        <p:spPr>
          <a:xfrm>
            <a:off x="5508000" y="4077000"/>
            <a:ext cx="129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b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4"/>
          <p:cNvSpPr/>
          <p:nvPr/>
        </p:nvSpPr>
        <p:spPr>
          <a:xfrm>
            <a:off x="7452360" y="4149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5"/>
          <p:cNvSpPr/>
          <p:nvPr/>
        </p:nvSpPr>
        <p:spPr>
          <a:xfrm>
            <a:off x="7740360" y="3645000"/>
            <a:ext cx="79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6"/>
          <p:cNvSpPr/>
          <p:nvPr/>
        </p:nvSpPr>
        <p:spPr>
          <a:xfrm>
            <a:off x="7524360" y="4509000"/>
            <a:ext cx="4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What is the Pointer Valu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2" name="Diagram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0760" y="44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 Data Type and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4640"/>
            <a:ext cx="822924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re is no name associated with pointer data typ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If no name is associated with a pointer data type, how do you declare pointer variabl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800" spc="-1" strike="noStrike">
                <a:solidFill>
                  <a:srgbClr val="464653"/>
                </a:solidFill>
                <a:latin typeface="Gill Sans MT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is called a pointer variable of type </a:t>
            </a:r>
            <a:r>
              <a:rPr b="0" lang="en-GB" sz="2800" spc="-1" strike="noStrike">
                <a:solidFill>
                  <a:srgbClr val="464653"/>
                </a:solidFill>
                <a:latin typeface="Gill Sans MT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800" spc="-1" strike="noStrike">
                <a:solidFill>
                  <a:srgbClr val="464653"/>
                </a:solidFill>
                <a:latin typeface="Gill Sans MT"/>
              </a:rPr>
              <a:t>ch 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is called a pointer variable of type </a:t>
            </a:r>
            <a:r>
              <a:rPr b="0" lang="en-GB" sz="2800" spc="-1" strike="noStrike">
                <a:solidFill>
                  <a:srgbClr val="464653"/>
                </a:solidFill>
                <a:latin typeface="Gill Sans MT"/>
              </a:rPr>
              <a:t>char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835640" y="3357000"/>
            <a:ext cx="5271480" cy="16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 Decla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us, the character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can appear anywhere between the data type name and the variable na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8" name="Diagram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 Decla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464653"/>
                </a:solidFill>
                <a:latin typeface="Gill Sans MT"/>
              </a:rPr>
              <a:t>in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*  p, q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this statem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only p is the pointer variable, not q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Here, q is an int variabl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e prefer to attach the character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*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 the variable name. So the preceding statement is written a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464653"/>
                </a:solidFill>
                <a:latin typeface="Gill Sans MT"/>
              </a:rPr>
              <a:t>int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*p, q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 Operat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++ provides two operators operator to work with point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(&amp;) the address of operator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(*) the dereferencing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44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Address of Operator (&amp;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7640" y="134064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s a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unary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operator that returns the address of its operan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or example, given the statement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25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3000" spc="-1" strike="noStrike">
                <a:solidFill>
                  <a:srgbClr val="464653"/>
                </a:solidFill>
                <a:latin typeface="Gill Sans MT"/>
              </a:rPr>
              <a:t>int </a:t>
            </a:r>
            <a:r>
              <a:rPr b="0" lang="en-GB" sz="3000" spc="-1" strike="noStrike">
                <a:solidFill>
                  <a:srgbClr val="000000"/>
                </a:solidFill>
                <a:latin typeface="Gill Sans MT"/>
              </a:rPr>
              <a:t>x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125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3000" spc="-1" strike="noStrike">
                <a:solidFill>
                  <a:srgbClr val="464653"/>
                </a:solidFill>
                <a:latin typeface="Gill Sans MT"/>
              </a:rPr>
              <a:t>int </a:t>
            </a:r>
            <a:r>
              <a:rPr b="0" lang="en-GB" sz="3000" spc="-1" strike="noStrike">
                <a:solidFill>
                  <a:srgbClr val="000000"/>
                </a:solidFill>
                <a:latin typeface="Gill Sans MT"/>
              </a:rPr>
              <a:t>*p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statem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 = &amp;x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ssigns the address of x to p. That is, x and the value of p refer to the same memory loc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069D6CF7-D671-45A4-A1DA-42F0ADA1F467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customXml/itemProps2.xml><?xml version="1.0" encoding="utf-8"?>
<ds:datastoreItem xmlns:ds="http://schemas.openxmlformats.org/officeDocument/2006/customXml" ds:itemID="{57019109-EB3E-44C2-91DE-0B2ACEACC55E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9AA7E087-4DC8-46CA-AF6E-8FF646528A07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561</TotalTime>
  <Application>LibreOffice/7.4.7.2$Linux_X86_64 LibreOffice_project/40$Build-2</Application>
  <AppVersion>15.0000</AppVersion>
  <Words>1908</Words>
  <Paragraphs>2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9:09:17Z</dcterms:created>
  <dc:creator>School</dc:creator>
  <dc:description/>
  <dc:language>en-US</dc:language>
  <cp:lastModifiedBy>Mac</cp:lastModifiedBy>
  <dcterms:modified xsi:type="dcterms:W3CDTF">2013-03-11T19:38:40Z</dcterms:modified>
  <cp:revision>112</cp:revision>
  <dc:subject/>
  <dc:title>Pointer Data Type and Pointer Variab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PresentationFormat">
    <vt:lpwstr>On-screen Show (4:3)</vt:lpwstr>
  </property>
  <property fmtid="{D5CDD505-2E9C-101B-9397-08002B2CF9AE}" pid="4" name="Slides">
    <vt:r8>33</vt:r8>
  </property>
</Properties>
</file>