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CF5FE8-6FFC-4883-8690-E2AE11177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51080" cy="43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43"/>
          </p:nvPr>
        </p:nvSpPr>
        <p:spPr>
          <a:xfrm>
            <a:off x="4143240" y="9120240"/>
            <a:ext cx="3169800" cy="4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5B4911-B233-498E-8D83-2F82D65EE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A27-32B5-4C14-AC86-71CD8FC0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DEA-3DC3-4DC1-AE3E-6F12C50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78F-FE16-4A81-A810-862A22C4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25F-D73D-4827-81D8-EBCB02ED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9AC3-78FB-4E82-AFD7-ECB41B88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3FE-0C66-4FB0-9706-C2F638A7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393B-C607-4ACA-9744-C36AE0EE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BF5C-9542-451F-83E5-7E4858B3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E28B-FE79-427C-8C99-8A4FCB81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BBD1-CBCB-44AE-8B6F-C44FE1A7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2548-D55F-4DA2-9F74-9348A3F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998-DB30-4AE6-8805-42E12F6E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B4B4-773A-42AF-9964-F89E776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B538-94B3-499D-AF96-301BD1E5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A3A5-ACFC-437D-B031-EF19DB6E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B6C9-25B8-4CA0-96EC-D764406A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F560-F338-4BB9-B70D-C98163B9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70BA-152F-4FB0-8D97-562D99C9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20F2-56CD-4C39-A423-C458184F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D602-375C-460A-846A-AB098577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DDE5-0DB0-4332-9CF7-6B82B1D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AACF-142B-4B11-A3DF-1C97690C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A7C-1CE0-4D2B-8C8F-B40889B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8234-EF07-4E99-BC69-B79EAE94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DB83-2610-4AD4-9411-AD7B2426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9D16-B1E7-46D2-9071-593DE8A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E9D1-9B4C-4085-AAC0-DD1AAFD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E88F-2DC9-476E-942C-7C44499B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DDE5-F207-4F12-A8B0-FB8F76BF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C3D5-6559-45E5-9856-BDC7A7D6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E8CB-1709-42FA-B01B-37374DE3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D673-D016-4AB9-89D3-B58ECEA6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715E-81C0-4AA0-85CE-CB561A5D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198-E6F6-4A2C-89F2-768E6EC7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AD95-C673-47B9-BB68-31E97DE9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4901B-1333-4276-97BB-10C92EC9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5AD2C-83A9-44A5-B6A0-8187A21F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A8BA-E46B-410E-AE81-33A9F278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DBB8-E653-495F-88AA-56289CA6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56A7-4A0C-46B6-913F-9D0B7C5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0801-9634-453F-B13B-3137CF55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2F28-4613-489A-9396-87208239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44D87-7DEE-4292-B468-16716B3B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A47-CB46-428F-91E7-2CABF61F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A98-3629-4349-82C8-A64C0775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2CF-DD22-4F73-9391-2C2B932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041-B931-40B7-8634-2BBFD1A8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91F-9D3D-4BBB-AAD0-5DE45190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D9983C9-0E3F-4C2E-B9D8-892A9D38BE3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AAEF552-27FB-46EF-82A7-24F72BB4B59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F116A42-EF24-46FD-9F9E-9DDC1459E0F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C0CB97-D01F-4231-9810-BF420F54111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olymorphism &amp;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6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FACF640-7CA4-42BD-8951-8121CAFBF09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67B22D6-F838-4462-8910-8B6CCD27913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inter arithmetic is relative to the data type the pointer is declared as pointing 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we point a base pointer to a derived object and then increment the pointer, it will not be pointing to the next derived object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t will be pointing to (what it thinks is) the next base object !!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Be careful about thi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mportant Point on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Num" idx="2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5D70776-03F0-413A-BFBA-83CB8778612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++, only public inheritance supports the perfect IS-A relationship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ase of private and protected inheritance, we cannot treat a derived class object in the same way as a base class obje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Public members of the base class becomes private or protected in the derived class and hence cannot be accessed directly by others using derived class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f we use private or protected inheritance, we cannot assign the address of a derived class object to a base class pointer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We can use type-casting, but it makes the program logic and structure complicat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490C92E-2A8F-4713-817A-E3F957AD356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virtual function is a member function that is declared within a base class and redefined (called 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overrid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by a derived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implements the “one interface, multiple methods” philosophy that underlies polymorph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keyword </a:t>
            </a:r>
            <a:r>
              <a:rPr b="1" lang="en-US" sz="2000" spc="-1" strike="noStrike">
                <a:solidFill>
                  <a:srgbClr val="660066"/>
                </a:solidFill>
                <a:latin typeface="Gill Sans MT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used to designate a member function as virtua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s run-time polymorphism with the help of base class pointer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Num" idx="2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FCA230F-999A-4F7F-B305-08ABB25C1A8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74671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ile redefining a virtual function in a derived class, the function signature must match the original function present in the base clas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, we call it </a:t>
            </a:r>
            <a:r>
              <a:rPr b="1" i="1" lang="en-US" sz="1800" spc="-1" strike="noStrike">
                <a:solidFill>
                  <a:srgbClr val="660066"/>
                </a:solidFill>
                <a:latin typeface="Gill Sans MT"/>
              </a:rPr>
              <a:t>overriding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not overloading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en a virtual function is redefined by a derived class, the keyword </a:t>
            </a:r>
            <a:r>
              <a:rPr b="1" lang="en-US" sz="1800" spc="-1" strike="noStrike">
                <a:solidFill>
                  <a:srgbClr val="660066"/>
                </a:solidFill>
                <a:latin typeface="Gill Sans MT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is not needed (but can be specified if the programmer wants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 “virtual”-ity of the member function continues along the inheritance chai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class that contains a virtual function is referred to as a </a:t>
            </a:r>
            <a:r>
              <a:rPr b="1" i="1" lang="en-US" sz="1800" spc="-1" strike="noStrike">
                <a:solidFill>
                  <a:srgbClr val="6600cc"/>
                </a:solidFill>
                <a:latin typeface="Gill Sans MT"/>
              </a:rPr>
              <a:t>polymorphic clas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0BE74C5-9280-4EB3-8FCA-A89F67EBA8A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the polymorphic approach to work, several conditions must be me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irst, all the different derived classes must be descended from a single base cla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, the overridden function must be declared to be virtual in the base clas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Num" idx="3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74BF491-8B6F-4629-8D95-D3CD31807B3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1371600"/>
            <a:ext cx="4038120" cy="5028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48320" y="1447920"/>
            <a:ext cx="4190760" cy="4952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9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(s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erived 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1.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derived(s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base(d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derived (d.b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9280" indent="-2692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re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9640" indent="-269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s.b. = static bin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29640" indent="-269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.b. = dynamic bind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troduction to Virtual Function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A22A694-C80F-4413-85DF-CBC4DFDFB56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38120" cy="5181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  cout &lt;&lt; “base\n”;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1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cout &lt;&lt; “derived-1\n”;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2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cout &lt;&lt; “derived-2\n”; 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48320" y="1295280"/>
            <a:ext cx="4038120" cy="5105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b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1 od1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d2 od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cin &gt;&gt; n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(n &gt; 2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 = &amp;od1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 = &amp;od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guess what ?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4648320" y="6324480"/>
            <a:ext cx="2971440" cy="380520"/>
          </a:xfrm>
          <a:prstGeom prst="wedgeRoundRectCallout">
            <a:avLst>
              <a:gd name="adj1" fmla="val -9132"/>
              <a:gd name="adj2" fmla="val -351163"/>
              <a:gd name="adj3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Num" idx="3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6B05314-52DF-449F-B6F9-7C4C0CA2FD1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onstructors cannot be virtual, but destructors can be virtu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ensures that the derived class destructor is called when a base class pointer is used while deleting a dynamically created derived class o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Num" idx="3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52EB0F8-2ED3-44BC-969F-EBD8D456469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base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 “destructing 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derived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structing 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0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4832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 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p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2560" indent="-3225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590920" y="5867280"/>
            <a:ext cx="4038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non-virtual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Destructor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3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2B7812A-EA87-4BD0-8451-9F62F6C4AF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2860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~base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 “destructing 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~derived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structing 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48320" y="1981080"/>
            <a:ext cx="4266720" cy="38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base *p 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p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2560" indent="-3225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deriv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45120" indent="-32256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destructing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971800" y="5867280"/>
            <a:ext cx="3352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virtual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BE8E0C8-5C12-4FE9-ADDD-E4290DCCE3E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lymorphism in C++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inters to derived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point on inherit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 to virtual fun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rtual destru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about virtual fun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al com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ying polymorphis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rtual functions are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Num" idx="3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6CC94B1-B88A-4D3F-B238-46386CDE6B4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nce function is declared as virtual, it stays virtual no matter how many layers of derived classes it may pass throug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derived from derived, not b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derived2 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derived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show()  not defin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base b1;   derived d1;derived2 d2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base -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derived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 = &amp;d2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derived (d.b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imple App of virtu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3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AD53399-25CF-4FBC-B43D-02CBFD15880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 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 = 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 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irtual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 &lt;&lt;“No area computation defined”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out&lt;&lt;“for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class”;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triang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ublic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Void show_area(){cout&lt;&lt; x* 0.5 * y;} 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lass circ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 cout &lt;&lt; x *x;}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gure *p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Triangle 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rcle 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5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 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About Virtu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3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F9A47F1-2C2E-492A-B1E8-FFB892C48A7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lps to guarantee that a derived class will provide its own redefini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we want to omit the body of a virtual function in a base class, we can use pure virtual fun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Gill Sans MT"/>
              </a:rPr>
              <a:t>virtual ret-type func-name(param-list) = 0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Pure virtual function is a virtual function that has no definition in its base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ur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Pure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2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3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150F4E8-A5DA-4B04-BF2E-0F5BE6FB35E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solidFill>
              <a:srgbClr val="aab0c8"/>
            </a:solidFill>
          </a:ln>
        </p:spPr>
        <p:txBody>
          <a:bodyPr lIns="90000" rIns="90000" tIns="45000" bIns="45000" anchor="t">
            <a:normAutofit fontScale="6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=0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=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=0 ;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pur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makes a class an </a:t>
            </a:r>
            <a:r>
              <a:rPr b="1" i="1" lang="en-US" sz="2000" spc="-1" strike="noStrike">
                <a:solidFill>
                  <a:srgbClr val="6600cc"/>
                </a:solidFill>
                <a:latin typeface="Gill Sans MT"/>
              </a:rPr>
              <a:t>abstract clas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We cannot create any objects of such class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 forces derived classes to override it own implementat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464653"/>
                </a:solidFill>
                <a:latin typeface="Gill Sans MT"/>
              </a:rPr>
              <a:t>Otherwise become abstract too and the complier will report an erro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imple App of virtu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3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BD05208-A3CA-47CE-8805-60FCDB7C67F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x,y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et_dim(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I,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j=0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x=I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Y= j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=0 ;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pure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triang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show_area(){cout&lt;&lt; x* 0.5 * y;}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circle: </a:t>
            </a: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figure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no definiton of show_area() will case err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main()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Figure *p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Triangle 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Circle c; </a:t>
            </a:r>
            <a:r>
              <a:rPr b="0" lang="en-US" sz="2800" spc="-1" strike="noStrike">
                <a:solidFill>
                  <a:srgbClr val="008000"/>
                </a:solidFill>
                <a:latin typeface="Consolas"/>
              </a:rPr>
              <a:t>// illegal – can’t cre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,5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= &amp;c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et_dim(10.0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P-&gt; show_area(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bstrac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Num" idx="4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41FC5F6-9CC3-4BB5-B4D6-5BEA122D060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f a class has at least one pure virtual function, then that class is said to be abstrac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n abstract class has one important feature: </a:t>
            </a:r>
            <a:r>
              <a:rPr b="0" lang="en-GB" sz="2000" spc="-1" strike="noStrike">
                <a:solidFill>
                  <a:srgbClr val="ff0000"/>
                </a:solidFill>
                <a:latin typeface="Gill Sans MT"/>
              </a:rPr>
              <a:t>there are no object of the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stead, abstract class must be used only as a base that other classes will inheri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ven if the class is abstract, you still can use it to declare pointers, which are needed to support run time polymorphis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l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ldNum" idx="4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3146C9D-43DD-4C60-8C0F-E2B8D1A901C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-time polymorphism is not automatically activated in C+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have to use virtual functions and base class pointers to enforce and activate run-time polymorphism in C+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pplying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Num" idx="4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7FB8A19-3F27-4BD4-A719-A443DE8A6C8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rly bi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rmal functions, overloaded func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nvirtual member and friend func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solved at compile 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ery efficient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lacks flexibility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te bi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irtual functions accessed via a base class pointe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solved at run-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Quite flexible during run-ti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ut has run-time overhead; slows down program execu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lymorphism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11BFDDF-033C-4F76-93A5-FACB9C7D8BC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 typ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pile time polymorphis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static or early bin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Function and operator overloa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un time polymorphis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dynamic or late bind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Virtual fun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inters to Deriv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D6693FC-A35B-4D02-9348-4885B2D324B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6864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++ allows base class pointers to point to derived class obje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ts have –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 Base_Class{ … };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 Derived_Class: </a:t>
            </a:r>
            <a:r>
              <a:rPr b="0" lang="en-US" sz="19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 Base_Class{ … };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n we can write –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Base_Class *p1; </a:t>
            </a:r>
            <a:r>
              <a:rPr b="0" lang="en-US" sz="1900" spc="-1" strike="noStrike">
                <a:solidFill>
                  <a:srgbClr val="008000"/>
                </a:solidFill>
                <a:latin typeface="Consolas"/>
              </a:rPr>
              <a:t>// pointer to object of type Base_Clas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olas"/>
              </a:rPr>
              <a:t>Derived_Class derived_obj; </a:t>
            </a:r>
            <a:r>
              <a:rPr b="0" lang="en-US" sz="1900" spc="-1" strike="noStrike">
                <a:solidFill>
                  <a:srgbClr val="008000"/>
                </a:solidFill>
                <a:latin typeface="Consolas"/>
              </a:rPr>
              <a:t>// object of type Derived_Clas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th statement are vali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1 = &amp;derived_obj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_Class *p2 =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_Class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ldNum" idx="2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4EE5BC-4A20-407D-BA4F-968E5C40C69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ing a base class pointer (pointing to a derived class object) we can access only those members of the derived object </a:t>
            </a:r>
            <a:r>
              <a:rPr b="1" lang="en-US" sz="2400" spc="-1" strike="noStrike">
                <a:solidFill>
                  <a:srgbClr val="660066"/>
                </a:solidFill>
                <a:latin typeface="Gill Sans MT"/>
              </a:rPr>
              <a:t>that were inherited from the 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is because the </a:t>
            </a:r>
            <a:r>
              <a:rPr b="1" lang="en-US" sz="2400" spc="-1" strike="noStrike">
                <a:solidFill>
                  <a:srgbClr val="660066"/>
                </a:solidFill>
                <a:latin typeface="Gill Sans MT"/>
              </a:rPr>
              <a:t>base poin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s knowledge only of the base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knows nothing about the members added by the derived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0356CC8-6AC8-4562-87DF-DBAAA7DF04A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5105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base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show()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cout &lt;&lt; “derived\n”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5000" bIns="45000" anchor="t">
            <a:normAutofit fontScale="8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erived 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d1.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deri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base *pb = &amp;b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 = &amp;d1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pb-&gt;show();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b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 the function calls here are statically bou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6F36452-BBB2-4DC8-833F-2209F735F32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ile it is permissible for a base class pointer to point to a derived object, the reverse is not tru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base b1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erived *pd = &amp;b1;  //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ompiler err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 can perform a </a:t>
            </a:r>
            <a:r>
              <a:rPr b="1" lang="en-US" sz="2000" spc="-1" strike="noStrike">
                <a:solidFill>
                  <a:srgbClr val="660066"/>
                </a:solidFill>
                <a:latin typeface="Gill Sans MT"/>
              </a:rPr>
              <a:t>downcas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ith the help of type-casting, but should use it with caution 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FB254A1-A19E-44C9-A5E4-C11EB856124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45784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et’s hav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 …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base { …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xyz { … };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having no relation with “base” or “derived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n if we write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base b_obj, *pbase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d_obj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base = &amp;d_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OK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*pderived = pbase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compiler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derived *pderived = (derived *)pbase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 ok, valid down casting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xyz obj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derived = (derived *)&amp;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invalid casting, no compiler error, but may cause run-time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pderived = (derived *)&amp;b_obj; </a:t>
            </a:r>
            <a:r>
              <a:rPr b="0" lang="en-US" sz="1700" spc="-1" strike="noStrike">
                <a:solidFill>
                  <a:srgbClr val="008000"/>
                </a:solidFill>
                <a:latin typeface="Consolas"/>
              </a:rPr>
              <a:t>//invalid casting, no compiler error, but may cause run-time erro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Pointers to Derived Classes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397B668-23E8-4F4F-B761-C82C8B47C9D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fact using type-casting, we can use pointer of any class to point to an object of any other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The compiler will not complai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During run-time, the address assignment will also succee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But if we use the pointer to access any member, then it may cause run-time err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70067674-F97A-4CE3-A0A5-9210181C444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A058DC7A-51BA-4C32-B43A-2655A6C49473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2016</TotalTime>
  <Application>LibreOffice/7.4.7.2$Linux_X86_64 LibreOffice_project/40$Build-2</Application>
  <AppVersion>15.0000</AppVersion>
  <Words>2045</Words>
  <Paragraphs>394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5:54:09Z</dcterms:created>
  <dc:creator>Ahmed Khurshid</dc:creator>
  <dc:description/>
  <dc:language>en-US</dc:language>
  <cp:lastModifiedBy>Aseel</cp:lastModifiedBy>
  <dcterms:modified xsi:type="dcterms:W3CDTF">2014-04-09T18:08:37Z</dcterms:modified>
  <cp:revision>566</cp:revision>
  <dc:subject/>
  <dc:title>Chapter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PublishingExpirationDate">
    <vt:lpwstr/>
  </property>
  <property fmtid="{D5CDD505-2E9C-101B-9397-08002B2CF9AE}" pid="6" name="PublishingStartDate">
    <vt:lpwstr/>
  </property>
  <property fmtid="{D5CDD505-2E9C-101B-9397-08002B2CF9AE}" pid="7" name="Slides">
    <vt:r8>27</vt:r8>
  </property>
</Properties>
</file>