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404120-8072-42E7-9EF4-61307EFA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08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43"/>
          </p:nvPr>
        </p:nvSpPr>
        <p:spPr>
          <a:xfrm>
            <a:off x="4143240" y="9120240"/>
            <a:ext cx="316980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C8CE6-1C1B-4A4C-B46A-35E3CE316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8F1-C858-47AB-A0ED-29F30EC3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8DB-3FC3-4EF6-971F-99667B91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B81-1628-47FB-9ECF-9191659F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459-7540-4361-A0C2-B8008B71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0A1F-056B-4A2E-95C3-E9BBA1DC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13D0-5207-48EA-B95C-0BFDB26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FEB-9466-4E3C-82AD-5F6CB97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060B-5EFB-4D2F-9FD2-9395E0FA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3414-F1E0-435A-B60E-B257463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064-6C0E-47B4-A34D-3578CD85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E10-93C6-444D-B714-F6515BC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AEA-0429-44D2-88E3-EF1CD58F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8BF-26E8-4B89-9D67-34EF163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F9FF-1A8E-4AB2-864B-1B34033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1005-AF0A-47EB-BAE3-4492C25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65F9-B968-45DF-BA60-884E9914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16D-3A30-4C70-A321-F1AFDA32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9EBA-C00F-4D19-AC50-9512A6C3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DADA-D4A1-4199-AC82-2294EBA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98FF-0795-4222-9A77-EAE519C0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2382-DE4A-49E0-912D-FE0B6DF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AB58-70B9-437D-84B4-B78A0D3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A00-3071-4086-B516-25A79B5E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B863-D0B8-466D-A22B-DA352F3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6AE5-CFA3-4F88-848A-9D1860C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5141-F601-4EC4-B46A-3DF46D3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33A1-A230-4D12-9980-49EC464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DD2A-7D43-477D-878C-2C7E9AE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6921-013A-46A5-AF98-148F440D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8701-7A12-4D93-BD5E-3CA5E77D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2679-7E8B-4DF1-9DDF-5C09D518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AC4B-F30E-493C-A7BA-A43C560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568D-490D-41F9-B113-A86916B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A52-7AAB-41AD-92CD-A2BD52F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6AE4-3FFF-4306-AE27-99C2F60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B8A5-DC93-436D-ADF5-C86CE11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8378-4257-4615-AEE2-EFB7B0C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34E6-03C7-4CBA-9BDC-83DFE86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EB50-6A89-42DB-BC0E-8919DB0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5756-FDB3-4C66-B0C5-039E963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2D7B-E190-45D0-9E38-50657FA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B52E-2E11-4A37-9CBF-36361298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D91A-AAA4-40EC-B254-FE4EC254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8DD-D7E7-45F7-A2E7-70220F4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EC3-3D97-43CB-A692-98721C7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060-D66A-48B8-AF2B-3A4D6ED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322-C877-411E-B2B7-5642715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F5E-1E29-41E6-A8E6-55C7F4D8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692184-DBBD-4081-BD1A-BDB810369FD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13BD04-D6C5-4D17-B1D8-BA92B41D7C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89C1919-4864-4FEE-B7D0-D7DDA0FEF8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F1FC8C-3535-43D8-A3B9-A457DFEB7C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lymorphism &amp;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6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8579BCB-78FA-4F56-8FB1-8755B0332EF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AB7C11-4991-4344-AC24-0F003E872D9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inter arithmetic is relative to the data type the pointer is declared as pointing 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we point a base pointer to a derived object and then increment the pointer, it will not be pointing to the next derived object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will be pointing to (what it thinks is) the next base object !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Be careful about th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ortant Point on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9828B9-6242-4431-BEB2-86FF1FE37B5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++, only public inheritance supports the perfect IS-A relationship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of private and protected inheritance, we cannot treat a derived class object in the same way as a base class obj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ublic members of the base class becomes private or protected in the derived class and hence cannot be accessed directly by others using derived class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we use private or protected inheritance, we cannot assign the address of a derived class object to a base class pointer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We can use type-casting, but it makes the program logic and structure complicat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F6CB09F-6DD2-4544-913C-972B8479E2A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virtual function is a member function that is declared within a base class and redefined (called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overrid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by a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implements the “one interface, multiple methods” philosophy that underlies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word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used to designate a member function as vir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s run-time polymorphism with the help of base class poin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7826F5-8F7F-4421-A4AB-B65E75E6BED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7467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le redefining a virtual function in a derived class, the function signature must match the original function present in the base clas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, we call it </a:t>
            </a:r>
            <a:r>
              <a:rPr b="1" i="1" lang="en-US" sz="1800" spc="-1" strike="noStrike">
                <a:solidFill>
                  <a:srgbClr val="660066"/>
                </a:solidFill>
                <a:latin typeface="Gill Sans MT"/>
              </a:rPr>
              <a:t>overriding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not overload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a virtual function is redefined by a derived class, the keyword </a:t>
            </a:r>
            <a:r>
              <a:rPr b="1" lang="en-US" sz="18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s not needed (but can be specified if the programmer wants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“virtual”-ity of the member function continues along the inheritance ch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lass that contains a virtual function is referred to as a </a:t>
            </a:r>
            <a:r>
              <a:rPr b="1" i="1" lang="en-US" sz="1800" spc="-1" strike="noStrike">
                <a:solidFill>
                  <a:srgbClr val="6600cc"/>
                </a:solidFill>
                <a:latin typeface="Gill Sans MT"/>
              </a:rPr>
              <a:t>polymorphic c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00FA8F3-3540-4986-B522-874A02B777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the polymorphic approach to work, several conditions must be m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, all the different derived classes must be descended from a singl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, the overridden function must be declared to be virtual in th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474F52A-EA81-4785-9E77-3BC82ABD9B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4038120" cy="5028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8320" y="1447920"/>
            <a:ext cx="4190760" cy="495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base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derived 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r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s.b. = stat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.b. = dynam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C0F7329-5F57-4F7D-805F-1A14B5D96D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 cout &lt;&lt; “base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1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1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2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2\n”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48320" y="1295280"/>
            <a:ext cx="403812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b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1 od1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2 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 &gt; 2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guess what ?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648320" y="6324480"/>
            <a:ext cx="2971440" cy="380520"/>
          </a:xfrm>
          <a:prstGeom prst="wedgeRoundRectCallout">
            <a:avLst>
              <a:gd name="adj1" fmla="val -9132"/>
              <a:gd name="adj2" fmla="val -351163"/>
              <a:gd name="adj3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9C701E-DE67-4858-9173-0DA04CAF83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nstructors cannot be virtual, but destructors can be virt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ensures that the derived class destructor is called when a base class pointer is used while deleting a dynamically created derived class 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C4C3FCE-620B-4DDB-B391-E2FAB0B051A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0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590920" y="5867280"/>
            <a:ext cx="403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non-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81698D4-2F86-447D-9132-04D7072D15C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971800" y="5867280"/>
            <a:ext cx="335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2B285B-8639-4ADA-872C-0FF4C7A4F6A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morphism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ers to derived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point on inheri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to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tual de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about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 com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ying polymorph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rtual functions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348D15-9B0B-4D43-AF98-03B21E9B30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nce function is declared as virtual, it stays virtual no matter how many layers of derived classes it may pass thro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derived from derived, not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show()  not def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b1;   derived d1;derived2 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base -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09BB10-532A-4E57-8F29-81685D50BA0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 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 = 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irtual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“No area computation defined”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“for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lass”;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oid show_area(){cout&lt;&lt; x* 0.5 * y;} 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 cout &lt;&lt; x *x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 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About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DE9FE5-30B2-4764-B399-4678C2EDDC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s to guarantee that a derived class will provide its own redefini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want to omit the body of a virtual function in a base class, we can use pure virtual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virtual ret-type func-name(param-list) = 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ure virtual function is a virtual function that has no definition in its bas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ur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Pur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925A05B-57FA-4973-813F-97ED3688A8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solidFill>
              <a:srgbClr val="aab0c8"/>
            </a:solidFill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makes a class an </a:t>
            </a:r>
            <a:r>
              <a:rPr b="1" i="1" lang="en-US" sz="2000" spc="-1" strike="noStrike">
                <a:solidFill>
                  <a:srgbClr val="6600cc"/>
                </a:solidFill>
                <a:latin typeface="Gill Sans MT"/>
              </a:rPr>
              <a:t>abstract clas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We cannot create any objects of such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forces derived classes to override it own implement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therwise become abstract too and the complier will report an err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FF68A1-EA70-41E8-A717-28E47AC5977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cout&lt;&lt; x* 0.5 * y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no definiton of show_area() will case err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illegal – can’t cre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4052D7C-CC8D-4981-8E13-D5537FABCC7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a class has at least one pure virtual function, then that class is said to be abstrac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 abstract class has one important feature: </a:t>
            </a:r>
            <a:r>
              <a:rPr b="0" lang="en-GB" sz="2000" spc="-1" strike="noStrike">
                <a:solidFill>
                  <a:srgbClr val="ff0000"/>
                </a:solidFill>
                <a:latin typeface="Gill Sans MT"/>
              </a:rPr>
              <a:t>there are no object of th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stead, abstract class must be used only as a base that other classes will inher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ven if the class is abstract, you still can use it to declare pointers, which are needed to support run time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D3A8BE-83EB-421C-9D39-A6B354B9CE6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-time polymorphism is not automatically activated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have to use virtual functions and base class pointers to enforce and activate run-time polymorphism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pplying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D0297F-015D-4837-B3A1-ACD9717506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rly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rmal functions, overloade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nvirtual member and frien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compile 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ery efficien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lacks flexibility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te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irtual functions accessed via a base class point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Quite flexible during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has run-time overhead; slows down program execu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lymorphism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C22A9BA-7578-4083-AFC9-FA8180D47D6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pile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stat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Function and operator overloa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un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dynamic or late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Virtual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inters to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DB284A-04EA-44D8-AA19-0A15252217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686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allows base class pointers to point to derived class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ts have –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Base_Class{ … }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Derived_Class: </a:t>
            </a: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Base_Class{ … }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n we can write –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Base_Class *p1; </a:t>
            </a:r>
            <a:r>
              <a:rPr b="0" lang="en-US" sz="1900" spc="-1" strike="noStrike">
                <a:solidFill>
                  <a:srgbClr val="008000"/>
                </a:solidFill>
                <a:latin typeface="Consolas"/>
              </a:rPr>
              <a:t>// pointer to object of type Base_Clas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Derived_Class derived_obj; </a:t>
            </a:r>
            <a:r>
              <a:rPr b="0" lang="en-US" sz="1900" spc="-1" strike="noStrike">
                <a:solidFill>
                  <a:srgbClr val="008000"/>
                </a:solidFill>
                <a:latin typeface="Consolas"/>
              </a:rPr>
              <a:t>// object of type Derived_Clas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th statement are vali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1 = &amp;derived_ob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_Class *p2 =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_Class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0F9228F-96BB-40AE-9E86-A0C73276B6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 base class pointer (pointing to a derived class object) we can access only those members of the derived object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that were inherited from the 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because the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base poin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s knowledge only of the base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knows nothing about the members added by the derived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E05BFA-97CF-431C-81E6-F2DDCC3090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the function calls here are statically bou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D3FB69-9E34-4693-A948-DA512520471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it is permissible for a base class pointer to point to a derived object, the reverse is not tr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ase b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rived *pd = &amp;b1;  //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mpiler err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 can perform a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downca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he help of type-casting, but should use it with caution 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4AC602-0939-4815-86FC-07CA24D5BE6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4578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t’s hav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yz { … }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having no relation with “base” or “derived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n if we write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base b_obj, *pbase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d_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base = &amp;d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compiler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(derived *)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, valid down casting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xyz 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b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F35C35-12C0-4848-873F-65D6D374769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fact using type-casting, we can use pointer of any class to point to an object of any other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The compiler will not compl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uring run-time, the address assignment will also succe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ut if we use the pointer to access any member, then it may cause run-time err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0067674-F97A-4CE3-A0A5-9210181C444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A058DC7A-51BA-4C32-B43A-2655A6C49473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2016</TotalTime>
  <Application>LibreOffice/7.4.7.2$Linux_X86_64 LibreOffice_project/40$Build-2</Application>
  <AppVersion>15.0000</AppVersion>
  <Words>2045</Words>
  <Paragraphs>39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54:09Z</dcterms:created>
  <dc:creator>Ahmed Khurshid</dc:creator>
  <dc:description/>
  <dc:language>en-US</dc:language>
  <cp:lastModifiedBy>Aseel</cp:lastModifiedBy>
  <dcterms:modified xsi:type="dcterms:W3CDTF">2014-04-09T18:08:37Z</dcterms:modified>
  <cp:revision>566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PublishingExpirationDate">
    <vt:lpwstr/>
  </property>
  <property fmtid="{D5CDD505-2E9C-101B-9397-08002B2CF9AE}" pid="6" name="PublishingStartDate">
    <vt:lpwstr/>
  </property>
  <property fmtid="{D5CDD505-2E9C-101B-9397-08002B2CF9AE}" pid="7" name="Slides">
    <vt:r8>27</vt:r8>
  </property>
</Properties>
</file>