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4FCC2C2-6AB2-43B4-B729-C14ED022D6C2}" type="doc">
      <dgm:prSet loTypeId="urn:microsoft.com/office/officeart/2005/8/layout/hProcess9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pPr rtl="1"/>
          <a:endParaRPr lang="x-none"/>
        </a:p>
      </dgm:t>
    </dgm:pt>
    <dgm:pt modelId="{60204B13-2C61-4B54-9F1F-6AB5AA554599}">
      <dgm:prSet phldrT="[Text]"/>
      <dgm:spPr/>
      <dgm:t>
        <a:bodyPr/>
        <a:lstStyle/>
        <a:p>
          <a:pPr algn="l" rtl="0"/>
          <a:r>
            <a:rPr lang="en-GB" dirty="0" smtClean="0">
              <a:ea typeface="msmincho" charset="0"/>
              <a:cs typeface="msmincho" charset="0"/>
            </a:rPr>
            <a:t>Dividing a problem into smaller sub problems.</a:t>
          </a:r>
          <a:endParaRPr lang="x-none" dirty="0"/>
        </a:p>
      </dgm:t>
    </dgm:pt>
    <dgm:pt modelId="{7B76B7CB-8D46-4B5F-B520-936DEDCA6774}" type="parTrans" cxnId="{638656A4-4588-4A42-A214-A3841D46AD1C}">
      <dgm:prSet/>
      <dgm:spPr/>
      <dgm:t>
        <a:bodyPr/>
        <a:lstStyle/>
        <a:p>
          <a:pPr rtl="1"/>
          <a:endParaRPr lang="x-none"/>
        </a:p>
      </dgm:t>
    </dgm:pt>
    <dgm:pt modelId="{367599E7-6FD4-47CA-9532-5D4A661A5007}" type="sibTrans" cxnId="{638656A4-4588-4A42-A214-A3841D46AD1C}">
      <dgm:prSet/>
      <dgm:spPr/>
      <dgm:t>
        <a:bodyPr/>
        <a:lstStyle/>
        <a:p>
          <a:pPr rtl="1"/>
          <a:endParaRPr lang="x-none"/>
        </a:p>
      </dgm:t>
    </dgm:pt>
    <dgm:pt modelId="{E9FCAC11-3512-4A24-9099-2F2B63221942}">
      <dgm:prSet phldrT="[Text]"/>
      <dgm:spPr/>
      <dgm:t>
        <a:bodyPr/>
        <a:lstStyle/>
        <a:p>
          <a:pPr algn="l" rtl="0"/>
          <a:r>
            <a:rPr lang="en-GB" dirty="0" smtClean="0">
              <a:ea typeface="msmincho" charset="0"/>
              <a:cs typeface="msmincho" charset="0"/>
            </a:rPr>
            <a:t>Each sub problem is solved. </a:t>
          </a:r>
          <a:endParaRPr lang="x-none" dirty="0"/>
        </a:p>
      </dgm:t>
    </dgm:pt>
    <dgm:pt modelId="{DDED0B13-E4FF-4692-838A-6C9A359DFD70}" type="parTrans" cxnId="{3E73D2E0-A99A-474F-9D99-33E0387F070C}">
      <dgm:prSet/>
      <dgm:spPr/>
      <dgm:t>
        <a:bodyPr/>
        <a:lstStyle/>
        <a:p>
          <a:pPr rtl="1"/>
          <a:endParaRPr lang="x-none"/>
        </a:p>
      </dgm:t>
    </dgm:pt>
    <dgm:pt modelId="{765F93B8-1780-4911-B875-D97C05CB81C4}" type="sibTrans" cxnId="{3E73D2E0-A99A-474F-9D99-33E0387F070C}">
      <dgm:prSet/>
      <dgm:spPr/>
      <dgm:t>
        <a:bodyPr/>
        <a:lstStyle/>
        <a:p>
          <a:pPr rtl="1"/>
          <a:endParaRPr lang="x-none"/>
        </a:p>
      </dgm:t>
    </dgm:pt>
    <dgm:pt modelId="{D5229043-3C14-46EF-8D01-8D7C48D16BB3}">
      <dgm:prSet phldrT="[Text]"/>
      <dgm:spPr/>
      <dgm:t>
        <a:bodyPr/>
        <a:lstStyle/>
        <a:p>
          <a:pPr algn="l" rtl="0"/>
          <a:r>
            <a:rPr lang="en-GB" dirty="0" smtClean="0">
              <a:ea typeface="msmincho" charset="0"/>
              <a:cs typeface="msmincho" charset="0"/>
            </a:rPr>
            <a:t>Combine all the sub solutions to solve the overall problem. </a:t>
          </a:r>
          <a:endParaRPr lang="x-none" dirty="0"/>
        </a:p>
      </dgm:t>
    </dgm:pt>
    <dgm:pt modelId="{922794F5-C220-4B99-BB18-4FE8DA67FA1C}" type="parTrans" cxnId="{A2996866-FCFA-46C6-9094-E42FA7F737BC}">
      <dgm:prSet/>
      <dgm:spPr/>
      <dgm:t>
        <a:bodyPr/>
        <a:lstStyle/>
        <a:p>
          <a:pPr rtl="1"/>
          <a:endParaRPr lang="x-none"/>
        </a:p>
      </dgm:t>
    </dgm:pt>
    <dgm:pt modelId="{ECCF5A3E-1E07-4443-B8DC-A37B4856FA06}" type="sibTrans" cxnId="{A2996866-FCFA-46C6-9094-E42FA7F737BC}">
      <dgm:prSet/>
      <dgm:spPr/>
      <dgm:t>
        <a:bodyPr/>
        <a:lstStyle/>
        <a:p>
          <a:pPr rtl="1"/>
          <a:endParaRPr lang="x-none"/>
        </a:p>
      </dgm:t>
    </dgm:pt>
    <dgm:pt modelId="{DB1465E9-283E-416D-AC65-7E9F10F2FFE6}" type="pres">
      <dgm:prSet presAssocID="{94FCC2C2-6AB2-43B4-B729-C14ED022D6C2}" presName="CompostProcess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717E7DD1-11F4-4241-926F-AFB6D6A7C2F4}" type="pres">
      <dgm:prSet presAssocID="{94FCC2C2-6AB2-43B4-B729-C14ED022D6C2}" presName="arrow" presStyleLbl="bgShp" presStyleIdx="0" presStyleCnt="1"/>
      <dgm:spPr/>
    </dgm:pt>
    <dgm:pt modelId="{F86F693D-B55B-4842-BA9F-8534272FA8FA}" type="pres">
      <dgm:prSet presAssocID="{94FCC2C2-6AB2-43B4-B729-C14ED022D6C2}" presName="linearProcess" presStyleCnt="0"/>
      <dgm:spPr/>
    </dgm:pt>
    <dgm:pt modelId="{0C34CD87-7AE0-48EE-966E-E87EFFA15293}" type="pres">
      <dgm:prSet presAssocID="{60204B13-2C61-4B54-9F1F-6AB5AA554599}" presName="text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x-none"/>
        </a:p>
      </dgm:t>
    </dgm:pt>
    <dgm:pt modelId="{4D3F910F-E3E6-4665-96BB-DEAF8640064C}" type="pres">
      <dgm:prSet presAssocID="{367599E7-6FD4-47CA-9532-5D4A661A5007}" presName="sibTrans" presStyleCnt="0"/>
      <dgm:spPr/>
    </dgm:pt>
    <dgm:pt modelId="{982911DC-FE6C-452B-AFE7-B5F293BD84E4}" type="pres">
      <dgm:prSet presAssocID="{E9FCAC11-3512-4A24-9099-2F2B63221942}" presName="text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x-none"/>
        </a:p>
      </dgm:t>
    </dgm:pt>
    <dgm:pt modelId="{3F81556F-B737-41A7-8A1E-41A7670C4E2A}" type="pres">
      <dgm:prSet presAssocID="{765F93B8-1780-4911-B875-D97C05CB81C4}" presName="sibTrans" presStyleCnt="0"/>
      <dgm:spPr/>
    </dgm:pt>
    <dgm:pt modelId="{63A6EDD3-23AF-451A-9979-CB105AF9C7B0}" type="pres">
      <dgm:prSet presAssocID="{D5229043-3C14-46EF-8D01-8D7C48D16BB3}" presName="text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pPr rtl="1"/>
          <a:endParaRPr lang="x-none"/>
        </a:p>
      </dgm:t>
    </dgm:pt>
  </dgm:ptLst>
  <dgm:cxnLst>
    <dgm:cxn modelId="{A2996866-FCFA-46C6-9094-E42FA7F737BC}" srcId="{94FCC2C2-6AB2-43B4-B729-C14ED022D6C2}" destId="{D5229043-3C14-46EF-8D01-8D7C48D16BB3}" srcOrd="2" destOrd="0" parTransId="{922794F5-C220-4B99-BB18-4FE8DA67FA1C}" sibTransId="{ECCF5A3E-1E07-4443-B8DC-A37B4856FA06}"/>
    <dgm:cxn modelId="{3E73D2E0-A99A-474F-9D99-33E0387F070C}" srcId="{94FCC2C2-6AB2-43B4-B729-C14ED022D6C2}" destId="{E9FCAC11-3512-4A24-9099-2F2B63221942}" srcOrd="1" destOrd="0" parTransId="{DDED0B13-E4FF-4692-838A-6C9A359DFD70}" sibTransId="{765F93B8-1780-4911-B875-D97C05CB81C4}"/>
    <dgm:cxn modelId="{2484F868-E970-4DFA-AE5C-01A926902825}" type="presOf" srcId="{D5229043-3C14-46EF-8D01-8D7C48D16BB3}" destId="{63A6EDD3-23AF-451A-9979-CB105AF9C7B0}" srcOrd="0" destOrd="0" presId="urn:microsoft.com/office/officeart/2005/8/layout/hProcess9"/>
    <dgm:cxn modelId="{B1439890-757C-4E7B-8809-98CF97312675}" type="presOf" srcId="{E9FCAC11-3512-4A24-9099-2F2B63221942}" destId="{982911DC-FE6C-452B-AFE7-B5F293BD84E4}" srcOrd="0" destOrd="0" presId="urn:microsoft.com/office/officeart/2005/8/layout/hProcess9"/>
    <dgm:cxn modelId="{638656A4-4588-4A42-A214-A3841D46AD1C}" srcId="{94FCC2C2-6AB2-43B4-B729-C14ED022D6C2}" destId="{60204B13-2C61-4B54-9F1F-6AB5AA554599}" srcOrd="0" destOrd="0" parTransId="{7B76B7CB-8D46-4B5F-B520-936DEDCA6774}" sibTransId="{367599E7-6FD4-47CA-9532-5D4A661A5007}"/>
    <dgm:cxn modelId="{219D7ADD-94C2-4213-8E1F-A4FD253FC568}" type="presOf" srcId="{94FCC2C2-6AB2-43B4-B729-C14ED022D6C2}" destId="{DB1465E9-283E-416D-AC65-7E9F10F2FFE6}" srcOrd="0" destOrd="0" presId="urn:microsoft.com/office/officeart/2005/8/layout/hProcess9"/>
    <dgm:cxn modelId="{D2EC28BE-A2D4-462C-AE31-E0EE64EFA5F4}" type="presOf" srcId="{60204B13-2C61-4B54-9F1F-6AB5AA554599}" destId="{0C34CD87-7AE0-48EE-966E-E87EFFA15293}" srcOrd="0" destOrd="0" presId="urn:microsoft.com/office/officeart/2005/8/layout/hProcess9"/>
    <dgm:cxn modelId="{D819BB9E-98EC-46E7-9A76-A55158F0DE1C}" type="presParOf" srcId="{DB1465E9-283E-416D-AC65-7E9F10F2FFE6}" destId="{717E7DD1-11F4-4241-926F-AFB6D6A7C2F4}" srcOrd="0" destOrd="0" presId="urn:microsoft.com/office/officeart/2005/8/layout/hProcess9"/>
    <dgm:cxn modelId="{DCD7D200-82C7-464A-B9CD-E7B52804B6AA}" type="presParOf" srcId="{DB1465E9-283E-416D-AC65-7E9F10F2FFE6}" destId="{F86F693D-B55B-4842-BA9F-8534272FA8FA}" srcOrd="1" destOrd="0" presId="urn:microsoft.com/office/officeart/2005/8/layout/hProcess9"/>
    <dgm:cxn modelId="{537260E7-1EA1-429B-B233-E2F86C2222B9}" type="presParOf" srcId="{F86F693D-B55B-4842-BA9F-8534272FA8FA}" destId="{0C34CD87-7AE0-48EE-966E-E87EFFA15293}" srcOrd="0" destOrd="0" presId="urn:microsoft.com/office/officeart/2005/8/layout/hProcess9"/>
    <dgm:cxn modelId="{35D0BAE8-0776-465C-95E8-60221A66D47B}" type="presParOf" srcId="{F86F693D-B55B-4842-BA9F-8534272FA8FA}" destId="{4D3F910F-E3E6-4665-96BB-DEAF8640064C}" srcOrd="1" destOrd="0" presId="urn:microsoft.com/office/officeart/2005/8/layout/hProcess9"/>
    <dgm:cxn modelId="{7D0A7312-5011-4147-8232-D6D432D3BA45}" type="presParOf" srcId="{F86F693D-B55B-4842-BA9F-8534272FA8FA}" destId="{982911DC-FE6C-452B-AFE7-B5F293BD84E4}" srcOrd="2" destOrd="0" presId="urn:microsoft.com/office/officeart/2005/8/layout/hProcess9"/>
    <dgm:cxn modelId="{A609E1FC-C20E-4376-BDEA-D875874D89D0}" type="presParOf" srcId="{F86F693D-B55B-4842-BA9F-8534272FA8FA}" destId="{3F81556F-B737-41A7-8A1E-41A7670C4E2A}" srcOrd="3" destOrd="0" presId="urn:microsoft.com/office/officeart/2005/8/layout/hProcess9"/>
    <dgm:cxn modelId="{4F4D2AC9-CA3A-481C-A164-84EE8D1D8B4C}" type="presParOf" srcId="{F86F693D-B55B-4842-BA9F-8534272FA8FA}" destId="{63A6EDD3-23AF-451A-9979-CB105AF9C7B0}" srcOrd="4" destOrd="0" presId="urn:microsoft.com/office/officeart/2005/8/layout/hProcess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17E7DD1-11F4-4241-926F-AFB6D6A7C2F4}">
      <dsp:nvSpPr>
        <dsp:cNvPr id="0" name=""/>
        <dsp:cNvSpPr/>
      </dsp:nvSpPr>
      <dsp:spPr>
        <a:xfrm>
          <a:off x="564118" y="0"/>
          <a:ext cx="6393338" cy="3579812"/>
        </a:xfrm>
        <a:prstGeom prst="rightArrow">
          <a:avLst/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C34CD87-7AE0-48EE-966E-E87EFFA15293}">
      <dsp:nvSpPr>
        <dsp:cNvPr id="0" name=""/>
        <dsp:cNvSpPr/>
      </dsp:nvSpPr>
      <dsp:spPr>
        <a:xfrm>
          <a:off x="254881" y="1073943"/>
          <a:ext cx="2256472" cy="143192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2000" kern="1200" dirty="0" smtClean="0">
              <a:ea typeface="msmincho" charset="0"/>
              <a:cs typeface="msmincho" charset="0"/>
            </a:rPr>
            <a:t>Dividing a problem into smaller sub problems.</a:t>
          </a:r>
          <a:endParaRPr lang="x-none" sz="2000" kern="1200" dirty="0"/>
        </a:p>
      </dsp:txBody>
      <dsp:txXfrm>
        <a:off x="324782" y="1143844"/>
        <a:ext cx="2116670" cy="1292122"/>
      </dsp:txXfrm>
    </dsp:sp>
    <dsp:sp modelId="{982911DC-FE6C-452B-AFE7-B5F293BD84E4}">
      <dsp:nvSpPr>
        <dsp:cNvPr id="0" name=""/>
        <dsp:cNvSpPr/>
      </dsp:nvSpPr>
      <dsp:spPr>
        <a:xfrm>
          <a:off x="2632551" y="1073943"/>
          <a:ext cx="2256472" cy="143192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2000" kern="1200" dirty="0" smtClean="0">
              <a:ea typeface="msmincho" charset="0"/>
              <a:cs typeface="msmincho" charset="0"/>
            </a:rPr>
            <a:t>Each sub problem is solved. </a:t>
          </a:r>
          <a:endParaRPr lang="x-none" sz="2000" kern="1200" dirty="0"/>
        </a:p>
      </dsp:txBody>
      <dsp:txXfrm>
        <a:off x="2702452" y="1143844"/>
        <a:ext cx="2116670" cy="1292122"/>
      </dsp:txXfrm>
    </dsp:sp>
    <dsp:sp modelId="{63A6EDD3-23AF-451A-9979-CB105AF9C7B0}">
      <dsp:nvSpPr>
        <dsp:cNvPr id="0" name=""/>
        <dsp:cNvSpPr/>
      </dsp:nvSpPr>
      <dsp:spPr>
        <a:xfrm>
          <a:off x="5010221" y="1073943"/>
          <a:ext cx="2256472" cy="143192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2000" kern="1200" dirty="0" smtClean="0">
              <a:ea typeface="msmincho" charset="0"/>
              <a:cs typeface="msmincho" charset="0"/>
            </a:rPr>
            <a:t>Combine all the sub solutions to solve the overall problem. </a:t>
          </a:r>
          <a:endParaRPr lang="x-none" sz="2000" kern="1200" dirty="0"/>
        </a:p>
      </dsp:txBody>
      <dsp:txXfrm>
        <a:off x="5080122" y="1143844"/>
        <a:ext cx="2116670" cy="129212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20EBCA-383D-4F03-BCEC-B080FCCB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17C-382C-4071-AFF5-CB086936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847-09EF-4601-97B9-40BFF409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7D5-7C95-41C1-85E4-23E74970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1B2-B1FE-4A9D-A290-2FDBF1AB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536-CC22-40B9-8819-3DDDCA1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388C-FBEB-45D2-8ED3-0247D52A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408-D344-4CC2-8037-C5A4F52D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4A6-8DDE-4F95-AFDE-0B67C0FA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A9B-DDC0-4361-9B29-B776FE7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270-8C89-4A56-A04F-E2896F3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74FB-516E-4D4D-99C6-ED01DA3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A90-97D0-4B92-8A6A-E73F9EA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5196-22C3-4A8E-A04A-8BF4D115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7D1-C7C1-45E9-86C6-62DA65C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0F65-BE06-4B53-A7D3-089DAD3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4E41-CABF-4FD3-889F-BCE1522C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05AB-B55F-45A2-9745-35ECCF00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012F-5382-4A99-B427-637428F9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84CC-9EB2-442C-B54E-0ADE77AF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71A1-F7AA-4377-A79B-DEA2BB3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F1C1-A44A-48D9-8FDE-3629F72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8183-39B0-43F2-8827-D23C1BC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39B-1138-4153-9BA6-1A5885E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0763-8781-4117-AC30-6E7B489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F164-1101-41B0-A7B9-064CAF92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A417-97C0-44C0-BE6A-7EC7ADB0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090B-D9EF-40EF-B4AA-4D387CD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C426-B2C4-46ED-8C32-9479BDE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0869-08DB-4982-B513-1B5BD88D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533A-9FE1-4032-A28F-C51DD37F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05D2-4B12-42A0-8E71-E2C41992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752E-B920-479C-8C63-365A7804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6ACD-B0EB-41A9-B1F5-0C659891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0FF-760C-40D1-88E5-655DCCF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7FC9-B844-4FE1-89F8-F2F4FB2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8AC9-105C-471A-BC49-57D09455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7A55-417F-4CBF-A07D-C33EFC86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85BF-A07A-4FC0-A4A7-391EA6C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FCB9-0395-48C9-A104-6F12F47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BE48-242C-49C1-9948-DBE16E4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4B56-351D-40E5-8F73-A11CED6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6BEE-3C64-4092-99CF-C8C5B886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E508-0537-4751-AAF1-DE78D512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4A72-D8E2-443E-8C9C-A1810113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FB6-4F0F-4B4F-BC18-7774D4D1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6130-623E-4362-B860-DBBA0B3D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EDE0-E05A-43F3-9F1B-095FB847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33C2-796F-4DF7-8F04-48BE7441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5725-D9BD-423D-B80A-EFD5B85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6A71-8635-456C-B237-B12818A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21B4-5BF5-4429-BB1E-29D1BAF5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32D9-37A3-44E4-BA8E-5824FBB4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15F9-99DF-4DAD-8032-FA04A4C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2D1F8-87FF-423A-BFDE-EA866470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4E16-1C11-42CC-9835-F7F395F9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7FD-55F3-455F-B1FB-60BFB8A3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8E94-5A86-4284-BC24-C142D76E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9914-B547-4250-A218-715FE9C8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759F-8CCF-40C3-A8E7-0C6D343F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564F-89BF-4ED0-89D7-1E86E0A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29030-7EA8-49C3-80C1-6FD6068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9BC8-C620-4AF5-8CD0-2CFC25DD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7CD8-DC1E-4003-B5D2-D11F127F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CC709-98B0-45FD-B6DE-3CD7E98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60FA-286B-4B9E-9B82-466C2CDA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9147-B1CA-4057-AEA0-41D8235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CB0-3874-46A9-A0E5-240D343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ED1C-74F8-4715-AE1F-9033DF8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AED2B-647C-463E-B2F3-94CF61A3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3C95-6598-4F64-8445-BA18FD48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99E-9F33-484C-95B4-C25D642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17E-70DA-46AF-A9B9-36C2079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3878D1-67BF-43CB-B3D6-B48E7B9D827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4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3A0BC1A-47A7-4034-90B3-2E0B5AB739B0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E4CCC9-91F8-4E0B-AE6F-B481F62066CF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AA71A7-005C-4670-9F17-1C78EDF3CE43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3B1144-9AB9-4D32-99FD-6450FA65D1A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199" strike="noStrike" cap="all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199" strike="noStrike" cap="all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F8D7A2-C849-445A-848D-C63E92A13491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eel Al Hadla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2n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Term 20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A86D621-F386-4D1F-B931-A1DF6B299E95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++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81AC0FC-6997-4CED-AC6E-1AE05BBA122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4420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First C++ Progra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12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gram can contain one or many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always have a function called “main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function is the starting point of all C++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iler will not compile the code unless it finds a function called “main” within the progra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 decla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Func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uncName(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arg1, 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arg2, 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arg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unction body 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EDD5176D-367F-492A-9DD3-551C57295C98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Hello World”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276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#include 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using namespace 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int main ()</a:t>
            </a:r>
            <a:r>
              <a:rPr b="1" lang="x-none" sz="16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cout &lt;&lt; “Hello World\n”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olas"/>
              </a:rPr>
              <a:t>}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clude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formation from standard input/output librar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ostream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instruction is more properly called 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“pre-processor”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#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hash character starts the line to denote a pre-processor 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ibrary name must be enclosed b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gled bracke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4D73A9F-F4AD-4101-91A1-F79CD4E303C3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6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9C25EEF-477E-4E92-BB7B-D9796235AA3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F13C69B-976D-4F5C-947E-36E5BE03967F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_plus_data_types1.png"/>
          <p:cNvPicPr/>
          <p:nvPr/>
        </p:nvPicPr>
        <p:blipFill>
          <a:blip r:embed="rId1"/>
          <a:stretch/>
        </p:blipFill>
        <p:spPr>
          <a:xfrm>
            <a:off x="304920" y="1143000"/>
            <a:ext cx="87454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82278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y cannot be used as variables or other user-defined elements like functions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73516FA-7763-4823-AE1A-F157DB77F847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8" descr="Screen shot 2013-02-02 at 10.38.16 PM.png"/>
          <p:cNvPicPr/>
          <p:nvPr/>
        </p:nvPicPr>
        <p:blipFill>
          <a:blip r:embed="rId1"/>
          <a:stretch/>
        </p:blipFill>
        <p:spPr>
          <a:xfrm>
            <a:off x="457200" y="1066680"/>
            <a:ext cx="1485720" cy="2488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Screen shot 2013-02-02 at 10.39.02 PM.png"/>
          <p:cNvPicPr/>
          <p:nvPr/>
        </p:nvPicPr>
        <p:blipFill>
          <a:blip r:embed="rId2"/>
          <a:stretch/>
        </p:blipFill>
        <p:spPr>
          <a:xfrm>
            <a:off x="1828800" y="1066680"/>
            <a:ext cx="1790280" cy="3263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Screen shot 2013-02-02 at 10.39.14 PM.png"/>
          <p:cNvPicPr/>
          <p:nvPr/>
        </p:nvPicPr>
        <p:blipFill>
          <a:blip r:embed="rId3"/>
          <a:stretch/>
        </p:blipFill>
        <p:spPr>
          <a:xfrm>
            <a:off x="3098880" y="1117440"/>
            <a:ext cx="1625400" cy="3606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Screen shot 2013-02-02 at 10.39.46 PM.png"/>
          <p:cNvPicPr/>
          <p:nvPr/>
        </p:nvPicPr>
        <p:blipFill>
          <a:blip r:embed="rId4"/>
          <a:stretch/>
        </p:blipFill>
        <p:spPr>
          <a:xfrm>
            <a:off x="4546440" y="1143000"/>
            <a:ext cx="1168200" cy="1968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Screen shot 2013-02-02 at 10.39.55 PM.png"/>
          <p:cNvPicPr/>
          <p:nvPr/>
        </p:nvPicPr>
        <p:blipFill>
          <a:blip r:embed="rId5"/>
          <a:stretch/>
        </p:blipFill>
        <p:spPr>
          <a:xfrm>
            <a:off x="5867280" y="1104840"/>
            <a:ext cx="13204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scap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7479E55-BBA2-4BC8-BAC0-B26F2C364BF5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Screen shot 2013-02-02 at 10.51.23 PM.png"/>
          <p:cNvPicPr/>
          <p:nvPr/>
        </p:nvPicPr>
        <p:blipFill>
          <a:blip r:embed="rId1"/>
          <a:stretch/>
        </p:blipFill>
        <p:spPr>
          <a:xfrm>
            <a:off x="838080" y="2362320"/>
            <a:ext cx="6997320" cy="20062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838080" y="1447920"/>
            <a:ext cx="693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reflects the fact that the backslash causes an “escape” from the normal way the character is interpre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83055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Declaring and Initializi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66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declare variables for exampl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i</a:t>
            </a: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nt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first, seco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ch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x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onsolas"/>
              </a:rPr>
              <a:t>flag</a:t>
            </a: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declare and initialize variables for exampl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first = 13,  second = 10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ch = ‘A’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  x = 12.6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onsolas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onsolas"/>
              </a:rPr>
              <a:t>flag</a:t>
            </a:r>
            <a:r>
              <a:rPr b="0" lang="en-GB" sz="1700" spc="-1" strike="noStrike">
                <a:solidFill>
                  <a:srgbClr val="002060"/>
                </a:solidFill>
                <a:latin typeface="Consolas"/>
              </a:rPr>
              <a:t> </a:t>
            </a:r>
            <a:r>
              <a:rPr b="0" lang="en-GB" sz="1700" spc="-1" strike="noStrike">
                <a:solidFill>
                  <a:srgbClr val="003399"/>
                </a:solidFill>
                <a:latin typeface="Consolas"/>
              </a:rPr>
              <a:t>= tru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25A3909-E546-4C1A-9A0F-EDAFA77A8E93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Input (Read)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100520"/>
            <a:ext cx="781020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he syntax of </a:t>
            </a:r>
            <a:r>
              <a:rPr b="1" lang="en-GB" sz="2000" spc="-1" strike="noStrike">
                <a:solidFill>
                  <a:schemeClr val="accent5">
                    <a:lumMod val="75000"/>
                  </a:schemeClr>
                </a:solidFill>
                <a:latin typeface="Arial"/>
              </a:rPr>
              <a:t>cin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ogether with &gt;&gt;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cin &gt;&gt; </a:t>
            </a:r>
            <a:r>
              <a:rPr b="0" lang="en-GB" sz="2000" spc="-1" strike="noStrike">
                <a:solidFill>
                  <a:srgbClr val="0070c0"/>
                </a:solidFill>
                <a:latin typeface="Consolas"/>
              </a:rPr>
              <a:t>variable&gt;&gt; variable</a:t>
            </a:r>
            <a:r>
              <a:rPr b="0" lang="en-GB" sz="2000" spc="-1" strike="noStrike">
                <a:solidFill>
                  <a:schemeClr val="accent1">
                    <a:lumMod val="50000"/>
                  </a:schemeClr>
                </a:solidFill>
                <a:latin typeface="Consolas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939C2C03-2921-4F0C-9729-DEBFB712687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00520"/>
            <a:ext cx="822924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yntax of cout together with &lt;&lt; 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cout &lt;&lt; </a:t>
            </a:r>
            <a:r>
              <a:rPr b="0" lang="en-GB" sz="2000" spc="-1" strike="noStrike">
                <a:solidFill>
                  <a:srgbClr val="0070c0"/>
                </a:solidFill>
                <a:latin typeface="Consolas"/>
              </a:rPr>
              <a:t>expression </a:t>
            </a:r>
            <a:r>
              <a:rPr b="0" lang="en-GB" sz="2000" spc="-1" strike="noStrike">
                <a:solidFill>
                  <a:schemeClr val="accent1">
                    <a:lumMod val="50000"/>
                  </a:schemeClr>
                </a:solidFill>
                <a:latin typeface="Consolas"/>
              </a:rPr>
              <a:t>&lt;&lt;</a:t>
            </a:r>
            <a:r>
              <a:rPr b="0" lang="en-GB" sz="2000" spc="-1" strike="noStrike">
                <a:solidFill>
                  <a:srgbClr val="ff0000"/>
                </a:solidFill>
                <a:latin typeface="Consolas"/>
              </a:rPr>
              <a:t> </a:t>
            </a:r>
            <a:r>
              <a:rPr b="0" lang="en-GB" sz="2000" spc="-1" strike="noStrike">
                <a:solidFill>
                  <a:srgbClr val="0070c0"/>
                </a:solidFill>
                <a:latin typeface="Consolas"/>
              </a:rPr>
              <a:t>expression</a:t>
            </a:r>
            <a:r>
              <a:rPr b="0" lang="en-GB" sz="2000" spc="-1" strike="noStrike">
                <a:solidFill>
                  <a:schemeClr val="accent1">
                    <a:lumMod val="50000"/>
                  </a:schemeClr>
                </a:solidFill>
                <a:latin typeface="Consolas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ression is evaluated and its value is printed at the current insertion point on the output de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B020C64F-6E16-4C5B-87A0-6280BF84A4C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gramming languages 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++ 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ol Stat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30CBFC8-0969-4E42-B40E-4510CE4259CA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Content Placeholder 5" descr="Screen shot 2013-02-02 at 11.01.51 PM.png"/>
          <p:cNvPicPr/>
          <p:nvPr/>
        </p:nvPicPr>
        <p:blipFill>
          <a:blip r:embed="rId1"/>
          <a:stretch/>
        </p:blipFill>
        <p:spPr>
          <a:xfrm>
            <a:off x="685800" y="1143000"/>
            <a:ext cx="7443000" cy="388584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3638453-49E1-4B4A-872C-A7EC5D015790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Working with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29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++ &lt;string&gt; class provides methods to manipulate strings of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n example of Declaring and initializing  a string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#include &lt;string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main( )</a:t>
            </a: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ing str = "C++ is fun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A9D29C5-1179-41AF-9DA3-06A68CDC98F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ontro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CA7AFD1-9601-4896-A323-10B6BCCD7E5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ontent Placeholder 8" descr="Screen shot 2013-02-02 at 11.17.07 PM.png"/>
          <p:cNvPicPr/>
          <p:nvPr/>
        </p:nvPicPr>
        <p:blipFill>
          <a:blip r:embed="rId1"/>
          <a:stretch/>
        </p:blipFill>
        <p:spPr>
          <a:xfrm>
            <a:off x="4356000" y="2438280"/>
            <a:ext cx="4559040" cy="356832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7392DA5-8F7B-423D-AA67-C008F7F4EAD4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creen shot 2013-02-02 at 11.17.21 PM.png"/>
          <p:cNvPicPr/>
          <p:nvPr/>
        </p:nvPicPr>
        <p:blipFill>
          <a:blip r:embed="rId2"/>
          <a:stretch/>
        </p:blipFill>
        <p:spPr>
          <a:xfrm>
            <a:off x="254160" y="2489040"/>
            <a:ext cx="36316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ntent Placeholder 5" descr="Screen shot 2013-02-02 at 11.17.38 PM.png"/>
          <p:cNvPicPr/>
          <p:nvPr/>
        </p:nvPicPr>
        <p:blipFill>
          <a:blip r:embed="rId1"/>
          <a:srcRect l="0" t="653" r="0" b="653"/>
          <a:stretch/>
        </p:blipFill>
        <p:spPr>
          <a:xfrm>
            <a:off x="76320" y="1097280"/>
            <a:ext cx="4637160" cy="5379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79162B0-9DA7-4F34-9B10-E59986734C3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f .. 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Screen shot 2013-02-02 at 11.17.49 PM.png"/>
          <p:cNvPicPr/>
          <p:nvPr/>
        </p:nvPicPr>
        <p:blipFill>
          <a:blip r:embed="rId2"/>
          <a:stretch/>
        </p:blipFill>
        <p:spPr>
          <a:xfrm>
            <a:off x="5283360" y="1143000"/>
            <a:ext cx="325080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 : If..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Content Placeholder 5" descr="Screen shot 2013-02-02 at 11.14.45 PM.png"/>
          <p:cNvPicPr/>
          <p:nvPr/>
        </p:nvPicPr>
        <p:blipFill>
          <a:blip r:embed="rId1"/>
          <a:srcRect l="669" t="0" r="669" b="0"/>
          <a:stretch/>
        </p:blipFill>
        <p:spPr>
          <a:xfrm>
            <a:off x="822960" y="1100520"/>
            <a:ext cx="7520760" cy="357948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8865D6DB-F844-4E22-AB0E-BA83AFB9AC5E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Switch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8DA5D0B9-3386-4ED8-8CD8-FCF245C452B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Screen shot 2013-02-02 at 11.24.42 PM.png"/>
          <p:cNvPicPr/>
          <p:nvPr/>
        </p:nvPicPr>
        <p:blipFill>
          <a:blip r:embed="rId1"/>
          <a:stretch/>
        </p:blipFill>
        <p:spPr>
          <a:xfrm>
            <a:off x="762120" y="228600"/>
            <a:ext cx="57146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Switch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3F10B39-2652-4375-B069-C5BE5E752F26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Screen shot 2013-02-02 at 11.24.22 PM.png"/>
          <p:cNvPicPr/>
          <p:nvPr/>
        </p:nvPicPr>
        <p:blipFill>
          <a:blip r:embed="rId1"/>
          <a:stretch/>
        </p:blipFill>
        <p:spPr>
          <a:xfrm>
            <a:off x="1219320" y="120600"/>
            <a:ext cx="477468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609480" y="152280"/>
            <a:ext cx="78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Switch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10240" y="1295280"/>
            <a:ext cx="82476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EDF16CC5-A3BE-48BE-89F1-71772EF576BC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457200" y="762120"/>
            <a:ext cx="64008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har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Enter any  a-z character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in &gt;&gt;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switch(l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a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a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b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b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c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c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default : cout &lt;&lt; "Letter is not a, b or c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For Loop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8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 "/>
            </a:pPr>
            <a:r>
              <a:rPr b="1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The </a:t>
            </a:r>
            <a:r>
              <a:rPr b="1" lang="en-US" sz="1700" spc="-1" strike="noStrike">
                <a:solidFill>
                  <a:srgbClr val="ff0000"/>
                </a:solidFill>
                <a:latin typeface="LM Mono 10 Regular"/>
                <a:ea typeface="LM Mono 10 Regular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 loop execute part of the code a fixed number of times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6B39811-2A9E-43C9-BC6B-CF7A9D5ADE1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Screen shot 2013-02-03 at 10.41.10 AM.pn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rogramming Languages Overview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82A450F1-21EE-4682-87F1-9B08D3B647B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algn="ctr"/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4767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#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include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using namespace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int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main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int 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i,nu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cout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&lt;&lt;"enter any number: "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cin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&gt;&gt;num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 ( i=1 ; i&lt;=10 ; i++ )</a:t>
            </a:r>
            <a:r>
              <a:rPr b="1" lang="x-none" sz="1600" spc="-1" strike="noStrike">
                <a:solidFill>
                  <a:srgbClr val="0d0d0d"/>
                </a:solidFill>
                <a:latin typeface="Arial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Arial"/>
              </a:rPr>
              <a:t>cout 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&lt;&lt; endl &lt;&lt; num &lt;&lt; "*“ &lt;&lt; i &lt;&lt; "=“ &lt;&lt; num*i &lt;&lt; endl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182ECBF-8F3E-45AB-A47B-91EFAD41248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4000" spc="-1" strike="noStrike" cap="all">
                <a:solidFill>
                  <a:srgbClr val="ffffff"/>
                </a:solidFill>
                <a:latin typeface="Arial"/>
              </a:rPr>
              <a:t>While Loop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288B639-DA3C-487D-9048-D27E44AE68B0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Screen shot 2013-02-03 at 10.56.35 AM.png"/>
          <p:cNvPicPr/>
          <p:nvPr/>
        </p:nvPicPr>
        <p:blipFill>
          <a:blip r:embed="rId1"/>
          <a:stretch/>
        </p:blipFill>
        <p:spPr>
          <a:xfrm>
            <a:off x="1143000" y="304920"/>
            <a:ext cx="6613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 Whil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CB5DF32-2C91-4AF2-9136-FB22B4667315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Screen shot 2013-02-03 at 11.02.00 AM.png"/>
          <p:cNvPicPr/>
          <p:nvPr/>
        </p:nvPicPr>
        <p:blipFill>
          <a:blip r:embed="rId1"/>
          <a:stretch/>
        </p:blipFill>
        <p:spPr>
          <a:xfrm>
            <a:off x="609480" y="1066680"/>
            <a:ext cx="807696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Relational Operators in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Content Placeholder 5" descr="Screen shot 2013-02-03 at 11.06.03 AM.png"/>
          <p:cNvPicPr/>
          <p:nvPr/>
        </p:nvPicPr>
        <p:blipFill>
          <a:blip r:embed="rId1"/>
          <a:stretch/>
        </p:blipFill>
        <p:spPr>
          <a:xfrm>
            <a:off x="752400" y="1143000"/>
            <a:ext cx="7095960" cy="327636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DEA0A9B-8201-48D5-9E6E-5FE8A6BFCE90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Logical Operators in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Content Placeholder 8" descr="Screen shot 2013-02-03 at 11.07.58 AM.png"/>
          <p:cNvPicPr/>
          <p:nvPr/>
        </p:nvPicPr>
        <p:blipFill>
          <a:blip r:embed="rId1"/>
          <a:stretch/>
        </p:blipFill>
        <p:spPr>
          <a:xfrm>
            <a:off x="990720" y="1371600"/>
            <a:ext cx="7111800" cy="231408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8226DB2-C294-47F9-BDCD-8CB3A97FCE52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F3C99EA3-CAEA-4C8E-8DB5-A33E1CBCD06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1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  <a:ea typeface="msmincho"/>
              </a:rPr>
              <a:t>Programming Methodolog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  <a:ea typeface="msmincho"/>
              </a:rPr>
              <a:t>Structured Programm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2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mincho"/>
              </a:rPr>
              <a:t>Ex: C, Pascal, Fort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msmincho"/>
              </a:rPr>
              <a:t>Object-Oriented Programming(OO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mincho"/>
              </a:rPr>
              <a:t>Ex: C++,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1527831-5798-4367-9E22-82453E946E5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4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1CDE8E8E-87F1-4EA9-BD04-39105ECA0AB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4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  <a:ea typeface="msmincho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53075566"/>
              </p:ext>
            </p:extLst>
          </p:nvPr>
        </p:nvGraphicFramePr>
        <p:xfrm>
          <a:off x="822240" y="1100160"/>
          <a:ext cx="7521120" cy="3579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8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7398550-2A8E-4796-98E3-D3783908127A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5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8405411-F354-456C-A436-EDC6D57C254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5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 cap="all">
                <a:solidFill>
                  <a:srgbClr val="000000"/>
                </a:solidFill>
                <a:latin typeface="Arial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12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68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AutoNum type="arabicPeriod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dentify components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objec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, which form the basis of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34308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x.: Suppose you want to write a program that automates the book rental process for a local book st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e two main objects in this problem are</a:t>
            </a:r>
            <a:r>
              <a:rPr b="1" lang="en-GB" sz="2400" spc="-1" strike="noStrike">
                <a:solidFill>
                  <a:srgbClr val="5b7378"/>
                </a:solidFill>
                <a:latin typeface="Arial"/>
                <a:ea typeface="msmincho"/>
              </a:rPr>
              <a:t> boo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and</a:t>
            </a:r>
            <a:r>
              <a:rPr b="1" lang="en-GB" sz="2400" spc="-1" strike="noStrike">
                <a:solidFill>
                  <a:srgbClr val="1466c5"/>
                </a:solidFill>
                <a:latin typeface="Arial"/>
                <a:ea typeface="msmincho"/>
              </a:rPr>
              <a:t> custom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688223B-2976-46D7-82D2-0A7537826C5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6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58E23667-EBEB-4065-A536-B590703E45B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 cap="all">
                <a:solidFill>
                  <a:srgbClr val="000000"/>
                </a:solidFill>
                <a:latin typeface="Arial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3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6560" indent="-51444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Determine how these objects interact with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Specify for each obj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600" indent="-51444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Relev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x: title, author, publisher, retail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9600" indent="-51444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Operations to be performed on that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36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Ex: Checking the title of the boo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Reducing the number of copies in stock by one after a copy is ren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57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F164058-3663-49DF-B364-6379EA98B06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7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  <a:ea typeface="msmincho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9150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This illustrates that each object consists of data and operations on that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An object combines data and operations on the data into a single uni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mincho"/>
              </a:rPr>
              <a:t>In OOD, the final program is a collection of interacting obj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2832AF1-8D62-4B19-836C-3E381ADCEA81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8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19214586-96AB-457F-A1A3-6D70A1F1829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mincho"/>
              </a:rPr>
              <a:t>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000000"/>
                </a:solidFill>
                <a:latin typeface="Arial"/>
              </a:rPr>
              <a:t>OO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049400"/>
            <a:ext cx="838152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Allow you to organize your program more effectivel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By decomposing a problem into its essential par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Each component become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a self contain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object that contains its own instructions and data related to that ob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Arial"/>
              <a:buChar char="•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All object oriented programming languages have three things in commo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encaps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 algn="just">
              <a:lnSpc>
                <a:spcPct val="100000"/>
              </a:lnSpc>
              <a:spcBef>
                <a:spcPts val="102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Inheri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mincho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8F4F2A4-10E1-42DD-809C-D81429CD28DA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9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3E82FE37-BB38-4986-BCE1-C2517EE8E3A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B67F8B9-41C9-4BCD-B1EA-1C181E3A3A2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47981E4D-BA02-48CB-9A0E-C240786B5E59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472</TotalTime>
  <Application>LibreOffice/7.4.7.2$Linux_X86_64 LibreOffice_project/40$Build-2</Application>
  <AppVersion>15.0000</AppVersion>
  <Words>802</Words>
  <Paragraphs>2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31:05Z</dcterms:created>
  <dc:creator>ALjaffan</dc:creator>
  <dc:description/>
  <dc:language>en-US</dc:language>
  <cp:lastModifiedBy>Aseel</cp:lastModifiedBy>
  <dcterms:modified xsi:type="dcterms:W3CDTF">2014-02-05T19:44:26Z</dcterms:modified>
  <cp:revision>127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24</vt:r8>
  </property>
  <property fmtid="{D5CDD505-2E9C-101B-9397-08002B2CF9AE}" pid="4" name="PresentationFormat">
    <vt:lpwstr>On-screen Show (4:3)</vt:lpwstr>
  </property>
  <property fmtid="{D5CDD505-2E9C-101B-9397-08002B2CF9AE}" pid="5" name="Slides">
    <vt:r8>34</vt:r8>
  </property>
</Properties>
</file>