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4FCC2C2-6AB2-43B4-B729-C14ED022D6C2}" type="doc">
      <dgm:prSet loTypeId="urn:microsoft.com/office/officeart/2005/8/layout/hProcess9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x-none"/>
        </a:p>
      </dgm:t>
    </dgm:pt>
    <dgm:pt modelId="{60204B13-2C61-4B54-9F1F-6AB5AA554599}">
      <dgm:prSet phldrT="[Text]"/>
      <dgm:spPr/>
      <dgm:t>
        <a:bodyPr/>
        <a:lstStyle/>
        <a:p>
          <a:pPr algn="l" rtl="0"/>
          <a:r>
            <a:rPr lang="en-GB" dirty="0" smtClean="0">
              <a:ea typeface="msmincho" charset="0"/>
              <a:cs typeface="msmincho" charset="0"/>
            </a:rPr>
            <a:t>Dividing a problem into smaller sub problems.</a:t>
          </a:r>
          <a:endParaRPr lang="x-none" dirty="0"/>
        </a:p>
      </dgm:t>
    </dgm:pt>
    <dgm:pt modelId="{7B76B7CB-8D46-4B5F-B520-936DEDCA6774}" type="parTrans" cxnId="{638656A4-4588-4A42-A214-A3841D46AD1C}">
      <dgm:prSet/>
      <dgm:spPr/>
      <dgm:t>
        <a:bodyPr/>
        <a:lstStyle/>
        <a:p>
          <a:pPr rtl="1"/>
          <a:endParaRPr lang="x-none"/>
        </a:p>
      </dgm:t>
    </dgm:pt>
    <dgm:pt modelId="{367599E7-6FD4-47CA-9532-5D4A661A5007}" type="sibTrans" cxnId="{638656A4-4588-4A42-A214-A3841D46AD1C}">
      <dgm:prSet/>
      <dgm:spPr/>
      <dgm:t>
        <a:bodyPr/>
        <a:lstStyle/>
        <a:p>
          <a:pPr rtl="1"/>
          <a:endParaRPr lang="x-none"/>
        </a:p>
      </dgm:t>
    </dgm:pt>
    <dgm:pt modelId="{E9FCAC11-3512-4A24-9099-2F2B63221942}">
      <dgm:prSet phldrT="[Text]"/>
      <dgm:spPr/>
      <dgm:t>
        <a:bodyPr/>
        <a:lstStyle/>
        <a:p>
          <a:pPr algn="l" rtl="0"/>
          <a:r>
            <a:rPr lang="en-GB" dirty="0" smtClean="0">
              <a:ea typeface="msmincho" charset="0"/>
              <a:cs typeface="msmincho" charset="0"/>
            </a:rPr>
            <a:t>Each sub problem is solved. </a:t>
          </a:r>
          <a:endParaRPr lang="x-none" dirty="0"/>
        </a:p>
      </dgm:t>
    </dgm:pt>
    <dgm:pt modelId="{DDED0B13-E4FF-4692-838A-6C9A359DFD70}" type="parTrans" cxnId="{3E73D2E0-A99A-474F-9D99-33E0387F070C}">
      <dgm:prSet/>
      <dgm:spPr/>
      <dgm:t>
        <a:bodyPr/>
        <a:lstStyle/>
        <a:p>
          <a:pPr rtl="1"/>
          <a:endParaRPr lang="x-none"/>
        </a:p>
      </dgm:t>
    </dgm:pt>
    <dgm:pt modelId="{765F93B8-1780-4911-B875-D97C05CB81C4}" type="sibTrans" cxnId="{3E73D2E0-A99A-474F-9D99-33E0387F070C}">
      <dgm:prSet/>
      <dgm:spPr/>
      <dgm:t>
        <a:bodyPr/>
        <a:lstStyle/>
        <a:p>
          <a:pPr rtl="1"/>
          <a:endParaRPr lang="x-none"/>
        </a:p>
      </dgm:t>
    </dgm:pt>
    <dgm:pt modelId="{D5229043-3C14-46EF-8D01-8D7C48D16BB3}">
      <dgm:prSet phldrT="[Text]"/>
      <dgm:spPr/>
      <dgm:t>
        <a:bodyPr/>
        <a:lstStyle/>
        <a:p>
          <a:pPr algn="l" rtl="0"/>
          <a:r>
            <a:rPr lang="en-GB" dirty="0" smtClean="0">
              <a:ea typeface="msmincho" charset="0"/>
              <a:cs typeface="msmincho" charset="0"/>
            </a:rPr>
            <a:t>Combine all the sub solutions to solve the overall problem. </a:t>
          </a:r>
          <a:endParaRPr lang="x-none" dirty="0"/>
        </a:p>
      </dgm:t>
    </dgm:pt>
    <dgm:pt modelId="{922794F5-C220-4B99-BB18-4FE8DA67FA1C}" type="parTrans" cxnId="{A2996866-FCFA-46C6-9094-E42FA7F737BC}">
      <dgm:prSet/>
      <dgm:spPr/>
      <dgm:t>
        <a:bodyPr/>
        <a:lstStyle/>
        <a:p>
          <a:pPr rtl="1"/>
          <a:endParaRPr lang="x-none"/>
        </a:p>
      </dgm:t>
    </dgm:pt>
    <dgm:pt modelId="{ECCF5A3E-1E07-4443-B8DC-A37B4856FA06}" type="sibTrans" cxnId="{A2996866-FCFA-46C6-9094-E42FA7F737BC}">
      <dgm:prSet/>
      <dgm:spPr/>
      <dgm:t>
        <a:bodyPr/>
        <a:lstStyle/>
        <a:p>
          <a:pPr rtl="1"/>
          <a:endParaRPr lang="x-none"/>
        </a:p>
      </dgm:t>
    </dgm:pt>
    <dgm:pt modelId="{DB1465E9-283E-416D-AC65-7E9F10F2FFE6}" type="pres">
      <dgm:prSet presAssocID="{94FCC2C2-6AB2-43B4-B729-C14ED022D6C2}" presName="CompostProcess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717E7DD1-11F4-4241-926F-AFB6D6A7C2F4}" type="pres">
      <dgm:prSet presAssocID="{94FCC2C2-6AB2-43B4-B729-C14ED022D6C2}" presName="arrow" presStyleLbl="bgShp" presStyleIdx="0" presStyleCnt="1"/>
      <dgm:spPr/>
    </dgm:pt>
    <dgm:pt modelId="{F86F693D-B55B-4842-BA9F-8534272FA8FA}" type="pres">
      <dgm:prSet presAssocID="{94FCC2C2-6AB2-43B4-B729-C14ED022D6C2}" presName="linearProcess" presStyleCnt="0"/>
      <dgm:spPr/>
    </dgm:pt>
    <dgm:pt modelId="{0C34CD87-7AE0-48EE-966E-E87EFFA15293}" type="pres">
      <dgm:prSet presAssocID="{60204B13-2C61-4B54-9F1F-6AB5AA554599}" presName="text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x-none"/>
        </a:p>
      </dgm:t>
    </dgm:pt>
    <dgm:pt modelId="{4D3F910F-E3E6-4665-96BB-DEAF8640064C}" type="pres">
      <dgm:prSet presAssocID="{367599E7-6FD4-47CA-9532-5D4A661A5007}" presName="sibTrans" presStyleCnt="0"/>
      <dgm:spPr/>
    </dgm:pt>
    <dgm:pt modelId="{982911DC-FE6C-452B-AFE7-B5F293BD84E4}" type="pres">
      <dgm:prSet presAssocID="{E9FCAC11-3512-4A24-9099-2F2B63221942}" presName="text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x-none"/>
        </a:p>
      </dgm:t>
    </dgm:pt>
    <dgm:pt modelId="{3F81556F-B737-41A7-8A1E-41A7670C4E2A}" type="pres">
      <dgm:prSet presAssocID="{765F93B8-1780-4911-B875-D97C05CB81C4}" presName="sibTrans" presStyleCnt="0"/>
      <dgm:spPr/>
    </dgm:pt>
    <dgm:pt modelId="{63A6EDD3-23AF-451A-9979-CB105AF9C7B0}" type="pres">
      <dgm:prSet presAssocID="{D5229043-3C14-46EF-8D01-8D7C48D16BB3}" presName="text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x-none"/>
        </a:p>
      </dgm:t>
    </dgm:pt>
  </dgm:ptLst>
  <dgm:cxnLst>
    <dgm:cxn modelId="{A2996866-FCFA-46C6-9094-E42FA7F737BC}" srcId="{94FCC2C2-6AB2-43B4-B729-C14ED022D6C2}" destId="{D5229043-3C14-46EF-8D01-8D7C48D16BB3}" srcOrd="2" destOrd="0" parTransId="{922794F5-C220-4B99-BB18-4FE8DA67FA1C}" sibTransId="{ECCF5A3E-1E07-4443-B8DC-A37B4856FA06}"/>
    <dgm:cxn modelId="{3E73D2E0-A99A-474F-9D99-33E0387F070C}" srcId="{94FCC2C2-6AB2-43B4-B729-C14ED022D6C2}" destId="{E9FCAC11-3512-4A24-9099-2F2B63221942}" srcOrd="1" destOrd="0" parTransId="{DDED0B13-E4FF-4692-838A-6C9A359DFD70}" sibTransId="{765F93B8-1780-4911-B875-D97C05CB81C4}"/>
    <dgm:cxn modelId="{2484F868-E970-4DFA-AE5C-01A926902825}" type="presOf" srcId="{D5229043-3C14-46EF-8D01-8D7C48D16BB3}" destId="{63A6EDD3-23AF-451A-9979-CB105AF9C7B0}" srcOrd="0" destOrd="0" presId="urn:microsoft.com/office/officeart/2005/8/layout/hProcess9"/>
    <dgm:cxn modelId="{B1439890-757C-4E7B-8809-98CF97312675}" type="presOf" srcId="{E9FCAC11-3512-4A24-9099-2F2B63221942}" destId="{982911DC-FE6C-452B-AFE7-B5F293BD84E4}" srcOrd="0" destOrd="0" presId="urn:microsoft.com/office/officeart/2005/8/layout/hProcess9"/>
    <dgm:cxn modelId="{638656A4-4588-4A42-A214-A3841D46AD1C}" srcId="{94FCC2C2-6AB2-43B4-B729-C14ED022D6C2}" destId="{60204B13-2C61-4B54-9F1F-6AB5AA554599}" srcOrd="0" destOrd="0" parTransId="{7B76B7CB-8D46-4B5F-B520-936DEDCA6774}" sibTransId="{367599E7-6FD4-47CA-9532-5D4A661A5007}"/>
    <dgm:cxn modelId="{219D7ADD-94C2-4213-8E1F-A4FD253FC568}" type="presOf" srcId="{94FCC2C2-6AB2-43B4-B729-C14ED022D6C2}" destId="{DB1465E9-283E-416D-AC65-7E9F10F2FFE6}" srcOrd="0" destOrd="0" presId="urn:microsoft.com/office/officeart/2005/8/layout/hProcess9"/>
    <dgm:cxn modelId="{D2EC28BE-A2D4-462C-AE31-E0EE64EFA5F4}" type="presOf" srcId="{60204B13-2C61-4B54-9F1F-6AB5AA554599}" destId="{0C34CD87-7AE0-48EE-966E-E87EFFA15293}" srcOrd="0" destOrd="0" presId="urn:microsoft.com/office/officeart/2005/8/layout/hProcess9"/>
    <dgm:cxn modelId="{D819BB9E-98EC-46E7-9A76-A55158F0DE1C}" type="presParOf" srcId="{DB1465E9-283E-416D-AC65-7E9F10F2FFE6}" destId="{717E7DD1-11F4-4241-926F-AFB6D6A7C2F4}" srcOrd="0" destOrd="0" presId="urn:microsoft.com/office/officeart/2005/8/layout/hProcess9"/>
    <dgm:cxn modelId="{DCD7D200-82C7-464A-B9CD-E7B52804B6AA}" type="presParOf" srcId="{DB1465E9-283E-416D-AC65-7E9F10F2FFE6}" destId="{F86F693D-B55B-4842-BA9F-8534272FA8FA}" srcOrd="1" destOrd="0" presId="urn:microsoft.com/office/officeart/2005/8/layout/hProcess9"/>
    <dgm:cxn modelId="{537260E7-1EA1-429B-B233-E2F86C2222B9}" type="presParOf" srcId="{F86F693D-B55B-4842-BA9F-8534272FA8FA}" destId="{0C34CD87-7AE0-48EE-966E-E87EFFA15293}" srcOrd="0" destOrd="0" presId="urn:microsoft.com/office/officeart/2005/8/layout/hProcess9"/>
    <dgm:cxn modelId="{35D0BAE8-0776-465C-95E8-60221A66D47B}" type="presParOf" srcId="{F86F693D-B55B-4842-BA9F-8534272FA8FA}" destId="{4D3F910F-E3E6-4665-96BB-DEAF8640064C}" srcOrd="1" destOrd="0" presId="urn:microsoft.com/office/officeart/2005/8/layout/hProcess9"/>
    <dgm:cxn modelId="{7D0A7312-5011-4147-8232-D6D432D3BA45}" type="presParOf" srcId="{F86F693D-B55B-4842-BA9F-8534272FA8FA}" destId="{982911DC-FE6C-452B-AFE7-B5F293BD84E4}" srcOrd="2" destOrd="0" presId="urn:microsoft.com/office/officeart/2005/8/layout/hProcess9"/>
    <dgm:cxn modelId="{A609E1FC-C20E-4376-BDEA-D875874D89D0}" type="presParOf" srcId="{F86F693D-B55B-4842-BA9F-8534272FA8FA}" destId="{3F81556F-B737-41A7-8A1E-41A7670C4E2A}" srcOrd="3" destOrd="0" presId="urn:microsoft.com/office/officeart/2005/8/layout/hProcess9"/>
    <dgm:cxn modelId="{4F4D2AC9-CA3A-481C-A164-84EE8D1D8B4C}" type="presParOf" srcId="{F86F693D-B55B-4842-BA9F-8534272FA8FA}" destId="{63A6EDD3-23AF-451A-9979-CB105AF9C7B0}" srcOrd="4" destOrd="0" presId="urn:microsoft.com/office/officeart/2005/8/layout/hProcess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17E7DD1-11F4-4241-926F-AFB6D6A7C2F4}">
      <dsp:nvSpPr>
        <dsp:cNvPr id="0" name=""/>
        <dsp:cNvSpPr/>
      </dsp:nvSpPr>
      <dsp:spPr>
        <a:xfrm>
          <a:off x="564118" y="0"/>
          <a:ext cx="6393338" cy="3579812"/>
        </a:xfrm>
        <a:prstGeom prst="rightArrow">
          <a:avLst/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C34CD87-7AE0-48EE-966E-E87EFFA15293}">
      <dsp:nvSpPr>
        <dsp:cNvPr id="0" name=""/>
        <dsp:cNvSpPr/>
      </dsp:nvSpPr>
      <dsp:spPr>
        <a:xfrm>
          <a:off x="254881" y="1073943"/>
          <a:ext cx="2256472" cy="143192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GB" sz="2000" kern="1200" dirty="0" smtClean="0">
              <a:ea typeface="msmincho" charset="0"/>
              <a:cs typeface="msmincho" charset="0"/>
            </a:rPr>
            <a:t>Dividing a problem into smaller sub problems.</a:t>
          </a:r>
          <a:endParaRPr lang="x-none" sz="2000" kern="1200" dirty="0"/>
        </a:p>
      </dsp:txBody>
      <dsp:txXfrm>
        <a:off x="324782" y="1143844"/>
        <a:ext cx="2116670" cy="1292122"/>
      </dsp:txXfrm>
    </dsp:sp>
    <dsp:sp modelId="{982911DC-FE6C-452B-AFE7-B5F293BD84E4}">
      <dsp:nvSpPr>
        <dsp:cNvPr id="0" name=""/>
        <dsp:cNvSpPr/>
      </dsp:nvSpPr>
      <dsp:spPr>
        <a:xfrm>
          <a:off x="2632551" y="1073943"/>
          <a:ext cx="2256472" cy="143192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GB" sz="2000" kern="1200" dirty="0" smtClean="0">
              <a:ea typeface="msmincho" charset="0"/>
              <a:cs typeface="msmincho" charset="0"/>
            </a:rPr>
            <a:t>Each sub problem is solved. </a:t>
          </a:r>
          <a:endParaRPr lang="x-none" sz="2000" kern="1200" dirty="0"/>
        </a:p>
      </dsp:txBody>
      <dsp:txXfrm>
        <a:off x="2702452" y="1143844"/>
        <a:ext cx="2116670" cy="1292122"/>
      </dsp:txXfrm>
    </dsp:sp>
    <dsp:sp modelId="{63A6EDD3-23AF-451A-9979-CB105AF9C7B0}">
      <dsp:nvSpPr>
        <dsp:cNvPr id="0" name=""/>
        <dsp:cNvSpPr/>
      </dsp:nvSpPr>
      <dsp:spPr>
        <a:xfrm>
          <a:off x="5010221" y="1073943"/>
          <a:ext cx="2256472" cy="143192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GB" sz="2000" kern="1200" dirty="0" smtClean="0">
              <a:ea typeface="msmincho" charset="0"/>
              <a:cs typeface="msmincho" charset="0"/>
            </a:rPr>
            <a:t>Combine all the sub solutions to solve the overall problem. </a:t>
          </a:r>
          <a:endParaRPr lang="x-none" sz="2000" kern="1200" dirty="0"/>
        </a:p>
      </dsp:txBody>
      <dsp:txXfrm>
        <a:off x="5080122" y="1143844"/>
        <a:ext cx="2116670" cy="1292122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9">
  <dgm:title val=""/>
  <dgm:desc val=""/>
  <dgm:catLst>
    <dgm:cat type="process" pri="5000"/>
    <dgm:cat type="convert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ompostProcess">
    <dgm:varLst>
      <dgm:dir/>
      <dgm:resizeHandles val="exact"/>
    </dgm:varLst>
    <dgm:alg type="composite">
      <dgm:param type="horzAlign" val="ctr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arrow" refType="w" fact="0.85"/>
      <dgm:constr type="h" for="ch" forName="arrow" refType="h"/>
      <dgm:constr type="ctrX" for="ch" forName="arrow" refType="w" fact="0.5"/>
      <dgm:constr type="ctrY" for="ch" forName="arrow" refType="h" fact="0.5"/>
      <dgm:constr type="w" for="ch" forName="linearProcess" refType="w"/>
      <dgm:constr type="h" for="ch" forName="linearProcess" refType="h" fact="0.4"/>
      <dgm:constr type="ctrX" for="ch" forName="linearProcess" refType="w" fact="0.5"/>
      <dgm:constr type="ctrY" for="ch" forName="linearProcess" refType="h" fact="0.5"/>
    </dgm:constrLst>
    <dgm:ruleLst/>
    <dgm:layoutNode name="arrow" styleLbl="bgShp">
      <dgm:alg type="sp"/>
      <dgm:choose name="Name0">
        <dgm:if name="Name1" func="var" arg="dir" op="equ" val="norm">
          <dgm:shape xmlns:r="http://schemas.openxmlformats.org/officeDocument/2006/relationships" type="rightArrow" r:blip="">
            <dgm:adjLst/>
          </dgm:shape>
        </dgm:if>
        <dgm:else name="Name2">
          <dgm:shape xmlns:r="http://schemas.openxmlformats.org/officeDocument/2006/relationships" type="leftArrow" r:blip="">
            <dgm:adjLst/>
          </dgm:shape>
        </dgm:else>
      </dgm:choose>
      <dgm:presOf/>
      <dgm:constrLst/>
      <dgm:ruleLst/>
    </dgm:layoutNode>
    <dgm:layoutNode name="linearProcess">
      <dgm:choose name="Name3">
        <dgm:if name="Name4" func="var" arg="dir" op="equ" val="norm">
          <dgm:alg type="lin"/>
        </dgm:if>
        <dgm:else name="Name5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userA" for="ch" ptType="node" refType="w"/>
        <dgm:constr type="h" for="ch" ptType="node" refType="h"/>
        <dgm:constr type="w" for="ch" ptType="node" op="equ"/>
        <dgm:constr type="w" for="ch" forName="sibTrans" refType="w" fact="0.05"/>
        <dgm:constr type="primFontSz" for="ch" ptType="node" op="equ" val="65"/>
      </dgm:constrLst>
      <dgm:ruleLst/>
      <dgm:forEach name="Name6" axis="ch" ptType="node">
        <dgm:layoutNode name="textNode" styleLbl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desOrSelf" ptType="node"/>
          <dgm:constrLst>
            <dgm:constr type="userA"/>
            <dgm:constr type="w" refType="userA" fact="0.3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w" val="NaN" fact="1" max="NaN"/>
            <dgm:rule type="primFontSz" val="5" fact="NaN" max="NaN"/>
          </dgm:ruleLst>
        </dgm:layoutNode>
        <dgm:forEach name="Name7" axis="followSib" ptType="sibTrans" cnt="1">
          <dgm:layoutNode name="sib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012E97-54F3-4416-B8DD-6E5DE3DB0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0C2-49BC-4F5A-AD65-602EE3D0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44B-6B84-41D9-8030-1BB1896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11A-8C46-4DA8-9AAF-C084F1B9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84B-FE52-47A9-9940-1836708B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1313-37E5-4B91-8552-2940B7A1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9555-70E8-4D1B-8C78-F3A1EFF2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E6FB-8CDB-4C1C-A989-D0EA82F7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70CE-3ED7-4416-9D0C-9252B832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ECC1-C1F0-4D48-8230-DA65010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EAAA-C9DA-45EA-8DB9-12A0F075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983C-42E7-4AFE-862F-B23F8B6B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891-B5A9-43E7-8A03-9E400A89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0A5F-DDA4-4BCA-8990-707271A6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580E-F4FD-4997-BEFF-E482CD8F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0C99-BBD5-4192-B363-CF965340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DFAA-EB39-49C1-A9EF-08DEE98E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30CE-69E7-4F23-90E7-26F6D186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E208-57B7-42C5-8507-7C2ABA69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EEAD-9853-4EF5-9D2A-2658ED14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09B0-BEEF-4EAF-9FB3-8A92D9A8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831E-E6D8-45F6-8D5B-39F1E185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AAF4-1FDB-4B11-B1F8-921775FC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A39-9999-4EA4-B720-63F28170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DE04-1854-47FC-A790-AE564538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1AE8-5C2E-4E85-8E7F-4E9AC039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E95C-B36E-4C89-AA49-9373182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4A0C-8BB5-4348-909F-39ECDF6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C2D3-7FAA-49C1-B323-316D8396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0EC8-C026-4C65-81E9-9580BFC4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A9F2-26AA-400F-9C15-58EBAB6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F3F4-A90A-4779-9357-1DE1CCC3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FD6D-C0B0-427C-8A1E-E504AF0B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D265-4E90-402F-865C-4E19EC81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935-EB81-4162-94C1-4D4CDEE4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683E-7878-43DB-99E6-016899C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5BEF-2A20-49E4-A891-1706E47C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40686-3C70-40E9-A0F7-007891C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383D-EE0F-4F49-80D3-8C1BA3F4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3C50-7BAD-41A1-9483-01C73CA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276F-AAFC-4147-8EBD-057DCB6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9AC8-8DF5-469D-BAFB-E1EA0B8F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1E3A-3B4A-4321-B67F-A5B56F05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ABD27-8569-4D75-8325-E4BE2107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91FD-CEC0-46F6-8021-82EEDF0E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9F8-1C5C-4D17-87E3-95BBAB3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AC5EF-6713-4B88-B581-D5CDADD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FCB3F-2D35-4CEC-A11E-0039C89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35CEB-790D-42E0-ADDB-27EA4E04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7C314-14F4-43AD-821E-78311DD3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119D-A437-4E23-AB84-ED159485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82F5-183F-40E2-917E-945E828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C406-10E9-4178-9C35-A8F95B0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5394-6497-41D1-B684-3D78C94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7E483-E368-4551-AD00-A24CB42E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986C-D09A-4EC0-A737-4DFC138A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E78-5584-494B-92B0-FC7F0180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2132-E54A-4AE3-B5D7-E79CF176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87AE-7DA6-4059-8E5C-A82DEDA1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4E1BA-C42E-45BE-A66A-FEC4EB46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F2A3-3F60-4782-8FD7-981BD347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0567B-1B38-4EDD-9BFA-B9648C9A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8EA34-D1E3-43C1-92BE-364B498B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07F9-0EB0-43D3-B4F1-7390D83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4249F-0F22-4D56-BE56-B2972B9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0B26F-E3A5-4185-B07C-E85DC8A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B547-A69F-49AD-95A2-63FAE7B6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366-B9F1-47E7-8559-1723970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EF432-3047-42EF-95EC-E03D09D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BBF6-10AE-44D0-A9CE-28150419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8B6DD-7062-4C15-9926-981CA895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81A-B2FD-4E0C-AF9F-52E9BC4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42A-AA50-493D-8F1C-AC26CC2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975C54C-6E8C-4B56-AB4C-A1E20598F2F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4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E4D83A3-3D8B-45C2-8B83-57976159E1B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88D379-670F-4038-8E61-85C0C4ADED4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9FCD88D-D68F-45EC-8FD4-6EAFA220B3CF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15533C5-CD4E-4F05-B7FF-7B546410A877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2A4FF61-3AD4-49B4-A1ED-38079D280113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CSC1201: Programming Langua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eel Al Hadla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2n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Term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76F6934-F77C-4657-859D-558E8E5C336F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C++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DF6C8297-C003-42A6-954E-B42970F0022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4420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First C++ Progra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12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gram can contain one or many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always have a function called “main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function is the starting point of all C++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iler will not compile the code unless it finds a function called “main” within the progra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 decla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FuncType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uncName(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arg1, 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arg2, 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arg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unction body 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921CDCAE-D850-4AF6-845F-CBE3EDD2EEFF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Hello World”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276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#include &lt;iostream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using namespace st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int main ()</a:t>
            </a:r>
            <a:r>
              <a:rPr b="1" lang="x-none" sz="16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cout &lt;&lt; “Hello World\n”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}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clude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formation from standard input/output librar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ostream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he instruction is more properly called a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“pre-processor”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#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ash character starts the line to denote a pre-processor i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ibrary name must be enclosed b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angled bracket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49D2CF5-36E0-4577-B4AC-9F6F58F3A69C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6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0BD417A2-3FB8-4CC9-93C3-27D0577E9C9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9182AA1-6EF6-4EDA-9F31-52ACA4DA923A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c_plus_data_types1.png"/>
          <p:cNvPicPr/>
          <p:nvPr/>
        </p:nvPicPr>
        <p:blipFill>
          <a:blip r:embed="rId1"/>
          <a:stretch/>
        </p:blipFill>
        <p:spPr>
          <a:xfrm>
            <a:off x="304920" y="1143000"/>
            <a:ext cx="874548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82278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y cannot be used as variables or other user-defined elements like functions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2315D37-F5D5-4E50-98E7-765E94B75565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8" descr="Screen shot 2013-02-02 at 10.38.16 PM.png"/>
          <p:cNvPicPr/>
          <p:nvPr/>
        </p:nvPicPr>
        <p:blipFill>
          <a:blip r:embed="rId1"/>
          <a:stretch/>
        </p:blipFill>
        <p:spPr>
          <a:xfrm>
            <a:off x="457200" y="1066680"/>
            <a:ext cx="1485720" cy="2488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Screen shot 2013-02-02 at 10.39.02 PM.png"/>
          <p:cNvPicPr/>
          <p:nvPr/>
        </p:nvPicPr>
        <p:blipFill>
          <a:blip r:embed="rId2"/>
          <a:stretch/>
        </p:blipFill>
        <p:spPr>
          <a:xfrm>
            <a:off x="1828800" y="1066680"/>
            <a:ext cx="1790280" cy="3263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Screen shot 2013-02-02 at 10.39.14 PM.png"/>
          <p:cNvPicPr/>
          <p:nvPr/>
        </p:nvPicPr>
        <p:blipFill>
          <a:blip r:embed="rId3"/>
          <a:stretch/>
        </p:blipFill>
        <p:spPr>
          <a:xfrm>
            <a:off x="3098880" y="1117440"/>
            <a:ext cx="1625400" cy="3606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Screen shot 2013-02-02 at 10.39.46 PM.png"/>
          <p:cNvPicPr/>
          <p:nvPr/>
        </p:nvPicPr>
        <p:blipFill>
          <a:blip r:embed="rId4"/>
          <a:stretch/>
        </p:blipFill>
        <p:spPr>
          <a:xfrm>
            <a:off x="4546440" y="1143000"/>
            <a:ext cx="1168200" cy="1968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Screen shot 2013-02-02 at 10.39.55 PM.png"/>
          <p:cNvPicPr/>
          <p:nvPr/>
        </p:nvPicPr>
        <p:blipFill>
          <a:blip r:embed="rId5"/>
          <a:stretch/>
        </p:blipFill>
        <p:spPr>
          <a:xfrm>
            <a:off x="5867280" y="1104840"/>
            <a:ext cx="13204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Escape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E6E4E535-7099-45E1-B4F2-E5FA675FD627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8" descr="Screen shot 2013-02-02 at 10.51.23 PM.png"/>
          <p:cNvPicPr/>
          <p:nvPr/>
        </p:nvPicPr>
        <p:blipFill>
          <a:blip r:embed="rId1"/>
          <a:stretch/>
        </p:blipFill>
        <p:spPr>
          <a:xfrm>
            <a:off x="838080" y="2362320"/>
            <a:ext cx="6997320" cy="200628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838080" y="1447920"/>
            <a:ext cx="693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reflects the fact that the backslash causes an “escape” from the normal way the character is interpre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65760"/>
            <a:ext cx="83055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Declaring and Initializi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66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declare variables for exampl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i</a:t>
            </a: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nt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first, seco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ch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x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onsolas"/>
              </a:rPr>
              <a:t>flag</a:t>
            </a: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declare and initialize variables for exampl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first = 13,  second = 10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ch = ‘A’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x = 12.6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onsolas"/>
              </a:rPr>
              <a:t>flag</a:t>
            </a:r>
            <a:r>
              <a:rPr b="0" lang="en-GB" sz="1700" spc="-1" strike="noStrike">
                <a:solidFill>
                  <a:srgbClr val="002060"/>
                </a:solidFill>
                <a:latin typeface="Consolas"/>
              </a:rPr>
              <a:t> 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= tru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6374BBA-FB07-4288-BDD6-36108976BC4D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Input (Read)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100520"/>
            <a:ext cx="781020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he syntax of </a:t>
            </a:r>
            <a:r>
              <a:rPr b="1" lang="en-GB" sz="2000" spc="-1" strike="noStrike">
                <a:solidFill>
                  <a:schemeClr val="accent5">
                    <a:lumMod val="75000"/>
                  </a:schemeClr>
                </a:solidFill>
                <a:latin typeface="Arial"/>
              </a:rPr>
              <a:t>cin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ogether with &gt;&gt;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cin &gt;&gt; </a:t>
            </a:r>
            <a:r>
              <a:rPr b="0" lang="en-GB" sz="2000" spc="-1" strike="noStrike">
                <a:solidFill>
                  <a:srgbClr val="0070c0"/>
                </a:solidFill>
                <a:latin typeface="Consolas"/>
              </a:rPr>
              <a:t>variable&gt;&gt; variable</a:t>
            </a:r>
            <a:r>
              <a:rPr b="0" lang="en-GB" sz="2000" spc="-1" strike="noStrike">
                <a:solidFill>
                  <a:schemeClr val="accent1">
                    <a:lumMod val="50000"/>
                  </a:schemeClr>
                </a:solidFill>
                <a:latin typeface="Consolas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592368C-8B4B-4076-AF04-D79C8A7DDE8B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00520"/>
            <a:ext cx="822924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yntax of cout together with &lt;&lt; 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cout &lt;&lt; </a:t>
            </a:r>
            <a:r>
              <a:rPr b="0" lang="en-GB" sz="2000" spc="-1" strike="noStrike">
                <a:solidFill>
                  <a:srgbClr val="0070c0"/>
                </a:solidFill>
                <a:latin typeface="Consolas"/>
              </a:rPr>
              <a:t>expression </a:t>
            </a:r>
            <a:r>
              <a:rPr b="0" lang="en-GB" sz="2000" spc="-1" strike="noStrike">
                <a:solidFill>
                  <a:schemeClr val="accent1">
                    <a:lumMod val="50000"/>
                  </a:schemeClr>
                </a:solidFill>
                <a:latin typeface="Consolas"/>
              </a:rPr>
              <a:t>&lt;&lt;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 </a:t>
            </a:r>
            <a:r>
              <a:rPr b="0" lang="en-GB" sz="2000" spc="-1" strike="noStrike">
                <a:solidFill>
                  <a:srgbClr val="0070c0"/>
                </a:solidFill>
                <a:latin typeface="Consolas"/>
              </a:rPr>
              <a:t>expression</a:t>
            </a:r>
            <a:r>
              <a:rPr b="0" lang="en-GB" sz="2000" spc="-1" strike="noStrike">
                <a:solidFill>
                  <a:schemeClr val="accent1">
                    <a:lumMod val="50000"/>
                  </a:schemeClr>
                </a:solidFill>
                <a:latin typeface="Consolas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ression is evaluated and its value is printed at the current insertion point on the output de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3840B576-1564-47FB-9D71-F4E013E0E7E0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gramming languages 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++ 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rol 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B8C46D4-14AE-4A6D-9321-50E592D5327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Content Placeholder 5" descr="Screen shot 2013-02-02 at 11.01.51 PM.png"/>
          <p:cNvPicPr/>
          <p:nvPr/>
        </p:nvPicPr>
        <p:blipFill>
          <a:blip r:embed="rId1"/>
          <a:stretch/>
        </p:blipFill>
        <p:spPr>
          <a:xfrm>
            <a:off x="685800" y="1143000"/>
            <a:ext cx="7443000" cy="388584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A50992B-64F6-409D-9C68-D9D6C9241A5B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Working with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29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++ &lt;string&gt; class provides methods to manipulate strings of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n example of Declaring and initializing  a string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#include &lt;string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main( )</a:t>
            </a: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ing str = "C++ is fun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8E39AC3-DD2E-4BBE-9155-22BF250CDEDB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ontro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BBAE7ACF-4FAC-454E-8AAD-6E9136BCDCD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Content Placeholder 8" descr="Screen shot 2013-02-02 at 11.17.07 PM.png"/>
          <p:cNvPicPr/>
          <p:nvPr/>
        </p:nvPicPr>
        <p:blipFill>
          <a:blip r:embed="rId1"/>
          <a:stretch/>
        </p:blipFill>
        <p:spPr>
          <a:xfrm>
            <a:off x="4356000" y="2438280"/>
            <a:ext cx="4559040" cy="356832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5B05D66A-A682-4E7E-ABC3-34E1A753F7A6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creen shot 2013-02-02 at 11.17.21 PM.png"/>
          <p:cNvPicPr/>
          <p:nvPr/>
        </p:nvPicPr>
        <p:blipFill>
          <a:blip r:embed="rId2"/>
          <a:stretch/>
        </p:blipFill>
        <p:spPr>
          <a:xfrm>
            <a:off x="254160" y="2489040"/>
            <a:ext cx="363168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ontent Placeholder 5" descr="Screen shot 2013-02-02 at 11.17.38 PM.png"/>
          <p:cNvPicPr/>
          <p:nvPr/>
        </p:nvPicPr>
        <p:blipFill>
          <a:blip r:embed="rId1"/>
          <a:srcRect l="0" t="653" r="0" b="653"/>
          <a:stretch/>
        </p:blipFill>
        <p:spPr>
          <a:xfrm>
            <a:off x="76320" y="1097280"/>
            <a:ext cx="4637160" cy="53794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F33CE56-46E2-4467-A6C9-79F45724A3D1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f .. 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Screen shot 2013-02-02 at 11.17.49 PM.png"/>
          <p:cNvPicPr/>
          <p:nvPr/>
        </p:nvPicPr>
        <p:blipFill>
          <a:blip r:embed="rId2"/>
          <a:stretch/>
        </p:blipFill>
        <p:spPr>
          <a:xfrm>
            <a:off x="5283360" y="1143000"/>
            <a:ext cx="325080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 : If..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Content Placeholder 5" descr="Screen shot 2013-02-02 at 11.14.45 PM.png"/>
          <p:cNvPicPr/>
          <p:nvPr/>
        </p:nvPicPr>
        <p:blipFill>
          <a:blip r:embed="rId1"/>
          <a:srcRect l="669" t="0" r="669" b="0"/>
          <a:stretch/>
        </p:blipFill>
        <p:spPr>
          <a:xfrm>
            <a:off x="822960" y="1100520"/>
            <a:ext cx="7520760" cy="357948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A3A9351-1886-4C54-96A0-287F69DC29E6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Switch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631FC79-01AE-4E9C-B122-BF4E53109A4D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Screen shot 2013-02-02 at 11.24.42 PM.png"/>
          <p:cNvPicPr/>
          <p:nvPr/>
        </p:nvPicPr>
        <p:blipFill>
          <a:blip r:embed="rId1"/>
          <a:stretch/>
        </p:blipFill>
        <p:spPr>
          <a:xfrm>
            <a:off x="762120" y="228600"/>
            <a:ext cx="571464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Switch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CE1A9D95-3F2E-4475-AF7A-F17045EC7A9F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Screen shot 2013-02-02 at 11.24.22 PM.png"/>
          <p:cNvPicPr/>
          <p:nvPr/>
        </p:nvPicPr>
        <p:blipFill>
          <a:blip r:embed="rId1"/>
          <a:stretch/>
        </p:blipFill>
        <p:spPr>
          <a:xfrm>
            <a:off x="1219320" y="120600"/>
            <a:ext cx="477468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609480" y="152280"/>
            <a:ext cx="7848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d0d0d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Switch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10240" y="1295280"/>
            <a:ext cx="824760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66FE2AB-A942-4EAE-9C60-A8D1273E9310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457200" y="762120"/>
            <a:ext cx="640080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har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Enter any  a-z character: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in &gt;&gt;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switch(l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a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a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b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b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c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c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default : cout &lt;&lt; "Letter is not a, b or c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return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For Loop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8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 "/>
            </a:pPr>
            <a:r>
              <a:rPr b="1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The </a:t>
            </a:r>
            <a:r>
              <a:rPr b="1" lang="en-US" sz="1700" spc="-1" strike="noStrike">
                <a:solidFill>
                  <a:srgbClr val="ff0000"/>
                </a:solidFill>
                <a:latin typeface="LM Mono 10 Regular"/>
                <a:ea typeface="LM Mono 10 Regular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 loop execute part of the code a fixed number of times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1024D2C-71DA-434B-839B-628EB726F8EB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Screen shot 2013-02-03 at 10.41.10 AM.pn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rogramming Languages Overview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F03017A5-82B7-4A65-AC32-84747C305CF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algn="ctr"/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4767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#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include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 &lt;iostream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using namespace 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st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int 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main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int 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i,nu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cout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&lt;&lt;"enter any number: "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cin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&gt;&gt;nu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 ( i=1 ; i&lt;=10 ; i++ )</a:t>
            </a:r>
            <a:r>
              <a:rPr b="1" lang="x-none" sz="1600" spc="-1" strike="noStrike">
                <a:solidFill>
                  <a:srgbClr val="0d0d0d"/>
                </a:solidFill>
                <a:latin typeface="Arial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cout 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&lt;&lt; endl &lt;&lt; num &lt;&lt; "*“ &lt;&lt; i &lt;&lt; "=“ &lt;&lt; num*i &lt;&lt; end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5CD622B-8C70-4FFC-BEA5-72A6DB9E7873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 cap="all">
                <a:solidFill>
                  <a:srgbClr val="ffffff"/>
                </a:solidFill>
                <a:latin typeface="Arial"/>
              </a:rPr>
              <a:t>While Loop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893DD12-596A-4C78-AD40-BADD59ADF4D1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Screen shot 2013-02-03 at 10.56.35 AM.png"/>
          <p:cNvPicPr/>
          <p:nvPr/>
        </p:nvPicPr>
        <p:blipFill>
          <a:blip r:embed="rId1"/>
          <a:stretch/>
        </p:blipFill>
        <p:spPr>
          <a:xfrm>
            <a:off x="1143000" y="304920"/>
            <a:ext cx="6613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 Whil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F0E395E-534A-4505-A5B1-ABCFDBE32E6A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Screen shot 2013-02-03 at 11.02.00 AM.png"/>
          <p:cNvPicPr/>
          <p:nvPr/>
        </p:nvPicPr>
        <p:blipFill>
          <a:blip r:embed="rId1"/>
          <a:stretch/>
        </p:blipFill>
        <p:spPr>
          <a:xfrm>
            <a:off x="609480" y="1066680"/>
            <a:ext cx="8076960" cy="35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Relational Operators in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Content Placeholder 5" descr="Screen shot 2013-02-03 at 11.06.03 AM.png"/>
          <p:cNvPicPr/>
          <p:nvPr/>
        </p:nvPicPr>
        <p:blipFill>
          <a:blip r:embed="rId1"/>
          <a:stretch/>
        </p:blipFill>
        <p:spPr>
          <a:xfrm>
            <a:off x="752400" y="1143000"/>
            <a:ext cx="7095960" cy="327636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AC01A85-DFD3-4D89-9870-A31A36789543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Logical Operators in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Content Placeholder 8" descr="Screen shot 2013-02-03 at 11.07.58 AM.png"/>
          <p:cNvPicPr/>
          <p:nvPr/>
        </p:nvPicPr>
        <p:blipFill>
          <a:blip r:embed="rId1"/>
          <a:stretch/>
        </p:blipFill>
        <p:spPr>
          <a:xfrm>
            <a:off x="990720" y="1371600"/>
            <a:ext cx="7111800" cy="231408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1E34D1A-EE48-4AC2-8FE5-F74FB887A78E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5FA52DEB-F71A-4224-A03B-CA0BA516CAF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  <a:ea typeface="msmincho"/>
              </a:rPr>
              <a:t>Programming Methodolog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  <a:ea typeface="msmincho"/>
              </a:rPr>
              <a:t>Structured Programm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02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mincho"/>
              </a:rPr>
              <a:t>Ex: C, Pascal, Fort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Object-Oriented Programming(OO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mincho"/>
              </a:rPr>
              <a:t>Ex: C++,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DB15B62-238E-4F2E-BDD5-35867BD45C60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4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7666EC28-ABF6-4333-A571-C12354B4DCA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4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  <a:ea typeface="msmincho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47658030"/>
              </p:ext>
            </p:extLst>
          </p:nvPr>
        </p:nvGraphicFramePr>
        <p:xfrm>
          <a:off x="822240" y="1100160"/>
          <a:ext cx="7521120" cy="3579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84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B5FC2410-0E54-44B7-B2B8-1D668EE02978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5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36A4B00C-0E47-4C8A-8A15-ECE0A91F65F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5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 cap="all">
                <a:solidFill>
                  <a:srgbClr val="000000"/>
                </a:solidFill>
                <a:latin typeface="Arial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12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680" indent="-45720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AutoNum type="arabicPeriod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dentify component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objec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, which form the basis of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34308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x.: Suppose you want to write a program that automates the book rental process for a local book st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he two main objects in this problem are</a:t>
            </a:r>
            <a:r>
              <a:rPr b="1" lang="en-GB" sz="2400" spc="-1" strike="noStrike">
                <a:solidFill>
                  <a:srgbClr val="5b7378"/>
                </a:solidFill>
                <a:latin typeface="Arial"/>
                <a:ea typeface="msmincho"/>
              </a:rPr>
              <a:t> boo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and</a:t>
            </a:r>
            <a:r>
              <a:rPr b="1" lang="en-GB" sz="2400" spc="-1" strike="noStrike">
                <a:solidFill>
                  <a:srgbClr val="1466c5"/>
                </a:solidFill>
                <a:latin typeface="Arial"/>
                <a:ea typeface="msmincho"/>
              </a:rPr>
              <a:t> custom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ECB89545-7D9A-4E77-8D9A-0302D93E1E32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FF4A5B0A-D2F0-4CFD-A1E4-08529EF5841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 cap="all">
                <a:solidFill>
                  <a:srgbClr val="000000"/>
                </a:solidFill>
                <a:latin typeface="Arial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3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6560" indent="-51444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etermine how these objects interact with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Specify for each obje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600" indent="-51444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Relev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x: title, author, publisher, retail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600" indent="-51444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Operations to be performed on that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360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x: Checking the title of the boo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Reducing the number of copies in stock by one after a copy is ren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57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485BF60-2C09-486C-B676-AA53859D967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7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  <a:ea typeface="msmincho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9150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his illustrates that each object consists of data and operations on that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An object combines data and operations on the data into a single uni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n OOD, the final program is a collection of interacting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CF167608-5D09-4D9A-8B5A-127700B1E9D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8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3A5EBF36-428B-41CE-ABDA-154B92427EB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000000"/>
                </a:solidFill>
                <a:latin typeface="Arial"/>
              </a:rPr>
              <a:t>OO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049400"/>
            <a:ext cx="838152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Allow you to organize your program more effectivel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By decomposing a problem into its essential par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Each component becom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a self contain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object that contains its own instructions and data related to that obj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All object oriented programming languages have three things in common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encaps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Inheri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9F5764C5-C077-4026-87B3-D8DBD0E83927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9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3E82FE37-BB38-4986-BCE1-C2517EE8E3A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B67F8B9-41C9-4BCD-B1EA-1C181E3A3A2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47981E4D-BA02-48CB-9A0E-C240786B5E59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472</TotalTime>
  <Application>LibreOffice/7.4.7.2$Linux_X86_64 LibreOffice_project/40$Build-2</Application>
  <AppVersion>15.0000</AppVersion>
  <Words>802</Words>
  <Paragraphs>2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8:31:05Z</dcterms:created>
  <dc:creator>ALjaffan</dc:creator>
  <dc:description/>
  <dc:language>en-US</dc:language>
  <cp:lastModifiedBy>Aseel</cp:lastModifiedBy>
  <dcterms:modified xsi:type="dcterms:W3CDTF">2014-02-05T19:44:26Z</dcterms:modified>
  <cp:revision>127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24</vt:r8>
  </property>
  <property fmtid="{D5CDD505-2E9C-101B-9397-08002B2CF9AE}" pid="4" name="PresentationFormat">
    <vt:lpwstr>On-screen Show (4:3)</vt:lpwstr>
  </property>
  <property fmtid="{D5CDD505-2E9C-101B-9397-08002B2CF9AE}" pid="5" name="Slides">
    <vt:r8>34</vt:r8>
  </property>
</Properties>
</file>