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4E580-B4A6-4CF9-BE2E-85970D415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1840A1-7ABB-4885-8AA3-19323C00F059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ECE03C-A71D-41ED-A89E-BDA80C77BDF8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955075-2600-487F-934C-2D221FBE98F2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817C69-B7A7-4BAA-ABDA-3A87E2B65746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74DE9C-5169-4831-91EB-404EC50B5CC8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FF7-393D-4E9A-8D3C-AD1F49B0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F61-D377-41E5-8E19-43F863B8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6CA-08FB-4DE0-878E-EC2E86F1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C7D-D235-4B59-8BD5-97388F40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7DEB-B1D2-4FBD-9849-99359026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7171-3E90-4495-94A4-A64FAE9A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1819-6C61-4D71-9BEC-0942C3F4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2473-A4B8-4048-A756-53038815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304D-1879-4D39-90C8-E49B845C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36CF-A095-45C7-A4C1-ACD4A6A6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5348-1F59-484D-ABA6-530A5C0A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3A5-9241-4E71-B0DF-EEA39D74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E33-3231-415B-8D74-3DEF576E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9CD6-590F-41B5-95E4-9F50F94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9B6D-2A4B-4E47-A77C-2C4226EA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4E44-8D8F-4BF2-A48B-082DA60B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8FE5-6A13-424D-AC98-77D9D2BA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2BD7-0F22-4255-9314-C9956A50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6413-AADD-4FE5-88F4-CBF9859A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54ED-B8ED-4CB6-BF8B-3EFD4E2E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EE2B-64B6-4318-AAF0-550F6B79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86E7-6D3A-446B-A8FA-80198817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702-FB00-4733-966B-10743F7A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837B-9849-4D2A-8360-FB9D1D93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8257-D04C-42D0-A557-07BE0C6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13519-3E06-46FA-AFF0-5ED8FEA1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0950-B784-419B-97B2-4A1D1B02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983C-2012-481A-A674-295322D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6E2B-C269-4A19-B8DB-E83FBE1B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2391-E0D6-4EBD-81C4-46E2F041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6D90-8D6A-410C-8163-BAC4FCF6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5CAE-041C-40C4-AE46-D4F4AF37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1CF8-628B-4A5D-A1E4-A89ECFBE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670-1756-40AE-B141-1CBAE48C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0F2DB-A04B-42D1-A9D5-20FCB4FA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2335-86F8-4C2C-81D9-6C9F5D6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E200B-B2E6-44E9-9DC1-25077FDA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611B-2E2C-4A07-8861-2B08ED75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BA831-8C92-4A9D-8B6B-7AC1CDA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8FE2-2297-4A1B-9D99-BCD952A8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BAEA-561C-461A-925B-FA5DB566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524B-7C42-4780-A4F5-E2A71A20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8FD8B-3F3D-4813-BE52-E8BDD564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949EC-87B3-477F-9D85-ED0B165C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DAC-9D09-4C35-9E37-DCE65337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105F6-721C-43C4-89AC-49D49E11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E5D1-6310-4340-89AC-C51C64D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8ABBE-DAE1-48B6-99BF-7B9BFA6A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907C7-87FB-4C9A-BE6D-A9077B60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7264F-A951-406A-B506-AC44090C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7F4B-2208-4867-97D8-E1B1C81C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4AE8-C00A-43FA-AC88-F31BB76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8EC47-4CDD-4761-9B37-9FBDB22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3757D-CC87-42D9-84A8-17C02D9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41BBE-411F-4859-A417-7B8D1672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A3C-3A92-4CFC-B5FE-4CB380ED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F2CF-15FF-4984-AD8B-A58DC8FB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D22-3D7C-4AD5-84BD-FF3A730C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6DD-6F5D-4AAE-9D42-21AD931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914-84C2-4BDD-BDBE-EBBA7C8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E21FDDD-F6B7-4C74-9544-20203153A0B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29B3087-C22D-4AC5-B08A-D2DC05B4A2D2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183894-21A7-43C3-9CDE-C31B79949107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35D6DDB-C24B-40A0-A272-ABA94635FE68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body"/>
          </p:nvPr>
        </p:nvSpPr>
        <p:spPr>
          <a:xfrm>
            <a:off x="81900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470016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dt" idx="13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 type="ftr" idx="14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8"/>
          <p:cNvSpPr>
            <a:spLocks noGrp="1"/>
          </p:cNvSpPr>
          <p:nvPr>
            <p:ph type="sldNum" idx="15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449390-7CEE-4922-BA2E-E00EFAB441EB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CS1201: Programming Language 2</a:t>
            </a:r>
            <a:br>
              <a:rPr sz="3200"/>
            </a:br>
            <a:br>
              <a:rPr sz="3200"/>
            </a:b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Arguments and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one correspondence betwee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function call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unction defini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245520" y="1828800"/>
            <a:ext cx="891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rgument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rgument2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function call (in another function, such as mai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 = thefunctionname(argument1, argument2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urier New"/>
              </a:rPr>
              <a:t>/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 function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hefunctionname(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rameter1,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ramete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Now the function can use the two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parameter1 = argument 1, parameter2 = argumen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Absolute valu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04920" y="762120"/>
            <a:ext cx="883872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&lt;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nsolas"/>
              </a:rPr>
              <a:t>using namespace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absolute (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);</a:t>
            </a:r>
            <a:r>
              <a:rPr b="0" lang="en-US" sz="1800" spc="-1" strike="noStrike">
                <a:solidFill>
                  <a:srgbClr val="309670"/>
                </a:solidFill>
                <a:latin typeface="Consolas"/>
              </a:rPr>
              <a:t>// function prototype for absolu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num, answer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out &lt;&lt; "Enter an integer (0 to stop): 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in &gt;&gt; n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(num!=0){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answer = absolute(num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out &lt;&lt; "The absolute value of " &lt;&lt;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&lt;&lt; " is: " &lt;&lt; answer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in &gt;&gt; num;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0;   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309670"/>
                </a:solidFill>
                <a:latin typeface="Consolas"/>
              </a:rPr>
              <a:t>// Define a function to take absolute value of an inte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absolute(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x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(x &gt;= 0)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-x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Prototype (decl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30556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prototype declares the input and output parameters of the func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prototype has the following syntax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type&gt; &lt;function name&gt;(&lt;type list&gt;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 function that returns the absolute value of an integer is:    </a:t>
            </a:r>
            <a:r>
              <a:rPr b="0" lang="en-US" sz="2400" spc="-1" strike="noStrike">
                <a:solidFill>
                  <a:srgbClr val="33ccff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bsolute(</a:t>
            </a:r>
            <a:r>
              <a:rPr b="0" lang="en-US" sz="2400" spc="-1" strike="noStrike">
                <a:solidFill>
                  <a:srgbClr val="33ccff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Prototype (decl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tells the compiler that at some point later we will present a function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bsol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function declaration is terminated by a semico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declarations are 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Different Functi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Content Placeholder 3" descr="Screen shot 2013-02-05 at 8.17.42 PM.png"/>
          <p:cNvPicPr/>
          <p:nvPr/>
        </p:nvPicPr>
        <p:blipFill>
          <a:blip r:embed="rId1"/>
          <a:stretch/>
        </p:blipFill>
        <p:spPr>
          <a:xfrm>
            <a:off x="228600" y="838080"/>
            <a:ext cx="8732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Function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1CE6220-761A-4AB7-AE92-B5FD9DBB26E3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Screen shot 2013-02-03 at 11.41.32 AM.png"/>
          <p:cNvPicPr/>
          <p:nvPr/>
        </p:nvPicPr>
        <p:blipFill>
          <a:blip r:embed="rId1"/>
          <a:stretch/>
        </p:blipFill>
        <p:spPr>
          <a:xfrm>
            <a:off x="380880" y="0"/>
            <a:ext cx="62431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body is composed of the statements that make up the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definition can be placed anywhere in the program after the function prototyp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function definition is placed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there is no need to include its function prototyp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560" cy="40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elerator must agree with the prototype: It must use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me function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ave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me argument typ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ame order (if there are arguments), and have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me return typ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the decelerator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inated by a semicol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function is called, control is transferred to the first statement in the function bod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statements in the function body are then executed, and when the closing brace is encountered, control returns to the calling progr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Absolute Value (altern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276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e that it is possible to omit the function prototype if the function is placed before it is called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#include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&lt;iostream&gt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99ff"/>
                </a:solidFill>
                <a:latin typeface="Consolas"/>
              </a:rPr>
              <a:t>using namespace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std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absolute(int x){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(x &gt;= 0)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x;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else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-x; }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main(){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num, answer;    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cout &lt;&lt; "Enter an integer (0 to stop): ";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cin &gt;&gt; num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while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(num!=0){        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answer = absolute(num);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cout &lt;&lt; "The absolute value of " &lt;&lt; num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     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&lt;&lt; " is: " &lt;&lt; answer &lt;&lt; 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cin &gt;&gt; num;   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0;  }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900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Function larger, which returns the larger of the two given integ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900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Function Square, which returns the square of the given integ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900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function  number_type. The function should output the number and message saying whether the number is positive, negative, or zer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3D9AD99-142A-47DE-9184-C584828FA886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9800" y="152388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a Fun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ction Prototype Vs Decl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ghlight  Some Errors in Function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ameters Vs Arg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hod Pa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ction Rec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ction Overloa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ffffff"/>
                </a:solidFill>
                <a:latin typeface="Arial"/>
              </a:rPr>
              <a:t>Example: With retur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71625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larger ( 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x , 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y )</a:t>
            </a:r>
            <a:r>
              <a:rPr b="0" lang="x-none" sz="18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{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ma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( x &gt;= y )</a:t>
            </a:r>
            <a:r>
              <a:rPr b="0" lang="x-none" sz="18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max = 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max = 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ma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……</a:t>
            </a: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Cout &lt;&lt; “The larger of 5 and 6 is “ &lt;&lt; larger(5 , 6) &lt;&lt; end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………</a:t>
            </a: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2EF59766-10A5-4D68-B19A-3C470ED69189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 rot="949200">
            <a:off x="4736160" y="537480"/>
            <a:ext cx="337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ded8"/>
                </a:solidFill>
                <a:latin typeface="Arial"/>
              </a:rPr>
              <a:t>Solution Ex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With retur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216000"/>
            <a:ext cx="76197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square (</a:t>
            </a: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x)</a:t>
            </a:r>
            <a:r>
              <a:rPr b="0" lang="x-none" sz="17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x*x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main ( 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number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Consolas"/>
              </a:rPr>
              <a:t>"Enter any number to Calculate the square of this number "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in&gt;&gt;number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&lt;&lt;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Consolas"/>
              </a:rPr>
              <a:t>"the square of "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&lt;&lt;number&lt;&lt;</a:t>
            </a:r>
            <a:r>
              <a:rPr b="0" lang="en-GB" sz="1700" spc="-1" strike="noStrike">
                <a:solidFill>
                  <a:srgbClr val="800000"/>
                </a:solidFill>
                <a:latin typeface="Consolas"/>
              </a:rPr>
              <a:t>" is "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&lt;&lt;square(number)&lt;&lt;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DC2214EE-D513-4356-91FF-21A492F10B3F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 rot="949200">
            <a:off x="4278960" y="516600"/>
            <a:ext cx="337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ded8"/>
                </a:solidFill>
                <a:latin typeface="Arial"/>
              </a:rPr>
              <a:t>Solution Ex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Without retur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60195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b7378"/>
                </a:solidFill>
                <a:latin typeface="Consolas"/>
              </a:rPr>
              <a:t>Void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 number_type ( </a:t>
            </a:r>
            <a:r>
              <a:rPr b="0" lang="en-GB" sz="1700" spc="-1" strike="noStrike">
                <a:solidFill>
                  <a:srgbClr val="1466c5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x)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Consolas"/>
              </a:rPr>
              <a:t>if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( x &gt; 0 )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 &lt;&lt; x &lt;&lt; “ is positive.” &lt;&lt; 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Consolas"/>
              </a:rPr>
              <a:t>else if 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( x &lt; 0 )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 &lt;&lt; x &lt;&lt; “ is negative.” &lt;&lt; 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Consolas"/>
              </a:rPr>
              <a:t>els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&lt;&lt; x &lt;&lt; “is a zero.”&lt;&lt;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……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.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Number_type( 5 )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………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. 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17B5507D-ABDF-45D8-8453-3680A79C63B2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 rot="949200">
            <a:off x="4535640" y="461520"/>
            <a:ext cx="337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ded8"/>
                </a:solidFill>
                <a:latin typeface="Arial"/>
              </a:rPr>
              <a:t>Solution Ex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8015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inding Errors in Functio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66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int sum(int x, int 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int resul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result = x+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1676520" y="4114800"/>
            <a:ext cx="6171840" cy="528120"/>
          </a:xfrm>
          <a:prstGeom prst="rect">
            <a:avLst/>
          </a:prstGeom>
          <a:gradFill rotWithShape="0">
            <a:gsLst>
              <a:gs pos="0">
                <a:srgbClr val="5e7a2e"/>
              </a:gs>
              <a:gs pos="100000">
                <a:srgbClr val="7b9e3c"/>
              </a:gs>
            </a:gsLst>
            <a:lin ang="16200000"/>
          </a:gradFill>
          <a:ln>
            <a:solidFill>
              <a:srgbClr val="7a964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this function must return an integer value as indicated in the header definition (</a:t>
            </a:r>
            <a:r>
              <a:rPr b="0" lang="en-US" sz="1800" spc="-1" strike="noStrike">
                <a:solidFill>
                  <a:schemeClr val="lt1"/>
                </a:solidFill>
                <a:latin typeface="Courier New"/>
              </a:rPr>
              <a:t>return result;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) should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65760"/>
            <a:ext cx="781020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inding Errors in Functio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66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int sum (int 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 if (n==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n+sum(n-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1447920" y="4038480"/>
            <a:ext cx="7162560" cy="747360"/>
          </a:xfrm>
          <a:prstGeom prst="rect">
            <a:avLst/>
          </a:prstGeom>
          <a:gradFill rotWithShape="0">
            <a:gsLst>
              <a:gs pos="0">
                <a:srgbClr val="5e7a2e"/>
              </a:gs>
              <a:gs pos="100000">
                <a:srgbClr val="7b9e3c"/>
              </a:gs>
            </a:gsLst>
            <a:lin ang="16200000"/>
          </a:gradFill>
          <a:ln>
            <a:solidFill>
              <a:srgbClr val="7a964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the result of n+sum(n-1) is not returned; sum returns an improper result, the else part should be written a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ourier New"/>
              </a:rPr>
              <a:t>else return n+sum(n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65760"/>
            <a:ext cx="80769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inding Errors in Functio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oid f(float a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float 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&lt;&lt;a&lt;&lt;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2514600" y="3048120"/>
            <a:ext cx="6552720" cy="2284200"/>
          </a:xfrm>
          <a:prstGeom prst="rect">
            <a:avLst/>
          </a:prstGeom>
          <a:gradFill rotWithShape="0">
            <a:gsLst>
              <a:gs pos="0">
                <a:srgbClr val="5e7a2e"/>
              </a:gs>
              <a:gs pos="100000">
                <a:srgbClr val="7b9e3c"/>
              </a:gs>
            </a:gsLst>
            <a:lin ang="16200000"/>
          </a:gradFill>
          <a:ln>
            <a:solidFill>
              <a:srgbClr val="7a964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ff3300"/>
              </a:buClr>
              <a:buFont typeface="Wingdings" charset="2"/>
              <a:buChar char=""/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chemeClr val="lt1"/>
                </a:solidFill>
                <a:latin typeface="Arial"/>
              </a:rPr>
              <a:t> found after function definition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0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chemeClr val="lt1"/>
                </a:solidFill>
                <a:latin typeface="Arial"/>
              </a:rPr>
              <a:t>redefining the parameter 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chemeClr val="lt1"/>
                </a:solidFill>
                <a:latin typeface="Arial"/>
              </a:rPr>
              <a:t> in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void f(float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float a2 = a + 8.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cout &lt;&lt;a2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inding Errors in Func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2080" y="1295280"/>
            <a:ext cx="7662600" cy="37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oid product(voi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int a, b, c, resul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enter three integers: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in &gt;&gt; a &gt;&gt; b &gt;&gt; 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result = a*b*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Result is” &lt;&lt; resul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return resul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6172200" y="2521080"/>
            <a:ext cx="2742840" cy="2721960"/>
          </a:xfrm>
          <a:prstGeom prst="rect">
            <a:avLst/>
          </a:prstGeom>
          <a:gradFill rotWithShape="0">
            <a:gsLst>
              <a:gs pos="0">
                <a:srgbClr val="5e7a2e"/>
              </a:gs>
              <a:gs pos="100000">
                <a:srgbClr val="7b9e3c"/>
              </a:gs>
            </a:gsLst>
            <a:lin ang="16200000"/>
          </a:gradFill>
          <a:ln>
            <a:solidFill>
              <a:srgbClr val="7a964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400" spc="-1" strike="noStrike">
                <a:solidFill>
                  <a:schemeClr val="lt1"/>
                </a:solidFill>
                <a:latin typeface="Arial"/>
              </a:rPr>
              <a:t>According to the definition it should not return a value , but in the block (body) it did &amp; this is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4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24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chemeClr val="lt1"/>
                </a:solidFill>
                <a:latin typeface="Arial"/>
              </a:rPr>
              <a:t>Remove </a:t>
            </a:r>
            <a:r>
              <a:rPr b="1" lang="en-US" sz="2400" spc="-1" strike="noStrike">
                <a:solidFill>
                  <a:schemeClr val="lt1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Methods of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re are 3 primary methods of passing arguments to function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 by val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 by referen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pass by address. ( will be addressed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ing arguments b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2920" cy="15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63440" indent="-16344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efault, arguments in C++ are passed by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16344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rguments are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ed by 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 copy of the argument is passed to the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16344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a copy of the argument is passed to the function, the original argument can not be modified by the fun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3600" spc="-1" strike="noStrike" cap="all">
                <a:solidFill>
                  <a:srgbClr val="000000"/>
                </a:solidFill>
                <a:latin typeface="Arial"/>
              </a:rPr>
              <a:t>Adv. And DisAdv. Of Passing  by 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400" spc="398" strike="noStrike" cap="all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400" spc="398" strike="noStrike" cap="all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81900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70280" indent="-1702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passed by value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4200" indent="-1609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s (eg.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4200" indent="-1609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ls (eg. 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4200" indent="-1609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expressions (eg. x+1) or (eg foo(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-1702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are never changed by the function being called, which prevents side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001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400" spc="398" strike="noStrike" cap="all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0016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120" indent="-2743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SzPct val="80000"/>
              <a:buFont typeface="Wingdings 2" charset="2"/>
              <a:buChar char="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ying large structs or classes can take a lot of time to copy, and this can cqause a performance penalty, especially if the function is called many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DF8715AC-85CD-48D6-BEB6-A6D549D20871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a Fun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nction groups number of program statements into a unit and gives it a n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used to reduce program siz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sequence of instructions that appear more than once in a program is a candidate for being made into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can be called several times in the same program, allowing the code to be re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8152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lue returning function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 algn="just">
              <a:lnSpc>
                <a:spcPct val="15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 algn="just">
              <a:lnSpc>
                <a:spcPct val="15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oid function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 algn="just">
              <a:lnSpc>
                <a:spcPct val="15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 algn="just">
              <a:lnSpc>
                <a:spcPct val="15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like variables you must tell the compiler about the fun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 before it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before it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r defin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programs usually have the following form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// include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// function proto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// main()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// function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s input an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function_fig1"/>
          <p:cNvPicPr/>
          <p:nvPr/>
        </p:nvPicPr>
        <p:blipFill>
          <a:blip r:embed="rId1"/>
          <a:srcRect l="0" t="0" r="252" b="-25820"/>
          <a:stretch/>
        </p:blipFill>
        <p:spPr>
          <a:xfrm>
            <a:off x="228600" y="1523880"/>
            <a:ext cx="8343720" cy="35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defin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86348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definition has the following syntax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ype&gt; &lt;function name&gt;(&lt;parameter list&gt;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local declarations&gt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equence of statements&gt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Definition of a function that computes the absolute value of an integ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acef9"/>
                </a:solidFill>
                <a:latin typeface="Consolas"/>
              </a:rPr>
              <a:t>int 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absolute(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x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{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(x &gt;= 0)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x;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-x;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}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call has the following syntax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function name&gt;(&lt;argument list&gt;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9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distan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9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distance = </a:t>
            </a:r>
            <a:r>
              <a:rPr b="0" lang="en-US" sz="2400" spc="-1" strike="noStrike">
                <a:solidFill>
                  <a:srgbClr val="ff0000"/>
                </a:solidFill>
                <a:latin typeface="Consolas"/>
              </a:rPr>
              <a:t>absolute(-5)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814</TotalTime>
  <Application>LibreOffice/7.4.7.2$Linux_X86_64 LibreOffice_project/40$Build-2</Application>
  <AppVersion>15.0000</AppVersion>
  <Words>1081</Words>
  <Paragraphs>2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8:03:11Z</dcterms:created>
  <dc:creator>ALjaffan</dc:creator>
  <dc:description/>
  <dc:language>en-US</dc:language>
  <cp:lastModifiedBy>Aseel</cp:lastModifiedBy>
  <dcterms:modified xsi:type="dcterms:W3CDTF">2014-02-06T19:57:20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8</vt:r8>
  </property>
  <property fmtid="{D5CDD505-2E9C-101B-9397-08002B2CF9AE}" pid="4" name="PresentationFormat">
    <vt:lpwstr>On-screen Show (4:3)</vt:lpwstr>
  </property>
  <property fmtid="{D5CDD505-2E9C-101B-9397-08002B2CF9AE}" pid="5" name="Slides">
    <vt:r8>29</vt:r8>
  </property>
</Properties>
</file>