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43D40-A0F3-49F0-A57F-8A9844B67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E3139A-EE97-4BBA-A9AD-CF41123CAE00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DA9A30-D361-4E1C-AE26-8A0E6B301B3A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523226-6238-4C01-9262-8017AA3E0314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A42AE3-89E0-4352-A174-922CB0A8FE49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6B34D9-C3D3-407F-8084-E732E2CEE84F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00C-DCCE-46F4-826A-6B18E29E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8FE-C718-4940-B67A-9F457957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3DB-BA27-4D61-9160-03673F60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90512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298728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FBA-D2AE-45BB-B454-7E45CAC3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2AC5-17C4-45ED-BE39-73F25563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EA73-4380-45FD-AEC1-3644BF89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8B2D-309E-4236-86F8-C7F11051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5BC5-03BF-4881-8EBF-4A55787E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C71C-2B3B-44C2-98C4-4697454C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41F3-CEB1-43B3-8B59-C3CBBFC6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50BF-61D1-4E01-B988-EE6D4F5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4BD-4792-4B64-A56A-2130A61C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EA9A-6131-48EB-AC2A-4155FBE1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F7AC-D073-4DC7-96D7-B83431D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794D-2FE7-4299-A840-A569A5F4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C022-2FE1-4E90-9191-03FA526E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90512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98728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0F5E-E4D7-427B-A414-703692CC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A561-879D-485F-A522-19FBF9CB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1C23D-CB59-4298-A6D4-799D291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B8514-84F4-43E2-9C53-8BEC9FA2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D2E5-08B1-43C4-8274-ACC13E64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9264-8742-418B-8BEE-8F3CCE71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60F-695F-4FEF-84D1-FF2BFFFF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C5C1-1BF8-4807-AF1F-B81D9ED5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3613-4A1E-4AFE-878A-DFF2AAC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8005-E114-4861-AA7F-F4E0BE1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C35D-1AEB-4572-A787-BCD513A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354B-D0C5-4381-9366-3BC8C46F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6AB4-AF42-419F-A612-D1F7F529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96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190512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298728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D3DE-B919-4615-9751-F34A17B8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25B54-56E7-4138-8D5F-FAC97E4D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8C19-B969-4E34-9265-F260503C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615AC-6177-45AD-9153-C7AF5C9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32A-F29C-4688-9175-CDFE6059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E4D6-18AA-4DEE-BC39-10D927D7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1C66-9189-4494-AA1E-B5DE18D0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A299-C8C4-4CDB-B13C-49A689E3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B9C88-0B51-4DD7-9B31-9B5744FC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C732C-B6A6-452A-9E59-449EB294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DE99A-A42C-4E3E-B5E3-28EC1550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5827-90E8-4568-8D14-2230BEE9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E032-8F7E-409D-85B0-1AE35DAC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2296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190512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298728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C8553-6055-4742-A5E3-1CBE247F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0DE2F-9CF9-4346-805E-854050AB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E35-670A-4E89-A2DA-F04EDCE8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329BA-480A-4216-8444-C359D599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E20F-3EE9-4720-B5E5-FE05E524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D3B0E-191C-410B-9B2E-17465BC7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657DF-DD06-4DA8-AA0A-D2C14C99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750B2-BE0D-4918-AF11-2274EFAC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EB76A-D66B-4E3D-A2E9-AC9E65AC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E8889-8FAF-42DA-99AF-F96E7054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46A2D-F2D7-4E5B-B6A3-77248DAE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25804-85D5-4709-A61D-85093959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F6A4-3721-403E-B392-A0572E75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841-F0F1-422E-B995-13424389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82296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190512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987280" y="1383840"/>
            <a:ext cx="1030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24477-8D8C-4224-89D1-2485C181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FA0-8ED1-4EA7-A324-77E03073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2760" y="138384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5A5-9248-4B70-A8E3-3E61FB79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1383840"/>
            <a:ext cx="3200040" cy="2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78B-F3CA-4BA0-B96D-736218D7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075DFA-5F48-438D-8B5D-F35398782CBC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184FE7C-8294-4ABE-8AAF-827A150260EC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66112C-5890-42A5-B84D-94A2FE89B618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8845C6F-0E71-47EE-AAAC-A6816B350EAC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body"/>
          </p:nvPr>
        </p:nvSpPr>
        <p:spPr>
          <a:xfrm>
            <a:off x="81900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body"/>
          </p:nvPr>
        </p:nvSpPr>
        <p:spPr>
          <a:xfrm>
            <a:off x="470016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dt" idx="13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 type="ftr" idx="14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8"/>
          <p:cNvSpPr>
            <a:spLocks noGrp="1"/>
          </p:cNvSpPr>
          <p:nvPr>
            <p:ph type="sldNum" idx="15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F368533-81BC-4E62-B307-4789F0A91A0F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CS1201: Programming Language 2</a:t>
            </a:r>
            <a:br>
              <a:rPr sz="3200"/>
            </a:br>
            <a:br>
              <a:rPr sz="3200"/>
            </a:b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Arguments and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one correspondence betwee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function call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function defini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245520" y="1828800"/>
            <a:ext cx="891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rgument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rgument2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function call (in another function, such as mai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 = thefunctionname(argument1, argument2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urier New"/>
              </a:rPr>
              <a:t>/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 function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hefunctionname(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arameter1,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aramete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Now the function can use the two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parameter1 = argument 1, parameter2 = argumen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Absolute valu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04920" y="762120"/>
            <a:ext cx="883872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#include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&lt;iostre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nsolas"/>
              </a:rPr>
              <a:t>using namespace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absolute (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);</a:t>
            </a:r>
            <a:r>
              <a:rPr b="0" lang="en-US" sz="1800" spc="-1" strike="noStrike">
                <a:solidFill>
                  <a:srgbClr val="309670"/>
                </a:solidFill>
                <a:latin typeface="Consolas"/>
              </a:rPr>
              <a:t>// function prototype for absolu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num, answer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out &lt;&lt; "Enter an integer (0 to stop): 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in &gt;&gt; n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(num!=0){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answer = absolute(num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out &lt;&lt; "The absolute value of " &lt;&lt;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&lt;&lt; " is: " &lt;&lt; answer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in &gt;&gt; num; 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0;   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309670"/>
                </a:solidFill>
                <a:latin typeface="Consolas"/>
              </a:rPr>
              <a:t>// Define a function to take absolute value of an inte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absolute(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x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(x &gt;= 0)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nsolas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-x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Prototype (decl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305560" cy="47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prototype declares the input and output parameters of the func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prototype has the following syntax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type&gt; &lt;function name&gt;(&lt;type list&gt;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 function that returns the absolute value of an integer is:    </a:t>
            </a:r>
            <a:r>
              <a:rPr b="0" lang="en-US" sz="2400" spc="-1" strike="noStrike">
                <a:solidFill>
                  <a:srgbClr val="33ccff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bsolute(</a:t>
            </a:r>
            <a:r>
              <a:rPr b="0" lang="en-US" sz="2400" spc="-1" strike="noStrike">
                <a:solidFill>
                  <a:srgbClr val="33ccff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Prototype (decl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tells the compiler that at some point later we will present a function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bsol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function declaration is terminated by a semico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declarations are 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Different Functio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Content Placeholder 3" descr="Screen shot 2013-02-05 at 8.17.42 PM.png"/>
          <p:cNvPicPr/>
          <p:nvPr/>
        </p:nvPicPr>
        <p:blipFill>
          <a:blip r:embed="rId1"/>
          <a:stretch/>
        </p:blipFill>
        <p:spPr>
          <a:xfrm>
            <a:off x="228600" y="838080"/>
            <a:ext cx="8732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Function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560" cy="46778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C48A0BBA-130E-4C0A-AE06-9AAC9274F41C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Screen shot 2013-02-03 at 11.41.32 AM.png"/>
          <p:cNvPicPr/>
          <p:nvPr/>
        </p:nvPicPr>
        <p:blipFill>
          <a:blip r:embed="rId1"/>
          <a:stretch/>
        </p:blipFill>
        <p:spPr>
          <a:xfrm>
            <a:off x="380880" y="0"/>
            <a:ext cx="62431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body is composed of the statements that make up the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definition can be placed anywhere in the program after the function prototyp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function definition is placed before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there is no need to include its function prototyp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560" cy="40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elerator must agree with the prototype: It must use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me function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ave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me argument typ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ame order (if there are arguments), and have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me return typ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the decelerator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inated by a semicol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function is called, control is transferred to the first statement in the function bod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statements in the function body are then executed, and when the closing brace is encountered, control returns to the calling progra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Absolute Value (altern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2760" cy="47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e that it is possible to omit the function prototype if the function is placed before it is called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#include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&lt;iostream&gt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99ff"/>
                </a:solidFill>
                <a:latin typeface="Consolas"/>
              </a:rPr>
              <a:t>using namespace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std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int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absolute(int x){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(x &gt;= 0)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return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x;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else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return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-x; }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int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main(){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int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num, answer;    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cout &lt;&lt; "Enter an integer (0 to stop): ";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cin &gt;&gt; num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while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(num!=0){        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answer = absolute(num);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cout &lt;&lt; "The absolute value of " &lt;&lt; num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     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&lt;&lt; " is: " &lt;&lt; answer &lt;&lt; 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cin &gt;&gt; num;   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700" spc="-1" strike="noStrike">
                <a:solidFill>
                  <a:srgbClr val="33ccff"/>
                </a:solidFill>
                <a:latin typeface="Consolas"/>
              </a:rPr>
              <a:t>return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 0;  }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900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Function larger, which returns the larger of the two given integ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900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Function Square, which returns the square of the given integ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900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a function  number_type. The function should output the number and message saying whether the number is positive, negative, or zer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1DBC577B-FF13-4AB5-8DDA-21F6F3A2E87E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9800" y="152388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is a Func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ction Prototype Vs Decl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ghlight  Some Errors in Function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ameters Vs Arg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hod Pa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ction Rec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ction Overloa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ffffff"/>
                </a:solidFill>
                <a:latin typeface="Arial"/>
              </a:rPr>
              <a:t>Example: With retur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71625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larger ( 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x , 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y )</a:t>
            </a:r>
            <a:r>
              <a:rPr b="0" lang="x-none" sz="18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{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ma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( x &gt;= y )</a:t>
            </a:r>
            <a:r>
              <a:rPr b="0" lang="x-none" sz="18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max = 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max = 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 max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Consolas"/>
              </a:rPr>
              <a:t>……</a:t>
            </a:r>
            <a:r>
              <a:rPr b="0" lang="en-GB" sz="1800" spc="-1" strike="noStrike">
                <a:solidFill>
                  <a:srgbClr val="262699"/>
                </a:solidFill>
                <a:latin typeface="Consolas"/>
              </a:rPr>
              <a:t>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Consolas"/>
              </a:rPr>
              <a:t>Cout &lt;&lt; “The larger of 5 and 6 is “ &lt;&lt; larger(5 , 6) &lt;&lt; end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Consolas"/>
              </a:rPr>
              <a:t>………</a:t>
            </a:r>
            <a:r>
              <a:rPr b="0" lang="en-GB" sz="1800" spc="-1" strike="noStrike">
                <a:solidFill>
                  <a:srgbClr val="262699"/>
                </a:solidFill>
                <a:latin typeface="Consola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C53D6292-4C5D-4092-85BF-260C636CB30E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 rot="949200">
            <a:off x="4736160" y="537480"/>
            <a:ext cx="337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ded8"/>
                </a:solidFill>
                <a:latin typeface="Arial"/>
              </a:rPr>
              <a:t>Solution Ex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With retur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80" y="216000"/>
            <a:ext cx="76197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square (</a:t>
            </a: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x)</a:t>
            </a:r>
            <a:r>
              <a:rPr b="0" lang="x-none" sz="17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x*x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main ( 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number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Consolas"/>
              </a:rPr>
              <a:t>"Enter any number to Calculate the square of this number "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in&gt;&gt;number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&lt;&lt;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Consolas"/>
              </a:rPr>
              <a:t>"the square of "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&lt;&lt;number&lt;&lt;</a:t>
            </a:r>
            <a:r>
              <a:rPr b="0" lang="en-GB" sz="1700" spc="-1" strike="noStrike">
                <a:solidFill>
                  <a:srgbClr val="800000"/>
                </a:solidFill>
                <a:latin typeface="Consolas"/>
              </a:rPr>
              <a:t>" is "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&lt;&lt;square(number)&lt;&lt;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C97D9FD5-2B61-48E7-ACF2-CCB79ABCDAE9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 rot="949200">
            <a:off x="4278960" y="516600"/>
            <a:ext cx="337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ded8"/>
                </a:solidFill>
                <a:latin typeface="Arial"/>
              </a:rPr>
              <a:t>Solution Ex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057040" cy="46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 vert="eaVer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 Without retur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60195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b7378"/>
                </a:solidFill>
                <a:latin typeface="Consolas"/>
              </a:rPr>
              <a:t>Void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 number_type ( </a:t>
            </a:r>
            <a:r>
              <a:rPr b="0" lang="en-GB" sz="1700" spc="-1" strike="noStrike">
                <a:solidFill>
                  <a:srgbClr val="1466c5"/>
                </a:solidFill>
                <a:latin typeface="Consolas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x)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Consolas"/>
              </a:rPr>
              <a:t>if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 ( x &gt; 0 )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 &lt;&lt; x &lt;&lt; “ is positive.” &lt;&lt; 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Consolas"/>
              </a:rPr>
              <a:t>else if 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( x &lt; 0 )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 &lt;&lt; x &lt;&lt; “ is negative.” &lt;&lt; 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Consolas"/>
              </a:rPr>
              <a:t>els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cout&lt;&lt; x &lt;&lt; “is a zero.”&lt;&lt;endl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……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.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Number_type( 5 );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………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. </a:t>
            </a: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D7425B2B-E878-4832-9205-1D347FF8EA8F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 rot="949200">
            <a:off x="4535640" y="461520"/>
            <a:ext cx="337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ded8"/>
                </a:solidFill>
                <a:latin typeface="Arial"/>
              </a:rPr>
              <a:t>Solution Ex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8015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inding Errors in Functio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66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int sum(int x, int 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int resul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result = x+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1676520" y="4114800"/>
            <a:ext cx="6171840" cy="528120"/>
          </a:xfrm>
          <a:prstGeom prst="rect">
            <a:avLst/>
          </a:prstGeom>
          <a:gradFill rotWithShape="0">
            <a:gsLst>
              <a:gs pos="0">
                <a:srgbClr val="5e7a2e"/>
              </a:gs>
              <a:gs pos="100000">
                <a:srgbClr val="7b9e3c"/>
              </a:gs>
            </a:gsLst>
            <a:lin ang="16200000"/>
          </a:gradFill>
          <a:ln>
            <a:solidFill>
              <a:srgbClr val="7a964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this function must return an integer value as indicated in the header definition (</a:t>
            </a:r>
            <a:r>
              <a:rPr b="0" lang="en-US" sz="1800" spc="-1" strike="noStrike">
                <a:solidFill>
                  <a:schemeClr val="lt1"/>
                </a:solidFill>
                <a:latin typeface="Courier New"/>
              </a:rPr>
              <a:t>return result;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) should be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65760"/>
            <a:ext cx="781020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inding Errors in Functio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66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int sum (int 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 if (n==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return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n+sum(n-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1447920" y="4038480"/>
            <a:ext cx="7162560" cy="747360"/>
          </a:xfrm>
          <a:prstGeom prst="rect">
            <a:avLst/>
          </a:prstGeom>
          <a:gradFill rotWithShape="0">
            <a:gsLst>
              <a:gs pos="0">
                <a:srgbClr val="5e7a2e"/>
              </a:gs>
              <a:gs pos="100000">
                <a:srgbClr val="7b9e3c"/>
              </a:gs>
            </a:gsLst>
            <a:lin ang="16200000"/>
          </a:gradFill>
          <a:ln>
            <a:solidFill>
              <a:srgbClr val="7a964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the result of n+sum(n-1) is not returned; sum returns an improper result, the else part should be written a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ourier New"/>
              </a:rPr>
              <a:t>else return n+sum(n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65760"/>
            <a:ext cx="80769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inding Errors in Functio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oid f(float a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float 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&lt;&lt;a&lt;&lt;end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2514600" y="3048120"/>
            <a:ext cx="6552720" cy="2284200"/>
          </a:xfrm>
          <a:prstGeom prst="rect">
            <a:avLst/>
          </a:prstGeom>
          <a:gradFill rotWithShape="0">
            <a:gsLst>
              <a:gs pos="0">
                <a:srgbClr val="5e7a2e"/>
              </a:gs>
              <a:gs pos="100000">
                <a:srgbClr val="7b9e3c"/>
              </a:gs>
            </a:gsLst>
            <a:lin ang="16200000"/>
          </a:gradFill>
          <a:ln>
            <a:solidFill>
              <a:srgbClr val="7a964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90000"/>
              </a:lnSpc>
              <a:buClr>
                <a:srgbClr val="ff3300"/>
              </a:buClr>
              <a:buFont typeface="Wingdings" charset="2"/>
              <a:buChar char=""/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chemeClr val="lt1"/>
                </a:solidFill>
                <a:latin typeface="Arial"/>
              </a:rPr>
              <a:t> found after function definition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0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chemeClr val="lt1"/>
                </a:solidFill>
                <a:latin typeface="Arial"/>
              </a:rPr>
              <a:t>redefining the parameter 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chemeClr val="lt1"/>
                </a:solidFill>
                <a:latin typeface="Arial"/>
              </a:rPr>
              <a:t> in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void f(float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float a2 = a + 8.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cout &lt;&lt;a2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inding Errors in Func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2080" y="1295280"/>
            <a:ext cx="7662600" cy="37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void product(voi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int a, b, c, resul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enter three integers:”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in &gt;&gt; a &gt;&gt; b &gt;&gt; 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result = a*b*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Result is” &lt;&lt; resul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return resul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6172200" y="2521080"/>
            <a:ext cx="2742840" cy="2721960"/>
          </a:xfrm>
          <a:prstGeom prst="rect">
            <a:avLst/>
          </a:prstGeom>
          <a:gradFill rotWithShape="0">
            <a:gsLst>
              <a:gs pos="0">
                <a:srgbClr val="5e7a2e"/>
              </a:gs>
              <a:gs pos="100000">
                <a:srgbClr val="7b9e3c"/>
              </a:gs>
            </a:gsLst>
            <a:lin ang="16200000"/>
          </a:gradFill>
          <a:ln>
            <a:solidFill>
              <a:srgbClr val="7a964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400" spc="-1" strike="noStrike">
                <a:solidFill>
                  <a:schemeClr val="lt1"/>
                </a:solidFill>
                <a:latin typeface="Arial"/>
              </a:rPr>
              <a:t>According to the definition it should not return a value , but in the block (body) it did &amp; this is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4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24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chemeClr val="lt1"/>
                </a:solidFill>
                <a:latin typeface="Arial"/>
              </a:rPr>
              <a:t>Remove </a:t>
            </a:r>
            <a:r>
              <a:rPr b="1" lang="en-US" sz="2400" spc="-1" strike="noStrike">
                <a:solidFill>
                  <a:schemeClr val="lt1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Methods of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re are 3 primary methods of passing arguments to function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 by val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 by referen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pass by address. ( will be addressed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Passing arguments b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2920" cy="15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163440" indent="-16344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default, arguments in C++ are passed by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3440" indent="-16344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rguments are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ssed by 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 copy of the argument is passed to the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3440" indent="-163440" algn="just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a copy of the argument is passed to the function, the original argument can not be modified by the fun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3600" spc="-1" strike="noStrike" cap="all">
                <a:solidFill>
                  <a:srgbClr val="000000"/>
                </a:solidFill>
                <a:latin typeface="Arial"/>
              </a:rPr>
              <a:t>Adv. And DisAdv. Of Passing  by va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400" spc="398" strike="noStrike" cap="all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400" spc="398" strike="noStrike" cap="all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81900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70280" indent="-1702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guments passed by value 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94200" indent="-1609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s (eg.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4200" indent="-1609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ls (eg. 6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94200" indent="-1609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expressions (eg. x+1) or (eg foo(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-1702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guments are never changed by the function being called, which prevents side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001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400" spc="398" strike="noStrike" cap="all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0016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120" indent="-2743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SzPct val="80000"/>
              <a:buFont typeface="Wingdings 2" charset="2"/>
              <a:buChar char="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pying large structs or classes can take a lot of time to copy, and this can cqause a performance penalty, especially if the function is called many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412CEE7F-0DD9-45F4-83D1-D26DDF5BC746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at is a Fun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nction groups number of program statements into a unit and gives it a n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used to reduce program siz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sequence of instructions that appear more than once in a program is a candidate for being made into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can be called several times in the same program, allowing the code to be reu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8152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lue returning function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 algn="just">
              <a:lnSpc>
                <a:spcPct val="15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Arial"/>
              </a:rPr>
              <a:t>functions that have a return ty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 algn="just">
              <a:lnSpc>
                <a:spcPct val="15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Arial"/>
              </a:rPr>
              <a:t>These functions return a value of a specific data type using the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262699"/>
                </a:solidFill>
                <a:latin typeface="Arial"/>
              </a:rPr>
              <a:t>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oid function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 algn="just">
              <a:lnSpc>
                <a:spcPct val="15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Arial"/>
              </a:rPr>
              <a:t>functions that do not have a return ty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 algn="just">
              <a:lnSpc>
                <a:spcPct val="15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Arial"/>
              </a:rPr>
              <a:t>These functions do not use a return statement to return a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like variables you must tell the compiler about the fun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 before it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9560" indent="-1695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before it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r define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programs usually have the following form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// include stat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// function proto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// main()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urier New"/>
              </a:rPr>
              <a:t>// function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s input an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function_fig1"/>
          <p:cNvPicPr/>
          <p:nvPr/>
        </p:nvPicPr>
        <p:blipFill>
          <a:blip r:embed="rId1"/>
          <a:srcRect l="0" t="0" r="252" b="-25820"/>
          <a:stretch/>
        </p:blipFill>
        <p:spPr>
          <a:xfrm>
            <a:off x="228600" y="1523880"/>
            <a:ext cx="8343720" cy="35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defin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86348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definition has the following syntax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ype&gt; &lt;function name&gt;(&lt;parameter list&gt;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local declarations&gt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equence of statements&gt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Definition of a function that computes the absolute value of an integ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5acef9"/>
                </a:solidFill>
                <a:latin typeface="Consolas"/>
              </a:rPr>
              <a:t>int 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absolute(</a:t>
            </a:r>
            <a:r>
              <a:rPr b="1" lang="en-US" sz="2600" spc="-1" strike="noStrike">
                <a:solidFill>
                  <a:srgbClr val="33ccff"/>
                </a:solidFill>
                <a:latin typeface="Consolas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x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{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1" lang="en-US" sz="2600" spc="-1" strike="noStrike">
                <a:solidFill>
                  <a:srgbClr val="33ccff"/>
                </a:solidFill>
                <a:latin typeface="Consolas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(x &gt;= 0)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Consolas"/>
              </a:rPr>
              <a:t>return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x;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1" lang="en-US" sz="2600" spc="-1" strike="noStrike">
                <a:solidFill>
                  <a:srgbClr val="33ccff"/>
                </a:solidFill>
                <a:latin typeface="Consolas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Consolas"/>
              </a:rPr>
              <a:t>return</a:t>
            </a: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 -x;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olas"/>
              </a:rPr>
              <a:t>}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call has the following syntax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function name&gt;(&lt;argument list&gt;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9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nsolas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distan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9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distance = </a:t>
            </a:r>
            <a:r>
              <a:rPr b="0" lang="en-US" sz="2400" spc="-1" strike="noStrike">
                <a:solidFill>
                  <a:srgbClr val="ff0000"/>
                </a:solidFill>
                <a:latin typeface="Consolas"/>
              </a:rPr>
              <a:t>absolute(-5)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97EB3906-82FE-483B-9230-D46A57CC772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A296518-ACB8-4829-BA8B-AD4314C0744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193EBF6-7E93-414B-A6CB-5F8079DA20A0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814</TotalTime>
  <Application>LibreOffice/7.4.7.2$Linux_X86_64 LibreOffice_project/40$Build-2</Application>
  <AppVersion>15.0000</AppVersion>
  <Words>1081</Words>
  <Paragraphs>2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8:03:11Z</dcterms:created>
  <dc:creator>ALjaffan</dc:creator>
  <dc:description/>
  <dc:language>en-US</dc:language>
  <cp:lastModifiedBy>Aseel</cp:lastModifiedBy>
  <dcterms:modified xsi:type="dcterms:W3CDTF">2014-02-06T19:57:20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8</vt:r8>
  </property>
  <property fmtid="{D5CDD505-2E9C-101B-9397-08002B2CF9AE}" pid="4" name="PresentationFormat">
    <vt:lpwstr>On-screen Show (4:3)</vt:lpwstr>
  </property>
  <property fmtid="{D5CDD505-2E9C-101B-9397-08002B2CF9AE}" pid="5" name="Slides">
    <vt:r8>29</vt:r8>
  </property>
</Properties>
</file>