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3.xml.rels" ContentType="application/vnd.openxmlformats-package.relationships+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customXml/item3.xml" ContentType="application/xml"/>
  <Override PartName="/customXml/itemProps3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customXml" Target="../customXml/item3.xml"/><Relationship Id="rId7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108E-81AB-429B-AE0D-252FBC4E4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D279-7765-42C5-8D48-5C5B70A74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A604-970E-41F2-B86D-C7EC11993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6564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0868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2296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6564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475C-1FBE-44C0-B41A-1C82D3F41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C2F75-BC38-46DB-BC33-52BA2280C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7BC70-68E5-4B3E-971C-A2509CC07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20227-47C1-4460-9E6E-16B6DE8FE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7E539-34E8-4C65-A2F3-F2829254B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7EED9-B2BD-4E26-877D-1ED7743B6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2960" y="365760"/>
            <a:ext cx="752076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21A5B-9F49-4963-BF99-34147FA84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A0EC6-4EDE-4826-BB18-3B4134547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72C8-C5E9-494A-9E42-61477D20E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FB08C-CD8D-46DE-8A36-F54D6691C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40C54-90A3-4E8C-8368-02837EFA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D1CED-74AC-4A91-8F37-1C79C1225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1ACA3-0B23-44B4-9042-583322415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564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0868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296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564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260FE-0874-49EB-A25F-71C236644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3BA9E-B772-44FF-8E96-D1B2C5CC1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8AFB7-34BF-4A69-B2E1-5A6501770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C1504-652E-40C8-89D6-649163FF1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2C46C-C38E-4229-A457-1F7AAEF5E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FC7B5-829D-4B6F-AB44-572111951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0D3E-2B3A-41BA-B1BC-FF56CED0B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822960" y="365760"/>
            <a:ext cx="752076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127E4-68C7-498D-8850-E6EA5E19C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E3027-97E2-4E68-84AA-02C380E95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F42D0-27F2-4E2D-9971-BD0F8E1C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BB550-D158-4E44-BBC6-C803F8BF8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98F11-D8C8-453F-A27B-79FB577ED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5519B-B0FD-4834-87AC-77521EE96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36564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90868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82296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36564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A9B75-3812-4560-B7CE-3E3B8D557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EFA85-691A-42ED-92A4-AF98192A5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61B41-5D72-4F7A-8300-D586CDA6A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A69B6-6770-4615-B3C5-923E3A1C3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BB7E-1D1E-41BB-BAE8-2FA7F89D8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A4D78-4D6C-4302-BD96-6A90D18D3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5461B-52D3-46A5-B7F4-C63A9392B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822960" y="365760"/>
            <a:ext cx="752076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A7DCE-AF95-49A8-8367-5BE47DF42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89E29-E3FC-405C-8E42-BA55D0612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7E070-98B0-4756-AF77-4DBDFF80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844AB-AC8F-431B-977B-618B5E9A2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40F74-DD0F-4E7D-8C21-F3C25578F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DBD25-9791-4740-A65A-2998E8F3C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36564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90868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82296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36564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0D6FA-5F84-4F33-B5E5-A7F8124B4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712354-8FED-42DD-BB81-5936569AB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49E6-9A62-49EE-AE22-1E45E9667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5E96D-339A-40E0-98BF-D7237E067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7A500-ED43-446C-828D-2C7E55FE7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ECCB7-0781-459F-8B95-7C39AA7D9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F5B43-BDC5-42F9-994A-587D7A53F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822960" y="365760"/>
            <a:ext cx="752076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CC0D48-470D-48D4-82B8-3F5997C96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DEF087-3BE1-4C39-8B4E-B803BB5B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43D68-7330-4EF4-AA4A-2B3FC0F3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F5615-621F-4EB8-9156-03A37EB35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B84BE-3820-45FF-9332-116D3C4C0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0957A-8393-4D7B-BFFE-2D960A9F1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22960" y="365760"/>
            <a:ext cx="752076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02E0-EEA3-4A16-9E39-04BC7588F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36564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90868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82296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36564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6B95A-0F74-459B-917E-9FF1A4A7D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87E7-44E6-4532-A892-40B1E7B2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10A6-333B-4CA6-BDFF-5FEE28726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38FF-F156-4A8F-AD26-550BF04F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 hidden="1"/>
          <p:cNvSpPr/>
          <p:nvPr/>
        </p:nvSpPr>
        <p:spPr>
          <a:xfrm>
            <a:off x="-2520" y="5050800"/>
            <a:ext cx="3573720" cy="1806840"/>
          </a:xfrm>
          <a:custGeom>
            <a:avLst/>
            <a:gdLst>
              <a:gd name="textAreaLeft" fmla="*/ 0 w 3573720"/>
              <a:gd name="textAreaRight" fmla="*/ 3574080 w 3573720"/>
              <a:gd name="textAreaTop" fmla="*/ 0 h 1806840"/>
              <a:gd name="textAreaBottom" fmla="*/ 1807200 h 1806840"/>
            </a:gdLst>
            <a:ahLst/>
            <a:rect l="textAreaLeft" t="textAreaTop" r="textAreaRight" b="textAreaBottom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" name="Freeform 7" hidden="1"/>
          <p:cNvSpPr/>
          <p:nvPr/>
        </p:nvSpPr>
        <p:spPr>
          <a:xfrm>
            <a:off x="-2520" y="5051160"/>
            <a:ext cx="9146160" cy="18064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806480"/>
              <a:gd name="textAreaBottom" fmla="*/ 1806840 h 1806480"/>
            </a:gdLst>
            <a:ahLst/>
            <a:rect l="textAreaLeft" t="textAreaTop" r="textAreaRight" b="textAreaBottom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" name="Right Triangle 6"/>
          <p:cNvSpPr/>
          <p:nvPr/>
        </p:nvSpPr>
        <p:spPr>
          <a:xfrm>
            <a:off x="0" y="2647800"/>
            <a:ext cx="3571560" cy="4209840"/>
          </a:xfrm>
          <a:prstGeom prst="rtTriangle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3" name="Freeform 7"/>
          <p:cNvSpPr/>
          <p:nvPr/>
        </p:nvSpPr>
        <p:spPr>
          <a:xfrm>
            <a:off x="-2520" y="-1080"/>
            <a:ext cx="9146160" cy="685872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6858720"/>
              <a:gd name="textAreaBottom" fmla="*/ 6859080 h 6858720"/>
            </a:gdLst>
            <a:ahLst/>
            <a:rect l="textAreaLeft" t="textAreaTop" r="textAreaRight" b="textAreaBottom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 rot="19140000">
            <a:off x="816840" y="1730520"/>
            <a:ext cx="5648400" cy="120384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 cap="all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 rot="19140000">
            <a:off x="200880" y="5870160"/>
            <a:ext cx="2175840" cy="2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517560" y="6285240"/>
            <a:ext cx="47239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8400960" y="6170760"/>
            <a:ext cx="502560" cy="50256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GB" sz="165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4904890-CF2D-4A94-AC4E-90C7D85ED17B}" type="slidenum">
              <a:rPr b="0" lang="en-GB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reeform 6"/>
          <p:cNvSpPr/>
          <p:nvPr/>
        </p:nvSpPr>
        <p:spPr>
          <a:xfrm>
            <a:off x="-2520" y="5050800"/>
            <a:ext cx="3573720" cy="1806840"/>
          </a:xfrm>
          <a:custGeom>
            <a:avLst/>
            <a:gdLst>
              <a:gd name="textAreaLeft" fmla="*/ 0 w 3573720"/>
              <a:gd name="textAreaRight" fmla="*/ 3574080 w 3573720"/>
              <a:gd name="textAreaTop" fmla="*/ 0 h 1806840"/>
              <a:gd name="textAreaBottom" fmla="*/ 1807200 h 1806840"/>
            </a:gdLst>
            <a:ahLst/>
            <a:rect l="textAreaLeft" t="textAreaTop" r="textAreaRight" b="textAreaBottom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46" name="Freeform 7"/>
          <p:cNvSpPr/>
          <p:nvPr/>
        </p:nvSpPr>
        <p:spPr>
          <a:xfrm>
            <a:off x="-2520" y="5051160"/>
            <a:ext cx="9146160" cy="18064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806480"/>
              <a:gd name="textAreaBottom" fmla="*/ 1806840 h 1806480"/>
            </a:gdLst>
            <a:ahLst/>
            <a:rect l="textAreaLeft" t="textAreaTop" r="textAreaRight" b="textAreaBottom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310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8596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 rot="19140000">
            <a:off x="200880" y="5870160"/>
            <a:ext cx="2175840" cy="2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17560" y="6285240"/>
            <a:ext cx="47239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400960" y="6170760"/>
            <a:ext cx="502560" cy="50256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GB" sz="165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D73E9D6-A12E-43FE-B87A-BD3A6787179D}" type="slidenum">
              <a:rPr b="0" lang="en-GB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reeform 6"/>
          <p:cNvSpPr/>
          <p:nvPr/>
        </p:nvSpPr>
        <p:spPr>
          <a:xfrm>
            <a:off x="-2520" y="5050800"/>
            <a:ext cx="3573720" cy="1806840"/>
          </a:xfrm>
          <a:custGeom>
            <a:avLst/>
            <a:gdLst>
              <a:gd name="textAreaLeft" fmla="*/ 0 w 3573720"/>
              <a:gd name="textAreaRight" fmla="*/ 3574080 w 3573720"/>
              <a:gd name="textAreaTop" fmla="*/ 0 h 1806840"/>
              <a:gd name="textAreaBottom" fmla="*/ 1807200 h 1806840"/>
            </a:gdLst>
            <a:ahLst/>
            <a:rect l="textAreaLeft" t="textAreaTop" r="textAreaRight" b="textAreaBottom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89" name="Freeform 7"/>
          <p:cNvSpPr/>
          <p:nvPr/>
        </p:nvSpPr>
        <p:spPr>
          <a:xfrm>
            <a:off x="-2520" y="5051160"/>
            <a:ext cx="9146160" cy="18064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806480"/>
              <a:gd name="textAreaBottom" fmla="*/ 1806840 h 1806480"/>
            </a:gdLst>
            <a:ahLst/>
            <a:rect l="textAreaLeft" t="textAreaTop" r="textAreaRight" b="textAreaBottom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822960" y="1097280"/>
            <a:ext cx="3200040" cy="54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400" spc="398" strike="noStrike" cap="all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819000" y="1701720"/>
            <a:ext cx="3200040" cy="31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310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8596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4700160" y="1097280"/>
            <a:ext cx="3200040" cy="54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400" spc="398" strike="noStrike" cap="all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700160" y="1701720"/>
            <a:ext cx="3200040" cy="31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310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8596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dt" idx="7"/>
          </p:nvPr>
        </p:nvSpPr>
        <p:spPr>
          <a:xfrm rot="19140000">
            <a:off x="200880" y="5870160"/>
            <a:ext cx="2175840" cy="2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 type="ftr" idx="8"/>
          </p:nvPr>
        </p:nvSpPr>
        <p:spPr>
          <a:xfrm>
            <a:off x="3517560" y="6285240"/>
            <a:ext cx="47239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8"/>
          <p:cNvSpPr>
            <a:spLocks noGrp="1"/>
          </p:cNvSpPr>
          <p:nvPr>
            <p:ph type="sldNum" idx="9"/>
          </p:nvPr>
        </p:nvSpPr>
        <p:spPr>
          <a:xfrm>
            <a:off x="8400960" y="6170760"/>
            <a:ext cx="502560" cy="50256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GB" sz="165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A4DBFA8-33EA-49CF-A2CA-5B62B2C27182}" type="slidenum">
              <a:rPr b="0" lang="en-GB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reeform 6"/>
          <p:cNvSpPr/>
          <p:nvPr/>
        </p:nvSpPr>
        <p:spPr>
          <a:xfrm>
            <a:off x="-2520" y="5050800"/>
            <a:ext cx="3573720" cy="1806840"/>
          </a:xfrm>
          <a:custGeom>
            <a:avLst/>
            <a:gdLst>
              <a:gd name="textAreaLeft" fmla="*/ 0 w 3573720"/>
              <a:gd name="textAreaRight" fmla="*/ 3574080 w 3573720"/>
              <a:gd name="textAreaTop" fmla="*/ 0 h 1806840"/>
              <a:gd name="textAreaBottom" fmla="*/ 1807200 h 1806840"/>
            </a:gdLst>
            <a:ahLst/>
            <a:rect l="textAreaLeft" t="textAreaTop" r="textAreaRight" b="textAreaBottom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35" name="Freeform 7"/>
          <p:cNvSpPr/>
          <p:nvPr/>
        </p:nvSpPr>
        <p:spPr>
          <a:xfrm>
            <a:off x="-2520" y="5051160"/>
            <a:ext cx="9146160" cy="18064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806480"/>
              <a:gd name="textAreaBottom" fmla="*/ 1806840 h 1806480"/>
            </a:gdLst>
            <a:ahLst/>
            <a:rect l="textAreaLeft" t="textAreaTop" r="textAreaRight" b="textAreaBottom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822960" y="1097280"/>
            <a:ext cx="3200040" cy="37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310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8596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700160" y="1097280"/>
            <a:ext cx="3200040" cy="37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310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8596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 rot="19140000">
            <a:off x="200880" y="5870160"/>
            <a:ext cx="2175840" cy="2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3517560" y="6285240"/>
            <a:ext cx="47239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400960" y="6170760"/>
            <a:ext cx="502560" cy="50256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GB" sz="165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81EA953-BC07-426C-8C35-E5DB1302138C}" type="slidenum">
              <a:rPr b="0" lang="en-GB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reeform 6"/>
          <p:cNvSpPr/>
          <p:nvPr/>
        </p:nvSpPr>
        <p:spPr>
          <a:xfrm>
            <a:off x="-2520" y="5050800"/>
            <a:ext cx="3573720" cy="1806840"/>
          </a:xfrm>
          <a:custGeom>
            <a:avLst/>
            <a:gdLst>
              <a:gd name="textAreaLeft" fmla="*/ 0 w 3573720"/>
              <a:gd name="textAreaRight" fmla="*/ 3574080 w 3573720"/>
              <a:gd name="textAreaTop" fmla="*/ 0 h 1806840"/>
              <a:gd name="textAreaBottom" fmla="*/ 1807200 h 1806840"/>
            </a:gdLst>
            <a:ahLst/>
            <a:rect l="textAreaLeft" t="textAreaTop" r="textAreaRight" b="textAreaBottom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79" name="Freeform 7"/>
          <p:cNvSpPr/>
          <p:nvPr/>
        </p:nvSpPr>
        <p:spPr>
          <a:xfrm>
            <a:off x="-2520" y="5051160"/>
            <a:ext cx="9146160" cy="18064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806480"/>
              <a:gd name="textAreaBottom" fmla="*/ 1806840 h 1806480"/>
            </a:gdLst>
            <a:ahLst/>
            <a:rect l="textAreaLeft" t="textAreaTop" r="textAreaRight" b="textAreaBottom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dt" idx="13"/>
          </p:nvPr>
        </p:nvSpPr>
        <p:spPr>
          <a:xfrm rot="19140000">
            <a:off x="200880" y="5870160"/>
            <a:ext cx="2175840" cy="2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ftr" idx="14"/>
          </p:nvPr>
        </p:nvSpPr>
        <p:spPr>
          <a:xfrm>
            <a:off x="3517560" y="6285240"/>
            <a:ext cx="47239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sldNum" idx="15"/>
          </p:nvPr>
        </p:nvSpPr>
        <p:spPr>
          <a:xfrm>
            <a:off x="8400960" y="6170760"/>
            <a:ext cx="502560" cy="50256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GB" sz="165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AB98BA1-BD94-41A4-BAFC-B10B2834CE2E}" type="slidenum">
              <a:rPr b="0" lang="en-GB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 rot="19140000">
            <a:off x="816840" y="1730520"/>
            <a:ext cx="5648400" cy="120384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 cap="all">
                <a:solidFill>
                  <a:srgbClr val="000000"/>
                </a:solidFill>
                <a:latin typeface="Arial"/>
              </a:rPr>
              <a:t>Lectur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 rot="19140000">
            <a:off x="1212120" y="2471040"/>
            <a:ext cx="6510600" cy="32904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400" spc="398" strike="noStrike" cap="all">
                <a:solidFill>
                  <a:srgbClr val="000000"/>
                </a:solidFill>
                <a:latin typeface="Arial"/>
              </a:rPr>
              <a:t>Pass by refere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Example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8000640" cy="423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void foo(int &amp;y) // y is now a referenc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{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    </a:t>
            </a: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cout &lt;&lt; "y = " &lt;&lt; y &lt;&lt; endl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    </a:t>
            </a: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y = 6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    </a:t>
            </a: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cout &lt;&lt; "y = " &lt;&lt; y &lt;&lt; endl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} // y is destroyed he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 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t main(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{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    </a:t>
            </a: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t x = 5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    </a:t>
            </a: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cout &lt;&lt; "x = " &lt;&lt; x &lt;&lt; endl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    </a:t>
            </a: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foo(x)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    </a:t>
            </a: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cout &lt;&lt; "x = " &lt;&lt; x &lt;&lt; endl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    </a:t>
            </a: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return 0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Exampl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558560" cy="392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nsolas"/>
              </a:rPr>
              <a:t>void AddOne(int &amp;y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nsolas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nsolas"/>
              </a:rPr>
              <a:t>    </a:t>
            </a:r>
            <a:r>
              <a:rPr b="1" lang="fr-FR" sz="1600" spc="-1" strike="noStrike">
                <a:solidFill>
                  <a:srgbClr val="000000"/>
                </a:solidFill>
                <a:latin typeface="Consolas"/>
              </a:rPr>
              <a:t>y++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nsolas"/>
              </a:rPr>
              <a:t>int main(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nsolas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nsolas"/>
              </a:rPr>
              <a:t>    </a:t>
            </a:r>
            <a:r>
              <a:rPr b="1" lang="fr-FR" sz="1600" spc="-1" strike="noStrike">
                <a:solidFill>
                  <a:srgbClr val="000000"/>
                </a:solidFill>
                <a:latin typeface="Consolas"/>
              </a:rPr>
              <a:t>int x = 5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nsolas"/>
              </a:rPr>
              <a:t>    </a:t>
            </a:r>
            <a:r>
              <a:rPr b="1" lang="fr-FR" sz="1600" spc="-1" strike="noStrike">
                <a:solidFill>
                  <a:srgbClr val="000000"/>
                </a:solidFill>
                <a:latin typeface="Consolas"/>
              </a:rPr>
              <a:t>cout &lt;&lt; "x = " &lt;&lt; x &lt;&lt; endl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nsolas"/>
              </a:rPr>
              <a:t>    </a:t>
            </a:r>
            <a:r>
              <a:rPr b="1" lang="fr-FR" sz="1600" spc="-1" strike="noStrike">
                <a:solidFill>
                  <a:srgbClr val="000000"/>
                </a:solidFill>
                <a:latin typeface="Consolas"/>
              </a:rPr>
              <a:t>AddOne(x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nsolas"/>
              </a:rPr>
              <a:t>    </a:t>
            </a:r>
            <a:r>
              <a:rPr b="1" lang="fr-FR" sz="1600" spc="-1" strike="noStrike">
                <a:solidFill>
                  <a:srgbClr val="000000"/>
                </a:solidFill>
                <a:latin typeface="Consolas"/>
              </a:rPr>
              <a:t>cout &lt;&lt; "x = " &lt;&lt; x &lt;&lt; endl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nsolas"/>
              </a:rPr>
              <a:t>    </a:t>
            </a:r>
            <a:r>
              <a:rPr b="1" lang="fr-FR" sz="1600" spc="-1" strike="noStrike">
                <a:solidFill>
                  <a:srgbClr val="000000"/>
                </a:solidFill>
                <a:latin typeface="Consolas"/>
              </a:rPr>
              <a:t>return 0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Example 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711200" cy="392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b00040"/>
                </a:solidFill>
                <a:latin typeface="Consolas"/>
              </a:rPr>
              <a:t>void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swap(</a:t>
            </a:r>
            <a:r>
              <a:rPr b="0" lang="en-US" sz="1600" spc="-1" strike="noStrike">
                <a:solidFill>
                  <a:srgbClr val="b00040"/>
                </a:solidFill>
                <a:latin typeface="Consolas"/>
              </a:rPr>
              <a:t>float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&amp;x, </a:t>
            </a:r>
            <a:r>
              <a:rPr b="0" lang="en-US" sz="1600" spc="-1" strike="noStrike">
                <a:solidFill>
                  <a:srgbClr val="b00040"/>
                </a:solidFill>
                <a:latin typeface="Consolas"/>
              </a:rPr>
              <a:t>float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&amp;y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600" spc="-1" strike="noStrike">
                <a:solidFill>
                  <a:srgbClr val="b00040"/>
                </a:solidFill>
                <a:latin typeface="Consolas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main()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600" spc="-1" strike="noStrike">
                <a:solidFill>
                  <a:srgbClr val="b00040"/>
                </a:solidFill>
                <a:latin typeface="Consolas"/>
              </a:rPr>
              <a:t>float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a, b;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cout &lt;&lt; </a:t>
            </a:r>
            <a:r>
              <a:rPr b="0" lang="en-US" sz="1600" spc="-1" strike="noStrike">
                <a:solidFill>
                  <a:srgbClr val="ba2121"/>
                </a:solidFill>
                <a:latin typeface="Consolas"/>
              </a:rPr>
              <a:t>"Enter 2 numbers: "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&lt;&lt; endl;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cin &gt;&gt; a &gt;&gt; b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600" spc="-1" strike="noStrike">
                <a:solidFill>
                  <a:srgbClr val="008000"/>
                </a:solidFill>
                <a:latin typeface="Consolas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(a&gt;b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swap(a,b);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cout &lt;&lt; </a:t>
            </a:r>
            <a:r>
              <a:rPr b="0" lang="en-US" sz="1600" spc="-1" strike="noStrike">
                <a:solidFill>
                  <a:srgbClr val="ba2121"/>
                </a:solidFill>
                <a:latin typeface="Consolas"/>
              </a:rPr>
              <a:t>"Sorted numbers: "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; cout &lt;&lt; a &lt;&lt; </a:t>
            </a:r>
            <a:r>
              <a:rPr b="0" lang="en-US" sz="1600" spc="-1" strike="noStrike">
                <a:solidFill>
                  <a:srgbClr val="ba2121"/>
                </a:solidFill>
                <a:latin typeface="Consolas"/>
              </a:rPr>
              <a:t>" "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&lt;&lt; b &lt;&lt; endl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600" spc="-1" strike="noStrike">
                <a:solidFill>
                  <a:srgbClr val="008000"/>
                </a:solidFill>
                <a:latin typeface="Consolas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0; }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b00040"/>
                </a:solidFill>
                <a:latin typeface="Consolas"/>
              </a:rPr>
              <a:t>void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swap(</a:t>
            </a:r>
            <a:r>
              <a:rPr b="0" lang="en-US" sz="1600" spc="-1" strike="noStrike">
                <a:solidFill>
                  <a:srgbClr val="b00040"/>
                </a:solidFill>
                <a:latin typeface="Consolas"/>
              </a:rPr>
              <a:t>float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&amp;x, </a:t>
            </a:r>
            <a:r>
              <a:rPr b="0" lang="en-US" sz="1600" spc="-1" strike="noStrike">
                <a:solidFill>
                  <a:srgbClr val="b00040"/>
                </a:solidFill>
                <a:latin typeface="Consolas"/>
              </a:rPr>
              <a:t>float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&amp;y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{ </a:t>
            </a:r>
            <a:r>
              <a:rPr b="0" lang="en-US" sz="1600" spc="-1" strike="noStrike">
                <a:solidFill>
                  <a:srgbClr val="b00040"/>
                </a:solidFill>
                <a:latin typeface="Consolas"/>
              </a:rPr>
              <a:t>float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temp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temp = x;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x = y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y = temp; 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2800" spc="-1" strike="noStrike" cap="all">
                <a:solidFill>
                  <a:srgbClr val="000000"/>
                </a:solidFill>
                <a:latin typeface="Arial"/>
              </a:rPr>
              <a:t>Methods of Pa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re are 3 primary methods of passing arguments to functions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ass by valu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ass by referenc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nd pass by address. ( will be addressed la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GB" sz="2800" spc="-1" strike="noStrike" cap="all">
                <a:solidFill>
                  <a:srgbClr val="000000"/>
                </a:solidFill>
                <a:latin typeface="Arial"/>
              </a:rPr>
              <a:t>Pass By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n passing arguments by value, the only way to return a value back to the caller is via the function’s return valu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 algn="just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Char char=""/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y default, arguments in C++ are passed by val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 algn="just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Char char=""/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n arguments are 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ssed by valu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a copy of the argument is passed to the fun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 algn="just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Char char=""/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cause a copy of the argument is passed to the function, the original argument can not be modified by the func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Pass by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440" cy="359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rgument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re passed by val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 called function creates 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ew variabl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the same type as the argument and copies the argument’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al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o it. As we noted, the function cannot access the original variable in the calling program, only the copy it create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ing arguments by value is useful when the function does not need to modify the original variable in the calling program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fact, it offers insurance that the function cannot harm the original variabl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2000" spc="-1" strike="noStrike" cap="all">
                <a:solidFill>
                  <a:srgbClr val="000000"/>
                </a:solidFill>
                <a:latin typeface="Arial"/>
              </a:rPr>
              <a:t> </a:t>
            </a:r>
            <a:r>
              <a:rPr b="0" lang="en-GB" sz="2400" spc="-1" strike="noStrike" cap="all">
                <a:solidFill>
                  <a:srgbClr val="000000"/>
                </a:solidFill>
                <a:latin typeface="Arial"/>
              </a:rPr>
              <a:t>Adv. And DisAdv. Of Passing  by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2960" y="838080"/>
            <a:ext cx="3200040" cy="54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GB" sz="1600" spc="398" strike="noStrike" cap="all">
                <a:solidFill>
                  <a:srgbClr val="000000"/>
                </a:solidFill>
                <a:latin typeface="Arial"/>
              </a:rPr>
              <a:t>Advantages</a:t>
            </a:r>
            <a:r>
              <a:rPr b="0" lang="en-GB" sz="1400" spc="398" strike="noStrike" cap="all">
                <a:solidFill>
                  <a:srgbClr val="000000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1523880"/>
            <a:ext cx="327636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guments passed by value can b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riables (eg. x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terals (eg. 6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expressions (eg. x+1) or (eg foo()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guments are never changed by the function being called, which prevents side eff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700160" y="822960"/>
            <a:ext cx="3200040" cy="54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GB" sz="1600" spc="398" strike="noStrike" cap="all">
                <a:solidFill>
                  <a:srgbClr val="000000"/>
                </a:solidFill>
                <a:latin typeface="Arial"/>
              </a:rPr>
              <a:t>Dis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0" y="1600200"/>
            <a:ext cx="373356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393120" indent="-2743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SzPct val="80000"/>
              <a:buFont typeface="Wingdings 2" charset="2"/>
              <a:buChar char="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pying large structs or classes can take a lot of time to copy, and this can cause a performance penalty, especially if the function is called many ti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Pass by refere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305560" cy="37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ing arguments by reference uses a different mechanism. Instead of a value being passed to the function, a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refer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original variable, in the calling program, is passe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important advantage of passing by reference is that the function can access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ctu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ariables in the calling program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provides a mechanism for passing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ore than one valu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function back to the calling program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7695720" cy="397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 pass by reference, we declare the function parameters as references rather than normal variable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nsolas"/>
              </a:rPr>
              <a:t>#include &lt;iostream&gt;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nsolas"/>
              </a:rPr>
              <a:t>Using namespace std ;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nsolas"/>
              </a:rPr>
              <a:t>Void duplicate (int&amp; a, int&amp; b, int &amp; c); 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nsolas"/>
              </a:rPr>
              <a:t>Int main ()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nsolas"/>
              </a:rPr>
              <a:t>{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Consolas"/>
              </a:rPr>
              <a:t>Int x=1,y=3,z=7;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Consolas"/>
              </a:rPr>
              <a:t>Duplicate (x,y,z);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Consolas"/>
              </a:rPr>
              <a:t>Cout &lt;&lt; “x=“&lt;&lt;x&lt;&lt;“, y=“&lt;&lt;y&lt;&lt;“,z=“&lt;&lt;z;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nsolas"/>
              </a:rPr>
              <a:t>Return 0;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nsolas"/>
              </a:rPr>
              <a:t>Void duplicate (int&amp; a, int&amp; b, int &amp; c)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nsolas"/>
              </a:rPr>
              <a:t>{</a:t>
            </a:r>
            <a:r>
              <a:rPr b="1" lang="en-US" sz="11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Consolas"/>
              </a:rPr>
              <a:t>a*=2;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Consolas"/>
              </a:rPr>
              <a:t>b*=2;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Consolas"/>
              </a:rPr>
              <a:t>c*=2; 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nsolas"/>
              </a:rPr>
              <a:t>}   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GB" sz="2800" spc="-1" strike="noStrike" cap="all">
                <a:solidFill>
                  <a:srgbClr val="000000"/>
                </a:solidFill>
                <a:latin typeface="Arial"/>
              </a:rPr>
              <a:t>Pass by refere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2800" spc="-1" strike="noStrike" cap="all">
                <a:solidFill>
                  <a:srgbClr val="000000"/>
                </a:solidFill>
                <a:latin typeface="Arial"/>
              </a:rPr>
              <a:t>Passing by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380880" y="1066680"/>
            <a:ext cx="828036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ence arguments are indicated by the ampersand (&amp;) following the data typ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&amp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n the function is called, a will become a reference to the argume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ce a reference to a variable is treated exactly the same as the variable itself, then any changes made to the reference are passed through to the argumen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3" descr="Screen shot 2013-02-11 at 7.20.48 PM.png"/>
          <p:cNvPicPr/>
          <p:nvPr/>
        </p:nvPicPr>
        <p:blipFill>
          <a:blip r:embed="rId1"/>
          <a:stretch/>
        </p:blipFill>
        <p:spPr>
          <a:xfrm>
            <a:off x="2209680" y="4038480"/>
            <a:ext cx="463500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GB" sz="2800" spc="-1" strike="noStrike" cap="all">
                <a:solidFill>
                  <a:srgbClr val="000000"/>
                </a:solidFill>
                <a:latin typeface="Arial"/>
              </a:rPr>
              <a:t>Passing Arguments by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2920" cy="403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times we need a function to return multiple valu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wever, functions can only have one return valu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way to return multiple values is using reference parameter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vantages of Pass By Reference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allows us to have the function change the value of the argument, which is sometimes usefu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cause a copy of the argument is not made, it is fast, even when used with large structs or cla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e can return multiple values from a fun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Angles">
  <a:themeElements>
    <a:clrScheme name="Angles">
      <a:dk1>
        <a:srgbClr val="000000"/>
      </a:dk1>
      <a:lt1>
        <a:srgbClr val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Angles">
  <a:themeElements>
    <a:clrScheme name="Angles">
      <a:dk1>
        <a:srgbClr val="000000"/>
      </a:dk1>
      <a:lt1>
        <a:srgbClr val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Angles">
  <a:themeElements>
    <a:clrScheme name="Angles">
      <a:dk1>
        <a:srgbClr val="000000"/>
      </a:dk1>
      <a:lt1>
        <a:srgbClr val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Angles">
  <a:themeElements>
    <a:clrScheme name="Angles">
      <a:dk1>
        <a:srgbClr val="000000"/>
      </a:dk1>
      <a:lt1>
        <a:srgbClr val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Angles">
  <a:themeElements>
    <a:clrScheme name="Angles">
      <a:dk1>
        <a:srgbClr val="000000"/>
      </a:dk1>
      <a:lt1>
        <a:srgbClr val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_rels/item3.xml.rels><?xml version="1.0" encoding="UTF-8"?>
<Relationships xmlns="http://schemas.openxmlformats.org/package/2006/relationships"><Relationship Id="rId1" Type="http://schemas.openxmlformats.org/officeDocument/2006/relationships/customXmlProps" Target="itemProps3.xml"/>
</Relationships>
</file>

<file path=customXml/item1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06594AD1C67AF545A5960EF5B4D34DFC" ma:contentTypeVersion="1" ma:contentTypeDescription="Create a new document." ma:contentTypeScope="" ma:versionID="158d98ff5f363f64d157ecf49ddff337">
  <xsd:schema xmlns:xsd="http://www.w3.org/2001/XMLSchema" xmlns:xs="http://www.w3.org/2001/XMLSchema" xmlns:p="http://schemas.microsoft.com/office/2006/metadata/properties" xmlns:ns1="http://schemas.microsoft.com/sharepoint/v3" targetNamespace="http://schemas.microsoft.com/office/2006/metadata/properties" ma:root="true" ma:fieldsID="a447206dab0015f8b9f8924535193e8c" ns1:_="">
    <xsd:import namespace="http://schemas.microsoft.com/sharepoint/v3"/>
    <xsd:element name="properties">
      <xsd:complexType>
        <xsd:sequence>
          <xsd:element name="documentManagement">
            <xsd:complexType>
              <xsd:all>
                <xsd:element ref="ns1:PublishingStartDate" minOccurs="0"/>
                <xsd:element ref="ns1:PublishingExpirationDate" minOccurs="0"/>
              </xsd:all>
            </xsd:complexType>
          </xsd:element>
        </xsd:sequence>
      </xsd:complexType>
    </xsd:element>
  </xsd:schema>
  <xsd:schema xmlns:xsd="http://www.w3.org/2001/XMLSchema" xmlns:xs="http://www.w3.org/2001/XMLSchema" xmlns:dms="http://schemas.microsoft.com/office/2006/documentManagement/types" xmlns:pc="http://schemas.microsoft.com/office/infopath/2007/PartnerControls" targetNamespace="http://schemas.microsoft.com/sharepoint/v3" elementFormDefault="qualified">
    <xsd:import namespace="http://schemas.microsoft.com/office/2006/documentManagement/types"/>
    <xsd:import namespace="http://schemas.microsoft.com/office/infopath/2007/PartnerControls"/>
    <xsd:element name="PublishingStartDate" ma:index="8" nillable="true" ma:displayName="Scheduling Start Date" ma:description="" ma:hidden="true" ma:internalName="PublishingStartDate">
      <xsd:simpleType>
        <xsd:restriction base="dms:Unknown"/>
      </xsd:simpleType>
    </xsd:element>
    <xsd:element name="PublishingExpirationDate" ma:index="9" nillable="true" ma:displayName="Scheduling End Date" ma:description="" ma:hidden="true" ma:internalName="PublishingExpirationDate">
      <xsd:simpleType>
        <xsd:restriction base="dms:Unknown"/>
      </xsd:simple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internal/obd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contentStatus" minOccurs="0" maxOccurs="1" type="xsd:string"/>
      </xsd:all>
    </xsd:complexType>
  </xsd:schema>
  <xs:schema xmlns:pc="http://schemas.microsoft.com/office/infopath/2007/PartnerControls" xmlns:xs="http://www.w3.org/2001/XMLSchema" targetNamespace="http://schemas.microsoft.com/office/infopath/2007/PartnerControls" elementFormDefault="qualified" attributeFormDefault="unqualified">
    <xs:element name="Person">
      <xs:complexType>
        <xs:sequence>
          <xs:element ref="pc:DisplayName" minOccurs="0"/>
          <xs:element ref="pc:AccountId" minOccurs="0"/>
          <xs:element ref="pc:AccountType" minOccurs="0"/>
        </xs:sequence>
      </xs:complexType>
    </xs:element>
    <xs:element name="DisplayName" type="xs:string"/>
    <xs:element name="AccountId" type="xs:string"/>
    <xs:element name="AccountType" type="xs:string"/>
    <xs:element name="BDCAssociatedEntity">
      <xs:complexType>
        <xs:sequence>
          <xs:element ref="pc:BDCEntity" minOccurs="0" maxOccurs="unbounded"/>
        </xs:sequence>
        <xs:attribute ref="pc:EntityNamespace"/>
        <xs:attribute ref="pc:EntityName"/>
        <xs:attribute ref="pc:SystemInstanceName"/>
        <xs:attribute ref="pc:AssociationName"/>
      </xs:complexType>
    </xs:element>
    <xs:attribute name="EntityNamespace" type="xs:string"/>
    <xs:attribute name="EntityName" type="xs:string"/>
    <xs:attribute name="SystemInstanceName" type="xs:string"/>
    <xs:attribute name="AssociationName" type="xs:string"/>
    <xs:element name="BDCEntity">
      <xs:complexType>
        <xs:sequence>
          <xs:element ref="pc:EntityDisplayName" minOccurs="0"/>
          <xs:element ref="pc:EntityInstanceReference" minOccurs="0"/>
          <xs:element ref="pc:EntityId1" minOccurs="0"/>
          <xs:element ref="pc:EntityId2" minOccurs="0"/>
          <xs:element ref="pc:EntityId3" minOccurs="0"/>
          <xs:element ref="pc:EntityId4" minOccurs="0"/>
          <xs:element ref="pc:EntityId5" minOccurs="0"/>
        </xs:sequence>
      </xs:complexType>
    </xs:element>
    <xs:element name="EntityDisplayName" type="xs:string"/>
    <xs:element name="EntityInstanceReference" type="xs:string"/>
    <xs:element name="EntityId1" type="xs:string"/>
    <xs:element name="EntityId2" type="xs:string"/>
    <xs:element name="EntityId3" type="xs:string"/>
    <xs:element name="EntityId4" type="xs:string"/>
    <xs:element name="EntityId5" type="xs:string"/>
    <xs:element name="Terms">
      <xs:complexType>
        <xs:sequence>
          <xs:element ref="pc:TermInfo" minOccurs="0" maxOccurs="unbounded"/>
        </xs:sequence>
      </xs:complexType>
    </xs:element>
    <xs:element name="TermInfo">
      <xs:complexType>
        <xs:sequence>
          <xs:element ref="pc:TermName" minOccurs="0"/>
          <xs:element ref="pc:TermId" minOccurs="0"/>
        </xs:sequence>
      </xs:complexType>
    </xs:element>
    <xs:element name="TermName" type="xs:string"/>
    <xs:element name="TermId" type="xs:string"/>
  </xs:schema>
</ct:contentTypeSchema>
</file>

<file path=customXml/item2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3.xml><?xml version="1.0" encoding="utf-8"?>
<p:properties xmlns:p="http://schemas.microsoft.com/office/2006/metadata/properties" xmlns:xsi="http://www.w3.org/2001/XMLSchema-instance" xmlns:pc="http://schemas.microsoft.com/office/infopath/2007/PartnerControls">
  <documentManagement>
    <PublishingExpirationDate xmlns="http://schemas.microsoft.com/sharepoint/v3" xsi:nil="true"/>
    <PublishingStartDate xmlns="http://schemas.microsoft.com/sharepoint/v3" xsi:nil="true"/>
  </documentManagement>
</p:properties>
</file>

<file path=customXml/itemProps1.xml><?xml version="1.0" encoding="utf-8"?>
<ds:datastoreItem xmlns:ds="http://schemas.openxmlformats.org/officeDocument/2006/customXml" ds:itemID="{97EB3906-82FE-483B-9230-D46A57CC7728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microsoft.com/sharepoint/v3"/>
    <ds:schemaRef ds:uri="http://schemas.microsoft.com/office/2006/documentManagement/types"/>
    <ds:schemaRef ds:uri="http://schemas.microsoft.com/office/infopath/2007/PartnerControls"/>
    <ds:schemaRef ds:uri="http://schemas.openxmlformats.org/package/2006/metadata/core-properties"/>
    <ds:schemaRef ds:uri="http://purl.org/dc/elements/1.1/"/>
    <ds:schemaRef ds:uri="http://purl.org/dc/terms/"/>
    <ds:schemaRef ds:uri="http://schemas.microsoft.com/internal/obd"/>
  </ds:schemaRefs>
</ds:datastoreItem>
</file>

<file path=customXml/itemProps2.xml><?xml version="1.0" encoding="utf-8"?>
<ds:datastoreItem xmlns:ds="http://schemas.openxmlformats.org/officeDocument/2006/customXml" ds:itemID="{CA296518-ACB8-4829-BA8B-AD4314C07442}">
  <ds:schemaRefs>
    <ds:schemaRef ds:uri="http://schemas.microsoft.com/sharepoint/v3/contenttype/forms"/>
  </ds:schemaRefs>
</ds:datastoreItem>
</file>

<file path=customXml/itemProps3.xml><?xml version="1.0" encoding="utf-8"?>
<ds:datastoreItem xmlns:ds="http://schemas.openxmlformats.org/officeDocument/2006/customXml" ds:itemID="{9193EBF6-7E93-414B-A6CB-5F8079DA20A0}">
  <ds:schemaRefs>
    <ds:schemaRef ds:uri="http://schemas.microsoft.com/office/2006/metadata/properties"/>
    <ds:schemaRef ds:uri="http://schemas.microsoft.com/office/infopath/2007/PartnerControls"/>
    <ds:schemaRef ds:uri="http://schemas.microsoft.com/sharepoint/v3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Angles.thmx</Template>
  <TotalTime>1147</TotalTime>
  <Application>LibreOffice/7.4.7.2$Linux_X86_64 LibreOffice_project/40$Build-2</Application>
  <AppVersion>15.0000</AppVersion>
  <Words>580</Words>
  <Paragraphs>11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1T17:35:11Z</dcterms:created>
  <dc:creator>ALjaffan</dc:creator>
  <dc:description/>
  <dc:language>en-US</dc:language>
  <cp:lastModifiedBy>Aseel</cp:lastModifiedBy>
  <dcterms:modified xsi:type="dcterms:W3CDTF">2014-02-10T18:29:51Z</dcterms:modified>
  <cp:revision>1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6594AD1C67AF545A5960EF5B4D34DFC</vt:lpwstr>
  </property>
  <property fmtid="{D5CDD505-2E9C-101B-9397-08002B2CF9AE}" pid="3" name="PresentationFormat">
    <vt:lpwstr>On-screen Show (4:3)</vt:lpwstr>
  </property>
  <property fmtid="{D5CDD505-2E9C-101B-9397-08002B2CF9AE}" pid="4" name="Slides">
    <vt:r8>12</vt:r8>
  </property>
</Properties>
</file>