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26C-7448-4508-99C7-B1569F5B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2D3-EC86-4771-96B4-B7558E42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D99-0923-4355-8A07-85801D84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07E-26BE-4E44-AE8C-711FC8C8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4FD9-3FCA-4F61-B90B-86C3158C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62F5-14D2-46F4-88C1-593953E4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5D5B-D3FE-4AA8-BC09-1FCF3665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A7BA-3758-4BF2-AC6F-2BDA55D3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5E5C-B0F5-436A-92AB-19890968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FCE1-D12B-4519-9493-BF2746BD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F0BC-1140-46EA-967D-F6FFA07D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10F-CA76-421E-8153-4583FB9B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5AFD-129E-411D-A60A-11C2682F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91C7-CCAD-4B2D-B0E3-B5F7D85A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D01A-892B-4665-A937-F0EFC227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829D-D095-4261-98B8-9C2D1A0F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A975-D1BE-4088-AABA-BBAA43F3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C3301-3B01-45D6-B4B8-B53C9476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B6898-A605-4C8F-AA7A-37B60D8D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7DFD5-4212-4F2D-9C0C-A8C25399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6863C-B943-4F13-BEED-EE30F63B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B1C10-4D10-4BFA-96BF-B9BBD7B0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55B-DE72-45B6-84B2-C5DDAFF4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F4CEC-8FDA-43BA-B0B5-7AFDC2F6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9C434-4978-4989-B4CE-44E14E99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07A6B-42B8-408D-97CB-0AA6AC37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F5071-9113-4F1D-BC69-CC7FB07D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5BFFE-0425-494D-9382-B956EE1D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ECD49-2F11-4A51-A1DF-A1BFDD79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E6750-BDAD-44A8-90C4-3071591D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97459-437B-4D32-90FF-5571BF1E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AEF3C-C535-44F5-AEB1-5560B5E8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90DE6-6832-409F-8322-5273804F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E29-63C0-4F14-B889-028CB94E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B991D-6DD4-4D3D-8274-39A3C2BD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EF457-330F-4588-8A53-BFC729E5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0F2F0-C822-481E-89D7-E3DC5415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5E245-D5DC-48BB-953A-86FDC790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36063-E722-4B2C-B9D8-EC8B67ED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138A9-6170-44E3-9DC9-0B32AFB9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1C7D8-5F8C-4892-BAE9-A07BF06B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DDE69-369E-4B50-94AE-5CDE0C80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9F274-1E05-4010-BEAD-1ADE986B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D1B98-BA26-4DF8-BDCA-26440970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07E1-3EB9-44DF-8AB3-4B4E433C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FA5D7-490D-48D7-A3C2-DC34A739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29A02-C9AA-4E00-A09C-C284F018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B4AE1-4F8D-44EE-9C91-C4BD0331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64CEB-37B0-4D09-8DF7-0ED55EAE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BF9E4-06EE-4BD4-AA64-2DD49351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AA65F-32CB-4A87-86A0-0D50B378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0FCCB-3295-4E21-912B-13AA8DFB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F8B69-3162-466F-84C4-9F20B228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48B72-BE89-4404-A202-4E946010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AA3D9-1292-4143-9FFF-C8806A68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ED3A-3F0C-4C17-AB47-C070A86D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71F00-A8BD-4815-9A35-0DF6D1EE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F585-888D-414C-A45C-5D90D030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458F-E27C-4D4B-8615-72FEE10C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9B3-62FE-4B45-81E5-D092D538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8A96CF4-01A3-4476-A135-3745A16EBAD6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E147096-2981-4DD9-A564-D5CB9C1B3C36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819000" y="1701720"/>
            <a:ext cx="3200040" cy="31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700160" y="1701720"/>
            <a:ext cx="3200040" cy="31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8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60CE404-598C-418E-8C3B-54DE257746C6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5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B22F015-4465-4A0B-8C32-097BD60E1A5D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9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14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5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2398E52-8DFC-4C46-83F0-7AE23FE2B785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Lectur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 rot="19140000">
            <a:off x="1212120" y="2471040"/>
            <a:ext cx="65106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Pass by re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000640" cy="42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void foo(int &amp;y) // y is now a refere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cout &lt;&lt; "y = " &lt;&lt; y &lt;&lt; end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y = 6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cout &lt;&lt; "y = " &lt;&lt; y &lt;&lt; end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} // y is destroyed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t main(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t x = 5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cout &lt;&lt; "x = " &lt;&lt; x &lt;&lt; end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foo(x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cout &lt;&lt; "x = " &lt;&lt; x &lt;&lt; end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return 0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55856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void AddOne(int &amp;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y++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int main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int x = 5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cout &lt;&lt; "x = " &lt;&lt; x &lt;&lt; end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AddOne(x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cout &lt;&lt; "x = " &lt;&lt; x &lt;&lt; end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return 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71120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b00040"/>
                </a:solidFill>
                <a:latin typeface="Consola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swap(</a:t>
            </a:r>
            <a:r>
              <a:rPr b="0" lang="en-US" sz="1600" spc="-1" strike="noStrike">
                <a:solidFill>
                  <a:srgbClr val="b00040"/>
                </a:solidFill>
                <a:latin typeface="Consolas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amp;x, </a:t>
            </a:r>
            <a:r>
              <a:rPr b="0" lang="en-US" sz="1600" spc="-1" strike="noStrike">
                <a:solidFill>
                  <a:srgbClr val="b00040"/>
                </a:solidFill>
                <a:latin typeface="Consolas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amp;y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b00040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b00040"/>
                </a:solidFill>
                <a:latin typeface="Consolas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a, b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1600" spc="-1" strike="noStrike">
                <a:solidFill>
                  <a:srgbClr val="ba2121"/>
                </a:solidFill>
                <a:latin typeface="Consolas"/>
              </a:rPr>
              <a:t>"Enter 2 numbers: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lt;&lt; endl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in &gt;&gt; a &gt;&gt; b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Consolas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(a&gt;b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swap(a,b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1600" spc="-1" strike="noStrike">
                <a:solidFill>
                  <a:srgbClr val="ba2121"/>
                </a:solidFill>
                <a:latin typeface="Consolas"/>
              </a:rPr>
              <a:t>"Sorted numbers: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; cout &lt;&lt; a &lt;&lt; </a:t>
            </a:r>
            <a:r>
              <a:rPr b="0" lang="en-US" sz="1600" spc="-1" strike="noStrike">
                <a:solidFill>
                  <a:srgbClr val="ba2121"/>
                </a:solidFill>
                <a:latin typeface="Consolas"/>
              </a:rPr>
              <a:t>"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lt;&lt; b &lt;&lt; end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Consola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0; }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b00040"/>
                </a:solidFill>
                <a:latin typeface="Consola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swap(</a:t>
            </a:r>
            <a:r>
              <a:rPr b="0" lang="en-US" sz="1600" spc="-1" strike="noStrike">
                <a:solidFill>
                  <a:srgbClr val="b00040"/>
                </a:solidFill>
                <a:latin typeface="Consolas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amp;x, </a:t>
            </a:r>
            <a:r>
              <a:rPr b="0" lang="en-US" sz="1600" spc="-1" strike="noStrike">
                <a:solidFill>
                  <a:srgbClr val="b00040"/>
                </a:solidFill>
                <a:latin typeface="Consolas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amp;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 </a:t>
            </a:r>
            <a:r>
              <a:rPr b="0" lang="en-US" sz="1600" spc="-1" strike="noStrike">
                <a:solidFill>
                  <a:srgbClr val="b00040"/>
                </a:solidFill>
                <a:latin typeface="Consolas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temp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temp = x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x = 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y = temp; 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Methods of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re are 3 primary methods of passing arguments to functions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ss by valu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ss by referenc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 pass by address. ( will be addressed la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Pass By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passing arguments by value, the only way to return a value back to the caller is via the function’s return valu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default, arguments in C++ are passed by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arguments are 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ssed by val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 copy of the argument is passed to the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ause a copy of the argument is passed to the function, the original argument can not be modified by the fun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Pass by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440" cy="35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rgumen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re passed by 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called function create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w vari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same type as the argument and copies the argument’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 it. As we noted, the function cannot access the original variable in the calling program, only the copy it creat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ng arguments by value is useful when the function does not need to modify the original variable in the calling progra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act, it offers insurance that the function cannot harm the original vari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000" spc="-1" strike="noStrike" cap="all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400" spc="-1" strike="noStrike" cap="all">
                <a:solidFill>
                  <a:srgbClr val="000000"/>
                </a:solidFill>
                <a:latin typeface="Arial"/>
              </a:rPr>
              <a:t>Adv. And DisAdv. Of Passing  by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960" y="8380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1600" spc="398" strike="noStrike" cap="all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400" spc="398" strike="noStrike" cap="all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32763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guments passed by value can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ables (eg.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terals (eg. 6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expressions (eg. x+1) or (eg foo(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guments are never changed by the function being called, which prevents side eff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00160" y="82296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1600" spc="398" strike="noStrike" cap="all">
                <a:solidFill>
                  <a:srgbClr val="000000"/>
                </a:solidFill>
                <a:latin typeface="Arial"/>
              </a:rPr>
              <a:t>Dis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0" y="1600200"/>
            <a:ext cx="37335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120" indent="-2743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SzPct val="80000"/>
              <a:buFont typeface="Wingdings 2" charset="2"/>
              <a:buChar char="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pying large structs or classes can take a lot of time to copy, and this can cause a performance penalty, especially if the function is called many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Pass by re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560" cy="37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ng arguments by reference uses a different mechanism. Instead of a value being passed to the function, a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re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original variable, in the calling program, is pass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mportant advantage of passing by reference is that the function can acces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c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iables in the calling progra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vides a mechanism for pass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re than one val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function back to the calling progra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7695720" cy="397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 pass by reference, we declare the function parameters as references rather than normal variabl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#include &lt;iostream&gt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Using namespace std 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Void duplicate (int&amp; a, int&amp; b, int &amp; c);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Int main (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Int x=1,y=3,z=7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Duplicate (x,y,z)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Cout &lt;&lt; “x=“&lt;&lt;x&lt;&lt;“, y=“&lt;&lt;y&lt;&lt;“,z=“&lt;&lt;z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Return 0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Void duplicate (int&amp; a, int&amp; b, int &amp; c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{</a:t>
            </a: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a*=2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b*=2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c*=2;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}  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Pass by re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Passing by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80880" y="1066680"/>
            <a:ext cx="8280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arguments are indicated by the ampersand (&amp;) following the data typ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the function is called, a will become a reference to the argu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a reference to a variable is treated exactly the same as the variable itself, then any changes made to the reference are passed through to the argum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Screen shot 2013-02-11 at 7.20.48 PM.png"/>
          <p:cNvPicPr/>
          <p:nvPr/>
        </p:nvPicPr>
        <p:blipFill>
          <a:blip r:embed="rId1"/>
          <a:stretch/>
        </p:blipFill>
        <p:spPr>
          <a:xfrm>
            <a:off x="2209680" y="4038480"/>
            <a:ext cx="46350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Passing Arguments by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2920" cy="40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imes we need a function to return multiple valu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functions can only have one return valu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way to return multiple values is using reference parame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antages of Pass By Reference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lows us to have the function change the value of the argument, which is sometimes use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ause a copy of the argument is not made, it is fast, even when used with large structs or cla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an return multiple values from a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Props1.xml><?xml version="1.0" encoding="utf-8"?>
<ds:datastoreItem xmlns:ds="http://schemas.openxmlformats.org/officeDocument/2006/customXml" ds:itemID="{97EB3906-82FE-483B-9230-D46A57CC772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CA296518-ACB8-4829-BA8B-AD4314C07442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9193EBF6-7E93-414B-A6CB-5F8079DA20A0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1147</TotalTime>
  <Application>LibreOffice/7.4.7.2$Linux_X86_64 LibreOffice_project/40$Build-2</Application>
  <AppVersion>15.0000</AppVersion>
  <Words>580</Words>
  <Paragraphs>11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7:35:11Z</dcterms:created>
  <dc:creator>ALjaffan</dc:creator>
  <dc:description/>
  <dc:language>en-US</dc:language>
  <cp:lastModifiedBy>Aseel</cp:lastModifiedBy>
  <dcterms:modified xsi:type="dcterms:W3CDTF">2014-02-10T18:29:51Z</dcterms:modified>
  <cp:revision>1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PresentationFormat">
    <vt:lpwstr>On-screen Show (4:3)</vt:lpwstr>
  </property>
  <property fmtid="{D5CDD505-2E9C-101B-9397-08002B2CF9AE}" pid="4" name="Slides">
    <vt:r8>12</vt:r8>
  </property>
</Properties>
</file>