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D8F4D4-3ABA-4B64-BFB2-A9FA2D414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5AF3E3-BC43-4A3F-A235-B127F6AC8DBB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FC3495-2E76-4A70-AC36-0630780237C5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B93BB2-2595-44C9-8A48-AE865C1A86A8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C11-3174-400B-BECF-926E129A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854-42FF-4DBF-BE5B-2EC96D27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7F5-7694-4D38-905A-26028D84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689-31B2-4A0F-9A92-15783696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8A55-E629-4788-B801-5289173E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72B3-EA9A-44C3-9D04-FD5A0854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5A87-77A9-400C-89E1-D011162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5D76-545D-4C3C-A4F0-822D03A0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5B98-8164-477F-AED5-CF61582A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D3CD-1D49-4B12-92DD-99675A4D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8B4C-DD1D-425D-BBA0-C3DA0F62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789-A939-43E3-B380-038FA107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E0EE-AA9C-4A02-93AA-C207E22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99A0-0F53-45D7-96FC-8A54E75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5331-F926-468C-8C22-7AA81249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169B-CBBE-489C-8745-17549B31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3D33-1344-4B16-BD7C-79670CE1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6A00-0AA4-486D-B5D3-EEEAD808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DC7C-12B5-4870-8F61-4D8D88FA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E253-58EA-49E0-9206-60C2C785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261D-FF0C-4F9B-BC57-DB37C926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EC22-F7A5-4FBB-B8FA-51DB05F8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2DC-8DD8-4749-87F1-3C40E65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92E8-94E7-4D6A-912C-04735A63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6533-853A-4470-AD1F-F5AFFDE8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4F59-C4D3-411A-92E0-CD5F0BD1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C1F4-0C98-4EC1-9A24-A409DA6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1E1A-2BB5-4F42-8648-540FAE10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4270-B108-4749-AF02-6F4696A5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A5BB-BB04-4E45-B123-8161CFD8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3D6-29CE-4FD0-8C43-3E471C4A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3E1-08AF-4BBA-A652-3C375F8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2F2-0F7E-4D9A-996F-9076F32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542-8C47-4462-973E-40429FD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4E9-C875-4E39-A094-E917871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96A-11C0-4124-AC51-58B2E490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8CD640-A7B4-4B3D-AEFD-72DC700F920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1A5169-C99B-4194-8758-5F233E76C8C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096DB6D-EFF5-4B7E-B669-35EB020B0588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 rot="19140000">
            <a:off x="1188720" y="2407680"/>
            <a:ext cx="67032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recursive functions and function overlo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Void repchar()  // fir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For (int j=0; j&lt;45; j++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‘*’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Void repchar (char ch)  // Seco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For (int j=0;j&lt;45; j++)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ch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Void repchar(char ch,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int n)  //Thir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for(int j=0;j&lt;n; j++)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ch;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gram prints out three lines of characters. Here’s the outpu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******************************************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===========================================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+++++++++++++++++++++++++++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gram contains three functions with the same na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eclarations, three function calls, and three function defin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uses the function signature—the number of arguments, and their data types—to distinguish one function from ano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char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ak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argu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scribes an entirely different function than the decla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char(char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ak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argument of type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the decla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char(char, in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ak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argument of type char and another of type 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int x, int y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double x, double y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 main(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dd(10,2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dd(10.4,20.4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return(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////////////////////////////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int x, int 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&lt;&lt; x+y; 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add(double x,double 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 cout&lt;&lt;x+y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cursion and Recurs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calls another function…..nor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unction calls another function2….nor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unction calls itself ?! Possible??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</a:rPr>
              <a:t>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 recursive function is one that call itsel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cursion and Recurs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xample to print numbers counting dow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Void Print( int count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f(counter ==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   return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cout &lt;&lt;counter&lt;&lt;endl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Print(--counter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return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      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000000"/>
                </a:solidFill>
                <a:latin typeface="Arial"/>
              </a:rPr>
              <a:t>Finding Factorial Recursi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62120" y="137160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1371600" y="1828800"/>
            <a:ext cx="360" cy="5331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143000" y="2362320"/>
            <a:ext cx="144756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447920" y="3352680"/>
            <a:ext cx="15235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905120" y="4191120"/>
            <a:ext cx="17521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895480" y="38098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3581280" y="4647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2590920" y="5105520"/>
            <a:ext cx="1294920" cy="53316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3733560" y="56386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743200" y="609588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4381560" y="152388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4762440" y="2514600"/>
            <a:ext cx="144756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067360" y="3505320"/>
            <a:ext cx="15235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524560" y="4343400"/>
            <a:ext cx="17521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6210360" y="5257800"/>
            <a:ext cx="1294920" cy="53316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6362640" y="6248520"/>
            <a:ext cx="1294920" cy="456840"/>
          </a:xfrm>
          <a:prstGeom prst="rect">
            <a:avLst/>
          </a:prstGeom>
          <a:gradFill rotWithShape="0">
            <a:gsLst>
              <a:gs pos="0">
                <a:srgbClr val="ffd5cd"/>
              </a:gs>
              <a:gs pos="100000">
                <a:srgbClr val="ffefec"/>
              </a:gs>
            </a:gsLst>
            <a:lin ang="16200000"/>
          </a:gradFill>
          <a:ln>
            <a:solidFill>
              <a:srgbClr val="f8651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 flipV="1">
            <a:off x="7315200" y="5790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3"/>
          <p:cNvSpPr/>
          <p:nvPr/>
        </p:nvSpPr>
        <p:spPr>
          <a:xfrm flipV="1">
            <a:off x="6629400" y="4647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"/>
          <p:cNvSpPr/>
          <p:nvPr/>
        </p:nvSpPr>
        <p:spPr>
          <a:xfrm flipV="1">
            <a:off x="6019560" y="39621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638680" y="2895480"/>
            <a:ext cx="360" cy="6094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 flipV="1">
            <a:off x="5257800" y="198108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5791320" y="1523880"/>
            <a:ext cx="251424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value=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7772400" y="5867280"/>
            <a:ext cx="106632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6781680" y="48769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!=2*1=2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6477120" y="39625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!=3*2=6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5867280" y="312408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!=4*6=24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486400" y="21337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!=5*24=120 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inding Factorial Recur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482600" cy="4190760"/>
          </a:xfrm>
          <a:prstGeom prst="rect">
            <a:avLst/>
          </a:prstGeom>
          <a:noFill/>
          <a:ln w="9360">
            <a:noFill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336600"/>
                </a:solidFill>
                <a:latin typeface="Consolas"/>
              </a:rPr>
              <a:t>//Recursive factorial Fun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factorial(int);</a:t>
            </a:r>
            <a:r>
              <a:rPr b="0" lang="en-US" sz="1200" spc="-1" strike="noStrike">
                <a:solidFill>
                  <a:srgbClr val="336600"/>
                </a:solidFill>
                <a:latin typeface="Consolas"/>
              </a:rPr>
              <a:t>//proto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main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num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cout&lt;&lt;“enter a positive integer:”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cin&gt;&gt;num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cout&lt;&lt;“factorial=“&lt;&lt;factorial(num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nt factorial(int 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if ( n &lt;= 1) </a:t>
            </a:r>
            <a:r>
              <a:rPr b="0" lang="en-US" sz="1200" spc="-1" strike="noStrike">
                <a:solidFill>
                  <a:srgbClr val="336600"/>
                </a:solidFill>
                <a:latin typeface="Consolas"/>
              </a:rPr>
              <a:t>//the base c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return  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return n * factorial (n - 1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chemeClr val="dk1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nction overlo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with same name and different parameters or return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perform similar ta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nt square( int x) {return x * x;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loat square(float x) { return x * x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call-time c++ complier selects the proper function by examining the number, type and order of th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loaded function appears to perform different activities depending on the kind of data sent to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erforms one operation on one kind of data but another operation on a different kin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#include &lt;iostream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Using namespace std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id repchar();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//proto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id repchar(char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id repchar(char, int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ain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pchar();  //Fir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pchar(‘=’); //Seco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2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pchar(‘+’,30);  //Thir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174</TotalTime>
  <Application>LibreOffice/7.4.7.2$Linux_X86_64 LibreOffice_project/40$Build-2</Application>
  <AppVersion>15.0000</AppVersion>
  <Words>569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35:11Z</dcterms:created>
  <dc:creator>ALjaffan</dc:creator>
  <dc:description/>
  <dc:language>en-US</dc:language>
  <cp:lastModifiedBy>Aseel</cp:lastModifiedBy>
  <dcterms:modified xsi:type="dcterms:W3CDTF">2014-02-12T17:33:01Z</dcterms:modified>
  <cp:revision>1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</vt:r8>
  </property>
  <property fmtid="{D5CDD505-2E9C-101B-9397-08002B2CF9AE}" pid="4" name="PresentationFormat">
    <vt:lpwstr>On-screen Show (4:3)</vt:lpwstr>
  </property>
  <property fmtid="{D5CDD505-2E9C-101B-9397-08002B2CF9AE}" pid="5" name="Slides">
    <vt:r8>14</vt:r8>
  </property>
</Properties>
</file>