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C90B0C-988A-4466-A192-69B6FB447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x-non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BD0792-9B59-42DC-B4F8-0826250B6B7E}" type="slidenum">
              <a:rPr b="0" lang="x-non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x-non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FF6BC8-5AA2-4FF0-BAE0-3B342EE59691}" type="slidenum">
              <a:rPr b="0" lang="x-non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x-non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C3B03A-3349-4ECC-B87C-BC76EDAE34E5}" type="slidenum">
              <a:rPr b="0" lang="x-non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CC73-BD48-427B-A21F-96C2BCA2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6B69-4FD7-4105-9116-2D2B1E53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5B7C-748C-414F-ACCC-1D19130A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7C05-D053-4C37-82DE-611037E0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2FE3-7805-4C73-9D4C-688D50DE1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A326-0D02-44AE-84D6-474EA26E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75F7-A130-4CC1-8155-456DE377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8055-85B7-47D8-AAB3-94946407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0DCF-40A5-4BDC-B17D-D8B00BB2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2A7B-EAD7-41C0-9338-00DE07D7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D11E-7978-4F7E-A44A-39023A81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4558-C443-48C5-BAAC-361BF3F0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8968-3D96-4548-9303-67BBF219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D4F2-CB33-4636-AFED-8E443CF2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FCC4-8056-429A-8F17-0C77C958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D0B4-DB07-4619-8D61-9811BCFA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598D-E274-44B8-A4EF-F498E2E7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29A04-C9DE-4716-AB2C-0938B69F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26F78-095E-4DBF-868B-C9E3D24C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A6D0B-C2D4-4261-BFF5-3281E38E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FB1E9-78D4-4DD3-9076-7ACD3C91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2BF55-5F01-4266-BD48-4DBE193D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2654-2AA7-4886-B090-8A25F815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AAA1A-E2F3-4C83-B332-97E38EE5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6F5A9-23F4-4DE7-81E8-837AFD5C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7B23A-49ED-4247-B1ED-CF74FEB9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B464C-FC3B-40FB-89C6-93DB5088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C13D1-BF61-4C60-904A-27AB4A65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33947-3744-48FB-9882-006B36DB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12940-A231-4BD6-A78F-C6AC390E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E2DE-529D-4B21-A638-A835C530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A0E5-6328-43FB-A97E-1F131FCB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BEFB-A037-4D0F-AB11-405A08F5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8250-B08B-438E-8AE8-A80194E9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73E7-0898-439B-91FE-4618125D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8730-4DB8-493C-A3B1-48CC6981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7DAE373-4499-46B6-87E3-9D85DC07D677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656EFD2-D999-48BF-BA8B-F2054CB2FF56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9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0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1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 rot="19140000">
            <a:off x="819000" y="1726920"/>
            <a:ext cx="5650560" cy="1207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 rot="19140000">
            <a:off x="121572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AB9CA92-9FB9-450F-BE35-AD3E33C17FD8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Lectur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 rot="19140000">
            <a:off x="1188720" y="2407680"/>
            <a:ext cx="6703200" cy="3290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recursive functions and function overlo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2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Void repchar()  // fir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For (int j=0; j&lt;45; j++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cout&lt;&lt;‘*’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cout&lt;&lt;endl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Void repchar (char ch)  // Seco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For (int j=0;j&lt;45; j++)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cout&lt;&lt;ch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cout&lt;&lt;endl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Void repchar(char ch,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int n)  //Thir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for(int j=0;j&lt;n; j++)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cout&lt;&lt;ch;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cout&lt;&lt;endl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gram prints out three lines of characters. Here’s the outpu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********************************************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===========================================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+++++++++++++++++++++++++++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800" spc="-1" strike="noStrike" cap="all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Function Over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240" cy="40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gram contains three functions with the same nam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hree declarations, three function calls, and three function defini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iler uses the function signature—the number of arguments, and their data types—to distinguish one function from anoth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Function Over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oi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pchar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take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 argu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scribes an entirely different function than the decla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oi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pchar(char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take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e argument of type 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r the decla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oi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pchar(char, int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take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e argument of type char and another of type i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Exampl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1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void add(int x, int y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void add(double x, double y)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int main(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add(10,20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add(10.4,20.4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return(0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}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////////////////////////////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void add(int x, int y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{ cout&lt;&lt; x+y; }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void add(double x,double y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{ cout&lt;&lt;x+y; 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Recursion and Recursiv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calls another function…..norm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unction calls another function2….norm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unction calls itself ?! Possible??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ff3300"/>
                </a:solidFill>
                <a:latin typeface="Wingdings"/>
              </a:rPr>
              <a:t>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 recursive function is one that call itself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Recursion and Recursiv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example to print numbers counting down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Void Print( int count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if(counter == 0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    return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el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      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      cout &lt;&lt;counter&lt;&lt;endl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      Print(--counter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      return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      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}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 cap="all">
                <a:solidFill>
                  <a:srgbClr val="000000"/>
                </a:solidFill>
                <a:latin typeface="Arial"/>
              </a:rPr>
              <a:t>Finding Factorial Recursiv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762120" y="1371600"/>
            <a:ext cx="1294920" cy="456840"/>
          </a:xfrm>
          <a:prstGeom prst="rect">
            <a:avLst/>
          </a:prstGeom>
          <a:gradFill rotWithShape="0">
            <a:gsLst>
              <a:gs pos="0">
                <a:srgbClr val="ffd5cd"/>
              </a:gs>
              <a:gs pos="100000">
                <a:srgbClr val="ffefec"/>
              </a:gs>
            </a:gsLst>
            <a:lin ang="16200000"/>
          </a:gradFill>
          <a:ln>
            <a:solidFill>
              <a:srgbClr val="f8651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5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1371600" y="1828800"/>
            <a:ext cx="360" cy="5331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1143000" y="2362320"/>
            <a:ext cx="1447560" cy="456840"/>
          </a:xfrm>
          <a:prstGeom prst="rect">
            <a:avLst/>
          </a:prstGeom>
          <a:gradFill rotWithShape="0">
            <a:gsLst>
              <a:gs pos="0">
                <a:srgbClr val="ffd5cd"/>
              </a:gs>
              <a:gs pos="100000">
                <a:srgbClr val="ffefec"/>
              </a:gs>
            </a:gsLst>
            <a:lin ang="16200000"/>
          </a:gradFill>
          <a:ln>
            <a:solidFill>
              <a:srgbClr val="f8651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5*4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2438280" y="2819160"/>
            <a:ext cx="360" cy="53352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1447920" y="3352680"/>
            <a:ext cx="1523520" cy="456840"/>
          </a:xfrm>
          <a:prstGeom prst="rect">
            <a:avLst/>
          </a:prstGeom>
          <a:gradFill rotWithShape="0">
            <a:gsLst>
              <a:gs pos="0">
                <a:srgbClr val="ffd5cd"/>
              </a:gs>
              <a:gs pos="100000">
                <a:srgbClr val="ffefec"/>
              </a:gs>
            </a:gsLst>
            <a:lin ang="16200000"/>
          </a:gradFill>
          <a:ln>
            <a:solidFill>
              <a:srgbClr val="f8651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4*3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1905120" y="4191120"/>
            <a:ext cx="1752120" cy="456840"/>
          </a:xfrm>
          <a:prstGeom prst="rect">
            <a:avLst/>
          </a:prstGeom>
          <a:gradFill rotWithShape="0">
            <a:gsLst>
              <a:gs pos="0">
                <a:srgbClr val="ffd5cd"/>
              </a:gs>
              <a:gs pos="100000">
                <a:srgbClr val="ffefec"/>
              </a:gs>
            </a:gsLst>
            <a:lin ang="16200000"/>
          </a:gradFill>
          <a:ln>
            <a:solidFill>
              <a:srgbClr val="f8651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3*2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1"/>
          <p:cNvSpPr/>
          <p:nvPr/>
        </p:nvSpPr>
        <p:spPr>
          <a:xfrm>
            <a:off x="2895480" y="380988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3581280" y="464796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2590920" y="5105520"/>
            <a:ext cx="1294920" cy="533160"/>
          </a:xfrm>
          <a:prstGeom prst="rect">
            <a:avLst/>
          </a:prstGeom>
          <a:gradFill rotWithShape="0">
            <a:gsLst>
              <a:gs pos="0">
                <a:srgbClr val="ffd5cd"/>
              </a:gs>
              <a:gs pos="100000">
                <a:srgbClr val="ffefec"/>
              </a:gs>
            </a:gsLst>
            <a:lin ang="16200000"/>
          </a:gradFill>
          <a:ln>
            <a:solidFill>
              <a:srgbClr val="f8651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2*1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"/>
          <p:cNvSpPr/>
          <p:nvPr/>
        </p:nvSpPr>
        <p:spPr>
          <a:xfrm>
            <a:off x="3733560" y="563868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2743200" y="6095880"/>
            <a:ext cx="1294920" cy="456840"/>
          </a:xfrm>
          <a:prstGeom prst="rect">
            <a:avLst/>
          </a:prstGeom>
          <a:gradFill rotWithShape="0">
            <a:gsLst>
              <a:gs pos="0">
                <a:srgbClr val="ffd5cd"/>
              </a:gs>
              <a:gs pos="100000">
                <a:srgbClr val="ffefec"/>
              </a:gs>
            </a:gsLst>
            <a:lin ang="16200000"/>
          </a:gradFill>
          <a:ln>
            <a:solidFill>
              <a:srgbClr val="f8651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4381560" y="1523880"/>
            <a:ext cx="1294920" cy="456840"/>
          </a:xfrm>
          <a:prstGeom prst="rect">
            <a:avLst/>
          </a:prstGeom>
          <a:gradFill rotWithShape="0">
            <a:gsLst>
              <a:gs pos="0">
                <a:srgbClr val="ffd5cd"/>
              </a:gs>
              <a:gs pos="100000">
                <a:srgbClr val="ffefec"/>
              </a:gs>
            </a:gsLst>
            <a:lin ang="16200000"/>
          </a:gradFill>
          <a:ln>
            <a:solidFill>
              <a:srgbClr val="f8651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5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4762440" y="2514600"/>
            <a:ext cx="1447560" cy="456840"/>
          </a:xfrm>
          <a:prstGeom prst="rect">
            <a:avLst/>
          </a:prstGeom>
          <a:gradFill rotWithShape="0">
            <a:gsLst>
              <a:gs pos="0">
                <a:srgbClr val="ffd5cd"/>
              </a:gs>
              <a:gs pos="100000">
                <a:srgbClr val="ffefec"/>
              </a:gs>
            </a:gsLst>
            <a:lin ang="16200000"/>
          </a:gradFill>
          <a:ln>
            <a:solidFill>
              <a:srgbClr val="f8651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5*4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5067360" y="3505320"/>
            <a:ext cx="1523520" cy="456840"/>
          </a:xfrm>
          <a:prstGeom prst="rect">
            <a:avLst/>
          </a:prstGeom>
          <a:gradFill rotWithShape="0">
            <a:gsLst>
              <a:gs pos="0">
                <a:srgbClr val="ffd5cd"/>
              </a:gs>
              <a:gs pos="100000">
                <a:srgbClr val="ffefec"/>
              </a:gs>
            </a:gsLst>
            <a:lin ang="16200000"/>
          </a:gradFill>
          <a:ln>
            <a:solidFill>
              <a:srgbClr val="f8651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4*3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5524560" y="4343400"/>
            <a:ext cx="1752120" cy="456840"/>
          </a:xfrm>
          <a:prstGeom prst="rect">
            <a:avLst/>
          </a:prstGeom>
          <a:gradFill rotWithShape="0">
            <a:gsLst>
              <a:gs pos="0">
                <a:srgbClr val="ffd5cd"/>
              </a:gs>
              <a:gs pos="100000">
                <a:srgbClr val="ffefec"/>
              </a:gs>
            </a:gsLst>
            <a:lin ang="16200000"/>
          </a:gradFill>
          <a:ln>
            <a:solidFill>
              <a:srgbClr val="f8651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3*2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0"/>
          <p:cNvSpPr/>
          <p:nvPr/>
        </p:nvSpPr>
        <p:spPr>
          <a:xfrm>
            <a:off x="6210360" y="5257800"/>
            <a:ext cx="1294920" cy="533160"/>
          </a:xfrm>
          <a:prstGeom prst="rect">
            <a:avLst/>
          </a:prstGeom>
          <a:gradFill rotWithShape="0">
            <a:gsLst>
              <a:gs pos="0">
                <a:srgbClr val="ffd5cd"/>
              </a:gs>
              <a:gs pos="100000">
                <a:srgbClr val="ffefec"/>
              </a:gs>
            </a:gsLst>
            <a:lin ang="16200000"/>
          </a:gradFill>
          <a:ln>
            <a:solidFill>
              <a:srgbClr val="f8651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2*1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1"/>
          <p:cNvSpPr/>
          <p:nvPr/>
        </p:nvSpPr>
        <p:spPr>
          <a:xfrm>
            <a:off x="6362640" y="6248520"/>
            <a:ext cx="1294920" cy="456840"/>
          </a:xfrm>
          <a:prstGeom prst="rect">
            <a:avLst/>
          </a:prstGeom>
          <a:gradFill rotWithShape="0">
            <a:gsLst>
              <a:gs pos="0">
                <a:srgbClr val="ffd5cd"/>
              </a:gs>
              <a:gs pos="100000">
                <a:srgbClr val="ffefec"/>
              </a:gs>
            </a:gsLst>
            <a:lin ang="16200000"/>
          </a:gradFill>
          <a:ln>
            <a:solidFill>
              <a:srgbClr val="f8651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2"/>
          <p:cNvSpPr/>
          <p:nvPr/>
        </p:nvSpPr>
        <p:spPr>
          <a:xfrm flipV="1">
            <a:off x="7315200" y="579096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3"/>
          <p:cNvSpPr/>
          <p:nvPr/>
        </p:nvSpPr>
        <p:spPr>
          <a:xfrm flipV="1">
            <a:off x="6629400" y="4647960"/>
            <a:ext cx="360" cy="60984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4"/>
          <p:cNvSpPr/>
          <p:nvPr/>
        </p:nvSpPr>
        <p:spPr>
          <a:xfrm flipV="1">
            <a:off x="6019560" y="3962160"/>
            <a:ext cx="360" cy="38124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5"/>
          <p:cNvSpPr/>
          <p:nvPr/>
        </p:nvSpPr>
        <p:spPr>
          <a:xfrm flipV="1">
            <a:off x="5638680" y="2895480"/>
            <a:ext cx="360" cy="60948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6"/>
          <p:cNvSpPr/>
          <p:nvPr/>
        </p:nvSpPr>
        <p:spPr>
          <a:xfrm flipV="1">
            <a:off x="5257800" y="1981080"/>
            <a:ext cx="360" cy="53352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7"/>
          <p:cNvSpPr/>
          <p:nvPr/>
        </p:nvSpPr>
        <p:spPr>
          <a:xfrm>
            <a:off x="5791320" y="1523880"/>
            <a:ext cx="2514240" cy="304560"/>
          </a:xfrm>
          <a:prstGeom prst="rect">
            <a:avLst/>
          </a:prstGeom>
          <a:solidFill>
            <a:schemeClr val="bg1"/>
          </a:solidFill>
          <a:ln w="9525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value=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8"/>
          <p:cNvSpPr/>
          <p:nvPr/>
        </p:nvSpPr>
        <p:spPr>
          <a:xfrm>
            <a:off x="7772400" y="5867280"/>
            <a:ext cx="1066320" cy="304560"/>
          </a:xfrm>
          <a:prstGeom prst="rect">
            <a:avLst/>
          </a:prstGeom>
          <a:solidFill>
            <a:schemeClr val="bg1"/>
          </a:solidFill>
          <a:ln w="9525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9"/>
          <p:cNvSpPr/>
          <p:nvPr/>
        </p:nvSpPr>
        <p:spPr>
          <a:xfrm>
            <a:off x="6781680" y="4876920"/>
            <a:ext cx="2361960" cy="304560"/>
          </a:xfrm>
          <a:prstGeom prst="rect">
            <a:avLst/>
          </a:prstGeom>
          <a:solidFill>
            <a:schemeClr val="bg1"/>
          </a:solidFill>
          <a:ln w="9525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!=2*1=2 retu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0"/>
          <p:cNvSpPr/>
          <p:nvPr/>
        </p:nvSpPr>
        <p:spPr>
          <a:xfrm>
            <a:off x="6477120" y="3962520"/>
            <a:ext cx="2361960" cy="304560"/>
          </a:xfrm>
          <a:prstGeom prst="rect">
            <a:avLst/>
          </a:prstGeom>
          <a:solidFill>
            <a:schemeClr val="bg1"/>
          </a:solidFill>
          <a:ln w="9525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!=3*2=6 retu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1"/>
          <p:cNvSpPr/>
          <p:nvPr/>
        </p:nvSpPr>
        <p:spPr>
          <a:xfrm>
            <a:off x="5867280" y="3124080"/>
            <a:ext cx="2361960" cy="304560"/>
          </a:xfrm>
          <a:prstGeom prst="rect">
            <a:avLst/>
          </a:prstGeom>
          <a:solidFill>
            <a:schemeClr val="bg1"/>
          </a:solidFill>
          <a:ln w="9525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!=4*6=24 retu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2"/>
          <p:cNvSpPr/>
          <p:nvPr/>
        </p:nvSpPr>
        <p:spPr>
          <a:xfrm>
            <a:off x="5486400" y="2133720"/>
            <a:ext cx="2361960" cy="304560"/>
          </a:xfrm>
          <a:prstGeom prst="rect">
            <a:avLst/>
          </a:prstGeom>
          <a:solidFill>
            <a:schemeClr val="bg1"/>
          </a:solidFill>
          <a:ln w="9525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!=5*24=120  retu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Finding Factorial Recurs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2960" y="914400"/>
            <a:ext cx="7482600" cy="4190760"/>
          </a:xfrm>
          <a:prstGeom prst="rect">
            <a:avLst/>
          </a:prstGeom>
          <a:noFill/>
          <a:ln w="9360">
            <a:noFill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336600"/>
                </a:solidFill>
                <a:latin typeface="Consolas"/>
              </a:rPr>
              <a:t>//Recursive factorial Fun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Int factorial(int);</a:t>
            </a:r>
            <a:r>
              <a:rPr b="0" lang="en-US" sz="1200" spc="-1" strike="noStrike">
                <a:solidFill>
                  <a:srgbClr val="336600"/>
                </a:solidFill>
                <a:latin typeface="Consolas"/>
              </a:rPr>
              <a:t>//proto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int main(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	</a:t>
            </a: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int num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	</a:t>
            </a: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cout&lt;&lt;“enter a positive integer:”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	</a:t>
            </a: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cin&gt;&gt;num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	</a:t>
            </a: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cout&lt;&lt;“factorial=“&lt;&lt;factorial(num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	</a:t>
            </a: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return 0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int factorial(int n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	</a:t>
            </a: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if ( n &lt;= 1) </a:t>
            </a:r>
            <a:r>
              <a:rPr b="0" lang="en-US" sz="1200" spc="-1" strike="noStrike">
                <a:solidFill>
                  <a:srgbClr val="336600"/>
                </a:solidFill>
                <a:latin typeface="Consolas"/>
              </a:rPr>
              <a:t>//the base c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	</a:t>
            </a: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	</a:t>
            </a: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return  1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	</a:t>
            </a: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	</a:t>
            </a: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	</a:t>
            </a: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return n * factorial (n - 1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 rot="19140000">
            <a:off x="819000" y="1726920"/>
            <a:ext cx="5650560" cy="1207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Function overloa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 rot="19140000">
            <a:off x="121572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400" spc="398" strike="noStrike" cap="all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Function Over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with same name and different parameters or return data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perform similar tas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function to squ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function to squ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int square( int x) {return x * x;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loat square(float x) { return x * x; 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 call-time c++ complier selects the proper function by examining the number, type and order of th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Function Over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36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verloaded function appears to perform different activities depending on the kind of data sent to i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performs one operation on one kind of data but another operation on a different kind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Examp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24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#include &lt;iostream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Using namespace std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id repchar();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//proto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id repchar(char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id repchar(char, int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ain(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repchar();  //Firs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repchar(‘=’); //Seco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repchar(‘+’,30);  //Thir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Return 0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6594AD1C67AF545A5960EF5B4D34DFC" ma:contentTypeVersion="1" ma:contentTypeDescription="Create a new document." ma:contentTypeScope="" ma:versionID="158d98ff5f363f64d157ecf49ddff337">
  <xsd:schema xmlns:xsd="http://www.w3.org/2001/XMLSchema" xmlns:xs="http://www.w3.org/2001/XMLSchema" xmlns:p="http://schemas.microsoft.com/office/2006/metadata/properties" xmlns:ns1="http://schemas.microsoft.com/sharepoint/v3" targetNamespace="http://schemas.microsoft.com/office/2006/metadata/properties" ma:root="true" ma:fieldsID="a447206dab0015f8b9f8924535193e8c" ns1:_="">
    <xsd:import namespace="http://schemas.microsoft.com/sharepoint/v3"/>
    <xsd:element name="properties">
      <xsd:complexType>
        <xsd:sequence>
          <xsd:element name="documentManagement">
            <xsd:complexType>
              <xsd:all>
                <xsd:element ref="ns1:PublishingStartDate" minOccurs="0"/>
                <xsd:element ref="ns1:PublishingExpirationDate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" elementFormDefault="qualified">
    <xsd:import namespace="http://schemas.microsoft.com/office/2006/documentManagement/types"/>
    <xsd:import namespace="http://schemas.microsoft.com/office/infopath/2007/PartnerControls"/>
    <xsd:element name="PublishingStartDate" ma:index="8" nillable="true" ma:displayName="Scheduling Start Date" ma:description="" ma:hidden="true" ma:internalName="PublishingStartDate">
      <xsd:simpleType>
        <xsd:restriction base="dms:Unknown"/>
      </xsd:simpleType>
    </xsd:element>
    <xsd:element name="PublishingExpirationDate" ma:index="9" nillable="true" ma:displayName="Scheduling End Date" ma:description="" ma:hidden="true" ma:internalName="PublishingExpirationDate">
      <xsd:simpleType>
        <xsd:restriction base="dms:Unknown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PublishingExpirationDate xmlns="http://schemas.microsoft.com/sharepoint/v3" xsi:nil="true"/>
    <PublishingStartDate xmlns="http://schemas.microsoft.com/sharepoint/v3" xsi:nil="true"/>
  </documentManagement>
</p:properties>
</file>

<file path=customXml/itemProps1.xml><?xml version="1.0" encoding="utf-8"?>
<ds:datastoreItem xmlns:ds="http://schemas.openxmlformats.org/officeDocument/2006/customXml" ds:itemID="{97EB3906-82FE-483B-9230-D46A57CC7728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2.xml><?xml version="1.0" encoding="utf-8"?>
<ds:datastoreItem xmlns:ds="http://schemas.openxmlformats.org/officeDocument/2006/customXml" ds:itemID="{CA296518-ACB8-4829-BA8B-AD4314C07442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9193EBF6-7E93-414B-A6CB-5F8079DA20A0}">
  <ds:schemaRefs>
    <ds:schemaRef ds:uri="http://schemas.microsoft.com/office/2006/metadata/properties"/>
    <ds:schemaRef ds:uri="http://schemas.microsoft.com/office/infopath/2007/PartnerControls"/>
    <ds:schemaRef ds:uri="http://schemas.microsoft.com/sharepoint/v3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Angles.thmx</Template>
  <TotalTime>1174</TotalTime>
  <Application>LibreOffice/7.4.7.2$Linux_X86_64 LibreOffice_project/40$Build-2</Application>
  <AppVersion>15.0000</AppVersion>
  <Words>569</Words>
  <Paragraphs>1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7:35:11Z</dcterms:created>
  <dc:creator>ALjaffan</dc:creator>
  <dc:description/>
  <dc:language>en-US</dc:language>
  <cp:lastModifiedBy>Aseel</cp:lastModifiedBy>
  <dcterms:modified xsi:type="dcterms:W3CDTF">2014-02-12T17:33:01Z</dcterms:modified>
  <cp:revision>1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Notes">
    <vt:r8>3</vt:r8>
  </property>
  <property fmtid="{D5CDD505-2E9C-101B-9397-08002B2CF9AE}" pid="4" name="PresentationFormat">
    <vt:lpwstr>On-screen Show (4:3)</vt:lpwstr>
  </property>
  <property fmtid="{D5CDD505-2E9C-101B-9397-08002B2CF9AE}" pid="5" name="Slides">
    <vt:r8>14</vt:r8>
  </property>
</Properties>
</file>