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9E7-2F4D-42CD-9BCC-3E8FA5F8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553-5144-4A53-BA40-D8F32B9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523-936E-4A58-BE8A-77B1FF47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8EA-000C-4DD1-AF89-3A40E9E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FB2-BDF4-4D24-B9BC-B88DB63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D09F-4A8C-4DA7-B5A6-1C19B76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5067-0E25-4FE2-AD67-32108EA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673-EB9E-47E1-9026-245CE456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7D5-000B-4D74-BE10-F5A9F12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61A-A333-4C93-A926-FFD9471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C1DD-3D44-4ED8-A20F-7112C1C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038-E43A-48E6-946A-985CD70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2AAB-90E8-4BC1-B370-C4CC968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EF2-5DD5-4A7F-98B2-7211C9E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82B3-E85C-45A7-A14B-4950443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6B05-A2D1-4BDA-8136-50F1AAF6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D775-BBBB-43C1-A940-D9AB6C4F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E0D-70AD-43E7-9570-6DDD085B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408-95E0-420D-960B-72D1FFA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1F5-5D1C-40BC-9587-3CE963D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F86-9F6E-4811-B985-38B4BF2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D1E-B8B6-4AEF-BEE6-74F8AD2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769-403C-41AF-BE33-FED20F8D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F20-EB4D-45CB-A594-CFBCB36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3C6E0D-5FB2-4B59-B3C7-FD76A565CB2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F5A59C-53CC-4AEB-820B-BB8B7F98359A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Global &amp; local vari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and 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80769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able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sibility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the locations within a program from which it can be acces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ope of a variable determines which parts of the program can access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 Local and Glo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 variable has a global scope if it is declared outside of any other function or block of statements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ther hand, local variables can only be used from inside the block they were declared in, enclosed in braces ({ }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defined within a function body are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y have local sco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somefunc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omevar;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//variable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efined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with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float othervar;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//th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2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s defined within a function are only visible, meaning they can only be accessed, from within the function in which they are defi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some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local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loat otherva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0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1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12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void 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local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ari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omevar=20;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var=21;//illegal: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isib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therfun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Nextvar=22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lobal variable is used when it must be accessible to more than one function in a progra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local variables are defined within functions, global variables are defined outside of any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variable is visible to all those functions that follow the variable’s definition in the listing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lobal vs. lo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 can have same name for local and global variables but value of local variable inside a function will take prefer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creen shot 2014-02-17 at 6.56.30 PM.png"/>
          <p:cNvPicPr/>
          <p:nvPr/>
        </p:nvPicPr>
        <p:blipFill>
          <a:blip r:embed="rId1"/>
          <a:stretch/>
        </p:blipFill>
        <p:spPr>
          <a:xfrm>
            <a:off x="1219320" y="2362320"/>
            <a:ext cx="57909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nfusing scop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3" descr="Screen shot 2014-02-17 at 7.01.15 PM.png"/>
          <p:cNvPicPr/>
          <p:nvPr/>
        </p:nvPicPr>
        <p:blipFill>
          <a:blip r:embed="rId1"/>
          <a:srcRect l="0" t="-26026" r="0" b="-26026"/>
          <a:stretch/>
        </p:blipFill>
        <p:spPr>
          <a:xfrm>
            <a:off x="0" y="1100160"/>
            <a:ext cx="904680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mplicated scop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3" descr="Screen shot 2014-02-17 at 7.04.06 PM.png"/>
          <p:cNvPicPr/>
          <p:nvPr/>
        </p:nvPicPr>
        <p:blipFill>
          <a:blip r:embed="rId1"/>
          <a:srcRect l="0" t="14244" r="0" b="14244"/>
          <a:stretch/>
        </p:blipFill>
        <p:spPr>
          <a:xfrm>
            <a:off x="0" y="1100520"/>
            <a:ext cx="9053640" cy="430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331</TotalTime>
  <Application>LibreOffice/7.4.7.2$Linux_X86_64 LibreOffice_project/40$Build-2</Application>
  <AppVersion>15.0000</AppVersion>
  <Words>195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12:22Z</dcterms:created>
  <dc:creator>NOUF</dc:creator>
  <dc:description/>
  <dc:language>en-US</dc:language>
  <cp:lastModifiedBy>Aseel</cp:lastModifiedBy>
  <dcterms:modified xsi:type="dcterms:W3CDTF">2014-02-17T16:08:50Z</dcterms:modified>
  <cp:revision>57</cp:revision>
  <dc:subject/>
  <dc:title>CS1201: 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