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AF3E7-A8EA-4605-BF81-C811D9793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75207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822960" y="2970360"/>
            <a:ext cx="75207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DDA62-4D31-4E1D-82AE-AB9A3AC60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6760" y="110052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822960" y="297036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C9C7B-4032-4F96-B2D5-09BF1210F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24213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65640" y="1100520"/>
            <a:ext cx="24213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08680" y="1100520"/>
            <a:ext cx="24213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822960" y="2970360"/>
            <a:ext cx="24213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65640" y="2970360"/>
            <a:ext cx="24213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3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3110E-6730-443C-9472-95340A5DE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0A802-3BF0-4E52-81A7-B7F18385D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822960" y="1100520"/>
            <a:ext cx="7520760" cy="35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42D0E-D20A-488B-A139-84BD4F6DE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7520760" cy="35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5BB6F-DD12-4A3A-9316-7B8C0A585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3669840" cy="35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6760" y="1100520"/>
            <a:ext cx="3669840" cy="35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D514A-08DF-4364-B435-3764EA187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735BE-8507-4101-8287-E989BB967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822960" y="365760"/>
            <a:ext cx="7520760" cy="254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65FEA-F127-4DF6-87A7-688F3698A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6760" y="1100520"/>
            <a:ext cx="3669840" cy="35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822960" y="297036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934DB-E318-4C7C-9D9B-F657914D7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822960" y="1100520"/>
            <a:ext cx="7520760" cy="35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6A6AD-E73D-4046-924C-807F1606B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3669840" cy="35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6760" y="110052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14BA9-86AB-4B88-A2B7-73817BEB3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6760" y="110052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22960" y="2970360"/>
            <a:ext cx="75207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3BDD9-CA30-4825-AF63-75AEFDBFD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75207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822960" y="2970360"/>
            <a:ext cx="75207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8D003-44EB-4759-AA62-8293992AB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6760" y="110052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22960" y="297036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D08C0-62A3-4A61-9B38-E4A3A7A49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24213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5640" y="1100520"/>
            <a:ext cx="24213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08680" y="1100520"/>
            <a:ext cx="24213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822960" y="2970360"/>
            <a:ext cx="24213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5640" y="2970360"/>
            <a:ext cx="24213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3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0FAF8-6569-4395-9880-3CDF01276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7520760" cy="35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B2672-68B8-47B0-8B62-7ACB43AD0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3669840" cy="35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6760" y="1100520"/>
            <a:ext cx="3669840" cy="35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24E6A-13BA-4AAD-879E-EF42B6CE1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0B77E-F2D2-4B74-AB21-F50726259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22960" y="365760"/>
            <a:ext cx="7520760" cy="254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9F73E-6B53-4F89-9D9E-FDC55CD5D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760" y="1100520"/>
            <a:ext cx="3669840" cy="35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822960" y="297036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48FDD-1487-4A75-9037-21087FF3A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3669840" cy="35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760" y="110052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8AA3E-D80A-4CC0-92E7-E2B38DA9D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6760" y="110052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822960" y="2970360"/>
            <a:ext cx="75207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19414-8464-4DD2-AF50-AADA6D141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 hidden="1"/>
          <p:cNvSpPr/>
          <p:nvPr/>
        </p:nvSpPr>
        <p:spPr>
          <a:xfrm>
            <a:off x="-2520" y="5050800"/>
            <a:ext cx="3573720" cy="1806840"/>
          </a:xfrm>
          <a:custGeom>
            <a:avLst/>
            <a:gdLst>
              <a:gd name="textAreaLeft" fmla="*/ 0 w 3573720"/>
              <a:gd name="textAreaRight" fmla="*/ 3574080 w 3573720"/>
              <a:gd name="textAreaTop" fmla="*/ 0 h 1806840"/>
              <a:gd name="textAreaBottom" fmla="*/ 1807200 h 1806840"/>
            </a:gdLst>
            <a:ahLst/>
            <a:rect l="textAreaLeft" t="textAreaTop" r="textAreaRight" b="textAreaBottom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chemeClr val="accent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1" name="Freeform 7" hidden="1"/>
          <p:cNvSpPr/>
          <p:nvPr/>
        </p:nvSpPr>
        <p:spPr>
          <a:xfrm>
            <a:off x="-2520" y="5051160"/>
            <a:ext cx="9146160" cy="180648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1806480"/>
              <a:gd name="textAreaBottom" fmla="*/ 1806840 h 1806480"/>
            </a:gdLst>
            <a:ahLst/>
            <a:rect l="textAreaLeft" t="textAreaTop" r="textAreaRight" b="textAreaBottom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chemeClr val="accent3">
              <a:alpha val="8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2" name="Right Triangle 6"/>
          <p:cNvSpPr/>
          <p:nvPr/>
        </p:nvSpPr>
        <p:spPr>
          <a:xfrm>
            <a:off x="0" y="2647800"/>
            <a:ext cx="3571560" cy="4209840"/>
          </a:xfrm>
          <a:prstGeom prst="rtTriangle">
            <a:avLst/>
          </a:prstGeom>
          <a:solidFill>
            <a:schemeClr val="accent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3" name="Freeform 7"/>
          <p:cNvSpPr/>
          <p:nvPr/>
        </p:nvSpPr>
        <p:spPr>
          <a:xfrm>
            <a:off x="-2520" y="-1080"/>
            <a:ext cx="9146160" cy="685872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6858720"/>
              <a:gd name="textAreaBottom" fmla="*/ 6859080 h 6858720"/>
            </a:gdLst>
            <a:ahLst/>
            <a:rect l="textAreaLeft" t="textAreaTop" r="textAreaRight" b="textAreaBottom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chemeClr val="accent3">
              <a:alpha val="8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 rot="19140000">
            <a:off x="816840" y="1730520"/>
            <a:ext cx="5648400" cy="1203840"/>
          </a:xfrm>
          <a:prstGeom prst="rect">
            <a:avLst/>
          </a:prstGeom>
          <a:noFill/>
          <a:ln w="0">
            <a:noFill/>
          </a:ln>
        </p:spPr>
        <p:txBody>
          <a:bodyPr bIns="9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 cap="all">
                <a:solidFill>
                  <a:srgbClr val="000000"/>
                </a:solidFill>
                <a:latin typeface="Arial"/>
              </a:rPr>
              <a:t>Click to edit Master title sty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 rot="19140000">
            <a:off x="200880" y="5870160"/>
            <a:ext cx="2175840" cy="20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517560" y="6285240"/>
            <a:ext cx="4723920" cy="27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3"/>
          </p:nvPr>
        </p:nvSpPr>
        <p:spPr>
          <a:xfrm>
            <a:off x="8400960" y="6170760"/>
            <a:ext cx="502560" cy="502560"/>
          </a:xfrm>
          <a:prstGeom prst="rect">
            <a:avLst/>
          </a:prstGeom>
          <a:noFill/>
          <a:ln w="19080">
            <a:solidFill>
              <a:srgbClr val="ffffff"/>
            </a:solidFill>
            <a:round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65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3932D2C9-5A86-4EE3-BA6B-3116CA700D00}" type="slidenum">
              <a:rPr b="0" lang="en-US" sz="165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5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Freeform 6"/>
          <p:cNvSpPr/>
          <p:nvPr/>
        </p:nvSpPr>
        <p:spPr>
          <a:xfrm>
            <a:off x="-2520" y="5050800"/>
            <a:ext cx="3573720" cy="1806840"/>
          </a:xfrm>
          <a:custGeom>
            <a:avLst/>
            <a:gdLst>
              <a:gd name="textAreaLeft" fmla="*/ 0 w 3573720"/>
              <a:gd name="textAreaRight" fmla="*/ 3574080 w 3573720"/>
              <a:gd name="textAreaTop" fmla="*/ 0 h 1806840"/>
              <a:gd name="textAreaBottom" fmla="*/ 1807200 h 1806840"/>
            </a:gdLst>
            <a:ahLst/>
            <a:rect l="textAreaLeft" t="textAreaTop" r="textAreaRight" b="textAreaBottom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chemeClr val="accent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46" name="Freeform 7"/>
          <p:cNvSpPr/>
          <p:nvPr/>
        </p:nvSpPr>
        <p:spPr>
          <a:xfrm>
            <a:off x="-2520" y="5051160"/>
            <a:ext cx="9146160" cy="180648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1806480"/>
              <a:gd name="textAreaBottom" fmla="*/ 1806840 h 1806480"/>
            </a:gdLst>
            <a:ahLst/>
            <a:rect l="textAreaLeft" t="textAreaTop" r="textAreaRight" b="textAreaBottom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chemeClr val="accent3">
              <a:alpha val="8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 cap="all">
                <a:solidFill>
                  <a:srgbClr val="000000"/>
                </a:solidFill>
                <a:latin typeface="Arial"/>
              </a:rPr>
              <a:t>Click to edit Master title sty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822960" y="1100520"/>
            <a:ext cx="7520760" cy="357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Master text sty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73880" indent="-17388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402480" indent="-16452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631080" indent="-16452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859680" indent="-17388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 rot="19140000">
            <a:off x="200880" y="5870160"/>
            <a:ext cx="2175840" cy="20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517560" y="6285240"/>
            <a:ext cx="4723920" cy="27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400960" y="6170760"/>
            <a:ext cx="502560" cy="502560"/>
          </a:xfrm>
          <a:prstGeom prst="rect">
            <a:avLst/>
          </a:prstGeom>
          <a:noFill/>
          <a:ln w="19080">
            <a:solidFill>
              <a:srgbClr val="ffffff"/>
            </a:solidFill>
            <a:round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65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7B5870F9-8E8C-42BF-812F-3A6B38AA6396}" type="slidenum">
              <a:rPr b="0" lang="en-US" sz="165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5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 rot="19140000">
            <a:off x="816840" y="1730520"/>
            <a:ext cx="5648400" cy="1203840"/>
          </a:xfrm>
          <a:prstGeom prst="rect">
            <a:avLst/>
          </a:prstGeom>
          <a:noFill/>
          <a:ln w="0">
            <a:noFill/>
          </a:ln>
        </p:spPr>
        <p:txBody>
          <a:bodyPr bIns="9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 cap="all">
                <a:solidFill>
                  <a:srgbClr val="000000"/>
                </a:solidFill>
                <a:latin typeface="Arial"/>
              </a:rPr>
              <a:t>Lecture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 rot="19140000">
            <a:off x="1212120" y="2471040"/>
            <a:ext cx="6510600" cy="329040"/>
          </a:xfrm>
          <a:prstGeom prst="rect">
            <a:avLst/>
          </a:prstGeom>
          <a:noFill/>
          <a:ln w="0">
            <a:noFill/>
          </a:ln>
        </p:spPr>
        <p:txBody>
          <a:bodyPr tIns="900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1400" spc="398" strike="noStrike" cap="all">
                <a:solidFill>
                  <a:srgbClr val="000000"/>
                </a:solidFill>
                <a:latin typeface="Arial"/>
              </a:rPr>
              <a:t>Global &amp; local vari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 cap="all">
                <a:solidFill>
                  <a:srgbClr val="000000"/>
                </a:solidFill>
                <a:latin typeface="Arial"/>
              </a:rPr>
              <a:t>Global and local variabl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100520"/>
            <a:ext cx="8076960" cy="392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variable’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cop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also called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visibility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escribes the locations within a program from which it can be accessed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cope of a variable determines which parts of the program can access it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ope: Local and Globa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 variable has a global scope if it is declared outside of any other function or block of statements. 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 the other hand, local variables can only be used from inside the block they were declared in, enclosed in braces ({ })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 cap="all">
                <a:solidFill>
                  <a:srgbClr val="000000"/>
                </a:solidFill>
                <a:latin typeface="Arial"/>
              </a:rPr>
              <a:t>Local Variabl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240" cy="518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riables defined within a function body are called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oca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variable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cause they have local scope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olas"/>
              </a:rPr>
              <a:t>void</a:t>
            </a:r>
            <a:r>
              <a:rPr b="0" lang="en-US" sz="18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nsolas"/>
              </a:rPr>
              <a:t>somefunc(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olas"/>
              </a:rPr>
              <a:t>{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olas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nsolas"/>
              </a:rPr>
              <a:t>int somevar;</a:t>
            </a:r>
            <a:r>
              <a:rPr b="0" lang="en-US" sz="18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nsolas"/>
              </a:rPr>
              <a:t>//variables</a:t>
            </a:r>
            <a:r>
              <a:rPr b="0" lang="en-US" sz="18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nsolas"/>
              </a:rPr>
              <a:t>defined </a:t>
            </a:r>
            <a:r>
              <a:rPr b="0" lang="en-US" sz="18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nsolas"/>
              </a:rPr>
              <a:t>withi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olas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nsolas"/>
              </a:rPr>
              <a:t>float othervar;</a:t>
            </a:r>
            <a:r>
              <a:rPr b="0" lang="en-US" sz="18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nsolas"/>
              </a:rPr>
              <a:t>//the</a:t>
            </a:r>
            <a:r>
              <a:rPr b="0" lang="en-US" sz="18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nsolas"/>
              </a:rPr>
              <a:t>function</a:t>
            </a:r>
            <a:r>
              <a:rPr b="0" lang="en-US" sz="18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nsolas"/>
              </a:rPr>
              <a:t>bod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olas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 cap="all">
                <a:solidFill>
                  <a:srgbClr val="000000"/>
                </a:solidFill>
                <a:latin typeface="Arial"/>
              </a:rPr>
              <a:t>Local Variabl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76276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ables defined within a function are only visible, meaning they can only be accessed, from within the function in which they are defin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Void somefunc(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{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02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int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somevar;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//local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vari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02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float othervar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02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somevar=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10;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//O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02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othervar=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11;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//O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02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nextvar=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12;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//illegal: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not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visible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in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somefunc(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nsolas"/>
              </a:rPr>
              <a:t>void otherfunc(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nsolas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nsolas"/>
              </a:rPr>
              <a:t>{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02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int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nextvar;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//local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varia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02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Somevar=20;//illegal: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not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visible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in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otherfunc(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02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Othervar=21;//illegal: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not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visible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in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otherfunc(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02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Nextvar=22;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//O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 cap="all">
                <a:solidFill>
                  <a:srgbClr val="000000"/>
                </a:solidFill>
                <a:latin typeface="Arial"/>
              </a:rPr>
              <a:t>Global Vari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7520760" cy="357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global variable is used when it must be accessible to more than one function in a program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ile local variables are defined within functions, global variables are defined outside of any function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lobal variable is visible to all those functions that follow the variable’s definition in the listing.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 cap="all">
                <a:solidFill>
                  <a:srgbClr val="000000"/>
                </a:solidFill>
                <a:latin typeface="Arial"/>
              </a:rPr>
              <a:t>Global vs. local variabl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7520760" cy="392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program can have same name for local and global variables but value of local variable inside a function will take preferenc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3" descr="Screen shot 2014-02-17 at 6.56.30 PM.png"/>
          <p:cNvPicPr/>
          <p:nvPr/>
        </p:nvPicPr>
        <p:blipFill>
          <a:blip r:embed="rId1"/>
          <a:stretch/>
        </p:blipFill>
        <p:spPr>
          <a:xfrm>
            <a:off x="1219320" y="2362320"/>
            <a:ext cx="5790960" cy="412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 cap="all">
                <a:solidFill>
                  <a:srgbClr val="000000"/>
                </a:solidFill>
                <a:latin typeface="Arial"/>
              </a:rPr>
              <a:t>Confusing scope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Content Placeholder 3" descr="Screen shot 2014-02-17 at 7.01.15 PM.png"/>
          <p:cNvPicPr/>
          <p:nvPr/>
        </p:nvPicPr>
        <p:blipFill>
          <a:blip r:embed="rId1"/>
          <a:srcRect l="0" t="-26026" r="0" b="-26026"/>
          <a:stretch/>
        </p:blipFill>
        <p:spPr>
          <a:xfrm>
            <a:off x="0" y="1100160"/>
            <a:ext cx="9046800" cy="42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 cap="all">
                <a:solidFill>
                  <a:srgbClr val="000000"/>
                </a:solidFill>
                <a:latin typeface="Arial"/>
              </a:rPr>
              <a:t>Complicated scope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Content Placeholder 3" descr="Screen shot 2014-02-17 at 7.04.06 PM.png"/>
          <p:cNvPicPr/>
          <p:nvPr/>
        </p:nvPicPr>
        <p:blipFill>
          <a:blip r:embed="rId1"/>
          <a:srcRect l="0" t="14244" r="0" b="14244"/>
          <a:stretch/>
        </p:blipFill>
        <p:spPr>
          <a:xfrm>
            <a:off x="0" y="1100520"/>
            <a:ext cx="9053640" cy="430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Angles">
  <a:themeElements>
    <a:clrScheme name="Angles">
      <a:dk1>
        <a:srgbClr val="000000"/>
      </a:dk1>
      <a:lt1>
        <a:srgbClr val="ffffff"/>
      </a:lt1>
      <a:dk2>
        <a:srgbClr val="434342"/>
      </a:dk2>
      <a:lt2>
        <a:srgbClr val="cdd7d9"/>
      </a:lt2>
      <a:accent1>
        <a:srgbClr val="797b7e"/>
      </a:accent1>
      <a:accent2>
        <a:srgbClr val="f96a1b"/>
      </a:accent2>
      <a:accent3>
        <a:srgbClr val="08a1d9"/>
      </a:accent3>
      <a:accent4>
        <a:srgbClr val="7c984a"/>
      </a:accent4>
      <a:accent5>
        <a:srgbClr val="c2ad8d"/>
      </a:accent5>
      <a:accent6>
        <a:srgbClr val="506e94"/>
      </a:accent6>
      <a:hlink>
        <a:srgbClr val="5f5f5f"/>
      </a:hlink>
      <a:folHlink>
        <a:srgbClr val="969696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Angles">
  <a:themeElements>
    <a:clrScheme name="Angles">
      <a:dk1>
        <a:srgbClr val="000000"/>
      </a:dk1>
      <a:lt1>
        <a:srgbClr val="ffffff"/>
      </a:lt1>
      <a:dk2>
        <a:srgbClr val="434342"/>
      </a:dk2>
      <a:lt2>
        <a:srgbClr val="cdd7d9"/>
      </a:lt2>
      <a:accent1>
        <a:srgbClr val="797b7e"/>
      </a:accent1>
      <a:accent2>
        <a:srgbClr val="f96a1b"/>
      </a:accent2>
      <a:accent3>
        <a:srgbClr val="08a1d9"/>
      </a:accent3>
      <a:accent4>
        <a:srgbClr val="7c984a"/>
      </a:accent4>
      <a:accent5>
        <a:srgbClr val="c2ad8d"/>
      </a:accent5>
      <a:accent6>
        <a:srgbClr val="506e94"/>
      </a:accent6>
      <a:hlink>
        <a:srgbClr val="5f5f5f"/>
      </a:hlink>
      <a:folHlink>
        <a:srgbClr val="969696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Angles.thmx</Template>
  <TotalTime>331</TotalTime>
  <Application>LibreOffice/7.4.7.2$Linux_X86_64 LibreOffice_project/40$Build-2</Application>
  <AppVersion>15.0000</AppVersion>
  <Words>195</Words>
  <Paragraphs>44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9T05:12:22Z</dcterms:created>
  <dc:creator>NOUF</dc:creator>
  <dc:description/>
  <dc:language>en-US</dc:language>
  <cp:lastModifiedBy>Aseel</cp:lastModifiedBy>
  <dcterms:modified xsi:type="dcterms:W3CDTF">2014-02-17T16:08:50Z</dcterms:modified>
  <cp:revision>57</cp:revision>
  <dc:subject/>
  <dc:title>CS1201:  Programming Language 2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On-screen Show (4:3)</vt:lpwstr>
  </property>
  <property fmtid="{D5CDD505-2E9C-101B-9397-08002B2CF9AE}" pid="3" name="Slides">
    <vt:r8>8</vt:r8>
  </property>
</Properties>
</file>