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7EBF7-0050-44FC-AF79-37F0A8B07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33D-C2D2-4DFE-B29E-7FD3ED97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1D0-C83F-4DB9-80E9-05D221C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020-155E-4345-9C48-610DBD62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4BA-81BA-4C16-97F8-E885A902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9693-FF27-4134-A090-E64616EE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F02B-4A30-46AE-B708-C0AB4882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E0B0-654B-422B-A095-8FEB3175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76E9-063F-43B9-AA8F-FB3EC3A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2F94-CE99-4A31-B2D7-94C11C9E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657C-F95F-43E1-B486-C725F2DC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9D9F-6316-4CFA-BE83-5612D18A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73C-9B8A-4703-8B44-4B104B19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8E11-BDAA-457E-96B4-605C9AC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8F2-836F-41C8-B042-D296AB9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29CC-6590-41FB-8E63-786B6F83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210B-C0B6-4528-A782-3F5498AF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3BA6-40A3-4E3A-868F-87170F9C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F40F-4829-428E-A103-0820ACD4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8865-1330-4686-A729-9EA7974A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1D49-4205-4504-A754-78E64EF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B949-855F-477B-90A2-76777256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93E4-E197-4E76-A42A-8EEDA15B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A5D-41A8-4EF8-9DA9-0E6F39B1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BD47-FEFD-4D3C-817C-E6FB6C2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3F6D-F3E4-4D77-A622-1237ACF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392B-1F54-40F9-9B65-EEF66BF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E8E7-2DE9-4232-9603-962271C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C3F6-6CD0-475B-AFA2-6341E49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CE63-82A3-4283-8DE3-F1059934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4170-51BF-405D-9E9C-2F9BD760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1178-5EE3-4F7A-9B95-62B4D642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00B4-FE76-4315-BD7C-DBD2B42E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743E-65BC-4AF1-BED3-FA69536B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A5D-98D8-419F-82AA-4474800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EAAD-861B-401B-9987-927988C5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B3B2-EF43-427D-B320-AC5E1BB8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FF6FD-015D-451B-AF06-C17F15A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22E8-3FB7-414A-905F-4B747B1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81FA-68F0-4F37-AD07-79EFD01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19AA-38F1-4645-944F-7416D86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1049-934A-41B0-8440-EB54DBCD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2976-B194-46D0-8FD1-27AE1637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76E4-3C63-4CA7-8771-A8F5410A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AF8-9AC0-4B10-8171-8D07EA88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171-B2F1-4568-A89D-CA21D4A3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32B-9064-48F0-ACCD-6B45989C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E25-ECDD-4BB9-96EF-4FC68168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3CA-9DEC-4EDB-84B5-7C1D40F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4DDDE8-9DD0-4AC5-8716-72EEDE195BE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B03680-CEBA-4096-AA9E-D830FCD6A7D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B99BFA-05C4-4C12-A232-7B2018040BE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8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0739A4-2A7E-4742-9D8B-4EB194D0C97B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Lecture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9BAFBA76-A311-4BE8-BE32-D83E97B9E570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480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onstructors Vs. De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398" strike="noStrike" cap="all">
                <a:solidFill>
                  <a:srgbClr val="000000"/>
                </a:solidFill>
                <a:latin typeface="Arial"/>
              </a:rPr>
              <a:t>Constru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0" y="1295280"/>
            <a:ext cx="449532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ors guarantee that the member variables are initialized when an object is decla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ors automatically execute when a class object is decla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of a constructor is the same as the name of the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ass can have more than one constructo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, Constructor Overload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nstructor without parameters is called the default constru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05520" y="6094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398" strike="noStrike" cap="all">
                <a:solidFill>
                  <a:srgbClr val="000000"/>
                </a:solidFill>
                <a:latin typeface="Arial"/>
              </a:rPr>
              <a:t>Destruc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495680" y="1371600"/>
            <a:ext cx="449532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tructor automatically execute when a class object goes out of sco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of a destructor is the tilde (~), followed by the class name (no spaces in betwee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ass can have only one destru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structor has no parame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1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BB0D26C-D27D-4B59-89C4-8EF4FED7444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Constructors &amp; De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ors and Destructor are function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ithout any 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As a result, they cannot be called like other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ba676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GB" sz="2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Note</a:t>
            </a:r>
            <a:r>
              <a:rPr b="0" lang="en-GB" sz="2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function can return a value of typ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9450C6A-8589-4A8D-B166-D9CBDA565E0B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3200040" cy="617184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adiu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Circl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etRadiu 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getRadius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area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b050"/>
                </a:solidFill>
                <a:latin typeface="Courier New"/>
              </a:rPr>
              <a:t>// constru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::Circle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adius=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8120" y="152280"/>
            <a:ext cx="3885840" cy="670536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::Circle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tRadius(r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b050"/>
                </a:solidFill>
                <a:latin typeface="Courier New"/>
              </a:rPr>
              <a:t>// destruc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::~Circle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cout&lt;&lt;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" ending object.."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::setRadius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i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 r &gt;=0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adius=r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el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adius=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::getRadius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adiu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::area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3.14*radius*radiu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E8C46-563D-4B90-9CF8-D718DCF37A8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title"/>
          </p:nvPr>
        </p:nvSpPr>
        <p:spPr>
          <a:xfrm>
            <a:off x="76320" y="763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 </a:t>
            </a:r>
            <a:r>
              <a:rPr b="0" lang="en-GB" sz="2800" spc="-1" strike="noStrike" cap="all">
                <a:solidFill>
                  <a:srgbClr val="000000"/>
                </a:solidFill>
                <a:latin typeface="Adobe Arabic"/>
              </a:rPr>
              <a:t>#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6705720" y="304920"/>
            <a:ext cx="2437920" cy="6400440"/>
          </a:xfrm>
          <a:prstGeom prst="rect">
            <a:avLst/>
          </a:prstGeom>
          <a:solidFill>
            <a:srgbClr val="ffffff"/>
          </a:solidFill>
          <a:ln>
            <a:solidFill>
              <a:srgbClr val="c2ad8d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 C1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"\n the area of the circle is: "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C1.area()&lt;&lt;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65760"/>
            <a:ext cx="838152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 cap="all">
                <a:solidFill>
                  <a:srgbClr val="000000"/>
                </a:solidFill>
                <a:latin typeface="Arial"/>
              </a:rPr>
              <a:t>Member Functions Defined Outside the Cla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Circle::setRadius(</a:t>
            </a:r>
            <a:r>
              <a:rPr b="0" lang="en-GB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name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Rad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, is preceded by the class name, Circle, and a new symbol the double colon ::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way of saying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le::setRad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means “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Rad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s a member function of the Circle class.” </a:t>
            </a:r>
            <a:r>
              <a:rPr b="0" lang="x-none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1E9620F-F8D9-48AC-BBF5-D2E2002EE181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Content Placeholder 4" descr="Screen shot 2014-02-22 at 12.00.08 PM.png"/>
          <p:cNvPicPr/>
          <p:nvPr/>
        </p:nvPicPr>
        <p:blipFill>
          <a:blip r:embed="rId1"/>
          <a:srcRect l="0" t="895" r="0" b="-11"/>
          <a:stretch/>
        </p:blipFill>
        <p:spPr>
          <a:xfrm>
            <a:off x="304920" y="534960"/>
            <a:ext cx="6400440" cy="636876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B35FA30-EBD6-450B-85EE-FBE1C138378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08840" y="1100520"/>
            <a:ext cx="75207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untr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_of_cities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ry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cout&lt;&lt;"\n Constructor called \n"; 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NumOfCities(int num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NumOfCities(void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country(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cout&lt;&lt;"\n Destructor called \n"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04314225-4DFA-4592-98DF-56DEDBB1BA2F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n. Example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48260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country::setNumOfCities(int nu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num_of_cities = num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ry::getNumOfCities(void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num_of_cities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ry Kuwai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um = 5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uwait.setNumOfCities(num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um = Kuwait.getNumOfCities(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&lt;&lt;"\n Number of cities is equal to "&lt;&lt;num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174051B-4654-4768-B08F-2736FE65FE72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449532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ook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ageCoun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urrentPag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k( int Numpages) ; // Construct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Book(){} 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Destruct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SetPage( int PageNumber)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GetCurrentPage( void )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k::Book( int NumPages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PageCount = NumPages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Book::SetPage( int PageNumber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CurrentPage=PageNumber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Book::GetCurrentPage( void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CurrentPage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E3CBEA3-81CB-4576-B641-CD95ADD61E8C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876920" y="228600"/>
            <a:ext cx="411444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k ABook(128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Book.SetPage( 56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“The current page is: “ &lt;&lt; ABook.GetCurrentPage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 cap="all">
                <a:solidFill>
                  <a:srgbClr val="000000"/>
                </a:solidFill>
                <a:latin typeface="Arial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 around you now and see many examples of real-world objects: your cat, your desk, your television set, your bi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eal-world objects share two characteristics: they all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ll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dogs have state (name, color, breed, hungry) and dogs have behavior (barking, fetching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431FD-790E-4248-AE03-D41043EEE9A1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 cap="all">
                <a:solidFill>
                  <a:srgbClr val="000000"/>
                </a:solidFill>
                <a:latin typeface="Arial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objects are modeled after real-world objects in that they, too, have state and behavi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ftware object maintains its stat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mplements its behavior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object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s data and operations on the data into a single un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337F9-8E69-40D8-8542-FFD74596895E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100520"/>
            <a:ext cx="8152920" cy="40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OD, the first step is to identify the components, called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obj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obje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s data and operations on the data into a single un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++, the mechanism that allow you to combine data and operations on the data into a single unit is called a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cla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 collection of fixed number of components. The components of a class are called the members of th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6E35E-FECE-4FA8-90CB-E3E272C0BB6B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4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787160" cy="36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 defini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MembersList consists of variables (attribute) and/or functions (method) declarations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0CF0A37F-A5E8-43C2-8A0A-5571FF489CE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371600" y="1676520"/>
            <a:ext cx="6021360" cy="1890000"/>
          </a:xfrm>
          <a:prstGeom prst="rect">
            <a:avLst/>
          </a:prstGeom>
          <a:solidFill>
            <a:srgbClr val="ffffff"/>
          </a:solidFill>
          <a:ln>
            <a:solidFill>
              <a:srgbClr val="797b7e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lass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Members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Content Placeholder 4" descr="Screen shot 2013-02-23 at 10.08.01 AM.png"/>
          <p:cNvPicPr/>
          <p:nvPr/>
        </p:nvPicPr>
        <p:blipFill>
          <a:blip r:embed="rId1"/>
          <a:stretch/>
        </p:blipFill>
        <p:spPr>
          <a:xfrm>
            <a:off x="609480" y="990720"/>
            <a:ext cx="7606800" cy="394920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6AF5972-F7E8-4B48-B114-DF0339E208DF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134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276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 of a class are classified into one of three categori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defaul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: not accessible outside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not accessible outside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ccessible outside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Not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800" spc="-1" strike="noStrike">
                <a:solidFill>
                  <a:srgbClr val="0070c0"/>
                </a:solidFill>
                <a:latin typeface="Arial"/>
              </a:rPr>
              <a:t>keywor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f category name is followed by </a:t>
            </a:r>
            <a:r>
              <a:rPr b="0" i="1" lang="en-GB" sz="1800" spc="-1" strike="noStrike">
                <a:solidFill>
                  <a:srgbClr val="0070c0"/>
                </a:solidFill>
                <a:latin typeface="Arial"/>
              </a:rPr>
              <a:t>colon (: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the data within a class is private and the functions are public. </a:t>
            </a:r>
            <a:r>
              <a:rPr b="1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definition of a class, you cannot initialize a variable when you declar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C++, a class is a definition. No memory is allocated for the class itself; memory is allocated for the class objects (class instances) when you declar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4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D09CF-A3A3-4B6A-A292-F2DB13C21FE8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320" y="533520"/>
            <a:ext cx="525744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er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ge;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string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tAg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rs) { age = yrs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tName 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string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) { name = N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etAge() {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return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ge; }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string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etName() {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return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; }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10080" y="152280"/>
            <a:ext cx="4062600" cy="38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n( 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erson studen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udent.setAge(20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udent.setName(“Nora”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”student\'s age is "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 student.getAg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" and Name "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 student.getName() &lt;&lt;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” \n“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ED4F8-176D-4A77-9BC2-841AAE933E0D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22860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Objec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 stud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700160" y="1097280"/>
            <a:ext cx="421488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ing Member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.setAge(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.setName(“Nora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C518CCB7-FAAA-4819-9014-9BE00F322A7A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B4F7D0C1-DF7A-4A61-99C7-23F929989FE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190EE202-CC4B-425D-B100-7819B50BD08F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63CC0F7D-5A6F-4AFC-8029-B41F904FE354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591</TotalTime>
  <Application>LibreOffice/7.4.7.2$Linux_X86_64 LibreOffice_project/40$Build-2</Application>
  <AppVersion>15.0000</AppVersion>
  <Words>822</Words>
  <Paragraphs>2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8:54:46Z</dcterms:created>
  <dc:creator>School</dc:creator>
  <dc:description/>
  <dc:language>en-US</dc:language>
  <cp:lastModifiedBy>Aseel</cp:lastModifiedBy>
  <dcterms:modified xsi:type="dcterms:W3CDTF">2014-03-01T16:08:25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6</vt:r8>
  </property>
  <property fmtid="{D5CDD505-2E9C-101B-9397-08002B2CF9AE}" pid="4" name="PresentationFormat">
    <vt:lpwstr>On-screen Show (4:3)</vt:lpwstr>
  </property>
  <property fmtid="{D5CDD505-2E9C-101B-9397-08002B2CF9AE}" pid="5" name="Slides">
    <vt:r8>17</vt:r8>
  </property>
</Properties>
</file>