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CBE3E8-8A7F-4171-AAC1-193ECE16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294-68F2-4DC8-923D-0B168E6C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E7B-B297-403C-BC6D-485BF07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24F-0A4E-4143-ABF7-BBB19DC8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4F3-3E1B-4659-A0A8-2B7F8DC8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16C4-6F7A-4111-8A7A-9ED1CC8A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CAC7-E52D-4894-8DFC-B1515DFD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A4D9-50EA-4021-BDFF-A8EBF8B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9140-AF3D-40BF-85A3-10769FD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E66-918F-4FF7-9312-739046B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D53A-DD45-4DEF-904F-9F7FA256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58FF-3CAD-4631-B69F-908DF60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55B-3F7E-4F86-AF0D-0D3E36DF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EB98-3961-4493-B17A-0C4F02C7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44D-13CB-4A21-82A3-4CD59E1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425C-6A28-4265-A957-9EF2A4B8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471C-3618-43E5-A889-C30D640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E59F-3196-4349-A3F3-CE6B18AD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588D-2F9F-4F5C-9620-5881D769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1C96-8ADF-42D8-9BCF-64071243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F226-AE1E-45FB-936E-9570A1E6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7B06-B707-445D-9A29-610FB06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A7ED-D6A0-4335-977D-25A269F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624-C0DB-4F2C-AB27-07911883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2133-50D6-49A7-852C-2722E1AF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E90B-10F4-43B0-AD08-A4A3658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BB0C-7FF6-4E73-ADCE-202860F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B275-E2AF-4F01-A782-15E82445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07AB-96D1-4C46-B20E-5EC4D95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0DD7-8214-4970-8C40-382DE646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6C85-A5BD-4484-9AC4-C2D58CC4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5911-A134-446A-A6EB-950D79E8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6DF2-5F8D-4B85-9BCB-164D3327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E118-76F4-4148-8F52-8D7D4949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A69-CD58-4642-A6B7-57964B9C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DEA1-9560-4D4D-AA82-2E6D49C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1206-85F5-4A82-AE99-0C6EF780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9E32-09E2-4BF1-BA7A-8BFB76A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BB46-AE7C-44D4-8224-38DB46B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92FA-FE50-4987-95E4-04872C7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9D80-650D-4E06-ABC5-33828B8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FBE6-22A3-4F10-9986-DABC85C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51C2-3C3C-48E4-9F90-0D573952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D217-BB37-4CD5-AE5C-70A845DE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0FB-131B-41C9-BDBF-AB3208B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C97-89BC-4B67-9B97-127C105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606-C0B3-4BDC-A982-6A16D67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0DD-25F8-4570-8F73-4AE11F6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4AB-8D2B-4377-8D12-5A9828D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3114E6-A439-4FBD-9163-F36C1F4A057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6D4279-1604-40A1-819F-C2FD3994FCA0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102C58-83D0-4823-BDEF-811929CDAD7A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81900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700160" y="1701720"/>
            <a:ext cx="32000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8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9941C6-6865-4B05-AEEA-A88F8A81A50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Lecture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D2B04EB-3A59-4878-853C-90415DCBDBF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480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onstructors Vs. De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398" strike="noStrike" cap="all">
                <a:solidFill>
                  <a:srgbClr val="000000"/>
                </a:solidFill>
                <a:latin typeface="Arial"/>
              </a:rPr>
              <a:t>Constru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0" y="1295280"/>
            <a:ext cx="449532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ors guarantee that the member variables are initialized when an object is decla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ors automatically execute when a class object is decla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of a constructor is the same as the name of the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ass can have more than one constructo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, Constructor Overload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nstructor without parameters is called the default constr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05520" y="609480"/>
            <a:ext cx="3200040" cy="54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2000" spc="398" strike="noStrike" cap="all">
                <a:solidFill>
                  <a:srgbClr val="000000"/>
                </a:solidFill>
                <a:latin typeface="Arial"/>
              </a:rPr>
              <a:t>Destruc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495680" y="1371600"/>
            <a:ext cx="449532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ructor automatically execute when a class object goes out of scop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of a destructor is the tilde (~), followed by the class name (no spaces in betwee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ass can have only one destru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structor has no parame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EE6F794-A4F7-445B-8A87-2F0E04385A7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800" spc="-1" strike="noStrike" cap="all">
                <a:solidFill>
                  <a:srgbClr val="000000"/>
                </a:solidFill>
                <a:latin typeface="Arial"/>
              </a:rPr>
              <a:t>Constructors &amp; De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ors and Destructor are function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ithout any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As a result, they cannot be called like other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ba676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GB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Note</a:t>
            </a:r>
            <a:r>
              <a:rPr b="0" lang="en-GB" sz="2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function can return a value of typ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DA4C0A9-6ECF-487C-B5AB-CDDF4BACB0B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3200040" cy="617184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Circl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etRadiu 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getRadius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area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b050"/>
                </a:solidFill>
                <a:latin typeface="Courier New"/>
              </a:rPr>
              <a:t>// constru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Circle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adius=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8120" y="152280"/>
            <a:ext cx="3885840" cy="670536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Circle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Radius(r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b050"/>
                </a:solidFill>
                <a:latin typeface="Courier New"/>
              </a:rPr>
              <a:t>// destruc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::~Circle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cout&lt;&lt;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" ending object.."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setRadius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i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 r &gt;=0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dius=r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el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dius=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getRadius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ircle::area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3.14*radius*radius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90062-D5CD-45AC-BD86-0D06BB6247E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76320" y="763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 </a:t>
            </a:r>
            <a:r>
              <a:rPr b="0" lang="en-GB" sz="2800" spc="-1" strike="noStrike" cap="all">
                <a:solidFill>
                  <a:srgbClr val="000000"/>
                </a:solidFill>
                <a:latin typeface="Adobe Arabic"/>
              </a:rPr>
              <a:t>#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6705720" y="304920"/>
            <a:ext cx="2437920" cy="6400440"/>
          </a:xfrm>
          <a:prstGeom prst="rect">
            <a:avLst/>
          </a:prstGeom>
          <a:solidFill>
            <a:srgbClr val="ffffff"/>
          </a:solidFill>
          <a:ln>
            <a:solidFill>
              <a:srgbClr val="c2ad8d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le C1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"\n the area of the circle is: "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C1.area()&lt;&lt;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838152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 cap="all">
                <a:solidFill>
                  <a:srgbClr val="000000"/>
                </a:solidFill>
                <a:latin typeface="Arial"/>
              </a:rPr>
              <a:t>Member Functions Defined Outside the Cla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Circle::setRadius(</a:t>
            </a:r>
            <a:r>
              <a:rPr b="0" lang="en-GB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nam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, is preceded by the class name, Circle, and a new symbol the double colon ::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way of saying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le::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means “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Rad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s a member function of the Circle class.” </a:t>
            </a:r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15B2D20-75BC-428D-82A1-3CD316D84EB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Content Placeholder 4" descr="Screen shot 2014-02-22 at 12.00.08 PM.png"/>
          <p:cNvPicPr/>
          <p:nvPr/>
        </p:nvPicPr>
        <p:blipFill>
          <a:blip r:embed="rId1"/>
          <a:srcRect l="0" t="895" r="0" b="-11"/>
          <a:stretch/>
        </p:blipFill>
        <p:spPr>
          <a:xfrm>
            <a:off x="304920" y="534960"/>
            <a:ext cx="6400440" cy="636876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F8ACF203-3071-4D1F-834A-F1F1F17C05B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08840" y="1100520"/>
            <a:ext cx="752076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untr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_of_cities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ry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cout&lt;&lt;"\n Constructor called \n"; }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NumOfCities(int num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NumOfCities(void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ountry(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cout&lt;&lt;"\n Destructor called \n"; 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EECB90F-4C94-456C-AF28-0476E765BDAA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n. Example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4826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country::setNumOfCities(int nu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num_of_cities = num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ountry::getNumOfCities(void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num_of_cities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ry Kuwai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um = 5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uwait.setNumOfCities(num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um = Kuwait.getNumOfCities(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&lt;&lt;"\n Number of cities is equal to "&lt;&lt;num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4FC2F95-3171-4D83-AE34-BC381531135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449532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ook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ageCoun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urrentPag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( int Numpages) ; // Construct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Book(){} 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Destruct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SetPage( int PageNumber)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GetCurrentPage( void )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::Book( int NumPages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PageCount = NumPages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Book::SetPage( int PageNumber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CurrentPage=PageNumber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Book::GetCurrentPage( void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CurrentPage; }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BDAADFD4-2892-4E78-AB09-31BE0E52800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876920" y="228600"/>
            <a:ext cx="411444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k ABook(128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Book.SetPage( 56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“The current page is: “ &lt;&lt; ABook.GetCurrentPage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 around you now and see many examples of real-world objects: your cat, your desk, your television set, your bi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al-world objects share two characteristics: they all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ll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dogs have state (name, color, breed, hungry) and dogs have behavior (barking, fetching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50093-872D-47AB-BD39-F5E8F4AF1711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objects are modeled after real-world objects in that they, too, have state and behavi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ftware object maintains its stat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mplements its behavior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object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s data and operations on the data into a single un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B81A4-4B8A-4933-AE36-ED5A0D3B8C20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8152920" cy="40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OD, the first step is to identify the components, called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obj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obje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s data and operations on the data into a single un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++, the mechanism that allow you to combine data and operations on the data into a single unit is called a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8f8f8d"/>
                </a:solidFill>
                <a:latin typeface="Arial"/>
              </a:rPr>
              <a:t>cla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collection of fixed number of components. The components of a class are called the members of th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2AF69-63B7-4162-BFB3-A0CB540A704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4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787160" cy="36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 defini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ssMembersList consists of variables (attribute) and/or functions (method) declarations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B10CF5EB-2EE8-49D9-B264-94610D52D784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371600" y="1676520"/>
            <a:ext cx="6021360" cy="1890000"/>
          </a:xfrm>
          <a:prstGeom prst="rect">
            <a:avLst/>
          </a:prstGeom>
          <a:solidFill>
            <a:srgbClr val="ffffff"/>
          </a:solidFill>
          <a:ln>
            <a:solidFill>
              <a:srgbClr val="797b7e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lass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Member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Content Placeholder 4" descr="Screen shot 2013-02-23 at 10.08.01 AM.png"/>
          <p:cNvPicPr/>
          <p:nvPr/>
        </p:nvPicPr>
        <p:blipFill>
          <a:blip r:embed="rId1"/>
          <a:stretch/>
        </p:blipFill>
        <p:spPr>
          <a:xfrm>
            <a:off x="609480" y="990720"/>
            <a:ext cx="7606800" cy="394920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0D66EB9-1025-41D2-B072-EB12CE34917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34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276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 of a class are classified into one of three categori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: not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not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ccessible outside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Not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800" spc="-1" strike="noStrike">
                <a:solidFill>
                  <a:srgbClr val="0070c0"/>
                </a:solidFill>
                <a:latin typeface="Arial"/>
              </a:rPr>
              <a:t>keywor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f category name is followed by </a:t>
            </a:r>
            <a:r>
              <a:rPr b="0" i="1" lang="en-GB" sz="1800" spc="-1" strike="noStrike">
                <a:solidFill>
                  <a:srgbClr val="0070c0"/>
                </a:solidFill>
                <a:latin typeface="Arial"/>
              </a:rPr>
              <a:t>colon (: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the data within a class is private and the functions are public. </a:t>
            </a: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definition of a class, you cannot initialize a variable when you declar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C++, a class is a definition. No memory is allocated for the class itself; memory is allocated for the class objects (class instances) when you declar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4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8FF5A-98D6-44FF-9D5A-42F9CF57E0F5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320" y="533520"/>
            <a:ext cx="5257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er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ge;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Age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rs) { age = yrs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void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tName (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) { name = N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etAge() 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ge; }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string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etName() {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; }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10080" y="152280"/>
            <a:ext cx="4062600" cy="385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n( )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erson studen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udent.setAge(20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udent.setName(“Nora”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”student\'s age is "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 student.getAge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" and Name "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lt;&lt; student.getName() &lt;&lt;</a:t>
            </a: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” \n“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BF655-DA5B-4F51-8761-A593D12C3F7D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228600" y="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Objec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 stud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700160" y="1097280"/>
            <a:ext cx="421488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Member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.setAge(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.setName(“Nor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9CF9182-F88B-40A3-93E5-DE3DF3291A6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B4F7D0C1-DF7A-4A61-99C7-23F929989FE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190EE202-CC4B-425D-B100-7819B50BD08F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63CC0F7D-5A6F-4AFC-8029-B41F904FE354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591</TotalTime>
  <Application>LibreOffice/7.4.7.2$Linux_X86_64 LibreOffice_project/40$Build-2</Application>
  <AppVersion>15.0000</AppVersion>
  <Words>822</Words>
  <Paragraphs>2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54:46Z</dcterms:created>
  <dc:creator>School</dc:creator>
  <dc:description/>
  <dc:language>en-US</dc:language>
  <cp:lastModifiedBy>Aseel</cp:lastModifiedBy>
  <dcterms:modified xsi:type="dcterms:W3CDTF">2014-03-01T16:08:25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6</vt:r8>
  </property>
  <property fmtid="{D5CDD505-2E9C-101B-9397-08002B2CF9AE}" pid="4" name="PresentationFormat">
    <vt:lpwstr>On-screen Show (4:3)</vt:lpwstr>
  </property>
  <property fmtid="{D5CDD505-2E9C-101B-9397-08002B2CF9AE}" pid="5" name="Slides">
    <vt:r8>17</vt:r8>
  </property>
</Properties>
</file>