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6ECA4E-D3CD-4588-A31B-408094590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90BD90-48CE-4313-A9E0-FD92C37789D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AC5-38D7-4E93-AB42-249C35F5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B4C-5AF5-40F7-9038-010B53AB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744-CCB3-432C-B6B1-48FFDC9E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190512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298728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750-8322-466A-80FA-3837D24D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0821-E4D9-41AC-8674-F451C184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F4E7-A9ED-4AD6-8793-61FB3030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6DAD-3B23-4433-9F3C-2D577F63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B2ED-CB09-4F4A-A6E7-33961B99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12D6-130D-4A9F-89D2-3AC071F9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70C6-F234-4E9C-ADA1-8954BDEB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2556-452C-4743-A699-C8056F08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9A7-1EAE-40AA-9D24-CB24BB3C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B430-F6FB-463B-AEBA-D0E6AFE0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E9E5-1171-4B48-B0EA-10E51E21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6929-8EE4-45EE-AA89-E9F4EA3B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3FBA-A9CA-47D6-8491-2B4F6279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190512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298728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63AE-F508-4E68-BC30-AF6B9094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94A38-D99A-467A-B750-A823D6C6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2AE7D-00D0-4668-BBF7-CA593DEB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3C871-0816-46DD-9AC3-FA30570E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E7F7E-E746-4E95-A6EB-F785B589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E28E6-3E14-4F0C-93D6-EFBCD8D3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E58-705E-4BB4-9EB1-1FE043F4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9D283-A3B6-4635-AFD3-1C129B70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FCF9E-9FFE-4E9F-8FA7-13AE8F92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6DBC2-D6F9-4F03-86C4-CC80D5B9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2E0E2-50FE-4055-8F13-C84524BB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B500B-E42E-4723-BCD0-5ED9F537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3DB89-837E-458C-ABBA-62AB8B9C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296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190512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298728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2F328-DAD9-40B8-B164-1EFB5C78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7F3-5161-4304-99A0-301882BF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47B-4FC2-45DF-A2DA-1B3370B5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F59-3EB2-465B-AFF2-598A62A1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B5F-758F-4776-BEAA-CE676270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016C-7A54-4F8D-B5AA-CA1F581B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3531-C689-46A2-8C9C-9B1EC7C5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FEEB8D2-4D54-4C4C-B8B1-5A2A1C2D7879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70CDEE4-4B9E-4CDA-87CB-21FC9DF66D19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EC13094-D6F9-46AE-A4EC-BA4F55986545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Inheritance in 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 rot="19140000">
            <a:off x="1212120" y="2471040"/>
            <a:ext cx="6510600" cy="3290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398" strike="noStrike" cap="all">
                <a:solidFill>
                  <a:srgbClr val="000000"/>
                </a:solidFill>
                <a:latin typeface="Arial"/>
              </a:rPr>
              <a:t>CSC1201: Programming Languag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BA9B6F38-69EF-4BDC-8671-AFFEECB551E8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2960" y="15228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ublic, protected, and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2960" y="83808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class member is declared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accessed by any other part of a prog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accesses only by members of its cla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, derived classes do not have access to private base class memb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ed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accessed only by members of its cla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derived classes also have access to protected base class memb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a member to be inherited, but to remain private within a class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7CB71EA5-5A58-4BC9-A776-4B20A80F04F0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Public, protected, and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2960" y="91440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a base class is inherited by use 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,  (defa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ublic members become public members of the derived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rotected members become protected members of the derived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ed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ublic and protected members become protected members of the derived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ublic and protected members become private members of the derived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all cases, private members of a base class remain private to that base cla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A436994F-B406-479B-A76A-5EBAAD03F80B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Inheritance and Accessi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Content Placeholder 3"/>
          <p:cNvGraphicFramePr/>
          <p:nvPr/>
        </p:nvGraphicFramePr>
        <p:xfrm>
          <a:off x="1447920" y="1523880"/>
          <a:ext cx="5999040" cy="2228040"/>
        </p:xfrm>
        <a:graphic>
          <a:graphicData uri="http://schemas.openxmlformats.org/drawingml/2006/table">
            <a:tbl>
              <a:tblPr/>
              <a:tblGrid>
                <a:gridCol w="1499760"/>
                <a:gridCol w="1499760"/>
                <a:gridCol w="1499760"/>
                <a:gridCol w="149976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Identifi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ible from own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ible from Derived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ible from Objects outside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6d6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6d6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6d6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6d6d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cec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6d6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6d6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6d6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6d6d7"/>
                    </a:solidFill>
                  </a:tcPr>
                </a:tc>
              </a:tr>
            </a:tbl>
          </a:graphicData>
        </a:graphic>
      </p:graphicFrame>
      <p:sp>
        <p:nvSpPr>
          <p:cNvPr id="177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C0040099-F319-4FDA-9AE5-107C712541C6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  <a:ea typeface="Times New Roman"/>
              </a:rPr>
              <a:t>Inheritance and Acces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0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class inherits the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havi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f another class and enhances it in some 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heritance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does no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an inheriting access to another clas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private membe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3504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mespace std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ba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 privdataA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tected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 protdataA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 pubdataA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038480" y="914400"/>
            <a:ext cx="48924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B: public A //publicly derived cl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unct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 a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=privdataA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error: not access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=protdataA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O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=pubdataA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O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753C02E2-A24B-4092-A151-21A02A277348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3000"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Public and Private Inherit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097280"/>
            <a:ext cx="36572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lass C :private A //privately derived clas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funct(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;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=privdataA; //not accessibl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=protdataA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/OK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=pubdataA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/OK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3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267080" y="762120"/>
            <a:ext cx="5181120" cy="51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a;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objB;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objB.privdataA; //not accessibl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objB.protdataA; //not accessibl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objB.pubdataA; //OK (A public to B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objC;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=objC.privdataA;  //not accessibl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=objC.protdataA; //not accessibl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=objC.pubdataA;  //not accessible (A private to C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95BC0F3A-CE88-48E2-8204-0ECFA8C4BDE8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3000"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Public and Private Inherit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3000"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Public and Private Inherit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un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derived classes can access protected and public data in the base cl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bje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derived classes cannot access private or protected members of the base cl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fference between publicly derived and privately derived class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bje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ublicly derived class B can access public members of the base class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bje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rivately derived class C cannot; they can only access the public members of their own derived class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6600FAB2-E910-43A3-9A41-6381EB6BEE97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3000"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Public and Private Inherit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992160"/>
            <a:ext cx="7791120" cy="39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base class is inherited by using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ess specifier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l public and protec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of the base class becom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bers of the derived cla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access specifier for a base class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l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bers of the base becom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bers of the derived class, and al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tec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of the base becom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t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bers of the derived cla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access specifier for a base class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t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l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blic and protected memb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base class becom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t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bers of the derived cla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4F486D9D-DD1D-4FFB-94DD-93CF03B182E8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4038120" cy="4190760"/>
          </a:xfrm>
          <a:prstGeom prst="rect">
            <a:avLst/>
          </a:prstGeom>
          <a:solidFill>
            <a:schemeClr val="lt1"/>
          </a:solidFill>
          <a:ln w="25560">
            <a:solidFill>
              <a:srgbClr val="797b7e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Courier New"/>
              </a:rPr>
              <a:t>&lt;iostrea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std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base // base cla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, j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(int a, int b) { i=a; j=b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(){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&lt;&lt; i &lt;&lt; “ “ &lt;&lt; j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0" y="914400"/>
            <a:ext cx="4331520" cy="5758920"/>
          </a:xfrm>
          <a:prstGeom prst="rect">
            <a:avLst/>
          </a:prstGeom>
          <a:solidFill>
            <a:schemeClr val="lt1"/>
          </a:solidFill>
          <a:ln w="25560">
            <a:solidFill>
              <a:srgbClr val="08a1d9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drived: public base // drivedcla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int k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rived( int x) {k =x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K(){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&lt;&lt;k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main()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rived ob(3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et(1,2); // access member of b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how(); // access member of b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howK(); // access member of drived cla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BF2F4-AE18-439F-920A-2C73187698D3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title"/>
          </p:nvPr>
        </p:nvSpPr>
        <p:spPr>
          <a:xfrm>
            <a:off x="685800" y="15228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400" spc="-1" strike="noStrike" cap="all">
                <a:solidFill>
                  <a:srgbClr val="000000"/>
                </a:solidFill>
                <a:latin typeface="Arial"/>
              </a:rPr>
              <a:t>Example:base class inherited as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3733560" cy="4190760"/>
          </a:xfrm>
          <a:prstGeom prst="rect">
            <a:avLst/>
          </a:prstGeom>
          <a:solidFill>
            <a:schemeClr val="lt1"/>
          </a:solidFill>
          <a:ln w="25560">
            <a:solidFill>
              <a:srgbClr val="797b7e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Courier New"/>
              </a:rPr>
              <a:t>&lt;iostrea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std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base // base cla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, j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(int a, int b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i=a; j=b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(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cout&lt;&lt; i &lt;&lt; “ “ &lt;&lt; j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19720" y="914400"/>
            <a:ext cx="4495320" cy="5758920"/>
          </a:xfrm>
          <a:prstGeom prst="rect">
            <a:avLst/>
          </a:prstGeom>
          <a:solidFill>
            <a:schemeClr val="lt1"/>
          </a:solidFill>
          <a:ln w="25560">
            <a:solidFill>
              <a:srgbClr val="08a1d9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drived: private base //drivedcla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k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rived( int x) {k =x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howK(){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&lt;&lt;k &lt;&lt; “</a:t>
            </a:r>
            <a:r>
              <a:rPr b="0" lang="x-none" sz="1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”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main()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rived ob(3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et(1,2); // Error, can’t access set(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how(); // Error, , can’t access show(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7E175-3C44-4313-B940-7D0EBE2C1049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title"/>
          </p:nvPr>
        </p:nvSpPr>
        <p:spPr>
          <a:xfrm>
            <a:off x="457200" y="228600"/>
            <a:ext cx="84578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Example:base class inherited as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Inheritance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eritance is Hierarch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 of Inheri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ass Inheritance Defi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, Protected and Priva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heritance and Accessi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and Private Inheri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ors, Destructors, and Inheri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Rules for Building a Class Hierarch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Over-written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A401E52B-C802-4F73-BBF3-F6423BC42AA6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76320" y="685800"/>
            <a:ext cx="3885840" cy="6095520"/>
          </a:xfrm>
          <a:prstGeom prst="rect">
            <a:avLst/>
          </a:prstGeom>
          <a:solidFill>
            <a:schemeClr val="lt1"/>
          </a:solidFill>
          <a:ln w="25560">
            <a:solidFill>
              <a:srgbClr val="797b7e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Courier New"/>
              </a:rPr>
              <a:t>&lt;iostrea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std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base // base cla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otected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j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k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i(int a) { i=a; 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geti() { return i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9880" y="685800"/>
            <a:ext cx="5333760" cy="5987520"/>
          </a:xfrm>
          <a:prstGeom prst="rect">
            <a:avLst/>
          </a:prstGeom>
          <a:solidFill>
            <a:schemeClr val="lt1"/>
          </a:solidFill>
          <a:ln w="25560">
            <a:solidFill>
              <a:srgbClr val="08a1d9"/>
            </a:solidFill>
            <a:round/>
          </a:ln>
        </p:spPr>
        <p:txBody>
          <a:bodyPr anchor="t">
            <a:normAutofit fontScale="93000"/>
          </a:bodyPr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inherit base as protect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derived: protected b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j(int a) { j = a ; } // j is a protecte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setK(int a){ k = a;} //k is also protecte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getj() { return j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getk() { return k;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main()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rived ob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eti(10); // illeg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&lt;&lt; ob.geti(); //illeg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k = 10;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illeg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etk(10);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&lt;&lt; ob.getk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b.setj(12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ut &lt;&lt; ob.getj();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DAEE0-C57F-4DB1-9F4D-F9E2BC8A386B}" type="slidenum">
              <a:rPr b="0" lang="en-GB" sz="165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title"/>
          </p:nvPr>
        </p:nvSpPr>
        <p:spPr>
          <a:xfrm>
            <a:off x="304920" y="-76320"/>
            <a:ext cx="86864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400" spc="-1" strike="noStrike" cap="all">
                <a:solidFill>
                  <a:srgbClr val="000000"/>
                </a:solidFill>
                <a:latin typeface="Arial"/>
              </a:rPr>
              <a:t>Example:base class inherited as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What is Inheritance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9143640" cy="51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chanism by which one class gets  the properties of another cl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heritance is a meaningful way to relate two or more cla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itance implement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-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ionship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 – a do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-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D8690756-B767-49FD-B8F1-3342BC2FE307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heritance lets us create new classes from existing class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1125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ew classes that we create from the existing classes are called the derived classes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s also referred to a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1125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isting classes are called the base classe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lso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 algn="just">
              <a:lnSpc>
                <a:spcPct val="100000"/>
              </a:lnSpc>
              <a:spcBef>
                <a:spcPts val="1125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he derived classes inherit the properties of the base cla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derived class, in turn, becomes a base class for a future derived cl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erived class can redefine the member functions of a base class, but this redefinition applies only to the objects of the derived cl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040DAB6B-A7FA-4B9A-8299-7DA0FAC606F7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Inheritance is Hierarch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Content Placeholder 4" descr="vehicle.gif"/>
          <p:cNvPicPr/>
          <p:nvPr/>
        </p:nvPicPr>
        <p:blipFill>
          <a:blip r:embed="rId1"/>
          <a:stretch/>
        </p:blipFill>
        <p:spPr>
          <a:xfrm>
            <a:off x="914400" y="1371600"/>
            <a:ext cx="6933960" cy="341604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1BE9398B-08DF-464A-AB6A-CE847F070963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Hierarchical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0064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ance is hierarchica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rived class can act as a base class to a lower-level derived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gher the class in the hierarchy, the mor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n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ormation it co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wer the class in the hierarchy, the mor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pecif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ormation it co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ributes in a derived clas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verwr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same ones in a base cl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2A8F8CDC-A193-49F0-871C-3724850731C3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  <a:ea typeface="MS Mincho"/>
              </a:rPr>
              <a:t>Advantage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When a class inherits from another class, there are three benefi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(1) You can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MS Mincho"/>
              </a:rPr>
              <a:t>re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the methods and data of the existing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(2) You can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MS Mincho"/>
              </a:rPr>
              <a:t>ext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the existing class by adding new data and new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(3) You can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MS Mincho"/>
              </a:rPr>
              <a:t>modif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 the existing class by overloading its methods with your own implementa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Class Inheritance 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91920" y="2104560"/>
            <a:ext cx="5512320" cy="1656000"/>
          </a:xfrm>
          <a:prstGeom prst="rect">
            <a:avLst/>
          </a:prstGeom>
          <a:solidFill>
            <a:schemeClr val="lt1"/>
          </a:solidFill>
          <a:ln w="25560">
            <a:solidFill>
              <a:srgbClr val="797b7e"/>
            </a:solidFill>
            <a:round/>
          </a:ln>
        </p:spPr>
        <p:txBody>
          <a:bodyPr anchor="t">
            <a:normAutofit fontScale="95000"/>
          </a:bodyPr>
          <a:p>
            <a:pPr marL="842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clas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ClassId:  accessId BClassI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42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ClassMembersLi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42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744B3B0D-1337-4871-A42D-354C8D02BB23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102240" y="4191120"/>
            <a:ext cx="91735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ssI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fine how can the derived class access the Base class member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identifier can be either public, protected  and priv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0"/>
          <p:cNvSpPr/>
          <p:nvPr/>
        </p:nvSpPr>
        <p:spPr>
          <a:xfrm rot="3134400">
            <a:off x="2230200" y="1664640"/>
            <a:ext cx="609120" cy="4392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20000">
                <a:srgbClr val="74777b"/>
              </a:gs>
              <a:gs pos="100000">
                <a:srgbClr val="595b5f"/>
              </a:gs>
            </a:gsLst>
            <a:lin ang="2262000"/>
          </a:gradFill>
          <a:ln>
            <a:solidFill>
              <a:srgbClr val="76787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1371600" y="1283760"/>
            <a:ext cx="1391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ight Arrow 12"/>
          <p:cNvSpPr/>
          <p:nvPr/>
        </p:nvSpPr>
        <p:spPr>
          <a:xfrm rot="6647400">
            <a:off x="5041080" y="1615320"/>
            <a:ext cx="609120" cy="4392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20000">
                <a:srgbClr val="74777b"/>
              </a:gs>
              <a:gs pos="100000">
                <a:srgbClr val="595b5f"/>
              </a:gs>
            </a:gsLst>
            <a:lin ang="20352000"/>
          </a:gradFill>
          <a:ln>
            <a:solidFill>
              <a:srgbClr val="76787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5430600" y="1219320"/>
            <a:ext cx="1521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Class Inheritance 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B 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s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a single colon (not the double colon used for the scope resolution operator) followed by the keyword public and the name of the base class ClassA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line says that ClassB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ri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A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2F7C6C5A-1A5F-4BDB-8CE3-C0A47B6EECC2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643</TotalTime>
  <Application>LibreOffice/7.4.7.2$Linux_X86_64 LibreOffice_project/40$Build-2</Application>
  <AppVersion>15.0000</AppVersion>
  <Words>938</Words>
  <Paragraphs>26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8:26:47Z</dcterms:created>
  <dc:creator>Mac</dc:creator>
  <dc:description/>
  <dc:language>en-US</dc:language>
  <cp:lastModifiedBy>Aseel</cp:lastModifiedBy>
  <dcterms:modified xsi:type="dcterms:W3CDTF">2014-03-04T05:29:40Z</dcterms:modified>
  <cp:revision>143</cp:revision>
  <dc:subject/>
  <dc:title>Inherit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20</vt:r8>
  </property>
</Properties>
</file>