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F853FD-4AF7-4AB6-82B8-583F24C97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3603FD-5F53-4BE0-AB8F-45E67C8437B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108-7A9F-4B8A-A310-0C642E55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DC5-8BF6-4072-B3A7-30ADA0BD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55EB-3BE7-4B66-985F-03D6ABF2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190512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298728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9ED9-7427-4C06-AE0E-1B9A976C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43EB-5410-444A-AA9A-9A5ABFF8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718F-7006-49EC-9A68-D5562EF3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10B7-E214-4091-A0BB-E6EABBE5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0DEF-96FC-495B-9AAA-F892B8B7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529D-D051-4C92-9B3D-263A5B31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148C-12CC-4ACB-8559-D401ED6F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7333-6122-4C8B-8D57-A3AAF6DC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109B-8DE1-44AB-AE66-EB8262F6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5332-413A-497D-8964-6C2AC6C1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224F-2890-4D9F-8F86-29F76891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7486-62FC-4322-AA01-3984764C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2914-865B-40CE-8F85-D220C347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190512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298728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E27D-A458-4736-9F72-6FA7073E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99B94-F8C0-4F25-A382-B9073483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A0291-B4AF-4A48-A2C0-F6CDA677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9CCF0-FE48-4419-8C4C-C3859946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87F65-5291-4A02-821D-ECC2F07F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86DA0-598D-4B26-95B7-A722704D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ED4E-D358-46B2-BBFA-733F6E6D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DCCF6-7EC2-4467-B16F-50464D64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E7762-061A-438D-9AFB-7DAB56D0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90173-87CB-4B10-8266-1D24C6FF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1DE68-E9FA-4945-AECC-986DCFA0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0E3DE-7D07-471A-B078-DFCA7F91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6765A-3EB2-4F07-9E67-503D6BD5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296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190512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298728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2E46F-D3C5-44C4-B462-D76AA851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2AA4-45DF-4E7B-8521-DB5D1339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9A0-7718-4FB5-A873-066A3894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11D8-15D2-4E7C-BAD2-BC020B5C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5F9-BA52-4584-BE29-45B17B74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1BAE-A387-4EEE-99EE-82FC4613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E143-F6DD-4A1F-9CAC-FCF47C7E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BF8CBE1-1486-44AA-BFFA-FC0EE6BB6A8F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9B6C3A7-9DD9-4596-A110-25384FC7A88E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A2CB9B0-E464-4137-9F63-278452C0E1A5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Inheritance in 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 rot="19140000">
            <a:off x="1212120" y="2471040"/>
            <a:ext cx="6510600" cy="3290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398" strike="noStrike" cap="all">
                <a:solidFill>
                  <a:srgbClr val="000000"/>
                </a:solidFill>
                <a:latin typeface="Arial"/>
              </a:rPr>
              <a:t>CSC1201: Programming Languag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F2C325CE-5A44-45AD-ACE5-669880A539E5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2960" y="15228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ublic, protected, and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2960" y="83808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class member is declared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accessed by any other part of a prog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accesses only by members of its cla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, derived classes do not have access to private base class memb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ed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accessed only by members of its cla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derived classes also have access to protected base class memb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a member to be inherited, but to remain private within a class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355BAA2E-0D8F-445F-8254-39C2FD6DD2F4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Public, protected, and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2960" y="91440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a base class is inherited by use 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,  (defa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ublic members become public members of the derived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rotected members become protected members of the derived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ed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ublic and protected members become protected members of the derived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ublic and protected members become private members of the derived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all cases, private members of a base class remain private to that base cla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13015BE6-E103-4308-A69E-CB7E272539AC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Inheritance and Accessi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Content Placeholder 3"/>
          <p:cNvGraphicFramePr/>
          <p:nvPr/>
        </p:nvGraphicFramePr>
        <p:xfrm>
          <a:off x="1447920" y="1523880"/>
          <a:ext cx="5999040" cy="2228040"/>
        </p:xfrm>
        <a:graphic>
          <a:graphicData uri="http://schemas.openxmlformats.org/drawingml/2006/table">
            <a:tbl>
              <a:tblPr/>
              <a:tblGrid>
                <a:gridCol w="1499760"/>
                <a:gridCol w="1499760"/>
                <a:gridCol w="1499760"/>
                <a:gridCol w="149976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Identifi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ible from own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ible from Derived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ible from Objects outside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6d6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6d6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6d6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6d6d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cec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6d6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6d6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6d6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6d6d7"/>
                    </a:solidFill>
                  </a:tcPr>
                </a:tc>
              </a:tr>
            </a:tbl>
          </a:graphicData>
        </a:graphic>
      </p:graphicFrame>
      <p:sp>
        <p:nvSpPr>
          <p:cNvPr id="177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FAAB15AA-0FC3-45A4-B023-7938134D2409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  <a:ea typeface="Times New Roman"/>
              </a:rPr>
              <a:t>Inheritance and Acces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0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class inherits the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havi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f another class and enhances it in some 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heritance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does no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an inheriting access to another clas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private membe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3504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mespace std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ba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 privdataA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tected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 protdataA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 pubdataA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038480" y="914400"/>
            <a:ext cx="48924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B: public A //publicly derived cl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unct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 a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=privdataA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error: not access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=protdataA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O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=pubdataA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O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7FBA7F79-67B7-43F1-8E0F-CB7BAE153477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3000"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Public and Private Inherit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097280"/>
            <a:ext cx="36572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lass C :private A //privately derived clas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funct(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;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=privdataA; //not accessibl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=protdataA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/OK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=pubdataA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/OK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267080" y="762120"/>
            <a:ext cx="5181120" cy="51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a;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objB;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objB.privdataA; //not accessibl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objB.protdataA; //not accessibl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objB.pubdataA; //OK (A public to B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objC;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=objC.privdataA;  //not accessibl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=objC.protdataA; //not accessibl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=objC.pubdataA;  //not accessible (A private to C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01A2963F-6252-4358-B1B7-60EB61231E1F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3000"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Public and Private Inherit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3000"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Public and Private Inherit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un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derived classes can access protected and public data in the base cl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bje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derived classes cannot access private or protected members of the base cl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fference between publicly derived and privately derived class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bje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ublicly derived class B can access public members of the base class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bje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rivately derived class C cannot; they can only access the public members of their own derived class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EC7AA1AB-756F-4E2C-9AE2-B17C8CADD33A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3000"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Public and Private Inherit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992160"/>
            <a:ext cx="7791120" cy="39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base class is inherited by using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ess specifier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l public and protec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of the base class becom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bers of the derived cla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access specifier for a base class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l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bers of the base becom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bers of the derived class, and al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tec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of the base becom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t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bers of the derived cla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access specifier for a base class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t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l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blic and protected memb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base class becom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t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bers of the derived cla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211A9C07-CD61-43CA-9B8D-9B5BD6BA9762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4038120" cy="4190760"/>
          </a:xfrm>
          <a:prstGeom prst="rect">
            <a:avLst/>
          </a:prstGeom>
          <a:solidFill>
            <a:schemeClr val="lt1"/>
          </a:solidFill>
          <a:ln w="25560">
            <a:solidFill>
              <a:srgbClr val="797b7e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Courier New"/>
              </a:rPr>
              <a:t>&lt;iostrea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std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base // base cla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, j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(int a, int b) { i=a; j=b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(){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&lt;&lt; i &lt;&lt; “ “ &lt;&lt; j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0" y="914400"/>
            <a:ext cx="4331520" cy="5758920"/>
          </a:xfrm>
          <a:prstGeom prst="rect">
            <a:avLst/>
          </a:prstGeom>
          <a:solidFill>
            <a:schemeClr val="lt1"/>
          </a:solidFill>
          <a:ln w="25560">
            <a:solidFill>
              <a:srgbClr val="08a1d9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drived: public base // drivedcla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int k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rived( int x) {k =x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K(){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&lt;&lt;k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main()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rived ob(3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et(1,2); // access member of b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how(); // access member of b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howK(); // access member of drived cla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5D20F-0A7F-4F01-A8A7-A37645833ECE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title"/>
          </p:nvPr>
        </p:nvSpPr>
        <p:spPr>
          <a:xfrm>
            <a:off x="685800" y="15228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400" spc="-1" strike="noStrike" cap="all">
                <a:solidFill>
                  <a:srgbClr val="000000"/>
                </a:solidFill>
                <a:latin typeface="Arial"/>
              </a:rPr>
              <a:t>Example:base class inherited as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3733560" cy="4190760"/>
          </a:xfrm>
          <a:prstGeom prst="rect">
            <a:avLst/>
          </a:prstGeom>
          <a:solidFill>
            <a:schemeClr val="lt1"/>
          </a:solidFill>
          <a:ln w="25560">
            <a:solidFill>
              <a:srgbClr val="797b7e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Courier New"/>
              </a:rPr>
              <a:t>&lt;iostrea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std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base // base cla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, j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(int a, int b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i=a; j=b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(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cout&lt;&lt; i &lt;&lt; “ “ &lt;&lt; j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19720" y="914400"/>
            <a:ext cx="4495320" cy="5758920"/>
          </a:xfrm>
          <a:prstGeom prst="rect">
            <a:avLst/>
          </a:prstGeom>
          <a:solidFill>
            <a:schemeClr val="lt1"/>
          </a:solidFill>
          <a:ln w="25560">
            <a:solidFill>
              <a:srgbClr val="08a1d9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drived: private base //drivedcla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k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rived( int x) {k =x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K(){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&lt;&lt;k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main()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rived ob(3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et(1,2); // Error, can’t access set(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how(); // Error, , can’t access show(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F5322-2584-4B74-9154-96FBE0A8CB2D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title"/>
          </p:nvPr>
        </p:nvSpPr>
        <p:spPr>
          <a:xfrm>
            <a:off x="457200" y="228600"/>
            <a:ext cx="84578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Example:base class inherited as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Inheritance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eritance is Hierarch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 of Inheri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ass Inheritance Defi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, Protected and Priva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heritance and Accessi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and Private Inheri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ors, Destructors, and Inheri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Rules for Building a Class Hierarch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Over-written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4A73A80B-718A-4238-8C7A-B0A45347E213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76320" y="685800"/>
            <a:ext cx="3885840" cy="6095520"/>
          </a:xfrm>
          <a:prstGeom prst="rect">
            <a:avLst/>
          </a:prstGeom>
          <a:solidFill>
            <a:schemeClr val="lt1"/>
          </a:solidFill>
          <a:ln w="25560">
            <a:solidFill>
              <a:srgbClr val="797b7e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Courier New"/>
              </a:rPr>
              <a:t>&lt;iostrea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std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base // base cla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otected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j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k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i(int a) { i=a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geti() { return i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9880" y="685800"/>
            <a:ext cx="5333760" cy="5987520"/>
          </a:xfrm>
          <a:prstGeom prst="rect">
            <a:avLst/>
          </a:prstGeom>
          <a:solidFill>
            <a:schemeClr val="lt1"/>
          </a:solidFill>
          <a:ln w="25560">
            <a:solidFill>
              <a:srgbClr val="08a1d9"/>
            </a:solidFill>
            <a:round/>
          </a:ln>
        </p:spPr>
        <p:txBody>
          <a:bodyPr anchor="t">
            <a:normAutofit fontScale="93000"/>
          </a:bodyPr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inherit base as protect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derived: protected b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j(int a) { j = a ; } // j is a protecte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K(int a){ k = a;} //k is also protecte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getj() { return j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getk() { return k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main()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rived ob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eti(10); // illeg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&lt;&lt; ob.geti(); //illeg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k = 10;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illeg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etk(10);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&lt;&lt; ob.getk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etj(12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 &lt;&lt; ob.getj();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66049-50A8-4351-BEEE-BD0DEE6FA5A2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title"/>
          </p:nvPr>
        </p:nvSpPr>
        <p:spPr>
          <a:xfrm>
            <a:off x="304920" y="-76320"/>
            <a:ext cx="86864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400" spc="-1" strike="noStrike" cap="all">
                <a:solidFill>
                  <a:srgbClr val="000000"/>
                </a:solidFill>
                <a:latin typeface="Arial"/>
              </a:rPr>
              <a:t>Example:base class inherited as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What is Inheritance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9143640" cy="51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chanism by which one class gets  the properties of another cl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heritance is a meaningful way to relate two or more cla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itance implement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-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ionship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 – a do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-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E9684C22-474D-441A-85EC-EA2B64C0722B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heritance lets us create new classes from existing class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1125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ew classes that we create from the existing classes are called the derived classes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s also referred to a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1125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isting classes are called the base classe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lso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1125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he derived classes inherit the properties of the base cla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derived class, in turn, becomes a base class for a future derived cl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erived class can redefine the member functions of a base class, but this redefinition applies only to the objects of the derived cl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C6544C09-1423-4212-8072-1C88A4BDA4FD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Inheritance is Hierarch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Content Placeholder 4" descr="vehicle.gif"/>
          <p:cNvPicPr/>
          <p:nvPr/>
        </p:nvPicPr>
        <p:blipFill>
          <a:blip r:embed="rId1"/>
          <a:stretch/>
        </p:blipFill>
        <p:spPr>
          <a:xfrm>
            <a:off x="914400" y="1371600"/>
            <a:ext cx="6933960" cy="341604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6DD2A06E-A882-4A63-BF11-56BDBAB05602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Hierarchical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0064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ance is hierarchica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rived class can act as a base class to a lower-level derived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gher the class in the hierarchy, the mor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n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ormation it co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wer the class in the hierarchy, the mor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pecif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ormation it co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ributes in a derived clas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verwr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same ones in a base cl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3226BF91-1DAD-4435-829C-302B27FD0BB3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  <a:ea typeface="MS Mincho"/>
              </a:rPr>
              <a:t>Advantage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When a class inherits from another class, there are three benefi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(1) You can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MS Mincho"/>
              </a:rPr>
              <a:t>re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the methods and data of the existing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(2) You can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MS Mincho"/>
              </a:rPr>
              <a:t>ext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the existing class by adding new data and new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(3) You can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MS Mincho"/>
              </a:rPr>
              <a:t>modif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the existing class by overloading its methods with your own implementa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Class Inheritance 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91920" y="2104560"/>
            <a:ext cx="5512320" cy="1656000"/>
          </a:xfrm>
          <a:prstGeom prst="rect">
            <a:avLst/>
          </a:prstGeom>
          <a:solidFill>
            <a:schemeClr val="lt1"/>
          </a:solidFill>
          <a:ln w="25560">
            <a:solidFill>
              <a:srgbClr val="797b7e"/>
            </a:solidFill>
            <a:round/>
          </a:ln>
        </p:spPr>
        <p:txBody>
          <a:bodyPr anchor="t">
            <a:normAutofit fontScale="95000"/>
          </a:bodyPr>
          <a:p>
            <a:pPr marL="842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clas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ClassId:  accessId BClassI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42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ClassMembersLi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42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8E57AD30-FDA7-4748-8CDC-1BCBF8A94A84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102240" y="4191120"/>
            <a:ext cx="91735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ssI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fine how can the derived class access the Base class member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identifier can be either public, protected  and priv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0"/>
          <p:cNvSpPr/>
          <p:nvPr/>
        </p:nvSpPr>
        <p:spPr>
          <a:xfrm rot="3134400">
            <a:off x="2230200" y="1664640"/>
            <a:ext cx="609120" cy="4392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20000">
                <a:srgbClr val="74777b"/>
              </a:gs>
              <a:gs pos="100000">
                <a:srgbClr val="595b5f"/>
              </a:gs>
            </a:gsLst>
            <a:lin ang="2262000"/>
          </a:gradFill>
          <a:ln>
            <a:solidFill>
              <a:srgbClr val="76787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1371600" y="1283760"/>
            <a:ext cx="1391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ight Arrow 12"/>
          <p:cNvSpPr/>
          <p:nvPr/>
        </p:nvSpPr>
        <p:spPr>
          <a:xfrm rot="6647400">
            <a:off x="5041080" y="1615320"/>
            <a:ext cx="609120" cy="4392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20000">
                <a:srgbClr val="74777b"/>
              </a:gs>
              <a:gs pos="100000">
                <a:srgbClr val="595b5f"/>
              </a:gs>
            </a:gsLst>
            <a:lin ang="20352000"/>
          </a:gradFill>
          <a:ln>
            <a:solidFill>
              <a:srgbClr val="76787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5430600" y="1219320"/>
            <a:ext cx="1521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Class Inheritance 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B 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s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a single colon (not the double colon used for the scope resolution operator) followed by the keyword public and the name of the base class ClassA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line says that ClassB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ri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A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4241863C-41E4-41BB-B6A6-B0EBFCB4598F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643</TotalTime>
  <Application>LibreOffice/7.4.7.2$Linux_X86_64 LibreOffice_project/40$Build-2</Application>
  <AppVersion>15.0000</AppVersion>
  <Words>938</Words>
  <Paragraphs>26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8:26:47Z</dcterms:created>
  <dc:creator>Mac</dc:creator>
  <dc:description/>
  <dc:language>en-US</dc:language>
  <cp:lastModifiedBy>Aseel</cp:lastModifiedBy>
  <dcterms:modified xsi:type="dcterms:W3CDTF">2014-03-04T05:29:40Z</dcterms:modified>
  <cp:revision>143</cp:revision>
  <dc:subject/>
  <dc:title>Inherit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20</vt:r8>
  </property>
</Properties>
</file>