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E2139B-5CD5-4A59-B185-A8FDA875F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D01-5C77-48D2-96E3-5D2588E2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064-3DF7-45DB-8D6A-3CDEC205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1E3-F63C-4067-AFCD-4E6CAD99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509-5A27-43B4-B339-DCA21464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1A3D-4A80-4DE6-85D3-B49AF9CF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7E2F-705B-4BAB-93FE-DC0BB0C1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68EF-39E8-48C1-B7C6-466A8BDC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6DBB-67F5-4564-AE9F-DEEE1E7D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BECB-934E-4B99-8913-D0C63760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0817-E170-4288-BCBC-24AAEE0A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A9D8-59B3-4BDE-B1B6-36A8DD2B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853-FC2D-4557-BD51-68861732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9B33-2E16-4335-8DBC-4AD27AF8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0FC1-624C-4711-91C2-CFCD5A07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E292-9345-4FE8-99C9-ABC3DF4A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698F-317D-4F00-AB20-5E08B85C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F17A-C6E0-43EE-BABE-584CF3B5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6112C-3834-4523-9931-57083949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142A-C09C-4B0D-A4E7-D49B28DA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46699-A8BB-49EE-ABBC-B65CDD41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C5C38-4F77-43AE-A048-FA70931C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EF52E-B8D9-4515-BFC3-D7B07DB6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5D7-2DBF-4B50-BEA2-AECAB38C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19AC6-E27A-4E69-8228-4B79E536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5C918-39C7-4247-AB20-55BA90BD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4A191-6875-4F5A-A515-32ED9ED7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A66A3-7594-4DDB-B1D0-E073DA17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FC11C-056D-4A0C-AB32-4ECA1F9C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DC7BB-E8AC-4954-B922-73267FB1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9934B-3D8D-4FB2-9CFB-ED08ECD2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F00-92A1-4241-A29F-50E710D1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D58-5F1B-4752-8402-39D956E1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976F-12DF-411A-901B-4D6805B1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DBF-9892-41A5-B525-8E5FAD7E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CE6-8135-47BD-98AC-F3C13A03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487-5ED2-4A95-9E33-2C80DC58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D49A81E-D2E9-4862-814E-301AEFDD3121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F44545D-C2AD-4C5D-AF5B-5D4F12F34E0D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1CC6207-3FAD-4896-9799-D870ECF9DB87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Inheritance in C++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398" strike="noStrike" cap="all">
                <a:solidFill>
                  <a:srgbClr val="000000"/>
                </a:solidFill>
                <a:latin typeface="Arial"/>
              </a:rPr>
              <a:t>CSC1201: Programming Langu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17084D95-D23C-4742-971C-6A96E17A3A05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4343040" cy="632412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st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base // base 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protected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, j; // private to base, but accessible to deriv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(int a, int b) { i=a; j=b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(){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 i &lt;&lt; “ “ &lt;&lt; j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drived1: public base // I &amp; j inherited as protec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K() { k = i * j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K(){ cout&lt;&lt;k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43400" y="533520"/>
            <a:ext cx="4571640" cy="6248160"/>
          </a:xfrm>
          <a:prstGeom prst="rect">
            <a:avLst/>
          </a:prstGeom>
          <a:solidFill>
            <a:schemeClr val="lt1"/>
          </a:solidFill>
          <a:ln w="25560">
            <a:solidFill>
              <a:srgbClr val="08a1d9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I &amp; j inherited indirectly through derived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drived2: public derived1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m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M() { m = i - j; } // leg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M(){ cout&lt;&lt; m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rived1 ob1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rived2 ob2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1.set(1,2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1setK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1showK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2.set(4,7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2.show()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2setK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2.showK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2setM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2.showM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A1DF1-B0D1-4045-8E0D-C4612D661D85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title"/>
          </p:nvPr>
        </p:nvSpPr>
        <p:spPr>
          <a:xfrm>
            <a:off x="685800" y="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Example: using protected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4354560" cy="640044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// this program won’t comp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st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base // base 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protected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, j; // private to base, but accessible to deriv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(int a, int b) { i=a; j=b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(){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 i &lt;&lt; “ “ &lt;&lt; j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Now, all elements of base are private in derived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drived1: private 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int 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K() { k = i * j; } // O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K(){ cout&lt;&lt;k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354920" y="533520"/>
            <a:ext cx="4788720" cy="6324120"/>
          </a:xfrm>
          <a:prstGeom prst="rect">
            <a:avLst/>
          </a:prstGeom>
          <a:solidFill>
            <a:schemeClr val="lt1"/>
          </a:solidFill>
          <a:ln w="25560">
            <a:solidFill>
              <a:srgbClr val="08a1d9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access to i &amp; j &amp; set() &amp; show() not inherite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drived2: public derived1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m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illegal because I and j are private to derived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M() { m = i - j; 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M(){ cout&lt;&lt; m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rived1 ob1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rived2 ob2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1.set(1,2); // err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1showK(); // err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2.set(4,7); // err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2.show(); // err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84CF0-85CA-40A3-9934-23B1D0D9B959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title"/>
          </p:nvPr>
        </p:nvSpPr>
        <p:spPr>
          <a:xfrm>
            <a:off x="762120" y="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Example: using protected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442080"/>
            <a:ext cx="852264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 cap="all">
                <a:solidFill>
                  <a:srgbClr val="000000"/>
                </a:solidFill>
                <a:latin typeface="Arial"/>
              </a:rPr>
              <a:t>Constructors, Destructors, and Inheritan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960" y="91440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object of a derived class is created, the base class’ constructor will be called first, followed by the derived class’ constructo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derived object is destroyed, its destructor is called first, followed by the base class' destructo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25D5EB8F-5768-413E-8944-0F42DA850AA8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4632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 cap="all">
                <a:solidFill>
                  <a:srgbClr val="000000"/>
                </a:solidFill>
                <a:latin typeface="Arial"/>
              </a:rPr>
              <a:t>Constructors, Destructors, and Inheritan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520760" cy="50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base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se() { cout &lt;&lt; "Constructing base\n"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base() { cout &lt;&lt; "Destructing base\n"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: public base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ed() { cout &lt;&lt; "Constructing derived\n"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derived() { cout &lt;&lt; "Destructing derived\n"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ed ob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do nothing but construct and destruct o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37F27A33-031C-440F-B778-9618FEE05755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65760"/>
            <a:ext cx="844632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 cap="all">
                <a:solidFill>
                  <a:srgbClr val="000000"/>
                </a:solidFill>
                <a:latin typeface="Arial"/>
              </a:rPr>
              <a:t>Constructors, Destructors, and Inheritan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executed, this program display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deri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ructing deri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ructing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5FEC551E-F8E5-4381-8392-21E5AA486564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 cap="all">
                <a:solidFill>
                  <a:srgbClr val="000000"/>
                </a:solidFill>
                <a:latin typeface="Arial"/>
                <a:ea typeface="MS Mincho"/>
              </a:rPr>
              <a:t>Rules for building a class hierarc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809208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rived classes a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special case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 base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derived class can also serve as a base class for new cla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no limit on the depth of inheritance allowed in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It is possible for a class to be a base class for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MS Mincho"/>
              </a:rPr>
              <a:t>more than on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derived clas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40" y="914400"/>
            <a:ext cx="4231440" cy="575892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200" spc="-1" strike="noStrike">
                <a:solidFill>
                  <a:srgbClr val="c00000"/>
                </a:solidFill>
                <a:latin typeface="Courier New"/>
              </a:rPr>
              <a:t>&lt;iostream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using namespac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std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rectangleType // base cla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protected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length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width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ctangleType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ctangleType(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L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w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~rectangleType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setDimension (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L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w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getLength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getWidth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area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perimeter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print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1120" y="762120"/>
            <a:ext cx="4952520" cy="6095520"/>
          </a:xfrm>
          <a:prstGeom prst="rect">
            <a:avLst/>
          </a:prstGeom>
          <a:solidFill>
            <a:schemeClr val="lt1"/>
          </a:solidFill>
          <a:ln w="25560">
            <a:solidFill>
              <a:srgbClr val="08a1d9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lass boxType: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rectangleType //derived cla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privat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heigh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boxType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boxType(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L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w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h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~boxType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setDimension (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L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w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h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getHeight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area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volume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print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boxType::boxType(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ctangleType(); height = 0 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boxType::boxType(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L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w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h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etDimension( L, w, h);   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51609-37B1-4FBD-9F73-D3C6DF9ED99A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 cap="all">
                <a:solidFill>
                  <a:srgbClr val="000000"/>
                </a:solidFill>
                <a:latin typeface="Arial"/>
              </a:rPr>
              <a:t>Example ( public acces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83520" y="152280"/>
            <a:ext cx="4560120" cy="614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main(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ctangleType myRectangle1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ctangleType myRectangle2(8, 6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boxType myBox1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boxType myBox2(10, 7, 3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ut &lt;&lt; </a:t>
            </a:r>
            <a:r>
              <a:rPr b="0" lang="en-GB" sz="1200" spc="-1" strike="noStrike">
                <a:solidFill>
                  <a:srgbClr val="c00000"/>
                </a:solidFill>
                <a:latin typeface="Courier New"/>
              </a:rPr>
              <a:t>"\n myRectangle1: 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yRectangle1.print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ut &lt;&lt; </a:t>
            </a:r>
            <a:r>
              <a:rPr b="0" lang="en-GB" sz="1200" spc="-1" strike="noStrike">
                <a:solidFill>
                  <a:srgbClr val="c00000"/>
                </a:solidFill>
                <a:latin typeface="Courier New"/>
              </a:rPr>
              <a:t>" Area of myRectangle1: "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&lt;&lt; myRectangle1.area() &lt;&lt; endl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ut &lt;&lt; </a:t>
            </a:r>
            <a:r>
              <a:rPr b="0" lang="en-GB" sz="1200" spc="-1" strike="noStrike">
                <a:solidFill>
                  <a:srgbClr val="c00000"/>
                </a:solidFill>
                <a:latin typeface="Courier New"/>
              </a:rPr>
              <a:t>"\n myRectangle2: 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yRectangle2.print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ut &lt;&lt;</a:t>
            </a:r>
            <a:r>
              <a:rPr b="0" lang="en-GB" sz="1200" spc="-1" strike="noStrike">
                <a:solidFill>
                  <a:srgbClr val="c00000"/>
                </a:solidFill>
                <a:latin typeface="Courier New"/>
              </a:rPr>
              <a:t> " Area of myRectangle2: 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&lt;&lt; myRectangle2.area() &lt;&lt; endl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8D977C52-0A37-4BFA-AC80-5A489B14EB87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80880" y="7632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Cont.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tent Placeholder 4"/>
          <p:cNvSpPr/>
          <p:nvPr/>
        </p:nvSpPr>
        <p:spPr>
          <a:xfrm>
            <a:off x="0" y="685800"/>
            <a:ext cx="4583160" cy="6171840"/>
          </a:xfrm>
          <a:prstGeom prst="rect">
            <a:avLst/>
          </a:prstGeom>
          <a:solidFill>
            <a:srgbClr val="ffffff"/>
          </a:solidFill>
          <a:ln>
            <a:solidFill>
              <a:srgbClr val="c2ad8d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boxType::~boxType(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boxType::setDimension(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L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w, 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h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ctangleType::setDimension( L ,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( h &gt;= 0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height = h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else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eight 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boxType::getHeight(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height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boxType::area(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2 * ( length * width + length * height + width * height ); 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boxType::volume(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rectangleType::area() * height; 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boxType::print()</a:t>
            </a:r>
            <a:r>
              <a:rPr b="0" lang="x-none" sz="12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ctangleType::prin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ut &lt;&lt;</a:t>
            </a:r>
            <a:r>
              <a:rPr b="0" lang="en-GB" sz="1200" spc="-1" strike="noStrike">
                <a:solidFill>
                  <a:srgbClr val="c00000"/>
                </a:solidFill>
                <a:latin typeface="Courier New"/>
              </a:rPr>
              <a:t> " ; Height = 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&lt;&lt; heigh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 cap="all">
                <a:solidFill>
                  <a:srgbClr val="000000"/>
                </a:solidFill>
                <a:latin typeface="Arial"/>
              </a:rPr>
              <a:t>Over-writte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functions are NOT overloaded, since they have exactly the same prototype (and header), and they are not in the same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ver-writ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ver-written function that is closest to the object defined takes precede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F4341865-A712-4980-9787-407CB0757AC3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6320" y="609480"/>
            <a:ext cx="4343040" cy="617184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st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base // base 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protected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, j; // private to base, but accessible to deriv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(int a, int b) { i=a; j=b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(){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 i &lt;&lt; “ “ &lt;&lt; j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drived: public base //drived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852440" y="762120"/>
            <a:ext cx="4051080" cy="5408640"/>
          </a:xfrm>
          <a:prstGeom prst="rect">
            <a:avLst/>
          </a:prstGeom>
          <a:solidFill>
            <a:schemeClr val="lt1"/>
          </a:solidFill>
          <a:ln w="25560">
            <a:solidFill>
              <a:srgbClr val="08a1d9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derived may access base’s i and j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K() { k = i * j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K(){ cout&lt;&lt;k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rived ob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et(1,2); // ok , known to deriv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how(); // ok , known to deriv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etK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howK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E8C1F-EEA1-4C87-858E-E046057D787B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title"/>
          </p:nvPr>
        </p:nvSpPr>
        <p:spPr>
          <a:xfrm>
            <a:off x="533520" y="7632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: using protected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797</TotalTime>
  <Application>LibreOffice/7.4.7.2$Linux_X86_64 LibreOffice_project/40$Build-2</Application>
  <AppVersion>15.0000</AppVersion>
  <Words>397</Words>
  <Paragraphs>2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8:26:47Z</dcterms:created>
  <dc:creator>Mac</dc:creator>
  <dc:description/>
  <dc:language>en-US</dc:language>
  <cp:lastModifiedBy>Aseel</cp:lastModifiedBy>
  <dcterms:modified xsi:type="dcterms:W3CDTF">2014-03-04T08:53:12Z</dcterms:modified>
  <cp:revision>160</cp:revision>
  <dc:subject/>
  <dc:title>Inherit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11</vt:r8>
  </property>
</Properties>
</file>