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8FC1C1-C044-4807-9162-6153110F8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4E9F-21BB-400B-845B-F94029CBB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32000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22960" y="3036240"/>
            <a:ext cx="32000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6872-34BE-4D6E-B5C2-E6CEC209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229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4627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22D1-3450-4002-AA9C-BC19439C5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905120" y="109728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987280" y="109728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22960" y="303624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1905120" y="303624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2987280" y="303624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0754-B305-4964-86C7-2EE085157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E506-7623-4A0E-BB4E-BDE0A9707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0BDC-F614-4444-9CF6-1E68858B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BF6A-B943-49B4-9B4E-2F694072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F3D0-DB84-4F43-9535-C5F44CF2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DF7E-16D1-4077-9E85-D3059173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6991-02FA-40AF-9DF8-BA84A9F3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29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0238-AA42-4930-B126-E7574186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FC83-285E-4888-AF30-38488FC5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4627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CD19-73FF-48F8-B9CA-E28297D2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2960" y="3036240"/>
            <a:ext cx="32000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21D4-548B-4C4A-A06D-E7F6E2BD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32000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2960" y="3036240"/>
            <a:ext cx="32000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9337-6A48-4B37-9E7A-582138B6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29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4627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3286-E0D3-4478-A721-124008642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905120" y="109728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987280" y="109728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2960" y="303624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1905120" y="303624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2987280" y="303624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D304-0AAD-458A-A3F0-CC45C37DB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D3DA4-071C-4DCC-A392-C850C0554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350B3-9EDA-477C-A389-9501448C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EBBE5-F72E-4F07-BD31-3FC85B31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1BE0D-F920-4388-996E-A0262C2B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BCD3C-1CB2-4191-850D-23B02574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F725-DDBA-4CD9-B8BE-C283390C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84543-1D8B-411E-86B5-49CA26F4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29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33CD7-A6C5-4541-92E8-3DF6BE7D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4627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08544-1774-42BA-925B-F65FD439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2960" y="3036240"/>
            <a:ext cx="32000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431DB-CAF3-47AA-A493-D79AEE7A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32000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2960" y="3036240"/>
            <a:ext cx="32000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449ED-3C0A-4D35-AC30-B9313FFB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29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4627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80B6A-1831-4145-8051-D10AB0376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905120" y="109728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87280" y="109728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2960" y="303624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1905120" y="303624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2987280" y="303624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60797-0DAB-4A4D-8B38-8A5BDC3C1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6957-86F3-4F3E-B0BA-C7888BC1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DC1E-707D-4C14-8348-1E6C9718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E6B7-9542-4730-8BC1-8A4F03D8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229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8381-B02F-4CE9-84E7-6CA37BFE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627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E08F-68E0-4A53-B32E-A2806B39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22960" y="3036240"/>
            <a:ext cx="32000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4464-D97B-44E6-8D5C-94F54672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 hidden="1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" name="Freeform 7" hidden="1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" name="Right Triangle 6"/>
          <p:cNvSpPr/>
          <p:nvPr/>
        </p:nvSpPr>
        <p:spPr>
          <a:xfrm>
            <a:off x="0" y="2647800"/>
            <a:ext cx="3571560" cy="4209840"/>
          </a:xfrm>
          <a:prstGeom prst="rtTriangle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-2520" y="-1080"/>
            <a:ext cx="9146160" cy="685872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6858720"/>
              <a:gd name="textAreaBottom" fmla="*/ 6859080 h 6858720"/>
            </a:gdLst>
            <a:ahLst/>
            <a:rect l="textAreaLeft" t="textAreaTop" r="textAreaRight" b="textAreaBottom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EA09CD3-D204-47F2-A9C3-8BC76D487057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C389A54-C64E-48BF-ADB6-275849A0B558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89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7001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3BBDC47-3A08-4A98-BAB1-2DF270B2B559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Inheritance in C++ 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 rot="19140000">
            <a:off x="1212120" y="2471040"/>
            <a:ext cx="6510600" cy="32904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398" strike="noStrike" cap="all">
                <a:solidFill>
                  <a:srgbClr val="000000"/>
                </a:solidFill>
                <a:latin typeface="Arial"/>
              </a:rPr>
              <a:t>CSC1201: Programming Languag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46DBA9CE-6449-4001-9BB0-05C5658F0738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4343040" cy="6324120"/>
          </a:xfrm>
          <a:prstGeom prst="rect">
            <a:avLst/>
          </a:prstGeom>
          <a:solidFill>
            <a:schemeClr val="lt1"/>
          </a:solidFill>
          <a:ln w="25560">
            <a:solidFill>
              <a:srgbClr val="797b7e"/>
            </a:solidFill>
            <a:round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#includ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c00000"/>
                </a:solidFill>
                <a:latin typeface="Courier New"/>
              </a:rPr>
              <a:t>&lt;iostream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using namespac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std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class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base // base cla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protected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i, j; // private to base, but accessible to deriv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set(int a, int b) { i=a; j=b;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show(){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ut&lt;&lt; i &lt;&lt; “ “ &lt;&lt; j &lt;&lt; “</a:t>
            </a:r>
            <a:r>
              <a:rPr b="0" lang="x-none" sz="1400" spc="-1" strike="noStrike">
                <a:solidFill>
                  <a:srgbClr val="000000"/>
                </a:solidFill>
                <a:latin typeface="Courier New"/>
              </a:rPr>
              <a:t>\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n”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class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drived1: public base // I &amp; j inherited as protect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k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setK() { k = i * j; 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showK(){ cout&lt;&lt;k &lt;&lt; “</a:t>
            </a:r>
            <a:r>
              <a:rPr b="0" lang="x-none" sz="1400" spc="-1" strike="noStrike">
                <a:solidFill>
                  <a:srgbClr val="000000"/>
                </a:solidFill>
                <a:latin typeface="Courier New"/>
              </a:rPr>
              <a:t>\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n”;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343400" y="533520"/>
            <a:ext cx="4571640" cy="6248160"/>
          </a:xfrm>
          <a:prstGeom prst="rect">
            <a:avLst/>
          </a:prstGeom>
          <a:solidFill>
            <a:schemeClr val="lt1"/>
          </a:solidFill>
          <a:ln w="25560">
            <a:solidFill>
              <a:srgbClr val="08a1d9"/>
            </a:solidFill>
            <a:round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// I &amp; j inherited indirectly through derived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class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drived2: public derived1 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m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setM() { m = i - j; } // leg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showM(){ cout&lt;&lt; m &lt;&lt; “</a:t>
            </a:r>
            <a:r>
              <a:rPr b="0" lang="x-none" sz="1400" spc="-1" strike="noStrike">
                <a:solidFill>
                  <a:srgbClr val="000000"/>
                </a:solidFill>
                <a:latin typeface="Courier New"/>
              </a:rPr>
              <a:t>\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n”;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main()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derived1 ob1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derived2 ob2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b1.set(1,2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b.1setK(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b.1showK(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b2.set(4,7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b2.show();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b.2setK(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b2.showK(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b.2setM(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b2.showM(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8F3B1E-A1F6-4108-8F48-E23DBF32ED62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title"/>
          </p:nvPr>
        </p:nvSpPr>
        <p:spPr>
          <a:xfrm>
            <a:off x="685800" y="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GB" sz="2800" spc="-1" strike="noStrike" cap="all">
                <a:solidFill>
                  <a:srgbClr val="000000"/>
                </a:solidFill>
                <a:latin typeface="Arial"/>
              </a:rPr>
              <a:t>Example: using protected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4354560" cy="6400440"/>
          </a:xfrm>
          <a:prstGeom prst="rect">
            <a:avLst/>
          </a:prstGeom>
          <a:solidFill>
            <a:schemeClr val="lt1"/>
          </a:solidFill>
          <a:ln w="25560">
            <a:solidFill>
              <a:srgbClr val="797b7e"/>
            </a:solidFill>
            <a:round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// this program won’t compi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#includ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c00000"/>
                </a:solidFill>
                <a:latin typeface="Courier New"/>
              </a:rPr>
              <a:t>&lt;iostream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using namespac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std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class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base // base cla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protected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i, j; // private to base, but accessible to deriv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set(int a, int b) { i=a; j=b;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show(){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ut&lt;&lt; i &lt;&lt; “ “ &lt;&lt; j &lt;&lt; “</a:t>
            </a:r>
            <a:r>
              <a:rPr b="0" lang="x-none" sz="1400" spc="-1" strike="noStrike">
                <a:solidFill>
                  <a:srgbClr val="000000"/>
                </a:solidFill>
                <a:latin typeface="Courier New"/>
              </a:rPr>
              <a:t>\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n”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// Now, all elements of base are private in derived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class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drived1: private ba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int k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setK() { k = i * j; } // O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showK(){ cout&lt;&lt;k &lt;&lt; “</a:t>
            </a:r>
            <a:r>
              <a:rPr b="0" lang="x-none" sz="1400" spc="-1" strike="noStrike">
                <a:solidFill>
                  <a:srgbClr val="000000"/>
                </a:solidFill>
                <a:latin typeface="Courier New"/>
              </a:rPr>
              <a:t>\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n”;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354920" y="533520"/>
            <a:ext cx="4788720" cy="6324120"/>
          </a:xfrm>
          <a:prstGeom prst="rect">
            <a:avLst/>
          </a:prstGeom>
          <a:solidFill>
            <a:schemeClr val="lt1"/>
          </a:solidFill>
          <a:ln w="25560">
            <a:solidFill>
              <a:srgbClr val="08a1d9"/>
            </a:solidFill>
            <a:round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// access to i &amp; j &amp; set() &amp; show() not inherite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class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drived2: public derived1 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m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// illegal because I and j are private to derived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setM() { m = i - j; }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showM(){ cout&lt;&lt; m &lt;&lt; “</a:t>
            </a:r>
            <a:r>
              <a:rPr b="0" lang="x-none" sz="1400" spc="-1" strike="noStrike">
                <a:solidFill>
                  <a:srgbClr val="000000"/>
                </a:solidFill>
                <a:latin typeface="Courier New"/>
              </a:rPr>
              <a:t>\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n”;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main()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derived1 ob1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derived2 ob2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b1.set(1,2); // err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b.1showK(); // err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b2.set(4,7); // err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b2.show(); // err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7A8537-283A-409C-944D-D9B45640B5A9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title"/>
          </p:nvPr>
        </p:nvSpPr>
        <p:spPr>
          <a:xfrm>
            <a:off x="762120" y="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GB" sz="2800" spc="-1" strike="noStrike" cap="all">
                <a:solidFill>
                  <a:srgbClr val="000000"/>
                </a:solidFill>
                <a:latin typeface="Arial"/>
              </a:rPr>
              <a:t>Example: using protected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442080"/>
            <a:ext cx="852264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400" spc="-1" strike="noStrike" cap="all">
                <a:solidFill>
                  <a:srgbClr val="000000"/>
                </a:solidFill>
                <a:latin typeface="Arial"/>
              </a:rPr>
              <a:t>Constructors, Destructors, and Inheritanc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2960" y="91440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n object of a derived class is created, the base class’ constructor will be called first, followed by the derived class’ constructor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derived object is destroyed, its destructor is called first, followed by the base class' destructor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7E626A02-3820-496A-B4A5-F2BA46400525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4632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400" spc="-1" strike="noStrike" cap="all">
                <a:solidFill>
                  <a:srgbClr val="000000"/>
                </a:solidFill>
                <a:latin typeface="Arial"/>
              </a:rPr>
              <a:t>Constructors, Destructors, and Inheritanc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7520760" cy="50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base 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ase() { cout &lt;&lt; "Constructing base\n"; 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~base() { cout &lt;&lt; "Destructing base\n"; 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derived: public base 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rived() { cout &lt;&lt; "Constructing derived\n"; 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~derived() { cout &lt;&lt; "Destructing derived\n"; 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rived ob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do nothing but construct and destruct o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765C7639-102D-496F-B55D-682751975475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65760"/>
            <a:ext cx="844632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400" spc="-1" strike="noStrike" cap="all">
                <a:solidFill>
                  <a:srgbClr val="000000"/>
                </a:solidFill>
                <a:latin typeface="Arial"/>
              </a:rPr>
              <a:t>Constructors, Destructors, and Inheritanc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executed, this program displays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ing b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ing deriv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ructing deriv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ructing b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A76C4199-961B-4D2B-A45A-A7D01D1A4E33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400" spc="-1" strike="noStrike" cap="all">
                <a:solidFill>
                  <a:srgbClr val="000000"/>
                </a:solidFill>
                <a:latin typeface="Arial"/>
                <a:ea typeface="MS Mincho"/>
              </a:rPr>
              <a:t>Rules for building a class hierarch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809208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rived classes are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special case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f base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derived class can also serve as a base class for new class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no limit on the depth of inheritance allowed in C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It is possible for a class to be a base class for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ea typeface="MS Mincho"/>
              </a:rPr>
              <a:t>more than on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Minch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derived clas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5640" y="914400"/>
            <a:ext cx="4231440" cy="5758920"/>
          </a:xfrm>
          <a:prstGeom prst="rect">
            <a:avLst/>
          </a:prstGeom>
          <a:solidFill>
            <a:schemeClr val="lt1"/>
          </a:solidFill>
          <a:ln w="25560">
            <a:solidFill>
              <a:srgbClr val="797b7e"/>
            </a:solidFill>
            <a:round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#includ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200" spc="-1" strike="noStrike">
                <a:solidFill>
                  <a:srgbClr val="c00000"/>
                </a:solidFill>
                <a:latin typeface="Courier New"/>
              </a:rPr>
              <a:t>&lt;iostream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using namespac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std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class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rectangleType // base clas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protected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length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width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public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rectangleType(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rectangleType( 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L, 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w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~rectangleType(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void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setDimension ( 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L, 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w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getLength(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getWidth(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area(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perimeter(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void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print(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191120" y="762120"/>
            <a:ext cx="4952520" cy="6095520"/>
          </a:xfrm>
          <a:prstGeom prst="rect">
            <a:avLst/>
          </a:prstGeom>
          <a:solidFill>
            <a:schemeClr val="lt1"/>
          </a:solidFill>
          <a:ln w="25560">
            <a:solidFill>
              <a:srgbClr val="08a1d9"/>
            </a:solidFill>
            <a:round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class boxType: 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public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rectangleType //derived clas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privat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heigh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public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boxType(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boxType( 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L, 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w, 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h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~boxType(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void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setDimension ( 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L, 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w, 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h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getHeight(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area(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volume(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void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print(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boxType::boxType()</a:t>
            </a:r>
            <a:r>
              <a:rPr b="0" lang="x-none" sz="12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rectangleType(); height = 0 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boxType::boxType( 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L, 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w, 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h)</a:t>
            </a:r>
            <a:r>
              <a:rPr b="0" lang="x-none" sz="12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etDimension( L, w, h);   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A4A48B-C790-4C5A-8FA6-873E4F105124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title"/>
          </p:nvPr>
        </p:nvSpPr>
        <p:spPr>
          <a:xfrm>
            <a:off x="152280" y="-15228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3600" spc="-1" strike="noStrike" cap="all">
                <a:solidFill>
                  <a:srgbClr val="000000"/>
                </a:solidFill>
                <a:latin typeface="Arial"/>
              </a:rPr>
              <a:t>Example ( public acces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83520" y="152280"/>
            <a:ext cx="4560120" cy="614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main()</a:t>
            </a:r>
            <a:r>
              <a:rPr b="0" lang="x-none" sz="12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rectangleType myRectangle1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rectangleType myRectangle2(8, 6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boxType myBox1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boxType myBox2(10, 7, 3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cout &lt;&lt; </a:t>
            </a:r>
            <a:r>
              <a:rPr b="0" lang="en-GB" sz="1200" spc="-1" strike="noStrike">
                <a:solidFill>
                  <a:srgbClr val="c00000"/>
                </a:solidFill>
                <a:latin typeface="Courier New"/>
              </a:rPr>
              <a:t>"\n myRectangle1: "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yRectangle1.print(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cout &lt;&lt; endl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cout &lt;&lt; </a:t>
            </a:r>
            <a:r>
              <a:rPr b="0" lang="en-GB" sz="1200" spc="-1" strike="noStrike">
                <a:solidFill>
                  <a:srgbClr val="c00000"/>
                </a:solidFill>
                <a:latin typeface="Courier New"/>
              </a:rPr>
              <a:t>" Area of myRectangle1: "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&lt;&lt; myRectangle1.area() &lt;&lt; endl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cout &lt;&lt; </a:t>
            </a:r>
            <a:r>
              <a:rPr b="0" lang="en-GB" sz="1200" spc="-1" strike="noStrike">
                <a:solidFill>
                  <a:srgbClr val="c00000"/>
                </a:solidFill>
                <a:latin typeface="Courier New"/>
              </a:rPr>
              <a:t>"\n myRectangle2: "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yRectangle2.print(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cout &lt;&lt; endl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cout &lt;&lt;</a:t>
            </a:r>
            <a:r>
              <a:rPr b="0" lang="en-GB" sz="1200" spc="-1" strike="noStrike">
                <a:solidFill>
                  <a:srgbClr val="c00000"/>
                </a:solidFill>
                <a:latin typeface="Courier New"/>
              </a:rPr>
              <a:t> " Area of myRectangle2: "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&lt;&lt; myRectangle2.area() &lt;&lt; endl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3E4F87BD-D6A9-4F7C-81F8-9BABF96C1A05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380880" y="7632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Cont.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ontent Placeholder 4"/>
          <p:cNvSpPr/>
          <p:nvPr/>
        </p:nvSpPr>
        <p:spPr>
          <a:xfrm>
            <a:off x="0" y="685800"/>
            <a:ext cx="4583160" cy="6171840"/>
          </a:xfrm>
          <a:prstGeom prst="rect">
            <a:avLst/>
          </a:prstGeom>
          <a:solidFill>
            <a:srgbClr val="ffffff"/>
          </a:solidFill>
          <a:ln>
            <a:solidFill>
              <a:srgbClr val="c2ad8d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boxType::~boxType()</a:t>
            </a:r>
            <a:r>
              <a:rPr b="0" lang="x-none" sz="12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void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boxType::setDimension( 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L, 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w, 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h)</a:t>
            </a:r>
            <a:r>
              <a:rPr b="0" lang="x-none" sz="12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rectangleType::setDimension( L ,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( h &gt;= 0)</a:t>
            </a:r>
            <a:r>
              <a:rPr b="0" lang="x-none" sz="1200" spc="-1" strike="noStrike">
                <a:solidFill>
                  <a:srgbClr val="000000"/>
                </a:solidFill>
                <a:latin typeface="Courier New"/>
              </a:rPr>
              <a:t>‏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height = h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else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height =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boxType::getHeight()</a:t>
            </a:r>
            <a:r>
              <a:rPr b="0" lang="x-none" sz="12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height;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boxType::area()</a:t>
            </a:r>
            <a:r>
              <a:rPr b="0" lang="x-none" sz="12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2 * ( length * width + length * height + width * height ); 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boxType::volume()</a:t>
            </a:r>
            <a:r>
              <a:rPr b="0" lang="x-none" sz="12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rectangleType::area() * height; 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void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boxType::print()</a:t>
            </a:r>
            <a:r>
              <a:rPr b="0" lang="x-none" sz="12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rectangleType::prin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cout &lt;&lt;</a:t>
            </a:r>
            <a:r>
              <a:rPr b="0" lang="en-GB" sz="1200" spc="-1" strike="noStrike">
                <a:solidFill>
                  <a:srgbClr val="c00000"/>
                </a:solidFill>
                <a:latin typeface="Courier New"/>
              </a:rPr>
              <a:t> " ; Height = "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&lt;&lt; heigh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800" spc="-1" strike="noStrike" cap="all">
                <a:solidFill>
                  <a:srgbClr val="000000"/>
                </a:solidFill>
                <a:latin typeface="Arial"/>
              </a:rPr>
              <a:t>Over-written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functions are NOT overloaded, since they have exactly the same prototype (and header), and they are not in the same cla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ver-writt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unc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ver-written function that is closest to the object defined takes preceden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34B3D419-34BC-403F-A9FD-688478B7FD68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76320" y="609480"/>
            <a:ext cx="4343040" cy="6171840"/>
          </a:xfrm>
          <a:prstGeom prst="rect">
            <a:avLst/>
          </a:prstGeom>
          <a:solidFill>
            <a:schemeClr val="lt1"/>
          </a:solidFill>
          <a:ln w="25560">
            <a:solidFill>
              <a:srgbClr val="797b7e"/>
            </a:solidFill>
            <a:round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#includ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c00000"/>
                </a:solidFill>
                <a:latin typeface="Courier New"/>
              </a:rPr>
              <a:t>&lt;iostream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using namespac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std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class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base // base cla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protected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i, j; // private to base, but accessible to deriv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set(int a, int b) { i=a; j=b;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show(){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ut&lt;&lt; i &lt;&lt; “ “ &lt;&lt; j &lt;&lt; “</a:t>
            </a:r>
            <a:r>
              <a:rPr b="0" lang="x-none" sz="1400" spc="-1" strike="noStrike">
                <a:solidFill>
                  <a:srgbClr val="000000"/>
                </a:solidFill>
                <a:latin typeface="Courier New"/>
              </a:rPr>
              <a:t>\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n”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class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drived: public base //drivedcla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k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852440" y="762120"/>
            <a:ext cx="4051080" cy="5408640"/>
          </a:xfrm>
          <a:prstGeom prst="rect">
            <a:avLst/>
          </a:prstGeom>
          <a:solidFill>
            <a:schemeClr val="lt1"/>
          </a:solidFill>
          <a:ln w="25560">
            <a:solidFill>
              <a:srgbClr val="08a1d9"/>
            </a:solidFill>
            <a:round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// derived may access base’s i and j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setK() { k = i * j; 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showK(){ cout&lt;&lt;k &lt;&lt; “</a:t>
            </a:r>
            <a:r>
              <a:rPr b="0" lang="x-none" sz="1400" spc="-1" strike="noStrike">
                <a:solidFill>
                  <a:srgbClr val="000000"/>
                </a:solidFill>
                <a:latin typeface="Courier New"/>
              </a:rPr>
              <a:t>\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n”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main()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derived ob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b.set(1,2); // ok , known to deriv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b.show(); // ok , known to deriv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b.setK(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b.showK(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03147F-6555-4F18-AFE9-0861DF17F642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title"/>
          </p:nvPr>
        </p:nvSpPr>
        <p:spPr>
          <a:xfrm>
            <a:off x="533520" y="7632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Example: using protected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ngles.thmx</Template>
  <TotalTime>797</TotalTime>
  <Application>LibreOffice/7.4.7.2$Linux_X86_64 LibreOffice_project/40$Build-2</Application>
  <AppVersion>15.0000</AppVersion>
  <Words>397</Words>
  <Paragraphs>23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08:26:47Z</dcterms:created>
  <dc:creator>Mac</dc:creator>
  <dc:description/>
  <dc:language>en-US</dc:language>
  <cp:lastModifiedBy>Aseel</cp:lastModifiedBy>
  <dcterms:modified xsi:type="dcterms:W3CDTF">2014-03-04T08:53:12Z</dcterms:modified>
  <cp:revision>160</cp:revision>
  <dc:subject/>
  <dc:title>Inherita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On-screen Show (4:3)</vt:lpwstr>
  </property>
  <property fmtid="{D5CDD505-2E9C-101B-9397-08002B2CF9AE}" pid="4" name="Slides">
    <vt:r8>11</vt:r8>
  </property>
</Properties>
</file>