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11A-AB79-4620-AEE4-E5AC472E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CD3-46D8-464F-8B84-E152280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ED1-6AF2-4248-B031-CCC8292D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11F-2FBC-426E-929E-5540F38D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FBA4-7DD5-4204-AFD7-65F6AEF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8B8-A83A-4026-A9EA-1C2C6B6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D7E5-4B2F-463F-B59B-00A15C6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E84D-4170-4D11-A287-F8AFA7AF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444-DC20-4001-861F-A55E0F78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1F41-EC63-4719-9DA7-9C3BE05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1A61-D6A5-4141-A325-BE00C57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AD6-63C1-46A5-87C3-3D5A2635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FF05-DEF0-4333-B949-E94DC407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E16-AC52-4E6C-A6C7-4DFB57E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D92-A7DD-4E06-B2DC-DAE8BB0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BB47-8CBB-451E-BCA4-B46CE7C3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BC9-7162-442E-9898-36CFB2A4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7BD5-7262-4296-99A5-606A6DFC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E3AF-77EA-405F-B280-D285842C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1105-DE8E-40CD-801F-D99C5309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8412-1468-4CEA-AE60-4CD64CB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325E-DB76-470D-9089-4208C7F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A7F-9516-49F4-A7A4-ECF5E3B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ABE8-FFA4-453D-B228-21CAD8B9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ACF5-E793-4552-865E-CE6B0B5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D1C6-4CEE-4181-9847-2C3ECFA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CD83-0AA1-4DF7-B5DB-452864D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341D-E187-4A6D-96FF-12E0F7B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C7C9-E0CB-439B-AB75-3687F2C7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CDF2-800A-4485-AAF5-FE8A1DB7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C066F-8181-4EED-918D-867784E1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A8E2-42C4-451F-9935-BBF4131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A159-40BD-41D5-ADF2-B21E2FD3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589-98AF-48D3-9239-D231D1B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F945-4196-4760-B826-E117FA4C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F5FD-ADC9-4CF8-86E5-B71DF8C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03A8-4B40-484E-9660-C6CE32AA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A01D-ED05-4AA0-954C-A83A383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CB30-338C-4E09-86B6-3D96D7D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4BC1-FFBA-4027-B986-887B059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C97A-8E03-4701-86DB-1220FD74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3D01-F856-4152-AEDE-4A634212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A636-2782-40E5-A2FB-56FFA24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9127-19BD-4F4A-B054-F757CEA1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B20-29A9-4779-B06A-8EB600CE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A0A3-B89C-4F8B-9F23-7B1168CC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82183-14CF-4907-BFEA-8B59E45B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7AE2-F221-4DA3-94F8-B40C5E9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46E8D-B158-4E0C-8725-B6F2D22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17F3-638A-4A0D-881D-C9CD3AC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E30C8-943B-423D-A295-381288CA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1117-6C82-4868-A05E-8A315E8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2A0A7-A273-4888-A0A3-7D023E3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956F-09D0-495E-90D0-1A18E9C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DA42-162E-4166-AD0C-76B933F9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E71-C226-4C5B-A2BB-9138131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BF03-BA68-465B-A095-F76914B5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7A9-5A2C-4A52-B7B2-67E8CCC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BA-DCC0-4177-92E0-C0ECE6D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EC8-9D70-40B8-8E71-0C6D667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9C3-4BC1-4F7C-934C-91F629EA7063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111F-D850-4EF9-BC02-04B2B47280A3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EB96-9F9E-4E4F-9732-621D7E25808C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1E9-C4F8-4E2B-B651-1E1E984547D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973-9DB0-4D7E-B1F5-8F89A901E9B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2BF-6EC8-4AC4-B7B2-59E722866294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A17-FB9A-4F4A-90A1-C4F2F313F7E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CDD-8EAA-45DD-ACF8-6BF1448CD5DA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2DE-69D3-404E-A6AE-49CAE7D85F7B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DAD-EAD0-468A-952A-0A3502C52DAC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2D6-2FDF-41A3-852C-61B861953A72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ng Parameters to Base Clas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990360"/>
            <a:ext cx="8686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al form of this expanded declaration is shown he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1 through baseN are the names of the base classes inherited by the derived clas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arates the constructor function declaration of the derived class from the base classes, and that the base classes are separated from each other b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the case of multiple base cla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FA39-3171-491F-870E-D8290E317DEC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04920" y="1447920"/>
            <a:ext cx="8839080" cy="222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r>
              <a:rPr b="1" i="1" lang="en-US" sz="4400" spc="-1" strike="noStrike">
                <a:solidFill>
                  <a:srgbClr val="ff0000"/>
                </a:solidFill>
                <a:latin typeface="Gill Sans MT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r>
              <a:rPr b="1" i="1" lang="en-US" sz="60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….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E72-0ACF-4815-A35A-EFA64C0FE3B6}" type="slidenum"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0" y="762120"/>
            <a:ext cx="4572000" cy="426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4267080" y="609480"/>
            <a:ext cx="495324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2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676520" y="5005440"/>
            <a:ext cx="513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4429080"/>
            <a:ext cx="5538960" cy="2428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9A8-3EFC-463E-9845-51F5CB1BD22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0880" y="-360"/>
            <a:ext cx="3322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ontent Placeholder 2"/>
          <p:cNvSpPr/>
          <p:nvPr/>
        </p:nvSpPr>
        <p:spPr>
          <a:xfrm>
            <a:off x="4038480" y="76320"/>
            <a:ext cx="50292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78920" y="914040"/>
            <a:ext cx="4621320" cy="558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i = x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CONS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DES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k = x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ja-JP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CONS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C098-FE0B-418F-B668-6615D983FE9D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ontent Placeholder 7"/>
          <p:cNvSpPr/>
          <p:nvPr/>
        </p:nvSpPr>
        <p:spPr>
          <a:xfrm>
            <a:off x="4191120" y="1295280"/>
            <a:ext cx="5029200" cy="54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 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: base1(y), base2(z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j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{ cout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 ob(3,4,5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26280" cy="274320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7A9-39CA-4713-A2DC-99232A609E2F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0" y="1125360"/>
            <a:ext cx="4495680" cy="573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k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561F-31C9-4C3C-A1B4-E8DCA12B45BA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Multiple Base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tent Placeholder 7"/>
          <p:cNvSpPr/>
          <p:nvPr/>
        </p:nvSpPr>
        <p:spPr>
          <a:xfrm>
            <a:off x="4495680" y="1125360"/>
            <a:ext cx="464832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): base1(x), base2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derived()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     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69320" cy="3138480"/>
          </a:xfrm>
          <a:prstGeom prst="rect">
            <a:avLst/>
          </a:prstGeom>
          <a:ln w="0">
            <a:noFill/>
          </a:ln>
        </p:spPr>
      </p:pic>
      <p:sp>
        <p:nvSpPr>
          <p:cNvPr id="289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57F-A11D-44A5-BBEA-31FB1B8CAC1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ructor function of a derived class is free to use any and all parameters that it is declared as taken, whether or not one or more are passed along to a base clas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is fragment is perfectly val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B92C-F483-4547-B4F0-176EE2DA3DE6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971640" y="3559320"/>
            <a:ext cx="73342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erived: public base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erived uses both x and y and then passes them to base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x, int y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j = x*y;  cout &lt;&lt; "Constructing derived\n"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1001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ment of ambiguity can be introduced into a C++ program when multiple base classes are inheri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llowing incorrect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FB7A-A54D-4FF4-9554-D409BDD2620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6320" y="685800"/>
            <a:ext cx="5029200" cy="601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a31515"/>
                </a:solidFill>
                <a:latin typeface="Courier New"/>
                <a:ea typeface="Courier New"/>
              </a:rPr>
              <a:t>&lt;iostream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;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1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 :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2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: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k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urier New"/>
                <a:ea typeface="Courier New"/>
              </a:rPr>
              <a:t>/* derived3 inherits both derived1 and derived2. This means that there are two copies of base in derived3! *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3 :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, </a:t>
            </a: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{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43400" y="738360"/>
            <a:ext cx="4572000" cy="39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3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i = 10;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this is ambiguous; which i???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j = 2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k = 3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 ambiguous here, to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um = ob.i + ob.j + ob.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so ambiguous, which i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i &lt;&lt; « 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j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.k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su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 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BCEB-2552-4715-8BAA-5638DFB0139B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correct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5" descr=""/>
          <p:cNvPicPr/>
          <p:nvPr/>
        </p:nvPicPr>
        <p:blipFill>
          <a:blip r:embed="rId1"/>
          <a:stretch/>
        </p:blipFill>
        <p:spPr>
          <a:xfrm>
            <a:off x="5407200" y="4273560"/>
            <a:ext cx="3627360" cy="2603520"/>
          </a:xfrm>
          <a:prstGeom prst="rect">
            <a:avLst/>
          </a:prstGeom>
          <a:ln w="0">
            <a:noFill/>
          </a:ln>
        </p:spPr>
      </p:pic>
      <p:cxnSp>
        <p:nvCxnSpPr>
          <p:cNvPr id="306" name="Elbow Connector 9"/>
          <p:cNvCxnSpPr/>
          <p:nvPr/>
        </p:nvCxnSpPr>
        <p:spPr>
          <a:xfrm flipV="1" rot="10800000">
            <a:off x="7009560" y="5935320"/>
            <a:ext cx="1704240" cy="200880"/>
          </a:xfrm>
          <a:prstGeom prst="bentConnector3">
            <a:avLst>
              <a:gd name="adj1" fmla="val 49989"/>
            </a:avLst>
          </a:prstGeom>
          <a:ln w="38160">
            <a:solidFill>
              <a:srgbClr val="797b7e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heriting Multiple Bas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assing Parameters to Base Class Constru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Virtual Base Clas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 Between Normal Base Class and Virtual Bas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4894-20A0-4AD3-B323-1028C6A35D5D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964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comments in this program indicate both derivedl and derived2 inherit bas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derived3 inherits both derivedl and derived2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, there are two copies of base present in an object of type derived3, so that in an expression li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0360" indent="-16380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.i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0360" indent="-16380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 is being referred to? The one in derivedl or the one in derived2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re are two copies of base present in object ob, there are two ob.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! As you can see, the statement is inherently ambiguo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BC5-428B-4338-9C9C-5A55FC9D4B77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ways to remedy the preceding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300"/>
              </a:spcBef>
              <a:buClr>
                <a:srgbClr val="f96a1b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ope resolution opera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 and manually select one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63440">
              <a:spcBef>
                <a:spcPts val="300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following version of the program will compile and run a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pplying the ::, the program manuall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derivedl's version of bas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is solution raises a deeper issu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only one copy of base is actually requir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some way to prevent two copies from being included in derived3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63440">
              <a:spcBef>
                <a:spcPts val="300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F880-D5E4-429A-B73C-3D9454B81F54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Content Placeholder 4"/>
          <p:cNvSpPr/>
          <p:nvPr/>
        </p:nvSpPr>
        <p:spPr>
          <a:xfrm>
            <a:off x="2362320" y="4876920"/>
            <a:ext cx="449568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b.sum =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+ ob.j + ob.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&lt; </a:t>
            </a:r>
            <a:r>
              <a:rPr b="1" lang="ar-SA" sz="14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j &lt;&lt;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&lt;&lt; ob.k &lt;&lt;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300"/>
              </a:spcBef>
              <a:buClr>
                <a:srgbClr val="08a1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declare the base class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is achiev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 base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base classes  ensures that only one copy of it will be present in any derived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47B-D47E-42B8-AB2E-7A0C4CA92BC8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0" y="3657600"/>
            <a:ext cx="5486400" cy="32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//derived1 inherits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//derived2 inherits bas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2 :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960" y="-360"/>
            <a:ext cx="4343400" cy="708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This program uses virtual base class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#include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ostream&gt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space std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;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derived1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 :</a:t>
            </a:r>
            <a:r>
              <a:rPr b="0" lang="en-US" sz="1300" spc="-1" strike="noStrike">
                <a:solidFill>
                  <a:srgbClr val="0070c0"/>
                </a:solidFill>
                <a:latin typeface="Courier New"/>
                <a:ea typeface="Courier New"/>
              </a:rPr>
              <a:t>virtual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derived2 inherits base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: </a:t>
            </a:r>
            <a:r>
              <a:rPr b="0" lang="en-US" sz="1300" spc="-1" strike="noStrike">
                <a:solidFill>
                  <a:srgbClr val="0070c0"/>
                </a:solidFill>
                <a:latin typeface="Courier New"/>
                <a:ea typeface="Courier New"/>
              </a:rPr>
              <a:t>virtual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k;  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* derived3 inherits both derived1 and derived2. This means that there is only one copy of base in derived3! *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3 :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1,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2 { </a:t>
            </a: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public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}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419360" y="304920"/>
            <a:ext cx="4724280" cy="345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97b7e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){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3 ob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 i = 10; //</a:t>
            </a: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scope resolved, uses derived1</a:t>
            </a:r>
            <a:r>
              <a:rPr b="0" lang="ja-JP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’</a:t>
            </a: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s I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j = 20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k = 30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unambiguou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um = ob.i + ob.j + ob.k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b050"/>
                </a:solidFill>
                <a:latin typeface="Courier New"/>
                <a:ea typeface="Courier New"/>
              </a:rPr>
              <a:t>// unambiguou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 i &lt;&lt; </a:t>
            </a:r>
            <a:r>
              <a:rPr b="0" lang="ar-SA" sz="13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« »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j &lt;&lt;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ob.k &lt;&lt;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ja-JP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ob.sum;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  }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3CD-FD51-49C4-A426-12768E07B4DA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4500720" y="3886200"/>
            <a:ext cx="43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at bo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nheri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virtual, any multiple inheritance involving them will cause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resen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.i = 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erfectly valid and unambiguou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365040"/>
            <a:ext cx="77122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Between Normal Base Class and Virtual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2970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difference between a normal base class and a virtual one becomes evident when an object inherits the base class more than on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base class has been declared as virtual, then only one instance of it will be present in the inheriting object. Otherwise, multiple copies will be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316-0DDB-437C-98E1-0EF78AEBF726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ng Parameters to Base Class 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form of this expanded declaration is shown h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arates the constructor function declaration of the derived class from the base cl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7B8B-6621-4BD1-B9BA-A6F59D8A57D7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859040"/>
            <a:ext cx="8381880" cy="15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19520" y="151920"/>
            <a:ext cx="6248160" cy="67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(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 base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derived uses x;" y is passed along to bas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y): base(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j = x;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~derived(){cout 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cout &lt;&lt; i &lt;&lt;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—</a:t>
            </a:r>
            <a:r>
              <a:rPr b="0" lang="ja-JP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j&lt;&lt; </a:t>
            </a:r>
            <a:r>
              <a:rPr b="0" lang="en-US" sz="14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     derived  ob(3,4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();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B0B-AA0D-47FD-8E1B-15B4D5B8093F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200" y="-360"/>
            <a:ext cx="332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.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A49-555F-499D-AF88-8F3EA5DCD5E5}" type="slidenum"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's constructor is declared as taking two parameters, x and 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derived( ) uses only x; y is passed along to base(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the constructor of the derived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lare the parameter(s) that its class requires, as well as any required by the base clas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5119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645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ing Multiple Bas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for a derived class to inherit two or more base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definition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edNa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access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1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ss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list of derivedNam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6B5-D89D-4602-B722-EEDD9033DEC3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heriting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242424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552-D185-42BC-BA95-EE8A0E0BD215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6320" y="996840"/>
            <a:ext cx="4572000" cy="555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x() { cout &lt;&lt; x &lt;&lt;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howy() {cout&lt;&lt; y &lt;&lt;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  <a:ea typeface="Courier New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23920" y="990360"/>
            <a:ext cx="4343400" cy="563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2ad8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erived: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1,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2 {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i,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j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x= i;  y =j; }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 ob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et(10, 20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deri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x(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ba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.showy();</a:t>
            </a:r>
            <a:r>
              <a:rPr b="0" lang="en-US" sz="1600" spc="-1" strike="noStrike">
                <a:solidFill>
                  <a:srgbClr val="008000"/>
                </a:solidFill>
                <a:latin typeface="Courier New"/>
                <a:ea typeface="Courier New"/>
              </a:rPr>
              <a:t>//from base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8060-BCEB-4DF2-84C3-50B2EE91552D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n example of multiple ba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Gill Sans MT"/>
                <a:ea typeface="Arial"/>
              </a:rPr>
              <a:t>Aseel AlHadlaq_KSU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2AC-7A1E-464C-856B-580966237FCA}" type="slidenum">
              <a:rPr b="0" lang="en-US" sz="1600" spc="-1" strike="noStrike">
                <a:solidFill>
                  <a:srgbClr val="434342"/>
                </a:solidFill>
                <a:latin typeface="Gill Sans MT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ase Classes Constructing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52280" y="12193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are called in order of derivatio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ft to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specified in derived's inheritance lis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s are called in reverse order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to lef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03:34Z</dcterms:created>
  <dc:creator>Aseel</dc:creator>
  <dc:description/>
  <dc:language>en-US</dc:language>
  <cp:lastModifiedBy>Aseel</cp:lastModifiedBy>
  <dcterms:modified xsi:type="dcterms:W3CDTF">2014-03-12T16:05:06Z</dcterms:modified>
  <cp:revision>70</cp:revision>
  <dc:subject/>
  <dc:title>Inheritance in C++</dc:title>
</cp:coreProperties>
</file>