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1BD-2B34-4031-BCF8-EF7CACB2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3C4-D0A1-44E8-B1CA-07777A52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F8C-4F42-4B27-BF95-970B45FA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14D-9125-44D8-BF05-ACE6CA55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95A6-DC4A-408D-ADF5-F855F7CE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1270-FBDF-4194-81FE-C15BD9C1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9F09-B8CE-464E-9F7E-47929A9B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C504-A96E-472C-9DDD-60C0888C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D179-119B-4CFA-A011-586D8346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D17A-A57C-4594-8F3C-F4915D3A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1061-7739-43B9-8EFF-18AE3EB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1F5-D57B-41BA-9D9D-71261A9D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CBA7-92FF-4DE8-9A2C-88369E06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5FCA-8CA4-43A3-8295-830FCF09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B224-9C33-41E3-AE2A-177116BD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3EEB-4AAA-4128-B769-58423563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0CA0-8B43-41D8-BD8E-815919FD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15E2-6BA5-4C93-8C50-6B2A9A7E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7487-DCCC-4F58-B65D-F6F73582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ED62-BC42-4615-B172-043F56E4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5CE9-9D68-497C-85D2-15192228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EFEB7-33FD-4B9B-896C-912A1A90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F44-D2E8-4080-A115-EC3DF2A4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885F-A925-4112-A1A2-F4B31CB5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8E84-0573-4AD4-B967-8F5CFA4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8889-DC07-440A-8883-B8B92CCB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22372-B156-4404-A359-FD6AED03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D0D1-10D9-4980-ADEE-4A2B5336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3A04-8E0F-41CA-BB35-EFC25517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CBC3-4012-42CA-96FC-B09F0B9C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AEFBE-6881-48BA-92CF-62A27891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82643-BFD1-42D1-8102-BE3F80DE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A3F9-4D84-4B31-83CD-222612F0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7ED-88E7-4451-8451-0E294791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F48DF-38A3-45E2-88FB-3FAFC42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E82D-D21B-4782-A479-DD752C67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AB664-6B03-403E-90B7-BC39ECDD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FA16-65A2-4049-9926-0E4C7D3B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EA957-1EA7-49BC-94DA-AC90098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A5847-94CB-46EE-AD09-C9B14C8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8A43-82BB-4A61-8E54-3915546A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6D45B-3519-4F4B-B3EA-EC4A05B7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CC467-79EC-4903-A3D1-716F0641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3BE41-9E1B-4A99-B540-F9C4191C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DEB-44C5-46CE-BD54-65A65ADE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0E061-D84E-4161-977F-E5A51C6F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76E95-016F-46E5-AB72-C2FC39B3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046E8-82D7-4A2C-BA89-EC2B4CE2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4E17-FECE-47E7-AAA6-E88068BF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DD65B-2D3F-4F9E-9236-DCB702B0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7E54F-4601-4FE9-A044-D505E403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82BCA-3FFE-4E08-BBD4-EE96D5D5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4A61E-07DF-4EA0-A119-1C4F637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31486-D800-4A89-8A4D-B96851BA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00ED-C438-4C58-A0B4-441035C2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04C-51A3-48E0-8BA7-898F7833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236AF-EDCD-4A4F-BD4E-AE105A9F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7D6-49E7-43A9-B309-FF31664F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08E-9E06-44FB-BFBA-88F95778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354-5D0E-4803-A88F-D2539E63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A1AE-4B22-45F5-87EA-3A2832B74F2B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7F4-353F-49CC-B452-CE4C71A83D22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F2DE-41C8-4BE3-92BD-07B1BECE75B7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085E-53D3-4ED3-A18E-1180DC537EE4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7768-AF49-4B9C-8B2A-F6330D6A958E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3607-E618-40EF-AD0E-1A201682413E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77EA-CFAC-4A9F-AC7B-1EDD3D832DF0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20DA-3459-44A2-B6BC-71ABB5FEDF87}" type="slidenum">
              <a:rPr b="0" lang="en-US" sz="1600" spc="-1" strike="noStrike">
                <a:solidFill>
                  <a:srgbClr val="434342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E040-F11B-466A-B7BE-6D5B6C9120D5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3AF9-B10C-403C-B84E-971C9228E66F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heritance in C+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SC1201: Programming Language 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9BB8-80F9-48B2-8C1A-742C9F7B5837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sing Parameters to Base Class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990360"/>
            <a:ext cx="86868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neral form of this expanded declaration is shown he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1 through baseN are the names of the base classes inherited by the derived clas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arates the constructor function declaration of the derived class from the base classes, and that the base classes are separated from each other b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m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 the case of multiple base cla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Slide Number Placeholder 2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BED5-3035-40A1-8F44-D8B3A2E94EE5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04920" y="1447920"/>
            <a:ext cx="8839080" cy="222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erived-constructor(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arg-lis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Gill Sans MT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1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(arg-list)</a:t>
            </a:r>
            <a:r>
              <a:rPr b="1" i="1" lang="en-US" sz="4400" spc="-1" strike="noStrike">
                <a:solidFill>
                  <a:srgbClr val="ff0000"/>
                </a:solidFill>
                <a:latin typeface="Gill Sans MT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2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arg-list)</a:t>
            </a:r>
            <a:r>
              <a:rPr b="1" i="1" lang="en-US" sz="6000" spc="-1" strike="noStrike">
                <a:solidFill>
                  <a:srgbClr val="ff0000"/>
                </a:solidFill>
                <a:latin typeface="Gill Sans MT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….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N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arg-lis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ody of derived constru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52184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5CD4-01A8-4864-BAC8-ABDFE0160D09}" type="slidenum">
              <a:rPr b="0" lang="en-US" sz="1600" spc="-1" strike="noStrike">
                <a:solidFill>
                  <a:srgbClr val="ffffff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Content Placeholder 2"/>
          <p:cNvSpPr/>
          <p:nvPr/>
        </p:nvSpPr>
        <p:spPr>
          <a:xfrm>
            <a:off x="0" y="762120"/>
            <a:ext cx="4572000" cy="426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Content Placeholder 2"/>
          <p:cNvSpPr/>
          <p:nvPr/>
        </p:nvSpPr>
        <p:spPr>
          <a:xfrm>
            <a:off x="4267080" y="609480"/>
            <a:ext cx="4953240" cy="518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2 ob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 and destruct ob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676520" y="5005440"/>
            <a:ext cx="5135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4429080"/>
            <a:ext cx="5538960" cy="2428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8364-3F9D-4918-B825-306E76313851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20880" y="-360"/>
            <a:ext cx="3322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ontent Placeholder 2"/>
          <p:cNvSpPr/>
          <p:nvPr/>
        </p:nvSpPr>
        <p:spPr>
          <a:xfrm>
            <a:off x="4038480" y="76320"/>
            <a:ext cx="50292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 ob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 and destruct ob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78920" y="914040"/>
            <a:ext cx="4621320" cy="558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1(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i = x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</a:t>
            </a:r>
            <a:r>
              <a:rPr b="0" lang="ja-JP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CONS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1() { cout &lt;&lt; </a:t>
            </a:r>
            <a:r>
              <a:rPr b="0" lang="ja-JP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DES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2(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k = x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</a:t>
            </a:r>
            <a:r>
              <a:rPr b="0" lang="ja-JP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CONS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3023-7664-4A0A-9D13-7E4330C1D0AB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Multiple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ontent Placeholder 7"/>
          <p:cNvSpPr/>
          <p:nvPr/>
        </p:nvSpPr>
        <p:spPr>
          <a:xfrm>
            <a:off x="4191120" y="1295280"/>
            <a:ext cx="5029200" cy="54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 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y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z ): base1(y), base2(z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 j = x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derived(){ cout &lt;&lt;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(){cout &lt;&lt; i &lt;&lt;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j&lt;&lt;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k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  ob(3,4,5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how()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226280" cy="2743200"/>
          </a:xfrm>
          <a:prstGeom prst="rect">
            <a:avLst/>
          </a:prstGeom>
          <a:ln w="0">
            <a:noFill/>
          </a:ln>
        </p:spPr>
      </p:pic>
      <p:sp>
        <p:nvSpPr>
          <p:cNvPr id="280" name="Footer Placeholder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D46E-A20D-4423-92FE-7C1189D093A5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0" y="1125360"/>
            <a:ext cx="4495680" cy="573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1(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{ i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2(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{ k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4ADB-92FE-4AD3-93EA-30B6FAA39EB3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Multiple Base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tent Placeholder 7"/>
          <p:cNvSpPr/>
          <p:nvPr/>
        </p:nvSpPr>
        <p:spPr>
          <a:xfrm>
            <a:off x="4495680" y="1125360"/>
            <a:ext cx="4648320" cy="55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y): base1(x), base2(y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derived()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(){cout &lt;&lt; i &lt;&lt;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j&lt;&lt;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k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  ob(3,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how();        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69320" cy="3138480"/>
          </a:xfrm>
          <a:prstGeom prst="rect">
            <a:avLst/>
          </a:prstGeom>
          <a:ln w="0">
            <a:noFill/>
          </a:ln>
        </p:spPr>
      </p:pic>
      <p:sp>
        <p:nvSpPr>
          <p:cNvPr id="289" name="Footer Placeholder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DE72-CA3A-4259-A888-A6F0613A6F6B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tructor function of a derived class is free to use any and all parameters that it is declared as taken, whether or not one or more are passed along to a base clas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is fragment is perfectly vali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39C4-5F34-4461-A818-085CCA983F48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971640" y="3559320"/>
            <a:ext cx="73342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derived: public base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erived uses both x and y and then passes them to base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x, int y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(x, y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j = x*y;  cout &lt;&lt; "Constructing derived\n"; 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520" y="110016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ment of ambiguity can be introduced into a C++ program when multiple base classes are inherit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following incorrect progr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EFB8-A324-481B-92DE-E14D200441F0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6320" y="685800"/>
            <a:ext cx="5029200" cy="60199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7b7e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a31515"/>
                </a:solidFill>
                <a:latin typeface="Courier New"/>
                <a:ea typeface="Courier New"/>
              </a:rPr>
              <a:t>&lt;iostream&gt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;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urier New"/>
                <a:ea typeface="Courier New"/>
              </a:rPr>
              <a:t>//derived1 inherits base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1 :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j; 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urier New"/>
                <a:ea typeface="Courier New"/>
              </a:rPr>
              <a:t>//derived2 inherits base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2 :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k; 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urier New"/>
                <a:ea typeface="Courier New"/>
              </a:rPr>
              <a:t>/* derived3 inherits both derived1 and derived2. This means that there are two copies of base in derived3! *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3 :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1,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2 {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343400" y="738360"/>
            <a:ext cx="4572000" cy="39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7b7e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3 ob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i = 10;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this is ambiguous; which i???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j = 2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k = 3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 ambiguous here, to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um = ob.i + ob.j + ob.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so ambiguous, which i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i &lt;&lt; « 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j &lt;&lt;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b.k &lt;&lt;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sum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 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EDC9-C125-44C9-A4E4-1A020ABE3863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ncorrect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Diagram 5" descr=""/>
          <p:cNvPicPr/>
          <p:nvPr/>
        </p:nvPicPr>
        <p:blipFill>
          <a:blip r:embed="rId1"/>
          <a:stretch/>
        </p:blipFill>
        <p:spPr>
          <a:xfrm>
            <a:off x="5407200" y="4273560"/>
            <a:ext cx="3627360" cy="2603520"/>
          </a:xfrm>
          <a:prstGeom prst="rect">
            <a:avLst/>
          </a:prstGeom>
          <a:ln w="0">
            <a:noFill/>
          </a:ln>
        </p:spPr>
      </p:pic>
      <p:cxnSp>
        <p:nvCxnSpPr>
          <p:cNvPr id="306" name="Elbow Connector 9"/>
          <p:cNvCxnSpPr/>
          <p:nvPr/>
        </p:nvCxnSpPr>
        <p:spPr>
          <a:xfrm flipV="1" rot="10800000">
            <a:off x="7009560" y="5935320"/>
            <a:ext cx="1704240" cy="200880"/>
          </a:xfrm>
          <a:prstGeom prst="bentConnector3">
            <a:avLst>
              <a:gd name="adj1" fmla="val 49989"/>
            </a:avLst>
          </a:prstGeom>
          <a:ln w="38160">
            <a:solidFill>
              <a:srgbClr val="797b7e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19320"/>
            <a:ext cx="82296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heriting Multiple Base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Passing Parameters to Base Class Constru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Virtual Base Clas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ce Between Normal Base Class and Virtual Base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F2E0-12DE-4189-87A3-2D5A0A9C3A76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964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Base Clas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comments in this program indicate both derivedl and derived2 inherit bas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derived3 inherits both derivedl and derived2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result, there are two copies of base present in an object of type derived3, so that in an expression li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0360" indent="-16380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.i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0360" indent="-16380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 is being referred to? The one in derivedl or the one in derived2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re are two copies of base present in object ob, there are two ob.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! As you can see, the statement is inherently ambiguou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BC7B-61E5-4DD5-90C2-9C9267417439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ways to remedy the preceding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300"/>
              </a:spcBef>
              <a:buClr>
                <a:srgbClr val="f96a1b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cope resolution opera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 and manually select one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63440">
              <a:spcBef>
                <a:spcPts val="300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following version of the program will compile and run a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pplying the ::, the program manuall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s derivedl's version of bas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is solution raises a deeper issu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only one copy of base is actually requir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some way to prevent two copies from being included in derived3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63440">
              <a:spcBef>
                <a:spcPts val="300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2A2C-F3EB-4A70-8E08-5488CC25FA2D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Content Placeholder 4"/>
          <p:cNvSpPr/>
          <p:nvPr/>
        </p:nvSpPr>
        <p:spPr>
          <a:xfrm>
            <a:off x="2362320" y="4876920"/>
            <a:ext cx="449568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7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Gill Sans MT"/>
              </a:rPr>
              <a:t>// scope resolve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b.sum =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ob.</a:t>
            </a:r>
            <a:r>
              <a:rPr b="1" lang="en-US" sz="1400" spc="-1" strike="noStrike">
                <a:solidFill>
                  <a:srgbClr val="0070c0"/>
                </a:solidFill>
                <a:latin typeface="Gill Sans MT"/>
              </a:rPr>
              <a:t>derived1::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+ ob.j + ob.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Gill Sans MT"/>
              </a:rPr>
              <a:t>// scope resolve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ob.</a:t>
            </a:r>
            <a:r>
              <a:rPr b="1" lang="en-US" sz="1400" spc="-1" strike="noStrike">
                <a:solidFill>
                  <a:srgbClr val="0070c0"/>
                </a:solidFill>
                <a:latin typeface="Gill Sans MT"/>
              </a:rPr>
              <a:t>derived1::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&lt; </a:t>
            </a:r>
            <a:r>
              <a:rPr b="1" lang="ar-SA" sz="1400" spc="-1" strike="noStrike" baseline="30000">
                <a:solidFill>
                  <a:srgbClr val="000000"/>
                </a:solidFill>
                <a:latin typeface="Gill Sans MT"/>
                <a:ea typeface="Arial"/>
              </a:rPr>
              <a:t>« »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ob.j &lt;&lt;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&lt;&lt; ob.k &lt;&lt;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ob.sum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return 0; 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300"/>
              </a:spcBef>
              <a:buClr>
                <a:srgbClr val="08a1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declare the base class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is achiev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rtual base cl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base classes  ensures that only one copy of it will be present in any derived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6F06-7E4A-40F6-8B93-8AD9545A20E1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0" y="3657600"/>
            <a:ext cx="5486400" cy="320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//derived1 inherits b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d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virtu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; 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//derived2 inherits bas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d2 :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virtu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; 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960" y="-360"/>
            <a:ext cx="4343400" cy="708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97b7e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/ This program uses virtual base class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#include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using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space std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;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/derived1 inherits base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1 :</a:t>
            </a:r>
            <a:r>
              <a:rPr b="0" lang="en-US" sz="1300" spc="-1" strike="noStrike">
                <a:solidFill>
                  <a:srgbClr val="0070c0"/>
                </a:solidFill>
                <a:latin typeface="Courier New"/>
                <a:ea typeface="Courier New"/>
              </a:rPr>
              <a:t>virtual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j; 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/derived2 inherits base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2 : </a:t>
            </a:r>
            <a:r>
              <a:rPr b="0" lang="en-US" sz="1300" spc="-1" strike="noStrike">
                <a:solidFill>
                  <a:srgbClr val="0070c0"/>
                </a:solidFill>
                <a:latin typeface="Courier New"/>
                <a:ea typeface="Courier New"/>
              </a:rPr>
              <a:t>virtual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k; 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* derived3 inherits both derived1 and derived2. This means that there is only one copy of base in derived3! *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3 :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1,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2 {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int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um;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419360" y="304920"/>
            <a:ext cx="4724280" cy="345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97b7e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int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)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3 ob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b. i = 10; //</a:t>
            </a: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scope resolved, uses derived1</a:t>
            </a:r>
            <a:r>
              <a:rPr b="0" lang="ja-JP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’</a:t>
            </a: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s I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b.j = 20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b.k = 30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/ unambiguou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um = ob.i + ob.j + ob.k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/ unambiguou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 i &lt;&lt; </a:t>
            </a:r>
            <a:r>
              <a:rPr b="0" lang="ar-SA" sz="13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« »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j &lt;&lt;</a:t>
            </a:r>
            <a:r>
              <a:rPr b="0" lang="ja-JP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ja-JP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b.k &lt;&lt;</a:t>
            </a:r>
            <a:r>
              <a:rPr b="0" lang="ja-JP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ja-JP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sum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  }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A2C6-76A7-43D3-A6E1-3C4DBA09F4FB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4500720" y="3886200"/>
            <a:ext cx="431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at bo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ed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ed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nheri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virtual, any multiple inheritance involving them will cause only one cop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present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ed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only one cop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.i = 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erfectly valid and unambiguou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7122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 Between Normal Base Class and Virtual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2240" y="129708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difference between a normal base class and a virtual one becomes evident when an object inherits the base class more than onc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base class has been declared as virtual, then only one instance of it will be present in the inheriting object. Otherwise, multiple copies will be f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1087-AC42-4A68-A6B7-5E083BDC65CE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sing Parameters to Base Class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9907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form of this expanded declaration is shown he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parates the constructor function declaration of the derived class from the base cl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E009-8BC8-43B3-9F74-08B383A780B8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04920" y="1859040"/>
            <a:ext cx="8381880" cy="15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erived-constructor(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arg-lis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Gill Sans MT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1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(arg-lis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ody of derived constru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19520" y="151920"/>
            <a:ext cx="6248160" cy="670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(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{ i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derived uses x;" y is passed along to bas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y): base(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 j = x;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derived(){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cout &lt;&lt; i &lt;&lt;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—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j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 {     derived  ob(3,4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how();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3990-4A6A-4D14-A6BF-BEB7DF4E05A3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200" y="-360"/>
            <a:ext cx="332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.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BF7F-D910-4162-83E4-23894F0114DE}" type="slidenum">
              <a:rPr b="0" lang="en-US" sz="1600" spc="-1" strike="noStrike">
                <a:solidFill>
                  <a:srgbClr val="ffffff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d's constructor is declared as taking two parameters, x and 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derived( ) uses only x; y is passed along to base( 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the constructor of the derived cla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lare the parameter(s) that its class requires, as well as any required by the base clas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5119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645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ing Multiple Bas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for a derived class to inherit two or more base cl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definition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rivedNam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access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1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ss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 list of derivedNam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E3B2-D503-4823-B0BF-3958EB27DD4F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nheriting Multiple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Content Placeholder 3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114800" cy="2424240"/>
          </a:xfrm>
          <a:prstGeom prst="rect">
            <a:avLst/>
          </a:prstGeom>
          <a:ln w="0">
            <a:noFill/>
          </a:ln>
        </p:spPr>
      </p:pic>
      <p:sp>
        <p:nvSpPr>
          <p:cNvPr id="243" name="Footer Placeholder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8DCA-C090-4AEA-8726-979BB18CC4E0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76320" y="996840"/>
            <a:ext cx="4572000" cy="555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  <a:ea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x() { cout &lt;&lt; x &lt;&lt;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  <a:ea typeface="Courier New"/>
              </a:rPr>
              <a:t>"\n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y() {cout&lt;&lt; y &lt;&lt; 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  <a:ea typeface="Courier New"/>
              </a:rPr>
              <a:t>"\n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723920" y="990360"/>
            <a:ext cx="4343400" cy="563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,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i,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j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x= i;  y =j; }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 ob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et(10, 20);</a:t>
            </a:r>
            <a:r>
              <a:rPr b="0" lang="en-US" sz="1600" spc="-1" strike="noStrike">
                <a:solidFill>
                  <a:srgbClr val="008000"/>
                </a:solidFill>
                <a:latin typeface="Courier New"/>
                <a:ea typeface="Courier New"/>
              </a:rPr>
              <a:t>//from deri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howx();</a:t>
            </a:r>
            <a:r>
              <a:rPr b="0" lang="en-US" sz="1600" spc="-1" strike="noStrike">
                <a:solidFill>
                  <a:srgbClr val="008000"/>
                </a:solidFill>
                <a:latin typeface="Courier New"/>
                <a:ea typeface="Courier New"/>
              </a:rPr>
              <a:t>//from bas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howy();</a:t>
            </a:r>
            <a:r>
              <a:rPr b="0" lang="en-US" sz="1600" spc="-1" strike="noStrike">
                <a:solidFill>
                  <a:srgbClr val="008000"/>
                </a:solidFill>
                <a:latin typeface="Courier New"/>
                <a:ea typeface="Courier New"/>
              </a:rPr>
              <a:t>//from base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B65F-CFEB-4601-9100-BE3F96FE84B8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An example of multiple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1532-20C7-4901-A602-D04045E14C73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Base Classes Constructing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152280" y="121932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 are called in order of derivatio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 to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 specified in derived's inheritance lis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ors are called in reverse order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ght to lef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7:03:34Z</dcterms:created>
  <dc:creator>Aseel</dc:creator>
  <dc:description/>
  <dc:language>en-US</dc:language>
  <cp:lastModifiedBy>Aseel</cp:lastModifiedBy>
  <dcterms:modified xsi:type="dcterms:W3CDTF">2014-03-12T16:05:06Z</dcterms:modified>
  <cp:revision>70</cp:revision>
  <dc:subject/>
  <dc:title>Inheritance in C++</dc:title>
</cp:coreProperties>
</file>