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0080-0CD2-4CA1-9C54-7230FE5C4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5911-730F-44DA-B360-4AEA7FE352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93C4-8188-4C3D-8DC8-C0284099FC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FAE8-1F96-4B1F-8615-E3912C082C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9D84-A8F7-4368-801F-4F10DD2847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5163-0FB5-446F-B31F-8E541D0341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ABB7-B0D5-4CDD-9B62-BAC2FC3C23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A8D8-134F-4FBA-8D20-E90727E3AC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6793-BB36-402A-9F95-212C0F75F0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0D7A-4DF3-47B1-94F1-5F2C40B4C2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7DF0-7E8E-4D04-9090-F4712B1B827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D2D1B-6880-49A8-BFE6-7282A2796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DC35-CCAE-4C5C-8D73-BF23582AF0F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25B46-5BB7-47B6-A709-05D0074D46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17B29-68CA-4075-ABDD-577EAA9EDC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E3FEE-B7FA-489C-95A9-6E577DC8C0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FE118-BB71-4D5C-B5D6-E6D70E1CCD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8FDFD-78AC-47CA-BE7C-A129767162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16AF0-3864-4CB1-B748-07C30D4444A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7E2E3-8287-4051-9F99-605F7F878F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9A365-3DD1-45FF-A3E2-B27E5CED6F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98518-BB56-452D-89B0-8F01071EE3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F0B5A-0D65-423C-B5B9-EC775A0E3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5796-8ACB-499B-81CE-A926290381D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C722F-878A-413F-BE54-4A3F0E52F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129F-0C1D-4483-8427-6FCF3602C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B22D-F790-4233-B0A1-FB12EA07EA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B97F-BE52-4A81-840A-E0719C120A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BDCE-EE2D-4AFE-8B50-452C9B0BF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1191-32DD-47EA-A5BC-9C7244E638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6F79-67A7-4B46-B004-6DA430A7DD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F170-BB2F-4D2B-AAF0-FF8B88AEF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41FC-86CB-4A7E-94CA-B20EAC6EB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A989-7EA4-4AA6-BBB6-F7BD4084C1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9BC9-E4CE-4DB7-BD1B-48DE1BE08A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26DA-6A1E-4370-8B24-E470D72AA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59BA-9043-4FBA-9134-1960F03C1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70FD-2E9D-48ED-A3F2-964D3FFB57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703-319C-4310-9A86-603D9C11C8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1E8-1FB4-461C-8D69-572917D1D5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10C-C67E-4B31-83CD-DABFCCB449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6A6-F088-4F1C-BCCF-89CDD05B88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950-8C0F-45DB-BF50-9835ED1A1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9350-E8B4-437D-98DD-9A4FB91C54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7F2-BFF8-429C-9EE0-D9690BF2DD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573-15DC-4C09-B130-1AD74B94E4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E3F-EE73-4F1F-A4FD-0506CE5D98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CBA-28E7-4A90-A2B8-5FC3E92704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CD7-ED84-4B59-BDC4-3B7C427844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2A5-1826-4132-B35E-3BF48813C0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5F6-0163-456F-8475-5CC3452CFB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B7666-4A60-4898-A294-1B1E27E571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77867-7F84-4D41-9E86-3C300F2662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65985-ABE8-4CA8-89F2-A4F1B3985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4BE8-B1B8-4684-8A80-C9AC77CE77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723D-097A-4E11-911E-74CEF744FE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C8884-993D-4F4D-B451-C272FCEBF0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258A3-574A-42E6-B1CD-D841B96626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427E8-6F68-448D-A9B5-2EC96FC64B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561C-CBA2-4EEF-8B71-B171B0592F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08134-5690-4DC7-9F82-8E0741134A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6B55F-B320-4854-A91D-6202B51BD4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9BE5-6AE8-4658-A11E-E341F465D1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9766D-E827-4118-9C5E-7E69410478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E1768-B52A-4C69-99FE-DE24849F6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00C6-1547-40CB-91B2-E3AECFF3E2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2808D-AD5B-4BFD-9B4A-4EFA98DF84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273A7-AE96-4BE9-83C2-7DD043EA7F5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F510F-C685-4A63-8FFE-77F9A2669F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6B0C-7E20-4191-8DA9-E3803506F7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0214-FE7D-470B-84A7-0F3F92F543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0E801-04C4-445A-9168-443C88C39C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93394-3DA9-4E24-B96F-B276BD9860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C2FC1-54EB-4AE3-AB88-B3DFF2AFB8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AF9E9-85E8-4FE5-BEE6-D7B66D7486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E9834-B39D-4A98-ACBA-678FABB4D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C796-B653-40CE-B511-9AFABF44E6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CF6AE-4757-44A9-8924-05F37A61FD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F488-E356-4CD8-AB39-60CF6A1208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4161-57EC-4D95-8373-E3BA0BD400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C4E-3ABA-45F1-98B9-8AE02547C9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DEA-80D0-40A4-A183-D7CD3182AF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5265-69B5-408F-A9B3-08DF7FB2F4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641-16BF-4320-802E-7B72AB2AF6F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B81C-6E14-48A6-B80D-B0D3EB04E2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3E82-62FE-418A-93DF-FBAE878EC9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9D81-76F0-40E4-990C-BD7F2AF76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9BC3-20D3-4BA3-A53D-F05647D97A8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B189-1BE4-4AB5-B502-6FFF93ADAC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3E4-5FDC-431E-9689-1FDB03BBDE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8CAC-6881-4F1D-B0E8-5F504ABCC3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8D73A-4D16-40D1-A2BE-E4CB015AD4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B2D3F-77DB-4787-9AC7-6B1E11AFE6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AE1E6-4814-4EB8-B602-C1E6DF62A2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6C1C2-53DD-480C-87F5-720F4D5DDD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852EC-757F-4741-8C57-47E1753051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C9CA6-A872-41B4-8B75-819E88056C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FDE0F-B7A4-4BC7-BE56-094E2675E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0CCE-28F6-4275-9ED8-F621911B7B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5EA6C-174E-4096-BDD1-FA5E94EE48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D0203-9D26-40A2-8BA5-92FC8C0094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C26B6-10B2-4CEB-A406-897044877B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1A6EC-EA9D-45F1-AA84-2770DA93CD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2DA87-C06A-49F9-9DB9-E6EDFBB708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7D292-CFA3-4B59-A733-30980AE978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5D14B-9950-4A54-90B2-9A265E7717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14AB4-0095-49EB-83D2-85BCDB3C94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175B9-12E9-49D7-9533-43CE5AEF5D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B19A3-DA20-4E33-8AB8-944FEDF23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29C0-FA20-4AC0-A94F-4AA5D6369EA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433F7-87DD-4CFC-9750-A9ABB20E94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40303-7444-4260-9EA1-5C143ACB7FA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0A350-0F5F-4EDC-A198-76D62E26C0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99A2A-BA4D-43CB-A607-F2EE457E60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52F23-059A-44AE-8AAF-9D57AD90A7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73A0F-DC3E-4901-89A4-3AAE9A25C9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63E6D-6819-48CE-B554-7A58D680ED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438E-97F9-4C70-A054-0DF2592BFA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344B-7854-42BF-9F24-FDB77D01944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5B82-03A3-490E-94C1-FC337FBF5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9625-5CE0-4EC4-A35F-668B5140D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79FA-FE9D-4372-A08E-93FA8A1CB22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635-2E93-4F50-A66F-EE369F8FBF2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A2F-791E-46C8-9AB5-6ECA15B1802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7289-7F8A-4859-ABE4-B20C23CBB79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B993-5208-40C5-80DA-4F006570887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BBDA-6702-44BE-8F88-E3C12082F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553-7D19-4722-81C4-26DA4899F4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910E-3064-4B0C-9133-B2BCE20CFA4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2CB-C6D2-435D-9F32-843AFC39B84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roduction to Databa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CED8-B580-498B-801B-9FD704AEDB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72812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ile structure is defined in the application c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ompatible file forma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in different languages, and so cannot easily access each other’s fil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ixed Queries/Proliferation of application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to satisfy particular func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y new requirement needs a new progra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419-A11A-44FA-A7ED-8D7F7651758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ecaus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These limitations of the FBS approach attributed to two factors</a:t>
            </a:r>
            <a:r>
              <a:rPr b="0" lang="ar-KW" sz="2000" spc="-1" strike="noStrike">
                <a:solidFill>
                  <a:srgbClr val="000066"/>
                </a:solidFill>
                <a:latin typeface="Times New Roman"/>
              </a:rPr>
              <a:t>(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finition of data was embedded in application programs, rather than being stored separately and independentl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control over access and manipulation of data beyond that imposed by application progra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ult: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he database and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8F22-F8A3-48D5-B805-3C947B76D63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ed collection of logically related data (and a description of this data), designed to meet the information needs of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ystem catalog (metadata) provides description of  data to enable program–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ly related data comprises entities, attributes, and relationships of an organization’s inform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DBC-2790-43C1-AA3C-8770BAB375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Database Systems (DB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49780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B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single large repository of data, defined once and managed using DBMS while used by many application programs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DBMS + Application Program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4E13-7FE6-4689-8A49-5D4C6F594B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AutoShape 10"/>
          <p:cNvSpPr/>
          <p:nvPr/>
        </p:nvSpPr>
        <p:spPr>
          <a:xfrm>
            <a:off x="7677000" y="4275000"/>
            <a:ext cx="533520" cy="7272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1844640" y="380376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468360" y="36450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1 (Sal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764000" y="419904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7451280" y="5037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543600" y="50846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2 (H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1935360" y="570852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R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2647800" y="3422520"/>
            <a:ext cx="990720" cy="7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5315040" y="4351320"/>
            <a:ext cx="129528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32"/>
          <p:cNvSpPr/>
          <p:nvPr/>
        </p:nvSpPr>
        <p:spPr>
          <a:xfrm flipH="1">
            <a:off x="3714480" y="480852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33"/>
          <p:cNvSpPr/>
          <p:nvPr/>
        </p:nvSpPr>
        <p:spPr>
          <a:xfrm>
            <a:off x="3714840" y="374184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35"/>
          <p:cNvSpPr/>
          <p:nvPr/>
        </p:nvSpPr>
        <p:spPr>
          <a:xfrm>
            <a:off x="6610320" y="4656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Rectangle 29"/>
          <p:cNvSpPr/>
          <p:nvPr/>
        </p:nvSpPr>
        <p:spPr>
          <a:xfrm>
            <a:off x="2666880" y="4946760"/>
            <a:ext cx="990720" cy="7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Rectangle 1033"/>
          <p:cNvSpPr/>
          <p:nvPr/>
        </p:nvSpPr>
        <p:spPr>
          <a:xfrm>
            <a:off x="1752480" y="2946240"/>
            <a:ext cx="678024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1035"/>
          <p:cNvSpPr/>
          <p:nvPr/>
        </p:nvSpPr>
        <p:spPr>
          <a:xfrm>
            <a:off x="1752480" y="296532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12"/>
          <p:cNvSpPr/>
          <p:nvPr/>
        </p:nvSpPr>
        <p:spPr>
          <a:xfrm>
            <a:off x="1828800" y="532764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0" name="Picture 6" descr="C01NF07"/>
          <p:cNvPicPr/>
          <p:nvPr/>
        </p:nvPicPr>
        <p:blipFill>
          <a:blip r:embed="rId1"/>
          <a:srcRect l="0" t="0" r="0" b="21014"/>
          <a:stretch/>
        </p:blipFill>
        <p:spPr>
          <a:xfrm>
            <a:off x="539640" y="2924280"/>
            <a:ext cx="8064720" cy="341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Management System (DBM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oftware system that enables users to define, create, maintain, and control access to the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BMS facilitates the following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reate and Define a DB through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a Definition Language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DDL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struct and Load a DB conte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Manipulate a DB -query &amp; update the DB- through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a Manipulation Language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(DML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rol access to data (security, integrity, concurrency, recove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ome Relational DBMS vendors/products lik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Access &amp; SQL Server/MS , MySQL,Oracle ..et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B205-9608-4EA1-A1C4-3D40D63BF71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Can range from a PC to a network of computer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BMS, operating system, network software (if necessary) and also the application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6766-E956-4BFC-9F04-A8CB07F99DD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539640" y="1700280"/>
            <a:ext cx="8280360" cy="1635120"/>
            <a:chOff x="539640" y="1700280"/>
            <a:chExt cx="8280360" cy="1635120"/>
          </a:xfrm>
        </p:grpSpPr>
        <p:pic>
          <p:nvPicPr>
            <p:cNvPr id="520" name="Picture 6" descr="C01NF08"/>
            <p:cNvPicPr/>
            <p:nvPr/>
          </p:nvPicPr>
          <p:blipFill>
            <a:blip r:embed="rId1"/>
            <a:stretch/>
          </p:blipFill>
          <p:spPr>
            <a:xfrm>
              <a:off x="539640" y="1700280"/>
              <a:ext cx="82803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6"/>
            <p:cNvSpPr/>
            <p:nvPr/>
          </p:nvSpPr>
          <p:spPr>
            <a:xfrm>
              <a:off x="4211640" y="2781000"/>
              <a:ext cx="864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d by the organization and a description of this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Instructions and rules that should be applied to the design and use of the database and DB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419-FAFC-492E-A571-0DBDC98728A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2616120" y="4038480"/>
            <a:ext cx="388620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4826160" y="4191120"/>
            <a:ext cx="121896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2844720" y="419112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130720" y="5181480"/>
            <a:ext cx="685800" cy="83844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5740560" y="1828800"/>
            <a:ext cx="13716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2844720" y="1828800"/>
            <a:ext cx="12193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2" name="Group 15"/>
          <p:cNvGrpSpPr/>
          <p:nvPr/>
        </p:nvGrpSpPr>
        <p:grpSpPr>
          <a:xfrm>
            <a:off x="1625760" y="4114800"/>
            <a:ext cx="304560" cy="685800"/>
            <a:chOff x="1625760" y="4114800"/>
            <a:chExt cx="304560" cy="685800"/>
          </a:xfrm>
        </p:grpSpPr>
        <p:sp>
          <p:nvSpPr>
            <p:cNvPr id="533" name="AutoShape 11"/>
            <p:cNvSpPr/>
            <p:nvPr/>
          </p:nvSpPr>
          <p:spPr>
            <a:xfrm>
              <a:off x="1625760" y="4114800"/>
              <a:ext cx="30456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Line 12"/>
            <p:cNvSpPr/>
            <p:nvPr/>
          </p:nvSpPr>
          <p:spPr>
            <a:xfrm>
              <a:off x="1747440" y="43639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13"/>
            <p:cNvSpPr/>
            <p:nvPr/>
          </p:nvSpPr>
          <p:spPr>
            <a:xfrm flipH="1">
              <a:off x="1625760" y="4674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14"/>
            <p:cNvSpPr/>
            <p:nvPr/>
          </p:nvSpPr>
          <p:spPr>
            <a:xfrm>
              <a:off x="1747440" y="4674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Line 16"/>
          <p:cNvSpPr/>
          <p:nvPr/>
        </p:nvSpPr>
        <p:spPr>
          <a:xfrm>
            <a:off x="208296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17"/>
          <p:cNvSpPr/>
          <p:nvPr/>
        </p:nvSpPr>
        <p:spPr>
          <a:xfrm>
            <a:off x="406404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18"/>
          <p:cNvSpPr/>
          <p:nvPr/>
        </p:nvSpPr>
        <p:spPr>
          <a:xfrm>
            <a:off x="543564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3301560" y="2971800"/>
            <a:ext cx="305280" cy="685800"/>
            <a:chOff x="3301560" y="2971800"/>
            <a:chExt cx="305280" cy="685800"/>
          </a:xfrm>
        </p:grpSpPr>
        <p:sp>
          <p:nvSpPr>
            <p:cNvPr id="541" name="AutoShape 20"/>
            <p:cNvSpPr/>
            <p:nvPr/>
          </p:nvSpPr>
          <p:spPr>
            <a:xfrm>
              <a:off x="3301920" y="2971800"/>
              <a:ext cx="30492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>
              <a:off x="3423960" y="32209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3301560" y="3531600"/>
              <a:ext cx="12204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3423960" y="3531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5" name="Line 24"/>
          <p:cNvSpPr/>
          <p:nvPr/>
        </p:nvSpPr>
        <p:spPr>
          <a:xfrm>
            <a:off x="345456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25"/>
          <p:cNvSpPr/>
          <p:nvPr/>
        </p:nvSpPr>
        <p:spPr>
          <a:xfrm>
            <a:off x="345456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7" name="Group 26"/>
          <p:cNvGrpSpPr/>
          <p:nvPr/>
        </p:nvGrpSpPr>
        <p:grpSpPr>
          <a:xfrm>
            <a:off x="4749480" y="1752480"/>
            <a:ext cx="305280" cy="685800"/>
            <a:chOff x="4749480" y="1752480"/>
            <a:chExt cx="305280" cy="685800"/>
          </a:xfrm>
        </p:grpSpPr>
        <p:sp>
          <p:nvSpPr>
            <p:cNvPr id="548" name="AutoShape 27"/>
            <p:cNvSpPr/>
            <p:nvPr/>
          </p:nvSpPr>
          <p:spPr>
            <a:xfrm>
              <a:off x="4749840" y="1752480"/>
              <a:ext cx="30492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>
              <a:off x="4871880" y="20016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4749480" y="2312280"/>
              <a:ext cx="12204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4871880" y="231228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Line 31"/>
          <p:cNvSpPr/>
          <p:nvPr/>
        </p:nvSpPr>
        <p:spPr>
          <a:xfrm flipH="1">
            <a:off x="406368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32"/>
          <p:cNvSpPr/>
          <p:nvPr/>
        </p:nvSpPr>
        <p:spPr>
          <a:xfrm flipH="1">
            <a:off x="513072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4" name="Group 33"/>
          <p:cNvGrpSpPr/>
          <p:nvPr/>
        </p:nvGrpSpPr>
        <p:grpSpPr>
          <a:xfrm>
            <a:off x="7721280" y="1828800"/>
            <a:ext cx="305280" cy="685800"/>
            <a:chOff x="7721280" y="1828800"/>
            <a:chExt cx="305280" cy="685800"/>
          </a:xfrm>
        </p:grpSpPr>
        <p:sp>
          <p:nvSpPr>
            <p:cNvPr id="555" name="AutoShape 34"/>
            <p:cNvSpPr/>
            <p:nvPr/>
          </p:nvSpPr>
          <p:spPr>
            <a:xfrm>
              <a:off x="7721640" y="1828800"/>
              <a:ext cx="30492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>
              <a:off x="7843680" y="20779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7721280" y="2388600"/>
              <a:ext cx="12204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843680" y="2388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59" name="Group 43"/>
          <p:cNvGrpSpPr/>
          <p:nvPr/>
        </p:nvGrpSpPr>
        <p:grpSpPr>
          <a:xfrm>
            <a:off x="6654960" y="3048120"/>
            <a:ext cx="304560" cy="685800"/>
            <a:chOff x="6654960" y="3048120"/>
            <a:chExt cx="304560" cy="685800"/>
          </a:xfrm>
        </p:grpSpPr>
        <p:sp>
          <p:nvSpPr>
            <p:cNvPr id="560" name="AutoShape 44"/>
            <p:cNvSpPr/>
            <p:nvPr/>
          </p:nvSpPr>
          <p:spPr>
            <a:xfrm>
              <a:off x="6654960" y="3048120"/>
              <a:ext cx="30456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Line 45"/>
            <p:cNvSpPr/>
            <p:nvPr/>
          </p:nvSpPr>
          <p:spPr>
            <a:xfrm>
              <a:off x="6776640" y="329724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Line 46"/>
            <p:cNvSpPr/>
            <p:nvPr/>
          </p:nvSpPr>
          <p:spPr>
            <a:xfrm flipH="1">
              <a:off x="6654960" y="360792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Line 47"/>
            <p:cNvSpPr/>
            <p:nvPr/>
          </p:nvSpPr>
          <p:spPr>
            <a:xfrm>
              <a:off x="6776640" y="360792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64" name="Line 48"/>
          <p:cNvSpPr/>
          <p:nvPr/>
        </p:nvSpPr>
        <p:spPr>
          <a:xfrm flipH="1">
            <a:off x="604512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49"/>
          <p:cNvSpPr/>
          <p:nvPr/>
        </p:nvSpPr>
        <p:spPr>
          <a:xfrm>
            <a:off x="6913080" y="33148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DB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50"/>
          <p:cNvSpPr/>
          <p:nvPr/>
        </p:nvSpPr>
        <p:spPr>
          <a:xfrm>
            <a:off x="704520" y="48150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Naïve End Us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3438000" y="2971800"/>
            <a:ext cx="177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Appl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programm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4141800" y="245268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DB Design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Line 53"/>
          <p:cNvSpPr/>
          <p:nvPr/>
        </p:nvSpPr>
        <p:spPr>
          <a:xfrm>
            <a:off x="51307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54"/>
          <p:cNvSpPr/>
          <p:nvPr/>
        </p:nvSpPr>
        <p:spPr>
          <a:xfrm>
            <a:off x="7090560" y="2514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System Analy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55"/>
          <p:cNvGrpSpPr/>
          <p:nvPr/>
        </p:nvGrpSpPr>
        <p:grpSpPr>
          <a:xfrm>
            <a:off x="1625760" y="5410080"/>
            <a:ext cx="304560" cy="685800"/>
            <a:chOff x="1625760" y="5410080"/>
            <a:chExt cx="304560" cy="685800"/>
          </a:xfrm>
        </p:grpSpPr>
        <p:sp>
          <p:nvSpPr>
            <p:cNvPr id="572" name="AutoShape 56"/>
            <p:cNvSpPr/>
            <p:nvPr/>
          </p:nvSpPr>
          <p:spPr>
            <a:xfrm>
              <a:off x="1625760" y="5410080"/>
              <a:ext cx="30456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Line 57"/>
            <p:cNvSpPr/>
            <p:nvPr/>
          </p:nvSpPr>
          <p:spPr>
            <a:xfrm>
              <a:off x="1747440" y="56592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Line 58"/>
            <p:cNvSpPr/>
            <p:nvPr/>
          </p:nvSpPr>
          <p:spPr>
            <a:xfrm flipH="1">
              <a:off x="1625760" y="596988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Line 59"/>
            <p:cNvSpPr/>
            <p:nvPr/>
          </p:nvSpPr>
          <p:spPr>
            <a:xfrm>
              <a:off x="1747440" y="596988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6" name="Line 60"/>
          <p:cNvSpPr/>
          <p:nvPr/>
        </p:nvSpPr>
        <p:spPr>
          <a:xfrm>
            <a:off x="4902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61"/>
          <p:cNvSpPr/>
          <p:nvPr/>
        </p:nvSpPr>
        <p:spPr>
          <a:xfrm flipH="1">
            <a:off x="2082600" y="5791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62"/>
          <p:cNvSpPr/>
          <p:nvPr/>
        </p:nvSpPr>
        <p:spPr>
          <a:xfrm flipH="1">
            <a:off x="1777680" y="12952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63"/>
          <p:cNvSpPr/>
          <p:nvPr/>
        </p:nvSpPr>
        <p:spPr>
          <a:xfrm>
            <a:off x="1778040" y="1295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64"/>
          <p:cNvSpPr/>
          <p:nvPr/>
        </p:nvSpPr>
        <p:spPr>
          <a:xfrm>
            <a:off x="78739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Line 65"/>
          <p:cNvSpPr/>
          <p:nvPr/>
        </p:nvSpPr>
        <p:spPr>
          <a:xfrm flipH="1">
            <a:off x="7111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71"/>
          <p:cNvSpPr/>
          <p:nvPr/>
        </p:nvSpPr>
        <p:spPr>
          <a:xfrm>
            <a:off x="-163080" y="61102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Sophisticated End Us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72"/>
          <p:cNvSpPr/>
          <p:nvPr/>
        </p:nvSpPr>
        <p:spPr>
          <a:xfrm>
            <a:off x="5894280" y="6018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/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73"/>
          <p:cNvSpPr/>
          <p:nvPr/>
        </p:nvSpPr>
        <p:spPr>
          <a:xfrm>
            <a:off x="5201280" y="3265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esig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74"/>
          <p:cNvSpPr/>
          <p:nvPr/>
        </p:nvSpPr>
        <p:spPr>
          <a:xfrm>
            <a:off x="3987720" y="1295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Communi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75"/>
          <p:cNvSpPr/>
          <p:nvPr/>
        </p:nvSpPr>
        <p:spPr>
          <a:xfrm>
            <a:off x="6274440" y="3809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Man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76"/>
          <p:cNvSpPr/>
          <p:nvPr/>
        </p:nvSpPr>
        <p:spPr>
          <a:xfrm>
            <a:off x="4064760" y="205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77"/>
          <p:cNvSpPr/>
          <p:nvPr/>
        </p:nvSpPr>
        <p:spPr>
          <a:xfrm>
            <a:off x="7158600" y="205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78"/>
          <p:cNvSpPr/>
          <p:nvPr/>
        </p:nvSpPr>
        <p:spPr>
          <a:xfrm>
            <a:off x="3454920" y="38098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Prog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79"/>
          <p:cNvSpPr/>
          <p:nvPr/>
        </p:nvSpPr>
        <p:spPr>
          <a:xfrm>
            <a:off x="2190240" y="44956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80"/>
          <p:cNvSpPr/>
          <p:nvPr/>
        </p:nvSpPr>
        <p:spPr>
          <a:xfrm>
            <a:off x="2160000" y="57913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Slide Number Placeholder 68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0011-D44E-4315-A267-DDB5BDFE9C9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stem Analyst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termine the user requirements and develop the system specific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Designer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fy the data and choose the appropriate structure to represent and store the dat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 Programmer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mplement the application program based on the system specific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administrator (DBA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ministrates the DB, DBMS and related softwa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B62-BB01-400D-AAC0-FD75E55473E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End-users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hey use the data for queries, reports and some of them update the database content (data). End-users can be categorized i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Naïve user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Invokes one of the permanent application programs that have been written previous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Sophisticated user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m requests in a database query langua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A405-0EDB-4650-AF0B-CC8929E8969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ome common uses of database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base Concep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haracteristics of file-based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blems with file-based approa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of a DB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ajor components of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ersonnel involved in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dvantages and disadvantages of DBM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200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987-79B3-4BF5-ABEA-6DF0E6C06BC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rol of data redunda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consist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ore information from the same amount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ing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secu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forcement of standards (ex: data format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4015-FF14-439C-BB08-B901B6415C1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lance conflicting requirements (DBA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accessibility and responsiven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productivity (DBMS tool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maintenance through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concurr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backup and recovery servi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53E-3FB3-4C6C-A277-4E249EDCE77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s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ze (disk, memor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DB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hardware co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conversion existing appl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igher impact of a failure (central DB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0B3-DA64-4646-B373-F1CC2CED90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Database Applic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from the supermark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using your credit card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oking a holiday at the travel agent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cal Examples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dugate and ERegis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SU Libr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udi Airlines Reserv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FA6-389A-4F5D-8D19-2FC6D9607C5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a meaningless static value. e.g. Ali, 3421. What do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342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eans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formatio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the data you process in a manner that makes it meaningful.  Information can be provided only if proper data exists. e.g. “Ali ID number is 0987”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(DB)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a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hared collection of logically related data (and a description of this data), designed to meet the information needs of an organiza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is what you store in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database.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Information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is what you retrieve from a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007A-7A18-48C3-950F-AA62183322E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applicatio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a collection of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the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rograms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at allow the manipulation of these data to meet the information needs of an enterpri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Management System (DBMS)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 software system that enables users to define, create, maintain, and control access to the database,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.e. implementing database applica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pplication program ( of  a Database) :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 computer program that interacts with database by issuing an appropriate request (SQL statement) to the DB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System (DBS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s a single large repository of data, defined once and managed using DBMS while used by many application programs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DBMS + Application Program)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3235-2D37-4515-9041-F1A819A1F97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lowchart: Magnetic Disk 19"/>
          <p:cNvSpPr/>
          <p:nvPr/>
        </p:nvSpPr>
        <p:spPr>
          <a:xfrm>
            <a:off x="2819520" y="4808520"/>
            <a:ext cx="3824280" cy="1428840"/>
          </a:xfrm>
          <a:prstGeom prst="flowChartMagneticDisk">
            <a:avLst/>
          </a:prstGeom>
          <a:solidFill>
            <a:srgbClr val="9999ff">
              <a:alpha val="52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c5cff"/>
                </a:solidFill>
                <a:latin typeface="Times New Roman"/>
              </a:rPr>
              <a:t>DB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C277-2D63-47B9-9F1F-88B675D97E9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Rectangle 1029"/>
          <p:cNvSpPr/>
          <p:nvPr/>
        </p:nvSpPr>
        <p:spPr>
          <a:xfrm>
            <a:off x="3809880" y="39625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Rectangle 1030"/>
          <p:cNvSpPr/>
          <p:nvPr/>
        </p:nvSpPr>
        <p:spPr>
          <a:xfrm>
            <a:off x="3809880" y="30481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Pro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Rectangle 1031"/>
          <p:cNvSpPr/>
          <p:nvPr/>
        </p:nvSpPr>
        <p:spPr>
          <a:xfrm>
            <a:off x="3429000" y="2209680"/>
            <a:ext cx="26668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Progra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Rectangle 1032"/>
          <p:cNvSpPr/>
          <p:nvPr/>
        </p:nvSpPr>
        <p:spPr>
          <a:xfrm>
            <a:off x="2819520" y="2819520"/>
            <a:ext cx="373356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Rectangle 1033"/>
          <p:cNvSpPr/>
          <p:nvPr/>
        </p:nvSpPr>
        <p:spPr>
          <a:xfrm>
            <a:off x="1752480" y="1828800"/>
            <a:ext cx="57150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1034"/>
          <p:cNvSpPr/>
          <p:nvPr/>
        </p:nvSpPr>
        <p:spPr>
          <a:xfrm>
            <a:off x="2828160" y="28954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1035"/>
          <p:cNvSpPr/>
          <p:nvPr/>
        </p:nvSpPr>
        <p:spPr>
          <a:xfrm>
            <a:off x="184464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1036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1037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1038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1039"/>
          <p:cNvSpPr/>
          <p:nvPr/>
        </p:nvSpPr>
        <p:spPr>
          <a:xfrm flipH="1">
            <a:off x="38095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40"/>
          <p:cNvSpPr/>
          <p:nvPr/>
        </p:nvSpPr>
        <p:spPr>
          <a:xfrm>
            <a:off x="46483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Rectangle 1031"/>
          <p:cNvSpPr/>
          <p:nvPr/>
        </p:nvSpPr>
        <p:spPr>
          <a:xfrm>
            <a:off x="3276720" y="1295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/Programm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مستطيل 1"/>
          <p:cNvSpPr/>
          <p:nvPr/>
        </p:nvSpPr>
        <p:spPr>
          <a:xfrm>
            <a:off x="3635280" y="5435640"/>
            <a:ext cx="1051200" cy="64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a-D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مستطيل 35"/>
          <p:cNvSpPr/>
          <p:nvPr/>
        </p:nvSpPr>
        <p:spPr>
          <a:xfrm>
            <a:off x="4788000" y="5435640"/>
            <a:ext cx="1116000" cy="64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1035"/>
          <p:cNvSpPr/>
          <p:nvPr/>
        </p:nvSpPr>
        <p:spPr>
          <a:xfrm>
            <a:off x="4000680" y="48690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ile-Based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llection of application programs that perform services for the end users (e.g. reports)where each program defines and manages its own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Slide Number Placeholder 5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5EFE-3A8E-481C-A28E-39034FF172B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581280" y="3497400"/>
            <a:ext cx="2133720" cy="890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4648320" y="3473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4648320" y="4006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657600" y="35434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&amp; 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76040" y="3473280"/>
            <a:ext cx="89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740840" y="408312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De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6629400" y="3584520"/>
            <a:ext cx="533520" cy="7272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5791320" y="40068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2819520" y="40068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1251000" y="37638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1 (Sal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3397320" y="43657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6383880" y="438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3581280" y="4944960"/>
            <a:ext cx="2133720" cy="890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4676040" y="4921200"/>
            <a:ext cx="89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4740840" y="553068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De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AutoShape 23"/>
          <p:cNvSpPr/>
          <p:nvPr/>
        </p:nvSpPr>
        <p:spPr>
          <a:xfrm>
            <a:off x="6629400" y="5032440"/>
            <a:ext cx="533520" cy="72684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24"/>
          <p:cNvSpPr/>
          <p:nvPr/>
        </p:nvSpPr>
        <p:spPr>
          <a:xfrm>
            <a:off x="5791320" y="5454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25"/>
          <p:cNvSpPr/>
          <p:nvPr/>
        </p:nvSpPr>
        <p:spPr>
          <a:xfrm>
            <a:off x="2819520" y="5454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1379520" y="52117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2 (H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454920" y="583560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6418440" y="583560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Line 29"/>
          <p:cNvSpPr/>
          <p:nvPr/>
        </p:nvSpPr>
        <p:spPr>
          <a:xfrm>
            <a:off x="4648320" y="4921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Line 30"/>
          <p:cNvSpPr/>
          <p:nvPr/>
        </p:nvSpPr>
        <p:spPr>
          <a:xfrm flipH="1">
            <a:off x="4647960" y="5530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3657600" y="499104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&amp; 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8" name="Picture 12" descr="C01NF05"/>
          <p:cNvPicPr/>
          <p:nvPr/>
        </p:nvPicPr>
        <p:blipFill>
          <a:blip r:embed="rId1"/>
          <a:stretch/>
        </p:blipFill>
        <p:spPr>
          <a:xfrm>
            <a:off x="1042920" y="3500280"/>
            <a:ext cx="7488360" cy="276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paration and isol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Each program maintains its own set of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sers of one program may be unaware of potentially useful data held by other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uplic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Same data is held by different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Wasted space and potentially different values and/or different formats for the same item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48B8-BF8D-4BD6-8695-6FDA3A1433E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306-C0B5-4131-B5CD-6926A8B2E65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76" name="Picture 9" descr="DS3-Figure 01-05"/>
          <p:cNvPicPr/>
          <p:nvPr/>
        </p:nvPicPr>
        <p:blipFill>
          <a:blip r:embed="rId1"/>
          <a:stretch/>
        </p:blipFill>
        <p:spPr>
          <a:xfrm>
            <a:off x="539640" y="2421000"/>
            <a:ext cx="8128080" cy="2016000"/>
          </a:xfrm>
          <a:prstGeom prst="rect">
            <a:avLst/>
          </a:prstGeom>
          <a:ln w="0">
            <a:noFill/>
          </a:ln>
        </p:spPr>
      </p:pic>
      <p:sp>
        <p:nvSpPr>
          <p:cNvPr id="477" name="مستطيل 2"/>
          <p:cNvSpPr/>
          <p:nvPr/>
        </p:nvSpPr>
        <p:spPr>
          <a:xfrm>
            <a:off x="1193040" y="4437000"/>
            <a:ext cx="67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Both property and client details are duplicated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&amp; Carolyn Begg</dc:creator>
  <dc:description>Transparencies for Chapter 1 of textbook
Database Systems: A Practical Approach to Design, Implementation, and Management</dc:description>
  <dc:language>en-US</dc:language>
  <cp:lastModifiedBy>sara</cp:lastModifiedBy>
  <cp:lastPrinted>1997-01-27T16:12:02Z</cp:lastPrinted>
  <dcterms:modified xsi:type="dcterms:W3CDTF">2014-02-01T19:54:06Z</dcterms:modified>
  <cp:revision>114</cp:revision>
  <dc:subject>Database Systems</dc:subject>
  <dc:title>Chapt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B47036FD7D8A142BCD40B9CCB3A1AE0</vt:lpwstr>
  </property>
</Properties>
</file>