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D368-C236-4691-AEED-BDDB1D7EB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3D9D-380C-47BD-B7A2-D3E502B16BC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8B14-C415-4B1D-B8F3-10EB91401E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B5C45-03A8-4047-8623-EF67885F26E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BF25-9C62-461A-98FE-F1044D97AF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3540-AD24-45EA-9420-5F5F55E888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8A49-62DF-43F3-B867-536FCA0FBF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619A-FF1C-4D11-839F-BFABA914A3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87F4-84FE-4CF2-AA94-6B581F21379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ADAF-09FF-484A-9C1C-530FE7E640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314F2-ED09-4225-94C2-BBE3D7D3BAA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A0A4D-93E2-4E60-AEC0-49106CAC2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7F2E-2356-4012-BC2B-20CE462E23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F8BCA-4354-4ED4-BCBA-2D22B7A02C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FD8F3-6442-4E6C-8650-BBACC74495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C3E48-3158-4F0C-B265-FE6B748D36A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1A62A-0163-4A65-A93C-B612083666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B40DD-77DF-43B4-9BF1-21BAB0710B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F352F-9501-4395-A09C-AA974EA165D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65F28-5821-4CFD-B905-0836C176AE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B78D1-F44F-4695-B48A-D919683E5E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737B8-62A1-4363-A194-ED2E67AADB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2EA0A-2E4B-4BEF-91F2-8D19F01CC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677D-92B3-4D9F-A190-E876853C9D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87D5C-332B-4B04-906E-5EE428D86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EE94-D7E1-4999-A8FD-FB73D2750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C1CD-8D01-454F-B6C3-2693B2051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8512-F4B4-4FB5-9504-B0739DA42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1D51-E596-4C71-BE73-AE888CDB8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33332-B626-4206-B293-25F52E4A8C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8295-C022-4447-99BC-411E303343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4D19-F0F8-42EF-9BDD-968401C42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BEF9-8E85-4E08-AF5E-FF812C76B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9C98-3C66-4608-8237-E76814467F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DF8B-CDFA-4AFE-B9DF-42CEDFC5AA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0EB93-2036-4E30-AEE1-F08F57B5C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0454-B084-4704-B6A9-543C7D92DF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CE22-226C-47DE-BA05-EB9896802C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103-1272-4635-AA97-52E5E80B4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A43-B05B-4C53-AA21-BA1428CA07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DA4-E008-4C0E-9899-4CABDFBA1E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7AE-8FF8-427B-B365-BEED36D121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E6E-BB86-4D37-9E6B-C8ED4B11C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CC70-A4BD-4524-B147-4FA3236C36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5F1-F451-4402-ABD0-C07BE0E906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8CF-B47E-4C3A-A74D-E780D24BF8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5ED-92F4-4DED-AE0C-20D84B9D5D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763-79F6-4E23-A160-35BF4C8A2E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C0E-677D-46DC-8DF1-29FB55E08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BF7-A144-4784-89CC-72DF0F7E05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FC4-8808-4095-8674-A7DCBEACC9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9C499-384D-4B03-ADA0-943436D9DC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065B8-3E73-434B-BB3A-DBA3396C42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E4E90-C057-4419-8F86-9B34D0F0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746F-A2A4-4D49-B73E-92936593D7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AA687-03C1-4230-949B-3EC13A0ABD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64E5E-2982-4612-A7C2-DECD16BFF6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627DC-9ACB-4BD8-B8D4-E1DB8C9E12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0F3EE-FFC7-40A5-AF8C-61AEE87A57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CC29-D010-47FC-AE47-81B9F4536E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16935-616F-4EBE-AC9E-92A25A5702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9AB2D-9C5D-496E-8C02-2B071628D1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3236D-E077-4368-A6DC-1F0AC97BE5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2C577-58EB-4309-A538-D6EC6645BD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90B65-7614-4C4F-933F-BB3FE831A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5F22-6F54-4518-958F-E8E2B58E71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EE038-09D2-4957-B24C-02C04D5569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A6357-A4EF-472A-9941-1974A94184D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B64F-EA0A-4F41-9831-27E60BDA81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2ED27-79CB-4BF2-8422-5E6760CD5D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40D93-DD26-4E47-B46E-4C4221187F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882E-DE5F-461B-94E1-55CCEDE6F9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1273A-9CE4-44AD-8392-18E2FA951C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F625C-DAD2-4A07-8BB3-19F4052C37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AE468-31DA-4BA1-B52F-2E746F3CDE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E9E6-45DF-4668-898F-A04DB3CD4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C57C-960D-4B74-96FE-D1584A7618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7D942-517B-4701-8F19-B3C4113384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B14-B7EA-4C47-8ED9-A3B25D564B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1ED-A046-4C49-A63B-09DD95A8D2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13C5-1D00-4AD9-B169-785F56809E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DD36-2256-4E2D-AE35-5E5FD3E8B5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214-DE2F-4EE8-94E0-BE768F49EB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D476-A7B2-48F7-BB05-D7D7710899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42DD-C5DB-435D-A8FF-C54483EC34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AF0E-A2BE-4544-8ACA-739DA242D0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8D4E-87C8-4B49-8FE2-DB1C65D09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179B-3226-4802-A5ED-0CF36F7905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E3E-8910-4F87-9863-025F914C7F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51C1-B7ED-49B4-8083-C41C22554B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00A0-3F5A-4C8B-8AB1-42874BCFB4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431A9-2C77-403E-B128-4F232C62D0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EEFD9-0850-4261-8D43-5C870F70DEC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86A58-B117-46AD-BA32-8E2E58DD16E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81210-9741-48AB-BFBF-23EFF8494C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18CA4-7944-441C-900B-E2110B987C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CBC4C8-7813-40F7-B8E1-4F17C0FD25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4F8CAC-CEC8-4852-97A0-A3B56EEF7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DE86-EEB0-451C-958B-254544077A6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232E8-7F9E-4899-95BA-B1508D1D9E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C8CBF-B80F-4FBA-98D2-A080AE39D9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CC354-EFF9-4DAC-86F6-3EF72C1939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D9F5D-F58A-414F-9FC6-781A32C43E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D9727-78B9-44D9-9032-87BF73B599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900E3-931A-4B79-ADD6-0985DEEFDF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6CD34-5FA8-4AD6-BEB2-B7AF7DB8E8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CB554-8F82-455A-8AA8-C3FE2B1705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DC99-A17A-4FBF-882D-39C0553800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982C0-1E50-4EB0-B152-2FC175A81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1EB9-9A94-4860-B5C1-EEBA7EF583E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90641-5313-478E-A098-43EE8AC72B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C3E85-FE74-41AE-8478-A52FB8F0A3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46ACC-49F7-45D8-A831-E47A5B7535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BEB9D-2CC2-47F9-B322-C68CE85715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B4908-7A72-4662-84FD-F2467F14B2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63715-B863-47A0-AE09-021063EE32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534F2-32AA-4761-926C-371620C8C5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CBB1-BDD6-4181-87D9-29F8B4F2F8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0766-0592-4F80-A76D-8FAAAE96F8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4BB1-8E57-4890-BCED-84AA7710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E10B-AE5C-4663-B4FE-07E2EEB958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62DE-8091-437F-BE2B-E8955F354E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A51-DA87-4B84-BB28-99D997C66D9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866-366F-46BE-869E-C5E5F644CE6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6B80-7776-407B-933F-4523D0C67AB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E75-E896-424A-B404-8527D607FCC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52E-5F38-4CF2-9BD1-95311B547F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F4FC-B1F2-4105-85C8-FA2EA973473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AECC-D55D-4970-BF34-63F928AD41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9C1-1587-4214-B46A-6B42ACDF584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roduction to Databa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6AD-8651-48E9-9B22-7D1DE06199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72812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le structure is defined in the application c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ompatible file forma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in different languages, and so cannot easily access each other’s fi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ixed Queries/Proliferation of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to satisfy particular func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y new requirement needs a new progra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4CC2-84C9-4722-B2AC-87405A963C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ecau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These limitations of the FBS approach attributed to two factors</a:t>
            </a:r>
            <a:r>
              <a:rPr b="0" lang="ar-KW" sz="2000" spc="-1" strike="noStrike">
                <a:solidFill>
                  <a:srgbClr val="000066"/>
                </a:solidFill>
                <a:latin typeface="Times New Roman"/>
              </a:rPr>
              <a:t>(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finition of data was embedded in application programs, rather than being stored separately and independentl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control over access and manipulation of data beyond that imposed by application progra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: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he database and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08E-CFD4-40B0-87DB-460D1314A2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ystem catalog (metadata) provides description of  data to enable program–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ly related data comprises entities, attributes, and relationships of an organization’s inform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8A63-1883-4D1C-92D8-05C7A81AD0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Database Systems (DB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49780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B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single large repository of data, defined once and managed using DBMS while used by many application program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DBMS + Application Program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648D-7B7A-4B14-8348-BB7EFD0C2FD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AutoShape 10"/>
          <p:cNvSpPr/>
          <p:nvPr/>
        </p:nvSpPr>
        <p:spPr>
          <a:xfrm>
            <a:off x="7677000" y="427500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12"/>
          <p:cNvSpPr/>
          <p:nvPr/>
        </p:nvSpPr>
        <p:spPr>
          <a:xfrm>
            <a:off x="1844640" y="380376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468360" y="36450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1 (Sal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764000" y="419904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7451280" y="5037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543600" y="50846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2 (H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1935360" y="57085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2647800" y="3422520"/>
            <a:ext cx="990720" cy="7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5315040" y="4351320"/>
            <a:ext cx="129528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32"/>
          <p:cNvSpPr/>
          <p:nvPr/>
        </p:nvSpPr>
        <p:spPr>
          <a:xfrm flipH="1">
            <a:off x="3714480" y="480852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33"/>
          <p:cNvSpPr/>
          <p:nvPr/>
        </p:nvSpPr>
        <p:spPr>
          <a:xfrm>
            <a:off x="3714840" y="374184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35"/>
          <p:cNvSpPr/>
          <p:nvPr/>
        </p:nvSpPr>
        <p:spPr>
          <a:xfrm>
            <a:off x="6610320" y="4656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2666880" y="4946760"/>
            <a:ext cx="990720" cy="7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Rectangle 1033"/>
          <p:cNvSpPr/>
          <p:nvPr/>
        </p:nvSpPr>
        <p:spPr>
          <a:xfrm>
            <a:off x="1752480" y="2946240"/>
            <a:ext cx="678024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1035"/>
          <p:cNvSpPr/>
          <p:nvPr/>
        </p:nvSpPr>
        <p:spPr>
          <a:xfrm>
            <a:off x="1752480" y="296532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12"/>
          <p:cNvSpPr/>
          <p:nvPr/>
        </p:nvSpPr>
        <p:spPr>
          <a:xfrm>
            <a:off x="1828800" y="532764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0" name="Picture 6" descr="C01NF07"/>
          <p:cNvPicPr/>
          <p:nvPr/>
        </p:nvPicPr>
        <p:blipFill>
          <a:blip r:embed="rId1"/>
          <a:srcRect l="0" t="0" r="0" b="21014"/>
          <a:stretch/>
        </p:blipFill>
        <p:spPr>
          <a:xfrm>
            <a:off x="539640" y="2924280"/>
            <a:ext cx="8064720" cy="341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Management System (DBM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BMS facilitates the following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reate and Define a DB through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a Definition Language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DDL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struct and Load a DB conte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Manipulate a DB -query &amp; update the DB- through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a Manipulation Languag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(DML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rol access to data (security, integrity, concurrency, recove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ome Relational DBMS vendors/products lik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Access &amp; SQL Server/MS , MySQL,Oracle ..et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305-565F-4FDE-8A7D-DDB3AF89556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Can range from a PC to a network of computer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BMS, operating system, network software (if necessary) and also the application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FDA-F082-4BB3-9DA9-E77EF46E29D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539640" y="1700280"/>
            <a:ext cx="8280360" cy="1635120"/>
            <a:chOff x="539640" y="1700280"/>
            <a:chExt cx="8280360" cy="1635120"/>
          </a:xfrm>
        </p:grpSpPr>
        <p:pic>
          <p:nvPicPr>
            <p:cNvPr id="520" name="Picture 6" descr="C01NF08"/>
            <p:cNvPicPr/>
            <p:nvPr/>
          </p:nvPicPr>
          <p:blipFill>
            <a:blip r:embed="rId1"/>
            <a:stretch/>
          </p:blipFill>
          <p:spPr>
            <a:xfrm>
              <a:off x="539640" y="1700280"/>
              <a:ext cx="82803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6"/>
            <p:cNvSpPr/>
            <p:nvPr/>
          </p:nvSpPr>
          <p:spPr>
            <a:xfrm>
              <a:off x="4211640" y="2781000"/>
              <a:ext cx="864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d by the organization and a description of this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Instructions and rules that should be applied to the design and use of the database and DB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4B3E-E46F-4007-B708-0513D49268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2616120" y="4038480"/>
            <a:ext cx="3886200" cy="2362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826160" y="4191120"/>
            <a:ext cx="121896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2844720" y="419112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130720" y="5181480"/>
            <a:ext cx="685800" cy="83844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5740560" y="1828800"/>
            <a:ext cx="13716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2844720" y="1828800"/>
            <a:ext cx="12193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Group 15"/>
          <p:cNvGrpSpPr/>
          <p:nvPr/>
        </p:nvGrpSpPr>
        <p:grpSpPr>
          <a:xfrm>
            <a:off x="1625760" y="4114800"/>
            <a:ext cx="304560" cy="685800"/>
            <a:chOff x="1625760" y="4114800"/>
            <a:chExt cx="304560" cy="685800"/>
          </a:xfrm>
        </p:grpSpPr>
        <p:sp>
          <p:nvSpPr>
            <p:cNvPr id="533" name="AutoShape 11"/>
            <p:cNvSpPr/>
            <p:nvPr/>
          </p:nvSpPr>
          <p:spPr>
            <a:xfrm>
              <a:off x="1625760" y="411480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Line 12"/>
            <p:cNvSpPr/>
            <p:nvPr/>
          </p:nvSpPr>
          <p:spPr>
            <a:xfrm>
              <a:off x="1747440" y="4363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13"/>
            <p:cNvSpPr/>
            <p:nvPr/>
          </p:nvSpPr>
          <p:spPr>
            <a:xfrm flipH="1">
              <a:off x="1625760" y="4674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14"/>
            <p:cNvSpPr/>
            <p:nvPr/>
          </p:nvSpPr>
          <p:spPr>
            <a:xfrm>
              <a:off x="1747440" y="4674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Line 16"/>
          <p:cNvSpPr/>
          <p:nvPr/>
        </p:nvSpPr>
        <p:spPr>
          <a:xfrm>
            <a:off x="208296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17"/>
          <p:cNvSpPr/>
          <p:nvPr/>
        </p:nvSpPr>
        <p:spPr>
          <a:xfrm>
            <a:off x="406404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18"/>
          <p:cNvSpPr/>
          <p:nvPr/>
        </p:nvSpPr>
        <p:spPr>
          <a:xfrm>
            <a:off x="543564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3301560" y="2971800"/>
            <a:ext cx="305280" cy="685800"/>
            <a:chOff x="3301560" y="2971800"/>
            <a:chExt cx="305280" cy="685800"/>
          </a:xfrm>
        </p:grpSpPr>
        <p:sp>
          <p:nvSpPr>
            <p:cNvPr id="541" name="AutoShape 20"/>
            <p:cNvSpPr/>
            <p:nvPr/>
          </p:nvSpPr>
          <p:spPr>
            <a:xfrm>
              <a:off x="3301920" y="297180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>
              <a:off x="3423960" y="3220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3301560" y="353160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3423960" y="3531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5" name="Line 24"/>
          <p:cNvSpPr/>
          <p:nvPr/>
        </p:nvSpPr>
        <p:spPr>
          <a:xfrm>
            <a:off x="345456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25"/>
          <p:cNvSpPr/>
          <p:nvPr/>
        </p:nvSpPr>
        <p:spPr>
          <a:xfrm>
            <a:off x="345456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7" name="Group 26"/>
          <p:cNvGrpSpPr/>
          <p:nvPr/>
        </p:nvGrpSpPr>
        <p:grpSpPr>
          <a:xfrm>
            <a:off x="4749480" y="1752480"/>
            <a:ext cx="305280" cy="685800"/>
            <a:chOff x="4749480" y="1752480"/>
            <a:chExt cx="305280" cy="685800"/>
          </a:xfrm>
        </p:grpSpPr>
        <p:sp>
          <p:nvSpPr>
            <p:cNvPr id="548" name="AutoShape 27"/>
            <p:cNvSpPr/>
            <p:nvPr/>
          </p:nvSpPr>
          <p:spPr>
            <a:xfrm>
              <a:off x="4749840" y="175248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>
              <a:off x="4871880" y="20016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4749480" y="231228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4871880" y="23122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Line 31"/>
          <p:cNvSpPr/>
          <p:nvPr/>
        </p:nvSpPr>
        <p:spPr>
          <a:xfrm flipH="1">
            <a:off x="406368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32"/>
          <p:cNvSpPr/>
          <p:nvPr/>
        </p:nvSpPr>
        <p:spPr>
          <a:xfrm flipH="1">
            <a:off x="513072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4" name="Group 33"/>
          <p:cNvGrpSpPr/>
          <p:nvPr/>
        </p:nvGrpSpPr>
        <p:grpSpPr>
          <a:xfrm>
            <a:off x="7721280" y="1828800"/>
            <a:ext cx="305280" cy="685800"/>
            <a:chOff x="7721280" y="1828800"/>
            <a:chExt cx="305280" cy="685800"/>
          </a:xfrm>
        </p:grpSpPr>
        <p:sp>
          <p:nvSpPr>
            <p:cNvPr id="555" name="AutoShape 34"/>
            <p:cNvSpPr/>
            <p:nvPr/>
          </p:nvSpPr>
          <p:spPr>
            <a:xfrm>
              <a:off x="7721640" y="1828800"/>
              <a:ext cx="30492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>
              <a:off x="7843680" y="207792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7721280" y="2388600"/>
              <a:ext cx="12204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843680" y="238860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59" name="Group 43"/>
          <p:cNvGrpSpPr/>
          <p:nvPr/>
        </p:nvGrpSpPr>
        <p:grpSpPr>
          <a:xfrm>
            <a:off x="6654960" y="3048120"/>
            <a:ext cx="304560" cy="685800"/>
            <a:chOff x="6654960" y="3048120"/>
            <a:chExt cx="304560" cy="685800"/>
          </a:xfrm>
        </p:grpSpPr>
        <p:sp>
          <p:nvSpPr>
            <p:cNvPr id="560" name="AutoShape 44"/>
            <p:cNvSpPr/>
            <p:nvPr/>
          </p:nvSpPr>
          <p:spPr>
            <a:xfrm>
              <a:off x="6654960" y="304812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Line 45"/>
            <p:cNvSpPr/>
            <p:nvPr/>
          </p:nvSpPr>
          <p:spPr>
            <a:xfrm>
              <a:off x="6776640" y="329724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Line 46"/>
            <p:cNvSpPr/>
            <p:nvPr/>
          </p:nvSpPr>
          <p:spPr>
            <a:xfrm flipH="1">
              <a:off x="6654960" y="360792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Line 47"/>
            <p:cNvSpPr/>
            <p:nvPr/>
          </p:nvSpPr>
          <p:spPr>
            <a:xfrm>
              <a:off x="6776640" y="360792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64" name="Line 48"/>
          <p:cNvSpPr/>
          <p:nvPr/>
        </p:nvSpPr>
        <p:spPr>
          <a:xfrm flipH="1">
            <a:off x="604512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49"/>
          <p:cNvSpPr/>
          <p:nvPr/>
        </p:nvSpPr>
        <p:spPr>
          <a:xfrm>
            <a:off x="6913080" y="33148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DB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50"/>
          <p:cNvSpPr/>
          <p:nvPr/>
        </p:nvSpPr>
        <p:spPr>
          <a:xfrm>
            <a:off x="704520" y="48150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Naïve End Us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51"/>
          <p:cNvSpPr/>
          <p:nvPr/>
        </p:nvSpPr>
        <p:spPr>
          <a:xfrm>
            <a:off x="3438000" y="2971800"/>
            <a:ext cx="177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programm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4141800" y="245268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DB Design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Line 53"/>
          <p:cNvSpPr/>
          <p:nvPr/>
        </p:nvSpPr>
        <p:spPr>
          <a:xfrm>
            <a:off x="51307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54"/>
          <p:cNvSpPr/>
          <p:nvPr/>
        </p:nvSpPr>
        <p:spPr>
          <a:xfrm>
            <a:off x="7090560" y="2514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System Analy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55"/>
          <p:cNvGrpSpPr/>
          <p:nvPr/>
        </p:nvGrpSpPr>
        <p:grpSpPr>
          <a:xfrm>
            <a:off x="1625760" y="5410080"/>
            <a:ext cx="304560" cy="685800"/>
            <a:chOff x="1625760" y="5410080"/>
            <a:chExt cx="304560" cy="685800"/>
          </a:xfrm>
        </p:grpSpPr>
        <p:sp>
          <p:nvSpPr>
            <p:cNvPr id="572" name="AutoShape 56"/>
            <p:cNvSpPr/>
            <p:nvPr/>
          </p:nvSpPr>
          <p:spPr>
            <a:xfrm>
              <a:off x="1625760" y="5410080"/>
              <a:ext cx="304560" cy="249120"/>
            </a:xfrm>
            <a:prstGeom prst="smileyFace">
              <a:avLst>
                <a:gd name="adj" fmla="val 928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>
              <a:off x="1747440" y="5659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Line 58"/>
            <p:cNvSpPr/>
            <p:nvPr/>
          </p:nvSpPr>
          <p:spPr>
            <a:xfrm flipH="1">
              <a:off x="1625760" y="59698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Line 59"/>
            <p:cNvSpPr/>
            <p:nvPr/>
          </p:nvSpPr>
          <p:spPr>
            <a:xfrm>
              <a:off x="1747440" y="5969880"/>
              <a:ext cx="1216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6" name="Line 60"/>
          <p:cNvSpPr/>
          <p:nvPr/>
        </p:nvSpPr>
        <p:spPr>
          <a:xfrm>
            <a:off x="490212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61"/>
          <p:cNvSpPr/>
          <p:nvPr/>
        </p:nvSpPr>
        <p:spPr>
          <a:xfrm flipH="1">
            <a:off x="2082600" y="5791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62"/>
          <p:cNvSpPr/>
          <p:nvPr/>
        </p:nvSpPr>
        <p:spPr>
          <a:xfrm flipH="1">
            <a:off x="1777680" y="12952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63"/>
          <p:cNvSpPr/>
          <p:nvPr/>
        </p:nvSpPr>
        <p:spPr>
          <a:xfrm>
            <a:off x="1778040" y="12952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64"/>
          <p:cNvSpPr/>
          <p:nvPr/>
        </p:nvSpPr>
        <p:spPr>
          <a:xfrm>
            <a:off x="787392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Line 65"/>
          <p:cNvSpPr/>
          <p:nvPr/>
        </p:nvSpPr>
        <p:spPr>
          <a:xfrm flipH="1">
            <a:off x="7111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71"/>
          <p:cNvSpPr/>
          <p:nvPr/>
        </p:nvSpPr>
        <p:spPr>
          <a:xfrm>
            <a:off x="-163080" y="611028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Sophisticated End Us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72"/>
          <p:cNvSpPr/>
          <p:nvPr/>
        </p:nvSpPr>
        <p:spPr>
          <a:xfrm>
            <a:off x="5894280" y="6018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/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73"/>
          <p:cNvSpPr/>
          <p:nvPr/>
        </p:nvSpPr>
        <p:spPr>
          <a:xfrm>
            <a:off x="5201280" y="3265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Desig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74"/>
          <p:cNvSpPr/>
          <p:nvPr/>
        </p:nvSpPr>
        <p:spPr>
          <a:xfrm>
            <a:off x="3987720" y="12952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Communi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75"/>
          <p:cNvSpPr/>
          <p:nvPr/>
        </p:nvSpPr>
        <p:spPr>
          <a:xfrm>
            <a:off x="6274440" y="3809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Man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76"/>
          <p:cNvSpPr/>
          <p:nvPr/>
        </p:nvSpPr>
        <p:spPr>
          <a:xfrm>
            <a:off x="4064760" y="20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77"/>
          <p:cNvSpPr/>
          <p:nvPr/>
        </p:nvSpPr>
        <p:spPr>
          <a:xfrm>
            <a:off x="7158600" y="2057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78"/>
          <p:cNvSpPr/>
          <p:nvPr/>
        </p:nvSpPr>
        <p:spPr>
          <a:xfrm>
            <a:off x="3454920" y="38098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Prog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79"/>
          <p:cNvSpPr/>
          <p:nvPr/>
        </p:nvSpPr>
        <p:spPr>
          <a:xfrm>
            <a:off x="2190240" y="449568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80"/>
          <p:cNvSpPr/>
          <p:nvPr/>
        </p:nvSpPr>
        <p:spPr>
          <a:xfrm>
            <a:off x="2160000" y="57913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U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Slide Number Placeholder 68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42C-D0E2-406C-9A76-DE30EF0C6D9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stem Analyst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termine the user requirements and develop the system specific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Designer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y the data and choose the appropriate structure to represent and store the dat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 Programmer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mplement the application program based on the system specific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administrator (DBA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ministrates the DB, DBMS and related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135A-6674-4391-AED2-A61D70A262E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End-users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hey use the data for queries, reports and some of them update the database content (data). End-users can be categorized in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Naïve user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Invokes one of the permanent application programs that have been written previous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Sophisticated user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: form requests in a database query langua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92CE-50C7-43D8-AC60-50978C022D8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ome common uses of database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base Concep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aracteristics of file-based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blems with file-based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of a DB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ajor components of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ersonnel involved in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dvantages and disadvantages of DBM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200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5A4-4830-4F43-BBAE-C54762A619C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rol of data redunda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consist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information from the same amount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ing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secu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forcement of standards (ex: data format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BF9-604C-4B89-AD6B-49A6A91873E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lance conflicting requirements (DBA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accessibility and responsiven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productivity (DBMS tool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maintenance through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concurr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backup and recovery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EDE4-6930-499B-B083-EB2F34C027F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s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ze (disk, memor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DB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hardware co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conversion existing appl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igher impact of a failure (central DB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AD1-6EFF-45D5-A051-724B80B1B2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Database Applic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from the supermark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using your credit card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oking a holiday at the travel age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cal Examples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dugate and ERegis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SU Libr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udi Airlines Reserv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BEF7-CBA3-4E50-BF43-8D2EEAF49B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meaningless static value. e.g. Ali, 3421. What do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342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eans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the data you process in a manner that makes it meaningful.  Information can be provided only if proper data exists. e.g. “Ali ID number is 0987”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(DB)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is what you store in </a:t>
            </a: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database.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is what you retrieve from a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96A-A629-4181-B7A9-1B36F9355A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applicatio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s a collection of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the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ograms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at allow the manipulation of these data to meet the information needs of an enterpri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Management System (DBMS):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,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i.e. implementing database applica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application program ( of  a Database) :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 computer program that interacts with database by issuing an appropriate request (SQL statement) to the DB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atabase System (DBS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s a single large repository of data, defined once and managed using DBMS while used by many application programs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DBMS + Application Program)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1C1-2E9F-443B-AB80-52138EAFC96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lowchart: Magnetic Disk 19"/>
          <p:cNvSpPr/>
          <p:nvPr/>
        </p:nvSpPr>
        <p:spPr>
          <a:xfrm>
            <a:off x="2819520" y="4808520"/>
            <a:ext cx="3824280" cy="1428840"/>
          </a:xfrm>
          <a:prstGeom prst="flowChartMagneticDisk">
            <a:avLst/>
          </a:prstGeom>
          <a:solidFill>
            <a:srgbClr val="9999ff">
              <a:alpha val="52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c5cff"/>
                </a:solidFill>
                <a:latin typeface="Times New Roman"/>
              </a:rPr>
              <a:t>DB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182-19EE-4FD9-85FD-9F79CE8C68B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Rectangle 1029"/>
          <p:cNvSpPr/>
          <p:nvPr/>
        </p:nvSpPr>
        <p:spPr>
          <a:xfrm>
            <a:off x="3809880" y="39625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Rectangle 1030"/>
          <p:cNvSpPr/>
          <p:nvPr/>
        </p:nvSpPr>
        <p:spPr>
          <a:xfrm>
            <a:off x="3809880" y="30481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Pro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Rectangle 1031"/>
          <p:cNvSpPr/>
          <p:nvPr/>
        </p:nvSpPr>
        <p:spPr>
          <a:xfrm>
            <a:off x="3429000" y="2209680"/>
            <a:ext cx="26668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Progra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Rectangle 1032"/>
          <p:cNvSpPr/>
          <p:nvPr/>
        </p:nvSpPr>
        <p:spPr>
          <a:xfrm>
            <a:off x="2819520" y="2819520"/>
            <a:ext cx="373356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Rectangle 1033"/>
          <p:cNvSpPr/>
          <p:nvPr/>
        </p:nvSpPr>
        <p:spPr>
          <a:xfrm>
            <a:off x="1752480" y="1828800"/>
            <a:ext cx="57150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1034"/>
          <p:cNvSpPr/>
          <p:nvPr/>
        </p:nvSpPr>
        <p:spPr>
          <a:xfrm>
            <a:off x="2828160" y="28954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1035"/>
          <p:cNvSpPr/>
          <p:nvPr/>
        </p:nvSpPr>
        <p:spPr>
          <a:xfrm>
            <a:off x="184464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1036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1037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1038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1039"/>
          <p:cNvSpPr/>
          <p:nvPr/>
        </p:nvSpPr>
        <p:spPr>
          <a:xfrm flipH="1">
            <a:off x="38095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40"/>
          <p:cNvSpPr/>
          <p:nvPr/>
        </p:nvSpPr>
        <p:spPr>
          <a:xfrm>
            <a:off x="46483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Rectangle 1031"/>
          <p:cNvSpPr/>
          <p:nvPr/>
        </p:nvSpPr>
        <p:spPr>
          <a:xfrm>
            <a:off x="3276720" y="1295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/Programm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مستطيل 1"/>
          <p:cNvSpPr/>
          <p:nvPr/>
        </p:nvSpPr>
        <p:spPr>
          <a:xfrm>
            <a:off x="3635280" y="5435640"/>
            <a:ext cx="1051200" cy="64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ta-D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مستطيل 35"/>
          <p:cNvSpPr/>
          <p:nvPr/>
        </p:nvSpPr>
        <p:spPr>
          <a:xfrm>
            <a:off x="4788000" y="5435640"/>
            <a:ext cx="1116000" cy="64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1035"/>
          <p:cNvSpPr/>
          <p:nvPr/>
        </p:nvSpPr>
        <p:spPr>
          <a:xfrm>
            <a:off x="4000680" y="486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ile-Based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llection of application programs that perform services for the end users (e.g. reports)where each program defines and manages its own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Slide Number Placeholder 5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27C4-02FB-47C4-92B8-80AC33352D9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581280" y="3497400"/>
            <a:ext cx="2133720" cy="890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4648320" y="3473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4648320" y="4006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657600" y="35434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&amp; 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76040" y="3473280"/>
            <a:ext cx="8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740840" y="408312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De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AutoShape 12"/>
          <p:cNvSpPr/>
          <p:nvPr/>
        </p:nvSpPr>
        <p:spPr>
          <a:xfrm>
            <a:off x="6629400" y="358452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5791320" y="40068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2819520" y="40068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251000" y="37638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1 (Sal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3397320" y="4365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6383880" y="438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3581280" y="4944960"/>
            <a:ext cx="2133720" cy="890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4676040" y="4921200"/>
            <a:ext cx="89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4740840" y="553068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De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AutoShape 23"/>
          <p:cNvSpPr/>
          <p:nvPr/>
        </p:nvSpPr>
        <p:spPr>
          <a:xfrm>
            <a:off x="6629400" y="5032440"/>
            <a:ext cx="533520" cy="72684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24"/>
          <p:cNvSpPr/>
          <p:nvPr/>
        </p:nvSpPr>
        <p:spPr>
          <a:xfrm>
            <a:off x="5791320" y="5454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25"/>
          <p:cNvSpPr/>
          <p:nvPr/>
        </p:nvSpPr>
        <p:spPr>
          <a:xfrm>
            <a:off x="2819520" y="5454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1379520" y="52117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2 (H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454920" y="583560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6418440" y="583560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Line 29"/>
          <p:cNvSpPr/>
          <p:nvPr/>
        </p:nvSpPr>
        <p:spPr>
          <a:xfrm>
            <a:off x="4648320" y="4921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Line 30"/>
          <p:cNvSpPr/>
          <p:nvPr/>
        </p:nvSpPr>
        <p:spPr>
          <a:xfrm flipH="1">
            <a:off x="4647960" y="5530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3657600" y="499104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y &amp; 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8" name="Picture 12" descr="C01NF05"/>
          <p:cNvPicPr/>
          <p:nvPr/>
        </p:nvPicPr>
        <p:blipFill>
          <a:blip r:embed="rId1"/>
          <a:stretch/>
        </p:blipFill>
        <p:spPr>
          <a:xfrm>
            <a:off x="1042920" y="3500280"/>
            <a:ext cx="7488360" cy="276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paration and isol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Each program maintains its own set of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sers of one program may be unaware of potentially useful data held by other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uplic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Same data is held by different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Wasted space and potentially different values and/or different formats for the same item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9EF-EA63-41B1-A7DE-5CAE50EB942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7C18-3F8D-4439-BB01-BB6440B4A43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76" name="Picture 9" descr="DS3-Figure 01-05"/>
          <p:cNvPicPr/>
          <p:nvPr/>
        </p:nvPicPr>
        <p:blipFill>
          <a:blip r:embed="rId1"/>
          <a:stretch/>
        </p:blipFill>
        <p:spPr>
          <a:xfrm>
            <a:off x="539640" y="2421000"/>
            <a:ext cx="8128080" cy="2016000"/>
          </a:xfrm>
          <a:prstGeom prst="rect">
            <a:avLst/>
          </a:prstGeom>
          <a:ln w="0">
            <a:noFill/>
          </a:ln>
        </p:spPr>
      </p:pic>
      <p:sp>
        <p:nvSpPr>
          <p:cNvPr id="477" name="مستطيل 2"/>
          <p:cNvSpPr/>
          <p:nvPr/>
        </p:nvSpPr>
        <p:spPr>
          <a:xfrm>
            <a:off x="1193040" y="4437000"/>
            <a:ext cx="67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Both property and client details are duplicated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&amp; Carolyn Begg</dc:creator>
  <dc:description>Transparencies for Chapter 1 of textbook
Database Systems: A Practical Approach to Design, Implementation, and Management</dc:description>
  <dc:language>en-US</dc:language>
  <cp:lastModifiedBy>sara</cp:lastModifiedBy>
  <cp:lastPrinted>1997-01-27T16:12:02Z</cp:lastPrinted>
  <dcterms:modified xsi:type="dcterms:W3CDTF">2014-02-01T19:54:06Z</dcterms:modified>
  <cp:revision>114</cp:revision>
  <dc:subject>Database Systems</dc:subject>
  <dc:title>Chapte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B47036FD7D8A142BCD40B9CCB3A1AE0</vt:lpwstr>
  </property>
</Properties>
</file>