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B9E4-C6EF-4673-A1E8-2C798D397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1772-C0B5-4176-9D7E-FFFFC5E731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8EE75-7171-4589-A42E-04B7D04339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C43C2-AD9E-4E2C-9105-7F0159EB9D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A3816-D70D-4792-B4B1-1D550FAE6B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B5D56-5E81-4B1E-9BDF-61C1BF948F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3F02B-EB4A-45E6-8C2D-7DE064FC813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12C8F-7625-48D2-A0F8-2606145706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4E7FB-9746-4B7D-B87B-4A68212421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C36A0-627E-4EDD-9818-9BD4A68BCE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FBFAC-42A6-4477-A7D7-A01783568B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AA11C-0017-46C7-9846-7DB8B659B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4C29-F78F-4948-9276-D6DADFFDAA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CFD69-3E3B-46F1-9C75-75B4F701E3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55880-D54A-4523-AC4D-CF0C6115C2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B403F-E50D-4FBC-B995-71E1A10AD85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B390D-4360-42ED-9F07-B62B173990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724EC-3FA3-4B79-B00C-FC0182E9059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E78C2-CF69-4852-9F30-18E884E048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5BFB8-2671-4767-85B5-3EFB93D10F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A2252-76CA-4415-A1C0-2EF50665A2F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44D8E-6480-4AEF-B1C6-3B38178373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DC3CF-AD02-46E1-8355-AE029BD83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50AF-5FA2-4978-B43E-1347EFFEF3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2C4E1-430E-4EF3-B356-15B56992AA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FDB9-2E68-4E64-BEA0-7962B27B399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EE9A-6DB7-47E4-941C-1EE7143B4C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CD8A-F2F7-45AA-B0FD-4696C3A859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676F-2DA7-4162-AF45-1D0382D40F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A4B7-AAF0-4B5E-8DA4-F352F9E1BC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6A5F-2BEA-4F5E-9149-56BFB48E1F2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1ADF-D2ED-48D5-ABA2-FB466265E9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7D10-3140-49FD-9F44-5D8A68B1A6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4F7E-A8EC-49AE-842F-611A799A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68-D2E0-4579-8CD5-6702526486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4E25-1311-46D8-A96C-4AA375AF55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A93E-849F-44AE-AB66-73DFDA6232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08B8-6C4B-450C-971E-9122DF3CA48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C6CCA4-4CE0-4BD5-9B0C-5F40233829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9D051-2C54-4468-9604-9661464557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AB2FF-D5D1-4003-93C0-915B45B832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818E0-CE59-40DE-9E69-07F19B3A66F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CAB80E-ECDB-4416-B261-407539CF4D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B8B62-3D38-4333-A6D2-FCA6378A94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BF67FE-F494-4DA7-A634-5EAB349428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9D1-55BF-43DB-9F60-E1E9DC00A15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6247E-ADF7-4EE8-A92E-D1000E5DD9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C76B6-8268-4152-8FD5-8300A9EABE0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45CEC-611F-4D28-A3B6-3569D707624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769F7-258D-43FD-B1A5-FF821802A6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81475B-8F5F-42F5-8010-EB45DC7128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9F37F-BD4E-44F1-AE00-56034D73F7C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88519-1892-4739-A2F6-FE17D2F866F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A3B47-363E-4C94-A009-1273A74B51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5C0CC-45C8-4F66-BE75-F5A5AF2175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AE320-0222-44F6-9EB0-4DEBD0174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05A-D714-4AEE-B0AB-7A3C37932E9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E62C4-31BB-461E-A635-84B7F00EAF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51FD4-CB60-4EDF-8EE6-3330D8E5A0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86DF1-F567-413C-BDF7-6BD72B5719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69DBA-BD89-4F2E-849D-93522413E19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CB577-8CB6-4E59-8024-EAEAEE62060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90DDC-7D80-4623-B9DC-9C12DE49A7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9657E-7B6E-45BB-92AA-5A6BE6679FA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AE95-6856-479F-B4AD-9E03E2419DC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515E-148C-434B-B6D9-3BD4D02BC1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BC5F-6DE1-42C9-BEF9-C3F617E356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550-7D8E-49F5-902E-AAF616D116F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3A65C-0969-4B00-B4A4-04C9D8B988E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47A0-E6A4-48E0-A1B2-AA9C786825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8287F-D56D-42C2-BC57-E9CDBE1C4E0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3BD15-FD1E-4DAB-9207-936C386FD8C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7D4D-B033-4994-9595-1474FB5C94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2A8C6-5D1C-4B58-AC51-43F32EB9546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8160-EDBB-4AEB-9B4F-3E3B6B20D92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9AB6B-5735-40C1-ADE7-28CA2C50B61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5D46-BB76-458C-B474-380BB769D64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D841D-A8CA-4210-A845-9B22DDA508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0DF-DDFE-4606-8BAB-AAD87171FDC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C66A00-CA12-4304-8D62-53593C7B2BC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8E1AC-2AAC-4577-8FD7-42D8A91E3F0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DFF3A-B61C-4F57-8672-34176F6CDF7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3D109-94C2-4690-A85C-056633AA379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92D029-FA0B-4A17-A0C3-60938EAFFAF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68697-1283-44A4-AE08-162E7E1E457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D2662-A842-49EA-B1D5-045D8598E03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3C421-B0A6-4416-A33A-9335A5DE903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9EEBB-40D6-4C41-951B-C324AB5221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9F7C3-DF20-4A4A-8FE5-F03A985EF5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A49-A86E-4097-8CB1-D9144391FC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EB345-7C45-4920-A715-7D023D080D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7F9-2D78-492D-906E-19DAA5CFE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4926-BD58-4500-ADE8-3263E16CD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1A0-2FAF-42A3-8843-A407B4632D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1C9-CAEA-45A7-BCEE-C47E1B4BB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E24-E40E-4DF2-8003-50D1645E14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CFF-6CEB-4EAF-913C-50C2D573AF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1C5-6678-46D2-AA22-01BCD08A07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093D3-2272-4AD5-BEF3-053AB1BB8A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B7257-3FD4-4F13-B7DD-373C22BF23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F47D9-7E75-4AC6-91DF-EDA24185EC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0334F-8DAA-43B8-A9B5-15ECC8719A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2E571-BF44-4A7E-9231-9283C1834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9566-21AA-425D-A8F8-5C1FF578D5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DB2BC-859E-414F-A5D1-EFDEB3DCD2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491DE-8C43-4B9D-9C98-DE79FF1C8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E1BF3-9A69-464C-82AF-F8B7488BF2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4A14C-3911-45F3-AE3F-4533C3B3AD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1648C-19B6-4E0E-9BE2-716F6CA7AB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9960-77E9-4B96-8742-8B7681FCCC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9C360-6DCB-4FD9-87B1-3DF10B49E9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75B13-B523-4FB6-94CE-12EE345265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DD1E5-B4B1-43E8-9B03-7CDD710055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3F234-870B-4B02-A95B-1145F21BC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BD87-63FD-486F-ABF5-2FD33B24A6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5C879-787B-4CDD-9DE2-4C26908668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C6F66-819B-4E17-ABBA-D2BA223451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6319-4CC8-4A20-8E4B-090FC56D0C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38E9C-D173-4AE1-9E67-75A4143188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911E5-7A43-4ABE-A915-2475692663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8921-89D0-47B3-8CEF-14ADA9DB7B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D73D7-5669-4EA4-A399-C34C6ACD1B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AEB8-139E-4FB4-90A2-29B56929A1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ED66D-4E8F-4BA0-906B-53A36601F4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6E8-0CE0-4678-AA0B-E4A912329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8AAD-9591-4E26-81C7-B24D46B845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2A3-FC52-4D9A-983A-88ABD70100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5961-3413-4D76-98D4-4CBDC80AB6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2AAC-D15E-4581-A46C-9E31237C0E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C1C7-745A-4211-9D25-3C86826E41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78C-8A38-4271-8FE5-1BE2573D94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7C7D-F4AB-4913-90CA-6919FA973B1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09EB-2E3B-4988-BF8B-23F86DA3DB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D9D-FD47-4315-9CE8-8286332B1D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4429-7C0E-43F4-9AB9-8893D62088A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451F-2054-444D-98C9-1380646D5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028E-0B22-43A5-8852-1778B4B79C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1736-978F-4F74-B34F-4221B7FF2B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5A564-299D-484D-8BD3-4DE1B92C45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76949-6030-4868-A28D-E4B947FABC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6DE01-ED39-4078-93B5-A5C8D56380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9311D-4ADD-4C3D-9BCE-F043F82FB5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3F616-0A5D-4997-8415-F472F170AA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CD82B-AB9A-49B4-BBA8-9090862828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949D5-A383-40D5-AB5E-FF2411367B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22403-CE8D-40C6-BE51-A8E07C3E99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8B6F4-7577-431E-A9B9-00DE31F9E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AA0F-72A9-4D12-A082-B167A0E70A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D161F-354C-44DF-9AAD-BFF7D97832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E8921-3716-4443-876E-B3E1A099C1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6250D-9D35-40C0-AE82-F646B00527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143AA-3FF2-43D9-9E8A-78495C7632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07C3C-8357-4691-A590-826751B9B7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D8C7B-CAE3-448B-B8C1-3A8876FBE3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C9E63-CBC6-4F43-B466-ED9D6E0DA2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CEB4C-7B76-497C-97C7-AF73BF14B0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AC3E4-2476-4F04-8917-8612EDDEC8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95D00-1EB2-4657-9017-ED75D337C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3232-73B4-4C19-AFE0-051EF4DABA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E2F2A-AA1C-423C-A069-AB72F98859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0C9DF-E4AC-459A-B480-E5A74E41A2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ACCC9-E481-4710-9560-B43FCC7FD2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A11D7-F132-4355-B44D-13C911BE61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89B82-CC22-41E8-9670-648D619098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53ED-1133-4347-9A13-6D74CD9FD9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53F0-84CB-400E-A28E-A0731E8289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5898-9B9E-4123-8334-6EF029353C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0A29-4C91-49C0-84DD-739811B67A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C493-36F5-4BF3-B86C-82934FAE5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7746-8FB1-4512-824C-27F41E4DD94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2E14-0AC7-4C07-87AC-ABDAD457AD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5BA5-7AEE-4E54-89EC-27EC1D57A1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C5DC-0F9A-4049-9DAD-DA42927541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F4AF-13F1-4053-9273-3DEF6159B7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E15F-3550-4181-93F7-694B74AB7D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4A16-4A5C-4ABC-8FCB-633E5B1E9B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1395-3DB1-427B-AC12-4CDB03F716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B2728-7264-4DDB-8352-9FE192CC68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EE7C5-8AAB-4896-BC86-5CF1369910F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8B341-3320-44B8-A3AE-29CA55F1C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494-3818-48B7-B564-6C0363AC8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732E-0A1F-4B42-A6A2-5364BD94AF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4A6-2BAB-4012-B68E-1C0160526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38E-508E-401A-8535-996A13D5D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6DEE-4BCF-424A-A081-25AB93D001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E615-AFE5-4023-A4C6-8562CC321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49D0-60FC-4E40-8433-EE7ABCC84E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70B-7338-471E-A747-31E80D979E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E7A7-058A-4BDC-8611-9FD797F11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AF4F-384C-4E62-8EE4-C532AD9FF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97E-F095-4FA6-BE34-6811484CF9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9FEA-CCF0-47AB-BBC8-DE999663B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C0F4-C2D7-4648-91AC-3388B4E619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DAC0-07BF-4660-98DF-1E91DBB25D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2965-B293-40D2-8D0C-CD85B89ED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A19-AA0D-4637-8660-FCA49FBFD76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F42-A992-4839-A82C-538B9F221F0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9C9-932B-4D4A-9314-D3A299A8D95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01BB-BF81-4091-9CA4-AE344FABFF7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5FDF-6089-4BAA-80B1-FD931BE9782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A76-A807-4DFF-871C-A2A7CA9F7A1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219-97E3-40B3-B1D4-312147C72A9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721-3B24-4715-8B83-DAA7E9BAB3F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7DC5-9CAA-42EA-B1D9-C530A58B2E6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5FE1-9DD4-4C32-B9B6-8387E5DAE4C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D48-933B-43F2-8162-0FA6F930943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9F1-4F0E-401B-B8E5-283B4F44007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1CAE-577F-4259-94C4-FDDE8F952CC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FC5E-D216-48D0-B374-87008ED5A69E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80D-3A7C-411C-AB15-F056CFC9094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D56-5918-43A3-BF13-6E63E92C534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C70E-1DD0-48D9-B90C-689A379BBE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5BF-00CD-4ADE-8856-00DC73E9209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6364-412E-438D-BDB4-9F74BB9B42A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4616-B096-4A0E-8933-E04733343B4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92D-D832-498B-8BE6-3EA5ACCA721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8DE3-718E-4214-86CC-EFD24ED1E35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0E97-3A06-4F86-B251-71874C49198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512D-E44D-463F-86D1-5162AE3DEE7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E930-D62F-477B-A046-565038513BD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E9A3-5A3D-455D-B464-29C6EA555A7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0E7A-6F77-45D0-9A42-15D24745235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Mashael</cp:lastModifiedBy>
  <cp:lastPrinted>1997-01-27T16:12:02Z</cp:lastPrinted>
  <dcterms:modified xsi:type="dcterms:W3CDTF">2013-09-04T19:57:59Z</dcterms:modified>
  <cp:revision>100</cp:revision>
  <dc:subject>Database Systems</dc:subject>
  <dc:title>Chapter 2</dc:title>
</cp:coreProperties>
</file>