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9552-9C38-4C66-9F4A-8023A1A3E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EE95-7B72-458E-A2A7-E164EF6A4DC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2F687-755B-437C-9F6A-D4A989ECD7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C3D1D-3FE2-43C4-8D00-29B89F4074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1627C-3697-4FD2-8DC8-D729750CD0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CFEE0-BA03-4091-8DA8-A6776B52C04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99216-765C-40E8-AD87-34AED2DC2B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20957-F579-4EA8-A239-7990F1A0F2E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499EB-9682-4536-BF9D-7571783809F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EB564-C6BC-4487-9737-AB72423FA4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F221E-1BDE-44D3-A3CE-AF819B2F5C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14AA1-C597-4A3D-9E7E-9206A0CF9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ACF9-8D76-4FBD-A5FE-77A5AAEDA5F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AFDFD-D33C-42D7-A329-2AA09C642C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EE2C4-EC52-4B16-8871-5F99B252A6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17A35-ACCE-4BD0-8D25-B06C08B646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35D97-FFDA-4D85-8F41-6911129CD4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6CB3A-4ADE-41C8-A4D6-E08C8F1930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5F6A8-569A-49B3-B6BF-2EDFEA01E4B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74DA9-C52A-4470-B684-470FB1ABAB1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01377-9D71-4290-A2AF-4E18C0714D9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28284-232E-480B-AFE6-F11E95DA249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55410-A6AC-4E25-8DB1-B54660729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4250-551B-4DF5-AFD3-825ACECB1B1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79A03-E0CB-40E9-9BE4-27F31DDC40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836B-72F0-4836-BBB1-9126535A3C4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4F56-9CE1-46A5-A16D-02282160308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E384-AD44-4150-873D-1C0F02CD59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CDF1-F466-46B1-9787-C7849E48156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E0E3-10F3-4218-B4C3-E098DAD95A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B0DE-26C1-4791-B0CF-BA57782DFA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0A19-C0C1-4692-B174-26738F0896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FBFC-8E4D-458C-808E-110122F71F2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E518-67F1-4F66-8A85-B4B0981D4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2B5-F3C4-4AFE-A5CC-6AC155CAFB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A24A-0919-4CBE-8AF9-BC793486985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98E3-7D10-4CBC-82E0-D9BDE6E621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89D7-AA81-4944-826E-69457E8557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4E175-2216-4A9D-896C-6013FC295BB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D3FCF-250D-4EF7-9115-105E3FD21B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A7521-E1ED-41F0-B109-CD026E5DAA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C4858-50CC-4FE2-9EE1-7EC799B9AC1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37ECA-5A4A-40D4-95D4-E636B8BE9D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0490F-50C4-4F71-85FC-5B0B0ED8F01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C60CF-3DA0-4BE1-8635-0424EBA338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A0A-2448-4396-8460-EEF5F4B9FEC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00768B-8F10-4742-B514-3A2C88FD66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680C9-70BE-4DA2-A1BC-60016C0CC2D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C9171-6CAB-457A-899F-E1CDFC4482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2B9FA-995C-4C70-9548-BE5E75727D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EEC564-7052-41A7-8335-0C474129BD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D8746-1BCC-4764-9E32-825E89467B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E5BBB-A1C3-4D9D-A45D-77AC431F187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AD34E-73DD-4513-B624-9BCAB3E0302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5DB2A-3D7F-442F-844F-70622AB33C6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F36AB-6359-47F0-9D14-EF3206CBFB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ED9-D929-4559-B571-AD1ECD416E2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1CD8B-5FB3-47D8-A278-C822C988811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72733-7D5A-449E-BE2D-2800204911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00620-7B63-4BC0-9A2C-AF520D72C8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EA08B-C261-4CFA-AD3D-54BB49A87B6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17DF4-2787-4B0D-9106-24FCCE1FEF8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81767-B300-45C0-81A9-628BD9FF4C9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3F442-8E8A-43A4-A9F6-00D1FABD7D2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A234-0305-4D8B-8FF3-E97DC90C127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78173-6D7C-4BD0-A1AF-16245EA6D8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EB7B-FFAA-4032-B319-A2A0B424E3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758-BA08-4C46-A51C-0AA83FAF69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8A9B7-474F-4C10-ABE4-BD072D49DE1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F8B6-2285-44B5-A079-564331D5D69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00EC-2CD3-48C8-A9CF-3146EAA9B0C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B026-2B7E-46A8-8867-FB796C5AFB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053A-EC96-4306-8CF0-5FE47B0875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B368B-E3CA-4E50-8AB4-29B410C4DD7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2079-CD67-470C-AC43-533257979E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E3EF-78AD-4687-A0BA-E76E752F917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1D9A-8462-40F8-9823-FF7D3E1D928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A53BC-8075-495C-892E-AE59EDD06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90B-4EBE-4F40-9A4C-3C4045ABA39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2565F-D835-495E-9916-2D3E06FE9A2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2CD32-BBBB-41F1-AACC-B6C993E27A8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EA7F6F-D6D0-4012-AE70-3C3A49215D9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2DD70D-22BE-413B-9DCE-DA799FD55EB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E47238-CB42-4548-8298-B325A5C22E6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8FF6D-D5FA-4399-84F3-9FA6A177A8C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72985-E90D-4E60-B93B-DB07FC27D85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1CC6EF-3662-4AA2-AB2A-ACE9D0B6CFF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449AF-64EC-4F38-BC39-A120BD521B2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5C4FB-C358-415E-B446-E2BECE6BB7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F64-2B7C-4313-B4DD-3A173F3DFF1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4FBFBF-D942-4FDF-A344-EB3D868219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830-503E-4300-B010-F2FD82C4D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1CD0-B552-498F-8FFE-AC0B95EBA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B71-BD98-4EAB-B272-00FA55C262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642-05D7-4234-BB59-FF3934170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FF4-BBAA-47A8-8CA9-CC8AA7DE38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69F-26CF-4F2A-80FA-C15A8E2947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CA8-4AEC-402B-BEDD-4D3EB03703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BAA67-9E4E-4A6A-8101-05B2BACF0D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BBADC-A0AF-470D-A684-8940258439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74813-BC89-44ED-A6C1-77D62A3713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B4DAC-D0EB-4406-B8BF-9126D9DD14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BEBAC-4D23-4F9A-A028-EFF1CED0A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903D-26AD-449C-8770-AE12B53931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75634-D192-4ECB-8B9E-600DB9867B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527BC-99B5-453F-8782-FBCE70693C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949D1-E207-41FE-BC3A-D99C2D9D17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C6491-2BD2-4001-9689-63A85BE6D9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B78BA-B25C-4755-ADCF-625D16DFAE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C413E-CE1F-4D46-AE21-1BDC57A76B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7B98D-0DAD-4EC9-B0D9-153069F021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94B74-1782-4384-91EB-3D8D39C0BA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51CFA-BD66-4D2E-B996-52A7B7E785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FABB5-899B-406C-9E7A-6206F8F80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4C60-4EA7-4767-8EB4-F34A31A894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3BE7-2BF2-4392-8F66-5AE0A65684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13A49-898C-43AA-BC24-790DAB695E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A6AD2-5ADE-46C5-91EF-0A77D01830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4D86-0156-4017-8FC2-9579C7AEA3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A7505-87E4-470E-BF35-6F03DB646E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2EB73-24CA-449E-9919-DF09293D20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2EA4-1235-490D-A8B8-D628C720AE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3D5C9-58CF-44B6-B0E6-2690991B48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C071D-BCBD-41E0-8041-97330075070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5930-A69C-4296-9C6E-1E4D2DD37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BD20-A98F-441A-84A4-7756C4BFBE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A811-B880-4636-8F6E-693D5EFA1F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00E4-0E20-4A12-85B0-1156CCB93F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BA11-E3DF-48DF-B83F-531CFEB6D7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43C-EDFD-445B-B853-9816799921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E72C-05A4-4AE6-8037-F4D3373811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83EE-E755-4432-AF21-645179496E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50E-0914-4FDF-B476-58134099B1A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0716-02ED-4A66-9A16-D070BEA2B5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EEDA-4530-446B-A10C-2137575374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6CD-CA51-4CA8-9E69-101C83F94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A4E9-96E4-4189-8C41-AC505A16CA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34E2-CA73-4019-8EA8-AA7DBC578E1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27C62-C227-4E2B-ACAA-3AA97AD1CD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8F315-193E-4BBC-9899-9D590BC509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59046-FA63-47F3-829D-33AE963E2E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86900-66D5-44AA-B381-AB4FB0C304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7B6F3-626D-45E7-ACAB-0A2233F1A7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C9CB4-20E5-4483-BF3B-5E918173AB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4A888-8BF9-4577-B99B-1C69F3B910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3B0A82-BA0D-4B95-A6A8-5B8163F0DC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5C0D9-F357-4B51-9B47-0BCF26F62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C777-02B8-4E0D-9A82-7A6F36B48F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907E7-92BF-4017-88D6-4D2099D96F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CEB14-F34F-4545-A3C6-999AF8D9F3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47182-EE17-4EE2-9294-4DAB504708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3B52F-E85E-4E9A-97CC-A839129A40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42880-61EF-4FD1-B93C-C3F1CBD869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18A82-B61C-49CF-A61D-F8A918FB75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833B8-B791-45CB-B9F3-E5818189EEC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2CFB5-9BA3-4EA4-BA5D-9B1FA8EAAB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BA6E0-0C38-4A52-A82D-BD49849300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B5598-F888-485F-B6DF-FF5926E74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4F90-6E8B-4FC4-84A7-73573D0C33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BBAEE-4D64-4DC6-9114-10E08E2616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31EB4-9BE9-43E2-8797-8D521A1466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8C8C3-F7AE-4D67-A610-3235155024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FB72B-4773-4BEA-AC92-3097B6069A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0ABCB-5F71-4EDD-A492-3DAFC4C347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1BC5-0F90-4E83-AFCA-DD692EC932B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AA4A-E6DC-4BCA-B14A-D8F8E40F4F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6888-A8AC-4651-87CA-5D697976B6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EE54-974D-441D-B13F-13BA0C9D43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C066-04B8-4BB1-98AA-B336B2D43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E9CA-7374-4AFE-B150-FA31AB96F6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816D-0D2A-492A-BD66-B438895D8AF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8092-8720-4A1F-8823-AEFA2F2FC4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BEDE-CCD8-49CE-B375-2BBADD0101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0B20-6CAA-49C4-9741-016F8338D3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A9AF-00C8-4F1A-9667-6A8A185F95F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916C-A71E-496A-9499-679F3B4D16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0B00-E0B2-41DF-869A-07B238CDDF1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ABB52-819F-42FD-A5EF-7F6F5B7179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F4B7A-D615-41C7-8CE4-E73BF07918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8483A-FB60-4044-889C-70DA037F8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6308-9DFF-4F85-87DD-66A766ACA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78E2-8ADC-4F6F-A69D-E6477298C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0FDB-20C7-4C67-A421-A1D5B2796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C5FF-834A-431E-931C-49D33518E9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7CCB-2435-42C4-8F89-488708F08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566D-08DE-4265-B6B0-1319D5B995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4FCA-0CD3-49F7-AF92-9B6F1560DA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FB5E-F8BF-40DE-935E-BEEEAA6957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BBB3-A6DD-444B-AE5B-A687C5189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6ED7-23E3-43F7-BCDC-7C4C150AB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439-0D88-4B72-9871-FFA7A35666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820-FF87-447F-8356-92E513DF83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086B-E058-403C-B2D0-4B1216DE4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F40-9F4C-4E32-AAC6-BABACEE96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6D20-BAB5-4E3C-BB4C-C163A3299A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1AC8-E873-418A-916B-D8630F0E0EB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D8FA-F202-4764-A1E9-97E91068741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0032-EC5F-488F-9934-F8B77066575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3D5B-A944-472E-8574-3BD7CE261AF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93A8-1C58-4777-A7B7-92AD5831A9E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6C5A-3278-4797-B319-5A4EF89A829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8B4-A1D5-4C18-A5B1-E3CC71D2254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B00-8D23-4C2F-A577-03AD41166E2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F76A-0F6F-4ACF-9A53-6FD8505BEFB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36D-006A-4A9D-B3EF-54ED383AE0B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18B-2EA2-476B-A739-06493269E6C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9E1-DB00-4BF3-85BA-5ED0487429B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089-752F-4F63-82CF-211D16B1DA9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F5D7-6B4D-424C-A605-7D2B067D0628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C8C-2433-4BE2-B906-DC2BE73CC3D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504C-BE63-4635-A053-3213ABAA7C0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7CD-8B42-475E-B353-93758A5603F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1E2-EB91-4E3D-AE4A-099E2FDE57F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396-BE86-4A91-B934-BDFC4BA6A70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2774-6B4E-49D2-80D5-D760AD62D03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340-6B20-46AD-A381-2F92C833F5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CCEF-2646-410B-84C9-00CCC2A282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0CAA-33F3-4061-8D45-DD194CD0E88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C47-F219-4D04-9ADA-474ECD77D14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477F-D2B3-45AE-B786-4BB6BD37E00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1A0C-7A3E-431F-8ED9-B8B3384196E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6C0-46C7-4666-B270-2695690C896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Mashael</cp:lastModifiedBy>
  <cp:lastPrinted>1997-01-27T16:12:02Z</cp:lastPrinted>
  <dcterms:modified xsi:type="dcterms:W3CDTF">2013-09-04T19:57:59Z</dcterms:modified>
  <cp:revision>100</cp:revision>
  <dc:subject>Database Systems</dc:subject>
  <dc:title>Chapter 2</dc:title>
</cp:coreProperties>
</file>