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BF40-FC10-48A1-97D5-A440A78EE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0A75-48D9-4421-B705-6FCDBFD38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3F93-F1A7-4F9D-8D23-436556796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1339-8A4F-4A8A-AF06-766D23E35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1FC0-A080-4704-AC4B-3B56A2A844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4171-8DD5-43F3-B756-CA09BA897D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B885-ADE5-481E-83EB-33D002F09B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10AC-EEC8-401B-B834-F50AF101D7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C349-9A3E-4D0C-9151-8F061279F4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B927-608C-4010-8C81-94CC461BD9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01F1-0400-4BF9-893B-B18CE6E269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58A0-0082-461C-A4BD-57345BD95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45D4-C060-4B03-9B77-9A5FF49095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8C5E-9D7B-45D3-A837-2525FBE826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177F-09A1-4209-AC17-C9C48B21B0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D360-75E2-4D4B-9386-FDEDD79373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8BEC-84AE-450E-9126-913A2C2847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43F-F088-4ACB-A7B8-EF9C92E529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712-2FDF-446F-A612-4847753450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A0A-E17D-4B5D-96AF-BE715B8070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08F-8DC0-4045-8916-A05B07BDF2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976-0259-4D6E-96B5-D57E0A1E2F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B452-1D18-484B-BA5B-BA8A5E3F07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152-FA2C-4279-8699-5C5C2BC306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791-2117-488B-B264-17C380EDF2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4F5-1852-4E56-9864-956242A871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D16-7D58-4BCF-9C49-9080535F3D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F7C-6109-4024-8EFC-12DFE75F65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604-9B60-43A0-984A-100FD665A8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49D-2BB1-4275-8041-110E5D5383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424AE-1542-4EDB-BB0E-4BB1555443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10294-C210-47F3-9841-6B272B79B7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CDBFB-144F-486A-9E5B-4CC473CE3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836C-1330-426D-AD7C-0F651B0BF9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38144-7EDC-4593-BF94-381757A26C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77441-0BD9-44EF-9194-FC98BA82FF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5E11D-182C-4A25-AFC0-5B6D059849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84FEE-286E-4989-BA55-BAF9CA72D4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D855A-BC26-4156-BD30-DE0E272961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898F2-C836-4332-913B-B0E43B9F7D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64941-D2A1-461F-876E-C7AC384DC7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99CC6-19C5-4528-B668-912899C68E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391A0-7469-460F-9C82-FE7E8A76F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E79B-F266-46B3-B50F-DBF2D67FE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7196-32B7-4AD0-94CC-BFC2C09FC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0A7B-957D-4456-9090-9FABA8380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22A1-357B-45E6-9662-A63692B3C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25BB-957A-4DF8-AA04-B9264DA5A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614B-A3CD-4B26-ADC2-AE6BDD851B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5681-9EA5-4D44-B5FF-B2F25C92A0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9398-9DA4-4D75-8BFE-D08D1A5447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9C8C-A38D-4163-BECE-3A4CEAB3CC6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2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-Relationship Mode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CB2C-DD65-40F1-BE49-01560152AFD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iagram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Branch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Ha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Staf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relationship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8" name="Picture 6" descr="DS3-Figure 11-05"/>
          <p:cNvPicPr/>
          <p:nvPr/>
        </p:nvPicPr>
        <p:blipFill>
          <a:blip r:embed="rId1"/>
          <a:stretch/>
        </p:blipFill>
        <p:spPr>
          <a:xfrm>
            <a:off x="990720" y="1828800"/>
            <a:ext cx="6248160" cy="34369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3278-55E3-4D60-AE09-CCA25A9E235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gree of a 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umber of participating entities in  relationshi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 of degree 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wo is binary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ree is tern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ur is quatern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2FBA-7111-4290-A1CC-CC5F7B170A1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9250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Binary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P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w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6" name="Picture 5" descr="DS3-Figure 11-06"/>
          <p:cNvPicPr/>
          <p:nvPr/>
        </p:nvPicPr>
        <p:blipFill>
          <a:blip r:embed="rId1"/>
          <a:stretch/>
        </p:blipFill>
        <p:spPr>
          <a:xfrm>
            <a:off x="609480" y="1905120"/>
            <a:ext cx="7791480" cy="1692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715C-5748-453C-B07E-F8B5D37F801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Ternary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Regist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0" name="Picture 5" descr="DS3-Figure 11-07"/>
          <p:cNvPicPr/>
          <p:nvPr/>
        </p:nvPicPr>
        <p:blipFill>
          <a:blip r:embed="rId1"/>
          <a:stretch/>
        </p:blipFill>
        <p:spPr>
          <a:xfrm>
            <a:off x="609480" y="1905120"/>
            <a:ext cx="7315200" cy="2649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76E5-0350-469E-84FB-D534D35C93B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Quaternary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rrang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4" name="Picture 5" descr="DS3-Figure 11-08"/>
          <p:cNvPicPr/>
          <p:nvPr/>
        </p:nvPicPr>
        <p:blipFill>
          <a:blip r:embed="rId1"/>
          <a:stretch/>
        </p:blipFill>
        <p:spPr>
          <a:xfrm>
            <a:off x="685800" y="1752480"/>
            <a:ext cx="7162920" cy="3594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EFE1-369C-4F79-ADD9-C3B04B0C633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ursive 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 type where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am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ntity type participates more than once in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fferent role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s may be given role names to indicate purpose that each participating entity type plays in a relationship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EA10-D367-43EC-AA0E-002F6088B43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Recursive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uperv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with role nam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2" name="Picture 5" descr="DS3-Figure 11-09"/>
          <p:cNvPicPr/>
          <p:nvPr/>
        </p:nvPicPr>
        <p:blipFill>
          <a:blip r:embed="rId1"/>
          <a:stretch/>
        </p:blipFill>
        <p:spPr>
          <a:xfrm>
            <a:off x="762120" y="1828800"/>
            <a:ext cx="6933960" cy="31971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F4F8-3D14-4135-A6AB-FD23E520998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Entities associated through two distinct relationships with role nam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6" name="Picture 5" descr="DS3-Figure 11-10"/>
          <p:cNvPicPr/>
          <p:nvPr/>
        </p:nvPicPr>
        <p:blipFill>
          <a:blip r:embed="rId1"/>
          <a:stretch/>
        </p:blipFill>
        <p:spPr>
          <a:xfrm>
            <a:off x="990720" y="1600200"/>
            <a:ext cx="6095880" cy="46782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955F-166F-4DBA-AE36-56384D5E3A3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perty of an entity or a relationship typ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Doma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t of allowable values for one or more attribut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DD04-5775-4872-827F-FA59B8E1D9B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mple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composed of a single component with an independent exist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osite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composed of multiple components, each with an independent exist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738D-A6B3-4AEB-9AD2-1A8816B1B2B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12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use Entity–Relationship (ER) modeling in database design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asic concepts associated with ER model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matic technique for displaying ER model using Unified Modeling Language (UML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identify and resolve problems with ER models called connection trap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build an ER model from a requirements specification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4F10-DB4C-49C4-9E16-2DA17D4FC32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ngle-valu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holds a single value for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-valu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holds multiple values for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B323-607F-4173-B278-A105BEC0407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riv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represents a value that is derivable from value of a related attribute, or set of attributes, not necessarily in the same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DF29-1B99-4123-9043-7B04592FE00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dida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nimal set of attributes that uniquely identifies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ndidate key selected to uniquely identify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osi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candidate key that consists of two or more attribut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EEF0-BCDC-442B-972E-B9E4504C65D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iagram of 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and 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entities and their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0" name="Picture 1032" descr="DS3-Figure 11-11"/>
          <p:cNvPicPr/>
          <p:nvPr/>
        </p:nvPicPr>
        <p:blipFill>
          <a:blip r:embed="rId1"/>
          <a:stretch/>
        </p:blipFill>
        <p:spPr>
          <a:xfrm>
            <a:off x="533520" y="1752480"/>
            <a:ext cx="7543800" cy="3962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03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77D8-2A83-4D50-BABB-2D684305C06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ntity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trong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type that is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t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xistence-dependent on some other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Weak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type that is existence-dependent on some other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9CB4-6BD4-481C-AB86-D1EFA78A3C1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trong entity type called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Cli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and weak entity type called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Preferenc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8" name="Picture 8" descr="DS3-Figure 11-12"/>
          <p:cNvPicPr/>
          <p:nvPr/>
        </p:nvPicPr>
        <p:blipFill>
          <a:blip r:embed="rId1"/>
          <a:stretch/>
        </p:blipFill>
        <p:spPr>
          <a:xfrm>
            <a:off x="990720" y="1905120"/>
            <a:ext cx="6324480" cy="3609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C92B-1F03-46F8-B112-2FBED066168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with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62" name="Picture 5" descr="DS3-Figure 11-13"/>
          <p:cNvPicPr/>
          <p:nvPr/>
        </p:nvPicPr>
        <p:blipFill>
          <a:blip r:embed="rId1"/>
          <a:stretch/>
        </p:blipFill>
        <p:spPr>
          <a:xfrm>
            <a:off x="914400" y="1828800"/>
            <a:ext cx="6858000" cy="38386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05F2-EEBB-401E-A9EE-2A36453BBC2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ain type of constraint on relationships is called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multiplic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plicity -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umber (or range) of possible occurrences of an entity type that may relate to a single occurrence of an associated entity type through a particular relationship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presents policies (calle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business rule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) established by user or compan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CB82-CB14-4285-8EDF-F0A917E9EBB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most common degree for relationships is binar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inary relationships are generally referred to as being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one (1:1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many (1: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y-to-many (*: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336F-4407-4567-97E5-0819CD235CE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s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4" name="Picture 7" descr="DS3-Figure 11-14a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886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1497-2822-4D1F-BA07-FEE6145A330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iagram of Branch user views o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reamHom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0" name="Picture 8" descr="DS3-Figure 11-01"/>
          <p:cNvPicPr/>
          <p:nvPr/>
        </p:nvPicPr>
        <p:blipFill>
          <a:blip r:embed="rId1"/>
          <a:stretch/>
        </p:blipFill>
        <p:spPr>
          <a:xfrm>
            <a:off x="762120" y="1447920"/>
            <a:ext cx="7049880" cy="4876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CFD2-194D-440F-B7D2-AA0DCE81EE9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1:1) relationship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8" name="Picture 8" descr="DS3-Figure 11-14b"/>
          <p:cNvPicPr/>
          <p:nvPr/>
        </p:nvPicPr>
        <p:blipFill>
          <a:blip r:embed="rId1"/>
          <a:stretch/>
        </p:blipFill>
        <p:spPr>
          <a:xfrm>
            <a:off x="609480" y="1752480"/>
            <a:ext cx="7010640" cy="3581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53C2-A886-49B5-81F3-EF9EFBB4746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versees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2" name="Picture 9" descr="DS3-Figure 11-15a"/>
          <p:cNvPicPr/>
          <p:nvPr/>
        </p:nvPicPr>
        <p:blipFill>
          <a:blip r:embed="rId1"/>
          <a:stretch/>
        </p:blipFill>
        <p:spPr>
          <a:xfrm>
            <a:off x="609480" y="1752480"/>
            <a:ext cx="7239240" cy="36576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C53B-CF3D-4099-B8A1-F7951971F26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verse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1:*)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6" name="Picture 8" descr="DS3-Figure 11-15b"/>
          <p:cNvPicPr/>
          <p:nvPr/>
        </p:nvPicPr>
        <p:blipFill>
          <a:blip r:embed="rId1"/>
          <a:stretch/>
        </p:blipFill>
        <p:spPr>
          <a:xfrm>
            <a:off x="685800" y="18288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6FC4-CF45-4A59-A6DB-49DF730AB4A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Newspaper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0" name="Picture 7" descr="DS3-Figure 11-16a"/>
          <p:cNvPicPr/>
          <p:nvPr/>
        </p:nvPicPr>
        <p:blipFill>
          <a:blip r:embed="rId1"/>
          <a:stretch/>
        </p:blipFill>
        <p:spPr>
          <a:xfrm>
            <a:off x="685800" y="1676520"/>
            <a:ext cx="7010280" cy="40226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4FF6-02A7-4E4C-B8A2-0E06B6D2F3C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Newspaper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*:*) relationship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4" name="Picture 8" descr="DS3-Figure 11-16b"/>
          <p:cNvPicPr/>
          <p:nvPr/>
        </p:nvPicPr>
        <p:blipFill>
          <a:blip r:embed="rId1"/>
          <a:stretch/>
        </p:blipFill>
        <p:spPr>
          <a:xfrm>
            <a:off x="685800" y="1752480"/>
            <a:ext cx="7391520" cy="3581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9C12-07D7-4F28-8F60-F8C742A2FC0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ultiplicity for Complex Relationships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umber (or range) of possible occurrences of an entity type in an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ary relationship when other (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1) values are fixed.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53A1-2453-4969-989B-1E2825A1A53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ternary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Register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with values for Staff and Branch entities fixed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02" name="Picture 5" descr="DS3-Figure 11-17a"/>
          <p:cNvPicPr/>
          <p:nvPr/>
        </p:nvPicPr>
        <p:blipFill>
          <a:blip r:embed="rId1"/>
          <a:stretch/>
        </p:blipFill>
        <p:spPr>
          <a:xfrm>
            <a:off x="609480" y="1828800"/>
            <a:ext cx="739152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279A-A834-40FD-ABE0-CC4C1E677BB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ternary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Register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06" name="Picture 1029" descr="DS3-Figure 11-17b"/>
          <p:cNvPicPr/>
          <p:nvPr/>
        </p:nvPicPr>
        <p:blipFill>
          <a:blip r:embed="rId1"/>
          <a:stretch/>
        </p:blipFill>
        <p:spPr>
          <a:xfrm>
            <a:off x="609480" y="190512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FA1A-5C65-4B6F-9A33-0FC2FE5430E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ummary of multiplic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1" name="Picture 6" descr="DS3-Table 11-01"/>
          <p:cNvPicPr/>
          <p:nvPr/>
        </p:nvPicPr>
        <p:blipFill>
          <a:blip r:embed="rId1"/>
          <a:srcRect l="85" t="12512" r="0" b="0"/>
          <a:stretch/>
        </p:blipFill>
        <p:spPr>
          <a:xfrm>
            <a:off x="468360" y="1773360"/>
            <a:ext cx="7991280" cy="32893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1924-85AD-4BA3-AD71-7866A34DEFB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plicity is made up of two types of restrictions on relationships: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cardinal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participation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7570-766A-421D-86D4-9300DFA5668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ncepts of the ER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typ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typ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D4F0-B758-48BC-A29F-AB531F9CD46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176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rdinality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cribes maximum number of possible relationship occurrences for an entity participating in a given relationship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articip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termines whether all or only some entity occurrences participate in a relationshi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23A2-C136-45B2-A5DB-FD627B1D6E0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as cardinality and participation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23" name="Picture 1029" descr="DS3-Figure 11-18"/>
          <p:cNvPicPr/>
          <p:nvPr/>
        </p:nvPicPr>
        <p:blipFill>
          <a:blip r:embed="rId1"/>
          <a:stretch/>
        </p:blipFill>
        <p:spPr>
          <a:xfrm>
            <a:off x="1523880" y="1523880"/>
            <a:ext cx="5791320" cy="4627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F78F-1498-4A57-93BE-AEE43A87798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blems with ER Mod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blems may arise when designing a conceptual data model calle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connection tra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ften due to a misinterpretation of the meaning of certain relationship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wo main types of connection traps are calle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fan trap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chasm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tra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1206-9839-4BEA-A6B2-45E169F9EB3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blems with ER Mod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an Tr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re a model represents a relationship between entity types, but pathway between certain entity occurrences is ambiguou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hasm Tr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re a model suggests the existence of a relationship between entity types, but pathway does not exist between certain entity occurrenc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E6BA-C011-4F64-8219-CA3E8B74AA2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 Example of a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35" name="Picture 8" descr="DS3-Figure 11-19a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0252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8885-3440-4AB6-8943-C920BC35A4B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ER Model with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At which branch office does staff number SG37 work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0" name="Picture 8" descr="DS3-Figure 11-19b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28576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B3E4-8D5E-44C1-B231-683E942D973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structuring ER model to remove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44" name="Picture 8" descr="DS3-Figure 11-20a"/>
          <p:cNvPicPr/>
          <p:nvPr/>
        </p:nvPicPr>
        <p:blipFill>
          <a:blip r:embed="rId1"/>
          <a:stretch/>
        </p:blipFill>
        <p:spPr>
          <a:xfrm>
            <a:off x="533520" y="1905120"/>
            <a:ext cx="7848360" cy="2361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0572-F148-4AF2-B506-315DF4C1D02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Restructured ER Model with Fan Trap Remov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G37 works at branch B003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9" name="Picture 9" descr="DS3-Figure 11-20b"/>
          <p:cNvPicPr/>
          <p:nvPr/>
        </p:nvPicPr>
        <p:blipFill>
          <a:blip r:embed="rId1"/>
          <a:stretch/>
        </p:blipFill>
        <p:spPr>
          <a:xfrm>
            <a:off x="533520" y="1828800"/>
            <a:ext cx="7619760" cy="282888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6C4B-80CC-47B8-A8FB-2AA5027E453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 Example of a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53" name="Picture 9" descr="DS3-Figure 11-21a"/>
          <p:cNvPicPr/>
          <p:nvPr/>
        </p:nvPicPr>
        <p:blipFill>
          <a:blip r:embed="rId1"/>
          <a:stretch/>
        </p:blipFill>
        <p:spPr>
          <a:xfrm>
            <a:off x="457200" y="2057400"/>
            <a:ext cx="8305920" cy="11430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1864-9E50-4985-A862-59D0B44C385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ER Model with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 which branch office is property PA14 available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8" name="Picture 8" descr="DS3-Figure 11-21b"/>
          <p:cNvPicPr/>
          <p:nvPr/>
        </p:nvPicPr>
        <p:blipFill>
          <a:blip r:embed="rId1"/>
          <a:stretch/>
        </p:blipFill>
        <p:spPr>
          <a:xfrm>
            <a:off x="609480" y="1752480"/>
            <a:ext cx="7467840" cy="27054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9EB3-A60A-4A30-9446-9183B6E861D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ntity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oup of objects with same properties,  identified by enterprise as having an independent existenc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occur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quely identifiable object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5B60-4E4C-43E1-88D0-97990A3B2DC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Model restructured to remove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62" name="Picture 9" descr="DS3-Figure 11-22a"/>
          <p:cNvPicPr/>
          <p:nvPr/>
        </p:nvPicPr>
        <p:blipFill>
          <a:blip r:embed="rId1"/>
          <a:stretch/>
        </p:blipFill>
        <p:spPr>
          <a:xfrm>
            <a:off x="685800" y="1905120"/>
            <a:ext cx="7543800" cy="24256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0D20-B53C-4EC1-9510-4D9BEA0EF60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Restructured ER Model with Chasm Trap Remov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66" name="Picture 9" descr="DS3-Figure 11-22b"/>
          <p:cNvPicPr/>
          <p:nvPr/>
        </p:nvPicPr>
        <p:blipFill>
          <a:blip r:embed="rId1"/>
          <a:stretch/>
        </p:blipFill>
        <p:spPr>
          <a:xfrm>
            <a:off x="1066680" y="1600200"/>
            <a:ext cx="5943600" cy="45626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3EDD-A901-46E5-BCBE-3E49E826DC3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Entity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2" name="Picture 6" descr="DS3-Figure 11-02"/>
          <p:cNvPicPr/>
          <p:nvPr/>
        </p:nvPicPr>
        <p:blipFill>
          <a:blip r:embed="rId1"/>
          <a:stretch/>
        </p:blipFill>
        <p:spPr>
          <a:xfrm>
            <a:off x="1600200" y="1752480"/>
            <a:ext cx="4038480" cy="35402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1A8E-1A2A-483F-8DBF-34BD888174D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iagram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and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Branch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entity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6" name="Picture 8" descr="DS3-Figure 11-03"/>
          <p:cNvPicPr/>
          <p:nvPr/>
        </p:nvPicPr>
        <p:blipFill>
          <a:blip r:embed="rId1"/>
          <a:stretch/>
        </p:blipFill>
        <p:spPr>
          <a:xfrm>
            <a:off x="1295280" y="2057400"/>
            <a:ext cx="5105520" cy="29401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0386-0FFE-42D2-8AB0-71C31E2C18D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t of meaningful associations among entity typ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occur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quely identifiable association, which includes one occurrence from each participating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FF46-2109-49FE-AC75-DA11A7365BC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Ha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4" name="Picture 1029" descr="DS3-Figure 11-04"/>
          <p:cNvPicPr/>
          <p:nvPr/>
        </p:nvPicPr>
        <p:blipFill>
          <a:blip r:embed="rId1"/>
          <a:stretch/>
        </p:blipFill>
        <p:spPr>
          <a:xfrm>
            <a:off x="533520" y="1600200"/>
            <a:ext cx="7315200" cy="3962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11 of textbook
Database Systems: A Practical Approach to Design, Implementation, and Management</dc:description>
  <dc:language>en-US</dc:language>
  <cp:lastModifiedBy>sara</cp:lastModifiedBy>
  <cp:lastPrinted>1998-06-24T16:37:58Z</cp:lastPrinted>
  <dcterms:modified xsi:type="dcterms:W3CDTF">2014-02-08T13:36:25Z</dcterms:modified>
  <cp:revision>64</cp:revision>
  <dc:subject>Database Systems</dc:subject>
  <dc:title>Chapter 11</dc:title>
</cp:coreProperties>
</file>