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7FBA-317A-4BAF-A38E-1D9A52F04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B311-8144-490F-B1DD-16384AB58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97DE-5AF3-4C97-8EDE-1DF255314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F18B-D698-47D6-A34E-FC69AE955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B6E69-DF7D-46E4-9791-278D366149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0910D-2698-41F8-BA02-548941E8A0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A1AC2-F08E-4DDF-B5DE-8EAC8E80FF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98537-C90F-49DF-8892-D5E33C3351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09D2A-F7D9-476C-8404-173E3399BB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66F9C-0476-4EF5-BEA1-0587DFFC74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5F7D1-8557-4252-8D3F-519BEC92C1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283C-5F7C-4163-AFF0-E8E5A285F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65035-4C78-4AA7-B55C-621339242E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EA9CE-63D1-4FA1-A24B-D6377648F7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BE49F-35DC-4602-933A-68C143F928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20632-71A9-43C4-8B89-2EC089C8EB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AD2DC-10C4-4B93-A801-C08EB24A81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52F-FAFF-459B-BE8B-9B9D92B7F1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281-2B85-4ED0-BD21-61D9EFC4A6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D76-A87B-477F-9153-CD21202A49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56B-9115-43C2-9EB9-F37D59BD00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0821-2922-4647-BF5A-1A5E3E5D9F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EDBC-41BC-485C-A200-57C823EBA7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DEEE-FA2B-486E-BEA0-3809584F92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35F-325D-4B7E-BA45-4340E3EC1E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55A-5513-4207-8E13-63DBC1AFE4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77A2-3F88-4450-A9EF-0C132479FC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78D-82B6-4945-A756-5D78065B8E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EA8D-4342-48A0-8587-432603B87D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F261-A8D9-4DC2-881A-B247302C0B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0B90B-1067-4E2B-9502-2003A081828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69484-43FB-44FC-BD72-9A8EA5DB5C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59C63-A067-41EC-9A86-91DF87057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B141-7E99-43AA-9060-4409AD33D7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C7071-214D-4CFE-A027-2AF64B8FF3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59117-71DF-4545-888F-E94939276F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85FBA-71A7-4412-92B5-F31304D909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4BFE1-C0F0-414C-9CF9-F067DF66F6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819DD-9DFD-4547-98FF-A4250689B5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C224C-70D8-4E1F-93E1-255B16B700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7341E-3739-406D-8B2B-E5C3CEDC63A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AB9D9-8556-4195-BB0B-B11D4CB3B2A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0F593-2064-487E-A6E8-381ABA798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39F69-9774-4251-A185-F2F5A07B8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A340-19D8-4184-BEAF-C860DCC11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797B-5FA7-48D2-B7B4-A7475761D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2B76-8C14-45A8-B522-228651FD4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FAF3-76C3-4DA6-95C5-73A89D8DF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E52D-5BBF-4260-A9DE-1BDF383E8A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42C6-5946-4AB3-ABC6-008D90267C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58D9-6C4C-4F0C-8DDF-D7ED8C7209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469C-26BE-4CE2-AA24-46C0EBE0288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12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-Relationship Model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FAA5-34B0-4279-B693-22746D9AAA3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R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iagram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Branch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Ha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Staf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relationship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8" name="Picture 6" descr="DS3-Figure 11-05"/>
          <p:cNvPicPr/>
          <p:nvPr/>
        </p:nvPicPr>
        <p:blipFill>
          <a:blip r:embed="rId1"/>
          <a:stretch/>
        </p:blipFill>
        <p:spPr>
          <a:xfrm>
            <a:off x="990720" y="1828800"/>
            <a:ext cx="6248160" cy="34369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82AB-F817-4973-A140-A61427F6B93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ship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gree of a Relationshi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umber of participating entities in  relationship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ationship of degree 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wo is binary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ree is terna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our is quaternar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4FF4-45B1-408A-9F83-207CEFDE13E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9250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Binary relationship called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P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Ow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6" name="Picture 5" descr="DS3-Figure 11-06"/>
          <p:cNvPicPr/>
          <p:nvPr/>
        </p:nvPicPr>
        <p:blipFill>
          <a:blip r:embed="rId1"/>
          <a:stretch/>
        </p:blipFill>
        <p:spPr>
          <a:xfrm>
            <a:off x="609480" y="1905120"/>
            <a:ext cx="7791480" cy="1692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5855-3475-4FB2-9145-C8310512FF7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Ternary relationship called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Register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0" name="Picture 5" descr="DS3-Figure 11-07"/>
          <p:cNvPicPr/>
          <p:nvPr/>
        </p:nvPicPr>
        <p:blipFill>
          <a:blip r:embed="rId1"/>
          <a:stretch/>
        </p:blipFill>
        <p:spPr>
          <a:xfrm>
            <a:off x="609480" y="1905120"/>
            <a:ext cx="7315200" cy="26492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13E2-D85E-421E-8322-7AC3B7C18F4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Quaternary relationship called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rrang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4" name="Picture 5" descr="DS3-Figure 11-08"/>
          <p:cNvPicPr/>
          <p:nvPr/>
        </p:nvPicPr>
        <p:blipFill>
          <a:blip r:embed="rId1"/>
          <a:stretch/>
        </p:blipFill>
        <p:spPr>
          <a:xfrm>
            <a:off x="685800" y="1752480"/>
            <a:ext cx="7162920" cy="3594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5FDE-EAA6-49DF-A329-75FCDEE4FEF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ship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cursive Relationshi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ationship type where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ame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entity type participates more than once in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fferent roles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ationships may be given role names to indicate purpose that each participating entity type plays in a relationship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 Box 2052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7D71-6FDF-4F37-BE20-B22212D359F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Recursive relationship called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upervis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with role nam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2" name="Picture 5" descr="DS3-Figure 11-09"/>
          <p:cNvPicPr/>
          <p:nvPr/>
        </p:nvPicPr>
        <p:blipFill>
          <a:blip r:embed="rId1"/>
          <a:stretch/>
        </p:blipFill>
        <p:spPr>
          <a:xfrm>
            <a:off x="762120" y="1828800"/>
            <a:ext cx="6933960" cy="31971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0D02-FC8F-4955-A017-BF6F6EADE7D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Entities associated through two distinct relationships with role nam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6" name="Picture 5" descr="DS3-Figure 11-10"/>
          <p:cNvPicPr/>
          <p:nvPr/>
        </p:nvPicPr>
        <p:blipFill>
          <a:blip r:embed="rId1"/>
          <a:stretch/>
        </p:blipFill>
        <p:spPr>
          <a:xfrm>
            <a:off x="990720" y="1600200"/>
            <a:ext cx="6095880" cy="46782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A1B2-BB69-4C8B-8038-19192D108EA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perty of an entity or a relationship typ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Doma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et of allowable values for one or more attribut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AF45-E3F4-4E60-9747-11160A5530E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imple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composed of a single component with an independent exist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mposite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composed of multiple components, each with an independent exist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0B70-E085-4E41-AD31-9DCF87A35D9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12 - 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w to use Entity–Relationship (ER) modeling in database design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asic concepts associated with ER model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matic technique for displaying ER model using Unified Modeling Language (UML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w to identify and resolve problems with ER models called connection trap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w to build an ER model from a requirements specification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C53D-8C03-480C-9D14-BA6EED11B80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ingle-valued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ttribute that holds a single value for each occurrence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ulti-valued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ttribute that holds multiple values for each occurrence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CE1B-A119-4957-8934-DB298986BB7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rived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ttribute that represents a value that is derivable from value of a related attribute, or set of attributes, not necessarily in the same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A748-91D8-4B36-80D7-9B8BFF15B45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ndidate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nimal set of attributes that uniquely identifies each occurrence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imary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andidate key selected to uniquely identify each occurrence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mposite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candidate key that consists of two or more attribut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3AF7-DA21-4638-A82F-27821276F58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R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iagram of 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and 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Branch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entities and their 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50" name="Picture 1032" descr="DS3-Figure 11-11"/>
          <p:cNvPicPr/>
          <p:nvPr/>
        </p:nvPicPr>
        <p:blipFill>
          <a:blip r:embed="rId1"/>
          <a:stretch/>
        </p:blipFill>
        <p:spPr>
          <a:xfrm>
            <a:off x="533520" y="1752480"/>
            <a:ext cx="7543800" cy="39625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033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81A9-B66A-4AA7-90C4-E2D2655BDCD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ntity Typ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trong Entity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tity type that is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t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existence-dependent on some other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Weak Entity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tity type that is existence-dependent on some other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868B-5794-4BE0-8B97-ADAFDAE52DF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trong entity type called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Cli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and weak entity type called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Preferenc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58" name="Picture 8" descr="DS3-Figure 11-12"/>
          <p:cNvPicPr/>
          <p:nvPr/>
        </p:nvPicPr>
        <p:blipFill>
          <a:blip r:embed="rId1"/>
          <a:stretch/>
        </p:blipFill>
        <p:spPr>
          <a:xfrm>
            <a:off x="990720" y="1905120"/>
            <a:ext cx="6324480" cy="3609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943A-9DFF-494D-8E1C-093FEF8F1A5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Relationship called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dvertis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with 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62" name="Picture 5" descr="DS3-Figure 11-13"/>
          <p:cNvPicPr/>
          <p:nvPr/>
        </p:nvPicPr>
        <p:blipFill>
          <a:blip r:embed="rId1"/>
          <a:stretch/>
        </p:blipFill>
        <p:spPr>
          <a:xfrm>
            <a:off x="914400" y="1828800"/>
            <a:ext cx="6858000" cy="38386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DFA6-40C5-4BFB-B052-C48CEDC0231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ain type of constraint on relationships is called 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multiplicity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ultiplicity - 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umber (or range) of possible occurrences of an entity type that may relate to a single occurrence of an associated entity type through a particular relationship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presents policies (called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business rule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) established by user or compan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3070-E51A-450F-932D-75047BB4966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most common degree for relationships is binar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inary relationships are generally referred to as being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-to-one (1:1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-to-many (1:*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ny-to-many (*:*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8167-8AAE-4AF8-A49B-C9C1D362911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Manages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Branch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typ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74" name="Picture 7" descr="DS3-Figure 11-14a"/>
          <p:cNvPicPr/>
          <p:nvPr/>
        </p:nvPicPr>
        <p:blipFill>
          <a:blip r:embed="rId1"/>
          <a:stretch/>
        </p:blipFill>
        <p:spPr>
          <a:xfrm>
            <a:off x="685800" y="1905120"/>
            <a:ext cx="7391520" cy="38862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D2F7-D993-4E8C-B10E-14985149A70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R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iagram of Branch user views o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reamHom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0" name="Picture 8" descr="DS3-Figure 11-01"/>
          <p:cNvPicPr/>
          <p:nvPr/>
        </p:nvPicPr>
        <p:blipFill>
          <a:blip r:embed="rId1"/>
          <a:stretch/>
        </p:blipFill>
        <p:spPr>
          <a:xfrm>
            <a:off x="762120" y="1447920"/>
            <a:ext cx="7049880" cy="48765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1ADE-395C-4D5A-A5A5-FA2EEB3EA64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Manag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Branch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(1:1) relationship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78" name="Picture 8" descr="DS3-Figure 11-14b"/>
          <p:cNvPicPr/>
          <p:nvPr/>
        </p:nvPicPr>
        <p:blipFill>
          <a:blip r:embed="rId1"/>
          <a:stretch/>
        </p:blipFill>
        <p:spPr>
          <a:xfrm>
            <a:off x="609480" y="1752480"/>
            <a:ext cx="7010640" cy="35816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5C2D-D759-41CC-A325-FFFA45B8842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Oversees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PropertyForR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typ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82" name="Picture 9" descr="DS3-Figure 11-15a"/>
          <p:cNvPicPr/>
          <p:nvPr/>
        </p:nvPicPr>
        <p:blipFill>
          <a:blip r:embed="rId1"/>
          <a:stretch/>
        </p:blipFill>
        <p:spPr>
          <a:xfrm>
            <a:off x="609480" y="1752480"/>
            <a:ext cx="7239240" cy="36576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FB6D-D2D2-4987-B164-078DB572797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Overse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PropertyForR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(1:*) relationship typ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86" name="Picture 8" descr="DS3-Figure 11-15b"/>
          <p:cNvPicPr/>
          <p:nvPr/>
        </p:nvPicPr>
        <p:blipFill>
          <a:blip r:embed="rId1"/>
          <a:stretch/>
        </p:blipFill>
        <p:spPr>
          <a:xfrm>
            <a:off x="685800" y="1828800"/>
            <a:ext cx="7238880" cy="3581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D9BE-0F43-4AFB-BDF4-9AC685D45B8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Newspaper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dvertis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PropertyForRent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typ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90" name="Picture 7" descr="DS3-Figure 11-16a"/>
          <p:cNvPicPr/>
          <p:nvPr/>
        </p:nvPicPr>
        <p:blipFill>
          <a:blip r:embed="rId1"/>
          <a:stretch/>
        </p:blipFill>
        <p:spPr>
          <a:xfrm>
            <a:off x="685800" y="1676520"/>
            <a:ext cx="7010280" cy="40226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3A63-9442-44E9-99CA-D56A3FBEC23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Newspaper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dvertis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PropertyForR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(*:*) relationship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94" name="Picture 8" descr="DS3-Figure 11-16b"/>
          <p:cNvPicPr/>
          <p:nvPr/>
        </p:nvPicPr>
        <p:blipFill>
          <a:blip r:embed="rId1"/>
          <a:stretch/>
        </p:blipFill>
        <p:spPr>
          <a:xfrm>
            <a:off x="685800" y="1752480"/>
            <a:ext cx="7391520" cy="3581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7589-C88E-4F21-AB3A-B8F3C31EA61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ultiplicity for Complex Relationships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umber (or range) of possible occurrences of an entity type in an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ary relationship when other (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1) values are fixed.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4453-98E1-42FF-87C0-152E7968626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ternary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Register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with values for Staff and Branch entities fixed</a:t>
            </a:r>
            <a:r>
              <a:rPr b="0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02" name="Picture 5" descr="DS3-Figure 11-17a"/>
          <p:cNvPicPr/>
          <p:nvPr/>
        </p:nvPicPr>
        <p:blipFill>
          <a:blip r:embed="rId1"/>
          <a:stretch/>
        </p:blipFill>
        <p:spPr>
          <a:xfrm>
            <a:off x="609480" y="1828800"/>
            <a:ext cx="739152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FF12-FC7F-4879-A7BE-25B88A8797B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of ternary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Register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06" name="Picture 1029" descr="DS3-Figure 11-17b"/>
          <p:cNvPicPr/>
          <p:nvPr/>
        </p:nvPicPr>
        <p:blipFill>
          <a:blip r:embed="rId1"/>
          <a:stretch/>
        </p:blipFill>
        <p:spPr>
          <a:xfrm>
            <a:off x="609480" y="1905120"/>
            <a:ext cx="7315200" cy="29718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259E-67E8-4730-B6EB-C1C9AF6DB53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ummary of multiplicity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11" name="Picture 6" descr="DS3-Table 11-01"/>
          <p:cNvPicPr/>
          <p:nvPr/>
        </p:nvPicPr>
        <p:blipFill>
          <a:blip r:embed="rId1"/>
          <a:srcRect l="85" t="12512" r="0" b="0"/>
          <a:stretch/>
        </p:blipFill>
        <p:spPr>
          <a:xfrm>
            <a:off x="468360" y="1773360"/>
            <a:ext cx="7991280" cy="32893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AC94-3676-4F34-A0E9-B95B2172D71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7338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ultiplicity is made up of two types of restrictions on relationships: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cardinality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participation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5181-C431-4A88-AA2B-D742793BA30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oncepts of the ER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 typ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ship type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412C-DB20-4D5A-BA08-7665E9063A9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61760" y="15573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rdinality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scribes maximum number of possible relationship occurrences for an entity participating in a given relationship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articip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termines whether all or only some entity occurrences participate in a relationship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A0D8-214D-448C-82C2-FF19F366325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as cardinality and participation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23" name="Picture 1029" descr="DS3-Figure 11-18"/>
          <p:cNvPicPr/>
          <p:nvPr/>
        </p:nvPicPr>
        <p:blipFill>
          <a:blip r:embed="rId1"/>
          <a:stretch/>
        </p:blipFill>
        <p:spPr>
          <a:xfrm>
            <a:off x="1523880" y="1523880"/>
            <a:ext cx="5791320" cy="46278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F603-18E6-4143-A20B-08A41CB54F0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roblems with ER Mod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blems may arise when designing a conceptual data model called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connection trap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Often due to a misinterpretation of the meaning of certain relationship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wo main types of connection traps are called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fan traps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nd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chasm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trap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11A8-8102-40FF-8380-2A36635689D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roblems with ER Mod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Fan Tra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here a model represents a relationship between entity types, but pathway between certain entity occurrences is ambiguou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07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hasm Tra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here a model suggests the existence of a relationship between entity types, but pathway does not exist between certain entity occurrenc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58C2-56F3-43DA-BB2D-61BA6523778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 Example of a Fan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35" name="Picture 8" descr="DS3-Figure 11-19a"/>
          <p:cNvPicPr/>
          <p:nvPr/>
        </p:nvPicPr>
        <p:blipFill>
          <a:blip r:embed="rId1"/>
          <a:stretch/>
        </p:blipFill>
        <p:spPr>
          <a:xfrm>
            <a:off x="380880" y="2133720"/>
            <a:ext cx="8229600" cy="10252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BE89-FD55-421D-8A90-C4E5F3CD68F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ER Model with Fan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At which branch office does staff number SG37 work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0" name="Picture 8" descr="DS3-Figure 11-19b"/>
          <p:cNvPicPr/>
          <p:nvPr/>
        </p:nvPicPr>
        <p:blipFill>
          <a:blip r:embed="rId1"/>
          <a:stretch/>
        </p:blipFill>
        <p:spPr>
          <a:xfrm>
            <a:off x="685800" y="1981080"/>
            <a:ext cx="7696080" cy="285768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6791-D193-4DB8-8AAB-EA367102930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structuring ER model to remove Fan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44" name="Picture 8" descr="DS3-Figure 11-20a"/>
          <p:cNvPicPr/>
          <p:nvPr/>
        </p:nvPicPr>
        <p:blipFill>
          <a:blip r:embed="rId1"/>
          <a:stretch/>
        </p:blipFill>
        <p:spPr>
          <a:xfrm>
            <a:off x="533520" y="1905120"/>
            <a:ext cx="7848360" cy="23619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087C-B01B-4441-88A0-B1F099759C0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Restructured ER Model with Fan Trap Removed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G37 works at branch B003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9" name="Picture 9" descr="DS3-Figure 11-20b"/>
          <p:cNvPicPr/>
          <p:nvPr/>
        </p:nvPicPr>
        <p:blipFill>
          <a:blip r:embed="rId1"/>
          <a:stretch/>
        </p:blipFill>
        <p:spPr>
          <a:xfrm>
            <a:off x="533520" y="1828800"/>
            <a:ext cx="7619760" cy="282888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FB5D-9D38-4E78-8F0B-FFBABA747EC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 Example of a Chasm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53" name="Picture 9" descr="DS3-Figure 11-21a"/>
          <p:cNvPicPr/>
          <p:nvPr/>
        </p:nvPicPr>
        <p:blipFill>
          <a:blip r:embed="rId1"/>
          <a:stretch/>
        </p:blipFill>
        <p:spPr>
          <a:xfrm>
            <a:off x="457200" y="2057400"/>
            <a:ext cx="8305920" cy="114300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B6D9-8120-4BCC-836E-6553DAA0CCB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ER Model with Chasm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 which branch office is property PA14 available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58" name="Picture 8" descr="DS3-Figure 11-21b"/>
          <p:cNvPicPr/>
          <p:nvPr/>
        </p:nvPicPr>
        <p:blipFill>
          <a:blip r:embed="rId1"/>
          <a:stretch/>
        </p:blipFill>
        <p:spPr>
          <a:xfrm>
            <a:off x="609480" y="1752480"/>
            <a:ext cx="7467840" cy="270540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8482-C1C3-4DF4-9D22-B9156F1CD50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ntity Typ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roup of objects with same properties,  identified by enterprise as having an independent existenc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 occurr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niquely identifiable object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FF04-4DBA-4798-A78A-B29EFE682B7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R Model restructured to remove Chasm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62" name="Picture 9" descr="DS3-Figure 11-22a"/>
          <p:cNvPicPr/>
          <p:nvPr/>
        </p:nvPicPr>
        <p:blipFill>
          <a:blip r:embed="rId1"/>
          <a:stretch/>
        </p:blipFill>
        <p:spPr>
          <a:xfrm>
            <a:off x="685800" y="1905120"/>
            <a:ext cx="7543800" cy="24256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E1BC-947D-4E6E-A33D-A23ED63723F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Restructured ER Model with Chasm Trap Removed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66" name="Picture 9" descr="DS3-Figure 11-22b"/>
          <p:cNvPicPr/>
          <p:nvPr/>
        </p:nvPicPr>
        <p:blipFill>
          <a:blip r:embed="rId1"/>
          <a:stretch/>
        </p:blipFill>
        <p:spPr>
          <a:xfrm>
            <a:off x="1066680" y="1600200"/>
            <a:ext cx="5943600" cy="456264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B35D-B4E9-434D-B515-A54D46D4478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xamples of Entity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2" name="Picture 6" descr="DS3-Figure 11-02"/>
          <p:cNvPicPr/>
          <p:nvPr/>
        </p:nvPicPr>
        <p:blipFill>
          <a:blip r:embed="rId1"/>
          <a:stretch/>
        </p:blipFill>
        <p:spPr>
          <a:xfrm>
            <a:off x="1600200" y="1752480"/>
            <a:ext cx="4038480" cy="35402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530F-346F-4C4D-95CB-1CC8B8D8767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R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iagram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and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Branch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entity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6" name="Picture 8" descr="DS3-Figure 11-03"/>
          <p:cNvPicPr/>
          <p:nvPr/>
        </p:nvPicPr>
        <p:blipFill>
          <a:blip r:embed="rId1"/>
          <a:stretch/>
        </p:blipFill>
        <p:spPr>
          <a:xfrm>
            <a:off x="1295280" y="2057400"/>
            <a:ext cx="5105520" cy="29401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03DA-EB87-4A88-826F-6925911D7AB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ship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ship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et of meaningful associations among entity typ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ship occurr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niquely identifiable association, which includes one occurrence from each participating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62EA-63D1-4FB2-A966-6B3FBAD51D0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Ha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typ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4" name="Picture 1029" descr="DS3-Figure 11-04"/>
          <p:cNvPicPr/>
          <p:nvPr/>
        </p:nvPicPr>
        <p:blipFill>
          <a:blip r:embed="rId1"/>
          <a:stretch/>
        </p:blipFill>
        <p:spPr>
          <a:xfrm>
            <a:off x="533520" y="1600200"/>
            <a:ext cx="7315200" cy="39625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2T14:58:02Z</dcterms:created>
  <dc:creator>Thomas Connolly and Carolyn Begg</dc:creator>
  <dc:description>Transparencies for Chapter 11 of textbook
Database Systems: A Practical Approach to Design, Implementation, and Management</dc:description>
  <dc:language>en-US</dc:language>
  <cp:lastModifiedBy>sara</cp:lastModifiedBy>
  <cp:lastPrinted>1998-06-24T16:37:58Z</cp:lastPrinted>
  <dcterms:modified xsi:type="dcterms:W3CDTF">2014-02-08T13:36:25Z</dcterms:modified>
  <cp:revision>64</cp:revision>
  <dc:subject>Database Systems</dc:subject>
  <dc:title>Chapter 11</dc:title>
</cp:coreProperties>
</file>