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B402-5AC7-4C1A-8AF0-5AF9841EC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F94-8EB1-47ED-BD0A-328625DF3484}" type="slidenum">
              <a:rPr b="0" lang="en-CA" sz="1200" spc="-1" strike="noStrike">
                <a:solidFill>
                  <a:srgbClr val="0000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E2A9-948B-434E-8FA8-0600B7BF9BF3}" type="slidenum">
              <a:rPr b="0" lang="en-CA" sz="1200" spc="-1" strike="noStrike">
                <a:solidFill>
                  <a:srgbClr val="0000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18A4-5AD9-45F2-B300-CE811CA3C0A7}" type="slidenum">
              <a:rPr b="0" lang="en-CA" sz="1200" spc="-1" strike="noStrike">
                <a:solidFill>
                  <a:srgbClr val="0000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0193-1277-4ED2-A864-28DDBE677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6A5F-5D21-4741-9E25-3F45C89B0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AFF0-4D88-4D1B-8822-AEDF25599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39A1-C423-46FE-9A22-5A91986C7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02F4-6B20-43F3-A09D-BB3C4299F1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10A9-4E9B-4A63-BCA7-B3FE5759A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59D1-BFA2-4941-BB3A-E85EBDB349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96AA-743F-449E-B2A8-787E8C8350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0DC2-7B07-40B0-A717-83764D50DA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4EA3-4685-466A-B206-AB07606C6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2379-74A2-4AE1-9BCA-FDFD6FC80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1C4D-ACCE-423A-8E51-F5B93930E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7546-2CDB-4E02-9F11-2C50D7B4AE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E7E4-D2C1-41D3-B52D-53B7119FE5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ECA8-C5CF-4850-AD36-DEA79251A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F0F8-8665-4CD7-BDA5-16737C253D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02F1-6E82-4CEC-A800-3AA19D7E01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608-8DF5-45FD-A9E2-DD027CF618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860-0FD3-4960-A351-E5E1888277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658-FB34-4163-AC94-F004580B56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B7E-8248-4FB4-8D64-B73D9371CB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361-560D-41A2-960F-F02E33CF7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03EF-C372-45A7-A989-5FB3BF16D4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348-341A-443B-AE2F-282E3F1975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B62-4ABA-424C-8C16-A74A9015E9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E12-95CF-484D-B6B3-AB34CD2939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575-5413-4D9D-A39F-2EECFD1847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919-DBA1-4527-B6E5-7C57CEEF37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407-2D5E-4A41-BA3B-FE0FDE4350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1E3-69B9-4CDC-A922-AFB8F745CF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4AC40-FF5C-45DA-8859-08BC978634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EFBC5-6D04-46C8-95A0-6B256D88E6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4A2CE-4F9E-45B0-B60F-26819C13B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BC7C-0E60-4178-BB6A-0055A84537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7182E-001D-428A-ACC5-6A05720325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FE7D4-6C69-4F8C-B587-B78EA4862C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0A716-D291-4B96-B511-1C94A91EF3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BACB-73D4-486D-AC7A-25251A0A23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054E3-EF93-41BB-B505-42C3AF71B0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A305-5BF8-4FB7-A3C4-EAE46BC4E4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8C5D6-68ED-49E1-A475-CC325E41E9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022A8-B9D0-46E7-9D10-22FD07FA1B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88965-2C28-4B00-A1B7-6131559CAD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CEB7-848C-4055-B3CD-8F214A510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7632-DCE6-4BAA-AC3C-AB8DCD71ED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65B0-9A77-4EE1-A153-FF342C545D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3C9B-B227-4D27-972D-89E4767148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409E-9EE1-4CFA-929D-0E30848F69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B4E70-573A-4B75-B5C9-F780881087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0CA43-DDD7-4D14-832A-36A0476EBF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57FF-715B-4753-883E-61A149A596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D6677-1004-4B43-B3B7-A1AA1169B6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25711-9E12-4676-97FE-AA7E9A846B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1504-2CB0-407A-8E80-205F48413D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44F81-0416-4CAC-AD81-4701C374B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C724-368E-4566-B798-57020C9778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91781-E841-49A2-9C63-5C56B0A0A36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8A3D-4E98-4DF7-B235-FCDFE4BE93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3F5D-BB79-43BE-A3C8-5BBB8420A1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AD01-47F6-41FE-B1C6-B357096A1F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CC68-423E-40DE-A71B-D63DBBD8C4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FDE-38B8-4F4B-BAB1-D479BD82A0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B9CE-5938-49C9-81ED-F704BD5A816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424B-AC7A-404E-AD2E-67EA1336B5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525D-7BB9-4067-ADC0-779D15B9EB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6DE-E2B7-4D96-BE9B-AE19C04AC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FAD5-63A9-4676-9ECA-0368A9A309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201D-6F07-4D90-BDF2-3A8F628C49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BB82-BE23-4418-8926-ED745683BC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D9EA-CAD8-472A-8863-DCE9B0843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B872-3FD6-4039-8C92-E25F3D70B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88D5-B643-479D-8EEE-D25C62EBB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4FA3-7204-4112-A067-897716E0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49D7-AD2E-477A-870F-C13F06A66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D25-CB49-4E30-A532-DE1FA91CD27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6BCD-738A-48DC-BFB2-F126E0617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59E-F9D2-4FEF-9E75-9099118DCF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624-0697-4AF0-AE2C-34D27D2C373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tra not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"Extended"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row's Foot Not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row’s Fo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1057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CE1ADD1A-C025-4B01-A1DE-3C870F3FA0C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mmary of notation for ER diagra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1" name="Picture 4" descr="fig03_14"/>
          <p:cNvPicPr/>
          <p:nvPr/>
        </p:nvPicPr>
        <p:blipFill>
          <a:blip r:embed="rId1"/>
          <a:stretch/>
        </p:blipFill>
        <p:spPr>
          <a:xfrm>
            <a:off x="2570040" y="1600200"/>
            <a:ext cx="375444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 COMPANY Databas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e need to create a database schema design based on the following (simplified)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requirement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of the COMPANY Database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The company is organized into DEPARTMENTs. Each department has a name, number and an employee wh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anage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the department. We keep track of the start date of the department manager. A department may have several loc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ach department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ontrol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a number of PROJECTs. Each project has a unique name, unique number and is located at a single location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08E8C4D7-6151-4676-AF14-8A29BA55578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83059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 COMPANY Database (Contd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 store each EMPLOYEE’s social security number, address, salary, sex, and birthda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ach employee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orks fo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ne department but may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ork o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several project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e keep track of the number of hours per week that an employee currently works on each projec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e also keep track of the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irect superviso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f each employe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employee may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v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number of DEPEND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 each dependent, we keep track of their name, sex, birthdate, and relationship to the employe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3E1DC96A-7AAD-443C-84CF-22DCCE625F0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MPANY ER Schema Diagram UML not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34640" y="1676520"/>
            <a:ext cx="7728120" cy="411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5743800" cy="48578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2627280" y="227664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2627280" y="2852640"/>
            <a:ext cx="11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3851280" y="220500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part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3995640" y="28526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part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763640" y="5084640"/>
            <a:ext cx="11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0..*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1835280" y="4365720"/>
            <a:ext cx="11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1 ..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9DC8C436-3461-4446-A8F8-BBAE0C97161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itial Design of Entity Types:</a:t>
            </a:r>
            <a:br>
              <a:rPr sz="32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MPLOYEE, DEPARTMENT, PROJECT, DEPEND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9" name="Picture 4" descr="fig03_08"/>
          <p:cNvPicPr/>
          <p:nvPr/>
        </p:nvPicPr>
        <p:blipFill>
          <a:blip r:embed="rId1"/>
          <a:stretch/>
        </p:blipFill>
        <p:spPr>
          <a:xfrm>
            <a:off x="2133720" y="1600200"/>
            <a:ext cx="485928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DA4C6986-4C15-4FB9-BD66-E3EB5B33083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MPANY ER Schema Diagram using (min, max) not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2" name="Picture 4" descr="fig03_15"/>
          <p:cNvPicPr/>
          <p:nvPr/>
        </p:nvPicPr>
        <p:blipFill>
          <a:blip r:embed="rId1"/>
          <a:stretch/>
        </p:blipFill>
        <p:spPr>
          <a:xfrm>
            <a:off x="2043000" y="1600200"/>
            <a:ext cx="45864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hen Not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34640" y="1676520"/>
            <a:ext cx="7728120" cy="4114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ER diagram for the COMPANY database"/>
          <p:cNvPicPr/>
          <p:nvPr/>
        </p:nvPicPr>
        <p:blipFill>
          <a:blip r:embed="rId2"/>
          <a:stretch/>
        </p:blipFill>
        <p:spPr>
          <a:xfrm>
            <a:off x="1187280" y="1581120"/>
            <a:ext cx="655344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C4012AC7-1886-42A7-8659-0F9BC8E4247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mmary of notation for ER diagra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8" name="Picture 4" descr="fig03_14"/>
          <p:cNvPicPr/>
          <p:nvPr/>
        </p:nvPicPr>
        <p:blipFill>
          <a:blip r:embed="rId1"/>
          <a:stretch/>
        </p:blipFill>
        <p:spPr>
          <a:xfrm>
            <a:off x="2570040" y="1600200"/>
            <a:ext cx="3754440" cy="499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5:07:41Z</dcterms:created>
  <dc:creator>user</dc:creator>
  <dc:description/>
  <dc:language>en-US</dc:language>
  <cp:lastModifiedBy>sara</cp:lastModifiedBy>
  <dcterms:modified xsi:type="dcterms:W3CDTF">2014-02-22T20:54:57Z</dcterms:modified>
  <cp:revision>9</cp:revision>
  <dc:subject/>
  <dc:title>ER</dc:title>
</cp:coreProperties>
</file>