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25B-BFAC-4238-A6EB-4BFB8716D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C5FC-20A1-45AC-AAA9-4B2A2D280A2C}" type="slidenum">
              <a:rPr b="0" lang="en-CA" sz="1200" spc="-1" strike="noStrike">
                <a:solidFill>
                  <a:srgbClr val="0000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DE2B-2664-49DC-B0FE-F653DC0E0983}" type="slidenum">
              <a:rPr b="0" lang="en-CA" sz="1200" spc="-1" strike="noStrike">
                <a:solidFill>
                  <a:srgbClr val="0000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8304-EE3C-425F-A682-12FB2645D954}" type="slidenum">
              <a:rPr b="0" lang="en-CA" sz="1200" spc="-1" strike="noStrike">
                <a:solidFill>
                  <a:srgbClr val="0000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3980-1C2E-45FD-926F-6FDD221F8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C9D9-5BA1-4B6A-8884-A8F8D484A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6EC0-379D-4BC0-80A9-F01963DE6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D71B-A588-458B-8DB9-FBDFCF1C0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56F9-5D34-4ABB-8EBB-E7F7C5764A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4270-6C34-4C8D-8A60-E7B6372AB6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4A7A-564D-4350-8A0F-D8001D2D5A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C8D5-B57E-4B6C-AD41-55EE0D3C2F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6D23-5A4C-4DF2-BFCC-00549B02B3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5A7B-EB33-43D5-B7CC-538A2838F4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2608-C0A2-4DC5-9D2D-3716A0D328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84D0-F571-4F52-A497-AA5C6BB5E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05CE-6951-4C90-B724-A7859BDF94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F735-3171-4416-B3FA-D6FC7792AC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2D36-9EA4-4C39-B5D6-8A7D67A6BA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E506-0880-412E-A25A-69551C2E52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073F-817A-4A54-915C-D59EE7E590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34C-FB8F-4E03-B72B-E446CBCC5C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009-EFD9-49CE-ACE8-2BE7E15E1A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88F-7A38-4373-944B-4D3231CD4F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B0B-7E63-46FD-81C1-82585856D4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846-1044-47DE-B4D6-F2740A30C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F4A7-81E1-4DFE-87D1-DF2029DCB2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66E-00DA-4FA0-9519-08427CBAAF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DD1-0C47-4D9A-BFA8-679120EE5F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093-02D8-48D1-B4CD-B2DE3943D8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8A5-40A3-4EA1-9767-B96C655828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999-108D-43B0-B1FA-2EC4787871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2DA-468B-44E2-A6E4-4B2F87B72A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F98-0751-43FB-9017-D66B59F0DD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CB6A5-915B-42F4-82CE-32AFA55C7A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F0423-DB1D-42FC-B0D4-A256786F34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25076-B3E9-4469-AD7F-A46904EE7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85DC-49C7-4C3B-BA56-079F1124A5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738EA-A477-45B2-9118-2E7B1D2096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FFBC5-E351-4460-AB8B-E8A3EB3BE9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7B0FA-5A1B-44EE-BCA5-163189E2A0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9E26A-6162-466C-9751-3A0FF4CB5F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B98E4-4690-446B-8000-01B7C90926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36285-1A84-49CC-9E69-C36F355B3E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2025B-0AD2-4475-9FE3-4E5343CB4F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5DA08-31C3-4001-8CFC-95883D4760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4C51A-FCAC-43FF-BD31-0FF6CCF06A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64E2D-0CB0-43E7-863B-17C51A2FE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9633-FF69-4672-B526-CA4197C4C7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C8459-C7BD-4799-BA5B-967E120AEB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514A2-8E21-4CE2-909B-8B156015FC6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FD998-3B55-4B89-9273-0611575D2AE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D201-EB72-44A0-9D01-7FD14F57BB8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89D50-C87C-44FD-AD12-EC6DF28C23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CB75B-4447-46C9-951E-AB77C26ED5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46AF1-85CB-40E4-A95D-BE40464120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B700D-9851-4AB5-8FC0-94194372BDC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09A70-3911-45B8-9A43-DD1710F03E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43FB5-A574-454F-8F8C-E1AEF25E5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3B54-9D32-47AF-8C31-3F613D6458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50DA6-01D9-48D3-9836-FB81530FD5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B696-8834-42BF-AD86-1A315AA7ED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2DA8-3A35-45B4-9AFB-612C93F7AA6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D4AF-B9BF-4017-AA94-0D8CBF2345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836A-030B-4531-B83D-EB439F829D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72CE-B142-467E-9CE5-58B6DE93CCD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1A72-A109-4A02-B71A-7CEB47D600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7EB8-1B38-479D-A53F-404AA13929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FF57-EBF9-4840-8563-876324BB77F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A13A-50EA-4E3B-B0E8-D0FA967C1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E700-320F-42E8-8321-1F4E0913123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E95F-0F45-4310-BF30-C231CB10148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ED1C-1CFB-4A0F-AAED-8A9C504788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0237-D379-48B3-9E23-BC3C332CC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D086-0330-4734-9962-8CC9A08DA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1A99-57E6-452F-BFDF-A43B65665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01B8-4A3D-4FF9-B257-9A977B40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6276-3FFB-4EF2-9B1F-6F613FC42E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38D6-ADD1-46E3-9298-6257D4CB484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D814-C07E-4636-A6B9-4A4722043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F049-9143-4D8A-8F20-72228E6E5E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9C8-24D0-4AFC-BA80-F54C3111941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tra not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"Extended"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row's Foot Not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row’s Foo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81057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CB78DCC4-E1E8-4BC7-89C4-A2435013C5F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mmary of notation for ER diagra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1" name="Picture 4" descr="fig03_14"/>
          <p:cNvPicPr/>
          <p:nvPr/>
        </p:nvPicPr>
        <p:blipFill>
          <a:blip r:embed="rId1"/>
          <a:stretch/>
        </p:blipFill>
        <p:spPr>
          <a:xfrm>
            <a:off x="2570040" y="1600200"/>
            <a:ext cx="375444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 COMPANY Databas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e need to create a database schema design based on the following (simplified)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requirement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of the COMPANY Database: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The company is organized into DEPARTMENTs. Each department has a name, number and an employee who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anage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the department. We keep track of the start date of the department manager. A department may have several location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ach department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control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a number of PROJECTs. Each project has a unique name, unique number and is located at a single location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6842A312-474E-4F2E-A878-A4593194170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83059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 COMPANY Database (Contd.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 store each EMPLOYEE’s social security number, address, salary, sex, and birthdat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ach employee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orks for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one department but may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ork o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several project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e keep track of the number of hours per week that an employee currently works on each projec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e also keep track of the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irect supervisor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of each employe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ch employee may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hav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 number of DEPENDEN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 each dependent, we keep track of their name, sex, birthdate, and relationship to the employe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A51935B6-3B81-4C10-8CAD-86455BCA97D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OMPANY ER Schema Diagram UML not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34640" y="1676520"/>
            <a:ext cx="7728120" cy="4114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5743800" cy="48578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2627280" y="2276640"/>
            <a:ext cx="11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2627280" y="2852640"/>
            <a:ext cx="112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3851280" y="2205000"/>
            <a:ext cx="112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Depart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3995640" y="285264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Depart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763640" y="5084640"/>
            <a:ext cx="112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0..*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1835280" y="4365720"/>
            <a:ext cx="112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1 ..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683FAA5B-DE1D-4460-8D77-29FE2A02C4E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nitial Design of Entity Types:</a:t>
            </a:r>
            <a:br>
              <a:rPr sz="3200"/>
            </a:b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MPLOYEE, DEPARTMENT, PROJECT, DEPENDEN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69" name="Picture 4" descr="fig03_08"/>
          <p:cNvPicPr/>
          <p:nvPr/>
        </p:nvPicPr>
        <p:blipFill>
          <a:blip r:embed="rId1"/>
          <a:stretch/>
        </p:blipFill>
        <p:spPr>
          <a:xfrm>
            <a:off x="2133720" y="1600200"/>
            <a:ext cx="485928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0E675AE3-ACD2-43E9-8547-099735BA83C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OMPANY ER Schema Diagram using (min, max) not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2" name="Picture 4" descr="fig03_15"/>
          <p:cNvPicPr/>
          <p:nvPr/>
        </p:nvPicPr>
        <p:blipFill>
          <a:blip r:embed="rId1"/>
          <a:stretch/>
        </p:blipFill>
        <p:spPr>
          <a:xfrm>
            <a:off x="2043000" y="1600200"/>
            <a:ext cx="45864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hen Not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34640" y="1676520"/>
            <a:ext cx="7728120" cy="4114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ER diagram for the COMPANY database"/>
          <p:cNvPicPr/>
          <p:nvPr/>
        </p:nvPicPr>
        <p:blipFill>
          <a:blip r:embed="rId2"/>
          <a:stretch/>
        </p:blipFill>
        <p:spPr>
          <a:xfrm>
            <a:off x="1187280" y="1581120"/>
            <a:ext cx="655344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Slide 3- </a:t>
            </a:r>
            <a:fld id="{121AC525-0A67-442D-A00C-7BF1E7D19B4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mmary of notation for ER diagra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8" name="Picture 4" descr="fig03_14"/>
          <p:cNvPicPr/>
          <p:nvPr/>
        </p:nvPicPr>
        <p:blipFill>
          <a:blip r:embed="rId1"/>
          <a:stretch/>
        </p:blipFill>
        <p:spPr>
          <a:xfrm>
            <a:off x="2570040" y="1600200"/>
            <a:ext cx="3754440" cy="499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5:07:41Z</dcterms:created>
  <dc:creator>user</dc:creator>
  <dc:description/>
  <dc:language>en-US</dc:language>
  <cp:lastModifiedBy>sara</cp:lastModifiedBy>
  <dcterms:modified xsi:type="dcterms:W3CDTF">2014-02-22T20:54:57Z</dcterms:modified>
  <cp:revision>9</cp:revision>
  <dc:subject/>
  <dc:title>ER</dc:title>
</cp:coreProperties>
</file>