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9365D-C5C2-4455-A020-5908C934E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0D3A6-5D6F-4857-9FEA-7BEF61F21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FE37F-5649-4705-921E-B5D429657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A838-5A9C-4B9B-A774-F5D920251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F1A0A-832E-471F-A867-D652C7F92A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41197-FB10-4DB1-94ED-469BEA7985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EAFED-A9C0-4C02-8513-5073CB8AE8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6A7D9-E98A-4B60-BE68-E233B10051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B7158-C688-49F0-A321-5F99A5C6D9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5C151-A195-4495-818F-6B13C83CD1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06A91-E89B-46AA-8216-4CA488F71D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22C0-700C-47F5-AE21-D31C9E0D7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A85AE-3570-4582-B4D5-C3BDCA9822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91966-A091-4CEC-8D6A-9260892665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8B839-14F8-44D5-81CC-EF8FBFC46C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4FF93-CCA3-48BF-A026-F5DEA7EA32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E7806-A404-413A-91F5-BDD8F866D20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A269-A1DD-4DC8-AFC9-EB2519AC5C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6D57-77C8-4D23-83CD-EA06EB3274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7C88-6D35-419B-A2FE-AA7F0555FB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ED7E-D7E6-438B-A4AB-4E0DF36D23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F1EE-0AA2-4A7E-B339-52B30CD868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6ABC9-CC01-4B05-8AD5-B83BDD315A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48A3-6C72-47AB-8772-38D4DB671A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35DC-94A9-4E87-BAB2-851B847DA8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BD81-A6CA-4E70-98E9-813B19799A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69AB-4A0B-438E-A044-BEE6DE9C3B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B575-86B1-460E-B0C8-18D9B64760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3853-ADFE-46EE-8D9D-C0B078821E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30BF-FFB8-4AFA-9C46-E739C14C90C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EBF0E-7336-4190-BC20-2D5DF488708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7DD4F-02BA-4698-B8DD-0BED0A75E45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4EA0E-0C5E-4D4C-A4F5-B4AC2AFCD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5CBE7-941F-4049-9F94-8EF81FA1FA6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24C05-EA89-40C3-AF97-5F4020B41FC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2AEC7-EBEC-48B3-9779-924F2C994DB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41207-9E7D-45E8-95F6-05AF55E95F2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3CC39-4BD0-483D-9C5C-CF6CD227162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48DE3-1FA8-41F1-8D62-CE19239859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40929-987D-4815-A1BB-354751D321D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926A5-00AA-4760-AD45-6270368AB65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D1C86-23A1-483F-B1CC-55F203675C4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A8300-5918-4ACC-8C15-001C62790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87F16-3138-424B-B3DC-6F30B5C20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F710-D7D2-40C7-9BD5-3BCC54559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C6613-C516-428F-A7B8-A481FB463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4A918-60E9-4CD3-8BF9-EE7AA489B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788D-0C27-4CD5-B690-AA96680EC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C8A3-428A-4024-9B5D-EC55425249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400A-FAF8-4971-8388-7AE33E3D21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280B-0DF4-424F-B2D3-8685482BF4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266E-4EE9-4F05-AD1D-2A8C3C36BDD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27000" y="3429000"/>
            <a:ext cx="7974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Chapter 13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hanced Entity-Relationship Model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E860-10F2-4C09-8F8E-8CE119E2A0B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</a:rPr>
              <a:t>Specialization/generalization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</a:rPr>
              <a:t> entity into subclasses representing job rol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98" name="Picture 9" descr="DS3-Figure 12-02"/>
          <p:cNvPicPr/>
          <p:nvPr/>
        </p:nvPicPr>
        <p:blipFill>
          <a:blip r:embed="rId1"/>
          <a:stretch/>
        </p:blipFill>
        <p:spPr>
          <a:xfrm>
            <a:off x="609480" y="1447920"/>
            <a:ext cx="7772400" cy="49165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3741-D305-4A6E-8DD6-199CC616123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</a:rPr>
              <a:t>Specialization/generalization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</a:rPr>
              <a:t> entity into job roles and contracts of employment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02" name="Picture 9" descr="DS3-Figure 12-03"/>
          <p:cNvPicPr/>
          <p:nvPr/>
        </p:nvPicPr>
        <p:blipFill>
          <a:blip r:embed="rId1"/>
          <a:stretch/>
        </p:blipFill>
        <p:spPr>
          <a:xfrm>
            <a:off x="380880" y="1447920"/>
            <a:ext cx="8229600" cy="47512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903D-62DE-46EC-B58B-3985B6B50DB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822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</a:rPr>
              <a:t>EER diagram with shared subclass and subclass with its own subclas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6343-2588-4579-BDA3-91AB49AFE6A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822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</a:rPr>
              <a:t>Constraints on Specialization / Generalization</a:t>
            </a:r>
            <a:r>
              <a:rPr b="0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72812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Two constraints that may apply to a specialization/generalization: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participation constraints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disjoint constraint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Participation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strai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etermines whether every member in superclass must participate as a 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member of a subclas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May be </a:t>
            </a:r>
            <a:r>
              <a:rPr b="1" i="1" lang="en-AU" sz="2800" spc="-1" strike="noStrike">
                <a:solidFill>
                  <a:srgbClr val="000066"/>
                </a:solidFill>
                <a:latin typeface="Times New Roman"/>
              </a:rPr>
              <a:t>mandatory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 or </a:t>
            </a:r>
            <a:r>
              <a:rPr b="1" i="1" lang="en-AU" sz="2800" spc="-1" strike="noStrike">
                <a:solidFill>
                  <a:srgbClr val="000066"/>
                </a:solidFill>
                <a:latin typeface="Times New Roman"/>
              </a:rPr>
              <a:t>optional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3E1C-4E5C-4313-85BF-8F998C6AA1C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822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</a:rPr>
              <a:t>Constraints on Specialization / Gener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Disjoint constraint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Describes relationship between members of the subclasses and indicates whether member of a superclass can be a member of one, or more than one, subclas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ay be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disjoint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or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nondisjoint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1759-7C3F-4D80-BC32-7F29C93E7AA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</a:rPr>
              <a:t>Constraints on Specialization / Gener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There are four categories of constraints of specialization and generalization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mandatory and disjoi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optional and disjoi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mandatory and nondisjoi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optional and nondisjoint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47C1-6F4B-47F0-889D-2812F80FE5E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DreamHome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worked example - Staff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</a:rPr>
              <a:t> Superclass with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Supervisor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</a:rPr>
              <a:t> and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Manager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</a:rPr>
              <a:t> subclasses</a:t>
            </a:r>
            <a:r>
              <a:rPr b="0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21" name="Picture 5" descr="C12NF05"/>
          <p:cNvPicPr/>
          <p:nvPr/>
        </p:nvPicPr>
        <p:blipFill>
          <a:blip r:embed="rId1"/>
          <a:srcRect l="31801" t="-930" r="0" b="0"/>
          <a:stretch/>
        </p:blipFill>
        <p:spPr>
          <a:xfrm>
            <a:off x="826920" y="1557360"/>
            <a:ext cx="6985080" cy="47736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4956-881C-4EBB-B4B4-58AC9326ED5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5345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DreamHome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worked example - Owner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</a:rPr>
              <a:t> Superclass with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PrivateOwner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</a:rPr>
              <a:t> and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BusinessOwner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</a:rPr>
              <a:t> subclass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25" name="Picture 4" descr="DS3-Figure 12-06"/>
          <p:cNvPicPr/>
          <p:nvPr/>
        </p:nvPicPr>
        <p:blipFill>
          <a:blip r:embed="rId1"/>
          <a:stretch/>
        </p:blipFill>
        <p:spPr>
          <a:xfrm>
            <a:off x="1447920" y="1752480"/>
            <a:ext cx="5790960" cy="40179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1500-E74F-4ED8-BDB6-9CC70B3C832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DreamHome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worked example - Person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</a:rPr>
              <a:t> superclass with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Staff, PrivateOwner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</a:rPr>
              <a:t>, and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Client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</a:rPr>
              <a:t> subclasses</a:t>
            </a:r>
            <a:r>
              <a:rPr b="0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29" name="Picture 5" descr="C12NF07"/>
          <p:cNvPicPr/>
          <p:nvPr/>
        </p:nvPicPr>
        <p:blipFill>
          <a:blip r:embed="rId1"/>
          <a:srcRect l="0" t="-1154" r="29571" b="0"/>
          <a:stretch/>
        </p:blipFill>
        <p:spPr>
          <a:xfrm>
            <a:off x="1476360" y="1484280"/>
            <a:ext cx="5200560" cy="49910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7"/>
          <p:cNvSpPr/>
          <p:nvPr/>
        </p:nvSpPr>
        <p:spPr>
          <a:xfrm>
            <a:off x="3124080" y="65833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6727-A65A-47E9-BD2A-0651CC7B3C5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13 - Objectiv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804080" cy="50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Limitations of basic concepts of the ER model and requirements to represent more complex applications using additional data modeling concept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Most useful additional data modeling concept of Enhanced ER (EER) model is called specialization/generaliz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A diagrammatic technique for displaying specialization/generalization in an EER diagram using UML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5EB8-4BC8-498E-9793-FC3F78BAE83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nhanced Entity-Relationship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ince 1980s there has been an increase in emergence of new database applications with more demanding requirement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Basic concepts of ER modeling are not sufficient to represent requirements of newer, more complex application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sponse is development of additional </a:t>
            </a:r>
            <a:r>
              <a:rPr b="1" lang="ja-JP" sz="28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emantic</a:t>
            </a:r>
            <a:r>
              <a:rPr b="1" lang="ja-JP" sz="2800" spc="-1" strike="noStrike">
                <a:solidFill>
                  <a:srgbClr val="000066"/>
                </a:solidFill>
                <a:latin typeface="Times New Roman"/>
              </a:rPr>
              <a:t>’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modeling concept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7FB4-93A6-473D-B6D5-1B56645FB1B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The Enhanced Entity-Relationship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emantic concepts are incorporated into the original ER model and called the Enhanced Entity-Relationship (EER) model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xamples of additional concept of EER model is called specialization / generaliz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C3EA-E1A7-4181-867B-B79B2FFF632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pecialization / Gener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Superclas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An entity type that includes one or more distinct subgroupings of its occurrence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Subclas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A distinct subgrouping of occurrences of an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66D1-E31B-4DD4-B0A9-6CE0199D41A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pecialization / Gener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66"/>
                </a:solidFill>
                <a:latin typeface="Times New Roman"/>
              </a:rPr>
              <a:t>Superclass/subclass relationship is one-to-one (1:1).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Superclass may contain overlapping or distinct subclasses.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Not all members of a superclass need be a member of a subclas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EA2E-3AE7-407F-8633-F3BF750826F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pecialization / Gener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 Inherita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An entity in a subclass represents same ‘real world’ object as in superclass, and may possess subclass-specific attributes, as well as those associated with the superclas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DD7E-43E7-41ED-A2E8-100E5872E6E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pecialization / Gener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Specialization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Process of maximizing differences between members of an entity by identifying their distinguishing characteristic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Generaliz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Process of minimizing differences between entities by identifying their common characteristic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C647-E5DB-47C3-A909-ACA8AD96011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AllStaff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</a:rPr>
              <a:t> relation holding details of all staff</a:t>
            </a:r>
            <a:r>
              <a:rPr b="0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94" name="Picture 3" descr="DS3-Figure 12-01"/>
          <p:cNvPicPr/>
          <p:nvPr/>
        </p:nvPicPr>
        <p:blipFill>
          <a:blip r:embed="rId1"/>
          <a:stretch/>
        </p:blipFill>
        <p:spPr>
          <a:xfrm>
            <a:off x="457200" y="1447920"/>
            <a:ext cx="8153280" cy="40669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2T14:58:02Z</dcterms:created>
  <dc:creator>Thomas Connolly and Carolyn Begg</dc:creator>
  <dc:description>Transparencies for Chapter 12 of textbook
Database Systems: A Practical Approach to Design, Implementation, and Management</dc:description>
  <dc:language>en-US</dc:language>
  <cp:lastModifiedBy>sara</cp:lastModifiedBy>
  <cp:lastPrinted>1998-06-24T16:37:58Z</cp:lastPrinted>
  <dcterms:modified xsi:type="dcterms:W3CDTF">2014-02-23T20:22:17Z</dcterms:modified>
  <cp:revision>63</cp:revision>
  <dc:subject>Database Systems</dc:subject>
  <dc:title>Chapter 12</dc:title>
</cp:coreProperties>
</file>