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BEA94-E8EE-4768-87DF-A3F3365E06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AAB82-3FA8-4AD3-99B1-AEF9B370A0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98650-D98C-48E5-8A4D-689D1ED1BF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B8A0B-613E-4690-9B43-CE0BDC8F74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9336B-A861-4F31-90FB-C56FAC3B7DC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D43B8-8674-41B4-A926-3FECE9332BF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BFFC6-9C7B-4A7E-99E2-F13C80CCD49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149C2-5780-4930-95D7-331297E85CA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B43C2-D600-46F1-B9EB-E15B5D1431A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C362E-DCE3-4B81-9D92-2D61941D4D0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6386D-B74B-4035-8FF5-CF11A9E543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AF84B-AC5E-4760-A2B7-39B8BE8CC2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63A1B-4D63-4133-AC91-EC2E09087F5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44216-78AA-461A-AA5A-405D55E96B7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051DE-BCFD-4EA0-8052-57820FA42CB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6E093-5536-4EE0-A84B-BB96D046DBD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E0FEF-5F9D-45F5-B64D-96A0563C744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21AD-FC88-42AC-8BC8-33E4E19AE33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C3B8-0DDA-449C-8F36-AA6B0D63B98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2853-1A72-4837-A524-BB6EF83BFB6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9CBB-377B-4FB5-A0B6-AEAD0E7C7D2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6F35-34E3-4AF9-8DD9-C525F006AA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CAA87-FAF6-42FA-A40A-0A0F3CCA6E7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8D2F-B9A5-4E9C-BB4F-DA35580673D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352A-3E3A-4C7F-80A6-3DB3F7BF396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8764-666E-4982-822F-D551A7D92BA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A786-056E-4DC3-A510-B4CAB27CDF0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8BA1-3A48-4144-B711-B6BCA22EF78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4587-A42A-4CA1-9CEA-082B2C5971C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6097-B9F9-4AA8-BC35-66D5CF5DB4F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09778D-3088-45E1-9269-A959E8735E0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42A3D8-4DEB-4D72-A22F-A057D0CCDC4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383621-2116-462D-B658-A210956A1D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B32CE-B696-4F49-8871-B2AC155896C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2C9B82-4936-4038-BEEF-BEC80A0C0C6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9507A3-A59A-4EA5-A48E-7328709F43A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DA92C2-498C-47E7-8DE3-E6CB88450B7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7EE6FE-E5A0-482B-88FC-ECF88F33C3A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FD726C-4C50-4DA4-A4D4-D415E369D21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572A35-3426-415A-9103-DE8076C1242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8D44C7-4546-4C20-82EC-C794C0A68EE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4090EB-6B05-49A1-B96B-F073AACCDBD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31791C-A85B-4CCD-8522-C742AA29CC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7CADA-F869-4733-ABDD-E615FB723A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AE2A8-7F06-4133-88E4-B6F29E4DE1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FF6C1-783A-4EF1-8CB2-B7071250A9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F272B-59CB-4987-BAF0-E3E29AEFAD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93D67-4258-4E93-A1A3-D61AC5081E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810C4-2663-4383-98C1-6F6733EC587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2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D5B9F-1380-46A8-B615-E599FA0099A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3DE42-94DC-4F12-99B7-2CA02FD63AF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02B62-2FE9-4798-ABCB-30A5DCA09177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c6c6c"/>
            </a:gs>
            <a:gs pos="50000">
              <a:srgbClr val="eaeaea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Line 2"/>
          <p:cNvSpPr/>
          <p:nvPr/>
        </p:nvSpPr>
        <p:spPr>
          <a:xfrm>
            <a:off x="27000" y="3429000"/>
            <a:ext cx="797400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Times New Roman"/>
              </a:rPr>
              <a:t>Chapter 13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Enhanced Entity-Relationship Modeling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FDF1B-A8DA-43D4-8CC8-D212DF3AB6DB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a21ef"/>
                </a:solidFill>
                <a:latin typeface="Times New Roman"/>
              </a:rPr>
              <a:t>Specialization/generalization of 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Staff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</a:rPr>
              <a:t> entity into subclasses representing job rol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98" name="Picture 9" descr="DS3-Figure 12-02"/>
          <p:cNvPicPr/>
          <p:nvPr/>
        </p:nvPicPr>
        <p:blipFill>
          <a:blip r:embed="rId1"/>
          <a:stretch/>
        </p:blipFill>
        <p:spPr>
          <a:xfrm>
            <a:off x="609480" y="1447920"/>
            <a:ext cx="7772400" cy="491652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10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7D0C3-45E8-486D-9300-84D3354EF88C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76312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a21ef"/>
                </a:solidFill>
                <a:latin typeface="Times New Roman"/>
              </a:rPr>
              <a:t>Specialization/generalization of 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Staff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</a:rPr>
              <a:t> entity into job roles and contracts of employment</a:t>
            </a: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02" name="Picture 9" descr="DS3-Figure 12-03"/>
          <p:cNvPicPr/>
          <p:nvPr/>
        </p:nvPicPr>
        <p:blipFill>
          <a:blip r:embed="rId1"/>
          <a:stretch/>
        </p:blipFill>
        <p:spPr>
          <a:xfrm>
            <a:off x="380880" y="1447920"/>
            <a:ext cx="8229600" cy="475128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10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729DE-8B16-4D69-B638-47A8527B0C66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3822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a21ef"/>
                </a:solidFill>
                <a:latin typeface="Times New Roman"/>
              </a:rPr>
              <a:t>EER diagram with shared subclass and subclass with its own subclas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6" name="Text Box 10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2CAD1-D8E8-4117-9623-1E63010FD05D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38224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a21ef"/>
                </a:solidFill>
                <a:latin typeface="Times New Roman"/>
              </a:rPr>
              <a:t>Constraints on Specialization / Generalization</a:t>
            </a:r>
            <a:r>
              <a:rPr b="0" lang="en-GB" sz="3200" spc="-1" strike="noStrike">
                <a:solidFill>
                  <a:srgbClr val="3a21e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728120" cy="456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</a:rPr>
              <a:t>Two constraints that may apply to a specialization/generalization: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</a:rPr>
              <a:t>participation constraints 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</a:rPr>
              <a:t>disjoint constraints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</a:rPr>
              <a:t>Participation</a:t>
            </a: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constrain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Determines whether every member in superclass must participate as a </a:t>
            </a:r>
            <a:r>
              <a:rPr b="1" lang="en-AU" sz="2800" spc="-1" strike="noStrike">
                <a:solidFill>
                  <a:srgbClr val="000066"/>
                </a:solidFill>
                <a:latin typeface="Times New Roman"/>
              </a:rPr>
              <a:t>member of a subclass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</a:rPr>
              <a:t>May be </a:t>
            </a:r>
            <a:r>
              <a:rPr b="1" i="1" lang="en-AU" sz="2800" spc="-1" strike="noStrike">
                <a:solidFill>
                  <a:srgbClr val="000066"/>
                </a:solidFill>
                <a:latin typeface="Times New Roman"/>
              </a:rPr>
              <a:t>mandatory</a:t>
            </a:r>
            <a:r>
              <a:rPr b="1" lang="en-AU" sz="2800" spc="-1" strike="noStrike">
                <a:solidFill>
                  <a:srgbClr val="000066"/>
                </a:solidFill>
                <a:latin typeface="Times New Roman"/>
              </a:rPr>
              <a:t> or </a:t>
            </a:r>
            <a:r>
              <a:rPr b="1" i="1" lang="en-AU" sz="2800" spc="-1" strike="noStrike">
                <a:solidFill>
                  <a:srgbClr val="000066"/>
                </a:solidFill>
                <a:latin typeface="Times New Roman"/>
              </a:rPr>
              <a:t>optional</a:t>
            </a:r>
            <a:r>
              <a:rPr b="1" lang="en-AU" sz="2800" spc="-1" strike="noStrike">
                <a:solidFill>
                  <a:srgbClr val="000066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221D6-695A-4CE2-B00F-A11A848B586E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38224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a21ef"/>
                </a:solidFill>
                <a:latin typeface="Times New Roman"/>
              </a:rPr>
              <a:t>Constraints on Specialization / Generalization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</a:rPr>
              <a:t>Disjoint constraint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</a:rPr>
              <a:t>Describes relationship between members of the subclasses and indicates whether member of a superclass can be a member of one, or more than one, subclass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May be </a:t>
            </a:r>
            <a:r>
              <a:rPr b="1" i="1" lang="en-GB" sz="2800" spc="-1" strike="noStrike">
                <a:solidFill>
                  <a:srgbClr val="000066"/>
                </a:solidFill>
                <a:latin typeface="Times New Roman"/>
              </a:rPr>
              <a:t>disjoint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or </a:t>
            </a:r>
            <a:r>
              <a:rPr b="1" i="1" lang="en-GB" sz="2800" spc="-1" strike="noStrike">
                <a:solidFill>
                  <a:srgbClr val="000066"/>
                </a:solidFill>
                <a:latin typeface="Times New Roman"/>
              </a:rPr>
              <a:t>nondisjoint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D3C04-16E8-4A31-BAED-AA0A0CA97AAE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3059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a21ef"/>
                </a:solidFill>
                <a:latin typeface="Times New Roman"/>
              </a:rPr>
              <a:t>Constraints on Specialization / Generalization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</a:rPr>
              <a:t>There are four categories of constraints of specialization and generalization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</a:rPr>
              <a:t>mandatory and disjoin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</a:rPr>
              <a:t>optional and disjoin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</a:rPr>
              <a:t>mandatory and nondisjoin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</a:rPr>
              <a:t>optional and nondisjoint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8DD2F-9BF7-43D0-96E7-2AEA355719E8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800" spc="-1" strike="noStrike">
                <a:solidFill>
                  <a:srgbClr val="3a21ef"/>
                </a:solidFill>
                <a:latin typeface="Times New Roman"/>
                <a:ea typeface="Arial"/>
              </a:rPr>
              <a:t>DreamHome </a:t>
            </a:r>
            <a:r>
              <a:rPr b="1" lang="en-AU" sz="2800" spc="-1" strike="noStrike">
                <a:solidFill>
                  <a:srgbClr val="3a21ef"/>
                </a:solidFill>
                <a:latin typeface="Times New Roman"/>
                <a:ea typeface="Arial"/>
              </a:rPr>
              <a:t>worked example - Staff</a:t>
            </a:r>
            <a:r>
              <a:rPr b="1" lang="en-AU" sz="2800" spc="-1" strike="noStrike">
                <a:solidFill>
                  <a:srgbClr val="3a21ef"/>
                </a:solidFill>
                <a:latin typeface="Times New Roman"/>
              </a:rPr>
              <a:t> Superclass with </a:t>
            </a:r>
            <a:r>
              <a:rPr b="1" lang="en-AU" sz="2800" spc="-1" strike="noStrike">
                <a:solidFill>
                  <a:srgbClr val="3a21ef"/>
                </a:solidFill>
                <a:latin typeface="Times New Roman"/>
                <a:ea typeface="Arial"/>
              </a:rPr>
              <a:t>Supervisor</a:t>
            </a:r>
            <a:r>
              <a:rPr b="1" lang="en-AU" sz="2800" spc="-1" strike="noStrike">
                <a:solidFill>
                  <a:srgbClr val="3a21ef"/>
                </a:solidFill>
                <a:latin typeface="Times New Roman"/>
              </a:rPr>
              <a:t> and </a:t>
            </a:r>
            <a:r>
              <a:rPr b="1" lang="en-AU" sz="2800" spc="-1" strike="noStrike">
                <a:solidFill>
                  <a:srgbClr val="3a21ef"/>
                </a:solidFill>
                <a:latin typeface="Times New Roman"/>
                <a:ea typeface="Arial"/>
              </a:rPr>
              <a:t>Manager</a:t>
            </a:r>
            <a:r>
              <a:rPr b="1" lang="en-AU" sz="2800" spc="-1" strike="noStrike">
                <a:solidFill>
                  <a:srgbClr val="3a21ef"/>
                </a:solidFill>
                <a:latin typeface="Times New Roman"/>
              </a:rPr>
              <a:t> subclasses</a:t>
            </a:r>
            <a:r>
              <a:rPr b="0" lang="en-GB" sz="3200" spc="-1" strike="noStrike">
                <a:solidFill>
                  <a:srgbClr val="3a21e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21" name="Picture 5" descr="C12NF05"/>
          <p:cNvPicPr/>
          <p:nvPr/>
        </p:nvPicPr>
        <p:blipFill>
          <a:blip r:embed="rId1"/>
          <a:srcRect l="31801" t="-930" r="0" b="0"/>
          <a:stretch/>
        </p:blipFill>
        <p:spPr>
          <a:xfrm>
            <a:off x="826920" y="1557360"/>
            <a:ext cx="6985080" cy="477360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7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8B64C-F38B-4A2C-A1F5-4CB656A251C8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520" y="266400"/>
            <a:ext cx="85345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800" spc="-1" strike="noStrike">
                <a:solidFill>
                  <a:srgbClr val="3a21ef"/>
                </a:solidFill>
                <a:latin typeface="Times New Roman"/>
                <a:ea typeface="Arial"/>
              </a:rPr>
              <a:t>DreamHome </a:t>
            </a:r>
            <a:r>
              <a:rPr b="1" lang="en-AU" sz="2800" spc="-1" strike="noStrike">
                <a:solidFill>
                  <a:srgbClr val="3a21ef"/>
                </a:solidFill>
                <a:latin typeface="Times New Roman"/>
                <a:ea typeface="Arial"/>
              </a:rPr>
              <a:t>worked example - Owner</a:t>
            </a:r>
            <a:r>
              <a:rPr b="1" lang="en-AU" sz="2800" spc="-1" strike="noStrike">
                <a:solidFill>
                  <a:srgbClr val="3a21ef"/>
                </a:solidFill>
                <a:latin typeface="Times New Roman"/>
              </a:rPr>
              <a:t> Superclass with </a:t>
            </a:r>
            <a:r>
              <a:rPr b="1" lang="en-AU" sz="2800" spc="-1" strike="noStrike">
                <a:solidFill>
                  <a:srgbClr val="3a21ef"/>
                </a:solidFill>
                <a:latin typeface="Times New Roman"/>
                <a:ea typeface="Arial"/>
              </a:rPr>
              <a:t>PrivateOwner</a:t>
            </a:r>
            <a:r>
              <a:rPr b="1" lang="en-AU" sz="2800" spc="-1" strike="noStrike">
                <a:solidFill>
                  <a:srgbClr val="3a21ef"/>
                </a:solidFill>
                <a:latin typeface="Times New Roman"/>
              </a:rPr>
              <a:t> and </a:t>
            </a:r>
            <a:r>
              <a:rPr b="1" lang="en-AU" sz="2800" spc="-1" strike="noStrike">
                <a:solidFill>
                  <a:srgbClr val="3a21ef"/>
                </a:solidFill>
                <a:latin typeface="Times New Roman"/>
                <a:ea typeface="Arial"/>
              </a:rPr>
              <a:t>BusinessOwner</a:t>
            </a:r>
            <a:r>
              <a:rPr b="1" lang="en-AU" sz="2800" spc="-1" strike="noStrike">
                <a:solidFill>
                  <a:srgbClr val="3a21ef"/>
                </a:solidFill>
                <a:latin typeface="Times New Roman"/>
              </a:rPr>
              <a:t> subclass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25" name="Picture 4" descr="DS3-Figure 12-06"/>
          <p:cNvPicPr/>
          <p:nvPr/>
        </p:nvPicPr>
        <p:blipFill>
          <a:blip r:embed="rId1"/>
          <a:stretch/>
        </p:blipFill>
        <p:spPr>
          <a:xfrm>
            <a:off x="1447920" y="1752480"/>
            <a:ext cx="5790960" cy="401796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5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43A0C-CCE5-4A70-A1AE-F851F8959639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800" spc="-1" strike="noStrike">
                <a:solidFill>
                  <a:srgbClr val="3a21ef"/>
                </a:solidFill>
                <a:latin typeface="Times New Roman"/>
                <a:ea typeface="Arial"/>
              </a:rPr>
              <a:t>DreamHome </a:t>
            </a:r>
            <a:r>
              <a:rPr b="1" lang="en-AU" sz="2800" spc="-1" strike="noStrike">
                <a:solidFill>
                  <a:srgbClr val="3a21ef"/>
                </a:solidFill>
                <a:latin typeface="Times New Roman"/>
                <a:ea typeface="Arial"/>
              </a:rPr>
              <a:t>worked example - Person</a:t>
            </a:r>
            <a:r>
              <a:rPr b="1" lang="en-AU" sz="2800" spc="-1" strike="noStrike">
                <a:solidFill>
                  <a:srgbClr val="3a21ef"/>
                </a:solidFill>
                <a:latin typeface="Times New Roman"/>
              </a:rPr>
              <a:t> superclass with </a:t>
            </a:r>
            <a:r>
              <a:rPr b="1" lang="en-AU" sz="2800" spc="-1" strike="noStrike">
                <a:solidFill>
                  <a:srgbClr val="3a21ef"/>
                </a:solidFill>
                <a:latin typeface="Times New Roman"/>
                <a:ea typeface="Arial"/>
              </a:rPr>
              <a:t>Staff, PrivateOwner</a:t>
            </a:r>
            <a:r>
              <a:rPr b="1" lang="en-AU" sz="2800" spc="-1" strike="noStrike">
                <a:solidFill>
                  <a:srgbClr val="3a21ef"/>
                </a:solidFill>
                <a:latin typeface="Times New Roman"/>
              </a:rPr>
              <a:t>, and </a:t>
            </a:r>
            <a:r>
              <a:rPr b="1" lang="en-AU" sz="2800" spc="-1" strike="noStrike">
                <a:solidFill>
                  <a:srgbClr val="3a21ef"/>
                </a:solidFill>
                <a:latin typeface="Times New Roman"/>
                <a:ea typeface="Arial"/>
              </a:rPr>
              <a:t>Client</a:t>
            </a:r>
            <a:r>
              <a:rPr b="1" lang="en-AU" sz="2800" spc="-1" strike="noStrike">
                <a:solidFill>
                  <a:srgbClr val="3a21ef"/>
                </a:solidFill>
                <a:latin typeface="Times New Roman"/>
              </a:rPr>
              <a:t> subclasses</a:t>
            </a:r>
            <a:r>
              <a:rPr b="0" lang="en-GB" sz="3200" spc="-1" strike="noStrike">
                <a:solidFill>
                  <a:srgbClr val="3a21e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29" name="Picture 5" descr="C12NF07"/>
          <p:cNvPicPr/>
          <p:nvPr/>
        </p:nvPicPr>
        <p:blipFill>
          <a:blip r:embed="rId1"/>
          <a:srcRect l="0" t="-1154" r="29571" b="0"/>
          <a:stretch/>
        </p:blipFill>
        <p:spPr>
          <a:xfrm>
            <a:off x="1476360" y="1484280"/>
            <a:ext cx="5200560" cy="499104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7"/>
          <p:cNvSpPr/>
          <p:nvPr/>
        </p:nvSpPr>
        <p:spPr>
          <a:xfrm>
            <a:off x="3124080" y="658332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4BC1D-D587-4DAC-9141-F0C051C29487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Chapter 13 - Objectiv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804080" cy="506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</a:rPr>
              <a:t>Limitations of basic concepts of the ER model and requirements to represent more complex applications using additional data modeling concepts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</a:rPr>
              <a:t>Most useful additional data modeling concept of Enhanced ER (EER) model is called specialization/generalization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</a:rPr>
              <a:t>A diagrammatic technique for displaying specialization/generalization in an EER diagram using UML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0D144-811E-4B98-AF29-D3A9828F1FC6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Enhanced Entity-Relationship Mod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Since 1980s there has been an increase in emergence of new database applications with more demanding requirement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Basic concepts of ER modeling are not sufficient to represent requirements of newer, more complex application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Response is development of additional </a:t>
            </a:r>
            <a:r>
              <a:rPr b="1" lang="ja-JP" sz="2800" spc="-1" strike="noStrike">
                <a:solidFill>
                  <a:srgbClr val="000066"/>
                </a:solidFill>
                <a:latin typeface="Times New Roman"/>
              </a:rPr>
              <a:t>‘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semantic</a:t>
            </a:r>
            <a:r>
              <a:rPr b="1" lang="ja-JP" sz="2800" spc="-1" strike="noStrike">
                <a:solidFill>
                  <a:srgbClr val="000066"/>
                </a:solidFill>
                <a:latin typeface="Times New Roman"/>
              </a:rPr>
              <a:t>’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modeling concept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5E092-AB78-450E-83B5-3B66D09CE990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The Enhanced Entity-Relationship Mod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Semantic concepts are incorporated into the original ER model and called the Enhanced Entity-Relationship (EER) model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Examples of additional concept of EER model is called specialization / generalization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FC71A-8101-43BE-B36B-2631EF00E105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Specialization / Generalization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Times New Roman"/>
              </a:rPr>
              <a:t>Superclas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</a:rPr>
              <a:t>An entity type that includes one or more distinct subgroupings of its occurrences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Times New Roman"/>
              </a:rPr>
              <a:t>Subclas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</a:rPr>
              <a:t>A distinct subgrouping of occurrences of an entity type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223B6-A9D8-432E-A28E-806B409C89EA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Specialization / Generalization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66"/>
                </a:solidFill>
                <a:latin typeface="Times New Roman"/>
              </a:rPr>
              <a:t>Superclass/subclass relationship is one-to-one (1:1).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Times New Roman"/>
              </a:rPr>
              <a:t>Superclass may contain overlapping or distinct subclasses.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Times New Roman"/>
              </a:rPr>
              <a:t>Not all members of a superclass need be a member of a subclass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3ABCD-E2A4-4197-920D-83ED13975F0C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Specialization / Generalization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ttribute Inheritanc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</a:rPr>
              <a:t>An entity in a subclass represents same ‘real world’ object as in superclass, and may possess subclass-specific attributes, as well as those associated with the superclass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85577-7088-4A21-96BE-D29ABC45EB9A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Specialization / Generalization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</a:rPr>
              <a:t>Specialization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</a:rPr>
              <a:t>Process of maximizing differences between members of an entity by identifying their distinguishing characteristics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Generaliza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</a:rPr>
              <a:t>Process of minimizing differences between entities by identifying their common characteristics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F2844-8936-418F-82B4-0C600BC998E5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AllStaff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</a:rPr>
              <a:t> relation holding details of all staff</a:t>
            </a:r>
            <a:r>
              <a:rPr b="0" lang="en-GB" sz="3200" spc="-1" strike="noStrike">
                <a:solidFill>
                  <a:srgbClr val="3a21e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94" name="Picture 3" descr="DS3-Figure 12-01"/>
          <p:cNvPicPr/>
          <p:nvPr/>
        </p:nvPicPr>
        <p:blipFill>
          <a:blip r:embed="rId1"/>
          <a:stretch/>
        </p:blipFill>
        <p:spPr>
          <a:xfrm>
            <a:off x="457200" y="1447920"/>
            <a:ext cx="8153280" cy="406692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2T14:58:02Z</dcterms:created>
  <dc:creator>Thomas Connolly and Carolyn Begg</dc:creator>
  <dc:description>Transparencies for Chapter 12 of textbook
Database Systems: A Practical Approach to Design, Implementation, and Management</dc:description>
  <dc:language>en-US</dc:language>
  <cp:lastModifiedBy>sara</cp:lastModifiedBy>
  <cp:lastPrinted>1998-06-24T16:37:58Z</cp:lastPrinted>
  <dcterms:modified xsi:type="dcterms:W3CDTF">2014-02-23T20:22:17Z</dcterms:modified>
  <cp:revision>63</cp:revision>
  <dc:subject>Database Systems</dc:subject>
  <dc:title>Chapter 12</dc:title>
</cp:coreProperties>
</file>