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2134-FF65-4894-AD85-EE9BC733A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679F-233B-4B4A-9DE4-2EA87AD71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4A9A-FFC4-4A04-8543-5926DA611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E5D8-1298-4323-BD5F-8BAEACF1A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14599-D176-4A96-8EE2-0EABC5837A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C1885-7229-40F5-B140-64AE4869E1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33364-4933-40C0-A072-A41EB039CB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00016-E075-45B3-8ACC-2C68D01BBB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E4198-B611-4A3B-A47A-DD1D5F6F56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FCA9-A61C-4169-BDB4-C2E911A29E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3F633-037C-4093-A328-EC7D1153A8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1541-A6BA-4128-BDC0-3585E603B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5E406-C921-4353-8967-C4DCD1D905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4C10-7C47-430C-AABA-6F2B6A6D85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4C1B1-D85E-4279-B5FE-C5B066B158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4B9BD-CB30-4F15-904B-75C5A3C37C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D620-F17B-4315-8373-70AE19E8FB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A02-CCBB-493F-93BF-74351E0871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C1C-1F6B-4848-BD1E-8C0936C24C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DF0-4F27-442E-BE91-41F030B2DB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426-82BA-4B4A-9A53-46669C8FDA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F2B-1E30-430E-A21A-5A8C73EFC8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DBE9-1CFE-4D89-A445-74BCD33E09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275-4B64-4F6A-A102-4A3B6CDF6B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3E5-D5AA-45A2-8CAC-E1155818AE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916-94DA-4F07-9B40-A94298F473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A12-AA7F-4E6F-B298-615DAF7222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118-23F3-49A2-8407-3E892AFD41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6CA-06B5-48B7-9B73-B226597981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B94-274C-4565-82A1-78E741BB06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32053-5BAC-4EE0-896F-A249FB42B5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56DAF-237A-4777-BCD6-F22E7EAB2E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AD66A-C67E-4BA0-A8B9-0D2B7DCA8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4CCB-256E-4735-AFB4-EA3C340C2C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F67A2-9861-443F-A443-E278D8A8A2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FEC95-ACB3-4A83-9F34-41EF6F4903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4CB21-0934-4362-8D0E-C833795A4DF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94D24-1EEF-4D4B-B497-6A32BB8325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E0BFC-6876-4E3D-AB9C-C3FA642962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9E875-27AC-4AEF-AAEB-94842CA18E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BC3AD-B654-434E-B2C3-7975967CCE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E5305-D8D8-4E08-9694-ACC19F349B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C293A-A70F-4335-985A-F7E39EE5A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9DA0-F0D4-4E8B-B58A-FCFE3F6AE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FA3A-4EBE-46BB-8285-469B0AAB6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2D9D-F32F-46AC-B441-6A69C3216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CA6D-1A78-472F-BD21-C498ADF01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E43C-C011-4ADD-B98D-DAC2DD109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12F3-07B3-48F6-8AE5-CDEE2303295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45A3-DCFA-4966-A8C1-B7E4C2146D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1698-46F0-44DD-93E4-132C30399F0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D40E-4465-4078-9F39-A621CEB4A60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4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 Relational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2B3D-0959-4B6A-B71C-646607EE131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perties o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09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tuple is distinct; there are no duplicate tupl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rder of attributes has no significa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rder of tuples has no significance, theoreticall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804D-677E-4BFE-9009-8F902299BE9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557000"/>
            <a:ext cx="815328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ndidate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n attribute, or set of attributes, that uniquely identifies a tuple within a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In each tuple of R, values of K uniquely identify that tuple (uniqueness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No proper subset of K has the uniqueness property (irreducibility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686F-C0CE-4BD0-B2C9-EAB93F11ECA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277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imary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andidate key selected to identify tuples uniquely within 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ternate Key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andidate keys that are not selected to be primary key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oreign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ttribute, or set of attributes, within one relation that matches candidate key of some (possibly same)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8FE7-E536-4077-A502-C40C5D0A36D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tegr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484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ul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Represents value for an attribute that is currently unknown or not applicable for tupl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Deals with incomplete or exceptional data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Represents the absence of a value and is not the same as zero or spaces, which are value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7F27-63F4-46E0-8EBF-18BBD732ED3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tegr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Integr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 a base relation, no attribute of a primary key can be nul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ferential Integr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f foreign key exists in a relation, either foreign key value must match a candidate key value of some tuple in its home relation or foreign key value must be wholly nul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9027-2FDF-46A3-B41F-058EFB4D272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tegr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General Constrai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dditional rules specified by users or database administrators that define or constrain some aspect of the enterpris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5636-314F-4836-B59B-983781A25BF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ase Rel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amed relation corresponding to an entity in conceptual schema, whose tuples are physically stored in databas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iew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ynamic result of one or more relational operations operating on base relations to produce another relation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B595-0BBD-4293-A30B-49413CF4178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1360" y="15573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virtual relation that does not necessarily actually exist in the database but is produced upon request, at time of reques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tents of a view are defined as a query on one or more base relation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iews are dynamic, meaning that changes made to base relations that affect view attributes are immediately reflected in the view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B8A9-41C1-4887-A215-7449A4E4FA3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urpose of 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vides powerful and flexible security mechanism by hiding parts of database from certain user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ermits users to access data in a customized way, so that same data can be seen by different users in different ways, at same ti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n simplify complex operations on base relation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7C36-B311-48E2-8381-0687A847D84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Updating 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15520" y="155736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l updates to a base relation should be immediately reflected in all views that reference that base relation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f view is updated, underlying base relation should reflect chan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A6C2-2265-4B5D-9D8F-CB610B6DD42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4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erminology of relational mode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 tables are used to represent dat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nection between mathematical relations and relations in the relational mode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perties of database relatio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 to identify CK, PK, and FK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eaning of entity integrity and referential integrit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urpose and advantages of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97A0-6564-4745-987A-6C524EFC31A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Updating 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re are restrictions on types of modifications that can be made through view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Updates are allowed if query involves a single base relation and contains a candidate key of base relation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Updates are not allowed involving multiple base relation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Updates are not allowed involving aggregation or grouping operation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EE1C-1477-4769-82B0-F2B3CF67404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Model Termin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18920"/>
            <a:ext cx="772776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relation is a table with columns and ro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Only applies to logical structure of the database, not the physical structur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is a named column of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omain is the set of allowable values for one or more attribut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A185-3F6C-4795-B07D-5C283396A45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Model Termin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uple is a row of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gree is the number of attributes in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rdinality is the number of tuples in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al Database is a collection of normalized relations with distinct relation nam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2F3E-077A-4F60-B775-F7DF65ABC26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stances of  Branch and Staf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8" name="Picture 4" descr="C03NF01"/>
          <p:cNvPicPr/>
          <p:nvPr/>
        </p:nvPicPr>
        <p:blipFill>
          <a:blip r:embed="rId1"/>
          <a:stretch/>
        </p:blipFill>
        <p:spPr>
          <a:xfrm>
            <a:off x="611280" y="1484280"/>
            <a:ext cx="5761080" cy="50371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5CAB-2C93-4731-9053-5480FA9B22D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xamples of Attribute Domai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2" name="Picture 5" descr="C03NF02"/>
          <p:cNvPicPr/>
          <p:nvPr/>
        </p:nvPicPr>
        <p:blipFill>
          <a:blip r:embed="rId1"/>
          <a:stretch/>
        </p:blipFill>
        <p:spPr>
          <a:xfrm>
            <a:off x="539640" y="1700280"/>
            <a:ext cx="7728120" cy="3168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411D-C7EA-4B13-A897-FAEC28E2EAA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2947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lternative Terminology for Relational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8" descr="C03NT01"/>
          <p:cNvPicPr/>
          <p:nvPr/>
        </p:nvPicPr>
        <p:blipFill>
          <a:blip r:embed="rId1"/>
          <a:stretch/>
        </p:blipFill>
        <p:spPr>
          <a:xfrm>
            <a:off x="539640" y="1916280"/>
            <a:ext cx="7728120" cy="2641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591F-43CA-403A-9A41-195366B9060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46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Relation schem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amed relation defined by a set of attribute and domain name pai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1(A1,A2,A3,....,An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Relational database schem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t of relation schemas, each with a distinct na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{R1,R2,R3, ... , Rn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364D-E713-43B0-913E-1A1B1C4715C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perties o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 name is distinct from all other relation names in relation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cell of relation contains exactly one atomic (single) valu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attribute has a distinct na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alues of an attribute are all from the same domai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and Carolyn Begg</dc:creator>
  <dc:description>Transparencies for Chapter 3 of textbook
Database Systems: A Practical Approach to Design, Implementation and Management</dc:description>
  <dc:language>en-US</dc:language>
  <cp:lastModifiedBy>Asma</cp:lastModifiedBy>
  <cp:lastPrinted>1998-07-28T13:47:34Z</cp:lastPrinted>
  <dcterms:modified xsi:type="dcterms:W3CDTF">2013-06-23T05:08:44Z</dcterms:modified>
  <cp:revision>53</cp:revision>
  <dc:subject>Database Systems</dc:subject>
  <dc:title>Chapter 3</dc:title>
</cp:coreProperties>
</file>