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5EAE96-1433-411E-807F-A37779CE1F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5C712C-762A-468C-B507-F046196EA0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6F99CF-8596-479C-BE20-479C2FF96B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64788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6076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03464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64788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6076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EF9340-16DB-4808-841A-5D72730F09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F6EF63-7752-4EEE-AB94-EEB64CFD208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E43511-09E0-4F52-B561-1190BD787CC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B1978B-EACA-4998-865F-E553FF31C6D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808F06-D005-41ED-B06E-739E6BF7A8D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850B91-CEBE-4E5B-A4BB-14518702AC1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26640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7C5448-002C-41F2-B3CB-456DDC61419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CFAA0D-3D6C-4B85-A5A1-533764391DC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BC3BBF-92BC-4E77-8CA0-DD977C752A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467640-BF46-4BF1-991A-979025D3294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A5151B-5873-40BE-8C58-A4C9858A618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09FE62-C1EE-4569-8244-1F45AF7AB49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E4C8D3-493A-480C-9C1E-AAE30B4CD5F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64788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6076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103464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64788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6076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637138-857B-4DBD-ACEA-B7E09825A8FC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619E0-F85E-4F97-BC86-DBED50135F3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AB87A-0A1C-4D5C-B80F-33CFAAD2175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4E366-E46B-40F3-B1DD-C50D1136B56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ED3AF-25CD-4F42-8FB8-90A58166E3F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B2CD6-E1B3-4195-919E-63BA28872DA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9DEF29-4386-4138-97DD-6C16DA6BD36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380880" y="26640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A25A4-31D6-499C-8FC3-18595A60C14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86E6F-3159-4B35-B0BA-E8D7ACF6809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46E1B-E335-41BD-9017-941DDFE4399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66676-6C9D-488A-A9E2-EEF5774D945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8CDD9-E4E0-4653-8E57-25021D2781D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135E7-B790-4C50-801F-8606C899B52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64788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26076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103464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64788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26076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747BB-5BA1-43B0-BF8F-2DD1B49132EB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67DA2E-7DBA-4A2E-9509-98CC21701B7B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C15075-E434-4E32-AE54-72E2C3EE9D32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0E6C58-150F-4730-8FA5-EF48C1422E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73BE72-735B-4FB8-9C84-9FACFE949D3A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56BF92-8DF2-4FA4-AA4E-927BBEB05355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107BC4-946C-494E-AA0C-C9AD24542D7B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380880" y="26640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B96ABC-1EB1-4EC4-AC55-A003D1785925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5F404C-C8E9-4EC4-8D5B-063B051A66A4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324F5E-B6BB-4A60-A8D9-C6CAD0731879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55A48E-BEFC-4A90-9A8E-2F515425DB6B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012CE1-F1AA-444E-8959-B2D5368C2638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1ECC35-785D-4985-869C-572CA374ABDA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64788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26076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103464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64788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26076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266759-03FC-488A-9B94-EECE08A63C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51D969-206A-4CA3-BAE9-E691E08CE4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80880" y="26640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4B457D-C9D4-4A91-96F6-DE9F293AC4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3D78F4-3965-451F-ACFA-9F8B40897B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A4C608-37B2-4208-B38E-ED560CCD1D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FF1593-78F0-4F1C-A85D-C929C86215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0" y="1371600"/>
            <a:ext cx="8026560" cy="0"/>
          </a:xfrm>
          <a:prstGeom prst="line">
            <a:avLst/>
          </a:prstGeom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ff00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B81D8-94B3-4FEB-9672-F866643F60DB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Line 2"/>
          <p:cNvSpPr/>
          <p:nvPr/>
        </p:nvSpPr>
        <p:spPr>
          <a:xfrm>
            <a:off x="0" y="1371600"/>
            <a:ext cx="802656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cc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2"/>
          </p:nvPr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9D280-7E4D-4B81-8651-9541562F6ED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Line 2"/>
          <p:cNvSpPr/>
          <p:nvPr/>
        </p:nvSpPr>
        <p:spPr>
          <a:xfrm>
            <a:off x="0" y="3429000"/>
            <a:ext cx="8026560" cy="0"/>
          </a:xfrm>
          <a:prstGeom prst="line">
            <a:avLst/>
          </a:prstGeom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ff00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3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1D438-6FF8-4104-9D28-89F3A8593046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Line 2"/>
          <p:cNvSpPr/>
          <p:nvPr/>
        </p:nvSpPr>
        <p:spPr>
          <a:xfrm>
            <a:off x="0" y="3429000"/>
            <a:ext cx="802656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cc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sldNum" idx="4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CD315-4A8D-46F6-B656-2AAA12794BF5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6c6c6c"/>
            </a:gs>
            <a:gs pos="50000">
              <a:srgbClr val="eaeaea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Line 2"/>
          <p:cNvSpPr/>
          <p:nvPr/>
        </p:nvSpPr>
        <p:spPr>
          <a:xfrm>
            <a:off x="27000" y="3429000"/>
            <a:ext cx="797400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80"/>
                </a:solidFill>
                <a:latin typeface="Times New Roman"/>
              </a:rPr>
              <a:t>Chapter 4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The Relational Mod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Text Box 5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3DE5E-5F6F-47AF-B0CB-7EF7EC7574B7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Properties of Relations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39280" y="1557360"/>
            <a:ext cx="8109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Each tuple is distinct; there are no duplicate tuples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Order of attributes has no significance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Order of tuples has no significance, theoretically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0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" dur="500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DC627-E97B-4E0F-8520-F572575F2929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Relational Keys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33520" y="1557000"/>
            <a:ext cx="8153280" cy="4535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Candidate Key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Times New Roman"/>
              </a:rPr>
              <a:t>An attribute, or set of attributes, that uniquely identifies a tuple within a relation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Times New Roman"/>
              </a:rPr>
              <a:t>In each tuple of R, values of K uniquely identify that tuple (uniqueness)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Times New Roman"/>
              </a:rPr>
              <a:t>No proper subset of K has the uniqueness property (irreducibility)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4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" dur="5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500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" dur="500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500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1A04E-FEDF-4B5C-8C55-B263F774E5FE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Relational Keys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772776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Primary Key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Times New Roman"/>
              </a:rPr>
              <a:t>Candidate key selected to identify tuples uniquely within  relation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354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Alternate Key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Times New Roman"/>
              </a:rPr>
              <a:t>Candidate keys that are not selected to be primary key.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354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Foreign Key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Times New Roman"/>
              </a:rPr>
              <a:t>Attribute, or set of attributes, within one relation that matches candidate key of some (possibly same) relation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8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" dur="5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0" dur="500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" dur="500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" dur="500"/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6" dur="500"/>
                                        <p:tgtEl>
                                          <p:spTgt spid="2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A7A0D-710E-451F-B494-7A275935BAE1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Integrity Constraints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533520" y="1484280"/>
            <a:ext cx="77277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Nul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66"/>
                </a:solidFill>
                <a:latin typeface="Times New Roman"/>
              </a:rPr>
              <a:t>Represents value for an attribute that is currently unknown or not applicable for tuple.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66"/>
                </a:solidFill>
                <a:latin typeface="Times New Roman"/>
              </a:rPr>
              <a:t>Deals with incomplete or exceptional data.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66"/>
                </a:solidFill>
                <a:latin typeface="Times New Roman"/>
              </a:rPr>
              <a:t>Represents the absence of a value and is not the same as zero or spaces, which are values.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2" name="Text Box 2052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7D2B5-7D5F-4FF6-BC08-233E7295C199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Integrity Constraints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33520" y="1557360"/>
            <a:ext cx="77277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Entity Integrity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In a base relation, no attribute of a primary key can be null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Referential Integrity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If foreign key exists in a relation, either foreign key value must match a candidate key value of some tuple in its home relation or foreign key value must be wholly null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6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" dur="5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6" dur="500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1" dur="500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4" dur="500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40068-A9D2-47E5-AA15-0B4043FEFBC8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Integrity Constraints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33520" y="1557360"/>
            <a:ext cx="77277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General Constraint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Additional rules specified by users or database administrators that define or constrain some aspect of the enterprise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0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769AC-18BC-49A6-8090-F32558245DEF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Views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39280" y="155736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Base Relation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Named relation corresponding to an entity in conceptual schema, whose tuples are physically stored in database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View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Dynamic result of one or more relational operations operating on base relations to produce another relation.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1" dur="5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4" dur="5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9" dur="500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2" dur="500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0D7DF-A9A8-4FB6-8D8C-50D408827173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Views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31360" y="155736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A virtual relation that does not necessarily actually exist in the database but is produced upon request, at time of request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Contents of a view are defined as a query on one or more base relations.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Views are dynamic, meaning that changes made to base relations that affect view attributes are immediately reflected in the view.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8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9" dur="5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4" dur="500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9" dur="500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2C225-FBB7-40B4-A023-8C8FA4C35A15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Purpose of Views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33520" y="1557360"/>
            <a:ext cx="77277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Provides powerful and flexible security mechanism by hiding parts of database from certain users.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Permits users to access data in a customized way, so that same data can be seen by different users in different ways, at same time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Can simplify complex operations on base relations.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2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6" dur="5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1" dur="500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6" dur="500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2D2C0-6353-43E2-82B8-31FC287894BF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Updating Views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15520" y="155736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All updates to a base relation should be immediately reflected in all views that reference that base relation.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If view is updated, underlying base relation should reflect change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6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3" dur="5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8" dur="500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A95D6-C068-472D-92B4-677296B5DCF2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Chapter 4 - Objectives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Terminology of relational model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How tables are used to represent data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Connection between mathematical relations and relations in the relational model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Properties of database relations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How to identify CK, PK, and FKs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Meaning of entity integrity and referential integrity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Purpose and advantages of views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7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500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500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56CEF-9289-4460-B2AE-8EE1161656D4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Updating Views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33520" y="1557360"/>
            <a:ext cx="77277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There are restrictions on types of modifications that can be made through views: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66"/>
                </a:solidFill>
                <a:latin typeface="Times New Roman"/>
              </a:rPr>
              <a:t>Updates are allowed if query involves a single base relation and contains a candidate key of base relation.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66"/>
                </a:solidFill>
                <a:latin typeface="Times New Roman"/>
              </a:rPr>
              <a:t>Updates are not allowed involving multiple base relations.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66"/>
                </a:solidFill>
                <a:latin typeface="Times New Roman"/>
              </a:rPr>
              <a:t>Updates are not allowed involving aggregation or grouping operations.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0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5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0" dur="500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5" dur="500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0" dur="500"/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FE2BE-998F-4244-A3F8-4B958007FC1C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Relational Model Terminology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3520" y="1618920"/>
            <a:ext cx="7727760" cy="382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A relation is a table with columns and rows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66"/>
                </a:solidFill>
                <a:latin typeface="Times New Roman"/>
              </a:rPr>
              <a:t>Only applies to logical structure of the database, not the physical structure.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Attribute is a named column of a relation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Domain is the set of allowable values for one or more attributes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5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500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500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FB13E-9504-48DC-97C4-F103E1773ADC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Relational Model Terminology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33520" y="162864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Tuple is a row of a relation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 algn="just">
              <a:lnSpc>
                <a:spcPct val="7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Degree is the number of attributes in a relation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 algn="just">
              <a:lnSpc>
                <a:spcPct val="7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Cardinality is the number of tuples in a relation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 algn="just">
              <a:lnSpc>
                <a:spcPct val="7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Relational Database is a collection of normalized relations with distinct relation names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5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" dur="5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5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" dur="500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E49DC-AD32-4564-AB4D-EC2615754FC2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Instances of  Branch and Staff Relations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178" name="Picture 4" descr="C03NF01"/>
          <p:cNvPicPr/>
          <p:nvPr/>
        </p:nvPicPr>
        <p:blipFill>
          <a:blip r:embed="rId1"/>
          <a:stretch/>
        </p:blipFill>
        <p:spPr>
          <a:xfrm>
            <a:off x="611280" y="1484280"/>
            <a:ext cx="5761080" cy="503712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6"/>
          <p:cNvSpPr/>
          <p:nvPr/>
        </p:nvSpPr>
        <p:spPr>
          <a:xfrm>
            <a:off x="3124080" y="658332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53FC1-B5CC-46FF-BDC2-2770B8988721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Examples of Attribute Domains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182" name="Picture 5" descr="C03NF02"/>
          <p:cNvPicPr/>
          <p:nvPr/>
        </p:nvPicPr>
        <p:blipFill>
          <a:blip r:embed="rId1"/>
          <a:stretch/>
        </p:blipFill>
        <p:spPr>
          <a:xfrm>
            <a:off x="539640" y="1700280"/>
            <a:ext cx="7728120" cy="3168720"/>
          </a:xfrm>
          <a:prstGeom prst="rect">
            <a:avLst/>
          </a:prstGeom>
          <a:ln w="0">
            <a:noFill/>
          </a:ln>
        </p:spPr>
      </p:pic>
      <p:sp>
        <p:nvSpPr>
          <p:cNvPr id="183" name="Text Box 7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82BFD-8358-43A2-B103-C5CBD8AD03B5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266400"/>
            <a:ext cx="829476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Alternative Terminology for Relational Mode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6" name="Rectangle 4"/>
          <p:cNvSpPr/>
          <p:nvPr/>
        </p:nvSpPr>
        <p:spPr>
          <a:xfrm>
            <a:off x="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601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7" name="Picture 8" descr="C03NT01"/>
          <p:cNvPicPr/>
          <p:nvPr/>
        </p:nvPicPr>
        <p:blipFill>
          <a:blip r:embed="rId1"/>
          <a:stretch/>
        </p:blipFill>
        <p:spPr>
          <a:xfrm>
            <a:off x="539640" y="1916280"/>
            <a:ext cx="7728120" cy="264132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10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F5165-38CD-4D93-84AD-809C9B9A97EC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Database Relations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44680" y="1484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Times New Roman"/>
              </a:rPr>
              <a:t>Relation schema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Named relation defined by a set of attribute and domain name pairs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676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R1(A1,A2,A3,....,An)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676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Times New Roman"/>
              </a:rPr>
              <a:t>Relational database schema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Set of relation schemas, each with a distinct name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676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R{R1,R2,R3, ... , Rn)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676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2" name="Text Box 2052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" dur="5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" dur="500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" dur="500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500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" dur="500"/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" dur="500"/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59C10-2471-4F04-9C66-821E4F5340C4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Properties of Relations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9640" y="155736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Relation name is distinct from all other relation names in relational schema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Each cell of relation contains exactly one atomic (single) value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Each attribute has a distinct name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Values of an attribute are all from the same domain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6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" dur="5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" dur="500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500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" dur="500"/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12-09T10:09:10Z</dcterms:created>
  <dc:creator>Thomas Connolly and Carolyn Begg</dc:creator>
  <dc:description>Transparencies for Chapter 3 of textbook
Database Systems: A Practical Approach to Design, Implementation and Management</dc:description>
  <dc:language>en-US</dc:language>
  <cp:lastModifiedBy>Asma</cp:lastModifiedBy>
  <cp:lastPrinted>1998-07-28T13:47:34Z</cp:lastPrinted>
  <dcterms:modified xsi:type="dcterms:W3CDTF">2013-06-23T05:08:44Z</dcterms:modified>
  <cp:revision>53</cp:revision>
  <dc:subject>Database Systems</dc:subject>
  <dc:title>Chapter 3</dc:title>
</cp:coreProperties>
</file>