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8B5-971D-4353-AC22-19F35971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E36-C4EA-4E38-B650-C3A7522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124-45AD-47A6-9A93-B92278AB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463-33E7-4F8A-89DD-1375B618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33A-3978-4639-A277-0257E035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045-3FD3-4ADF-8C31-C022B62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541-F9DD-4D72-9322-D5D1F19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182-3EBF-4DFC-98FE-B5AB3E38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89F-29B5-4309-B51C-3A2AC6D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4EE-BCB1-49EC-88FE-DAB4263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2E1-1FDA-4A57-989C-96C9D0A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A86-FCAD-4784-98C6-FC860B6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8C1C-0A51-4BE6-AB6B-6832CD3DC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yoursel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256920" y="3030480"/>
            <a:ext cx="4097160" cy="3598920"/>
            <a:chOff x="3256920" y="3030480"/>
            <a:chExt cx="4097160" cy="3598920"/>
          </a:xfrm>
        </p:grpSpPr>
        <p:sp>
          <p:nvSpPr>
            <p:cNvPr id="100" name="Rectangle 5"/>
            <p:cNvSpPr/>
            <p:nvPr/>
          </p:nvSpPr>
          <p:spPr>
            <a:xfrm>
              <a:off x="3581280" y="3429000"/>
              <a:ext cx="3733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21020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4838760" y="50292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421020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5812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4673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4838760" y="39625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35812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4673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3274560" y="342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274560" y="455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3274560" y="4021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3274560" y="508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>
              <a:off x="50000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4331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5609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3645720" y="304812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60958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60958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41911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54673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621936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3256920" y="5621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67057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67057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67057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1"/>
            <p:cNvSpPr/>
            <p:nvPr/>
          </p:nvSpPr>
          <p:spPr>
            <a:xfrm>
              <a:off x="35812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2"/>
            <p:cNvSpPr/>
            <p:nvPr/>
          </p:nvSpPr>
          <p:spPr>
            <a:xfrm>
              <a:off x="4800600" y="6095880"/>
              <a:ext cx="685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60958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4"/>
            <p:cNvSpPr/>
            <p:nvPr/>
          </p:nvSpPr>
          <p:spPr>
            <a:xfrm>
              <a:off x="3274560" y="6172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5"/>
            <p:cNvSpPr/>
            <p:nvPr/>
          </p:nvSpPr>
          <p:spPr>
            <a:xfrm>
              <a:off x="68288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36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7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8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7086600" y="1219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4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7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9"/>
          <p:cNvSpPr/>
          <p:nvPr/>
        </p:nvSpPr>
        <p:spPr>
          <a:xfrm>
            <a:off x="18288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0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1"/>
          <p:cNvSpPr/>
          <p:nvPr/>
        </p:nvSpPr>
        <p:spPr>
          <a:xfrm>
            <a:off x="2362320" y="4876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2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3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4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6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7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8"/>
          <p:cNvSpPr/>
          <p:nvPr/>
        </p:nvSpPr>
        <p:spPr>
          <a:xfrm>
            <a:off x="2514600" y="4419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9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0"/>
          <p:cNvSpPr/>
          <p:nvPr/>
        </p:nvSpPr>
        <p:spPr>
          <a:xfrm>
            <a:off x="26668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1"/>
          <p:cNvSpPr/>
          <p:nvPr/>
        </p:nvSpPr>
        <p:spPr>
          <a:xfrm>
            <a:off x="2819520" y="60958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2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3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4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5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6"/>
          <p:cNvSpPr/>
          <p:nvPr/>
        </p:nvSpPr>
        <p:spPr>
          <a:xfrm>
            <a:off x="2362320" y="3962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7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8"/>
          <p:cNvSpPr/>
          <p:nvPr/>
        </p:nvSpPr>
        <p:spPr>
          <a:xfrm>
            <a:off x="21337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9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0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1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2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following map. The task is to color the map using the three colors Red, Blue, and Green, such that no two adjacent regions take the sam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ustralia"/>
          <p:cNvPicPr/>
          <p:nvPr/>
        </p:nvPicPr>
        <p:blipFill>
          <a:blip r:embed="rId1"/>
          <a:stretch/>
        </p:blipFill>
        <p:spPr>
          <a:xfrm>
            <a:off x="2590920" y="3429000"/>
            <a:ext cx="378144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the problem as a CSP. Clearly state the variables, domains, and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ize of the search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the map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R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L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Forward Checking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Variables and values are order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WA, NT, Q, NSW, V, SA, 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: Red, Blue, and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743040" y="544212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ll heuristics including arc-propagation to solve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1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54" name="Oval 22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23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4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5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6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7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8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9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0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1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2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3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4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5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6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7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8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9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40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41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2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3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4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5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6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8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54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 – 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n examination, an invigilator has to arrange six students in a way to make sure that the examination is properly conducted and no one cheats. 2 students have makeup in Artificial Intelligence, 1 student has makeup in Database, 2 students have makeup in Mathematics, and 1 student in Physics. As shown in figure below, there exist 6 desks arranged into two rows and three colum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181840" cy="2334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800" y="288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for the invigilator is to arrange students so that students having the same makeup exam should not be neighbors (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diag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ample - neighbors of 5 are 1, 2, 3, 4 and 6, - and neighbors of 3 are 2 (same row), 5 (same diagonal) and 6 (same column)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a formulation of the problem in term of CSP by specifying variables, domain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8:10Z</dcterms:created>
  <dc:creator>mbatouche</dc:creator>
  <dc:description/>
  <dc:language>en-US</dc:language>
  <cp:lastModifiedBy>Dean Ship</cp:lastModifiedBy>
  <dcterms:modified xsi:type="dcterms:W3CDTF">2012-02-13T09:46:22Z</dcterms:modified>
  <cp:revision>10</cp:revision>
  <dc:subject/>
  <dc:title>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