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2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7D6F-816C-4324-B2EF-EDE059BEA8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Cloud computing is a model for enabling convenient, on-demand network access to a shared pool of configurable computing resources (e.g., networks, servers, storage, applications, and services) that can be rapidly provisioned and released with minimal management effort or service provider inte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Cloud computing customers do not own the physical infra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Cloud computing users avoid capital expenditure (CapEx) on hardware, software, and services when they pay a provider only for what they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Low shared infrastructure and costs, low management overhead, and immediate access to a broad range of ap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3015-B803-42BA-AA04-DE9668D75B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1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8A7E-BD57-4722-8655-6BF7DF42FD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4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2013-3F5D-4D32-A198-AB8BB99A7A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7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5972-FFC1-4FD5-B1F7-430AE7C6E4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D3E-1906-413E-9754-E5D87BBE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8BB-92D9-478F-AB91-DCABFA22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CDF-BF2C-425B-B766-71BA95E3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CAA-89C8-4471-B048-99FD497E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0ADC-F1D8-433F-B0DA-B7037340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68C1-70D4-43C5-BE7C-7AEEDB46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0FB3-73E1-49F9-BB27-C9F9D30A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0202-9CCF-4233-B9C5-F89B6B16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6E4B-81F7-4C68-AB4A-A475028F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2312-F9C5-4EE4-8A52-7BC9EE04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8F34-D32E-4920-AC73-7353ACB1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C73-6E7D-47B0-990E-8E67FC50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83A7-F8FC-4DBF-AB5E-E2EEF35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6745-C863-4D87-97FE-31C92E4B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96E6-A509-4111-B85C-8A792A66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97B8-B62E-43AE-A78A-BC722547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0A8A-92CF-4CDE-854E-770F9E67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86B1-C3BC-4069-9E28-CB9C6575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1DAA-AF08-42E1-B097-5A05A6AA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7D38-8500-4724-A45A-D4CF7172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3472E-572E-4D96-BF9D-A9155EA8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60E0-7B1B-401B-8325-099A1935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60C-4B1F-43DD-A04C-3EBB1093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4791-5ECC-4484-B010-668C72B8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0C8A-3102-4BAB-B62C-58584BD2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76FE-3932-4673-B49C-DB521661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6363-8F1D-4403-B38E-79308DA8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77B4-8379-4204-BF3F-DD324E25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141E-4BC0-4877-9CB9-F5FF0FB7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41F6-D904-41AD-BC8E-B78B11FE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44EC-AFAA-4537-AF64-B47FA0A6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F9B8-3E2B-4C3A-811F-359D6322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F184-97AE-4C72-BF13-F702F6E2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948-BE6B-44D6-88B7-1DAAE3E8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DADFD-3760-4697-AF11-6860E598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6813-F87B-45D5-A04A-BB03ECA5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E766-9679-4671-95AF-FEE4B39E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CF7FB-6F7B-4A6B-BB14-0EC46B00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A5E9C-5CC7-4400-9A44-14E3C385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47688-E9A6-4816-B7D7-4603F6F8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FFEA-7D34-4484-A59D-CAC34D01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D6D0C-DD5F-4598-953D-9447CBCF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69BB-0211-4196-85E2-B2473B64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EEC79-2D1E-4C94-92D1-D236AAE5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8F8-1231-45C7-8DBF-C6EAE37B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B024-DAC7-4EDB-9147-EC22D6B5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39BD-1FA9-46D1-8F51-6EC484D3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C579C-33DD-4B1F-A2E4-99D08552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A7C4-E92B-485D-929E-82CEE9AF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A377-7D66-482A-BC0A-FBBA9CA2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224EC-080B-41E1-98F6-22661103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9FDA-126A-4E31-B452-446FB03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9209D-F70A-4E5D-ADB1-32C2AE6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D8CA-2D9C-4200-8A30-8EC46C2D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D97D-1B4E-44D6-AE9D-E2B3E14C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400-66BF-436C-B55E-59BBDC23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883D-DD7C-49A3-9A90-31B37CDA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5289F-426A-4834-9293-1FEDE6E7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4808D-EDB7-4548-9B80-61CDA936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D0701-4BB3-4833-AB61-2F93C9C5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23630-9E3E-4730-8D16-55491C9D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0C12-50BE-47C2-A1D0-9E77738A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2D8B4-E7DE-410C-BDFD-E3BD0448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91C41-70BF-486D-8B0D-B266DFF4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35E9-85CD-4B82-8049-D227C3C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CC003-9320-4BE8-83C7-17231CE5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A75-084B-4CE3-83CD-75661426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896DC-F2FA-4AE9-B955-279C4D48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D82B-2F62-4CA3-B55F-5AD09AD6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23E32-7F1F-4E76-8353-DD4155BB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F5A80-4F4D-44AA-ABB4-2B22BE24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35EB9-0723-4AF8-BE55-3009A715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FA0EE-70CC-4856-931B-3C673470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DB00C-8792-40BD-951E-E048CBFD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F0A86-1906-407B-8A51-9BB3F343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83BC0-7055-491F-9CB5-D503B9E4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74E68-0915-490F-AC51-A31442BF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614-1E10-4DAA-BFEF-1D82E9C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23612-574C-4361-9908-E57BB98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C9D7-9149-44A7-90B4-4045CCB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6D495-EA25-443C-9955-7B263DAD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C601B-EE84-4628-967F-453EE331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CC9B3-E0E2-4E62-B013-C00E4969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F4C-52E0-4FE3-A8E8-38D9996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623-C02F-4F50-B63A-EF0D771318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2868-BEAB-4006-A414-329382C60C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BCB7-B945-4810-8461-EC582AAEC4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BED8-704C-4464-9B43-F7959CB812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73e87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ACA1-0396-4CFA-8190-0C4897408F5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4178-A271-4A5D-8AAC-86C2241814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8FAA-8DFA-4889-99AC-8D5E009052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2B73-FEE8-4EB9-A915-5FB0B6A7C4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&amp; Syste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040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A19E-0C39-4E03-BE14-322504B57D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مستطيل 1"/>
          <p:cNvSpPr/>
          <p:nvPr/>
        </p:nvSpPr>
        <p:spPr>
          <a:xfrm>
            <a:off x="533520" y="12952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ains internetwork performance at acceptable lev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measuring and managing various network performance vari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variables include network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 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r response times, line utilization, and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Performance management involves three basic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herin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ng to key performance vari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alyzin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determine the normal (baseline) performance lev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termining appropriate performance levels for each 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 that exceeding these levels indicates a network problem worthy of at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22E-8D3E-402A-AA20-EC0759C5FB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866880" y="1249200"/>
            <a:ext cx="7466040" cy="4876920"/>
            <a:chOff x="866880" y="1249200"/>
            <a:chExt cx="7466040" cy="4876920"/>
          </a:xfrm>
        </p:grpSpPr>
        <p:pic>
          <p:nvPicPr>
            <p:cNvPr id="389" name="Picture 4" descr="Mod 2 19 Performance"/>
            <p:cNvPicPr/>
            <p:nvPr/>
          </p:nvPicPr>
          <p:blipFill>
            <a:blip r:embed="rId1"/>
            <a:stretch/>
          </p:blipFill>
          <p:spPr>
            <a:xfrm>
              <a:off x="866880" y="1249200"/>
              <a:ext cx="7466040" cy="487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Group 5"/>
            <p:cNvGrpSpPr/>
            <p:nvPr/>
          </p:nvGrpSpPr>
          <p:grpSpPr>
            <a:xfrm>
              <a:off x="3213000" y="2389680"/>
              <a:ext cx="348120" cy="1959840"/>
              <a:chOff x="3213000" y="2389680"/>
              <a:chExt cx="348120" cy="1959840"/>
            </a:xfrm>
          </p:grpSpPr>
          <p:sp>
            <p:nvSpPr>
              <p:cNvPr id="391" name="Text Box 6"/>
              <p:cNvSpPr/>
              <p:nvPr/>
            </p:nvSpPr>
            <p:spPr>
              <a:xfrm>
                <a:off x="3213000" y="2389680"/>
                <a:ext cx="348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7"/>
              <p:cNvSpPr/>
              <p:nvPr/>
            </p:nvSpPr>
            <p:spPr>
              <a:xfrm>
                <a:off x="3297240" y="272664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8"/>
              <p:cNvSpPr/>
              <p:nvPr/>
            </p:nvSpPr>
            <p:spPr>
              <a:xfrm>
                <a:off x="3297240" y="306432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9"/>
              <p:cNvSpPr/>
              <p:nvPr/>
            </p:nvSpPr>
            <p:spPr>
              <a:xfrm>
                <a:off x="3297240" y="339876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0"/>
              <p:cNvSpPr/>
              <p:nvPr/>
            </p:nvSpPr>
            <p:spPr>
              <a:xfrm>
                <a:off x="3297240" y="373752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1"/>
              <p:cNvSpPr/>
              <p:nvPr/>
            </p:nvSpPr>
            <p:spPr>
              <a:xfrm>
                <a:off x="3297240" y="407304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Text Box 12"/>
            <p:cNvSpPr/>
            <p:nvPr/>
          </p:nvSpPr>
          <p:spPr>
            <a:xfrm>
              <a:off x="3783240" y="4259520"/>
              <a:ext cx="38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3"/>
            <p:cNvSpPr/>
            <p:nvPr/>
          </p:nvSpPr>
          <p:spPr>
            <a:xfrm>
              <a:off x="4538880" y="42595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5140800" y="4259520"/>
              <a:ext cx="66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6061680" y="42595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.1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6"/>
            <p:cNvSpPr/>
            <p:nvPr/>
          </p:nvSpPr>
          <p:spPr>
            <a:xfrm>
              <a:off x="6628680" y="426096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inim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6046920" y="44582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6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049720" y="4458240"/>
              <a:ext cx="75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axim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9"/>
            <p:cNvSpPr/>
            <p:nvPr/>
          </p:nvSpPr>
          <p:spPr>
            <a:xfrm>
              <a:off x="7738200" y="42595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0"/>
            <p:cNvSpPr/>
            <p:nvPr/>
          </p:nvSpPr>
          <p:spPr>
            <a:xfrm>
              <a:off x="6670440" y="4458240"/>
              <a:ext cx="6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u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1"/>
            <p:cNvSpPr/>
            <p:nvPr/>
          </p:nvSpPr>
          <p:spPr>
            <a:xfrm>
              <a:off x="7822800" y="4458240"/>
              <a:ext cx="39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: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2"/>
            <p:cNvSpPr/>
            <p:nvPr/>
          </p:nvSpPr>
          <p:spPr>
            <a:xfrm>
              <a:off x="3190680" y="4721760"/>
              <a:ext cx="4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23"/>
            <p:cNvSpPr/>
            <p:nvPr/>
          </p:nvSpPr>
          <p:spPr>
            <a:xfrm>
              <a:off x="3676320" y="4721760"/>
              <a:ext cx="47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4"/>
            <p:cNvSpPr/>
            <p:nvPr/>
          </p:nvSpPr>
          <p:spPr>
            <a:xfrm>
              <a:off x="4162680" y="4721760"/>
              <a:ext cx="63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25"/>
            <p:cNvSpPr/>
            <p:nvPr/>
          </p:nvSpPr>
          <p:spPr>
            <a:xfrm>
              <a:off x="5399640" y="4721760"/>
              <a:ext cx="67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26"/>
            <p:cNvSpPr/>
            <p:nvPr/>
          </p:nvSpPr>
          <p:spPr>
            <a:xfrm>
              <a:off x="6284520" y="4721760"/>
              <a:ext cx="54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r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7"/>
            <p:cNvSpPr/>
            <p:nvPr/>
          </p:nvSpPr>
          <p:spPr>
            <a:xfrm>
              <a:off x="6827760" y="4721760"/>
              <a:ext cx="53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7528320" y="4721760"/>
              <a:ext cx="76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77400" y="4944600"/>
              <a:ext cx="4075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0"/>
            <p:cNvSpPr/>
            <p:nvPr/>
          </p:nvSpPr>
          <p:spPr>
            <a:xfrm>
              <a:off x="6395400" y="4929840"/>
              <a:ext cx="328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1"/>
            <p:cNvSpPr/>
            <p:nvPr/>
          </p:nvSpPr>
          <p:spPr>
            <a:xfrm>
              <a:off x="7559280" y="4947480"/>
              <a:ext cx="697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\\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2"/>
            <p:cNvSpPr/>
            <p:nvPr/>
          </p:nvSpPr>
          <p:spPr>
            <a:xfrm>
              <a:off x="6784920" y="4944600"/>
              <a:ext cx="8010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hysical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FTP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3"/>
            <p:cNvSpPr/>
            <p:nvPr/>
          </p:nvSpPr>
          <p:spPr>
            <a:xfrm>
              <a:off x="4201200" y="4944600"/>
              <a:ext cx="11941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%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Processor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% Processor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% Disk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age/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Bytes Received/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4"/>
            <p:cNvSpPr/>
            <p:nvPr/>
          </p:nvSpPr>
          <p:spPr>
            <a:xfrm>
              <a:off x="5395680" y="4944600"/>
              <a:ext cx="1012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_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explo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0 C: D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Default FTP S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5"/>
            <p:cNvSpPr/>
            <p:nvPr/>
          </p:nvSpPr>
          <p:spPr>
            <a:xfrm>
              <a:off x="1112760" y="1301040"/>
              <a:ext cx="93132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Perform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6"/>
            <p:cNvSpPr/>
            <p:nvPr/>
          </p:nvSpPr>
          <p:spPr>
            <a:xfrm>
              <a:off x="1286280" y="1454760"/>
              <a:ext cx="695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C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nso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2123280" y="1454760"/>
              <a:ext cx="677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W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d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8"/>
            <p:cNvSpPr/>
            <p:nvPr/>
          </p:nvSpPr>
          <p:spPr>
            <a:xfrm>
              <a:off x="2947320" y="1454760"/>
              <a:ext cx="430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H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l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9"/>
            <p:cNvSpPr/>
            <p:nvPr/>
          </p:nvSpPr>
          <p:spPr>
            <a:xfrm>
              <a:off x="980640" y="1737360"/>
              <a:ext cx="1948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tion 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V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ew 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F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or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40"/>
            <p:cNvSpPr/>
            <p:nvPr/>
          </p:nvSpPr>
          <p:spPr>
            <a:xfrm>
              <a:off x="932760" y="2022840"/>
              <a:ext cx="430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r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1"/>
            <p:cNvSpPr/>
            <p:nvPr/>
          </p:nvSpPr>
          <p:spPr>
            <a:xfrm>
              <a:off x="1392480" y="2022840"/>
              <a:ext cx="768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Favor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2"/>
            <p:cNvSpPr/>
            <p:nvPr/>
          </p:nvSpPr>
          <p:spPr>
            <a:xfrm>
              <a:off x="1113480" y="2255040"/>
              <a:ext cx="1089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nsole Ro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3"/>
            <p:cNvSpPr/>
            <p:nvPr/>
          </p:nvSpPr>
          <p:spPr>
            <a:xfrm>
              <a:off x="1324800" y="2386080"/>
              <a:ext cx="18356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Moni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erformance Logs and Al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C0B4-57F4-4D04-8A19-6F2C7E1F14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مستطيل 1"/>
          <p:cNvSpPr/>
          <p:nvPr/>
        </p:nvSpPr>
        <p:spPr>
          <a:xfrm>
            <a:off x="533520" y="990720"/>
            <a:ext cx="80010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Rea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n performance becomes unacceptable (that is, a user-defined threshold is exceeded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aged devi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cts by sending an alert to the network management system (N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Reactive PM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agement entity continually monitors performance variables in managed de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articular performance threshold is exceeded, the NMS or the managed device detects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managed device detects the problem, it generates an alert and sends it to the N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MS takes an appropriate action, such as alerting the network adminis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34F7-22F7-42F4-947B-C8FB9F2C35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مستطيل 1"/>
          <p:cNvSpPr/>
          <p:nvPr/>
        </p:nvSpPr>
        <p:spPr>
          <a:xfrm>
            <a:off x="533520" y="129528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Proa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ulation is used to project how network growth will affect performance metr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se simulations alert administrators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ending problems before they affect network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3919-00ED-4684-889F-86E76FFC0B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Task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431280" y="914400"/>
            <a:ext cx="4788720" cy="5229360"/>
            <a:chOff x="431280" y="914400"/>
            <a:chExt cx="4788720" cy="5229360"/>
          </a:xfrm>
        </p:grpSpPr>
        <p:pic>
          <p:nvPicPr>
            <p:cNvPr id="438" name="Picture 4" descr="task manager application"/>
            <p:cNvPicPr/>
            <p:nvPr/>
          </p:nvPicPr>
          <p:blipFill>
            <a:blip r:embed="rId1"/>
            <a:stretch/>
          </p:blipFill>
          <p:spPr>
            <a:xfrm>
              <a:off x="431280" y="914400"/>
              <a:ext cx="4695480" cy="522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9" name="Group 5"/>
            <p:cNvGrpSpPr/>
            <p:nvPr/>
          </p:nvGrpSpPr>
          <p:grpSpPr>
            <a:xfrm>
              <a:off x="435240" y="914400"/>
              <a:ext cx="2878200" cy="513720"/>
              <a:chOff x="435240" y="914400"/>
              <a:chExt cx="2878200" cy="513720"/>
            </a:xfrm>
          </p:grpSpPr>
          <p:sp>
            <p:nvSpPr>
              <p:cNvPr id="440" name="Text Box 6"/>
              <p:cNvSpPr/>
              <p:nvPr/>
            </p:nvSpPr>
            <p:spPr>
              <a:xfrm>
                <a:off x="620640" y="914400"/>
                <a:ext cx="2046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Windows Task Mana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7"/>
              <p:cNvSpPr/>
              <p:nvPr/>
            </p:nvSpPr>
            <p:spPr>
              <a:xfrm>
                <a:off x="435240" y="1136160"/>
                <a:ext cx="28782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F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le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O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tion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V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ew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W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ndow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H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el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8"/>
            <p:cNvGrpSpPr/>
            <p:nvPr/>
          </p:nvGrpSpPr>
          <p:grpSpPr>
            <a:xfrm>
              <a:off x="480600" y="1451160"/>
              <a:ext cx="3003120" cy="291960"/>
              <a:chOff x="480600" y="1451160"/>
              <a:chExt cx="3003120" cy="291960"/>
            </a:xfrm>
          </p:grpSpPr>
          <p:sp>
            <p:nvSpPr>
              <p:cNvPr id="443" name="Text Box 9"/>
              <p:cNvSpPr/>
              <p:nvPr/>
            </p:nvSpPr>
            <p:spPr>
              <a:xfrm>
                <a:off x="480600" y="1451160"/>
                <a:ext cx="10677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0"/>
              <p:cNvSpPr/>
              <p:nvPr/>
            </p:nvSpPr>
            <p:spPr>
              <a:xfrm>
                <a:off x="1495440" y="1451160"/>
                <a:ext cx="948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1"/>
              <p:cNvSpPr/>
              <p:nvPr/>
            </p:nvSpPr>
            <p:spPr>
              <a:xfrm>
                <a:off x="2361240" y="1451160"/>
                <a:ext cx="11224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erformanc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Text Box 12"/>
            <p:cNvSpPr/>
            <p:nvPr/>
          </p:nvSpPr>
          <p:spPr>
            <a:xfrm>
              <a:off x="731160" y="1872360"/>
              <a:ext cx="537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as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3"/>
            <p:cNvSpPr/>
            <p:nvPr/>
          </p:nvSpPr>
          <p:spPr>
            <a:xfrm>
              <a:off x="3250800" y="1872360"/>
              <a:ext cx="646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tat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4"/>
            <p:cNvSpPr/>
            <p:nvPr/>
          </p:nvSpPr>
          <p:spPr>
            <a:xfrm>
              <a:off x="947520" y="2033280"/>
              <a:ext cx="24850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Building Schematic - Pai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o to Supervisor - WordPa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alcula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y Compu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5"/>
            <p:cNvSpPr/>
            <p:nvPr/>
          </p:nvSpPr>
          <p:spPr>
            <a:xfrm>
              <a:off x="3251160" y="2033280"/>
              <a:ext cx="79344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6"/>
            <p:cNvSpPr/>
            <p:nvPr/>
          </p:nvSpPr>
          <p:spPr>
            <a:xfrm>
              <a:off x="1679040" y="5334840"/>
              <a:ext cx="87588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808080"/>
                  </a:solidFill>
                  <a:uFillTx/>
                  <a:latin typeface="Arial"/>
                  <a:ea typeface="PMingLiU"/>
                </a:rPr>
                <a:t>E</a:t>
              </a:r>
              <a:r>
                <a:rPr b="0" lang="en-US" sz="1300" spc="-1" strike="noStrike">
                  <a:solidFill>
                    <a:srgbClr val="808080"/>
                  </a:solidFill>
                  <a:latin typeface="Arial"/>
                  <a:ea typeface="PMingLiU"/>
                </a:rPr>
                <a:t>nd Tas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2756520" y="5334840"/>
              <a:ext cx="90324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808080"/>
                  </a:solidFill>
                  <a:uFillTx/>
                  <a:latin typeface="Arial"/>
                  <a:ea typeface="PMingLiU"/>
                </a:rPr>
                <a:t>S</a:t>
              </a:r>
              <a:r>
                <a:rPr b="0" lang="en-US" sz="1300" spc="-1" strike="noStrike">
                  <a:solidFill>
                    <a:srgbClr val="808080"/>
                  </a:solidFill>
                  <a:latin typeface="Arial"/>
                  <a:ea typeface="PMingLiU"/>
                </a:rPr>
                <a:t>witch 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8"/>
            <p:cNvSpPr/>
            <p:nvPr/>
          </p:nvSpPr>
          <p:spPr>
            <a:xfrm>
              <a:off x="3780000" y="53348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N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w Task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19"/>
            <p:cNvGrpSpPr/>
            <p:nvPr/>
          </p:nvGrpSpPr>
          <p:grpSpPr>
            <a:xfrm>
              <a:off x="448920" y="5862960"/>
              <a:ext cx="4771080" cy="276480"/>
              <a:chOff x="448920" y="5862960"/>
              <a:chExt cx="4771080" cy="276480"/>
            </a:xfrm>
          </p:grpSpPr>
          <p:sp>
            <p:nvSpPr>
              <p:cNvPr id="454" name="Text Box 20"/>
              <p:cNvSpPr/>
              <p:nvPr/>
            </p:nvSpPr>
            <p:spPr>
              <a:xfrm>
                <a:off x="448920" y="588816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21"/>
              <p:cNvSpPr/>
              <p:nvPr/>
            </p:nvSpPr>
            <p:spPr>
              <a:xfrm>
                <a:off x="1573200" y="5862960"/>
                <a:ext cx="129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2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2"/>
              <p:cNvSpPr/>
              <p:nvPr/>
            </p:nvSpPr>
            <p:spPr>
              <a:xfrm>
                <a:off x="2774520" y="58629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3500K / 310892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23"/>
          <p:cNvGrpSpPr/>
          <p:nvPr/>
        </p:nvGrpSpPr>
        <p:grpSpPr>
          <a:xfrm>
            <a:off x="2073960" y="1203480"/>
            <a:ext cx="4396320" cy="4979520"/>
            <a:chOff x="2073960" y="1203480"/>
            <a:chExt cx="4396320" cy="4979520"/>
          </a:xfrm>
        </p:grpSpPr>
        <p:pic>
          <p:nvPicPr>
            <p:cNvPr id="458" name="Picture 24" descr="task manager Processes"/>
            <p:cNvPicPr/>
            <p:nvPr/>
          </p:nvPicPr>
          <p:blipFill>
            <a:blip r:embed="rId2"/>
            <a:stretch/>
          </p:blipFill>
          <p:spPr>
            <a:xfrm>
              <a:off x="2073960" y="1203480"/>
              <a:ext cx="4396320" cy="49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25"/>
            <p:cNvSpPr/>
            <p:nvPr/>
          </p:nvSpPr>
          <p:spPr>
            <a:xfrm>
              <a:off x="2251800" y="1249920"/>
              <a:ext cx="2046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Windows Task Manag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075760" y="1458720"/>
              <a:ext cx="207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F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le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O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tions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V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ew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H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l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27"/>
            <p:cNvGrpSpPr/>
            <p:nvPr/>
          </p:nvGrpSpPr>
          <p:grpSpPr>
            <a:xfrm>
              <a:off x="2090880" y="5932800"/>
              <a:ext cx="4230720" cy="250200"/>
              <a:chOff x="2090880" y="5932800"/>
              <a:chExt cx="4230720" cy="250200"/>
            </a:xfrm>
          </p:grpSpPr>
          <p:sp>
            <p:nvSpPr>
              <p:cNvPr id="462" name="Text Box 28"/>
              <p:cNvSpPr/>
              <p:nvPr/>
            </p:nvSpPr>
            <p:spPr>
              <a:xfrm>
                <a:off x="2090880" y="593676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29"/>
              <p:cNvSpPr/>
              <p:nvPr/>
            </p:nvSpPr>
            <p:spPr>
              <a:xfrm>
                <a:off x="3146400" y="5932800"/>
                <a:ext cx="110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6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30"/>
              <p:cNvSpPr/>
              <p:nvPr/>
            </p:nvSpPr>
            <p:spPr>
              <a:xfrm>
                <a:off x="4275360" y="5935680"/>
                <a:ext cx="20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3452K / 310892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31"/>
            <p:cNvGrpSpPr/>
            <p:nvPr/>
          </p:nvGrpSpPr>
          <p:grpSpPr>
            <a:xfrm>
              <a:off x="2086920" y="1755360"/>
              <a:ext cx="2880720" cy="291960"/>
              <a:chOff x="2086920" y="1755360"/>
              <a:chExt cx="2880720" cy="291960"/>
            </a:xfrm>
          </p:grpSpPr>
          <p:sp>
            <p:nvSpPr>
              <p:cNvPr id="466" name="Text Box 32"/>
              <p:cNvSpPr/>
              <p:nvPr/>
            </p:nvSpPr>
            <p:spPr>
              <a:xfrm>
                <a:off x="2086920" y="1755360"/>
                <a:ext cx="10677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33"/>
              <p:cNvSpPr/>
              <p:nvPr/>
            </p:nvSpPr>
            <p:spPr>
              <a:xfrm>
                <a:off x="3041640" y="1755360"/>
                <a:ext cx="948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34"/>
              <p:cNvSpPr/>
              <p:nvPr/>
            </p:nvSpPr>
            <p:spPr>
              <a:xfrm>
                <a:off x="3845160" y="1755360"/>
                <a:ext cx="11224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erformanc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Text Box 35"/>
            <p:cNvSpPr/>
            <p:nvPr/>
          </p:nvSpPr>
          <p:spPr>
            <a:xfrm>
              <a:off x="2346120" y="2143800"/>
              <a:ext cx="1122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mage Na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6"/>
            <p:cNvSpPr/>
            <p:nvPr/>
          </p:nvSpPr>
          <p:spPr>
            <a:xfrm>
              <a:off x="3623760" y="2143800"/>
              <a:ext cx="45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7"/>
            <p:cNvSpPr/>
            <p:nvPr/>
          </p:nvSpPr>
          <p:spPr>
            <a:xfrm>
              <a:off x="3994920" y="2167920"/>
              <a:ext cx="47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8"/>
            <p:cNvSpPr/>
            <p:nvPr/>
          </p:nvSpPr>
          <p:spPr>
            <a:xfrm>
              <a:off x="4384800" y="2167920"/>
              <a:ext cx="82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9"/>
            <p:cNvSpPr/>
            <p:nvPr/>
          </p:nvSpPr>
          <p:spPr>
            <a:xfrm>
              <a:off x="5109480" y="2167920"/>
              <a:ext cx="936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 Us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40"/>
            <p:cNvSpPr/>
            <p:nvPr/>
          </p:nvSpPr>
          <p:spPr>
            <a:xfrm>
              <a:off x="2341800" y="2388240"/>
              <a:ext cx="133452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Idle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ms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srs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winlogon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ervice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sass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vchos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pools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spain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sdtc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ojobs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fssvc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vchos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smser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lssr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tfr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egsvc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41"/>
            <p:cNvSpPr/>
            <p:nvPr/>
          </p:nvSpPr>
          <p:spPr>
            <a:xfrm>
              <a:off x="3610440" y="2388240"/>
              <a:ext cx="39096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4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7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9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6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7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6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42"/>
            <p:cNvSpPr/>
            <p:nvPr/>
          </p:nvSpPr>
          <p:spPr>
            <a:xfrm>
              <a:off x="4104720" y="2388240"/>
              <a:ext cx="32076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4622040" y="2388240"/>
              <a:ext cx="60120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:52:3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7:4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320440" y="2388240"/>
              <a:ext cx="68508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12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4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,82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,40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,22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5,76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,64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,18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52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42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,70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,336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416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,34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86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,10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4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45"/>
            <p:cNvSpPr/>
            <p:nvPr/>
          </p:nvSpPr>
          <p:spPr>
            <a:xfrm>
              <a:off x="2479680" y="5373720"/>
              <a:ext cx="2421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ow processes from all us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46"/>
            <p:cNvSpPr/>
            <p:nvPr/>
          </p:nvSpPr>
          <p:spPr>
            <a:xfrm>
              <a:off x="5085360" y="5396400"/>
              <a:ext cx="1113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d Proces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47"/>
          <p:cNvGrpSpPr/>
          <p:nvPr/>
        </p:nvGrpSpPr>
        <p:grpSpPr>
          <a:xfrm>
            <a:off x="4556520" y="1447920"/>
            <a:ext cx="4268160" cy="4858920"/>
            <a:chOff x="4556520" y="1447920"/>
            <a:chExt cx="4268160" cy="4858920"/>
          </a:xfrm>
        </p:grpSpPr>
        <p:pic>
          <p:nvPicPr>
            <p:cNvPr id="482" name="Picture 48" descr="task manager performance"/>
            <p:cNvPicPr/>
            <p:nvPr/>
          </p:nvPicPr>
          <p:blipFill>
            <a:blip r:embed="rId3"/>
            <a:stretch/>
          </p:blipFill>
          <p:spPr>
            <a:xfrm>
              <a:off x="4561920" y="1447920"/>
              <a:ext cx="4262760" cy="48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Group 49"/>
            <p:cNvGrpSpPr/>
            <p:nvPr/>
          </p:nvGrpSpPr>
          <p:grpSpPr>
            <a:xfrm>
              <a:off x="4556520" y="1447920"/>
              <a:ext cx="2828520" cy="789480"/>
              <a:chOff x="4556520" y="1447920"/>
              <a:chExt cx="2828520" cy="789480"/>
            </a:xfrm>
          </p:grpSpPr>
          <p:sp>
            <p:nvSpPr>
              <p:cNvPr id="484" name="Text Box 50"/>
              <p:cNvSpPr/>
              <p:nvPr/>
            </p:nvSpPr>
            <p:spPr>
              <a:xfrm>
                <a:off x="4735080" y="1447920"/>
                <a:ext cx="2046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Windows Task Mana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51"/>
              <p:cNvSpPr/>
              <p:nvPr/>
            </p:nvSpPr>
            <p:spPr>
              <a:xfrm>
                <a:off x="4563720" y="1653480"/>
                <a:ext cx="207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F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le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O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tion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V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ew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H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el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Group 52"/>
              <p:cNvGrpSpPr/>
              <p:nvPr/>
            </p:nvGrpSpPr>
            <p:grpSpPr>
              <a:xfrm>
                <a:off x="4556520" y="1945440"/>
                <a:ext cx="2828520" cy="291960"/>
                <a:chOff x="4556520" y="1945440"/>
                <a:chExt cx="2828520" cy="291960"/>
              </a:xfrm>
            </p:grpSpPr>
            <p:sp>
              <p:nvSpPr>
                <p:cNvPr id="487" name="Text Box 53"/>
                <p:cNvSpPr/>
                <p:nvPr/>
              </p:nvSpPr>
              <p:spPr>
                <a:xfrm>
                  <a:off x="4556520" y="1945440"/>
                  <a:ext cx="10677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Application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54"/>
                <p:cNvSpPr/>
                <p:nvPr/>
              </p:nvSpPr>
              <p:spPr>
                <a:xfrm>
                  <a:off x="5483880" y="1945440"/>
                  <a:ext cx="9489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Processe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55"/>
                <p:cNvSpPr/>
                <p:nvPr/>
              </p:nvSpPr>
              <p:spPr>
                <a:xfrm>
                  <a:off x="6262560" y="1945440"/>
                  <a:ext cx="112248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Performanc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Group 56"/>
            <p:cNvGrpSpPr/>
            <p:nvPr/>
          </p:nvGrpSpPr>
          <p:grpSpPr>
            <a:xfrm>
              <a:off x="4578120" y="6060600"/>
              <a:ext cx="4164480" cy="246240"/>
              <a:chOff x="4578120" y="6060600"/>
              <a:chExt cx="4164480" cy="246240"/>
            </a:xfrm>
          </p:grpSpPr>
          <p:sp>
            <p:nvSpPr>
              <p:cNvPr id="491" name="Text Box 57"/>
              <p:cNvSpPr/>
              <p:nvPr/>
            </p:nvSpPr>
            <p:spPr>
              <a:xfrm>
                <a:off x="4578120" y="606060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58"/>
              <p:cNvSpPr/>
              <p:nvPr/>
            </p:nvSpPr>
            <p:spPr>
              <a:xfrm>
                <a:off x="5601600" y="6060600"/>
                <a:ext cx="110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9"/>
              <p:cNvSpPr/>
              <p:nvPr/>
            </p:nvSpPr>
            <p:spPr>
              <a:xfrm>
                <a:off x="6696360" y="6060600"/>
                <a:ext cx="20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1600K / 310892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Text Box 60"/>
            <p:cNvSpPr/>
            <p:nvPr/>
          </p:nvSpPr>
          <p:spPr>
            <a:xfrm>
              <a:off x="4834440" y="221940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Us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61"/>
            <p:cNvSpPr/>
            <p:nvPr/>
          </p:nvSpPr>
          <p:spPr>
            <a:xfrm>
              <a:off x="4835160" y="3238560"/>
              <a:ext cx="1086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 Us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62"/>
            <p:cNvSpPr/>
            <p:nvPr/>
          </p:nvSpPr>
          <p:spPr>
            <a:xfrm>
              <a:off x="5953320" y="2219400"/>
              <a:ext cx="1607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Usage His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63"/>
            <p:cNvSpPr/>
            <p:nvPr/>
          </p:nvSpPr>
          <p:spPr>
            <a:xfrm>
              <a:off x="5954760" y="3238560"/>
              <a:ext cx="185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ory Usage His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64"/>
            <p:cNvSpPr/>
            <p:nvPr/>
          </p:nvSpPr>
          <p:spPr>
            <a:xfrm>
              <a:off x="4863600" y="4313880"/>
              <a:ext cx="56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65"/>
            <p:cNvSpPr/>
            <p:nvPr/>
          </p:nvSpPr>
          <p:spPr>
            <a:xfrm>
              <a:off x="4860720" y="5094000"/>
              <a:ext cx="13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mit Charge (K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66"/>
            <p:cNvSpPr/>
            <p:nvPr/>
          </p:nvSpPr>
          <p:spPr>
            <a:xfrm>
              <a:off x="6781320" y="4290120"/>
              <a:ext cx="148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hysical Memory (K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67"/>
            <p:cNvSpPr/>
            <p:nvPr/>
          </p:nvSpPr>
          <p:spPr>
            <a:xfrm>
              <a:off x="6780240" y="5070240"/>
              <a:ext cx="1366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Kernel Memory (K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68"/>
            <p:cNvSpPr/>
            <p:nvPr/>
          </p:nvSpPr>
          <p:spPr>
            <a:xfrm>
              <a:off x="5106600" y="2891160"/>
              <a:ext cx="418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69"/>
            <p:cNvSpPr/>
            <p:nvPr/>
          </p:nvSpPr>
          <p:spPr>
            <a:xfrm>
              <a:off x="4908960" y="3912120"/>
              <a:ext cx="88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10 1600</a:t>
              </a:r>
              <a:r>
                <a:rPr b="0" lang="en-US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70"/>
            <p:cNvSpPr/>
            <p:nvPr/>
          </p:nvSpPr>
          <p:spPr>
            <a:xfrm>
              <a:off x="4874040" y="4464000"/>
              <a:ext cx="83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and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hrea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ces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71"/>
            <p:cNvSpPr/>
            <p:nvPr/>
          </p:nvSpPr>
          <p:spPr>
            <a:xfrm>
              <a:off x="4875120" y="5244120"/>
              <a:ext cx="49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im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ea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72"/>
            <p:cNvSpPr/>
            <p:nvPr/>
          </p:nvSpPr>
          <p:spPr>
            <a:xfrm>
              <a:off x="6785640" y="4464000"/>
              <a:ext cx="1092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ail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Ca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73"/>
            <p:cNvSpPr/>
            <p:nvPr/>
          </p:nvSpPr>
          <p:spPr>
            <a:xfrm>
              <a:off x="6787440" y="5244120"/>
              <a:ext cx="825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g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onpag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74"/>
            <p:cNvSpPr/>
            <p:nvPr/>
          </p:nvSpPr>
          <p:spPr>
            <a:xfrm>
              <a:off x="6078960" y="4464000"/>
              <a:ext cx="491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9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8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75"/>
            <p:cNvSpPr/>
            <p:nvPr/>
          </p:nvSpPr>
          <p:spPr>
            <a:xfrm>
              <a:off x="7887600" y="4464000"/>
              <a:ext cx="646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306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77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07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76"/>
            <p:cNvSpPr/>
            <p:nvPr/>
          </p:nvSpPr>
          <p:spPr>
            <a:xfrm>
              <a:off x="5923800" y="5244120"/>
              <a:ext cx="646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016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1089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1689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77"/>
            <p:cNvSpPr/>
            <p:nvPr/>
          </p:nvSpPr>
          <p:spPr>
            <a:xfrm>
              <a:off x="7965000" y="5244120"/>
              <a:ext cx="569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28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57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7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166C-A780-4E24-ACC7-6D0117EE14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Secur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مستطيل 1"/>
          <p:cNvSpPr/>
          <p:nvPr/>
        </p:nvSpPr>
        <p:spPr>
          <a:xfrm>
            <a:off x="533520" y="83808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Access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rols access to network resources, and prevents network sabotage (intentional or unintentional) and unauthorized access to sensitive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ids administra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reating a secure network environment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network resources into authorized and unauthorized are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groups of users to those areas, and monitoring, policing, and logging user access to resources in those ar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Security monit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event col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analysis, correlation and aler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 hand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DB68-9EF0-4A7B-A39A-4123ABA790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anag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مستطيل 1"/>
          <p:cNvSpPr/>
          <p:nvPr/>
        </p:nvSpPr>
        <p:spPr>
          <a:xfrm>
            <a:off x="533520" y="1295280"/>
            <a:ext cx="81532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network management system (NM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ection of tools for network monitoring and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manager-agent paradig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MS typically provides a GUI through which most or all management tas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Many commercial and freely available NMSs exis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OpenView, IBM NetView, Sun Net Manager, Cisco work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n 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NMS , Nagio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BF10-98A8-4F54-B258-B225FC1532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Management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مستطيل 1"/>
          <p:cNvSpPr/>
          <p:nvPr/>
        </p:nvSpPr>
        <p:spPr>
          <a:xfrm>
            <a:off x="533520" y="1476360"/>
            <a:ext cx="815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Internet Network Management Framework (IE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OSI Network Management Framework (ISO/ITU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IP (X.700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Telecommunication Management Network (ITU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N (M.3000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A601-8BDF-4968-83D2-C55B2D512C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مستطيل 3"/>
          <p:cNvSpPr/>
          <p:nvPr/>
        </p:nvSpPr>
        <p:spPr>
          <a:xfrm>
            <a:off x="-324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Management Framework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مستطيل 1"/>
          <p:cNvSpPr/>
          <p:nvPr/>
        </p:nvSpPr>
        <p:spPr>
          <a:xfrm>
            <a:off x="533520" y="1476360"/>
            <a:ext cx="81532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Distributed Management Task Force (DM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I, CIM, WB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TeleManagemen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NM, eTOM,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7267-04CD-4729-9364-242CFDD26F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Introduction to Cloud OS &amp;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87d6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2DD7-32CA-41B4-A0CC-D0DE2B7CC0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Network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1"/>
          <p:cNvSpPr/>
          <p:nvPr/>
        </p:nvSpPr>
        <p:spPr>
          <a:xfrm>
            <a:off x="380880" y="137160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sure that the users of a network receive the IT services with the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rvice (QoS) that they exp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Network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loyment, integration and coordination of the hardware, software, and human 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, test, configure, analyze, evaluate, and control the network and element resources to mee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-time, operational performance, and Quality of Service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 reasonable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9AE5-7DA1-428A-BF81-1A50C38CFA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What is Cloud Compu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مستطيل 1"/>
          <p:cNvSpPr/>
          <p:nvPr/>
        </p:nvSpPr>
        <p:spPr>
          <a:xfrm>
            <a:off x="380880" y="1430280"/>
            <a:ext cx="8534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Cloud Computing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is a general term used to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describe a new class of network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based computing that takes plac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over the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A collection/group of integrated and networked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hardware, software and Internet infrastructure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(called a platfor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Using the Internet for communication and transport provides hardware, software and networking services to cl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Thes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platforms hide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th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complexity and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details of the underlying infrastructure from users and application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by providing very simple graphical interface or API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(Applications Programming Interf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DF1F-6714-47E8-B34C-331583CEFC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What is Cloud Compu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مستطيل 1"/>
          <p:cNvSpPr/>
          <p:nvPr/>
        </p:nvSpPr>
        <p:spPr>
          <a:xfrm>
            <a:off x="533520" y="1430280"/>
            <a:ext cx="8381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In addition, the platform provide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on demand services, that are always on, anywhere, anytime and any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Pay for use and as needed, elastic scal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up and down in capacity and functiona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Th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hardware and software services are available to general public, enterprises, corporations and businesses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500-63F9-4766-9ABC-587DF74D2B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What is Cloud Compu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مستطيل 1"/>
          <p:cNvSpPr/>
          <p:nvPr/>
        </p:nvSpPr>
        <p:spPr>
          <a:xfrm>
            <a:off x="533520" y="5105520"/>
            <a:ext cx="78483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- Shared pool of configurable computing resour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- On-demand network ac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- Provisioned by the Service Prov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"/>
          <p:cNvPicPr/>
          <p:nvPr/>
        </p:nvPicPr>
        <p:blipFill>
          <a:blip r:embed="rId1"/>
          <a:stretch/>
        </p:blipFill>
        <p:spPr>
          <a:xfrm>
            <a:off x="647640" y="1143000"/>
            <a:ext cx="78469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BD90-75CD-4F50-BD18-3114FF4B39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Cloud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مستطيل 1"/>
          <p:cNvSpPr/>
          <p:nvPr/>
        </p:nvSpPr>
        <p:spPr>
          <a:xfrm>
            <a:off x="498600" y="1371600"/>
            <a:ext cx="822960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Cloud computing is an umbrella term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used to refer to Internet based development and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A number of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characteristics define cloud data, applications services and infra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ly hosted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Services or data are hosted on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remote infrastructure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biquitous: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Services or data are availabl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from an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ditized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The result is a utility computing model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similar to traditional that of traditional ut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95A6-F843-4CAD-8B70-C1B153A5D8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Cloud Service Models and lay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https://upload.wikimedia.org/wikipedia/commons/3/3c/Cloud_computing_layers.png"/>
          <p:cNvPicPr/>
          <p:nvPr/>
        </p:nvPicPr>
        <p:blipFill>
          <a:blip r:embed="rId1"/>
          <a:stretch/>
        </p:blipFill>
        <p:spPr>
          <a:xfrm>
            <a:off x="2058840" y="1454040"/>
            <a:ext cx="518004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9393-5500-48B7-B6CF-DECFFC2654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Software as a Service (Sa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مستطيل 1"/>
          <p:cNvSpPr/>
          <p:nvPr/>
        </p:nvSpPr>
        <p:spPr>
          <a:xfrm>
            <a:off x="498600" y="1371600"/>
            <a:ext cx="822960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SaaS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is a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model of software deployment where an application is hosted as a service provided to customers across the Inter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The benefits of S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You can sign up and rapidly start using innovative business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Apps and data are accessible from any connected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No data is lost if your computer breaks, as data is in the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The service is able to dynamically scale to usag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240" y="1139760"/>
            <a:ext cx="883908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Platform as a service (PaaS)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latform as a service provides a cloud-based environment with everything required to support the complete lifecycle of building and delivering web-based (cloud) applications — without the cost and complexity of buying and managing the underlying hardware, software, provisioning, and hosting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404040"/>
                </a:solidFill>
                <a:uFillTx/>
                <a:latin typeface="Calibri"/>
              </a:rPr>
              <a:t>The benefits of PaaS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Calibri"/>
              </a:rPr>
              <a:t>Develop applications and get to market faster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Calibri"/>
              </a:rPr>
              <a:t>Deploy new web applications to the cloud in minutes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Calibri"/>
              </a:rPr>
              <a:t>Reduce complexity with middleware as a service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8337-13CD-4C4C-BB10-B6C9C4A6E6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Infrastructure as a service (IaaS)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nfrastructure as a service provides companies with computing resources including servers, networking, storage, and data center space on a pay-per-use basi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040"/>
                </a:solidFill>
                <a:uFillTx/>
                <a:latin typeface="Calibri"/>
              </a:rPr>
              <a:t>The benefits of Iaa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No need to invest in your own hardwar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nfrastructure scales on demand to support dynamic workload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lexible, innovative services available on deman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CFE7-B049-4D38-882E-A1B3A6CC01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7F21-4338-4486-9257-CA8133F202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مستطيل 1"/>
          <p:cNvSpPr/>
          <p:nvPr/>
        </p:nvSpPr>
        <p:spPr>
          <a:xfrm>
            <a:off x="498600" y="1295280"/>
            <a:ext cx="82296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Lower computer c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do not need a high-powered and high-priced computer to run cloud computing web-bas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Improved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few large programs hogging your computer's memory, you will see better performance from your P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Reduced software c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ead of purchasing expensive software applications, you can get most of what you need for free-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F945-BDD8-4029-98F7-E00E6791F7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مستطيل 1"/>
          <p:cNvSpPr/>
          <p:nvPr/>
        </p:nvSpPr>
        <p:spPr>
          <a:xfrm>
            <a:off x="453960" y="1057320"/>
            <a:ext cx="8229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Instant software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other advantage to cloud computing is that you are no longer faced with choosing between obsolete software and high upgrade co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Improved document format compati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do not have to worry about the documents you create on your machine being compatible with other users' applications or 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Unlimited storage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ud computing offers virtually limitless sto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5EE3-650F-4697-B656-84A061DF5A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مستطيل 3"/>
          <p:cNvSpPr/>
          <p:nvPr/>
        </p:nvSpPr>
        <p:spPr>
          <a:xfrm>
            <a:off x="-324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p-Down View of NM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كائن 2"/>
          <p:cNvGraphicFramePr/>
          <p:nvPr/>
        </p:nvGraphicFramePr>
        <p:xfrm>
          <a:off x="533520" y="1041480"/>
          <a:ext cx="8305560" cy="53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كائن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41480"/>
                    <a:ext cx="830556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B93F-A1E7-45A1-B2DC-045B2F0579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مستطيل 1"/>
          <p:cNvSpPr/>
          <p:nvPr/>
        </p:nvSpPr>
        <p:spPr>
          <a:xfrm>
            <a:off x="482760" y="103032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Increased data relia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desktop computing, in which if a hard disk crashes and destroy all your valuable data, a computer crashing in the cloud should not affect the storage of you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Universal document ac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is not a problem with cloud computing, because you do not take your documents with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Latest version availa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you edit a document at home, that edited version is what you see when you access the document at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2F7F-00DC-4C29-AEC9-80DEBBA732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482760" y="1030320"/>
            <a:ext cx="8229600" cy="58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Easier group collabo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ing documents leads directly to better collabo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users do this as it is an important advantages of cloud comp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Device independ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are no longer tethered to a single computer or net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s to computers, applications and documents follow you through the clo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e to a portable device, and your applications and documents are still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3E5F-916C-4159-B426-878190E2CE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Dis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مستطيل 1"/>
          <p:cNvSpPr/>
          <p:nvPr/>
        </p:nvSpPr>
        <p:spPr>
          <a:xfrm>
            <a:off x="453960" y="1219320"/>
            <a:ext cx="822960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Requires a constant Internet conn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ud computing is impossible if you cannot connect to the Intern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ad Internet connection means no work and in areas where Internet connections are few or inherently unreliable, this could be a deal-break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Does not work well with low-speed conn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ly, a low-speed Internet connection, such as that found with dial-up services, makes cloud computing painful at best and often impossi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5D39-6E91-45C6-B9DA-0B81A93C7E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Dis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مستطيل 1"/>
          <p:cNvSpPr/>
          <p:nvPr/>
        </p:nvSpPr>
        <p:spPr>
          <a:xfrm>
            <a:off x="453960" y="749160"/>
            <a:ext cx="82296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Can be s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 with a fast connection, web-based applications can sometimes be slower than accessing a similar software program on your desktop P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Stored data might not be sec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loud computing, all your data is stored on the clo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Stored data can be l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ly, data stored in the cloud is safe, replicated across multiple machi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on the off chance that your data goes missing, you have no physical or local back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979B-9CBD-4557-BB62-2DA8A370D8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مستطيل 1"/>
          <p:cNvSpPr/>
          <p:nvPr/>
        </p:nvSpPr>
        <p:spPr>
          <a:xfrm>
            <a:off x="498600" y="852480"/>
            <a:ext cx="822960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Virtual workspa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An abstraction of an </a:t>
            </a:r>
            <a:r>
              <a:rPr b="0" lang="en-US" sz="16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execution environment that can be made dynamically available to authorized clients by using well-defined protocols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source quota (e.g. CPU, memory shar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Software configuration (e.g. O/S, provided service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743200" y="3146400"/>
            <a:ext cx="32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8D85-C6C5-47C5-AF50-317F7D81C4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مستطيل 3"/>
          <p:cNvSpPr/>
          <p:nvPr/>
        </p:nvSpPr>
        <p:spPr>
          <a:xfrm>
            <a:off x="-324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Virtual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مستطيل 1"/>
          <p:cNvSpPr/>
          <p:nvPr/>
        </p:nvSpPr>
        <p:spPr>
          <a:xfrm>
            <a:off x="550800" y="1143000"/>
            <a:ext cx="80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VM technolog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ows multiple virtual machines to run on a single physical machine.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rcRect l="0" t="0" r="10283" b="0"/>
          <a:stretch/>
        </p:blipFill>
        <p:spPr>
          <a:xfrm>
            <a:off x="995400" y="2184480"/>
            <a:ext cx="7421400" cy="3073320"/>
          </a:xfrm>
          <a:prstGeom prst="rect">
            <a:avLst/>
          </a:prstGeom>
          <a:ln w="0">
            <a:noFill/>
          </a:ln>
        </p:spPr>
      </p:pic>
      <p:sp>
        <p:nvSpPr>
          <p:cNvPr id="580" name="مستطيل 2"/>
          <p:cNvSpPr/>
          <p:nvPr/>
        </p:nvSpPr>
        <p:spPr>
          <a:xfrm>
            <a:off x="838080" y="5326200"/>
            <a:ext cx="5926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erformance: Para-virtualization (e.g. Xen) is very close to raw physical performan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A61D-8926-4821-AB49-08E983AE1C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Virtual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مستطيل 1"/>
          <p:cNvSpPr/>
          <p:nvPr/>
        </p:nvSpPr>
        <p:spPr>
          <a:xfrm>
            <a:off x="498600" y="1371600"/>
            <a:ext cx="822960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Run operating systems where the physical hardware is un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Easier to create new machines, backup machin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Emulate more machines than are physically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Timeshare lightly loaded systems on one h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Debug problems (suspend and resume the problem mach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Easy migration of virtual machines (shutdown needed or n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2B3E-DC4B-47F4-9932-D3E688DE32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4B0D-5FF3-40A2-9399-6CDEA0632E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M 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ستطيل 1"/>
          <p:cNvSpPr/>
          <p:nvPr/>
        </p:nvSpPr>
        <p:spPr>
          <a:xfrm>
            <a:off x="380880" y="121932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l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tection, isolation and correction of abnormal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figu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y managed resources and their connectivity, dis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ountin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ep track of usage for char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 and evaluate the behavior of managed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r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w only authorized access and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مستطيل 1"/>
          <p:cNvSpPr/>
          <p:nvPr/>
        </p:nvSpPr>
        <p:spPr>
          <a:xfrm>
            <a:off x="3590640" y="55897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2e65"/>
                </a:solidFill>
                <a:latin typeface="Arial"/>
                <a:ea typeface="Dotum"/>
              </a:rPr>
              <a:t>FC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F06B-8258-442A-8405-4F78C2D6EC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Faul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مستطيل 1"/>
          <p:cNvSpPr/>
          <p:nvPr/>
        </p:nvSpPr>
        <p:spPr>
          <a:xfrm>
            <a:off x="533520" y="147636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nages network problems to keep the network running reliably and efficien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Fault management process involv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ng the problem sympto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ng th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ing the problem automatically (if possible) or manu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ing the detection and resolution of th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D5DF-9A2D-409C-83BC-8BF47020FC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مستطيل 1"/>
          <p:cNvSpPr/>
          <p:nvPr/>
        </p:nvSpPr>
        <p:spPr>
          <a:xfrm>
            <a:off x="533520" y="1476360"/>
            <a:ext cx="800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Managem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s network and system configuration information and stores it in a configuration management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enance of this database allows network administrators to </a:t>
            </a:r>
            <a:r>
              <a:rPr b="0" lang="en-US" sz="1800" spc="-1" strike="noStrike" u="sng">
                <a:solidFill>
                  <a:srgbClr val="052e65"/>
                </a:solidFill>
                <a:uFillTx/>
                <a:latin typeface="Arial"/>
              </a:rPr>
              <a:t>track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hardware, software, and other network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1"/>
          <p:cNvPicPr/>
          <p:nvPr/>
        </p:nvPicPr>
        <p:blipFill>
          <a:blip r:embed="rId1"/>
          <a:stretch/>
        </p:blipFill>
        <p:spPr>
          <a:xfrm>
            <a:off x="1187280" y="4292640"/>
            <a:ext cx="6210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371E-4B58-48FF-AC0D-967770277E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1"/>
          <p:cNvSpPr/>
          <p:nvPr/>
        </p:nvSpPr>
        <p:spPr>
          <a:xfrm>
            <a:off x="533520" y="1476360"/>
            <a:ext cx="8001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Each network device has a variety of information associated with 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ware version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operating system, protocol software, or management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rdware version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nterfaces or hardware controll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information indicating who to contact if problems with the device ar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ing the physical location of the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FA93-DE26-4B85-86BA-5D0443A1EA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ستطيل 1"/>
          <p:cNvSpPr/>
          <p:nvPr/>
        </p:nvSpPr>
        <p:spPr>
          <a:xfrm>
            <a:off x="533520" y="1219320"/>
            <a:ext cx="800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M Information Associated with a Managed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m0283.gif"/>
          <p:cNvPicPr/>
          <p:nvPr/>
        </p:nvPicPr>
        <p:blipFill>
          <a:blip r:embed="rId1"/>
          <a:stretch/>
        </p:blipFill>
        <p:spPr>
          <a:xfrm>
            <a:off x="1295280" y="190512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B248-1F3A-4D81-AE57-7E9CCA2045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Accounting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مستطيل 1"/>
          <p:cNvSpPr/>
          <p:nvPr/>
        </p:nvSpPr>
        <p:spPr>
          <a:xfrm>
            <a:off x="533520" y="147636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sures network </a:t>
            </a:r>
            <a:r>
              <a:rPr b="1" lang="en-US" sz="1800" spc="-1" strike="noStrike" u="sng">
                <a:solidFill>
                  <a:srgbClr val="052e65"/>
                </a:solidFill>
                <a:uFillTx/>
                <a:latin typeface="Arial"/>
              </a:rPr>
              <a:t>util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arameters in 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gulate individual and group uses of the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nimizes network problems and maximizes fairness of user access to the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ause network resources can be portioned based on network capacity and user nee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Sarona</cp:lastModifiedBy>
  <dcterms:modified xsi:type="dcterms:W3CDTF">2017-12-10T03:32:07Z</dcterms:modified>
  <cp:revision>131</cp:revision>
  <dc:subject/>
  <dc:title>Computer Networks</dc:title>
</cp:coreProperties>
</file>