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F93-AEFE-44A0-BBA5-6FA6B4EC4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is a model for enabling convenient, on-demand network access to a shared pool of configurable computing resources (e.g., networks, servers, storage, applications, and services) that can be rapidly provisioned and released with minimal management effort or service provider inte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customers do not own the physical infra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Cloud computing users avoid capital expenditure (CapEx) on hardware, software, and services when they pay a provider only for what they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Low shared infrastructure and costs, low management overhead, and immediate access to a broad range of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EBCA-DF9C-47A8-99B7-5DA7E55A5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1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542-1DF9-415C-B7A7-CDA11AB70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4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A7EF-635E-47CB-9B7D-719D8CC60E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7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0544-BE35-4D63-948E-7A85E009C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20B-28A5-4057-8C20-FD86893F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C6A-1E7E-4CDB-A4FC-0BCE7B3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99D-A421-467D-ACF2-E0E4F599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474-DA84-4A00-927B-BF578F80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0C3-5C87-44B6-8DB5-C50ACA8B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242-CDDB-4C10-8BB9-8808DF1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203-E159-453D-9552-41EE2C7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E50B-ACB2-4221-88FD-27AB489F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F688-9F37-46E4-BC8E-7F49821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97F-F15C-4171-94FC-0E487516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BB2A-1800-408C-9C8D-81C9B94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651-16C9-419D-8857-02EFDAB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314-BBCC-4FD3-973D-B93FE993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6B6-38C9-4467-8375-3BDD954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261-EB5C-4269-BD6C-A16B7DA1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859-9BC1-4130-84CA-D1F062BD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DBFB-D2D1-49A7-BA9D-97EA889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3210-D1F2-4564-A7C9-853AA7C8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E0C7-A01B-4E2C-97C2-9AD29E0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D891-0CED-40F7-BFB6-6CC72890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C729-0513-48DD-AB49-988476F7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F63D-F112-48A2-ADCE-E68789C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F5A-8806-4287-A79E-5E1CFF2D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3EAB-CDDD-4B6E-A49E-CDEB977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1272-1391-4051-860F-C97A50D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FBD1-9609-4125-BC3D-E74E679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E6CB-2F4C-4B41-ACD2-A17E960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8FC73-B45D-45AA-BF57-2C68FE2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B1A5-F59B-443A-9AF4-3E7ACE89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6EEA-E530-4DE8-8E06-CE3F400A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BDEC-26DB-4FB7-BD87-C1028DE7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F6A6-53E8-48E8-A55F-0620A866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BB43-F492-4280-B763-96CE509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8F4-F93F-45E1-821A-CCB52BC5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DA78-952F-4A9E-B0D7-2EFF376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B5183-1F55-426E-8934-9F1F37AC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F731-F5E2-4005-83F1-2C99F219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DC34D-DF64-4F2B-B87D-AA70621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816B-346C-460F-B265-C011B109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1F99-E2BF-4051-87E4-52A0FCBA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BD9C2-CDBB-4A50-B3B7-8D3E0299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1C8E-A745-42EF-BBC7-60085070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9DA7-9894-4B88-8F15-CDF50C58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9FE1-3370-4A82-8655-02C655DC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999-CBA7-4BD8-AB3C-1FBC4D3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5339-B282-4F3E-AD24-0885F20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E876-5626-49C7-849D-D29591C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EE6B-AAAC-4020-9233-3DD3E53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CCCAF-44DE-4FBB-AAD1-A1BDE61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9F9B-5306-4003-A764-F69E74F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D918-1095-467E-B78E-020C93C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A040-37F3-4120-8292-4C2E203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6970-C069-4F45-B73D-0DAD01D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0F9C-9FC0-4C07-9C18-758D6D0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C8A5E-DB00-45AE-962B-368C373C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883-41B0-4198-9255-DD96562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B083-BA4E-4449-B6E1-AAA43D7D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8BBA-17B0-4859-B984-FA865116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AEB13-8E32-473C-AB9E-E26F9782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DF93-ADFA-4DDD-824F-0981668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E4592-68A7-4A91-9B68-43088DA2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9A91-D871-4F98-BD74-4E986BD8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06DB4-E647-4287-B7BD-6F9FCA56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25DC-BE24-4CB7-BA4E-060EA181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029F-F50C-49C4-B4AB-3C07CA7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7790-F33E-4D2B-B295-59ABCB4E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DA1-2D86-4922-A5C3-98D0BE3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E384-9493-4D73-A452-1E7F088B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38BF-D772-4FC0-8216-CB23E78F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8503-8EBD-4432-A36A-0AA4F624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4632E-F712-411F-962F-6B02E0C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5DE70-726D-4836-8896-411409DB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0B616-BD1E-4530-831E-62B9D1AF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EB8C1-18A3-4997-82D6-DB010C1E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87EC-6DD4-4F65-BF39-521D278D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1FE0-F0DF-4B2A-9454-69635E9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E17E5-A910-4315-A8BE-7552B5F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B97-5B93-47BA-A69F-4E20E31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2C49E-A871-43C2-B350-9502121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42E53-A7B5-4D12-8AD9-99C3935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6F753-B4AB-4505-A9A6-5146018B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2632A-5070-4A26-BCF8-201F71F8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FD34-5A7E-41ED-BD40-0F3B2320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7A1-365A-4724-AB54-A5AAD2F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D833-5B2A-4088-9271-362AB2012C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59A6-4BB1-48F3-8796-168E25131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ABFD-89D8-4597-8AA5-E8C9517341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9449-2148-4EAC-99B7-78A86BC82A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3e87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63D-4BD0-40B9-B977-F52449ECEFF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F576-1FB2-4AA7-BE99-E7A47AA02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28D-549F-4FFE-A65C-71F9965D3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58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00E-516C-4DB9-9804-4655028D6E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&amp; Syste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c04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97F-29A3-435C-B44B-EC044DCB9A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ains internetwork performance at acceptable 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easuring and managing various network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variables include network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 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r response times, line utilization, a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Performance management involves three basic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her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ng to key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z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etermine the normal (baseline) performance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rmining appropriate performance levels for each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that exceeding these levels indicates a network problem worthy of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4F4-7F0F-4282-B94F-3353DA76EF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866880" y="1249200"/>
            <a:ext cx="7466040" cy="4876920"/>
            <a:chOff x="866880" y="1249200"/>
            <a:chExt cx="7466040" cy="4876920"/>
          </a:xfrm>
        </p:grpSpPr>
        <p:pic>
          <p:nvPicPr>
            <p:cNvPr id="389" name="Picture 4" descr="Mod 2 19 Performance"/>
            <p:cNvPicPr/>
            <p:nvPr/>
          </p:nvPicPr>
          <p:blipFill>
            <a:blip r:embed="rId1"/>
            <a:stretch/>
          </p:blipFill>
          <p:spPr>
            <a:xfrm>
              <a:off x="866880" y="1249200"/>
              <a:ext cx="746604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Group 5"/>
            <p:cNvGrpSpPr/>
            <p:nvPr/>
          </p:nvGrpSpPr>
          <p:grpSpPr>
            <a:xfrm>
              <a:off x="3213000" y="2389680"/>
              <a:ext cx="348120" cy="1959840"/>
              <a:chOff x="3213000" y="2389680"/>
              <a:chExt cx="348120" cy="1959840"/>
            </a:xfrm>
          </p:grpSpPr>
          <p:sp>
            <p:nvSpPr>
              <p:cNvPr id="391" name="Text Box 6"/>
              <p:cNvSpPr/>
              <p:nvPr/>
            </p:nvSpPr>
            <p:spPr>
              <a:xfrm>
                <a:off x="3213000" y="2389680"/>
                <a:ext cx="34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7"/>
              <p:cNvSpPr/>
              <p:nvPr/>
            </p:nvSpPr>
            <p:spPr>
              <a:xfrm>
                <a:off x="3297240" y="27266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8"/>
              <p:cNvSpPr/>
              <p:nvPr/>
            </p:nvSpPr>
            <p:spPr>
              <a:xfrm>
                <a:off x="3297240" y="30643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9"/>
              <p:cNvSpPr/>
              <p:nvPr/>
            </p:nvSpPr>
            <p:spPr>
              <a:xfrm>
                <a:off x="3297240" y="33987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0"/>
              <p:cNvSpPr/>
              <p:nvPr/>
            </p:nvSpPr>
            <p:spPr>
              <a:xfrm>
                <a:off x="3297240" y="37375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1"/>
              <p:cNvSpPr/>
              <p:nvPr/>
            </p:nvSpPr>
            <p:spPr>
              <a:xfrm>
                <a:off x="3297240" y="40730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Text Box 12"/>
            <p:cNvSpPr/>
            <p:nvPr/>
          </p:nvSpPr>
          <p:spPr>
            <a:xfrm>
              <a:off x="3783240" y="4259520"/>
              <a:ext cx="38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453888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5140800" y="4259520"/>
              <a:ext cx="6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061680" y="42595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.1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6"/>
            <p:cNvSpPr/>
            <p:nvPr/>
          </p:nvSpPr>
          <p:spPr>
            <a:xfrm>
              <a:off x="6628680" y="426096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in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6046920" y="44582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049720" y="4458240"/>
              <a:ext cx="75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ax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9"/>
            <p:cNvSpPr/>
            <p:nvPr/>
          </p:nvSpPr>
          <p:spPr>
            <a:xfrm>
              <a:off x="773820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0"/>
            <p:cNvSpPr/>
            <p:nvPr/>
          </p:nvSpPr>
          <p:spPr>
            <a:xfrm>
              <a:off x="6670440" y="4458240"/>
              <a:ext cx="6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1"/>
            <p:cNvSpPr/>
            <p:nvPr/>
          </p:nvSpPr>
          <p:spPr>
            <a:xfrm>
              <a:off x="7822800" y="4458240"/>
              <a:ext cx="3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: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2"/>
            <p:cNvSpPr/>
            <p:nvPr/>
          </p:nvSpPr>
          <p:spPr>
            <a:xfrm>
              <a:off x="3190680" y="47217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3"/>
            <p:cNvSpPr/>
            <p:nvPr/>
          </p:nvSpPr>
          <p:spPr>
            <a:xfrm>
              <a:off x="3676320" y="4721760"/>
              <a:ext cx="47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24"/>
            <p:cNvSpPr/>
            <p:nvPr/>
          </p:nvSpPr>
          <p:spPr>
            <a:xfrm>
              <a:off x="4162680" y="4721760"/>
              <a:ext cx="63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25"/>
            <p:cNvSpPr/>
            <p:nvPr/>
          </p:nvSpPr>
          <p:spPr>
            <a:xfrm>
              <a:off x="5399640" y="472176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6"/>
            <p:cNvSpPr/>
            <p:nvPr/>
          </p:nvSpPr>
          <p:spPr>
            <a:xfrm>
              <a:off x="6284520" y="4721760"/>
              <a:ext cx="54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7"/>
            <p:cNvSpPr/>
            <p:nvPr/>
          </p:nvSpPr>
          <p:spPr>
            <a:xfrm>
              <a:off x="6827760" y="472176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7528320" y="472176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77400" y="4944600"/>
              <a:ext cx="407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0"/>
            <p:cNvSpPr/>
            <p:nvPr/>
          </p:nvSpPr>
          <p:spPr>
            <a:xfrm>
              <a:off x="6395400" y="4929840"/>
              <a:ext cx="328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1"/>
            <p:cNvSpPr/>
            <p:nvPr/>
          </p:nvSpPr>
          <p:spPr>
            <a:xfrm>
              <a:off x="7559280" y="4947480"/>
              <a:ext cx="697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\\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2"/>
            <p:cNvSpPr/>
            <p:nvPr/>
          </p:nvSpPr>
          <p:spPr>
            <a:xfrm>
              <a:off x="6784920" y="4944600"/>
              <a:ext cx="801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hysical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FTP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3"/>
            <p:cNvSpPr/>
            <p:nvPr/>
          </p:nvSpPr>
          <p:spPr>
            <a:xfrm>
              <a:off x="4201200" y="4944600"/>
              <a:ext cx="11941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%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Disk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age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Bytes Received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4"/>
            <p:cNvSpPr/>
            <p:nvPr/>
          </p:nvSpPr>
          <p:spPr>
            <a:xfrm>
              <a:off x="5395680" y="4944600"/>
              <a:ext cx="1012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_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explo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0 C: 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Default FTP S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5"/>
            <p:cNvSpPr/>
            <p:nvPr/>
          </p:nvSpPr>
          <p:spPr>
            <a:xfrm>
              <a:off x="1112760" y="1301040"/>
              <a:ext cx="93132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Perform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6"/>
            <p:cNvSpPr/>
            <p:nvPr/>
          </p:nvSpPr>
          <p:spPr>
            <a:xfrm>
              <a:off x="1286280" y="1454760"/>
              <a:ext cx="695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C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ns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2123280" y="1454760"/>
              <a:ext cx="677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W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d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8"/>
            <p:cNvSpPr/>
            <p:nvPr/>
          </p:nvSpPr>
          <p:spPr>
            <a:xfrm>
              <a:off x="2947320" y="145476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980640" y="1737360"/>
              <a:ext cx="194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tion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40"/>
            <p:cNvSpPr/>
            <p:nvPr/>
          </p:nvSpPr>
          <p:spPr>
            <a:xfrm>
              <a:off x="932760" y="202284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1"/>
            <p:cNvSpPr/>
            <p:nvPr/>
          </p:nvSpPr>
          <p:spPr>
            <a:xfrm>
              <a:off x="1392480" y="2022840"/>
              <a:ext cx="76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2"/>
            <p:cNvSpPr/>
            <p:nvPr/>
          </p:nvSpPr>
          <p:spPr>
            <a:xfrm>
              <a:off x="1113480" y="2255040"/>
              <a:ext cx="108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nsole Ro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3"/>
            <p:cNvSpPr/>
            <p:nvPr/>
          </p:nvSpPr>
          <p:spPr>
            <a:xfrm>
              <a:off x="1324800" y="2386080"/>
              <a:ext cx="1835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Moni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erformance Logs and Al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2048-216E-44EF-BFD2-8A159BECFD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مستطيل 1"/>
          <p:cNvSpPr/>
          <p:nvPr/>
        </p:nvSpPr>
        <p:spPr>
          <a:xfrm>
            <a:off x="533520" y="990720"/>
            <a:ext cx="80010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performance becomes unacceptable (that is, a user-defined threshold is exceeded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d devi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s by sending an alert to the network management system (N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 PM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ment entity continually monitors performance variables in managed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rticular performance threshold is exceeded, the NMS or the managed device detects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managed device detects the problem, it generates an alert and sends it to the N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MS takes an appropriate action, such as alerting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F86-86B6-46F9-97FF-C7F4721CDC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مستطيل 1"/>
          <p:cNvSpPr/>
          <p:nvPr/>
        </p:nvSpPr>
        <p:spPr>
          <a:xfrm>
            <a:off x="533520" y="12952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ro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ulation is used to project how network growth will affect performance metr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se simulations alert administrator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ending problems before they affect network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DC5-47C8-422B-93DE-EAAD9DF152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Task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431280" y="914400"/>
            <a:ext cx="4788720" cy="5229360"/>
            <a:chOff x="431280" y="914400"/>
            <a:chExt cx="4788720" cy="5229360"/>
          </a:xfrm>
        </p:grpSpPr>
        <p:pic>
          <p:nvPicPr>
            <p:cNvPr id="438" name="Picture 4" descr="task manager application"/>
            <p:cNvPicPr/>
            <p:nvPr/>
          </p:nvPicPr>
          <p:blipFill>
            <a:blip r:embed="rId1"/>
            <a:stretch/>
          </p:blipFill>
          <p:spPr>
            <a:xfrm>
              <a:off x="431280" y="914400"/>
              <a:ext cx="4695480" cy="522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9" name="Group 5"/>
            <p:cNvGrpSpPr/>
            <p:nvPr/>
          </p:nvGrpSpPr>
          <p:grpSpPr>
            <a:xfrm>
              <a:off x="435240" y="914400"/>
              <a:ext cx="2878200" cy="513720"/>
              <a:chOff x="435240" y="914400"/>
              <a:chExt cx="2878200" cy="513720"/>
            </a:xfrm>
          </p:grpSpPr>
          <p:sp>
            <p:nvSpPr>
              <p:cNvPr id="440" name="Text Box 6"/>
              <p:cNvSpPr/>
              <p:nvPr/>
            </p:nvSpPr>
            <p:spPr>
              <a:xfrm>
                <a:off x="620640" y="91440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7"/>
              <p:cNvSpPr/>
              <p:nvPr/>
            </p:nvSpPr>
            <p:spPr>
              <a:xfrm>
                <a:off x="435240" y="1136160"/>
                <a:ext cx="28782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W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ndow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8"/>
            <p:cNvGrpSpPr/>
            <p:nvPr/>
          </p:nvGrpSpPr>
          <p:grpSpPr>
            <a:xfrm>
              <a:off x="480600" y="1451160"/>
              <a:ext cx="3003120" cy="291960"/>
              <a:chOff x="480600" y="1451160"/>
              <a:chExt cx="3003120" cy="291960"/>
            </a:xfrm>
          </p:grpSpPr>
          <p:sp>
            <p:nvSpPr>
              <p:cNvPr id="443" name="Text Box 9"/>
              <p:cNvSpPr/>
              <p:nvPr/>
            </p:nvSpPr>
            <p:spPr>
              <a:xfrm>
                <a:off x="480600" y="14511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0"/>
              <p:cNvSpPr/>
              <p:nvPr/>
            </p:nvSpPr>
            <p:spPr>
              <a:xfrm>
                <a:off x="1495440" y="14511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1"/>
              <p:cNvSpPr/>
              <p:nvPr/>
            </p:nvSpPr>
            <p:spPr>
              <a:xfrm>
                <a:off x="2361240" y="14511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12"/>
            <p:cNvSpPr/>
            <p:nvPr/>
          </p:nvSpPr>
          <p:spPr>
            <a:xfrm>
              <a:off x="731160" y="187236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3"/>
            <p:cNvSpPr/>
            <p:nvPr/>
          </p:nvSpPr>
          <p:spPr>
            <a:xfrm>
              <a:off x="3250800" y="187236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tat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947520" y="2033280"/>
              <a:ext cx="24850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Building Schematic - Pa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 to Supervisor - WordP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alcula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y Compu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5"/>
            <p:cNvSpPr/>
            <p:nvPr/>
          </p:nvSpPr>
          <p:spPr>
            <a:xfrm>
              <a:off x="3251160" y="2033280"/>
              <a:ext cx="79344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6"/>
            <p:cNvSpPr/>
            <p:nvPr/>
          </p:nvSpPr>
          <p:spPr>
            <a:xfrm>
              <a:off x="1679040" y="5334840"/>
              <a:ext cx="8758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nd 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2756520" y="5334840"/>
              <a:ext cx="90324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witch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8"/>
            <p:cNvSpPr/>
            <p:nvPr/>
          </p:nvSpPr>
          <p:spPr>
            <a:xfrm>
              <a:off x="3780000" y="53348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N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w Task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19"/>
            <p:cNvGrpSpPr/>
            <p:nvPr/>
          </p:nvGrpSpPr>
          <p:grpSpPr>
            <a:xfrm>
              <a:off x="448920" y="5862960"/>
              <a:ext cx="4771080" cy="276480"/>
              <a:chOff x="448920" y="5862960"/>
              <a:chExt cx="4771080" cy="276480"/>
            </a:xfrm>
          </p:grpSpPr>
          <p:sp>
            <p:nvSpPr>
              <p:cNvPr id="454" name="Text Box 20"/>
              <p:cNvSpPr/>
              <p:nvPr/>
            </p:nvSpPr>
            <p:spPr>
              <a:xfrm>
                <a:off x="448920" y="58881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1"/>
              <p:cNvSpPr/>
              <p:nvPr/>
            </p:nvSpPr>
            <p:spPr>
              <a:xfrm>
                <a:off x="1573200" y="58629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2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2"/>
              <p:cNvSpPr/>
              <p:nvPr/>
            </p:nvSpPr>
            <p:spPr>
              <a:xfrm>
                <a:off x="2774520" y="58629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500K / 310892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23"/>
          <p:cNvGrpSpPr/>
          <p:nvPr/>
        </p:nvGrpSpPr>
        <p:grpSpPr>
          <a:xfrm>
            <a:off x="2073960" y="1203480"/>
            <a:ext cx="4396320" cy="4979520"/>
            <a:chOff x="2073960" y="1203480"/>
            <a:chExt cx="4396320" cy="4979520"/>
          </a:xfrm>
        </p:grpSpPr>
        <p:pic>
          <p:nvPicPr>
            <p:cNvPr id="458" name="Picture 24" descr="task manager Processes"/>
            <p:cNvPicPr/>
            <p:nvPr/>
          </p:nvPicPr>
          <p:blipFill>
            <a:blip r:embed="rId2"/>
            <a:stretch/>
          </p:blipFill>
          <p:spPr>
            <a:xfrm>
              <a:off x="2073960" y="1203480"/>
              <a:ext cx="439632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25"/>
            <p:cNvSpPr/>
            <p:nvPr/>
          </p:nvSpPr>
          <p:spPr>
            <a:xfrm>
              <a:off x="2251800" y="12499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Windows Task Mana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075760" y="1458720"/>
              <a:ext cx="207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le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O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tions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27"/>
            <p:cNvGrpSpPr/>
            <p:nvPr/>
          </p:nvGrpSpPr>
          <p:grpSpPr>
            <a:xfrm>
              <a:off x="2090880" y="5932800"/>
              <a:ext cx="4230720" cy="250200"/>
              <a:chOff x="2090880" y="5932800"/>
              <a:chExt cx="4230720" cy="250200"/>
            </a:xfrm>
          </p:grpSpPr>
          <p:sp>
            <p:nvSpPr>
              <p:cNvPr id="462" name="Text Box 28"/>
              <p:cNvSpPr/>
              <p:nvPr/>
            </p:nvSpPr>
            <p:spPr>
              <a:xfrm>
                <a:off x="2090880" y="59367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29"/>
              <p:cNvSpPr/>
              <p:nvPr/>
            </p:nvSpPr>
            <p:spPr>
              <a:xfrm>
                <a:off x="3146400" y="59328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6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30"/>
              <p:cNvSpPr/>
              <p:nvPr/>
            </p:nvSpPr>
            <p:spPr>
              <a:xfrm>
                <a:off x="4275360" y="593568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452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31"/>
            <p:cNvGrpSpPr/>
            <p:nvPr/>
          </p:nvGrpSpPr>
          <p:grpSpPr>
            <a:xfrm>
              <a:off x="2086920" y="1755360"/>
              <a:ext cx="2880720" cy="291960"/>
              <a:chOff x="2086920" y="1755360"/>
              <a:chExt cx="2880720" cy="291960"/>
            </a:xfrm>
          </p:grpSpPr>
          <p:sp>
            <p:nvSpPr>
              <p:cNvPr id="466" name="Text Box 32"/>
              <p:cNvSpPr/>
              <p:nvPr/>
            </p:nvSpPr>
            <p:spPr>
              <a:xfrm>
                <a:off x="2086920" y="17553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33"/>
              <p:cNvSpPr/>
              <p:nvPr/>
            </p:nvSpPr>
            <p:spPr>
              <a:xfrm>
                <a:off x="3041640" y="17553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34"/>
              <p:cNvSpPr/>
              <p:nvPr/>
            </p:nvSpPr>
            <p:spPr>
              <a:xfrm>
                <a:off x="3845160" y="17553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35"/>
            <p:cNvSpPr/>
            <p:nvPr/>
          </p:nvSpPr>
          <p:spPr>
            <a:xfrm>
              <a:off x="2346120" y="2143800"/>
              <a:ext cx="1122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mage 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6"/>
            <p:cNvSpPr/>
            <p:nvPr/>
          </p:nvSpPr>
          <p:spPr>
            <a:xfrm>
              <a:off x="3623760" y="214380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7"/>
            <p:cNvSpPr/>
            <p:nvPr/>
          </p:nvSpPr>
          <p:spPr>
            <a:xfrm>
              <a:off x="3994920" y="21679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8"/>
            <p:cNvSpPr/>
            <p:nvPr/>
          </p:nvSpPr>
          <p:spPr>
            <a:xfrm>
              <a:off x="4384800" y="216792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9"/>
            <p:cNvSpPr/>
            <p:nvPr/>
          </p:nvSpPr>
          <p:spPr>
            <a:xfrm>
              <a:off x="5109480" y="2167920"/>
              <a:ext cx="936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40"/>
            <p:cNvSpPr/>
            <p:nvPr/>
          </p:nvSpPr>
          <p:spPr>
            <a:xfrm>
              <a:off x="2341800" y="2388240"/>
              <a:ext cx="133452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Idle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m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sr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inlogon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ervice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sass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pool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pain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dt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ojob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fssv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smse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lss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tfr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gsvc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41"/>
            <p:cNvSpPr/>
            <p:nvPr/>
          </p:nvSpPr>
          <p:spPr>
            <a:xfrm>
              <a:off x="3610440" y="2388240"/>
              <a:ext cx="3909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7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42"/>
            <p:cNvSpPr/>
            <p:nvPr/>
          </p:nvSpPr>
          <p:spPr>
            <a:xfrm>
              <a:off x="4104720" y="2388240"/>
              <a:ext cx="3207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4622040" y="2388240"/>
              <a:ext cx="6012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:52: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7: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320440" y="2388240"/>
              <a:ext cx="68508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1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82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4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,2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,76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6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18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5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70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33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1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3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86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1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5"/>
            <p:cNvSpPr/>
            <p:nvPr/>
          </p:nvSpPr>
          <p:spPr>
            <a:xfrm>
              <a:off x="2479680" y="5373720"/>
              <a:ext cx="242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ow processes from all us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46"/>
            <p:cNvSpPr/>
            <p:nvPr/>
          </p:nvSpPr>
          <p:spPr>
            <a:xfrm>
              <a:off x="5085360" y="5396400"/>
              <a:ext cx="111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d Pro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4556520" y="1447920"/>
            <a:ext cx="4268160" cy="4858920"/>
            <a:chOff x="4556520" y="1447920"/>
            <a:chExt cx="4268160" cy="4858920"/>
          </a:xfrm>
        </p:grpSpPr>
        <p:pic>
          <p:nvPicPr>
            <p:cNvPr id="482" name="Picture 48" descr="task manager performance"/>
            <p:cNvPicPr/>
            <p:nvPr/>
          </p:nvPicPr>
          <p:blipFill>
            <a:blip r:embed="rId3"/>
            <a:stretch/>
          </p:blipFill>
          <p:spPr>
            <a:xfrm>
              <a:off x="4561920" y="1447920"/>
              <a:ext cx="4262760" cy="48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Group 49"/>
            <p:cNvGrpSpPr/>
            <p:nvPr/>
          </p:nvGrpSpPr>
          <p:grpSpPr>
            <a:xfrm>
              <a:off x="4556520" y="1447920"/>
              <a:ext cx="2828520" cy="789480"/>
              <a:chOff x="4556520" y="1447920"/>
              <a:chExt cx="2828520" cy="789480"/>
            </a:xfrm>
          </p:grpSpPr>
          <p:sp>
            <p:nvSpPr>
              <p:cNvPr id="484" name="Text Box 50"/>
              <p:cNvSpPr/>
              <p:nvPr/>
            </p:nvSpPr>
            <p:spPr>
              <a:xfrm>
                <a:off x="4735080" y="144792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51"/>
              <p:cNvSpPr/>
              <p:nvPr/>
            </p:nvSpPr>
            <p:spPr>
              <a:xfrm>
                <a:off x="4563720" y="1653480"/>
                <a:ext cx="207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52"/>
              <p:cNvGrpSpPr/>
              <p:nvPr/>
            </p:nvGrpSpPr>
            <p:grpSpPr>
              <a:xfrm>
                <a:off x="4556520" y="1945440"/>
                <a:ext cx="2828520" cy="291960"/>
                <a:chOff x="4556520" y="1945440"/>
                <a:chExt cx="2828520" cy="291960"/>
              </a:xfrm>
            </p:grpSpPr>
            <p:sp>
              <p:nvSpPr>
                <p:cNvPr id="487" name="Text Box 53"/>
                <p:cNvSpPr/>
                <p:nvPr/>
              </p:nvSpPr>
              <p:spPr>
                <a:xfrm>
                  <a:off x="4556520" y="1945440"/>
                  <a:ext cx="10677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Application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54"/>
                <p:cNvSpPr/>
                <p:nvPr/>
              </p:nvSpPr>
              <p:spPr>
                <a:xfrm>
                  <a:off x="5483880" y="1945440"/>
                  <a:ext cx="9489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rocesse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5"/>
                <p:cNvSpPr/>
                <p:nvPr/>
              </p:nvSpPr>
              <p:spPr>
                <a:xfrm>
                  <a:off x="6262560" y="1945440"/>
                  <a:ext cx="11224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erform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56"/>
            <p:cNvGrpSpPr/>
            <p:nvPr/>
          </p:nvGrpSpPr>
          <p:grpSpPr>
            <a:xfrm>
              <a:off x="4578120" y="6060600"/>
              <a:ext cx="4164480" cy="246240"/>
              <a:chOff x="4578120" y="6060600"/>
              <a:chExt cx="4164480" cy="246240"/>
            </a:xfrm>
          </p:grpSpPr>
          <p:sp>
            <p:nvSpPr>
              <p:cNvPr id="491" name="Text Box 57"/>
              <p:cNvSpPr/>
              <p:nvPr/>
            </p:nvSpPr>
            <p:spPr>
              <a:xfrm>
                <a:off x="4578120" y="606060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58"/>
              <p:cNvSpPr/>
              <p:nvPr/>
            </p:nvSpPr>
            <p:spPr>
              <a:xfrm>
                <a:off x="5601600" y="60606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9"/>
              <p:cNvSpPr/>
              <p:nvPr/>
            </p:nvSpPr>
            <p:spPr>
              <a:xfrm>
                <a:off x="6696360" y="606060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1600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60"/>
            <p:cNvSpPr/>
            <p:nvPr/>
          </p:nvSpPr>
          <p:spPr>
            <a:xfrm>
              <a:off x="4834440" y="221940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61"/>
            <p:cNvSpPr/>
            <p:nvPr/>
          </p:nvSpPr>
          <p:spPr>
            <a:xfrm>
              <a:off x="4835160" y="323856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2"/>
            <p:cNvSpPr/>
            <p:nvPr/>
          </p:nvSpPr>
          <p:spPr>
            <a:xfrm>
              <a:off x="5953320" y="221940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63"/>
            <p:cNvSpPr/>
            <p:nvPr/>
          </p:nvSpPr>
          <p:spPr>
            <a:xfrm>
              <a:off x="5954760" y="3238560"/>
              <a:ext cx="185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ry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4"/>
            <p:cNvSpPr/>
            <p:nvPr/>
          </p:nvSpPr>
          <p:spPr>
            <a:xfrm>
              <a:off x="4863600" y="431388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65"/>
            <p:cNvSpPr/>
            <p:nvPr/>
          </p:nvSpPr>
          <p:spPr>
            <a:xfrm>
              <a:off x="4860720" y="5094000"/>
              <a:ext cx="13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it Charge (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66"/>
            <p:cNvSpPr/>
            <p:nvPr/>
          </p:nvSpPr>
          <p:spPr>
            <a:xfrm>
              <a:off x="6781320" y="4290120"/>
              <a:ext cx="148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ysica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67"/>
            <p:cNvSpPr/>
            <p:nvPr/>
          </p:nvSpPr>
          <p:spPr>
            <a:xfrm>
              <a:off x="6780240" y="5070240"/>
              <a:ext cx="1366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erne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68"/>
            <p:cNvSpPr/>
            <p:nvPr/>
          </p:nvSpPr>
          <p:spPr>
            <a:xfrm>
              <a:off x="5106600" y="2891160"/>
              <a:ext cx="41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69"/>
            <p:cNvSpPr/>
            <p:nvPr/>
          </p:nvSpPr>
          <p:spPr>
            <a:xfrm>
              <a:off x="4908960" y="3912120"/>
              <a:ext cx="88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10 1600</a:t>
              </a:r>
              <a:r>
                <a:rPr b="0" lang="en-US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70"/>
            <p:cNvSpPr/>
            <p:nvPr/>
          </p:nvSpPr>
          <p:spPr>
            <a:xfrm>
              <a:off x="4874040" y="4464000"/>
              <a:ext cx="83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and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rea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s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71"/>
            <p:cNvSpPr/>
            <p:nvPr/>
          </p:nvSpPr>
          <p:spPr>
            <a:xfrm>
              <a:off x="4875120" y="5244120"/>
              <a:ext cx="49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i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ea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72"/>
            <p:cNvSpPr/>
            <p:nvPr/>
          </p:nvSpPr>
          <p:spPr>
            <a:xfrm>
              <a:off x="6785640" y="4464000"/>
              <a:ext cx="109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Ca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73"/>
            <p:cNvSpPr/>
            <p:nvPr/>
          </p:nvSpPr>
          <p:spPr>
            <a:xfrm>
              <a:off x="6787440" y="5244120"/>
              <a:ext cx="825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on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74"/>
            <p:cNvSpPr/>
            <p:nvPr/>
          </p:nvSpPr>
          <p:spPr>
            <a:xfrm>
              <a:off x="6078960" y="4464000"/>
              <a:ext cx="491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9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8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75"/>
            <p:cNvSpPr/>
            <p:nvPr/>
          </p:nvSpPr>
          <p:spPr>
            <a:xfrm>
              <a:off x="7887600" y="446400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306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77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0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76"/>
            <p:cNvSpPr/>
            <p:nvPr/>
          </p:nvSpPr>
          <p:spPr>
            <a:xfrm>
              <a:off x="5923800" y="524412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1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1089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1689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77"/>
            <p:cNvSpPr/>
            <p:nvPr/>
          </p:nvSpPr>
          <p:spPr>
            <a:xfrm>
              <a:off x="7965000" y="5244120"/>
              <a:ext cx="569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8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0398-1FEF-45F7-BB72-7BBF770E6A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Secur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مستطيل 1"/>
          <p:cNvSpPr/>
          <p:nvPr/>
        </p:nvSpPr>
        <p:spPr>
          <a:xfrm>
            <a:off x="533520" y="8380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Access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s access to network resources, and prevents network sabotage (intentional or unintentional) and unauthorized access to sensitiv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ids administ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reating a secure network environment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network resources into authorized and unauthorized are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groups of users to those areas, and monitoring, policing, and logging user access to resources in tho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Security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vent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analysis, correlation and aler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60D-64C1-44CE-9565-E0745221A7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مستطيل 1"/>
          <p:cNvSpPr/>
          <p:nvPr/>
        </p:nvSpPr>
        <p:spPr>
          <a:xfrm>
            <a:off x="533520" y="1295280"/>
            <a:ext cx="8153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network management system (NM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ction of tools for network monitoring and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manager-agent paradig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MS typically provides a GUI through which most or all management tas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Many commercial and freely available NMSs exi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OpenView, IBM NetView, Sun Net Manager, Cisco work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n 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NMS , Nagio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6D6-41BD-46E7-A91A-107CB484F8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مستطيل 1"/>
          <p:cNvSpPr/>
          <p:nvPr/>
        </p:nvSpPr>
        <p:spPr>
          <a:xfrm>
            <a:off x="533520" y="147636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Internet Network Management Framework (IE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OSI Network Management Framework (ISO/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IP (X.7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Telecommunication Management Network (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N (M.30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B79-9405-4813-B02F-3E4D495427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مستطيل 3"/>
          <p:cNvSpPr/>
          <p:nvPr/>
        </p:nvSpPr>
        <p:spPr>
          <a:xfrm>
            <a:off x="-324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مستطيل 1"/>
          <p:cNvSpPr/>
          <p:nvPr/>
        </p:nvSpPr>
        <p:spPr>
          <a:xfrm>
            <a:off x="533520" y="147636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Distributed Management Task Force (DM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I, CIM, W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Tele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NM, eTOM,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C86-2897-45EF-843D-1AFFA867A6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Introduction to Cloud OS &amp;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87d6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780-2EEE-44A7-A489-7B7E043391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Network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1"/>
          <p:cNvSpPr/>
          <p:nvPr/>
        </p:nvSpPr>
        <p:spPr>
          <a:xfrm>
            <a:off x="380880" y="137160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sure that the users of a network receive the IT services with th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rvice (QoS) that they exp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Network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loyment, integration and coordination of the hardware, software, and human 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, test, configure, analyze, evaluate, and control the network and element resources to mee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-time, operational performance, and Quality of Service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reasonable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94F-B204-49F4-8ED2-B0A83B7346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مستطيل 1"/>
          <p:cNvSpPr/>
          <p:nvPr/>
        </p:nvSpPr>
        <p:spPr>
          <a:xfrm>
            <a:off x="380880" y="1430280"/>
            <a:ext cx="8534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loud Computing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is a general term 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describe a new class of network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ased computing that takes plac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over the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A collection/group of integrated and networked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hardware, software and Internet infrastructu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(called a platfo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sing the Internet for communication and transport provides hardware, software and networking services to cl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Thes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platforms hide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complexity and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details of the underlying infrastructure from users and application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by providing very simple graphical interface or API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(Applications Programming Inter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F960-8638-4307-9418-F6104DCE49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مستطيل 1"/>
          <p:cNvSpPr/>
          <p:nvPr/>
        </p:nvSpPr>
        <p:spPr>
          <a:xfrm>
            <a:off x="533520" y="1430280"/>
            <a:ext cx="8381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In addition, the platform provide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on demand services, that are always on, anywhere, anytime and any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Pay for use and as needed, elastic scal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p and down in capacity and functiona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Th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hardware and software services are available to general public, enterprises, corporations and businesses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3985-A265-4287-8825-EF7FC01C8B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What is Cloud Compu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مستطيل 1"/>
          <p:cNvSpPr/>
          <p:nvPr/>
        </p:nvSpPr>
        <p:spPr>
          <a:xfrm>
            <a:off x="533520" y="5105520"/>
            <a:ext cx="78483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Shared pool of configurable computing resour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On-demand network ac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- Provisioned by the Service Prov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"/>
          <p:cNvPicPr/>
          <p:nvPr/>
        </p:nvPicPr>
        <p:blipFill>
          <a:blip r:embed="rId1"/>
          <a:stretch/>
        </p:blipFill>
        <p:spPr>
          <a:xfrm>
            <a:off x="647640" y="1143000"/>
            <a:ext cx="7846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0EA2-C6ED-4CB9-8E52-12D3123B75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Clou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مستطيل 1"/>
          <p:cNvSpPr/>
          <p:nvPr/>
        </p:nvSpPr>
        <p:spPr>
          <a:xfrm>
            <a:off x="498600" y="1371600"/>
            <a:ext cx="822960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Cloud computing is an umbrella term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used to refer to Internet based development and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A number of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haracteristics define cloud data, applications services and infra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ly hosted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Services or data are hosted on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emote infrastructu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biquitous: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Services or data are available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from an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ditized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result is a utility computing model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similar to traditional that of traditional ut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18C0-9740-4E6D-BBD0-D27D8D853B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Cloud Service Models and lay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https://upload.wikimedia.org/wikipedia/commons/3/3c/Cloud_computing_layers.png"/>
          <p:cNvPicPr/>
          <p:nvPr/>
        </p:nvPicPr>
        <p:blipFill>
          <a:blip r:embed="rId1"/>
          <a:stretch/>
        </p:blipFill>
        <p:spPr>
          <a:xfrm>
            <a:off x="2058840" y="1454040"/>
            <a:ext cx="518004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246D-5AB4-4B34-8D60-C8305FDC61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Software as a Service (Sa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مستطيل 1"/>
          <p:cNvSpPr/>
          <p:nvPr/>
        </p:nvSpPr>
        <p:spPr>
          <a:xfrm>
            <a:off x="498600" y="1371600"/>
            <a:ext cx="82296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aaS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is a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model of software deployment where an application is hosted as a service provided to customers across the Inter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The benefits of S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You can sign up and rapidly start using innovative business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pps and data are accessible from any connected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o data is lost if your computer breaks, as data is in the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he service is able to dynamically scale to usag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1139760"/>
            <a:ext cx="883908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Platform as a service (PaaS)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2680" indent="-1825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31b6f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latform as a service provides a cloud-based environment with everything required to support the complete lifecycle of building and delivering web-based (cloud) applications — without the cost and complexity of buying and managing the underlying hardware, software, provisioning, and hosting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404040"/>
                </a:solidFill>
                <a:uFillTx/>
                <a:latin typeface="Calibri"/>
              </a:rPr>
              <a:t>The benefits of PaaS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Develop applications and get to market faster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Deploy new web applications to the cloud in minutes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Calibri"/>
              </a:rPr>
              <a:t>Reduce complexity with middleware as a service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0A29-3337-431B-A179-1A69230F91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Infrastructure as a service (IaaS)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frastructure as a service provides companies with computing resources including servers, networking, storage, and data center space on a pay-per-use basi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040"/>
                </a:solidFill>
                <a:uFillTx/>
                <a:latin typeface="Calibri"/>
              </a:rPr>
              <a:t>The benefits of Iaa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No need to invest in your own hardwa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frastructure scales on demand to support dynamic workload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lexible, innovative services available on deman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7241-1002-4096-BA36-BA0A44DC65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788-81CF-4DDF-9151-97D58B6001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مستطيل 1"/>
          <p:cNvSpPr/>
          <p:nvPr/>
        </p:nvSpPr>
        <p:spPr>
          <a:xfrm>
            <a:off x="498600" y="1295280"/>
            <a:ext cx="8229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Lower computer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do not need a high-powered and high-priced computer to run cloud computing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mproved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few large programs hogging your computer's memory, you will see better performance from your P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Reduced software co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ead of purchasing expensive software applications, you can get most of what you need for free-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E8FB-2615-4AF1-A8E4-08F9F2ACB3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مستطيل 1"/>
          <p:cNvSpPr/>
          <p:nvPr/>
        </p:nvSpPr>
        <p:spPr>
          <a:xfrm>
            <a:off x="453960" y="1057320"/>
            <a:ext cx="822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nstant software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other advantage to cloud computing is that you are no longer faced with choosing between obsolete software and high upgrade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mproved document format compat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do not have to worry about the documents you create on your machine being compatible with other users' applications or 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Unlimited storage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computing offers virtually limitless sto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A2D-C392-431C-9AAF-C0E05F5615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Down View of NM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كائن 2"/>
          <p:cNvGraphicFramePr/>
          <p:nvPr/>
        </p:nvGraphicFramePr>
        <p:xfrm>
          <a:off x="533520" y="1041480"/>
          <a:ext cx="83055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كائن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1480"/>
                    <a:ext cx="83055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E985-2AB6-4F03-A570-C2D7E675AE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مستطيل 1"/>
          <p:cNvSpPr/>
          <p:nvPr/>
        </p:nvSpPr>
        <p:spPr>
          <a:xfrm>
            <a:off x="482760" y="103032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Increased data reli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desktop computing, in which if a hard disk crashes and destroy all your valuable data, a computer crashing in the cloud should not affect the storage of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Universal document ac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is not a problem with cloud computing, because you do not take your documents with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Latest version avail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you edit a document at home, that edited version is what you see when you access the document at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625-4D33-497B-BE84-C73702D18C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482760" y="1030320"/>
            <a:ext cx="8229600" cy="58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Easier group collabo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ing documents leads directly to better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users do this as it is an important advantages of cloud comp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Device independ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are no longer tethered to a single computer or net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s to computers, applications and documents follow you through the c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 to a portable device, and your applications and documents are still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DBB-C17C-4047-A2BC-369950BCE7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Dis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مستطيل 1"/>
          <p:cNvSpPr/>
          <p:nvPr/>
        </p:nvSpPr>
        <p:spPr>
          <a:xfrm>
            <a:off x="453960" y="1219320"/>
            <a:ext cx="822960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Requires a constant Internet conn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ud computing is impossible if you cannot connect to the Intern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ad Internet connection means no work and in areas where Internet connections are few or inherently unreliable, this could be a deal-break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Does not work well with low-speed conn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ly, a low-speed Internet connection, such as that found with dial-up services, makes cloud computing painful at best and often impos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99B-CDD3-4EB0-9528-8AD4DB4CA2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Disadvantages of Clou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مستطيل 1"/>
          <p:cNvSpPr/>
          <p:nvPr/>
        </p:nvSpPr>
        <p:spPr>
          <a:xfrm>
            <a:off x="453960" y="749160"/>
            <a:ext cx="82296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Can be sl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 with a fast connection, web-based applications can sometimes be slower than accessing a similar software program on your desktop P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tored data might not be sec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loud computing, all your data is stored on the c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Stored data can be l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ly, data stored in the cloud is safe, replicated across multiple machi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on the off chance that your data goes missing, you have no physical or local back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EBD7-43E4-498D-86A9-A089FBBAC7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مستطيل 1"/>
          <p:cNvSpPr/>
          <p:nvPr/>
        </p:nvSpPr>
        <p:spPr>
          <a:xfrm>
            <a:off x="498600" y="852480"/>
            <a:ext cx="82296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Virtual workspa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An abstraction of an </a:t>
            </a:r>
            <a:r>
              <a:rPr b="0" lang="en-US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xecution environment that can be made dynamically available to authorized clients by using well-defined protocols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source quota (e.g. CPU, memory shar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Software configuration (e.g. O/S, provided servic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743200" y="3146400"/>
            <a:ext cx="32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6C3-A7FA-47B4-B824-3B09ECCE40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Virtual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مستطيل 1"/>
          <p:cNvSpPr/>
          <p:nvPr/>
        </p:nvSpPr>
        <p:spPr>
          <a:xfrm>
            <a:off x="550800" y="1143000"/>
            <a:ext cx="80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4584d3"/>
                </a:solidFill>
                <a:latin typeface="Arial"/>
                <a:ea typeface="Arial"/>
              </a:rPr>
              <a:t>VM technolog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ows multiple virtual machines to run on a single physical machine.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rcRect l="0" t="0" r="10283" b="0"/>
          <a:stretch/>
        </p:blipFill>
        <p:spPr>
          <a:xfrm>
            <a:off x="995400" y="2184480"/>
            <a:ext cx="7421400" cy="3073320"/>
          </a:xfrm>
          <a:prstGeom prst="rect">
            <a:avLst/>
          </a:prstGeom>
          <a:ln w="0">
            <a:noFill/>
          </a:ln>
        </p:spPr>
      </p:pic>
      <p:sp>
        <p:nvSpPr>
          <p:cNvPr id="580" name="مستطيل 2"/>
          <p:cNvSpPr/>
          <p:nvPr/>
        </p:nvSpPr>
        <p:spPr>
          <a:xfrm>
            <a:off x="838080" y="5326200"/>
            <a:ext cx="5926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erformance: Para-virtualization (e.g. Xen) is very close to raw physical performa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5DFB-FFF8-47E6-8043-7ED4925FAC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Bold Italic Art"/>
              </a:rPr>
              <a:t>Advantages of Virtual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مستطيل 1"/>
          <p:cNvSpPr/>
          <p:nvPr/>
        </p:nvSpPr>
        <p:spPr>
          <a:xfrm>
            <a:off x="498600" y="1371600"/>
            <a:ext cx="822960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Run operating systems where the physical hardware is un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asier to create new machines, backup machin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mulate more machines than are physically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Timeshare lightly loaded systems on one h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Debug problems (suspend and resume the problem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Easy migration of virtual machines (shutdown needed or n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F63-4FA3-4FD0-8156-0799A573EF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26A-A078-4F12-BDFF-7054B1EDF4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M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380880" y="12193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ction, isolation and correction of abnorma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y managed resources and their connectivity, dis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ount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ep track of usage for char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 and evaluate the behavior of manage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r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w only authorized access and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مستطيل 1"/>
          <p:cNvSpPr/>
          <p:nvPr/>
        </p:nvSpPr>
        <p:spPr>
          <a:xfrm>
            <a:off x="3590640" y="5589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2e65"/>
                </a:solidFill>
                <a:latin typeface="Arial"/>
                <a:ea typeface="Dotum"/>
              </a:rPr>
              <a:t>FC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0A6-64A1-4AE1-8FCE-6CECFB8ABA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s network problems to keep the network running reliably and effici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Fault management process involv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ng the problem sympt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ng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 the problem automatically (if possible) or manu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 the detection and resolution of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DDE4-9483-49A6-BF8B-074B396419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1"/>
          <p:cNvSpPr/>
          <p:nvPr/>
        </p:nvSpPr>
        <p:spPr>
          <a:xfrm>
            <a:off x="533520" y="147636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Managem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s network and system configuration information and stores it in a configuration management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 of this database allows network administrators to </a:t>
            </a:r>
            <a:r>
              <a:rPr b="0" lang="en-US" sz="1800" spc="-1" strike="noStrike" u="sng">
                <a:solidFill>
                  <a:srgbClr val="052e65"/>
                </a:solidFill>
                <a:uFillTx/>
                <a:latin typeface="Arial"/>
              </a:rPr>
              <a:t>tr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hardware, software, and other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1"/>
          <p:cNvPicPr/>
          <p:nvPr/>
        </p:nvPicPr>
        <p:blipFill>
          <a:blip r:embed="rId1"/>
          <a:stretch/>
        </p:blipFill>
        <p:spPr>
          <a:xfrm>
            <a:off x="1187280" y="4292640"/>
            <a:ext cx="6210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EEA-89E6-4292-BF7D-9E3089C695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"/>
          <p:cNvSpPr/>
          <p:nvPr/>
        </p:nvSpPr>
        <p:spPr>
          <a:xfrm>
            <a:off x="533520" y="1476360"/>
            <a:ext cx="8001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e65"/>
                </a:solidFill>
                <a:latin typeface="Arial"/>
              </a:rPr>
              <a:t>Each network device has a variety of information associated with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operating system, protocol software, or management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rd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faces or hardware controll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information indicating who to contact if problems with the device ar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ing the physical location of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48C-AC41-4621-A2B5-2ED6390496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"/>
          <p:cNvSpPr/>
          <p:nvPr/>
        </p:nvSpPr>
        <p:spPr>
          <a:xfrm>
            <a:off x="533520" y="12193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M Information Associated with a Managed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m0283.gif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72DD-0786-4560-8B77-C10564106E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ccount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1"/>
          <p:cNvSpPr/>
          <p:nvPr/>
        </p:nvSpPr>
        <p:spPr>
          <a:xfrm>
            <a:off x="533520" y="1476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s network </a:t>
            </a:r>
            <a:r>
              <a:rPr b="1" lang="en-US" sz="1800" spc="-1" strike="noStrike" u="sng">
                <a:solidFill>
                  <a:srgbClr val="052e65"/>
                </a:solidFill>
                <a:uFillTx/>
                <a:latin typeface="Arial"/>
              </a:rPr>
              <a:t>uti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rameters in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gulate individual and group uses of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imizes network problems and maximizes fairness of user access to the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network resources can be portioned based on network capacity and user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Sarona</cp:lastModifiedBy>
  <dcterms:modified xsi:type="dcterms:W3CDTF">2017-12-10T03:32:07Z</dcterms:modified>
  <cp:revision>131</cp:revision>
  <dc:subject/>
  <dc:title>Computer Networks</dc:title>
</cp:coreProperties>
</file>