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60B-253B-4FC1-9194-C30CDDF6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496-89FD-4B88-B30D-C8D72B5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FB0-963C-4593-A0AC-BA364138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013-516A-42CD-8A5D-FA9C042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FA7-9C93-422A-8DA1-9D780378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1754-E709-42C2-915D-2EAE4A1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F61-F145-41E5-8495-E298120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05F3-C397-44DF-A15F-2FE0472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0C24-A224-41A2-9BD1-2F3F6E57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676A-EEF9-47FA-8736-15C919E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742-4DCC-4E03-B93F-A5AB407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441-B596-4462-A1E6-1686153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6DA-4098-44A7-B45E-D3A540A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66B9-A7D3-4B7B-A125-34039ED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6B7-20CF-490C-99E9-B36AE3B8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8E22-06D5-46FE-837C-297783C4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9B1-C769-4DA8-8D29-8AB1FCB2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238C-9B96-49EF-9B30-ED0406EF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BDCC-6FB3-48C2-B67D-E0749C7C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36CF-DE7F-4526-87A7-FB3958AB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3A55-BF6A-4615-BFF5-A3CE945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DF8C-AD48-4589-8975-1F0AD418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305-E2BB-43BA-9438-BFBBA4F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A302-5DA6-480B-AC25-0EF00F4B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BDAA-CCBB-47F3-9FB3-86DEDDE6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C937-6FF4-4796-A687-5A6D6B3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4644-D79A-4F50-B08D-31D79038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B274-4194-46EB-A85A-1EDE320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761D-F18E-43BB-A7AE-EC4B3DB2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4B03-092B-4A2B-86EE-A42B839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607D-7B2B-425D-A332-CC5175BC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2D4C-039F-4E26-8485-ABF06E4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7ED8-9F83-4451-A411-AF0A6C2C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8B4-8667-49E8-8DA0-9F9BBBF9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FDFC-76F8-487E-BC98-C371EF5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61A6-DC55-468A-A411-5D8CD3F2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3C7E-1069-4F3B-9649-3B68643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53D44-186A-41E2-9A23-93AE399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CD1C-704F-4ADC-9EB9-8BFB0552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3B90-8F2C-4B90-984A-FC14EE6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34C5-6DCF-4047-AEA4-62750B5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DF15-B280-46B3-8C35-5484ED2D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2441-849E-42C9-932B-F6E29C54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B00A-8BC1-4085-A40A-C6C9FB9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37D-92C9-48B1-8D8A-B0DC60AF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5F2F-3AFB-4629-907B-6588AEE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6D81-E484-4E36-93D1-0966709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F42F-6DA2-483E-B15C-31CCF457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6469-B19B-4253-8664-566B39AE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3D76-0E83-408F-A5A7-1809006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E5B0-9759-497B-9E69-FB7E0DF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FDD2-CC11-44C4-BF75-8EE311C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BD9C-6B87-4FF7-9547-2BCC08D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6195-BF26-4E12-B4B3-B06F7B06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848A-4A16-48AB-8578-694ABD44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A60-6622-44A2-8D42-4C8FCD6C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8BEE-3AD8-4D77-A0BD-BE4AF63E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6D9-24E5-4642-8DDF-DDC861A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0E0-2551-4968-8B90-881C3C4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DAC-5CAC-4802-BD37-C28F5D5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916-BF75-40FE-84A2-3FA85634FBD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C7F-8FC2-4FBA-8E9D-74E9F667075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45B9-B68B-4EFC-BFF4-7DDA0022D1F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842C-9D8A-4494-BE89-B631FF92FB3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41FD-34D4-4063-8314-90681306AD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nalmunyif@yaho.com" TargetMode="External"/><Relationship Id="rId2" Type="http://schemas.openxmlformats.org/officeDocument/2006/relationships/hyperlink" Target="http://fac.ksu.edu.sa/nalmunyi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67640" cy="237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An Introduction to Java Language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27702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9766f"/>
                </a:solidFill>
                <a:latin typeface="Verdana"/>
              </a:rPr>
              <a:t>CT151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ooter Placeholder 9"/>
          <p:cNvSpPr/>
          <p:nvPr/>
        </p:nvSpPr>
        <p:spPr>
          <a:xfrm>
            <a:off x="755640" y="595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399"/>
                </a:solidFill>
                <a:latin typeface="Verdana"/>
              </a:rPr>
              <a:t>2013-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5867280" y="3860640"/>
            <a:ext cx="2233800" cy="223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539640" y="4724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Credit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(3 Lecture, 2 La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dance i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ry importa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! You are allowed to mis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%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lectures only or you will not be allowed to enter the fi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Late attendance is not consid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6819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39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Warn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55640" y="1268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 work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oup work 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 before the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ust submit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oft and H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 of your work named a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bject should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b #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eating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Tahoma"/>
              </a:rPr>
              <a:t>قال  الرسول صلى الله عليه و سلم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Tahoma"/>
              </a:rPr>
              <a:t> ( من غشنا فليس منا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Tahoma"/>
              </a:rPr>
              <a:t>أي خير ترتجي إذا تخلى عنكِ الرسول صلى الله عليه و سلم و أعلن البراءة منكِ ؟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eating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483920"/>
            <a:ext cx="8183520" cy="497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wo or more assignments are found to be copied, then each student will ge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ero ma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rrespective of whether she copied or did herself and allowed to cop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if the Cheating repeated for the second time I will start using the minus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are not allowed to copy from a former student or th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Lecturer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f M. Almunyi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mail: 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Comic Sans MS"/>
                <a:hlinkClick r:id="rId1"/>
              </a:rPr>
              <a:t>nalmunyif@yahoo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Comic Sans MS"/>
                <a:hlinkClick r:id="rId2"/>
              </a:rPr>
              <a:t>http://fac.ksu.edu.sa/nalmuny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get to update your phone number in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dug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Text boo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Content Placeholder 4" descr="An-Introduction-to-Object-Oriented-Programming-with-Java-Wu-C-Thomas-9780073523309.jpg"/>
          <p:cNvPicPr/>
          <p:nvPr/>
        </p:nvPicPr>
        <p:blipFill>
          <a:blip r:embed="rId1"/>
          <a:stretch/>
        </p:blipFill>
        <p:spPr>
          <a:xfrm>
            <a:off x="4284720" y="692280"/>
            <a:ext cx="4032360" cy="502596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Referen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Content Placeholder 6" descr="1375778829_500244732_1-New-100-Copies-Java-How-To-Program-9th-Edition-By-Paul-Deitel-Harvey-Deitel-Darya-Ganj.jpg"/>
          <p:cNvPicPr/>
          <p:nvPr/>
        </p:nvPicPr>
        <p:blipFill>
          <a:blip r:embed="rId1"/>
          <a:stretch/>
        </p:blipFill>
        <p:spPr>
          <a:xfrm>
            <a:off x="4572000" y="692280"/>
            <a:ext cx="36511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Referen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Content Placeholder 5" descr="51DlyoFnpzL.jpg"/>
          <p:cNvPicPr/>
          <p:nvPr/>
        </p:nvPicPr>
        <p:blipFill>
          <a:blip r:embed="rId1"/>
          <a:stretch/>
        </p:blipFill>
        <p:spPr>
          <a:xfrm>
            <a:off x="4427640" y="620640"/>
            <a:ext cx="4024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d3e"/>
                </a:solidFill>
                <a:uFillTx/>
                <a:latin typeface="Verdana"/>
              </a:rPr>
              <a:t>Software:</a:t>
            </a:r>
            <a:br>
              <a:rPr sz="3200"/>
            </a:br>
            <a:r>
              <a:rPr b="0" lang="en-US" sz="3200" spc="-1" strike="noStrike">
                <a:solidFill>
                  <a:srgbClr val="ff8d3e"/>
                </a:solidFill>
                <a:latin typeface="Verdana"/>
              </a:rPr>
              <a:t>JCreator , JDK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964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rst install JD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Java Standard Edition  Development Kit 7 Downloa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install JCre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Creator LE ver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225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Hello Worl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11280" y="169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your program insta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writing a “Hello world” 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find how to do that 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129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opic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052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fundamental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es a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and Polymorph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al User Interfaces, SWING and the AWT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Assessment Plan for the Course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28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          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pro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%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ation 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Midterm  ex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Lab Exam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Exam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     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     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1:31:42Z</dcterms:created>
  <dc:creator>user</dc:creator>
  <dc:description/>
  <dc:language>en-US</dc:language>
  <cp:lastModifiedBy>Nouf</cp:lastModifiedBy>
  <dcterms:modified xsi:type="dcterms:W3CDTF">2014-02-02T07:34:00Z</dcterms:modified>
  <cp:revision>15</cp:revision>
  <dc:subject/>
  <dc:title>CT15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4F437039927A543A00F97AA22B90B52</vt:lpwstr>
  </property>
</Properties>
</file>