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571-57A6-40B9-BF0E-19FF788C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234-E943-472D-9A83-D551777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0B6-C535-4333-A2A3-6A886BE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54C-7CFD-4B24-80C0-D1825C84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2A5-68F3-49B6-9085-BACD99A5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273-5E15-421A-AAED-7DD8797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994-A732-4688-B754-ECA21E5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5913-E2E0-49A0-9E68-02457A9F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5FC-5CAC-4D90-A438-A17B5C3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AB68-3A94-4231-AB06-6FC78993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832-0B65-4D35-8B3B-8D0848F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DC6-7E59-4B2D-BC93-D3D8A11B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C4EC-0A54-4348-813B-9E0D37E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42D1-1062-4AEF-A8F6-88974EF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0A5-FF26-42EA-91DB-05A0264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8886-8EB5-412F-8BB6-96B820FB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C85F-D810-4A18-9509-669565BD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9E32-A31C-4B5B-9BC7-D1931D45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2D35-1973-4529-A923-AB85F119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DC12-67DA-432F-ADAF-529B946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C0ED-D7EC-49A2-9C7A-303A70AD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FD72-7D67-42D3-80A9-A53F382A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E4A-457F-42E5-A17D-0F66840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97EE-7DB5-4F6C-884C-0CD09AE5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56D8-AFFF-4869-BDF5-AFB8D3C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EBC0-0F93-4A85-9679-808FF53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95B4-4BAC-470A-A393-759FD93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0793-A0F1-40CE-AA95-ACA4E92D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23EF-F723-4B56-BF10-BCE3B0BB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0DB-3559-4D14-925A-02189CC1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2A57-44F7-4A60-9909-7EDC179E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4A9C4-27BE-42F0-81E6-9E7FD4E7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DFC3-1C5F-48CA-B2F8-F89230F1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C73-BA40-4031-983B-B435788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16B7-02A7-4EAE-A6F6-04E95F90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E54A-2B71-4072-8452-D929F4BC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0389-9056-4856-88E5-501775C8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2923-6871-4976-80B3-66AF12C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7814-0BBD-447C-9D9E-421E151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83FF-978A-411C-8FE8-49401E0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FB9B-36B4-4F2A-928E-092C3CB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E227-A131-4A9D-ACD9-61F04F58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B4EC-F3A5-4C68-9D54-7CD0D93F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799F-63C7-477A-8431-61993D81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68A-B4AE-4F0C-89ED-3E7DBEA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C667-6AB7-425F-9035-27813AE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9F73-3C4A-47F2-A54C-80D999F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76C4-0933-4584-9041-5EA2260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908B-E9A5-40DF-9DC3-DB6CEEF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F010D-3D6F-4E27-9361-85F04F2E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0FB5-FCEE-4961-AC99-863A805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7F705-4BC3-41AB-A703-AFC43A1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AC63-5C7E-408D-A3DD-E396AF4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5A9D2-AE38-4FC7-BA0D-47DCA911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FA129-A102-4058-BE25-039A664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AD2-8534-4A47-AFBF-7F0FA83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69D5-5E28-4461-A90B-16E707BC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E9A-B542-4882-A1BE-53F56BA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383-37E2-4655-B752-6181770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AD2-4570-4AA1-9896-E9B82A9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4A3F-019C-4145-A28E-8B37F18AEE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ADB-893C-49FD-9C97-A887D6C6655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F715-76BD-4CD7-B705-67DDF49002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CA06-F213-41EB-97F0-C882DB34DED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0F86-186D-4878-9AD6-FA66D160301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almunyif@yaho.com" TargetMode="External"/><Relationship Id="rId2" Type="http://schemas.openxmlformats.org/officeDocument/2006/relationships/hyperlink" Target="http://fac.ksu.edu.sa/nalmunyi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67640" cy="237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An Introduction to Java Language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27702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9766f"/>
                </a:solidFill>
                <a:latin typeface="Verdana"/>
              </a:rPr>
              <a:t>CT151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ooter Placeholder 9"/>
          <p:cNvSpPr/>
          <p:nvPr/>
        </p:nvSpPr>
        <p:spPr>
          <a:xfrm>
            <a:off x="755640" y="595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399"/>
                </a:solidFill>
                <a:latin typeface="Verdana"/>
              </a:rPr>
              <a:t>2013-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5867280" y="3860640"/>
            <a:ext cx="2233800" cy="223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539640" y="4724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Credit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(3 Lecture, 2 La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dance i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ry importa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! You are allowed to mis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%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lectures only or you will not be allowed to enter the fi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Late attendance is not consid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6819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39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55640" y="1268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 work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oup work 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before the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ust submit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oft and H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 of your work named a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bject should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b #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eating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Tahoma"/>
              </a:rPr>
              <a:t>قال  الرسول صلى الله عليه و سلم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Tahoma"/>
              </a:rPr>
              <a:t> ( من غشنا فليس منا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Tahoma"/>
              </a:rPr>
              <a:t>أي خير ترتجي إذا تخلى عنكِ الرسول صلى الله عليه و سلم و أعلن البراءة منكِ ؟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eating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483920"/>
            <a:ext cx="8183520" cy="497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wo or more assignments are found to be copied, then each student will ge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ero ma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rrespective of whether she copied or did herself and allowed to cop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if the Cheating repeated for the second time I will start using the minus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are not allowed to copy from a former student or th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Lecturer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f M. Almunyi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mail: 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Comic Sans MS"/>
                <a:hlinkClick r:id="rId1"/>
              </a:rPr>
              <a:t>nalmunyif@yahoo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Comic Sans MS"/>
                <a:hlinkClick r:id="rId2"/>
              </a:rPr>
              <a:t>http://fac.ksu.edu.sa/nalmuny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get to update your phone number in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dug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Text boo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Content Placeholder 4" descr="An-Introduction-to-Object-Oriented-Programming-with-Java-Wu-C-Thomas-9780073523309.jpg"/>
          <p:cNvPicPr/>
          <p:nvPr/>
        </p:nvPicPr>
        <p:blipFill>
          <a:blip r:embed="rId1"/>
          <a:stretch/>
        </p:blipFill>
        <p:spPr>
          <a:xfrm>
            <a:off x="4284720" y="692280"/>
            <a:ext cx="4032360" cy="502596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Referen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Content Placeholder 6" descr="1375778829_500244732_1-New-100-Copies-Java-How-To-Program-9th-Edition-By-Paul-Deitel-Harvey-Deitel-Darya-Ganj.jpg"/>
          <p:cNvPicPr/>
          <p:nvPr/>
        </p:nvPicPr>
        <p:blipFill>
          <a:blip r:embed="rId1"/>
          <a:stretch/>
        </p:blipFill>
        <p:spPr>
          <a:xfrm>
            <a:off x="4572000" y="692280"/>
            <a:ext cx="36511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Referen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Content Placeholder 5" descr="51DlyoFnpzL.jpg"/>
          <p:cNvPicPr/>
          <p:nvPr/>
        </p:nvPicPr>
        <p:blipFill>
          <a:blip r:embed="rId1"/>
          <a:stretch/>
        </p:blipFill>
        <p:spPr>
          <a:xfrm>
            <a:off x="4427640" y="620640"/>
            <a:ext cx="4024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d3e"/>
                </a:solidFill>
                <a:uFillTx/>
                <a:latin typeface="Verdana"/>
              </a:rPr>
              <a:t>Software:</a:t>
            </a:r>
            <a:br>
              <a:rPr sz="3200"/>
            </a:br>
            <a:r>
              <a:rPr b="0" lang="en-US" sz="3200" spc="-1" strike="noStrike">
                <a:solidFill>
                  <a:srgbClr val="ff8d3e"/>
                </a:solidFill>
                <a:latin typeface="Verdana"/>
              </a:rPr>
              <a:t>JCreator , JDK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964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rst install JD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Java Standard Edition  Development Kit 7 Downloa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install JCre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Creator LE ver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225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Hello Worl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11280" y="169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your program insta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writing a “Hello world” 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find how to do that 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129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opic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052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fundamental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es a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and Polymorph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al User Interfaces, SWING and the AWT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Assessment Plan for the Course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28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          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pro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%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ation 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Midterm  ex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Lab Exam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Exam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 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     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1:31:42Z</dcterms:created>
  <dc:creator>user</dc:creator>
  <dc:description/>
  <dc:language>en-US</dc:language>
  <cp:lastModifiedBy>Nouf</cp:lastModifiedBy>
  <dcterms:modified xsi:type="dcterms:W3CDTF">2014-02-02T07:34:00Z</dcterms:modified>
  <cp:revision>15</cp:revision>
  <dc:subject/>
  <dc:title>CT15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4F437039927A543A00F97AA22B90B52</vt:lpwstr>
  </property>
</Properties>
</file>