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F0E-5A5E-4586-A821-A821B32C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FF6-7D71-462D-818D-4527AA5E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CB4B7-CD96-4B9A-B886-0EB11A60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011C7-4AC8-4F4C-A812-3688C10D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C19E0-E3C6-4F6A-97E4-DA428E7C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5CE89-9126-4110-9A04-6130C5A9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42D1B-E977-42CB-9014-9BD02448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2E065-AECE-4142-B690-7F055A0F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CE194-21CE-4858-A11F-5162F232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DAE6A-13B5-4C22-81A0-B468170C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CC5F1-A1D7-4519-BFCB-4B3DF7DA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BCBC8-B488-457F-960F-6BDFB887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73D-1000-4FFF-AB27-2E0C98B4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10C05-E9E6-4801-8EF2-82F04DD4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DC20F-749D-4C2B-B0D2-B80D52ED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4C65F-534F-462A-870F-18EF9F48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8DFD7-A5D9-4BBB-8B72-3DA862A3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08522-8DA4-4863-B467-718C7A2F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A7388-0B9B-40D3-AE4F-57454592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017B8-A724-4B5D-B6B2-756A351C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DD949-B238-4BA7-A3C2-2431A652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CA762-95C9-4B2D-914D-6DE2268F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0F917-71DD-4C06-AB27-C2B7D57F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313-3D55-4D7B-A66C-9AACD1B5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07498-F24D-4D11-834A-00E02DEE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C6FB-1C31-4065-9EEA-F842E9D8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B5CA-3C8E-412F-A77A-D5F20FF8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2C4F-FE50-4AC0-9BAA-F18B3DA8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A07F-4346-4DD8-B6C1-B2E31981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B0A0-426E-4044-BAEC-14115812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1F97-7BC9-4290-8F0E-9560E293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493F-DC34-4DEC-A48D-A68355A4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A1B-07B9-46D2-9E1F-36D9E964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DDA4-6739-4087-9F95-AA8FAED3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C974-3EA9-42BA-A5A6-D53E0AFE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FB9E-F3D8-48EA-B4B9-ACDA3A61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4980-0D4D-43D8-BC20-110D0DF9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E2CA-CCB0-4CF7-889D-FC0B1C22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CCF91-D987-4375-9767-DA0D2E6B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7A61-A221-4D72-9C88-0DEA47B1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48262-7751-42AF-8151-F80C3CF2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4C5E-FD46-406F-84F5-BB96659D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7E3B-A4CC-4AA6-97EE-F24B701D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1D2-1DE5-412C-ADCA-A4A79E15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A33E4-D6C4-44E1-83FE-633D4306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1E6F4-0653-47B1-BF06-BFA3748B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6CE25-847C-4862-B158-19296757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5A725-C92F-4F34-B5F9-0EA55EBC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5823D-31ED-4949-A34D-7C05AFC0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938F7-E6F5-482D-BD5D-551EF081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7410E-C0FC-46FD-8B14-CFE70A01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233B2-5B42-4773-92EF-DC575008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F4150-754A-462B-ACDA-5F8C218D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A935B-F944-4725-BF62-786D0FD9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0AD-B761-4758-8D0B-FC43C82F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724AF-63E4-463B-87AC-AF64E97B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5433F-0C19-447F-8BFE-9FD4AA5C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EC579-D75A-4D7B-A239-EBA5EF24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87703-8086-4770-8B14-0432A40E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97D0-3FC1-42F2-88F2-4F2F5A7B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8AB1A-7E21-424C-A9B7-9D1083D1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E7FC8-DD07-4548-815A-1736B052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A6E5E-D8B1-4B1B-BBD2-D3834A32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D8309-1E36-4BA7-8744-4483FFAA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C0048-684C-4D33-A55F-08CB92E6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594-4670-4C47-B971-62AB7A67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E5C5F-C5BD-4D15-B5A2-989EB1A2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0868C-DC41-428E-946F-4735E9D9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D6755-F6ED-46BC-B0FB-0F40CCD2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EDBE2-7697-4189-90A2-D232B99B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2D182-01E5-4BC1-8891-A3D46E29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F8C62-9A6C-4D7A-B284-F4E2FECF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68922-973A-42C6-B767-405D1607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93517-DBBB-4785-9139-4418908D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C297F-A28B-4823-A545-846079EF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5E273-3556-48D7-8028-72B010A5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155-D681-4B54-AF0F-AFDCCC9D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A0A04-B0F8-4D54-B069-1CBBBF69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D402D-0124-484D-9915-9521A6D0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E82DC-B106-4453-B7FC-0586A62C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413A0-D96E-4D2F-A466-A7CAE0D1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C9B22-8B0A-420B-81D1-CCEE13F6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5F6D6-0DC5-4CD3-A1FE-A731E931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9AF2A-3A8E-420B-AD98-9D153D89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3CF13-4FD3-45F6-ABAD-32EAA0BA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F070C-00CB-465B-8275-E15ED5BF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F97FF-31DD-4AE5-B9BD-5D08B6BB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71D-BDEC-4BD3-9E2E-B01B68D9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C6616-CEF6-4A60-976C-92517BE9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A3444-E31F-485F-94CE-1D8253E3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150F3-D6BF-43BA-A8EA-513634ED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C6A63-0CDF-4B28-A04E-207298C0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EC87F-C900-4BEC-95B3-3F083B2E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4E01B-EB5D-471D-92B0-04469238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AD837-7BDD-44F6-B930-1A13D449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D5E4D-CA4D-41C4-948C-6714060B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5F76A-A405-40A2-9893-0344CAB1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BE39C-B06F-4A49-8B6F-FFFED753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98F-E2C0-4317-B1B7-C63C3964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71EF9-C9EC-44A6-BA8D-6AEB57D6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B74AE-01F6-435B-B517-2EDC3138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ACA16-FDAC-4474-8E76-08523DA8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557AA-6A72-4613-AA8E-814BE974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C11C7-8AC4-4AE0-AC35-6D4A6F3D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D7A1A-6ABC-4E26-8182-57CBC194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22463-CAB4-4C68-AE2D-B5F8EB6C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E69A8-2CF2-49C2-935E-BFBA2C8E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476B2-D0DE-4EC4-A1D1-CCEAAC59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F64A1-8E30-43B0-BA18-E43875C2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C43-9B69-467D-89AA-5EA39442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D5D8A-D9D9-46A9-A426-A7FE6DE4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A58F3-B14D-4D77-98F3-79B5418D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04832-2432-4092-9262-1F0D5028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B993F-609A-440A-A102-F6FC5BFE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22F11-96C0-4C73-8EBE-0F77901A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B9010-4CD8-4345-BCFE-44B3983C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606CC-83E1-47D8-8FBF-F7AFB101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4A8BD-B25F-4720-89E0-AA6E5229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2BAB9-9A04-4702-9B2E-677C7764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58FC0-3E39-40DF-8AF3-AE61BBFB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D5FB-83BD-42C7-AB82-B0DCF371CD1B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7DE3-5FD9-491F-B2C6-24F885ACD6E1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5E46-9ADB-46A5-9957-0CCD772CDC88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F9BA-FB41-488F-9DE6-9EC058C7398C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3E49-2A1F-4AE4-9555-FF2B7BA92051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8FF1-1BE2-4FC3-8BF5-A17FA87FD774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E678-EE0F-4618-966C-5923AAE9905E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9C7A-8F60-46D1-AECA-D15E61074EA7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B6F7-8D3F-4E98-9A14-770FC3F14A2B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57D2-279D-4BCF-A0B4-A0337841EB3F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ac.ksu.edu.sa/asalhadlaq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667640" cy="23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4d1434"/>
                </a:solidFill>
                <a:latin typeface="Gill Sans MT"/>
                <a:ea typeface="Majalla UI"/>
              </a:rPr>
              <a:t>AN INTRODUCTION TO JAVA LANGUAGE</a:t>
            </a:r>
            <a:endParaRPr b="0" lang="en-US" sz="6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721800" y="3684600"/>
            <a:ext cx="2770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3163"/>
                </a:solidFill>
                <a:latin typeface="Gill Sans MT"/>
                <a:ea typeface="Majalla UI"/>
              </a:rPr>
              <a:t>CT1513</a:t>
            </a:r>
            <a:endParaRPr b="0" lang="en-US" sz="5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1" name="Footer Placeholder 9"/>
          <p:cNvSpPr/>
          <p:nvPr/>
        </p:nvSpPr>
        <p:spPr>
          <a:xfrm>
            <a:off x="755640" y="595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296b"/>
                </a:solidFill>
                <a:latin typeface="Gill Sans MT"/>
              </a:rPr>
              <a:t>2014-20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2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5867280" y="3860640"/>
            <a:ext cx="2233800" cy="22323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6"/>
          <p:cNvSpPr/>
          <p:nvPr/>
        </p:nvSpPr>
        <p:spPr>
          <a:xfrm>
            <a:off x="539640" y="472428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Credit Hours</a:t>
            </a:r>
            <a:r>
              <a:rPr b="1" lang="en-US" sz="2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:  (3 Lecture, 2 La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81040" y="1072800"/>
            <a:ext cx="818352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WARNING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349200" y="196056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d143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tendance is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very important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!! You are allowed to miss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5%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f your lectures only or you will not be allowed to enter the fi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d143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Late attendance is not conside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d143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d143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d143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65200" y="933120"/>
            <a:ext cx="818352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WARNING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746280" y="1989000"/>
            <a:ext cx="7823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b work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roup work 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udy before the la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ou must submit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Soft and Hard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py of your work named a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YourName_Your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subject should 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ab #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CHEATING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539640" y="2133360"/>
            <a:ext cx="818352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54160" indent="-254160">
              <a:spcBef>
                <a:spcPts val="601"/>
              </a:spcBef>
              <a:buClr>
                <a:srgbClr val="903163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If two or more assignments are found to be copied, then each student will get zero mark irrespective of whether she copied or did herself and allowed to copy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54160" indent="-254160">
              <a:spcBef>
                <a:spcPts val="601"/>
              </a:spcBef>
              <a:buClr>
                <a:srgbClr val="903163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f the cheating repeated for the second time I will deduct 10 marks!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54160" indent="-254160">
              <a:spcBef>
                <a:spcPts val="601"/>
              </a:spcBef>
              <a:buClr>
                <a:srgbClr val="903163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You are not allowed to copy from a former student or the internet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54160" indent="-2541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6350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LECTURER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539640" y="1341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Aseel Al Hadlaq</a:t>
            </a:r>
            <a:endParaRPr b="0" lang="en-US" sz="31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100" spc="-1" strike="noStrike">
                <a:solidFill>
                  <a:srgbClr val="3d3d3d"/>
                </a:solidFill>
                <a:latin typeface="Gill Sans MT"/>
                <a:cs typeface="Times New Roman"/>
              </a:rPr>
              <a:t>أسيل الهدلق</a:t>
            </a:r>
            <a:endParaRPr b="0" lang="en-US" sz="31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E-mail: asalhadlaq@ksu.edu.sa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Website: </a:t>
            </a:r>
            <a:r>
              <a:rPr b="0" lang="en-US" sz="1500" spc="-1" strike="noStrike" u="sng">
                <a:solidFill>
                  <a:srgbClr val="828282"/>
                </a:solidFill>
                <a:uFillTx/>
                <a:latin typeface="Gill Sans MT"/>
                <a:hlinkClick r:id="rId1"/>
              </a:rPr>
              <a:t>http://fac.ksu.edu.sa/asalhadlaq</a:t>
            </a: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Java 1513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Don’t forget to update your phone number in </a:t>
            </a:r>
            <a:r>
              <a:rPr b="0" lang="en-US" sz="2700" spc="-1" strike="noStrike">
                <a:solidFill>
                  <a:srgbClr val="ff0000"/>
                </a:solidFill>
                <a:latin typeface="Gill Sans MT"/>
              </a:rPr>
              <a:t>edugate</a:t>
            </a:r>
            <a:r>
              <a:rPr b="0" lang="en-US" sz="27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!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6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7560" y="591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EXT BOOK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58" name="Content Placeholder 4" descr="An-Introduction-to-Object-Oriented-Programming-with-Java-Wu-C-Thomas-9780073523309.jpg"/>
          <p:cNvPicPr/>
          <p:nvPr/>
        </p:nvPicPr>
        <p:blipFill>
          <a:blip r:embed="rId1"/>
          <a:stretch/>
        </p:blipFill>
        <p:spPr>
          <a:xfrm>
            <a:off x="3117960" y="2227320"/>
            <a:ext cx="2916000" cy="363204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84200" y="691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REFERENCE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61" name="Content Placeholder 6" descr="1375778829_500244732_1-New-100-Copies-Java-How-To-Program-9th-Edition-By-Paul-Deitel-Harvey-Deitel-Darya-Ganj.jpg"/>
          <p:cNvPicPr/>
          <p:nvPr/>
        </p:nvPicPr>
        <p:blipFill>
          <a:blip r:embed="rId1"/>
          <a:stretch/>
        </p:blipFill>
        <p:spPr>
          <a:xfrm>
            <a:off x="3567240" y="2733840"/>
            <a:ext cx="2019240" cy="2619360"/>
          </a:xfrm>
          <a:prstGeom prst="rect">
            <a:avLst/>
          </a:prstGeom>
          <a:ln w="0">
            <a:noFill/>
          </a:ln>
        </p:spPr>
      </p:pic>
      <p:sp>
        <p:nvSpPr>
          <p:cNvPr id="462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84200" y="604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REFERENCE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64" name="Content Placeholder 5" descr="51DlyoFnpzL.jpg"/>
          <p:cNvPicPr/>
          <p:nvPr/>
        </p:nvPicPr>
        <p:blipFill>
          <a:blip r:embed="rId1"/>
          <a:stretch/>
        </p:blipFill>
        <p:spPr>
          <a:xfrm>
            <a:off x="3127320" y="2227320"/>
            <a:ext cx="2897280" cy="3632040"/>
          </a:xfrm>
          <a:prstGeom prst="rect">
            <a:avLst/>
          </a:prstGeom>
          <a:ln w="0">
            <a:noFill/>
          </a:ln>
        </p:spPr>
      </p:pic>
      <p:sp>
        <p:nvSpPr>
          <p:cNvPr id="465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651960"/>
            <a:ext cx="81835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ill Sans MT"/>
              </a:rPr>
              <a:t>SOFTWAR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JCREATOR , JDK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39640" y="191592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64960" indent="-264960">
              <a:spcBef>
                <a:spcPts val="700"/>
              </a:spcBef>
              <a:buClr>
                <a:srgbClr val="903163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d3d3d"/>
                </a:solidFill>
                <a:latin typeface="Gill Sans MT"/>
              </a:rPr>
              <a:t>First install JDK 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(Java Standard Edition  Development Kit 7 Download)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64960" indent="-264960">
              <a:spcBef>
                <a:spcPts val="700"/>
              </a:spcBef>
              <a:buClr>
                <a:srgbClr val="903163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64960" indent="-264960">
              <a:spcBef>
                <a:spcPts val="700"/>
              </a:spcBef>
              <a:buClr>
                <a:srgbClr val="903163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d3d3d"/>
                </a:solidFill>
                <a:latin typeface="Gill Sans MT"/>
              </a:rPr>
              <a:t>Second install JCreator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64960" indent="-264960">
              <a:spcBef>
                <a:spcPts val="700"/>
              </a:spcBef>
              <a:buClr>
                <a:srgbClr val="903163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264960" indent="-26496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d3d3d"/>
                </a:solidFill>
                <a:latin typeface="Gill Sans MT"/>
              </a:rPr>
              <a:t>(JCreator LE version)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5219640" y="4149720"/>
            <a:ext cx="32259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ELLO WORL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60520" y="2204640"/>
            <a:ext cx="8183520" cy="34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Test your program installation By writing a “Hello world”  program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Look it up  in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2843280" y="4653000"/>
            <a:ext cx="129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OPIC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61880" y="19760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89440" indent="-28944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Introduction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Java fundamentals 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Classes and Object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Inheritance and Polymorphism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Array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Arrays of object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Graphical User Interfaces, SWING and the AWT Concept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Java Applet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6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SSESSMENT PLAN FOR THE COURSE: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68360" y="19062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Lab                       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10%  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Small projec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     15% 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Presentation  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            5%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2 Midterm  exams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     30%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 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Final Exam         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40%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Total              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     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          100%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21:31:42Z</dcterms:created>
  <dc:creator>user</dc:creator>
  <dc:description/>
  <dc:language>en-US</dc:language>
  <cp:lastModifiedBy>Aseel</cp:lastModifiedBy>
  <dcterms:modified xsi:type="dcterms:W3CDTF">2014-09-07T14:57:36Z</dcterms:modified>
  <cp:revision>36</cp:revision>
  <dc:subject/>
  <dc:title>CT15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4F437039927A543A00F97AA22B90B52</vt:lpwstr>
  </property>
</Properties>
</file>