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CED5-7CD9-4A8C-AE0B-DE565BC6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B6A-16BF-48F3-BC4D-C1EE38D8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100CC-8561-4A2E-8789-D267BAC1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F693A-EF18-4629-BB8D-BFCB7BEC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98540-8C9B-4973-8E32-E374204F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2FBAF-C9F6-447D-A9B3-037C66BF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F3399-89AD-481C-B400-1B71EA13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22BB6-B304-4C2E-9903-C8D1B818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BB825-6E82-44F7-BB2B-D7ADABD8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CB9E3-5868-4C9E-9401-04681159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CDC94-59FE-4637-A370-C7E0A0A7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437E5-BCAB-44EB-B7D0-8E072736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BD1-D21C-4502-A6F7-5CFF8489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3D21B-9213-4C89-ADEA-BC45626F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DF52E-0515-4B93-924A-2A65DC11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7177F-9E8C-49AC-B73B-F5163D9D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540F9-CBF0-450D-87A3-3889FD2E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17872-1E3B-45E7-A36D-429E71D8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DBEC0-C63F-487C-AE3F-CE0D9B0F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C6F81-9712-4A97-921E-D751ACEF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4888F-2EC0-481F-94DD-718E4601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B578D-409C-48D3-90D1-F15A4EA3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1B525-95C7-4C78-A07F-6EB07CF0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D9D9-E316-49E5-A025-F51201D8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067C9-9610-47C4-B397-A8EDFA91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DBD9-2BCB-4196-8E6F-3E3955CB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EFB3-8268-45D7-BA6F-392ECE79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C39F-39C6-4755-B63E-8A9F2D8B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CBBA-2C10-4131-97FE-F04F37E0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5E61-6C70-47F8-8520-D0983CFF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9812-62FE-46DE-961C-352760CB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CE23-3071-46AE-8C15-0F659E93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E196-A755-4FD6-A624-6AAF925E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F412-4827-4EAF-8170-B536C992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115C-2BE0-42E2-A7F7-D505A81C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793A-787C-4A5F-929F-8CBD24C5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2C73-70C5-4352-8AE6-0409EB9E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176D-2306-42A6-997C-7D2024A5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8474E-3994-4ABE-A2DF-3028B001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30E81-A601-4891-B454-8EC066FF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87620-6720-4AB2-97BB-B8742694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42A6E-72A5-4ACE-90B7-1C4886D4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B10B9-3A42-44CC-B7DD-6769E764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A16D-EB2A-4532-9859-F4687145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BCE12-317B-4904-B22A-3E947CDB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4BD35-27D4-4869-97B2-FE923BF5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FC8DD-66A6-42B1-8FB6-208D7574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D1B44-8F65-451D-8DC7-06530992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7AF95-24B9-4551-92F3-12FE0A92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EA92F-AC29-437E-94AE-D43C208D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997EC-6F16-4A4C-9459-2DBF0F4B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118BE-3D4B-4250-B32A-20E23D7C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4598F-4920-4F4E-AF54-06A25AA6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24558-4BA6-4485-BB05-BCB1823C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AF0B-D3CD-4862-AB62-C5F6AB98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32639-36EB-4E7D-BEDA-9025D938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F44C5-6DC0-468D-B006-E7A0C4D8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EEA29-1579-4ED7-AE32-63B11DDF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2AB61-8DB3-4219-A5EC-3F7A1530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2B099-C556-4159-A264-59BEC733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FCB61-4AEC-4579-B5B2-74CA19F9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C0E9B-398E-47C8-BA44-79AF152F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5B9CC-EAB0-488B-95DF-BF5F1A6C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42B00-E4AD-4061-8B4A-D404361B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49C37-200E-4E90-87BB-7203728D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B2D1-8532-4BE0-98E5-A406D334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4CDB6-A2E2-4D82-9908-06FC4584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C596A-C078-436E-9465-9DBF1CDB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37250-1F22-4AA0-85F0-79C02D8B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10540-05A1-4C3B-9B5F-07FFF3E3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BCA7F-C825-4AC1-A7F1-F4F64964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5BDE1-E185-4F09-8E7B-792ACE03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19208-7C6E-4F04-A3F5-666D7305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8869C-E017-4322-A31C-796B96D3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C3FF8-1FBA-45E1-BCA0-4AC68DEF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9A7A3-87F1-43C3-B4D8-A15CCEC3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93F-534E-4528-9601-CA78B3DA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A4647-11A2-4593-921F-65F2775C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C6EB7-E597-4FBE-8D71-F86748D3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D6DA0-75DE-4A22-A176-D815EDDE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9598B-1B55-40CE-B553-A5ADC4D4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963CB-4199-4F53-B0AA-DC0013EF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95112-C051-43FF-827B-15ED7B58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68EC6-B274-408D-802A-84137C71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9045E-809C-468C-BBBE-49D14BA8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C3E65-62CE-404F-9047-76C618AD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B3FCC-F651-4A98-86F8-693C4521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67F2-51C8-4970-A913-C6A2C10D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A7D98-4DAB-4A27-B8CF-290C3122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B95FA-DCE6-403B-8BE4-AAFB6D31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76CF7-A9F6-4DA8-8382-16D6710F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AB6AB-DC8F-41B8-8B0C-3FE55760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63531-1238-4BD9-B2B1-82BC7314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072FD-7A23-4860-B0EA-DAD62A25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267F6-A900-412F-A6EC-B2A2BD84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EFAE4-7656-45AC-98AB-4013551E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74AD1-7D8F-4F17-A2FE-53D8F62D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47E12-2424-420B-AB88-4C874E6E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329-0D4F-44F2-A9F0-BAA1A90A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520E4-3860-44C2-948B-271C160C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883E1-1CCB-4F84-8A5C-11EB04B9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0A775-907D-42FE-B48E-9029CE2D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CBC38-AF7B-4C7C-A102-B44A465B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49068-8183-4A05-994E-788417BD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A1438-A664-4C27-9FBD-0CDC4E33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F51A9-DF04-4A47-A655-FBC3C114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C74EE-CA19-40B7-AF32-1F6B9B55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4EA1D-CA50-40B9-A7B0-CC1260F1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79D68-6B81-4723-A9F4-2D76EF79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9C56-7CCB-409E-9273-2C6BBC3E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72489-3513-44ED-BF24-B45EC6B3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B1579-CD32-4EA3-B471-D951BBBD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FFE21-C5C0-42B6-9F66-0EE7F110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23755-5D02-410C-9F05-88E174F9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4A2D6-570F-4CC4-AD34-3EB2C7F3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4AB60-CFBB-44F5-B70A-7467B575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87B1E-2912-4A9F-ADBB-1C98CD61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C9E89-380B-44AD-9465-13F2F15D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DD6E0-0F3B-4F0D-AEB3-1DFF3492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1689E-263B-4F88-903A-B22596A5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C7CD-7900-4C72-88E5-6B0391E5597C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2D99-E597-4710-833F-2CBEA9E4A5AD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CDF9-BD5B-4CCB-B508-1FF1C1A9E9A3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9A3E-2D29-4483-A8EA-FEC9ED769ED6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5C22-1E9A-456E-B187-F146C0885677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5EFF-E544-4190-AB3C-348C7280EC3B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2110-8D2E-49C4-8595-1F0D48D6A75D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7C55-6FEC-454F-8A31-714A01C6BAB8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A1BF-3E5B-4415-B913-5A179E6CF16C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E5FA-86F3-4BAF-9654-504006074149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ac.ksu.edu.sa/asalhadlaq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667640" cy="23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4d1434"/>
                </a:solidFill>
                <a:latin typeface="Gill Sans MT"/>
                <a:ea typeface="Majalla UI"/>
              </a:rPr>
              <a:t>AN INTRODUCTION TO JAVA LANGUAGE</a:t>
            </a:r>
            <a:endParaRPr b="0" lang="en-US" sz="6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721800" y="3684600"/>
            <a:ext cx="2770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903163"/>
                </a:solidFill>
                <a:latin typeface="Gill Sans MT"/>
                <a:ea typeface="Majalla UI"/>
              </a:rPr>
              <a:t>CT1513</a:t>
            </a:r>
            <a:endParaRPr b="0" lang="en-US" sz="5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51" name="Footer Placeholder 9"/>
          <p:cNvSpPr/>
          <p:nvPr/>
        </p:nvSpPr>
        <p:spPr>
          <a:xfrm>
            <a:off x="755640" y="59500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f296b"/>
                </a:solidFill>
                <a:latin typeface="Gill Sans MT"/>
              </a:rPr>
              <a:t>2014-20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2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5867280" y="3860640"/>
            <a:ext cx="2233800" cy="223236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6"/>
          <p:cNvSpPr/>
          <p:nvPr/>
        </p:nvSpPr>
        <p:spPr>
          <a:xfrm>
            <a:off x="539640" y="472428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Credit Hours</a:t>
            </a:r>
            <a:r>
              <a:rPr b="1" lang="en-US" sz="2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:  (3 Lecture, 2 La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81040" y="1072800"/>
            <a:ext cx="818352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WARNING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Footer Placeholder 3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349200" y="196056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d143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tendance is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very important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!! You are allowed to miss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25%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f your lectures only or you will not be allowed to enter the fi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d143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Late attendance is not conside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d143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d143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d143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65200" y="933120"/>
            <a:ext cx="818352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WARNING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746280" y="1989000"/>
            <a:ext cx="7823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ab work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roup work 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udy before the la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ou must submit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Soft and Hard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py of your work named a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YourName_Your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subject should b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Lab #”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CHEATING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539640" y="2133360"/>
            <a:ext cx="818352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54160" indent="-254160">
              <a:spcBef>
                <a:spcPts val="601"/>
              </a:spcBef>
              <a:buClr>
                <a:srgbClr val="903163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If two or more assignments are found to be copied, then each student will get zero mark irrespective of whether she copied or did herself and allowed to copy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54160" indent="-254160">
              <a:spcBef>
                <a:spcPts val="601"/>
              </a:spcBef>
              <a:buClr>
                <a:srgbClr val="903163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f the cheating repeated for the second time I will deduct 10 marks!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54160" indent="-254160">
              <a:spcBef>
                <a:spcPts val="601"/>
              </a:spcBef>
              <a:buClr>
                <a:srgbClr val="903163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You are not allowed to copy from a former student or the internet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54160" indent="-2541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8" name="Footer Placeholder 3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63504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LECTURER</a:t>
            </a:r>
            <a:endParaRPr b="0" lang="en-US" sz="4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539640" y="1341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Aseel Al Hadlaq</a:t>
            </a:r>
            <a:endParaRPr b="0" lang="en-US" sz="31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100" spc="-1" strike="noStrike">
                <a:solidFill>
                  <a:srgbClr val="3d3d3d"/>
                </a:solidFill>
                <a:latin typeface="Gill Sans MT"/>
                <a:cs typeface="Times New Roman"/>
              </a:rPr>
              <a:t>أسيل الهدلق</a:t>
            </a:r>
            <a:endParaRPr b="0" lang="en-US" sz="31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d3d3d"/>
                </a:solidFill>
                <a:latin typeface="Gill Sans MT"/>
              </a:rPr>
              <a:t>E-mail: asalhadlaq@ksu.edu.sa</a:t>
            </a:r>
            <a:endParaRPr b="0" lang="en-US" sz="1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d3d3d"/>
                </a:solidFill>
                <a:latin typeface="Gill Sans MT"/>
              </a:rPr>
              <a:t>Website: </a:t>
            </a:r>
            <a:r>
              <a:rPr b="0" lang="en-US" sz="1500" spc="-1" strike="noStrike" u="sng">
                <a:solidFill>
                  <a:srgbClr val="828282"/>
                </a:solidFill>
                <a:uFillTx/>
                <a:latin typeface="Gill Sans MT"/>
                <a:hlinkClick r:id="rId1"/>
              </a:rPr>
              <a:t>http://fac.ksu.edu.sa/asalhadlaq</a:t>
            </a:r>
            <a:r>
              <a:rPr b="0" lang="en-US" sz="1500" spc="-1" strike="noStrike">
                <a:solidFill>
                  <a:srgbClr val="3d3d3d"/>
                </a:solidFill>
                <a:latin typeface="Gill Sans MT"/>
              </a:rPr>
              <a:t> </a:t>
            </a:r>
            <a:endParaRPr b="0" lang="en-US" sz="1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d3d3d"/>
                </a:solidFill>
                <a:latin typeface="Gill Sans MT"/>
              </a:rPr>
              <a:t>Java 1513</a:t>
            </a:r>
            <a:endParaRPr b="0" lang="en-US" sz="1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d3d3d"/>
                </a:solidFill>
                <a:latin typeface="Gill Sans MT"/>
              </a:rPr>
              <a:t>Don’t forget to update your phone number in </a:t>
            </a:r>
            <a:r>
              <a:rPr b="0" lang="en-US" sz="2700" spc="-1" strike="noStrike">
                <a:solidFill>
                  <a:srgbClr val="ff0000"/>
                </a:solidFill>
                <a:latin typeface="Gill Sans MT"/>
              </a:rPr>
              <a:t>edugate</a:t>
            </a:r>
            <a:r>
              <a:rPr b="0" lang="en-US" sz="27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1500" spc="-1" strike="noStrike">
                <a:solidFill>
                  <a:srgbClr val="3d3d3d"/>
                </a:solidFill>
                <a:latin typeface="Gill Sans MT"/>
              </a:rPr>
              <a:t>!</a:t>
            </a:r>
            <a:endParaRPr b="0" lang="en-US" sz="1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56" name="Footer Placeholder 3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7560" y="591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EXT BOOK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58" name="Content Placeholder 4" descr="An-Introduction-to-Object-Oriented-Programming-with-Java-Wu-C-Thomas-9780073523309.jpg"/>
          <p:cNvPicPr/>
          <p:nvPr/>
        </p:nvPicPr>
        <p:blipFill>
          <a:blip r:embed="rId1"/>
          <a:stretch/>
        </p:blipFill>
        <p:spPr>
          <a:xfrm>
            <a:off x="3117960" y="2227320"/>
            <a:ext cx="2916000" cy="3632040"/>
          </a:xfrm>
          <a:prstGeom prst="rect">
            <a:avLst/>
          </a:prstGeom>
          <a:ln w="0">
            <a:noFill/>
          </a:ln>
        </p:spPr>
      </p:pic>
      <p:sp>
        <p:nvSpPr>
          <p:cNvPr id="459" name="Footer Placeholder 3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84200" y="691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REFERENCES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61" name="Content Placeholder 6" descr="1375778829_500244732_1-New-100-Copies-Java-How-To-Program-9th-Edition-By-Paul-Deitel-Harvey-Deitel-Darya-Ganj.jpg"/>
          <p:cNvPicPr/>
          <p:nvPr/>
        </p:nvPicPr>
        <p:blipFill>
          <a:blip r:embed="rId1"/>
          <a:stretch/>
        </p:blipFill>
        <p:spPr>
          <a:xfrm>
            <a:off x="3567240" y="2733840"/>
            <a:ext cx="2019240" cy="2619360"/>
          </a:xfrm>
          <a:prstGeom prst="rect">
            <a:avLst/>
          </a:prstGeom>
          <a:ln w="0">
            <a:noFill/>
          </a:ln>
        </p:spPr>
      </p:pic>
      <p:sp>
        <p:nvSpPr>
          <p:cNvPr id="462" name="Footer Placeholder 3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84200" y="604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REFERENCES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64" name="Content Placeholder 5" descr="51DlyoFnpzL.jpg"/>
          <p:cNvPicPr/>
          <p:nvPr/>
        </p:nvPicPr>
        <p:blipFill>
          <a:blip r:embed="rId1"/>
          <a:stretch/>
        </p:blipFill>
        <p:spPr>
          <a:xfrm>
            <a:off x="3127320" y="2227320"/>
            <a:ext cx="2897280" cy="3632040"/>
          </a:xfrm>
          <a:prstGeom prst="rect">
            <a:avLst/>
          </a:prstGeom>
          <a:ln w="0">
            <a:noFill/>
          </a:ln>
        </p:spPr>
      </p:pic>
      <p:sp>
        <p:nvSpPr>
          <p:cNvPr id="465" name="Footer Placeholder 3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651960"/>
            <a:ext cx="818352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ill Sans MT"/>
              </a:rPr>
              <a:t>SOFTWARE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JCREATOR , JDK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39640" y="191592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64960" indent="-264960">
              <a:spcBef>
                <a:spcPts val="700"/>
              </a:spcBef>
              <a:buClr>
                <a:srgbClr val="903163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d3d3d"/>
                </a:solidFill>
                <a:latin typeface="Gill Sans MT"/>
              </a:rPr>
              <a:t>First install JDK 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(Java Standard Edition  Development Kit 7 Download)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264960" indent="-264960">
              <a:spcBef>
                <a:spcPts val="700"/>
              </a:spcBef>
              <a:buClr>
                <a:srgbClr val="903163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264960" indent="-264960">
              <a:spcBef>
                <a:spcPts val="700"/>
              </a:spcBef>
              <a:buClr>
                <a:srgbClr val="903163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d3d3d"/>
                </a:solidFill>
                <a:latin typeface="Gill Sans MT"/>
              </a:rPr>
              <a:t>Second install JCreator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264960" indent="-264960">
              <a:spcBef>
                <a:spcPts val="700"/>
              </a:spcBef>
              <a:buClr>
                <a:srgbClr val="903163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264960" indent="-26496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Gill Sans MT"/>
              </a:rPr>
              <a:t>(JCreator LE version)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8" name="Footer Placeholder 3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5219640" y="4149720"/>
            <a:ext cx="32259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HELLO WORLD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60520" y="2204640"/>
            <a:ext cx="8183520" cy="346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Test your program installation By writing a “Hello world”  program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Look it up  in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2" name="Footer Placeholder 3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4" descr=""/>
          <p:cNvPicPr/>
          <p:nvPr/>
        </p:nvPicPr>
        <p:blipFill>
          <a:blip r:embed="rId1"/>
          <a:stretch/>
        </p:blipFill>
        <p:spPr>
          <a:xfrm>
            <a:off x="2843280" y="4653000"/>
            <a:ext cx="1295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OPIC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61880" y="19760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289440" indent="-28944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Introduction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Java fundamentals 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Classes and Objects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Inheritance and Polymorphism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Arrays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Arrays of objects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Graphical User Interfaces, SWING and the AWT Concepts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Java Applets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6" name="Footer Placeholder 3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SSESSMENT PLAN FOR THE COURSE: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68360" y="19062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Lab                       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10%  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Small project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     15% 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Presentation  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            5%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2 Midterm  exams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     30%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 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Final Exam         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40%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Total              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     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          100%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9" name="Footer Placeholder 3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21:31:42Z</dcterms:created>
  <dc:creator>user</dc:creator>
  <dc:description/>
  <dc:language>en-US</dc:language>
  <cp:lastModifiedBy>Aseel</cp:lastModifiedBy>
  <dcterms:modified xsi:type="dcterms:W3CDTF">2014-09-07T14:57:36Z</dcterms:modified>
  <cp:revision>36</cp:revision>
  <dc:subject/>
  <dc:title>CT151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4F437039927A543A00F97AA22B90B52</vt:lpwstr>
  </property>
</Properties>
</file>