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dt" idx="31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ftr" idx="32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 type="sldNum" idx="33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4C52-CC17-47E5-9827-4924BBBECE5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08F5-FF50-4837-9556-16E25F40DD9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4333-8A3F-4899-AAEA-BDBCD7240FB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7AB7-FE3C-4629-8347-A251809A699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DD86-846E-4739-9ACE-7137E48D8EA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06B0-6E15-47D8-9B2E-B4F05C432D7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A0A2-6D1F-4C52-8CFB-177B6703455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6411-923B-4D0F-9CDC-D6CFE383B09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2CA3-AE1F-485B-AEE0-6D71A594DA6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4E79-5367-40E8-B5CC-B05B75A1349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7F51-F1CE-4F73-A895-34AA13A7BF1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CC83-2E89-467C-8565-AEDE6FDEFDE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76CF-F995-46EE-BAC8-E45BF9092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9FF2-9252-4D1A-A5E3-DD3793B3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FBCB2-F492-4F4F-B057-DF55E6D8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D3A72-BA9D-494B-B9C0-78C309E0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FB4218-37B0-41F7-B931-FC7606EA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8A4C3-DA73-48D8-9EAB-79B8F12D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0A0B4-8097-4823-9A79-7F6420A1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65D44-7A04-48F5-84CB-9D5E0B12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8D2D7-F6B2-49AD-926A-D6D347A8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0999E-22F0-46AC-8DB1-AE6576655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45ACA-7B43-4179-BA79-0FB44165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686D64-FA34-4602-94E7-D2125561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16D2-65C9-4B57-ADC8-1F87FC1B3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063E4E-E3CA-422E-87CF-A30BD557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E1AD54-F345-4991-938B-1D6D4DD1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CD119E-E729-46B0-94BD-A6DF058A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345DE8-164F-43CD-8E55-E33CD5C4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0BAAA6-3BEB-4B83-AD26-D200C1ED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59EEB-A19A-4E11-8E80-45546AC2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18B31-02BF-44B4-94CF-84E2EB7C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D284DF-7668-485B-8302-9A4C7EC3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FC5F30-4711-4BD1-BF20-E6691636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95CBF1-DAA0-45D4-8BD4-75AE03011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5A8A-90E3-46A9-BC52-5EBD3099F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BAC5F4-DDF7-4CC8-B2BC-D44C91BDF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829F-FF1A-425F-A20E-29A79BB07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1722-06F2-4D0B-B63A-629AD1A9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733A-91ED-4CF4-8FAB-B9E41CB0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5B09-64C1-4AD6-955E-C07AC013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A686-1536-4BDF-A792-02573E2D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BCF0-BE12-4170-A3F5-1690536E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F19B-4C2F-43C1-ACBB-DB71186A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FDE6-8AEF-47AC-9471-2DC859F3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F294-2F4D-4408-A13C-1DEB0BE3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959C-E54D-4413-94C3-2F80727B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0E90-032B-4A90-8365-50BCCC99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CCEE-66D3-4840-A91C-62CFFACF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03F5-7692-4E50-BB7A-7F82F6EEC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D807E-46CF-4F8B-B366-096D8CCD3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07DFA-B50B-45B8-9FA4-CD2E6BEE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E5B73-47C1-4F1B-8990-65441F2D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450E4-C37D-44F0-8D7C-B046F428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76072-0B11-486A-85A9-F1F57C2E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F9FB-CC2C-4BA5-90B0-FBCAB9AD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91FB4-3A31-4837-BDD3-535ADF17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522C6-977F-40EA-A55C-F3AE374F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52A8A-E538-4275-93BD-2967C0CE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FDEF6-B68D-4204-92F6-AD9F8E88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7FA60-D819-47B4-8336-27ACE76A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5FCC6-015E-46D1-A8B5-A8A9944A4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2E2EB-52B1-4F9C-B918-9D5E78876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93D9C-DF35-4B3C-8F98-8E974C1DF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D9571-1DE6-42BB-8D6B-D9DB1FF5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93484-850C-4D3B-AAB3-79D84A5C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2BBA-85F0-44D4-A70E-8E4424DB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955AD-AFC2-46BA-802E-A7C5662E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EC3FF-C69C-41EE-95E7-2D0EE8BD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2491A-660E-4FCF-8CDE-4A1C9A94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E232B-0C27-4653-B21C-AE4444AB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A5937-57C1-4B1C-841A-EBF174C3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C2BF3-DE89-4D00-B857-A90A2721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E61B3-54B3-4DE8-BB23-E26E0382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466EC-2B39-4E9E-87E3-A44A55579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D0705-730E-4739-9A97-27A1C1276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CD479-96CA-4D18-9469-F4E3589D8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4E96-E169-4EC7-8BF0-99DD9A1D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A035C-C08C-40C9-B8F8-778F10EC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1397D-240F-417D-A366-964CFB04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A4E8E-6D7B-488D-89E9-30ACF2AF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A5200-337D-46A9-9DF0-31D3F108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BD927-53AD-430D-B2F5-9CB9F42D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550B2-231B-4925-B908-ABB3848D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EBEAF-2FAC-4354-904D-4573A831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7088D-37AD-4D7D-878A-35402A99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0D937-A949-45CA-B113-EFADB7C6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D4B08-EAE8-43C0-A7A1-7953A2ED1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E093-2886-45A5-B265-7ECBBF1D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C2391-D46F-4702-BAB0-ED031FDDD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6FE91-2E9C-4AFC-B6C5-2E44C388A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1FA6F-534D-4922-A0AC-9CBC8F7E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8BF88-24E7-4967-B90A-34176685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E34B7-74D3-4B94-8B2F-6BE95BEF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F58E0-4FE8-4785-9634-41F04168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6A7CD-1006-4A49-8625-DCF3B4A8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186FD-C3D6-4DFB-ACE7-40A928CF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3CA5B-4B0B-4C9F-9109-C24427DB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F350B-0C53-4286-A743-A0BD0AA9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B47A-E26D-4CF9-BF16-B34FA6A7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83031-556F-4F3A-9D05-CCA024A4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0A640-115D-48C8-A4D9-97271E89A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7002F-1E12-4462-8781-C23115974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B23E4-8BB2-4C36-A713-0453FFF84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D3326-D27A-4517-9A84-1FD31B4F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C8DFC-A0A6-47A5-83D1-93D3351D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8BF8E-CF65-4F98-82AD-6C5A3AD5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09643-964E-499A-85E8-493A7434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584FB-467C-44A8-BA27-E27597E8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72BFA-FB43-455C-A768-3D9E70EF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7C83-43FF-42DC-B4F0-EF885A32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433EB-2A25-4F52-AC26-CE3EF5AF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B948E-F5E7-4699-A6A3-F42945F0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6E4E1-0A85-4708-B13C-F7C6A2B9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77765-CF39-4C16-B37F-9101A34A3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89197-5A14-4655-9E74-D1708B2DB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BBE61-D724-47E5-A846-69FB20C4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B3FB4-5DCE-47FD-A4E1-CDED6730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C6CC6-D14C-4A88-9400-3CA7DCF5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4C939-1774-4B9B-9F9D-ADA43971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CFBD6-F6F1-49D8-9583-FA5746DA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3D52-6902-4597-91AA-61A9EDBA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2176D-D9F6-43B4-93CE-2EAF2465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02CF4-95A3-4A09-B61A-CA084D69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7C742-A6DC-438F-818E-3D74EA00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FFA9C-3F5C-4BB3-BCAD-BA828001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F10CD-6A76-4F3D-8AEC-6DDF80B1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8BAF0-9935-4444-B693-0E8E7F8E1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AF641-5571-4CFE-9392-FC4F2813B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4D44C-8A70-48B1-B9E7-D5AB61C14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192158-5124-49EE-BBBB-F224EBD2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5D515-A157-4928-B388-A72C6B99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3A8E-70FB-48AE-897F-8B35D7717181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4910-BC79-42E2-B4AA-5863396CCA93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Rectangle 11"/>
          <p:cNvSpPr/>
          <p:nvPr/>
        </p:nvSpPr>
        <p:spPr>
          <a:xfrm>
            <a:off x="6629400" y="600120"/>
            <a:ext cx="2057400" cy="58165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744960" y="5955840"/>
            <a:ext cx="947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9F1F-2EB7-4AC3-A81C-5A75C3EA04C5}" type="datetime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580680" y="5951520"/>
            <a:ext cx="5923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CC2A-3EC4-43EF-BFA6-229B0F990FED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447840" y="3086280"/>
            <a:ext cx="8240400" cy="330516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413A-67B0-486A-A9F1-94A60322DF90}" type="datetime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C88A-75AC-4956-AC17-AC5CFF311F50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6392-F1ED-435E-BF37-B37337ABC1C5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DEB5-E1AC-4366-98D7-CC12CC21E0C9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452520" y="514188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5743-6D13-44D4-8FFD-F4C44A1BAC86}" type="datetime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BE1F-E9AB-46DE-A5D1-90203954C467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47CE-0575-4FCD-9825-177E3EAE96F9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4BC8-EBCB-4E96-BE7A-469D8C3380F8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8CEB-5985-45FA-B45E-7EA88DBD5C9A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84FA-D8DB-4E4E-A102-467BEA85CAE7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B4A4-A86F-420E-BDDC-71E80C11D7C9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0190-EAE9-4F7E-804A-6E70A042BCAE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452520" y="5141880"/>
            <a:ext cx="8238960" cy="127476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D168-1C4A-4313-A9B5-7EF36E42B4F5}" type="datetime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3FC0-31BE-4495-AFF6-80A818B90749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EBA2-E0FA-403A-A84C-B72B3156697E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2999-74F9-4E0F-80CF-0DBA30D336BD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47640" y="3733560"/>
            <a:ext cx="71532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INTRODUCTION TO JAVA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CHAPTER 1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7" name="Slide Number Placeholder 5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3540-78CD-482D-BCFB-917EEF320F45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8" name="Picture 2" descr="http://www.arunimasoftware.com/images/blog/java.png"/>
          <p:cNvPicPr/>
          <p:nvPr/>
        </p:nvPicPr>
        <p:blipFill>
          <a:blip r:embed="rId1"/>
          <a:stretch/>
        </p:blipFill>
        <p:spPr>
          <a:xfrm>
            <a:off x="6248520" y="80964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GOOD PROGRAMMING PRACTICE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580680" y="1828800"/>
            <a:ext cx="825804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Be careful java is a sensitive language.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It is good to begin every program with a comment  that states the purpose of the program and the author.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Every java program consist of at least one class that the programmer define.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Begin each class name  with capital letter.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The class name doesn’t begin with a digit  and doesn’t contain a space.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Use blank lines and spaces to enhance program readability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When you type an opining left brace{ immediately  type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the closing right brace}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Indent the entire body of each class declaration 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2" name="Slide Number Placeholder 6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93CA-0AF4-44FC-B5D5-993D614ED653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PROGRAMS AND DATA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Most programs require the temporary storage of data. The data to be processed is stored in a temporary storage in the computer's memory:  space memory.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A space memory has three characteristics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3d3d3d"/>
                </a:solidFill>
                <a:latin typeface="Gill Sans MT"/>
              </a:rPr>
              <a:t>Identifier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3d3d3d"/>
                </a:solidFill>
                <a:latin typeface="Gill Sans MT"/>
              </a:rPr>
              <a:t>Data Type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3d3d3d"/>
                </a:solidFill>
                <a:latin typeface="Gill Sans MT"/>
              </a:rPr>
              <a:t>State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5" name="Slide Number Placeholder 6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F2A5-FB65-444F-A9CF-F13DFD5AB41F}" type="slidenum">
              <a:rPr b="0" lang="en-US" sz="900" spc="-1" strike="noStrike">
                <a:solidFill>
                  <a:srgbClr val="903163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 MT"/>
              </a:rPr>
              <a:t>IDENTIFIER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7" name="Slide Number Placeholder 11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DF58-73FB-464E-B06A-73EAA4E2C26B}" type="slidenum">
              <a:rPr b="0" lang="en-US" sz="900" spc="-1" strike="noStrike">
                <a:solidFill>
                  <a:srgbClr val="903163"/>
                </a:solidFill>
                <a:latin typeface="Gill Sans M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9"/>
          <p:cNvSpPr/>
          <p:nvPr/>
        </p:nvSpPr>
        <p:spPr>
          <a:xfrm>
            <a:off x="385920" y="2022480"/>
            <a:ext cx="8381880" cy="2895480"/>
          </a:xfrm>
          <a:prstGeom prst="rect">
            <a:avLst/>
          </a:prstGeom>
          <a:solidFill>
            <a:srgbClr val="ffffff"/>
          </a:solidFill>
          <a:ln cap="rnd" w="22320">
            <a:solidFill>
              <a:srgbClr val="360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 a sequence of characters that denotes the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of the space memory to be use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This name is </a:t>
            </a:r>
            <a:r>
              <a:rPr b="0" lang="en-US" sz="1800" spc="-1" strike="noStrike">
                <a:solidFill>
                  <a:srgbClr val="903163"/>
                </a:solidFill>
                <a:latin typeface="Gill Sans MT"/>
                <a:ea typeface="Arial"/>
              </a:rPr>
              <a:t>unique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 within a progra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03163"/>
                </a:solidFill>
                <a:latin typeface="Gill Sans MT"/>
              </a:rPr>
              <a:t>Identifier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It cannot begin with a digit (0 – 9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It may contain the letters a to z, A to Z, the digits 0 to 9, and the underscore symbol, _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No spaces or punctuation, except the underscore symbol, _, are allowed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Box 10"/>
          <p:cNvSpPr/>
          <p:nvPr/>
        </p:nvSpPr>
        <p:spPr>
          <a:xfrm>
            <a:off x="423720" y="5172120"/>
            <a:ext cx="826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dentifiers in Java are </a:t>
            </a:r>
            <a:r>
              <a:rPr b="0" lang="en-US" sz="1800" spc="-1" strike="noStrike">
                <a:solidFill>
                  <a:srgbClr val="903163"/>
                </a:solidFill>
                <a:latin typeface="Gill Sans MT"/>
              </a:rPr>
              <a:t>case-sensitive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. The identifiers myNumber and mynumber, are seen as two different identifiers by the compil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Gill Sans MT"/>
              </a:rPr>
              <a:t>STAT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1" name="Rectangle 9"/>
          <p:cNvSpPr/>
          <p:nvPr/>
        </p:nvSpPr>
        <p:spPr>
          <a:xfrm>
            <a:off x="385920" y="2416320"/>
            <a:ext cx="8381880" cy="3222360"/>
          </a:xfrm>
          <a:prstGeom prst="rect">
            <a:avLst/>
          </a:prstGeom>
          <a:solidFill>
            <a:srgbClr val="ffffff"/>
          </a:solidFill>
          <a:ln cap="rnd" w="22320">
            <a:solidFill>
              <a:srgbClr val="360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903163"/>
                </a:solidFill>
                <a:latin typeface="Gill Sans MT"/>
              </a:rPr>
              <a:t>My be changed   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3d3d3d"/>
                </a:solidFill>
                <a:latin typeface="Gill Sans MT"/>
              </a:rPr>
              <a:t>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All lowercas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Capitalizing the first letter of each word in a multiword identifier, except for the first wor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903163"/>
                </a:solidFill>
                <a:latin typeface="Gill Sans MT"/>
              </a:rPr>
              <a:t>Cannot be changed 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d3d3d"/>
                </a:solidFill>
                <a:latin typeface="Gill Sans MT"/>
              </a:rPr>
              <a:t> const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All uppercase, separating words within a multiword identifier with the underscore symbol, _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11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23B3-49C9-4051-AE5B-DDC3FEC14745}" type="slidenum">
              <a:rPr b="0" lang="en-US" sz="900" spc="-1" strike="noStrike">
                <a:solidFill>
                  <a:srgbClr val="903163"/>
                </a:solidFill>
                <a:latin typeface="Gill Sans M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ill Sans MT"/>
              </a:rPr>
              <a:t>DATA TYPE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4" name="Rectangle 9"/>
          <p:cNvSpPr/>
          <p:nvPr/>
        </p:nvSpPr>
        <p:spPr>
          <a:xfrm>
            <a:off x="385920" y="2416320"/>
            <a:ext cx="8381880" cy="2895480"/>
          </a:xfrm>
          <a:prstGeom prst="rect">
            <a:avLst/>
          </a:prstGeom>
          <a:solidFill>
            <a:srgbClr val="ffffff"/>
          </a:solidFill>
          <a:ln cap="rnd" w="22320">
            <a:solidFill>
              <a:srgbClr val="360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data type defines what kinds of values a space memory is allowed to sto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 values stored in the same space memory should be of the same data typ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 constants and variables used in a Java program must be defined prior to their use in the program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11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E8FF-8EE6-4EF9-91A7-B1C6F0DBFF84}" type="slidenum">
              <a:rPr b="0" lang="en-US" sz="900" spc="-1" strike="noStrike">
                <a:solidFill>
                  <a:srgbClr val="903163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 MT"/>
              </a:rPr>
              <a:t>JAVA BUILT-IN DATA TYP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7" name="Slide Number Placeholder 11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D45A-E948-4477-8291-16042F98152D}" type="slidenum">
              <a:rPr b="0" lang="en-US" sz="900" spc="-1" strike="noStrike">
                <a:solidFill>
                  <a:srgbClr val="903163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8" name="Object 5"/>
          <p:cNvGraphicFramePr/>
          <p:nvPr/>
        </p:nvGraphicFramePr>
        <p:xfrm>
          <a:off x="380880" y="1798560"/>
          <a:ext cx="8534520" cy="46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98560"/>
                    <a:ext cx="853452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PRIMITIVE DATA TYP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D217-30F4-4319-8493-AF63F2FDB812}" type="slidenum">
              <a:rPr b="0" lang="en-US" sz="900" spc="-1" strike="noStrike">
                <a:solidFill>
                  <a:srgbClr val="903163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304920" y="1851120"/>
          <a:ext cx="8534160" cy="5006880"/>
        </p:xfrm>
        <a:graphic>
          <a:graphicData uri="http://schemas.openxmlformats.org/drawingml/2006/table">
            <a:tbl>
              <a:tblPr/>
              <a:tblGrid>
                <a:gridCol w="1030320"/>
                <a:gridCol w="1068120"/>
                <a:gridCol w="3426120"/>
                <a:gridCol w="300960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>
                      <a:noFill/>
                    </a:lnT>
                    <a:lnB w="720">
                      <a:solidFill>
                        <a:srgbClr val="cccc99"/>
                      </a:solidFill>
                    </a:lnB>
                    <a:solidFill>
                      <a:srgbClr val="6c77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ze (bi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>
                      <a:noFill/>
                    </a:lnT>
                    <a:lnB w="720">
                      <a:solidFill>
                        <a:srgbClr val="cccc99"/>
                      </a:solidFill>
                    </a:lnB>
                    <a:solidFill>
                      <a:srgbClr val="6c77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>
                      <a:noFill/>
                    </a:lnT>
                    <a:lnB w="720">
                      <a:solidFill>
                        <a:srgbClr val="cccc99"/>
                      </a:solidFill>
                    </a:lnB>
                    <a:solidFill>
                      <a:srgbClr val="6c77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>
                      <a:noFill/>
                    </a:lnT>
                    <a:lnB w="720">
                      <a:solidFill>
                        <a:srgbClr val="cccc99"/>
                      </a:solidFill>
                    </a:lnB>
                    <a:solidFill>
                      <a:srgbClr val="6c7781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ol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ue, 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 value that is ei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ue or fals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to 6553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 single 16-bit Unicode charact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28 to +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n integ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2768 to +327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n integ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 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,147,483,648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2,147,483,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n integ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 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9,223,372,036,854,775,8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9,223,372,036,854,775,8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n integ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o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 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curate to 8 significant dig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 single-pr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oating point numb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 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curate to 16 significant dig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 double-pr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oating point numb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VARIABLE/CONSTANT DECLARATION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581040" y="2226960"/>
            <a:ext cx="8182080" cy="409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When the declaration is made, memory space is allocated to store the values of the declared variable or constant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The declaration of a variable means allocating a space memory which state (value) may change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The declaration of a constant means allocating a space memory which state (value) cannot change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1565-C13E-48E4-97C7-7CFFEC593751}" type="slidenum">
              <a:rPr b="0" lang="en-US" sz="900" spc="-1" strike="noStrike">
                <a:solidFill>
                  <a:srgbClr val="903163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ONSTANT DECLARATION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inal</a:t>
            </a:r>
            <a:r>
              <a:rPr b="1" lang="en-US" sz="1800" spc="-1" strike="noStrike">
                <a:solidFill>
                  <a:srgbClr val="3d3d3d"/>
                </a:solidFill>
                <a:latin typeface="Courier New"/>
              </a:rPr>
              <a:t> dataType constIdentifier </a:t>
            </a:r>
            <a:r>
              <a:rPr b="1" i="1" lang="en-US" sz="1800" spc="-1" strike="noStrike">
                <a:solidFill>
                  <a:srgbClr val="3d3d3d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3d3d3d"/>
                </a:solidFill>
                <a:latin typeface="Courier New"/>
              </a:rPr>
              <a:t> literal | expression;</a:t>
            </a:r>
            <a:br>
              <a:rPr sz="1800"/>
            </a:br>
            <a:r>
              <a:rPr b="0" lang="en-US" sz="1900" spc="-1" strike="noStrike">
                <a:solidFill>
                  <a:srgbClr val="7f7f7f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7f7f7f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7f7f7f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7f7f7f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7f7f7f"/>
                </a:solidFill>
                <a:latin typeface="Courier New"/>
              </a:rPr>
              <a:t>	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 double PI               = 3.14159;</a:t>
            </a:r>
            <a:br>
              <a:rPr sz="1800"/>
            </a:br>
            <a:r>
              <a:rPr b="0" lang="en-US" sz="1800" spc="-1" strike="noStrike">
                <a:solidFill>
                  <a:srgbClr val="7f7f7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 int    MONTH_IN_YEAR    = 12;</a:t>
            </a:r>
            <a:br>
              <a:rPr sz="1800"/>
            </a:br>
            <a:r>
              <a:rPr b="0" lang="en-US" sz="1800" spc="-1" strike="noStrike">
                <a:solidFill>
                  <a:srgbClr val="7f7f7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 short  FARADAY_CONSTANT = 23060;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 int MAX               = 1024;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 int MIN               = 128;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 int AVG               = (MAX + MIN) / 2;</a:t>
            </a:r>
            <a:br>
              <a:rPr sz="1800"/>
            </a:b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3C2C-B5A8-4F36-8317-9BBC01612E46}" type="slidenum">
              <a:rPr b="0" lang="en-US" sz="900" spc="-1" strike="noStrike">
                <a:solidFill>
                  <a:srgbClr val="903163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AutoShape 9"/>
          <p:cNvSpPr/>
          <p:nvPr/>
        </p:nvSpPr>
        <p:spPr>
          <a:xfrm>
            <a:off x="6643800" y="3618000"/>
            <a:ext cx="1927080" cy="7142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ｺﾞｼｯｸE"/>
              </a:rPr>
              <a:t>These are called </a:t>
            </a:r>
            <a:r>
              <a:rPr b="0" i="1" lang="en-US" sz="1400" spc="-1" strike="noStrike">
                <a:solidFill>
                  <a:srgbClr val="c1051b"/>
                </a:solidFill>
                <a:latin typeface="Calibri"/>
                <a:ea typeface="HGｺﾞｼｯｸE"/>
              </a:rPr>
              <a:t>literal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AutoShape 14"/>
          <p:cNvSpPr/>
          <p:nvPr/>
        </p:nvSpPr>
        <p:spPr>
          <a:xfrm>
            <a:off x="6653160" y="5145120"/>
            <a:ext cx="1927440" cy="7142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ｺﾞｼｯｸE"/>
              </a:rPr>
              <a:t>This is called </a:t>
            </a:r>
            <a:r>
              <a:rPr b="0" i="1" lang="en-US" sz="1400" spc="-1" strike="noStrike">
                <a:solidFill>
                  <a:srgbClr val="c1051b"/>
                </a:solidFill>
                <a:latin typeface="Calibri"/>
                <a:ea typeface="HGｺﾞｼｯｸE"/>
              </a:rPr>
              <a:t>expressio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VARIABLE DECLARATION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581040" y="2819520"/>
            <a:ext cx="798984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5000"/>
          </a:bodyPr>
          <a:p>
            <a:pPr marL="258840" indent="-25884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Gill Sans MT"/>
              </a:rPr>
              <a:t>A variable may be declared: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lvl="1" marL="534240" indent="-25884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Gill Sans MT"/>
              </a:rPr>
              <a:t>With initial value.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lvl="1" marL="534240" indent="-25884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Gill Sans MT"/>
              </a:rPr>
              <a:t>Without initial value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258840" indent="-25884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Gill Sans MT"/>
              </a:rPr>
              <a:t>Variable declaration with initial value;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lvl="1" marL="534240" indent="-258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3d3d3d"/>
                </a:solidFill>
                <a:latin typeface="Courier New"/>
              </a:rPr>
              <a:t>dataType variableIdentifier </a:t>
            </a:r>
            <a:r>
              <a:rPr b="1" i="1" lang="en-US" sz="1800" spc="-1" strike="noStrike">
                <a:solidFill>
                  <a:srgbClr val="3d3d3d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3d3d3d"/>
                </a:solidFill>
                <a:latin typeface="Courier New"/>
              </a:rPr>
              <a:t> literal | expression;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534240" indent="-258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double avg    = 0.0;</a:t>
            </a:r>
            <a:br>
              <a:rPr sz="1800"/>
            </a:b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int    i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    = 1;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534240" indent="-258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int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x =5, y = 7, z = (x+y)*3;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258840" indent="-25884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Gill Sans MT"/>
              </a:rPr>
              <a:t>Variable declaration without initial value;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258840" indent="-258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d3d3d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d3d3d"/>
                </a:solidFill>
                <a:latin typeface="Courier New"/>
              </a:rPr>
              <a:t>dataType variableIdentifier;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534240" indent="-258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double avg;</a:t>
            </a:r>
            <a:br>
              <a:rPr sz="1800"/>
            </a:b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int    i;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258840" indent="-25884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258840" indent="-25884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2723-5D03-4710-9CDD-FE75990BBBD1}" type="slidenum">
              <a:rPr b="0" lang="en-US" sz="900" spc="-1" strike="noStrike">
                <a:solidFill>
                  <a:srgbClr val="903163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WHAT IS JAVA</a:t>
            </a:r>
            <a:r>
              <a:rPr b="0" lang="ar-SA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581040" y="2226960"/>
            <a:ext cx="7989840" cy="409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marL="289440" indent="-289440">
              <a:spcBef>
                <a:spcPts val="601"/>
              </a:spcBef>
              <a:buClr>
                <a:srgbClr val="903163"/>
              </a:buClr>
              <a:buSzPct val="92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Java is a programming language and computing platform first released by </a:t>
            </a:r>
            <a:r>
              <a:rPr b="0" lang="en-US" sz="2400" spc="-1" strike="noStrike">
                <a:solidFill>
                  <a:srgbClr val="903163"/>
                </a:solidFill>
                <a:latin typeface="Gill Sans MT"/>
              </a:rPr>
              <a:t>Sun Microsystems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in 1995. 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9440" indent="-289440">
              <a:spcBef>
                <a:spcPts val="601"/>
              </a:spcBef>
              <a:buClr>
                <a:srgbClr val="903163"/>
              </a:buClr>
              <a:buSzPct val="92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ＭＳ Ｐゴシック"/>
              </a:rPr>
              <a:t>The language derives much of its syntax from C and C++ but has a simpler object model and fewer low-level facilities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9440" indent="-289440">
              <a:lnSpc>
                <a:spcPct val="90000"/>
              </a:lnSpc>
              <a:spcBef>
                <a:spcPts val="601"/>
              </a:spcBef>
              <a:buClr>
                <a:srgbClr val="903163"/>
              </a:buClr>
              <a:buSzPct val="92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ＭＳ Ｐゴシック"/>
              </a:rPr>
              <a:t>The Java language is accompanied by a </a:t>
            </a:r>
            <a:r>
              <a:rPr b="1" lang="en-US" sz="2400" spc="-1" strike="noStrike" u="sng">
                <a:solidFill>
                  <a:srgbClr val="903163"/>
                </a:solidFill>
                <a:uFillTx/>
                <a:latin typeface="Gill Sans MT"/>
                <a:ea typeface="ＭＳ Ｐゴシック"/>
              </a:rPr>
              <a:t>library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ＭＳ Ｐゴシック"/>
              </a:rPr>
              <a:t>of extra software that we can use when developing programs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596880" indent="-289080">
              <a:lnSpc>
                <a:spcPct val="90000"/>
              </a:lnSpc>
              <a:spcBef>
                <a:spcPts val="601"/>
              </a:spcBef>
              <a:buClr>
                <a:srgbClr val="903163"/>
              </a:buClr>
              <a:buSzPct val="9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ＭＳ Ｐゴシック"/>
              </a:rPr>
              <a:t>The library provides the ability to create graphics, communicate over networks, and interact with databases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596880" indent="-289080">
              <a:lnSpc>
                <a:spcPct val="90000"/>
              </a:lnSpc>
              <a:spcBef>
                <a:spcPts val="601"/>
              </a:spcBef>
              <a:buClr>
                <a:srgbClr val="903163"/>
              </a:buClr>
              <a:buSzPct val="9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ＭＳ Ｐゴシック"/>
              </a:rPr>
              <a:t>The set of supporting libraries is </a:t>
            </a:r>
            <a:r>
              <a:rPr b="1" lang="en-US" sz="2400" spc="-1" strike="noStrike">
                <a:solidFill>
                  <a:srgbClr val="903163"/>
                </a:solidFill>
                <a:latin typeface="Gill Sans MT"/>
                <a:ea typeface="ＭＳ Ｐゴシック"/>
              </a:rPr>
              <a:t>huge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ＭＳ Ｐゴシック"/>
              </a:rPr>
              <a:t>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9440" indent="-289440">
              <a:spcBef>
                <a:spcPts val="601"/>
              </a:spcBef>
              <a:buClr>
                <a:srgbClr val="903163"/>
              </a:buClr>
              <a:buSzPct val="92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61" name="Slide Number Placeholder 6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0EBA-AE45-4534-8B56-D402A6970DC0}" type="slidenum">
              <a:rPr b="0" lang="en-US" sz="900" spc="-1" strike="noStrike">
                <a:solidFill>
                  <a:srgbClr val="898989"/>
                </a:solidFill>
                <a:latin typeface="Gill Sans M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MORE DECLARATION EXAMPL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6840" y="2636640"/>
            <a:ext cx="3886200" cy="42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tring declaration 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with initial value: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tring word="Apple";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without initial value: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tring word;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har declaration 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with initial value: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har symbol ='*';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without initial value: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har symbol;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04D2-BE25-4EF1-BCAB-5A5ABB0FAEFD}" type="slidenum">
              <a:rPr b="0" lang="en-US" sz="900" spc="-1" strike="noStrike">
                <a:solidFill>
                  <a:srgbClr val="903163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Content Placeholder 8"/>
          <p:cNvSpPr/>
          <p:nvPr/>
        </p:nvSpPr>
        <p:spPr>
          <a:xfrm>
            <a:off x="4576680" y="200484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oolean declarati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with initial valu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boolean flag=fals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boolean valid=tru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without initial valu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boolean flag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VARIABL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Majalla U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581040" y="2133360"/>
            <a:ext cx="7989840" cy="37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7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d3d3d"/>
                </a:solidFill>
                <a:latin typeface="Gill Sans MT"/>
              </a:rPr>
              <a:t>Float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The default type of floating point numbers is double 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The declaration :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float rate = 15.5</a:t>
            </a:r>
            <a:r>
              <a:rPr b="1" lang="en-US" sz="2400" spc="-1" strike="noStrike">
                <a:solidFill>
                  <a:srgbClr val="ff0066"/>
                </a:solidFill>
                <a:latin typeface="Gill Sans MT"/>
                <a:ea typeface="Times New Roman"/>
              </a:rPr>
              <a:t>f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; 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ar-SA" sz="24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without the </a:t>
            </a:r>
            <a:r>
              <a:rPr b="1" lang="en-US" sz="2400" spc="-1" strike="noStrike">
                <a:solidFill>
                  <a:srgbClr val="ff0066"/>
                </a:solidFill>
                <a:latin typeface="Gill Sans MT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 , the compiler will generate an error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5D76-E0FF-4340-996A-96BEAF91F38B}" type="slidenum">
              <a:rPr b="0" lang="en-US" sz="900" spc="-1" strike="noStrike">
                <a:solidFill>
                  <a:srgbClr val="3d3d3d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VARIABLES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581040" y="1905120"/>
            <a:ext cx="7989840" cy="39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har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Gill Sans MT"/>
              </a:rPr>
              <a:t>When using the char data type, you enclose each character represented within single quotations marks.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Gill Sans MT"/>
              </a:rPr>
              <a:t>Ex: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Gill Sans MT"/>
              </a:rPr>
              <a:t>	</a:t>
            </a:r>
            <a:r>
              <a:rPr b="0" lang="en-US" sz="1600" spc="-1" strike="noStrike">
                <a:solidFill>
                  <a:srgbClr val="3d3d3d"/>
                </a:solidFill>
                <a:latin typeface="Gill Sans MT"/>
              </a:rPr>
              <a:t>char c = ‘A’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Gill Sans MT"/>
              </a:rPr>
              <a:t>	</a:t>
            </a:r>
            <a:r>
              <a:rPr b="0" lang="en-US" sz="1600" spc="-1" strike="noStrike">
                <a:solidFill>
                  <a:srgbClr val="3d3d3d"/>
                </a:solidFill>
                <a:latin typeface="Gill Sans MT"/>
              </a:rPr>
              <a:t>char space = ‘ ‘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Gill Sans MT"/>
              </a:rPr>
              <a:t>Each character is represented by a value (‘A’ is represented by the value 65)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8CAD-F356-434E-9BE2-55CC275BC922}" type="slidenum">
              <a:rPr b="0" lang="en-US" sz="900" spc="-1" strike="noStrike">
                <a:solidFill>
                  <a:srgbClr val="3d3d3d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990720" y="4481640"/>
            <a:ext cx="4495680" cy="1676160"/>
          </a:xfrm>
          <a:prstGeom prst="rect">
            <a:avLst/>
          </a:prstGeom>
          <a:solidFill>
            <a:srgbClr val="ffffff"/>
          </a:solidFill>
          <a:ln cap="rnd" w="22320">
            <a:solidFill>
              <a:srgbClr val="4d1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Gill Sans MT"/>
                <a:ea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 aCharecter='A'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Gill Sans MT"/>
                <a:ea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 aAscii =6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System.out.println(aCharect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System.out.println(aAsci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6781680" y="4648320"/>
            <a:ext cx="914400" cy="1143000"/>
          </a:xfrm>
          <a:prstGeom prst="rect">
            <a:avLst/>
          </a:prstGeom>
          <a:solidFill>
            <a:srgbClr val="4d1434"/>
          </a:solidFill>
          <a:ln cap="rnd" w="22320">
            <a:solidFill>
              <a:srgbClr val="360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229600" cy="6019560"/>
          </a:xfrm>
          <a:prstGeom prst="rect">
            <a:avLst/>
          </a:prstGeom>
          <a:ln w="0">
            <a:noFill/>
          </a:ln>
        </p:spPr>
      </p:pic>
      <p:sp>
        <p:nvSpPr>
          <p:cNvPr id="537" name="Slide Number Placeholder 2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5B0C-E2E4-4E18-9E2E-E50D305A7FDF}" type="slidenum">
              <a:rPr b="0" lang="en-US" sz="900" spc="-1" strike="noStrike">
                <a:solidFill>
                  <a:srgbClr val="3d3d3d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TYPE CONVERSION (CASTING)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554040" y="2055960"/>
            <a:ext cx="7989840" cy="39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</a:rPr>
              <a:t>Used: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o change one data type to another 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o avoid implicit type correction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</a:rPr>
              <a:t>Syntax: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231f20"/>
                </a:solidFill>
                <a:latin typeface="Courier New"/>
              </a:rPr>
              <a:t>(dataTypeName) expression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</a:rPr>
              <a:t>Expression evaluated first, then the value is  converted to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</a:rPr>
              <a:t>dataTypeName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6E2D-BF09-4E0B-A643-A638FD13A09E}" type="slidenum">
              <a:rPr b="0" lang="ar-SA" sz="1400" spc="-1" strike="noStrike">
                <a:solidFill>
                  <a:srgbClr val="3d3d3d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TYPE CONVERSION (CASTING)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d3d3d"/>
                </a:solidFill>
                <a:latin typeface="Gill Sans MT"/>
              </a:rPr>
              <a:t>Examples: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Courier New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</a:rPr>
              <a:t>(</a:t>
            </a:r>
            <a:r>
              <a:rPr b="0" lang="en-US" sz="2400" spc="-1" strike="noStrike">
                <a:solidFill>
                  <a:srgbClr val="903163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231f20"/>
                </a:solidFill>
                <a:latin typeface="Courier New"/>
              </a:rPr>
              <a:t>)(7.9 + 6.7) = 14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Courier New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</a:rPr>
              <a:t>(</a:t>
            </a:r>
            <a:r>
              <a:rPr b="0" lang="en-US" sz="2400" spc="-1" strike="noStrike">
                <a:solidFill>
                  <a:srgbClr val="903163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231f20"/>
                </a:solidFill>
                <a:latin typeface="Courier New"/>
              </a:rPr>
              <a:t>)(7.9) + (</a:t>
            </a:r>
            <a:r>
              <a:rPr b="0" lang="en-US" sz="2400" spc="-1" strike="noStrike">
                <a:solidFill>
                  <a:srgbClr val="903163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231f20"/>
                </a:solidFill>
                <a:latin typeface="Courier New"/>
              </a:rPr>
              <a:t>)(6.7) = 13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Courier New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</a:rPr>
              <a:t>(double)(17) = 17.0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Courier New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  <a:ea typeface="Courier New"/>
              </a:rPr>
              <a:t>(double)(7) /2 = 7.0/2 = 3.5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Courier New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  <a:ea typeface="Courier New"/>
              </a:rPr>
              <a:t>(double)(7/2) = 3.0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Courier New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  <a:ea typeface="Courier New"/>
              </a:rPr>
              <a:t>(int)(7.8+(double)(15)/2) =(int)15.3 =15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Courier New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43" name="Slide Number Placeholder 4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7BF7-5FA1-44D8-BB1F-2CE8A58F0DE9}" type="slidenum">
              <a:rPr b="0" lang="ar-SA" sz="1400" spc="-1" strike="noStrike">
                <a:solidFill>
                  <a:srgbClr val="3d3d3d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2971800" y="5562720"/>
            <a:ext cx="3505320" cy="1222200"/>
          </a:xfrm>
          <a:prstGeom prst="rect">
            <a:avLst/>
          </a:prstGeom>
          <a:solidFill>
            <a:srgbClr val="ffffff"/>
          </a:solidFill>
          <a:ln cap="rnd" w="22320">
            <a:solidFill>
              <a:srgbClr val="4d1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ouble x=7.9 ,y= 6.7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t resul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esult=(int)(7.9 + 6.7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TYPE CONVERSION (CASTING)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09480" indent="-609480">
              <a:lnSpc>
                <a:spcPct val="6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609480" indent="-609480">
              <a:lnSpc>
                <a:spcPct val="6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Courier New"/>
              <a:buAutoNum type="arabicPeriod" startAt="8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231f20"/>
                </a:solidFill>
                <a:latin typeface="Courier New"/>
                <a:ea typeface="Courier New"/>
              </a:rPr>
              <a:t>(int)(‘A’) = 65 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609480" indent="-609480">
              <a:lnSpc>
                <a:spcPct val="6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Courier New"/>
              <a:buAutoNum type="arabicPeriod" startAt="8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231f20"/>
                </a:solidFill>
                <a:latin typeface="Courier New"/>
                <a:ea typeface="Courier New"/>
              </a:rPr>
              <a:t>(int)(‘8’) = 56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609480" indent="-609480">
              <a:lnSpc>
                <a:spcPct val="6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Courier New"/>
              <a:buAutoNum type="arabicPeriod" startAt="8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231f20"/>
                </a:solidFill>
                <a:latin typeface="Courier New"/>
                <a:ea typeface="Courier New"/>
              </a:rPr>
              <a:t>(char)(65) = ‘A’ 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609480" indent="-609480">
              <a:lnSpc>
                <a:spcPct val="6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Courier New"/>
              <a:buAutoNum type="arabicPeriod" startAt="8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231f20"/>
                </a:solidFill>
                <a:latin typeface="Courier New"/>
                <a:ea typeface="Courier New"/>
              </a:rPr>
              <a:t>(char)</a:t>
            </a:r>
            <a:r>
              <a:rPr b="0" lang="en-US" sz="2200" spc="-1" strike="noStrike">
                <a:solidFill>
                  <a:srgbClr val="231f20"/>
                </a:solidFill>
                <a:latin typeface="Courier New"/>
                <a:ea typeface="Courier New"/>
              </a:rPr>
              <a:t>(56)  = ‘8’ 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609480" indent="-609480">
              <a:lnSpc>
                <a:spcPct val="6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609480" indent="-609480">
              <a:lnSpc>
                <a:spcPct val="6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231f2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231f20"/>
                </a:solidFill>
                <a:latin typeface="Courier New"/>
                <a:ea typeface="Courier New"/>
              </a:rPr>
              <a:t>	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609480" indent="-609480">
              <a:lnSpc>
                <a:spcPct val="6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609480" indent="-609480">
              <a:lnSpc>
                <a:spcPct val="60000"/>
              </a:lnSpc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800" spc="-1" strike="noStrike">
                <a:solidFill>
                  <a:srgbClr val="231f20"/>
                </a:solidFill>
                <a:latin typeface="Courier New"/>
                <a:ea typeface="Courier New"/>
              </a:rPr>
              <a:t>	</a:t>
            </a:r>
            <a:r>
              <a:rPr b="0" lang="en-US" sz="800" spc="-1" strike="noStrike">
                <a:solidFill>
                  <a:srgbClr val="231f20"/>
                </a:solidFill>
                <a:latin typeface="Courier New"/>
                <a:ea typeface="Courier New"/>
              </a:rPr>
              <a:t> </a:t>
            </a:r>
            <a:endParaRPr b="0" lang="en-US" sz="800" spc="-1" strike="noStrike">
              <a:solidFill>
                <a:srgbClr val="3d3d3d"/>
              </a:solidFill>
              <a:latin typeface="Gill Sans MT"/>
            </a:endParaRPr>
          </a:p>
          <a:p>
            <a:pPr marL="609480" indent="-609480">
              <a:lnSpc>
                <a:spcPct val="60000"/>
              </a:lnSpc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800" spc="-1" strike="noStrike">
              <a:solidFill>
                <a:srgbClr val="3d3d3d"/>
              </a:solidFill>
              <a:latin typeface="Gill Sans MT"/>
            </a:endParaRPr>
          </a:p>
          <a:p>
            <a:pPr marL="609480" indent="-609480">
              <a:lnSpc>
                <a:spcPct val="60000"/>
              </a:lnSpc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800" spc="-1" strike="noStrike">
                <a:solidFill>
                  <a:srgbClr val="231f20"/>
                </a:solidFill>
                <a:latin typeface="Courier New"/>
                <a:ea typeface="Courier New"/>
              </a:rPr>
              <a:t>	</a:t>
            </a:r>
            <a:r>
              <a:rPr b="0" lang="en-US" sz="800" spc="-1" strike="noStrike">
                <a:solidFill>
                  <a:srgbClr val="231f20"/>
                </a:solidFill>
                <a:latin typeface="Courier New"/>
                <a:ea typeface="Courier New"/>
              </a:rPr>
              <a:t> </a:t>
            </a:r>
            <a:endParaRPr b="0" lang="en-US" sz="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47" name="Slide Number Placeholder 4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450F-3662-40B6-8B23-F63C189CA820}" type="slidenum">
              <a:rPr b="0" lang="ar-SA" sz="1400" spc="-1" strike="noStrike">
                <a:solidFill>
                  <a:srgbClr val="3d3d3d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THE CLASS STRING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580680" y="2226960"/>
            <a:ext cx="82580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Contains operations to manipulate strings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String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</a:rPr>
              <a:t>Sequence of zero or more characters.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</a:rPr>
              <a:t>Enclosed in double quotation marks.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</a:rPr>
              <a:t>Is processed as a single unit .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</a:rPr>
              <a:t>Null or empty strings have no characters. “ “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</a:rPr>
              <a:t>Every character has a relative position , the first character is in position 0 .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6903-E4CE-4B1B-8699-4370958500B2}" type="slidenum">
              <a:rPr b="0" lang="ar-SA" sz="1400" spc="-1" strike="noStrike">
                <a:solidFill>
                  <a:srgbClr val="3d3d3d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4AB7-30CD-4E5F-805B-8675C5B8F18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THE CLASS STRING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</a:rPr>
              <a:t>Java system automatically makes the class </a:t>
            </a:r>
            <a:r>
              <a:rPr b="1" lang="en-US" sz="2000" spc="-1" strike="noStrike">
                <a:solidFill>
                  <a:srgbClr val="3d3d3d"/>
                </a:solidFill>
                <a:latin typeface="Gill Sans MT"/>
              </a:rPr>
              <a:t>String 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</a:rPr>
              <a:t>available (i.e 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no need to import this class 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</a:rPr>
              <a:t>)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Example :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Consider the following declaration :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nsolas"/>
                <a:ea typeface="Consolas"/>
              </a:rPr>
              <a:t>String  sentence ; 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nsolas"/>
                <a:ea typeface="Consolas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nsolas"/>
                <a:ea typeface="Consolas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nsolas"/>
                <a:ea typeface="Consolas"/>
              </a:rPr>
              <a:t>sentence = “programming with java”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55" name="Slide Number Placeholder 1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453A-915D-4485-B7EA-7B06E11E787A}" type="slidenum">
              <a:rPr b="0" lang="en-US" sz="900" spc="-1" strike="noStrike">
                <a:solidFill>
                  <a:srgbClr val="903163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THE CLASS STRING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295560" indent="-29556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295560" indent="-29556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</a:rPr>
              <a:t>Length of the string  is the number of characters in it .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295560" indent="-29556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</a:rPr>
              <a:t>When determining the length of  a  string , 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blanks count .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295560" indent="-29556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</a:rPr>
              <a:t>Example :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lvl="1" marL="609480" indent="-29520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Gill Sans MT"/>
              </a:rPr>
              <a:t>“ “ </a:t>
            </a:r>
            <a:r>
              <a:rPr b="0" lang="en-US" sz="2200" spc="-1" strike="noStrike">
                <a:solidFill>
                  <a:srgbClr val="3d3d3d"/>
                </a:solidFill>
                <a:latin typeface="Wingdings"/>
                <a:ea typeface="Wingdings"/>
              </a:rPr>
              <a:t></a:t>
            </a:r>
            <a:r>
              <a:rPr b="0" lang="en-US" sz="2200" spc="-1" strike="noStrike">
                <a:solidFill>
                  <a:srgbClr val="3d3d3d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3d3d3d"/>
                </a:solidFill>
                <a:latin typeface="Gill Sans MT"/>
              </a:rPr>
              <a:t>has length = 0 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lvl="1" marL="609480" indent="-29520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Gill Sans MT"/>
              </a:rPr>
              <a:t>“</a:t>
            </a:r>
            <a:r>
              <a:rPr b="0" lang="en-US" sz="2200" spc="-1" strike="noStrike">
                <a:solidFill>
                  <a:srgbClr val="3d3d3d"/>
                </a:solidFill>
                <a:latin typeface="Gill Sans MT"/>
              </a:rPr>
              <a:t>abc”   </a:t>
            </a:r>
            <a:r>
              <a:rPr b="0" lang="en-US" sz="2200" spc="-1" strike="noStrike">
                <a:solidFill>
                  <a:srgbClr val="3d3d3d"/>
                </a:solidFill>
                <a:latin typeface="Wingdings"/>
                <a:ea typeface="Wingdings"/>
              </a:rPr>
              <a:t></a:t>
            </a:r>
            <a:r>
              <a:rPr b="0" lang="en-US" sz="2200" spc="-1" strike="noStrike">
                <a:solidFill>
                  <a:srgbClr val="3d3d3d"/>
                </a:solidFill>
                <a:latin typeface="Gill Sans MT"/>
              </a:rPr>
              <a:t> has length = 3  , position of a = 0 ,b= 1 , c= 2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lvl="1" marL="609480" indent="-29520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Gill Sans MT"/>
              </a:rPr>
              <a:t>“</a:t>
            </a:r>
            <a:r>
              <a:rPr b="0" lang="en-US" sz="2200" spc="-1" strike="noStrike">
                <a:solidFill>
                  <a:srgbClr val="3d3d3d"/>
                </a:solidFill>
                <a:latin typeface="Gill Sans MT"/>
              </a:rPr>
              <a:t>a  boy” </a:t>
            </a:r>
            <a:r>
              <a:rPr b="0" lang="en-US" sz="2200" spc="-1" strike="noStrike">
                <a:solidFill>
                  <a:srgbClr val="3d3d3d"/>
                </a:solidFill>
                <a:latin typeface="Wingdings"/>
                <a:ea typeface="Wingdings"/>
              </a:rPr>
              <a:t></a:t>
            </a:r>
            <a:r>
              <a:rPr b="0" lang="en-US" sz="2200" spc="-1" strike="noStrike">
                <a:solidFill>
                  <a:srgbClr val="3d3d3d"/>
                </a:solidFill>
                <a:latin typeface="Gill Sans MT"/>
              </a:rPr>
              <a:t> has length = 5  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lvl="1" marL="609480" indent="-29520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295560" indent="-2955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58" name="Slide Number Placeholder 4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B8E1-95C2-455E-89B5-7B141746CDCF}" type="slidenum">
              <a:rPr b="0" lang="ar-SA" sz="1400" spc="-1" strike="noStrike">
                <a:solidFill>
                  <a:srgbClr val="3d3d3d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 MT"/>
              </a:rPr>
              <a:t>JAVA APPLICATIONS AND APPLET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3" name="Slide Number Placeholder 11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E031-5F03-4CCA-AEE9-AED99C1C7BCA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Rectangle 9"/>
          <p:cNvSpPr/>
          <p:nvPr/>
        </p:nvSpPr>
        <p:spPr>
          <a:xfrm>
            <a:off x="385920" y="1990800"/>
            <a:ext cx="8381880" cy="2361960"/>
          </a:xfrm>
          <a:prstGeom prst="rect">
            <a:avLst/>
          </a:prstGeom>
          <a:solidFill>
            <a:srgbClr val="ffffff"/>
          </a:solidFill>
          <a:ln cap="rnd" w="22320">
            <a:solidFill>
              <a:srgbClr val="360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903163"/>
                </a:solidFill>
                <a:latin typeface="Gill Sans MT"/>
              </a:rPr>
              <a:t>Applications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 – standalone Java 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903163"/>
                </a:solidFill>
                <a:latin typeface="Gill Sans MT"/>
              </a:rPr>
              <a:t>Applets</a:t>
            </a:r>
            <a:r>
              <a:rPr b="0" i="1" lang="en-GB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– Java programs that run inside web brow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Box 10"/>
          <p:cNvSpPr/>
          <p:nvPr/>
        </p:nvSpPr>
        <p:spPr>
          <a:xfrm>
            <a:off x="-25920" y="4751280"/>
            <a:ext cx="925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Java is the first programming language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 MT"/>
                <a:ea typeface="ＭＳ Ｐゴシック"/>
              </a:rPr>
              <a:t>deliberately embr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the concept of writing programs th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03163"/>
                </a:solidFill>
                <a:latin typeface="Gill Sans MT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903163"/>
                </a:solidFill>
                <a:latin typeface="Gill Sans MT"/>
                <a:ea typeface="ＭＳ Ｐゴシック"/>
              </a:rPr>
              <a:t>can be executed on the Web</a:t>
            </a: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4FEE-4142-4D29-9675-10E4675F5B4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80680" y="687240"/>
            <a:ext cx="833436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SOME COMMONLY USED STRING METHOD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562" name="Picture 9" descr=""/>
          <p:cNvPicPr/>
          <p:nvPr/>
        </p:nvPicPr>
        <p:blipFill>
          <a:blip r:embed="rId1"/>
          <a:stretch/>
        </p:blipFill>
        <p:spPr>
          <a:xfrm>
            <a:off x="311040" y="1871640"/>
            <a:ext cx="7912080" cy="2533680"/>
          </a:xfrm>
          <a:prstGeom prst="rect">
            <a:avLst/>
          </a:prstGeom>
          <a:ln w="0">
            <a:noFill/>
          </a:ln>
        </p:spPr>
      </p:pic>
      <p:sp>
        <p:nvSpPr>
          <p:cNvPr id="563" name="Rectangle 9"/>
          <p:cNvSpPr/>
          <p:nvPr/>
        </p:nvSpPr>
        <p:spPr>
          <a:xfrm>
            <a:off x="228600" y="4560840"/>
            <a:ext cx="6095880" cy="1447920"/>
          </a:xfrm>
          <a:prstGeom prst="rect">
            <a:avLst/>
          </a:prstGeom>
          <a:solidFill>
            <a:srgbClr val="ffffff"/>
          </a:solidFill>
          <a:ln cap="rnd" w="22320">
            <a:solidFill>
              <a:srgbClr val="4d1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tring mystr=new String("programming with Java is fun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ystem.out.println(myst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ystem.out.println(mystr.charAt(3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ystem.out.println(mystr.indexOf('J'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ystem.out.println(mystr.indexOf(‘j'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Rectangle 10"/>
          <p:cNvSpPr/>
          <p:nvPr/>
        </p:nvSpPr>
        <p:spPr>
          <a:xfrm>
            <a:off x="5943600" y="4659480"/>
            <a:ext cx="3200400" cy="1218960"/>
          </a:xfrm>
          <a:prstGeom prst="rect">
            <a:avLst/>
          </a:prstGeom>
          <a:solidFill>
            <a:srgbClr val="4d1434"/>
          </a:solidFill>
          <a:ln cap="rnd" w="22320">
            <a:solidFill>
              <a:srgbClr val="360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programming with Java is fu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1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47E8-93B3-429A-9C40-9D9C83FBB819}" type="slidenum">
              <a:rPr b="0" lang="en-US" sz="900" spc="-1" strike="noStrike">
                <a:solidFill>
                  <a:srgbClr val="903163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5EC2-4466-4D47-9328-D85B053AE9E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SOME COMMONLY USED STRING METHOD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569" name="Picture 6" descr=""/>
          <p:cNvPicPr/>
          <p:nvPr/>
        </p:nvPicPr>
        <p:blipFill>
          <a:blip r:embed="rId1"/>
          <a:stretch/>
        </p:blipFill>
        <p:spPr>
          <a:xfrm>
            <a:off x="380880" y="2171880"/>
            <a:ext cx="8382240" cy="125244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7" descr=""/>
          <p:cNvPicPr/>
          <p:nvPr/>
        </p:nvPicPr>
        <p:blipFill>
          <a:blip r:embed="rId2"/>
          <a:stretch/>
        </p:blipFill>
        <p:spPr>
          <a:xfrm>
            <a:off x="358920" y="3637080"/>
            <a:ext cx="8381880" cy="104616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8" descr=""/>
          <p:cNvPicPr/>
          <p:nvPr/>
        </p:nvPicPr>
        <p:blipFill>
          <a:blip r:embed="rId3"/>
          <a:stretch/>
        </p:blipFill>
        <p:spPr>
          <a:xfrm>
            <a:off x="380880" y="4962600"/>
            <a:ext cx="8382240" cy="1284120"/>
          </a:xfrm>
          <a:prstGeom prst="rect">
            <a:avLst/>
          </a:prstGeom>
          <a:ln w="0">
            <a:noFill/>
          </a:ln>
        </p:spPr>
      </p:pic>
      <p:sp>
        <p:nvSpPr>
          <p:cNvPr id="572" name="Slide Number Placeholder 1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530B-ACC2-46A9-8231-F1349A28957D}" type="slidenum">
              <a:rPr b="0" lang="en-US" sz="900" spc="-1" strike="noStrike">
                <a:solidFill>
                  <a:srgbClr val="903163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409680" y="2146320"/>
            <a:ext cx="7391160" cy="2041560"/>
          </a:xfrm>
          <a:prstGeom prst="rect">
            <a:avLst/>
          </a:prstGeom>
          <a:solidFill>
            <a:srgbClr val="ffffff"/>
          </a:solidFill>
          <a:ln cap="rnd" w="22320">
            <a:solidFill>
              <a:srgbClr val="4d1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String mystr=new String("programming with Java is fun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System.out.println(myst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System.out.println(mystr.indexOf('a',10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System.out.println(mystr.indexOf("with"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System.out.println(mystr.indexOf("ing"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5029200" y="4357800"/>
            <a:ext cx="3809880" cy="2133360"/>
          </a:xfrm>
          <a:prstGeom prst="rect">
            <a:avLst/>
          </a:prstGeom>
          <a:solidFill>
            <a:srgbClr val="4d1434"/>
          </a:solidFill>
          <a:ln cap="rnd" w="22320">
            <a:solidFill>
              <a:srgbClr val="360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programming with Java is fu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1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9D4A-B1CE-4043-986C-73BA8CC8D244}" type="slidenum">
              <a:rPr b="0" lang="en-US" sz="900" spc="-1" strike="noStrike">
                <a:solidFill>
                  <a:srgbClr val="903163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8D32-590D-442C-BD75-32B8D7A566A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818208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SOME COMMONLY USED STRING METHOD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graphicFrame>
        <p:nvGraphicFramePr>
          <p:cNvPr id="580" name="Object 5"/>
          <p:cNvGraphicFramePr/>
          <p:nvPr/>
        </p:nvGraphicFramePr>
        <p:xfrm>
          <a:off x="581040" y="2133720"/>
          <a:ext cx="8182080" cy="33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2133720"/>
                    <a:ext cx="8182080" cy="33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Slide Number Placeholder 1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BDA4-C5B6-4BA3-8E89-90977E5FADB0}" type="slidenum">
              <a:rPr b="0" lang="en-US" sz="900" spc="-1" strike="noStrike">
                <a:solidFill>
                  <a:srgbClr val="903163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BED8-310D-4787-9715-B8D8C0E13AB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EXAMPLES ON STRING METHOD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301680" indent="-3016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Consolas"/>
                <a:ea typeface="Consolas"/>
              </a:rPr>
              <a:t>String s1 , s2 , s3 ;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Consolas"/>
                <a:ea typeface="Consolas"/>
              </a:rPr>
              <a:t>s1 = “abcdefeg” ;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Consolas"/>
                <a:ea typeface="Consolas"/>
              </a:rPr>
              <a:t>System.out.println( s1.length() );   // 8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Consolas"/>
                <a:ea typeface="Consolas"/>
              </a:rPr>
              <a:t>System.out.println(s1.charAt(3));    //d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Consolas"/>
                <a:ea typeface="Consolas"/>
              </a:rPr>
              <a:t>System.out.println(s1.indexOf(‘e’));  //4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Consolas"/>
                <a:ea typeface="Consolas"/>
              </a:rPr>
              <a:t>System.out.println(s1.indexOf(“cd”)); //2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Consolas"/>
                <a:ea typeface="Consolas"/>
              </a:rPr>
              <a:t>System.out.println(s1.toUpperCase()); //ABCDEFEG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87" name="Slide Number Placeholder 1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0485-2D02-4030-BA18-A1C519C7FFAA}" type="slidenum">
              <a:rPr b="0" lang="en-US" sz="900" spc="-1" strike="noStrike">
                <a:solidFill>
                  <a:srgbClr val="903163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79D3-F591-43D5-A3BB-2A317209BDC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EXAMPLES ON STRING METHOD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nsolas"/>
                <a:ea typeface="Consolas"/>
              </a:rPr>
              <a:t>System.out.println(s1.substring(1 , 4)); //bcd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nsolas"/>
                <a:ea typeface="Consolas"/>
              </a:rPr>
              <a:t>System.out.println(s1 + “xyz”); // abcdefegxyz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nsolas"/>
                <a:ea typeface="Consolas"/>
              </a:rPr>
              <a:t>System.out.println( s1.replace(‘d’ ,’D’)); // abcDefeg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nsolas"/>
                <a:ea typeface="Consolas"/>
              </a:rPr>
              <a:t>System.out.println(s1.charAt(4) );  // e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nsolas"/>
                <a:ea typeface="Consolas"/>
              </a:rPr>
              <a:t>System.out.println(s1.indexOf(‘b’));  // 1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nsolas"/>
                <a:ea typeface="Consolas"/>
              </a:rPr>
              <a:t>System.out.println(s1.indexOf(‘e’,5));  // 6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nsolas"/>
                <a:ea typeface="Consolas"/>
              </a:rPr>
              <a:t> 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92" name="Slide Number Placeholder 1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C420-7CCF-4A1C-A4D2-DA24DBAB25EC}" type="slidenum">
              <a:rPr b="0" lang="en-US" sz="900" spc="-1" strike="noStrike">
                <a:solidFill>
                  <a:srgbClr val="903163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COMPILING JAVA PROGRAM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580680" y="2227320"/>
            <a:ext cx="8334360" cy="376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3d3d3d"/>
                </a:solidFill>
                <a:uFillTx/>
                <a:latin typeface="Gill Sans MT"/>
                <a:ea typeface="Majalla UI"/>
              </a:rPr>
              <a:t>The Java compiler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produces </a:t>
            </a:r>
            <a:r>
              <a:rPr b="0" i="1" lang="en-US" sz="2400" spc="-1" strike="noStrike">
                <a:solidFill>
                  <a:srgbClr val="903163"/>
                </a:solidFill>
                <a:latin typeface="Gill Sans MT"/>
                <a:ea typeface="Majalla UI"/>
              </a:rPr>
              <a:t>bytecode</a:t>
            </a:r>
            <a:r>
              <a:rPr b="0" i="1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(a “.class” file)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not machine code from the source code (the “.java” file)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Bytecode is converted into machine code using a 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  <a:ea typeface="Majalla UI"/>
              </a:rPr>
              <a:t>Java Interpreter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68" name="Slide Number Placeholder 4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D2B7-E22E-4B5B-9282-C975F6381EA6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800100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PLATFORM INDEPENDENT JAVA PROGRAMS COMPILING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You can run bytecode on any computer that has a Java Interpreter installed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2" name="Slide Number Placeholder 6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2060-623E-4E1A-9394-18B3E5F58D8C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3" name="Group 4"/>
          <p:cNvGrpSpPr/>
          <p:nvPr/>
        </p:nvGrpSpPr>
        <p:grpSpPr>
          <a:xfrm>
            <a:off x="609480" y="2819520"/>
            <a:ext cx="7696440" cy="3367080"/>
            <a:chOff x="609480" y="2819520"/>
            <a:chExt cx="7696440" cy="3367080"/>
          </a:xfrm>
        </p:grpSpPr>
        <p:pic>
          <p:nvPicPr>
            <p:cNvPr id="474" name="Picture 5" descr=""/>
            <p:cNvPicPr/>
            <p:nvPr/>
          </p:nvPicPr>
          <p:blipFill>
            <a:blip r:embed="rId1"/>
            <a:stretch/>
          </p:blipFill>
          <p:spPr>
            <a:xfrm>
              <a:off x="609480" y="2819520"/>
              <a:ext cx="7696440" cy="33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Text Box 6"/>
            <p:cNvSpPr/>
            <p:nvPr/>
          </p:nvSpPr>
          <p:spPr>
            <a:xfrm>
              <a:off x="691920" y="5196240"/>
              <a:ext cx="1393920" cy="368280"/>
            </a:xfrm>
            <a:prstGeom prst="rect">
              <a:avLst/>
            </a:prstGeom>
            <a:solidFill>
              <a:srgbClr val="4d1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ello.java”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Text Box 7"/>
            <p:cNvSpPr/>
            <p:nvPr/>
          </p:nvSpPr>
          <p:spPr>
            <a:xfrm>
              <a:off x="3432960" y="5196240"/>
              <a:ext cx="14792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ello.class”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849920"/>
            <a:ext cx="7989840" cy="15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FUNDAMENTALS</a:t>
            </a: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81040" y="4541400"/>
            <a:ext cx="798984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800" spc="-1" strike="noStrike">
              <a:solidFill>
                <a:srgbClr val="903163"/>
              </a:solidFill>
              <a:latin typeface="Gill Sans MT"/>
              <a:ea typeface="Majalla UI"/>
            </a:endParaRPr>
          </a:p>
        </p:txBody>
      </p:sp>
      <p:sp>
        <p:nvSpPr>
          <p:cNvPr id="479" name="Slide Number Placeholder 5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5F4E-E244-48F8-9699-2DE6FC833B5C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0" name="Picture 2" descr="http://www.arunimasoftware.com/images/blog/java.png"/>
          <p:cNvPicPr/>
          <p:nvPr/>
        </p:nvPicPr>
        <p:blipFill>
          <a:blip r:embed="rId1"/>
          <a:stretch/>
        </p:blipFill>
        <p:spPr>
          <a:xfrm>
            <a:off x="2895480" y="1143000"/>
            <a:ext cx="2895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HELLO WORLD JAVA PROGRAM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581040" y="2226960"/>
            <a:ext cx="8182080" cy="42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Courier New"/>
                <a:ea typeface="Courier New"/>
              </a:rPr>
              <a:t> 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port section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MyFirstprogram </a:t>
            </a:r>
            <a:r>
              <a:rPr b="1" lang="en-US" sz="1700" spc="-1" strike="noStrike">
                <a:solidFill>
                  <a:srgbClr val="0000ff"/>
                </a:solidFill>
                <a:latin typeface="Courier New"/>
                <a:ea typeface="Courier New"/>
              </a:rPr>
              <a:t>{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  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7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in method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en-US" sz="17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void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700" spc="-1" strike="noStrike">
                <a:solidFill>
                  <a:srgbClr val="0000ff"/>
                </a:solidFill>
                <a:latin typeface="Courier New"/>
                <a:ea typeface="Courier New"/>
              </a:rPr>
              <a:t>main( String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args</a:t>
            </a:r>
            <a:r>
              <a:rPr b="1" lang="en-US" sz="1700" spc="-1" strike="noStrike">
                <a:solidFill>
                  <a:srgbClr val="0000ff"/>
                </a:solidFill>
                <a:latin typeface="Courier New"/>
                <a:ea typeface="Courier New"/>
              </a:rPr>
              <a:t>[] ){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</a:t>
            </a:r>
            <a:r>
              <a:rPr b="1" lang="en-US" sz="17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ff"/>
                </a:solidFill>
                <a:latin typeface="Courier New"/>
                <a:ea typeface="Courier New"/>
              </a:rPr>
              <a:t>System.out.println(“Hello World”);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Courier New"/>
                <a:ea typeface="Courier New"/>
              </a:rPr>
              <a:t>  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</a:t>
            </a:r>
            <a:r>
              <a:rPr b="1" lang="en-US" sz="1700" spc="-1" strike="noStrike">
                <a:solidFill>
                  <a:srgbClr val="0000ff"/>
                </a:solidFill>
                <a:latin typeface="Courier New"/>
                <a:ea typeface="Courier New"/>
              </a:rPr>
              <a:t>}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7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Courier New"/>
                <a:ea typeface="Courier New"/>
              </a:rPr>
              <a:t>}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7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3" name="Slide Number Placeholder 6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24CD-EC40-4482-86CE-1FF644301952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AVING, COMPILING AND RUNNING JAVA PROGRAM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581040" y="1905120"/>
            <a:ext cx="856296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03163"/>
                </a:solidFill>
                <a:latin typeface="Gill Sans MT"/>
              </a:rPr>
              <a:t>Saving</a:t>
            </a:r>
            <a:r>
              <a:rPr b="0" lang="en-US" sz="2800" spc="-1" strike="noStrike">
                <a:solidFill>
                  <a:srgbClr val="3d3d3d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3d3d3d"/>
                </a:solidFill>
                <a:latin typeface="Gill Sans MT"/>
              </a:rPr>
              <a:t>a Java program : 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601"/>
              </a:spcBef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A file having a name same as the class name should be used to save the program. The extension of this file is ”.java”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3" marL="996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yFirstprogram.java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”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3" marL="996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03163"/>
                </a:solidFill>
                <a:latin typeface="Gill Sans MT"/>
              </a:rPr>
              <a:t>Compiling</a:t>
            </a:r>
            <a:r>
              <a:rPr b="0" lang="en-US" sz="2800" spc="-1" strike="noStrike">
                <a:solidFill>
                  <a:srgbClr val="3d3d3d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3d3d3d"/>
                </a:solidFill>
                <a:latin typeface="Gill Sans MT"/>
              </a:rPr>
              <a:t>a Java program :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Call the Java compiler </a:t>
            </a:r>
            <a:r>
              <a:rPr b="0" lang="en-US" sz="2400" spc="-1" strike="noStrike">
                <a:solidFill>
                  <a:srgbClr val="ff9933"/>
                </a:solidFill>
                <a:latin typeface="Gill Sans MT"/>
              </a:rPr>
              <a:t>javac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The Java compiler generates a file called</a:t>
            </a:r>
            <a:r>
              <a:rPr b="0" i="1" lang="en-US" sz="2400" spc="-1" strike="noStrike">
                <a:solidFill>
                  <a:srgbClr val="3d3d3d"/>
                </a:solidFill>
                <a:latin typeface="Gill Sans MT"/>
              </a:rPr>
              <a:t>”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Courier New"/>
              </a:rPr>
              <a:t>MyFirstprogram.class” 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(the bytecode)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03163"/>
                </a:solidFill>
                <a:latin typeface="Gill Sans MT"/>
              </a:rPr>
              <a:t>Running</a:t>
            </a:r>
            <a:r>
              <a:rPr b="0" lang="en-US" sz="2800" spc="-1" strike="noStrike">
                <a:solidFill>
                  <a:srgbClr val="3d3d3d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3d3d3d"/>
                </a:solidFill>
                <a:latin typeface="Gill Sans MT"/>
              </a:rPr>
              <a:t>a Java program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601"/>
              </a:spcBef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Call the Java Virtual Machine </a:t>
            </a:r>
            <a:r>
              <a:rPr b="0" lang="en-US" sz="2400" spc="-1" strike="noStrike">
                <a:solidFill>
                  <a:srgbClr val="ff9933"/>
                </a:solidFill>
                <a:latin typeface="Gill Sans MT"/>
              </a:rPr>
              <a:t>java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3" marL="996480">
              <a:lnSpc>
                <a:spcPct val="80000"/>
              </a:lnSpc>
              <a:spcBef>
                <a:spcPts val="499"/>
              </a:spcBef>
              <a:buClr>
                <a:srgbClr val="903163"/>
              </a:buClr>
              <a:buSzPct val="92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Gill Sans MT"/>
              </a:rPr>
              <a:t>java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yFirstprogram.class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6" name="Slide Number Placeholder 6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5EC3-5845-44C3-A897-B5A180C8F39E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COMMENTS IN A JAVA PROGRAM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581040" y="1904760"/>
            <a:ext cx="798984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903163"/>
              </a:buClr>
              <a:buSzPct val="92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Comments are used to describe what your code does  its improve the code readability.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903163"/>
              </a:buClr>
              <a:buSzPct val="92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The Java compiler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ignores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 them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903163"/>
              </a:buClr>
              <a:buSzPct val="92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Comments are made using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601"/>
              </a:spcBef>
              <a:buClr>
                <a:srgbClr val="903163"/>
              </a:buClr>
              <a:buSzPct val="92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6c254a"/>
                </a:solidFill>
                <a:latin typeface="Gill Sans MT"/>
              </a:rPr>
              <a:t>//</a:t>
            </a:r>
            <a:r>
              <a:rPr b="0" lang="en-US" sz="2400" spc="-1" strike="noStrike">
                <a:solidFill>
                  <a:srgbClr val="6c254a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 which comments </a:t>
            </a:r>
            <a:r>
              <a:rPr b="0" lang="en-US" sz="2400" spc="-1" strike="noStrike" u="sng">
                <a:solidFill>
                  <a:srgbClr val="3d3d3d"/>
                </a:solidFill>
                <a:uFillTx/>
                <a:latin typeface="Gill Sans MT"/>
              </a:rPr>
              <a:t>to the end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of the line,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601"/>
              </a:spcBef>
              <a:buClr>
                <a:srgbClr val="903163"/>
              </a:buClr>
              <a:buSzPct val="92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6c254a"/>
                </a:solidFill>
                <a:latin typeface="Gill Sans MT"/>
              </a:rPr>
              <a:t>/*  */,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everything inside of it is considered a comment (including multiple lines).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499"/>
              </a:spcBef>
              <a:buClr>
                <a:srgbClr val="903163"/>
              </a:buClr>
              <a:buSzPct val="92000"/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</a:rPr>
              <a:t>Examples: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6c254a"/>
                </a:solidFill>
                <a:latin typeface="Gill Sans MT"/>
              </a:rPr>
              <a:t>/* This comment begins at this line.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c254a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6c254a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6c254a"/>
                </a:solidFill>
                <a:latin typeface="Gill Sans MT"/>
              </a:rPr>
              <a:t>This line is included in this comment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c254a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6c254a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6c254a"/>
                </a:solidFill>
                <a:latin typeface="Gill Sans MT"/>
              </a:rPr>
              <a:t>It ends at this line. */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c254a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6c254a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6c254a"/>
                </a:solidFill>
                <a:latin typeface="Gill Sans MT"/>
              </a:rPr>
              <a:t>// This comment starts here and ends at the end of this line.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9" name="Slide Number Placeholder 6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24F4-F021-4A3F-8021-AA0674F52F11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9T16:42:03Z</dcterms:created>
  <dc:creator>NOUF</dc:creator>
  <dc:description/>
  <dc:language>en-US</dc:language>
  <cp:lastModifiedBy>Aseel</cp:lastModifiedBy>
  <dcterms:modified xsi:type="dcterms:W3CDTF">2014-09-07T17:30:48Z</dcterms:modified>
  <cp:revision>52</cp:revision>
  <dc:subject/>
  <dc:title>Introduction to JAVA</dc:title>
</cp:coreProperties>
</file>