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6CF2-E518-4EAE-B833-DF45544BA2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8BDB-50C3-4FA1-9CD6-086044C919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1C1E-E4A5-47AD-9296-FC5E1E040AD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E036-47E9-4933-843E-43247915E86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A8F3-0712-4F84-B501-74DFA5DF01F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469B-62AC-471C-A419-D3A7B3B437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45A1-C850-4113-AD83-09F0DE305F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826C-3453-4F96-86A4-7ACC3D0A5A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43F5-B4F3-4723-A78F-6105FF5FEE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BDB-3657-4A07-80B6-24DB5ACDC5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3E38-22B0-4FCF-A05A-5B75DC0F21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F863-8B6E-4583-A222-0076608DE3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E48-FD1D-4E71-9A41-CC44D7C8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CAD-A642-4EBE-A431-BAE3CB95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CD731-A102-4519-81A2-EAF3F6A9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106D9-1276-45AC-BBB2-E184247A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A1357-F686-461F-87BE-B2F9908F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C0A3E-626C-4BC9-8CDD-DC11C61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685CC-46F9-463D-A6BC-A3C6044C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E579A-06C2-465C-9925-E63926F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739AC-5A32-4516-BCD2-FF10B18B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D411D-A440-4D93-9394-A39DF0E8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948EE-42FF-4554-ABDC-A77986ED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95BFF-2526-4405-9EC4-D0BA03F7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E3B-32BC-4C4D-96F4-0863EF82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FB20E-56C3-4E2F-B03C-F99756F4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EA311-4335-4BE5-A331-AA6F4341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6BC66-4226-4670-8208-0E2A12DE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CEFA1-1B1E-4F19-AE01-93ECAA57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78DEB-128D-42FD-BAC3-E8927391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2F007-CE6A-450F-9CAA-9573BBD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35442-49AB-4ED1-AFF2-377778B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3CFD4-2874-49B9-B42B-73287F8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DB870-DC6B-4B89-85D3-2F4EBB7C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EF9C6-6776-4F6E-9AF7-5CB944D7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281-884B-4306-A41B-52175FD2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3525B-FC89-4B83-886B-6C3D831B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03C8-DCB1-4D19-8444-43CC3C2B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2AE0-F365-4AFE-83A0-77706006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E24F-D316-4DF4-A9B7-7E2E8A78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14C7-5500-4B99-9116-4566F3BA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DB44-4481-460F-A856-F2395FA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B73A-766D-441D-9FBF-E7D71F05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98C6-B317-499E-9ACC-6EB8561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750-3BC3-4B16-8539-33265B8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6270-D460-457D-AD8A-F21D09A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861-1192-4735-A8BE-B185EA1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7B99-C21E-4C8C-B233-DFCBD8EF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60A9-D214-4985-8EDF-12C77536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F5CC-CC6E-496C-930C-3F4B5A30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942D-1118-47B2-A896-80CA45EE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DFAC-8FF3-44EC-898A-1B2D1113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2F1A-D724-4992-8D65-FE5D136B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9F36-DAE6-4255-A458-0DBFC77A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084D-08BF-43E5-A647-CF0DEFBF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584-F0FF-4A7A-82C4-95D49B3A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7309-74C9-4918-821B-D4962862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CFC9-D489-4585-BE66-0ACDE352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4C13-6A01-4324-BAE0-D5687F94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4859-2BBC-4509-847E-9167F645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9141-5586-4BC3-B5E0-A4DC8984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9EF7-1926-427C-BACD-C284AECF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4DF0-7FE6-4C71-904E-7DD5DF41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7A1F-2785-4826-8A8A-01C8F9A3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73C4-28E4-4F3B-AA0E-82518CF2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D4EE-BF07-471F-88F4-05E41650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DC3-2199-49B2-BFAB-A07FCFD3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1F11-2635-4D05-830B-07B42F05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E231-E7E7-45D4-AADF-38E4FCA4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4100-8CF0-45B7-A54F-0837DCB2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4579-DAB7-4566-87BC-0FD95FEA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7766B-55A8-4102-88B5-D95856B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B400-D1BF-419A-8FC0-E45526D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8C0D-2B2D-4857-8C99-FCE7AD35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83DF-FDF0-4533-A0F8-01B80E6D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3CC4-CECE-40BD-A7DE-78C7910B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DBFD7-D53F-40CA-8E9D-93B6D8A0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6DA-2D41-486A-A4A3-5CB822B3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7C85-7AA9-4091-8FAB-BF941BE7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FD1AD-91E6-4F04-8AB7-EB8CF194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32E18-C2AE-490C-8EC8-66A2888C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31EF8-338B-40B7-BBCB-D6B634C2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87DF3-925A-4379-B815-8867C986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60942-28FC-4732-8A19-94EDDA8B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A515-85E4-491C-A483-B439354C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941A-39E3-4816-8C80-603C6BE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6FD38-11AB-4FB3-A993-D2262494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C971-772D-4D58-A637-399CAA51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87F-0679-4F6B-A4AC-5D3F2DD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DA82-DA62-4919-8727-F02650FA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9345C-B143-4335-9707-CB39F243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834D-1B5A-400B-978D-EA526780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B5B46-C5E5-4C93-A284-514F66C1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FEAB4-F888-4CA5-A93A-F995998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ADECD-ECF3-4174-AB41-D693103C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C686F-7EDD-4D25-842C-49D6C1E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A0E5-B1B4-47CA-9709-3056E91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60DA-9697-4D13-B6DC-DB75095A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B39E9-5008-4648-A64B-BDCD9EB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A32-1B8A-4039-A2FB-E2B1C242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E217-37FD-4361-ABA3-BF53B442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F5AFE-EC61-47AF-BD9E-D166BA6E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60123-4AB3-4713-815A-94CEE2B3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1B75B-9683-4916-905B-2B7EDEE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A3FA5-6625-42B3-B8CB-D70E1121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5C5B1-E3E3-4F0A-ABCC-B640D23D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D5AF8-9F8C-455B-871D-BE1BB575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5210-B428-493A-81E0-01F5CAE4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C1D7-D148-4586-B31F-A49AB9D8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B2BB2-C557-4C52-963D-1DB508B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5CD-28DC-4487-A1C5-517E18C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D8460-74B2-48FD-8106-0BF0493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1EFA-0B67-4AA8-9B59-F671C24E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4EDB-2CCF-4F56-9907-02A9A9E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A1540-D63B-4506-A992-961ED915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93CC9-BBE9-442D-A91D-85C13EBF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1E56F-D602-4043-B39D-BE9B0AC4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4F1E7-8EBE-447B-A43E-DF91E4AE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B5390-F6A5-4AAB-9B84-9CF290E9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EEC9-08EB-416F-9172-BE1687C0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B6436-4757-48A7-B020-75240944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207-5DCE-452B-B856-DCEA8A9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FA880-398E-4DD3-BDE9-D6D58764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441D6-566E-44F5-9E75-B68E129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38305-C274-4A5F-A448-6601207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91B6-D946-478C-A25D-CFEEE83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71149-63FE-419E-9C70-22199FCE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948A6-789E-46C0-B5E5-8C8603F8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26B01-6804-4473-A1D6-61F46ED5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60B1F-F86E-4870-B105-7AF2D22E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5C1D4-F2C5-46AB-A929-D2989FFC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7E50F-9D67-46D2-A7A7-F186C464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236E-2FF7-4558-959C-E732C7C33BB6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A538-9D59-4211-BCA0-35151C66BC8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C77-24FB-4770-AD38-615D921AB428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BD4A-DBB6-4468-8573-A2F8CC45F2D8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BD52-C8C7-4F8C-8E7C-272A2D107CCE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E32-1FF9-42DF-8E5B-19EAD99243B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16EB-0C6C-452D-836B-6877EFF0FCDE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B9EC-BFB9-4BC5-AEC0-01BAA2128077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0D2-AE51-41E7-AABE-6925F258A60E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58DC-FFDA-4AEC-8C41-F6065C76172B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19C7-A40C-4675-83CE-CC1CEABA85DD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2DF9-24AE-4545-B533-BBB0B75FE4C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0CD4-28DA-4076-B104-D742ECE6B5F5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CB12-5F3F-4CDB-8A63-D92E669FA3C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891-667A-4F71-9C40-A266A854F20F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9DAB-874D-4522-83F7-665F30B2B112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AE62-6674-46BD-9D57-A77BE53746BB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57CA-5C80-4274-BB87-B7BE5B238A8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4925-4C69-42D0-BA3B-00E3EBF2EBBC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3865-8272-4A4D-BA64-19638B2B648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7640" y="3733560"/>
            <a:ext cx="7153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INTRODUCTION TO JAVA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HAPTER 1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2C6-AA64-48E6-89B3-E55C524F351F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6248520" y="80964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GOOD PROGRAMMING PRACTIC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80680" y="182880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Be careful java is a sensitive languag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t is good to begin every program with a comment  that states the purpose of the program and the author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very java program consist of at least one class that the programmer defin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Begin each class name  with capital letter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The class name doesn’t begin with a digit  and doesn’t contain a spac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se blank lines and spaces to enhance program readability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you type an opining left brace{ immediately  type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the closing right brace}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dent the entire body of each class declaration 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7900-E89E-4CD2-8BB6-D77A173932E3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PROGRAMS AND DATA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Most programs require the temporary storage of data. The data to be processed is stored in a temporary storage in the computer's memory:  space memory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A space memory has three characteristic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Gill Sans MT"/>
              </a:rPr>
              <a:t>Identifier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Gill Sans MT"/>
              </a:rPr>
              <a:t>Data Typ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Gill Sans MT"/>
              </a:rPr>
              <a:t>Stat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5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3E74-81B2-4432-8B0B-6DAF87DC5E8C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IDENTIFI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B3BB-9F1F-4127-8509-A8AFC3ACBBD0}" type="slidenum">
              <a:rPr b="0" lang="en-US" sz="900" spc="-1" strike="noStrike">
                <a:solidFill>
                  <a:srgbClr val="903163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385920" y="2022480"/>
            <a:ext cx="8381880" cy="289548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 a sequence of characters that denotes the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of the space memory to be us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This name is </a:t>
            </a:r>
            <a:r>
              <a:rPr b="0" lang="en-US" sz="1800" spc="-1" strike="noStrike">
                <a:solidFill>
                  <a:srgbClr val="903163"/>
                </a:solidFill>
                <a:latin typeface="Gill Sans MT"/>
                <a:ea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within a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Gill Sans MT"/>
              </a:rPr>
              <a:t>Identifier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It cannot begin with a digit (0 – 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It may contain the letters a to z, A to Z, the digits 0 to 9, and the underscore symbol, _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No spaces or punctuation, except the underscore symbol, _, are allow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0"/>
          <p:cNvSpPr/>
          <p:nvPr/>
        </p:nvSpPr>
        <p:spPr>
          <a:xfrm>
            <a:off x="423720" y="5172120"/>
            <a:ext cx="82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entifiers in Java are </a:t>
            </a:r>
            <a:r>
              <a:rPr b="0" lang="en-US" sz="1800" spc="-1" strike="noStrike">
                <a:solidFill>
                  <a:srgbClr val="903163"/>
                </a:solidFill>
                <a:latin typeface="Gill Sans MT"/>
              </a:rPr>
              <a:t>case-sensitiv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The identifiers myNumber and mynumber, are seen as two different identifiers by the compil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ill Sans MT"/>
              </a:rPr>
              <a:t>STAT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85920" y="2416320"/>
            <a:ext cx="8381880" cy="32223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03163"/>
                </a:solidFill>
                <a:latin typeface="Gill Sans MT"/>
              </a:rPr>
              <a:t>My be changed  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All lower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Capitalizing the first letter of each word in a multiword identifier, except for the first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03163"/>
                </a:solidFill>
                <a:latin typeface="Gill Sans MT"/>
              </a:rPr>
              <a:t>Cannot be changed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ll uppercase, separating words within a multiword identifier with the underscore symbol, 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3347-453E-4DE3-9822-E4DC049F6228}" type="slidenum">
              <a:rPr b="0" lang="en-US" sz="900" spc="-1" strike="noStrike">
                <a:solidFill>
                  <a:srgbClr val="903163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 MT"/>
              </a:rPr>
              <a:t>DATA TYP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385920" y="2416320"/>
            <a:ext cx="8381880" cy="289548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type defines what kinds of values a space memory is allowed to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values stored in the same space memory should be of the same data ty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constants and variables used in a Java program must be defined prior to their use in the pro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6DA-5708-4A87-99FC-821A9129DE61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JAVA BUILT-IN DATA TYP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7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6E0C-C820-45BF-BE1D-2346D351FEC4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380880" y="1798560"/>
          <a:ext cx="853452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98560"/>
                    <a:ext cx="85345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RIMITIVE DATA TYP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537-39E1-4E5E-8300-9EEF01940F9E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304920" y="1851120"/>
          <a:ext cx="8534160" cy="5006880"/>
        </p:xfrm>
        <a:graphic>
          <a:graphicData uri="http://schemas.openxmlformats.org/drawingml/2006/table">
            <a:tbl>
              <a:tblPr/>
              <a:tblGrid>
                <a:gridCol w="1030320"/>
                <a:gridCol w="1068120"/>
                <a:gridCol w="3426120"/>
                <a:gridCol w="30096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6c77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6c77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6c77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6c778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value that is 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to 6553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 16-bit Unicode charac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to +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2768 to +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,147,483,648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,147,483,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,223,372,036,854,775,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9,223,372,036,854,775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8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16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doub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VARIABLE/CONSTANT DECLAR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1040" y="2226960"/>
            <a:ext cx="8182080" cy="40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When the declaration is made, memory space is allocated to store the values of the declared variable or constant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declaration of a variable means allocating a space memory which state (value) may change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declaration of a constant means allocating a space memory which state (value) cannot change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7E88-632F-4DB8-ADD0-A9F6DEEFF5FE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STANT DECLAR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 dataType constIdentifier </a:t>
            </a:r>
            <a:r>
              <a:rPr b="1" i="1" lang="en-US" sz="1800" spc="-1" strike="noStrike">
                <a:solidFill>
                  <a:srgbClr val="3d3d3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 literal | expression;</a:t>
            </a:r>
            <a:br>
              <a:rPr sz="1800"/>
            </a:b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double PI               = 3.14159;</a:t>
            </a:r>
            <a:br>
              <a:rPr sz="1800"/>
            </a:br>
            <a:r>
              <a:rPr b="0" lang="en-US" sz="18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int    MONTH_IN_YEAR    = 12;</a:t>
            </a:r>
            <a:br>
              <a:rPr sz="1800"/>
            </a:br>
            <a:r>
              <a:rPr b="0" lang="en-US" sz="18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short  FARADAY_CONSTANT = 23060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int MAX               = 1024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int MIN               = 128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int AVG               = (MAX + MIN) / 2;</a:t>
            </a:r>
            <a:br>
              <a:rPr sz="1800"/>
            </a:b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053B-6B0C-40B2-B2A8-B5906CE7E318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9"/>
          <p:cNvSpPr/>
          <p:nvPr/>
        </p:nvSpPr>
        <p:spPr>
          <a:xfrm>
            <a:off x="6643800" y="3618000"/>
            <a:ext cx="192708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ｺﾞｼｯｸE"/>
              </a:rPr>
              <a:t>These are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HGｺﾞｼｯｸE"/>
              </a:rPr>
              <a:t>liter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14"/>
          <p:cNvSpPr/>
          <p:nvPr/>
        </p:nvSpPr>
        <p:spPr>
          <a:xfrm>
            <a:off x="6653160" y="514512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ｺﾞｼｯｸE"/>
              </a:rPr>
              <a:t>This is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HGｺﾞｼｯｸE"/>
              </a:rPr>
              <a:t>expres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VARIABLE DECLAR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81040" y="2819520"/>
            <a:ext cx="798984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588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A variable may be declared: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With initial valu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Without initial value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Variable declaration with initial value;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dataType variableIdentifier </a:t>
            </a:r>
            <a:r>
              <a:rPr b="1" i="1" lang="en-US" sz="1800" spc="-1" strike="noStrike">
                <a:solidFill>
                  <a:srgbClr val="3d3d3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 literal | expression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double avg    = 0.0;</a:t>
            </a:r>
            <a:br>
              <a:rPr sz="1800"/>
            </a:b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int    i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   = 1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x =5, y = 7, z = (x+y)*3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Variable declaration without initial value;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dataType variableIdentifier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double avg;</a:t>
            </a:r>
            <a:br>
              <a:rPr sz="1800"/>
            </a:b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int    i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BB14-B058-4309-BEAE-10691C8F43B5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WHAT IS JAVA</a:t>
            </a:r>
            <a:r>
              <a:rPr b="0" lang="ar-SA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81040" y="2226960"/>
            <a:ext cx="7989840" cy="40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89440" indent="-289440"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Java is a programming language and computing platform first released by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Sun Microsystems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n 1995. 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The language derives much of its syntax from C and C++ but has a simpler object model and fewer low-level faciliti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9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The Java language is accompanied by a </a:t>
            </a:r>
            <a:r>
              <a:rPr b="1" lang="en-US" sz="2400" spc="-1" strike="noStrike" u="sng">
                <a:solidFill>
                  <a:srgbClr val="903163"/>
                </a:solidFill>
                <a:uFillTx/>
                <a:latin typeface="Gill Sans MT"/>
                <a:ea typeface="ＭＳ Ｐゴシック"/>
              </a:rPr>
              <a:t>library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of extra software that we can use when developing program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6880" indent="-289080">
              <a:lnSpc>
                <a:spcPct val="9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The library provides the ability to create graphics, communicate over networks, and interact with databas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6880" indent="-289080">
              <a:lnSpc>
                <a:spcPct val="9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The set of supporting libraries is </a:t>
            </a:r>
            <a:r>
              <a:rPr b="1" lang="en-US" sz="2400" spc="-1" strike="noStrike">
                <a:solidFill>
                  <a:srgbClr val="903163"/>
                </a:solidFill>
                <a:latin typeface="Gill Sans MT"/>
                <a:ea typeface="ＭＳ Ｐゴシック"/>
              </a:rPr>
              <a:t>hug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1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364B-4598-43B0-B266-8B0D4E4877CC}" type="slidenum">
              <a:rPr b="0" lang="en-US" sz="9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ORE DECLARATION EXAMP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2636640"/>
            <a:ext cx="38862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tring declaration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with initial valu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tring word="Apple"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without initial valu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tring word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har declaration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with initial valu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har symbol ='*'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without initial valu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har symbol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91C8-534F-44A1-8357-6CAE75F2C4D2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Content Placeholder 8"/>
          <p:cNvSpPr/>
          <p:nvPr/>
        </p:nvSpPr>
        <p:spPr>
          <a:xfrm>
            <a:off x="4576680" y="200484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oolean decla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with initial valu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boolean flag=fals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boolean valid=tr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without initial valu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boolean flag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Majalla U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81040" y="2133360"/>
            <a:ext cx="7989840" cy="37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Float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The default type of floating point numbers is double 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The declaration :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float rate = 15.5</a:t>
            </a:r>
            <a:r>
              <a:rPr b="1" lang="en-US" sz="2400" spc="-1" strike="noStrike">
                <a:solidFill>
                  <a:srgbClr val="ff0066"/>
                </a:solidFill>
                <a:latin typeface="Gill Sans MT"/>
                <a:ea typeface="Times New Roman"/>
              </a:rPr>
              <a:t>f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; 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ithout the </a:t>
            </a:r>
            <a:r>
              <a:rPr b="1" lang="en-US" sz="2400" spc="-1" strike="noStrike">
                <a:solidFill>
                  <a:srgbClr val="ff0066"/>
                </a:solidFill>
                <a:latin typeface="Gill Sans MT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 , the compiler will generate an error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2A70-1F86-46E8-B19C-4DE106B108CF}" type="slidenum">
              <a:rPr b="0" lang="en-US" sz="900" spc="-1" strike="noStrike">
                <a:solidFill>
                  <a:srgbClr val="3d3d3d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VARIABLE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81040" y="1905120"/>
            <a:ext cx="798984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har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When using the char data type, you enclose each character represented within single quotations marks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Ex: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char c = ‘A’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char space = ‘ ‘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Each character is represented by a value (‘A’ is represented by the value 65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826A-24CB-46CD-812C-EFB5602A24A5}" type="slidenum">
              <a:rPr b="0" lang="en-US" sz="900" spc="-1" strike="noStrike">
                <a:solidFill>
                  <a:srgbClr val="3d3d3d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990720" y="4481640"/>
            <a:ext cx="4495680" cy="16761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aCharecter='A'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aAscii =6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System.out.println(aCharect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System.out.println(aAsci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781680" y="4648320"/>
            <a:ext cx="914400" cy="1143000"/>
          </a:xfrm>
          <a:prstGeom prst="rect">
            <a:avLst/>
          </a:prstGeom>
          <a:solidFill>
            <a:srgbClr val="4d1434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0195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2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26ED-4322-4BE6-B1CB-6825D450D905}" type="slidenum">
              <a:rPr b="0" lang="en-US" sz="900" spc="-1" strike="noStrike">
                <a:solidFill>
                  <a:srgbClr val="3d3d3d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YPE CONVERSION (CASTING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54040" y="2055960"/>
            <a:ext cx="7989840" cy="39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Used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o change one data type to another 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o avoid implicit type correction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Syntax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231f20"/>
                </a:solidFill>
                <a:latin typeface="Courier New"/>
              </a:rPr>
              <a:t>(dataTypeName) expression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xpression evaluated first, then the value is  converted to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</a:rPr>
              <a:t>dataTypeNam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7B8E-BBBD-4A3C-9BEA-5A28BC5D206F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YPE CONVERSION (CASTING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 + 6.7) = 14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) + (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6.7) = 13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double)(17) = 17.0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) /2 = 7.0/2 = 3.5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/2) = 3.0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7.8+(double)(15)/2) =(int)15.3 =15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E8B2-2A2F-4964-9D95-65B0BFBABB52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2971800" y="5562720"/>
            <a:ext cx="3505320" cy="122220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ouble x=7.9 ,y= 6.7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sult=(int)(7.9 + 6.7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YPE CONVERSION (CASTING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 startAt="8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A’) = 65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 startAt="8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8’) = 56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 startAt="8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(65) = ‘A’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 startAt="8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  <a:ea typeface="Courier New"/>
              </a:rPr>
              <a:t>(56)  = ‘8’ 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8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BDB4-3B46-4871-BBA3-0E97D474297A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CLASS STR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80680" y="2226960"/>
            <a:ext cx="82580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ontains operations to manipulate string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tring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Sequence of zero or more character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nclosed in double quotation mark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Is processed as a single unit 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Null or empty strings have no characters. “ “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very character has a relative position , the first character is in position 0 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C751-40A1-49C3-BC0A-6150E92F900F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3A1A-6B67-40C4-94D4-0AC48CFCDFB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CLASS STRING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Java system automatically makes the class </a:t>
            </a:r>
            <a:r>
              <a:rPr b="1" lang="en-US" sz="2000" spc="-1" strike="noStrike">
                <a:solidFill>
                  <a:srgbClr val="3d3d3d"/>
                </a:solidFill>
                <a:latin typeface="Gill Sans MT"/>
              </a:rPr>
              <a:t>String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available (i.e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no need to import this class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xample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Consider the following declaration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tring  sentence ;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entence = “programming with java”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641D-1AAA-4341-A8F3-376492834779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CLASS STRING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95560" indent="-29556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Length of the string  is the number of characters in it 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When determining the length of  a  string ,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blanks count 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Example 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“ “ </a:t>
            </a:r>
            <a:r>
              <a:rPr b="0" lang="en-US" sz="22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has length = 0 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abc”   </a:t>
            </a:r>
            <a:r>
              <a:rPr b="0" lang="en-US" sz="22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has length = 3  , position of a = 0 ,b= 1 , c= 2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a  boy” </a:t>
            </a:r>
            <a:r>
              <a:rPr b="0" lang="en-US" sz="22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has length = 5  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A0E-8B2F-46FD-9BDF-97F6091EA7BD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JAVA APPLICATIONS AND APPLE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E839-E004-4653-9254-462820B5E23F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85920" y="1990800"/>
            <a:ext cx="8381880" cy="23619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03163"/>
                </a:solidFill>
                <a:latin typeface="Gill Sans MT"/>
              </a:rPr>
              <a:t>Applications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– standalone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03163"/>
                </a:solidFill>
                <a:latin typeface="Gill Sans MT"/>
              </a:rPr>
              <a:t>Applets</a:t>
            </a:r>
            <a:r>
              <a:rPr b="0" i="1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– Java programs that run inside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0"/>
          <p:cNvSpPr/>
          <p:nvPr/>
        </p:nvSpPr>
        <p:spPr>
          <a:xfrm>
            <a:off x="-25920" y="4751280"/>
            <a:ext cx="92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Java is the first programming languag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  <a:ea typeface="ＭＳ Ｐゴシック"/>
              </a:rPr>
              <a:t>deliberately emb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concept of writing program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03163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  <a:ea typeface="ＭＳ Ｐゴシック"/>
              </a:rPr>
              <a:t>can be executed on the Web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9FA5-FFEA-47D8-8CD0-393FE5EBDD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80680" y="687240"/>
            <a:ext cx="833436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OME COMMONLY USED STRING METHOD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62" name="Picture 9" descr=""/>
          <p:cNvPicPr/>
          <p:nvPr/>
        </p:nvPicPr>
        <p:blipFill>
          <a:blip r:embed="rId1"/>
          <a:stretch/>
        </p:blipFill>
        <p:spPr>
          <a:xfrm>
            <a:off x="311040" y="1871640"/>
            <a:ext cx="7912080" cy="253368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9"/>
          <p:cNvSpPr/>
          <p:nvPr/>
        </p:nvSpPr>
        <p:spPr>
          <a:xfrm>
            <a:off x="228600" y="4560840"/>
            <a:ext cx="6095880" cy="144792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out.println(mystr.charAt(3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out.println(mystr.indexOf('J'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out.println(mystr.indexOf(‘j'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5943600" y="4659480"/>
            <a:ext cx="3200400" cy="1218960"/>
          </a:xfrm>
          <a:prstGeom prst="rect">
            <a:avLst/>
          </a:prstGeom>
          <a:solidFill>
            <a:srgbClr val="4d1434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A054-D583-409D-92F4-59DC03274604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C677-4791-4A21-987F-72E97CF9CA4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OME COMMONLY USED STRING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tretch/>
        </p:blipFill>
        <p:spPr>
          <a:xfrm>
            <a:off x="380880" y="2171880"/>
            <a:ext cx="8382240" cy="1252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2"/>
          <a:stretch/>
        </p:blipFill>
        <p:spPr>
          <a:xfrm>
            <a:off x="358920" y="3637080"/>
            <a:ext cx="8381880" cy="10461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"/>
          <p:cNvPicPr/>
          <p:nvPr/>
        </p:nvPicPr>
        <p:blipFill>
          <a:blip r:embed="rId3"/>
          <a:stretch/>
        </p:blipFill>
        <p:spPr>
          <a:xfrm>
            <a:off x="380880" y="4962600"/>
            <a:ext cx="8382240" cy="1284120"/>
          </a:xfrm>
          <a:prstGeom prst="rect">
            <a:avLst/>
          </a:prstGeom>
          <a:ln w="0">
            <a:noFill/>
          </a:ln>
        </p:spPr>
      </p:pic>
      <p:sp>
        <p:nvSpPr>
          <p:cNvPr id="572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91C-F71A-4DA1-A633-FDDC5F97D85B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09680" y="2146320"/>
            <a:ext cx="7391160" cy="20415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mystr.indexOf('a',10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mystr.indexOf("with"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mystr.indexOf("ing"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5029200" y="4357800"/>
            <a:ext cx="3809880" cy="2133360"/>
          </a:xfrm>
          <a:prstGeom prst="rect">
            <a:avLst/>
          </a:prstGeom>
          <a:solidFill>
            <a:srgbClr val="4d1434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62B9-3A25-4D82-A780-EA80407F6F42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F93A-8F08-4304-BF54-FD5432D603D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818208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OME COMMONLY USED STRING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80" name="Object 5"/>
          <p:cNvGraphicFramePr/>
          <p:nvPr/>
        </p:nvGraphicFramePr>
        <p:xfrm>
          <a:off x="581040" y="2133720"/>
          <a:ext cx="818208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2133720"/>
                    <a:ext cx="818208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1008-806C-4D5F-B6BA-6357D2B90C20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562F-C1D6-466E-868D-9183DF2DB76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S ON STRING METHOD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tring s1 , s2 , s3 ;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1 = “abcdefeg” ;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 s1.length() );   // 8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charAt(3));    //d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indexOf(‘e’));  //4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indexOf(“cd”)); //2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toUpperCase()); //ABCDEFEG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1F82-32E3-4277-A39F-1ACFC241B724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D1AB-E465-448D-8C7D-F87DA166B8A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S ON STRING METHOD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substring(1 , 4)); //bcd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 + “xyz”); // abcdefegxyz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 s1.replace(‘d’ ,’D’)); // abcDefeg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charAt(4) );  // 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indexOf(‘b’));  // 1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indexOf(‘e’,5));  // 6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2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233F-A3DC-4F7D-9F64-700FF08383DB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OMPILING JAVA PROGRAM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80680" y="2227320"/>
            <a:ext cx="8334360" cy="37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The Java compiler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produces </a:t>
            </a:r>
            <a:r>
              <a:rPr b="0" i="1" lang="en-US" sz="2400" spc="-1" strike="noStrike">
                <a:solidFill>
                  <a:srgbClr val="903163"/>
                </a:solidFill>
                <a:latin typeface="Gill Sans MT"/>
                <a:ea typeface="Majalla UI"/>
              </a:rPr>
              <a:t>bytecode</a:t>
            </a:r>
            <a:r>
              <a:rPr b="0" i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(a “.class” file)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ot machine code from the source code (the “.java” fil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ytecode is converted into machine code using a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Majalla UI"/>
              </a:rPr>
              <a:t>Java Interpreter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2CD3-0A59-4FB0-974D-8A4E6784AF7B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LATFORM INDEPENDENT JAVA PROGRAMS COMPILING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You can run bytecode on any computer that has a Java Interpreter installed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1E27-8FCF-4692-BF37-CB37B5B89D0A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609480" y="2819520"/>
            <a:ext cx="7696440" cy="3367080"/>
            <a:chOff x="609480" y="2819520"/>
            <a:chExt cx="7696440" cy="3367080"/>
          </a:xfrm>
        </p:grpSpPr>
        <p:pic>
          <p:nvPicPr>
            <p:cNvPr id="474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6"/>
            <p:cNvSpPr/>
            <p:nvPr/>
          </p:nvSpPr>
          <p:spPr>
            <a:xfrm>
              <a:off x="691920" y="5196240"/>
              <a:ext cx="1393920" cy="368280"/>
            </a:xfrm>
            <a:prstGeom prst="rect">
              <a:avLst/>
            </a:prstGeom>
            <a:solidFill>
              <a:srgbClr val="4d1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ello.java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3432960" y="5196240"/>
              <a:ext cx="14792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ello.class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8499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FUNDAMENTALS</a:t>
            </a: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BACC-D572-40DB-AA28-F6BBC9400404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2895480" y="11430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ELLO WORLD JAVA PROGRA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81040" y="2226960"/>
            <a:ext cx="818208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section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 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( 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[] )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(“Hello World”)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312-B4DA-44A1-BEE2-ED4589F04BCD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AVING, COMPILING AND RUNNING JAVA PROGRAM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81040" y="1905120"/>
            <a:ext cx="85629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Gill Sans MT"/>
              </a:rPr>
              <a:t>Saving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a Java program :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A file having a name same as the class name should be used to save the program. The extension of this file is ”.java”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3" marL="996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java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”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3" marL="996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Gill Sans MT"/>
              </a:rPr>
              <a:t>Compiling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a Java program :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all the Java compiler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javac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Java compiler generates a file called</a:t>
            </a:r>
            <a:r>
              <a:rPr b="0" i="1" lang="en-US" sz="2400" spc="-1" strike="noStrike">
                <a:solidFill>
                  <a:srgbClr val="3d3d3d"/>
                </a:solidFill>
                <a:latin typeface="Gill Sans MT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Courier New"/>
              </a:rPr>
              <a:t>MyFirstprogram.class”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(the bytecod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Gill Sans MT"/>
              </a:rPr>
              <a:t>Running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a Java program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all the Java Virtual Machine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java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3" marL="996480">
              <a:lnSpc>
                <a:spcPct val="80000"/>
              </a:lnSpc>
              <a:spcBef>
                <a:spcPts val="499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Gill Sans MT"/>
              </a:rPr>
              <a:t>java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6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EAC2-DE5B-436B-A8AE-7D58AC280092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OMMENTS IN A JAVA PROGRA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81040" y="1904760"/>
            <a:ext cx="798984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omments are used to describe what your code does  its improve the code readability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Java compiler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ignore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them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omments are made using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6c254a"/>
                </a:solidFill>
                <a:latin typeface="Gill Sans MT"/>
              </a:rPr>
              <a:t>//</a:t>
            </a:r>
            <a:r>
              <a:rPr b="0" lang="en-US" sz="24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which comments </a:t>
            </a:r>
            <a:r>
              <a:rPr b="0" lang="en-US" sz="2400" spc="-1" strike="noStrike" u="sng">
                <a:solidFill>
                  <a:srgbClr val="3d3d3d"/>
                </a:solidFill>
                <a:uFillTx/>
                <a:latin typeface="Gill Sans MT"/>
              </a:rPr>
              <a:t>to the end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of the line,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6c254a"/>
                </a:solidFill>
                <a:latin typeface="Gill Sans MT"/>
              </a:rPr>
              <a:t>/*  */,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everything inside of it is considered a comment (including multiple lines)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99"/>
              </a:spcBef>
              <a:buClr>
                <a:srgbClr val="903163"/>
              </a:buClr>
              <a:buSzPct val="92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xamples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/* This comment begins at this lin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This line is included in this comment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It ends at this line. */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// This comment starts here and ends at the end of this lin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8FEC-5373-4BA2-B3E4-611A634C7C18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Aseel</cp:lastModifiedBy>
  <dcterms:modified xsi:type="dcterms:W3CDTF">2014-09-07T17:30:48Z</dcterms:modified>
  <cp:revision>52</cp:revision>
  <dc:subject/>
  <dc:title>Introduction to JAVA</dc:title>
</cp:coreProperties>
</file>