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dt" idx="40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ftr" idx="41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 type="sldNum" idx="42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AB6156-EF29-4EF2-BE7D-2F6C048AD4BF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17EC4-3465-44AC-A60F-4FF27CE7C1FD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4FD91-EA2D-4BA0-9385-9A2226160E8A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49CB8-905C-4C34-B8CA-498C681363F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97D52-2895-43DB-8397-0811272E09B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CDAEE-7B02-4116-8356-E39DAF0099A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D99FB-A8FA-47A9-9AF0-E84A3C8E842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7BCA9-A5EE-4CBC-8161-0E9EB91D16F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's also useful to write a program that prompts for multiple values, both on the same line or each on its own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's also useful to write a program that prompts for multiple values, both on the same line or each on its own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9F6DF-0B63-448F-8283-D6078AD2071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058A9-4701-4F26-AE5A-FD45A349AD5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D97C1-043E-4772-8EF5-18EEFBC98CC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68E90-CB7E-4E4C-B612-B69E9051B85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54CFC-345E-4C61-97B6-18A5D619AA2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F9D82-7894-41A9-ACDF-4247627419F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CC0-52F1-421E-B864-F8056FA3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5D0-64B8-4EA5-8FA7-A5B8A9C2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FD9A2-5A4A-42E6-8256-59F6C44F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963C7-CEBD-4B8D-8F2E-E4650999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610A8-A89D-4620-ADDF-9EB7A004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EDB2D-B6FD-493E-B9AB-B432FD5F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11954-487E-478D-BD3A-D58D40AC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0AA89-BC41-46D7-BB54-1B27C2F3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A62DD-3267-4F15-BC4B-26A6A7E3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BFF79-9E01-4A8D-BC4F-93589DBC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D26CF-2792-4567-945D-FEE35544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E3183-652B-497C-83C5-E35690ED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4BC-6AA4-49EA-98C3-8DF39F17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1AB45-8BBE-4E58-B011-253DB88D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B4241-D0C9-47D3-890A-3FFAE991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97AF5-EA6E-4137-9AAE-FA383B2D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D9D29-3FA3-4C66-BAE1-5828E469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80D31-0E91-445F-B101-C82A164F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9C3DE-9E75-415C-B20C-D5139EF2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70B61-7689-4110-8804-906ED809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8E5E7-5BA7-4CF3-98C9-5F312E90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C8158-7C45-47A0-8561-A34A6698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44231-A83E-4AD1-85CB-B5BC915A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A7BC-1F6E-457A-880E-B17FB8D4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5C380-59ED-44CB-BB16-5A26071E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DE998-0222-47CC-956D-3DF27ACF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63450-7F05-405D-9789-9EA45481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AD87B-3798-4462-A47A-EA02E94F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F297C-0041-4072-84FC-B3607F9D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2F42C-0BB5-4938-A864-D84D8A17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6418C-638F-4338-B782-2CB24B22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06690-8E8C-4569-8C30-9E311A16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3138B-DD4A-41C4-AB3E-B2B706E1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1E241-0113-4C37-A7F5-49DF326D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46F1-7B2A-4C48-A1C4-BF4806DF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DE3FA-D5FA-4DFA-82B8-B811090E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BA3C4-61D9-4E67-AE24-9249F3E2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04CFF-5E6E-4A03-8E0D-4E79F750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CEB56-91D9-4B7D-94BF-87FAC465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ED20B-10CC-4527-B981-899994BB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6036B-786A-463C-A7DD-01C99A70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5D002-6C44-45D3-B24D-2A28DA6E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5AF11-5397-407F-A19C-58BDF0F5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3A335-1541-463C-994E-4DAB5D64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FC8C7-9359-4ED9-A7F7-046ECE6A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B8B8-70C6-48A1-AA90-B029E60B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C5CC9-8280-4E53-A90A-17EAE78D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4074E-E59B-4026-85B4-E119B3FA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09C15-7514-4682-AA27-CF0ED1DD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1B6D6-3B0C-49F3-BD11-DFDAEFAD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0E5DE-D85C-4E1A-A961-BF854B98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C1E2C-2BD0-48D6-9A9D-033D6B4E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F4770B-2197-423F-A1FD-77FE8865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FE1FA-08CE-4285-A064-C711B7F8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25507E-5A95-4517-9ACC-64BAC3A3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DF1D32-3FA5-49FD-A5C7-B79A5D2A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B7DA-387D-4913-9019-C082C472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CEECD-68C8-4B2C-AFA3-3851AB90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CE668-BD2D-465A-9641-5C90F837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08866-7B9A-4730-8959-A7AD52CA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27E2C-CE28-44A4-A249-84E459AA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14F16D-D6B1-48B3-A9F9-8C9975CF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BEAF7-E03E-4B09-9DD5-E8730F01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D52F07-F7FF-47B8-AEA1-44D61541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B206-FCDD-43A7-97C5-1B598F62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12C0-A3F4-4E6C-B6A7-B1E68DC3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E777-CD66-474F-889B-6CDC210E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AD80-59EA-4F8C-BE3F-23B523E4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EA40-8F8D-4F26-AFA6-F18619C6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B850-4E8A-44EC-8ED9-D6C5870F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2E5F-5726-42EC-8ED5-CDB7C6CB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401C-36BC-42D8-8C33-32EE2D26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7B9E-34D5-4FAA-BAD4-EE0503AA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0D9C-37AB-4638-A4F8-DA37B572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BF1D7-B666-49A7-9BC7-AC6856B8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91ED8-C82D-4542-A5BB-53D2CB0B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9DCD9-6A3E-4F08-9708-E66DA13B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2BFFE-A932-4851-9AA5-127D8315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B8CE9-0231-43AF-9ADA-9CD9BBCC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221-7FF1-41BB-B72A-7F817E17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3550F-D39E-4B62-BF17-0CEE4AC1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6D6C5-C3AA-4823-9351-217D2896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0EAF3-ED8F-42DB-8D23-A75613DA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ED871-389C-43EE-A379-7E71969E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B3D4A-23FB-44CA-92F9-189B3454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98967-93DE-488D-816E-DC34E436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381B7-9E30-47D0-9D60-CC61DD13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556AA-AA38-4DBD-9BF0-D95D447A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A4546-705C-4D72-A492-72BF5004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B1559-1D56-4963-9082-FCDDB8CF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DEE-0EDC-458F-B2E3-21B88E00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49EE4-05A9-4D66-ABFA-EE1251C9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E6D89-A95F-4C0C-99A7-82A87A66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26842-53BA-4CE3-AC3A-D9456EB2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49FEF-4EC0-41D7-B8A8-4AF5BD46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89BC4-C557-4DC7-A2DA-02B20328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E758C-BA7B-4772-9134-40AD8C87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DCEF5-A634-4F59-B5C6-DC811ED5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53008-B1CB-4899-8259-3B76A995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49B48-B603-4190-A4F6-CEE1FE95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778D8-88F4-436D-9FE2-FBC581CD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363-9766-4A19-85F5-47C7D47D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5BA3A-187C-43D4-B30A-A7C6C31F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BE3EC-2A27-4D3D-8ADD-45604FA0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8A968-DF54-4ED2-B102-828EF990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5F961-EC09-4C8C-AD14-0DECB48E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3A57C-074D-4A5F-8EB2-37D7A233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83245-9D2B-40AC-81E9-2C14FFED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C66D0-18EA-498D-8E2E-CAAEFF92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B37B3-8147-4164-9BC7-C6B9F694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B7DD0-85AD-4645-9C8B-F36CEC75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67772-4A4E-48F0-AC93-18C62588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298-82E8-41C5-9ACF-F8ACE8DE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72C56-4EA4-499A-B724-BE2CF221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DE0FB-E188-4F1F-8960-18B268DA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BE4CF-DC1A-4F7E-8B6F-B83AF27B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2D3C8-4FB0-4F43-844D-23E3E1A9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D1923-C801-40F1-B68B-7A1CF88B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25A7E-F163-4343-9F22-5C4F1F2C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7BDF3-26C7-4ED1-B297-1E82F7B5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F3C60-9991-45C4-AA60-2208CF87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7FB18-BFF4-42FD-858C-ABA13632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2BE32-A5B3-4317-9AD7-19934923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A42-F41A-480C-ACA4-D99BFD4C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82CD4-7267-4570-8B7F-BC61A5D9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63BCF-D063-43B3-A723-E33F6ECD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B3591-8C7C-4F3B-8B9C-B0F94E57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1EB0C-377C-4481-8270-1F612086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B563D-E9E5-4B73-9F69-EA305472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68E15-FBB2-402B-B99A-56D59C58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69AF2-7509-4218-960D-099ABB28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F2E0A-0211-4BDC-BF4B-CAD2A4DA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8B510-DDBF-46AA-8BE0-13E0E2C8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55F87-A58C-4038-9BD6-51886FDD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D221-8F2C-4199-9DE6-A8B83F57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C0720-9A7C-4BD5-90EB-06ADBC6C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51FD2-2EB0-45E6-885B-4C1FD508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A59AC-002A-4644-BEEB-1DB45995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B6A60-A76A-4C00-92D0-F5F18EF6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DE10B-EF38-40EE-9170-967D7134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B3C64-5B35-4BA1-BBE1-D2E5B0B6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D4D33-7D31-416F-B2FB-C6C5D1A9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EA73A-55C5-4426-B263-D660C29E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E4A8B-1179-4CB2-8C3A-DDA24F28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B3A1D-E6FE-4472-B710-E868C2A8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580-05D4-4DDB-8ECA-B52B0CD8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A687C-904F-424E-9070-855BC5B4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8D215-7A9D-4A5D-A6D4-6E7F358D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78752-BC41-44F9-80A8-D24E2A6F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9A209-67F0-43C4-800A-4E440F12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F0FB2-B20F-4045-B8B3-BF5885E1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B791D-120C-422A-A962-F90C0508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13EAC-E0F7-476A-AFC6-7D924624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FE370-47CF-4BFA-8399-05C67201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88EC3-CC04-461F-AFC1-A4DDDBB2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C0764-D52D-4BF5-861A-53F254CA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DR. S. GANNOUNI &amp; DR.  A. TOUI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B968B-9022-49C6-AFF7-8CE0FA23BC70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f296b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f296b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DR. S. GANNOUNI &amp; DR.  A. TOUI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B5F26-20EB-4E14-9D6E-A5176255AB3F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DR. S. GANNOUNI &amp; DR.  A. TOU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Page </a:t>
            </a:r>
            <a:fld id="{BD991558-6BDF-4692-9767-DE0C293E936F}" type="slidenum">
              <a:rPr b="0" lang="en-US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DR. S. GANNOUNI &amp; DR.  A. TOU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Page </a:t>
            </a:r>
            <a:fld id="{DCDA32C4-F5D3-405A-8898-C161BB4FC17D}" type="slidenum">
              <a:rPr b="0" lang="en-US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DR. S. GANNOUNI &amp; DR.  A. TOU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Page </a:t>
            </a:r>
            <a:fld id="{A70F937E-4441-41C4-B691-88D2F7382288}" type="slidenum">
              <a:rPr b="0" lang="en-US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f296b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f296b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DR. S. GANNOUNI &amp; DR.  A. TOUI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0674A-CDC6-4309-B1E2-1B55D38B0386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DR. S. GANNOUNI &amp; DR.  A. TOUI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C574E-21CE-4178-A9E2-2108F5B74620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f296b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f296b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DR. S. GANNOUNI &amp; DR.  A. TOUI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DCEC2-1AC0-41A1-9518-55FBD4F8AF4A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DR. S. GANNOUNI &amp; DR.  A. TOUI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848A2-BDA8-4DFB-B93C-FA424E9AF2DD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DR. S. GANNOUNI &amp; DR.  A. TOUI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9B3D9-1767-4D31-9B58-BEA29A39AB36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DR. S. GANNOUNI &amp; DR.  A. TOUI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8A37D-220A-46E3-8D01-58ECFA80CA8C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f296b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f296b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DR. S. GANNOUNI &amp; DR.  A. TOUI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1E4D8-6FE2-439C-B0EF-84CE52211229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903163"/>
                </a:solidFill>
                <a:latin typeface="Times New Roman"/>
                <a:ea typeface="Majalla UI"/>
              </a:rPr>
              <a:t>Introduction to O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DR. S. GANNOUNI &amp; DR.  A. TOUI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C1DBD-C32A-4A2E-8C17-7040D58DE306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81040" y="99072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FUNDAMENTALS 2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81040" y="2495160"/>
            <a:ext cx="7989840" cy="5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03163"/>
                </a:solidFill>
                <a:latin typeface="Gill Sans MT"/>
              </a:rPr>
              <a:t>CHAPTER 2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0280" y="952560"/>
            <a:ext cx="83167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INCREMENT/DECREMENT OPERATOR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412920" y="2179800"/>
            <a:ext cx="77724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Only use ++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 when a variable is being incremented/decremented as a statement by itself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x++; is equivalent to x = x+1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x--; is equivalent to x = x-1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25520" y="700200"/>
            <a:ext cx="79898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RELATIONAL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581040" y="3166920"/>
          <a:ext cx="7989840" cy="3338640"/>
        </p:xfrm>
        <a:graphic>
          <a:graphicData uri="http://schemas.openxmlformats.org/drawingml/2006/table">
            <a:tbl>
              <a:tblPr/>
              <a:tblGrid>
                <a:gridCol w="2271600"/>
                <a:gridCol w="5718240"/>
              </a:tblGrid>
              <a:tr h="608040"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 true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79440"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&gt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 greater tha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606600"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&gt;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 greater than or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380880"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==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is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378000"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!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 not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608040"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&lt;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 less than or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377640"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&lt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145440" rIns="145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 less tha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145440" marR="145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</a:tbl>
          </a:graphicData>
        </a:graphic>
      </p:graphicFrame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25520" y="19695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Relational operators compare two values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ey Produce a </a:t>
            </a:r>
            <a:r>
              <a:rPr b="0" i="1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boolean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value (</a:t>
            </a:r>
            <a:r>
              <a:rPr b="1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rue 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or </a:t>
            </a:r>
            <a:r>
              <a:rPr b="1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false) 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depending on the relationship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81040" y="1174320"/>
            <a:ext cx="7772400" cy="5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int x = 3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int y = 5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boolean result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  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result = (x &gt; y)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now result is assigned the value </a:t>
            </a:r>
            <a:r>
              <a:rPr b="0" lang="en-US" sz="2000" spc="-1" strike="noStrike">
                <a:solidFill>
                  <a:srgbClr val="cc3300"/>
                </a:solidFill>
                <a:latin typeface="Gill Sans MT"/>
                <a:ea typeface="Majalla UI"/>
              </a:rPr>
              <a:t>false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because 3 is not greater than 5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81040" y="815760"/>
            <a:ext cx="7989840" cy="108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LOGICAL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324000" y="3693960"/>
          <a:ext cx="3706560" cy="1360800"/>
        </p:xfrm>
        <a:graphic>
          <a:graphicData uri="http://schemas.openxmlformats.org/drawingml/2006/table">
            <a:tbl>
              <a:tblPr/>
              <a:tblGrid>
                <a:gridCol w="1234800"/>
                <a:gridCol w="1236960"/>
                <a:gridCol w="1234800"/>
              </a:tblGrid>
              <a:tr h="459720">
                <a:tc>
                  <a:txBody>
                    <a:bodyPr lIns="274320" rIns="274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d3d3d"/>
                          </a:solidFill>
                          <a:latin typeface="Tahoma"/>
                          <a:ea typeface="Arial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274320" marR="274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4320" rIns="274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27432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4320" rIns="274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274320" marR="274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274320" rIns="274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274320" marR="274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4320" rIns="274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27432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4320" rIns="274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274320" marR="274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274320" rIns="274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274320" marR="274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4320" rIns="274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27432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4320" rIns="274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274320" marR="274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690640" y="1900080"/>
            <a:ext cx="37720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Symbol       Name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&amp;&amp;</a:t>
            </a: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       AND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||</a:t>
            </a: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           OR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a5a5a5"/>
                </a:solidFill>
                <a:latin typeface="Gill Sans MT"/>
                <a:ea typeface="Majalla UI"/>
              </a:rPr>
              <a:t> </a:t>
            </a:r>
            <a:r>
              <a:rPr b="1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!</a:t>
            </a: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          NOT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5222880" y="3675240"/>
          <a:ext cx="3522600" cy="1463400"/>
        </p:xfrm>
        <a:graphic>
          <a:graphicData uri="http://schemas.openxmlformats.org/drawingml/2006/table">
            <a:tbl>
              <a:tblPr/>
              <a:tblGrid>
                <a:gridCol w="1174680"/>
                <a:gridCol w="1171800"/>
                <a:gridCol w="117612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d3d3d"/>
                          </a:solidFill>
                          <a:latin typeface="Tahoma"/>
                          <a:ea typeface="Arial"/>
                        </a:rPr>
                        <a:t>&amp;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480" y="127440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09480" y="2057040"/>
            <a:ext cx="65534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boolean x = </a:t>
            </a:r>
            <a:r>
              <a:rPr b="0" lang="en-US" sz="2400" spc="-1" strike="noStrike">
                <a:solidFill>
                  <a:srgbClr val="cc3300"/>
                </a:solidFill>
                <a:latin typeface="Gill Sans MT"/>
                <a:ea typeface="Majalla UI"/>
              </a:rPr>
              <a:t>tru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boolean y = </a:t>
            </a:r>
            <a:r>
              <a:rPr b="0" lang="en-US" sz="2400" spc="-1" strike="noStrike">
                <a:solidFill>
                  <a:srgbClr val="cc3300"/>
                </a:solidFill>
                <a:latin typeface="Gill Sans MT"/>
                <a:ea typeface="Majalla UI"/>
              </a:rPr>
              <a:t>fals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boolean result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result = (x &amp;&amp; y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result is assigned the value </a:t>
            </a:r>
            <a:r>
              <a:rPr b="0" lang="en-US" sz="2400" spc="-1" strike="noStrike">
                <a:solidFill>
                  <a:srgbClr val="cc3300"/>
                </a:solidFill>
                <a:latin typeface="Gill Sans MT"/>
                <a:ea typeface="Majalla UI"/>
              </a:rPr>
              <a:t>fals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result = ((x || y) &amp;&amp; x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(x || y) evaluates to </a:t>
            </a:r>
            <a:r>
              <a:rPr b="0" lang="en-US" sz="2400" spc="-1" strike="noStrike">
                <a:solidFill>
                  <a:srgbClr val="cc3300"/>
                </a:solidFill>
                <a:latin typeface="Gill Sans MT"/>
                <a:ea typeface="Majalla UI"/>
              </a:rPr>
              <a:t>tru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(true &amp;&amp; x) evaluates to </a:t>
            </a:r>
            <a:r>
              <a:rPr b="0" lang="en-US" sz="2400" spc="-1" strike="noStrike">
                <a:solidFill>
                  <a:srgbClr val="cc3300"/>
                </a:solidFill>
                <a:latin typeface="Gill Sans MT"/>
                <a:ea typeface="Majalla UI"/>
              </a:rPr>
              <a:t>tru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result is then assigned the value </a:t>
            </a:r>
            <a:r>
              <a:rPr b="0" lang="en-US" sz="2400" spc="-1" strike="noStrike">
                <a:solidFill>
                  <a:srgbClr val="cc3300"/>
                </a:solidFill>
                <a:latin typeface="Gill Sans MT"/>
                <a:ea typeface="Majalla UI"/>
              </a:rPr>
              <a:t>tru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OPERATORS PRECEDENC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581040" y="2227320"/>
          <a:ext cx="7989840" cy="3657600"/>
        </p:xfrm>
        <a:graphic>
          <a:graphicData uri="http://schemas.openxmlformats.org/drawingml/2006/table">
            <a:tbl>
              <a:tblPr/>
              <a:tblGrid>
                <a:gridCol w="3621240"/>
                <a:gridCol w="4368600"/>
              </a:tblGrid>
              <a:tr h="406440"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arenth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(), inside-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406440"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Increment/decr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++,  --, 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406440"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ultipl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*, /, %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406080"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dd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+, -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406440"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&lt;, &gt;, &lt;=, &gt;=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406440"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qu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==, !=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406440"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Logical 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&amp;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406440"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Logical 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||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  <a:tr h="406440"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=, +=, -=, *=, /=, %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282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81040" y="303696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INPUT &amp; OUTPU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81040" y="4541400"/>
            <a:ext cx="79898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903163"/>
              </a:solidFill>
              <a:latin typeface="Gill Sans MT"/>
              <a:ea typeface="Majalla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INPUT AND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Majalla UI"/>
              </a:rPr>
              <a:t>SYSTEM.I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71440" y="1957320"/>
            <a:ext cx="849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An object with methods named println and prin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in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not intended to be used directly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We use a second object, from a class Scanner, to help us</a:t>
            </a: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Constructing a Scanner object to read console input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canner </a:t>
            </a:r>
            <a:r>
              <a:rPr b="1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name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= new Scanner(System.in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3d3d3d"/>
                </a:solidFill>
                <a:uFillTx/>
                <a:latin typeface="Gill Sans MT"/>
                <a:ea typeface="Majalla UI"/>
              </a:rPr>
              <a:t>Example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canner console = new Scanner(System.in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9040" y="1185480"/>
            <a:ext cx="7772400" cy="5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S PGothic"/>
              </a:rPr>
              <a:t>STANDARD OUTPUT WINDOW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28240" y="1496520"/>
            <a:ext cx="8451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Using </a:t>
            </a:r>
            <a:r>
              <a:rPr b="1" lang="en-US" sz="2000" spc="-1" strike="noStrike">
                <a:solidFill>
                  <a:srgbClr val="cc3300"/>
                </a:solidFill>
                <a:latin typeface="Gill Sans MT"/>
                <a:ea typeface="Majalla UI"/>
              </a:rPr>
              <a:t>System.out</a:t>
            </a:r>
            <a:r>
              <a:rPr b="1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,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we can output multiple lines of text to the standard output window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pic>
        <p:nvPicPr>
          <p:cNvPr id="629" name="Picture 4" descr="wu18847_0306"/>
          <p:cNvPicPr/>
          <p:nvPr/>
        </p:nvPicPr>
        <p:blipFill>
          <a:blip r:embed="rId1"/>
          <a:stretch/>
        </p:blipFill>
        <p:spPr>
          <a:xfrm>
            <a:off x="2500200" y="2728800"/>
            <a:ext cx="4572000" cy="227808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0" y="5295960"/>
            <a:ext cx="84614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92000"/>
              <a:buFont typeface="Gill Sans 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ill Sans MT"/>
              </a:rPr>
              <a:t>The exact style of standard output window depends on the Java tool you us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360" y="118116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S PGothic"/>
              </a:rPr>
              <a:t>THE PRINTLN METHOD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68000" y="2080800"/>
            <a:ext cx="85345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We use </a:t>
            </a:r>
            <a:r>
              <a:rPr b="1" lang="en-US" sz="1800" spc="-1" strike="noStrike">
                <a:solidFill>
                  <a:srgbClr val="cc3300"/>
                </a:solidFill>
                <a:latin typeface="Gill Sans MT"/>
                <a:ea typeface="Majalla UI"/>
              </a:rPr>
              <a:t>println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instead of </a:t>
            </a:r>
            <a:r>
              <a:rPr b="1" lang="en-US" sz="1800" spc="-1" strike="noStrike">
                <a:solidFill>
                  <a:srgbClr val="cc3300"/>
                </a:solidFill>
                <a:latin typeface="Gill Sans MT"/>
                <a:ea typeface="Majalla UI"/>
              </a:rPr>
              <a:t>print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to skip a line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grpSp>
        <p:nvGrpSpPr>
          <p:cNvPr id="633" name="Group 4"/>
          <p:cNvGrpSpPr/>
          <p:nvPr/>
        </p:nvGrpSpPr>
        <p:grpSpPr>
          <a:xfrm>
            <a:off x="944640" y="2679840"/>
            <a:ext cx="7014600" cy="2042640"/>
            <a:chOff x="944640" y="2679840"/>
            <a:chExt cx="7014600" cy="2042640"/>
          </a:xfrm>
        </p:grpSpPr>
        <p:sp>
          <p:nvSpPr>
            <p:cNvPr id="634" name="Rectangle 5"/>
            <p:cNvSpPr/>
            <p:nvPr/>
          </p:nvSpPr>
          <p:spPr>
            <a:xfrm>
              <a:off x="944640" y="2679840"/>
              <a:ext cx="7014600" cy="20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bebe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35" name="Text Box 6"/>
            <p:cNvSpPr/>
            <p:nvPr/>
          </p:nvSpPr>
          <p:spPr>
            <a:xfrm>
              <a:off x="1119240" y="2890440"/>
              <a:ext cx="66625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228600"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903163"/>
                  </a:solidFill>
                  <a:latin typeface="Courier New"/>
                  <a:ea typeface="MS PGothic"/>
                </a:rPr>
                <a:t>int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x = 123, y = x + x;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( </a:t>
              </a:r>
              <a:r>
                <a:rPr b="0" lang="en-US" sz="18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x = 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x );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( </a:t>
              </a:r>
              <a:r>
                <a:rPr b="0" lang="en-US" sz="18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x + x = 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y );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</a:t>
              </a:r>
              <a:r>
                <a:rPr b="0" lang="en-US" sz="18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THE END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636" name="TextBox 10"/>
          <p:cNvSpPr/>
          <p:nvPr/>
        </p:nvSpPr>
        <p:spPr>
          <a:xfrm>
            <a:off x="2324160" y="5214960"/>
            <a:ext cx="3505320" cy="1191240"/>
          </a:xfrm>
          <a:prstGeom prst="rect">
            <a:avLst/>
          </a:prstGeom>
          <a:solidFill>
            <a:srgbClr val="ffffff"/>
          </a:solidFill>
          <a:ln cap="rnd" w="22320">
            <a:solidFill>
              <a:srgbClr val="4d1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x = 12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x + x = 24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42880" y="116064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42880" y="2060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Majalla UI"/>
              </a:rPr>
              <a:t>Operators are special symbols used for: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mathematical functions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assignment statements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logical comparisons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s of operators: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3 + 5              // uses + operator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14 + 5 – 4 * (5 – 3)     // uses +, -, * operators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Majalla UI"/>
              </a:rPr>
              <a:t>Expressions: can be combinations of variables and operators that result in a value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1720" y="979560"/>
            <a:ext cx="68709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S PGothic"/>
              </a:rPr>
              <a:t>STANDARD INPU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90600" y="2101320"/>
            <a:ext cx="8076960" cy="446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95560" indent="-29556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To input primitive data values, we use the Scanner clas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95560" indent="-29556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4 steps are needed to be able to use input primitive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09480" indent="-29520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ill Sans MT"/>
                <a:ea typeface="Majalla UI"/>
              </a:rPr>
              <a:t>Step 1: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 import the Scanner class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2" marL="871560" indent="-261720"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import Java.util.Scanner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09480" indent="-29520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ill Sans MT"/>
                <a:ea typeface="Majalla UI"/>
              </a:rPr>
              <a:t>Step 2 :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declaring a reference variable of a</a:t>
            </a:r>
            <a:r>
              <a:rPr b="0" lang="en-US" sz="1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canner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2" marL="871560" indent="-261720"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Scanner read ;   //we named the object read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09480" indent="-29520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ill Sans MT"/>
                <a:ea typeface="Majalla UI"/>
              </a:rPr>
              <a:t>Step 3: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creating an instance of the Scanner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2" marL="871560" indent="-261720"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read = new Scanner (System.in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09480" indent="-29520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ill Sans MT"/>
                <a:ea typeface="Majalla UI"/>
              </a:rPr>
              <a:t>Step 4: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use specific methods to enter data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2" marL="871560" indent="-261720"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int x = read.nextInt(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2" marL="871560" indent="-261720">
              <a:spcBef>
                <a:spcPts val="3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295560" indent="-295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JAVA CLASS LIBRARIES, IMPOR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93680" y="1893600"/>
            <a:ext cx="8640720" cy="47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01680" indent="-3016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Java class libraries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: Classes included with Java's JDK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organized into groups named </a:t>
            </a:r>
            <a:r>
              <a:rPr b="0" i="1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packages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o use a package, put an </a:t>
            </a:r>
            <a:r>
              <a:rPr b="0" i="1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import declaration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in your program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Syntax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  <a:ea typeface="Majalla UI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nsolas"/>
                <a:ea typeface="Consolas"/>
              </a:rPr>
              <a:t>// put this at the very top of your program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nsolas"/>
                <a:ea typeface="Consolas"/>
              </a:rPr>
              <a:t>import </a:t>
            </a:r>
            <a:r>
              <a:rPr b="1" lang="en-US" sz="1800" spc="-1" strike="noStrike">
                <a:solidFill>
                  <a:srgbClr val="3d3d3d"/>
                </a:solidFill>
                <a:latin typeface="Consolas"/>
                <a:ea typeface="Consolas"/>
              </a:rPr>
              <a:t>packageName</a:t>
            </a:r>
            <a:r>
              <a:rPr b="0" lang="en-US" sz="1800" spc="-1" strike="noStrike">
                <a:solidFill>
                  <a:srgbClr val="3d3d3d"/>
                </a:solidFill>
                <a:latin typeface="Consolas"/>
                <a:ea typeface="Consolas"/>
              </a:rPr>
              <a:t>.*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Scanner is in a package named java.uti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nsolas"/>
                <a:ea typeface="Consolas"/>
              </a:rPr>
              <a:t>import java.util.*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nsolas"/>
                <a:ea typeface="Consolas"/>
              </a:rPr>
              <a:t>import java.util.</a:t>
            </a:r>
            <a:r>
              <a:rPr b="0" lang="en-US" sz="1800" spc="-1" strike="noStrike">
                <a:solidFill>
                  <a:srgbClr val="903163"/>
                </a:solidFill>
                <a:latin typeface="Consolas"/>
                <a:ea typeface="Consolas"/>
              </a:rPr>
              <a:t>Scanner</a:t>
            </a:r>
            <a:r>
              <a:rPr b="0" lang="en-US" sz="1800" spc="-1" strike="noStrike">
                <a:solidFill>
                  <a:srgbClr val="3d3d3d"/>
                </a:solidFill>
                <a:latin typeface="Consolas"/>
                <a:ea typeface="Consolas"/>
              </a:rPr>
              <a:t>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o use Scanner, you must place the above line at the top of your program (before the public class header)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Majalla UI"/>
              </a:rPr>
              <a:t>SCANNER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METHOD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7000" y="3954240"/>
            <a:ext cx="8628120" cy="29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32400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ach method waits until the user presses Enter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The value typed is returned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324000"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("How old are you? ");    </a:t>
            </a:r>
            <a:r>
              <a:rPr b="1" lang="en-US" sz="1900" spc="-1" strike="noStrike">
                <a:solidFill>
                  <a:srgbClr val="008080"/>
                </a:solidFill>
                <a:latin typeface="Consolas"/>
                <a:ea typeface="Consolas"/>
              </a:rPr>
              <a:t>// prompt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lvl="1" marL="324000"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nsolas"/>
                <a:ea typeface="Consolas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nsolas"/>
                <a:ea typeface="Consolas"/>
              </a:rPr>
              <a:t>int age = </a:t>
            </a:r>
            <a:r>
              <a:rPr b="1" lang="en-US" sz="1900" spc="-1" strike="noStrike">
                <a:solidFill>
                  <a:srgbClr val="3d3d3d"/>
                </a:solidFill>
                <a:latin typeface="Consolas"/>
                <a:ea typeface="Consolas"/>
              </a:rPr>
              <a:t>console.nextInt();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lvl="1" marL="324000"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nsolas"/>
                <a:ea typeface="Consolas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"You'll be 40 in " + 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lvl="1" marL="324000"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nsolas"/>
                <a:ea typeface="Consolas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0" lang="en-US" sz="1900" spc="-1" strike="noStrike">
                <a:solidFill>
                  <a:srgbClr val="3d3d3d"/>
                </a:solidFill>
                <a:latin typeface="Consolas"/>
                <a:ea typeface="Consolas"/>
              </a:rPr>
              <a:t>(40 - age) + " years.");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lvl="1" marL="324000" indent="0">
              <a:lnSpc>
                <a:spcPct val="6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900" spc="-1" strike="noStrike">
                <a:solidFill>
                  <a:srgbClr val="3d3d3d"/>
                </a:solidFill>
                <a:latin typeface="Gill Sans MT"/>
                <a:ea typeface="Majalla UI"/>
              </a:rPr>
              <a:t>prompt</a:t>
            </a:r>
            <a:r>
              <a:rPr b="0" lang="en-US" sz="1900" spc="-1" strike="noStrike">
                <a:solidFill>
                  <a:srgbClr val="3d3d3d"/>
                </a:solidFill>
                <a:latin typeface="Gill Sans MT"/>
                <a:ea typeface="Majalla UI"/>
              </a:rPr>
              <a:t>: A message telling the user what input to type.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lvl="1" marL="324000" indent="0">
              <a:lnSpc>
                <a:spcPct val="6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581040" y="1933560"/>
          <a:ext cx="8215200" cy="1981080"/>
        </p:xfrm>
        <a:graphic>
          <a:graphicData uri="http://schemas.openxmlformats.org/drawingml/2006/table">
            <a:tbl>
              <a:tblPr/>
              <a:tblGrid>
                <a:gridCol w="2535120"/>
                <a:gridCol w="5680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Majalla UI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Majalla U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Majalla UI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Majalla UI"/>
                        </a:rPr>
                        <a:t>reads a token of user input a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Majalla UI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Majalla UI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Majalla UI"/>
                        </a:rPr>
                        <a:t>reads a token of user input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Majalla UI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Majalla UI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Majalla UI"/>
                        </a:rPr>
                        <a:t>reads a token of user input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Majalla UI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  <a:ea typeface="Majalla UI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Majalla UI"/>
                        </a:rPr>
                        <a:t>reads a 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Majalla UI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Majalla UI"/>
                        </a:rPr>
                        <a:t> of user input as a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  <a:ea typeface="Majalla UI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82400" y="1066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S PGothic"/>
              </a:rPr>
              <a:t>COMMON SCANNER METHOD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272520" y="213948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Method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canner input = new Scanner (System.in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nextByte( 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byte b = input.nextByte( 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nextDouble( 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double d = input.nextDouble( 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nextFloat( 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float f = input.nextFloat( 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nextInt( 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nt i = input.nextInt( 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nextLong( 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long l = input.nextLong( 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nextShort( 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hort s = input.nextShort( 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next()               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tring str = input.next(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4"/>
          <p:cNvSpPr/>
          <p:nvPr/>
        </p:nvSpPr>
        <p:spPr>
          <a:xfrm>
            <a:off x="1579680" y="2887560"/>
            <a:ext cx="54608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2475000" y="3822840"/>
            <a:ext cx="2354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EXAMPLE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Majalla UI"/>
              </a:rPr>
              <a:t>SCANNER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USAG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90680" y="1938240"/>
            <a:ext cx="798984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import java.util.*;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</a:t>
            </a:r>
            <a:r>
              <a:rPr b="1" lang="en-US" sz="1400" spc="-1" strike="noStrike">
                <a:solidFill>
                  <a:srgbClr val="008080"/>
                </a:solidFill>
                <a:latin typeface="Consolas"/>
                <a:ea typeface="Consolas"/>
              </a:rPr>
              <a:t>// so that I can use Scanner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public class ReadSomeInput {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public static void main(String[] args) {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Scanner console = new Scanner(System.in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("How old are you? "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int age = </a:t>
            </a: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console.nextInt(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age + "... That's quite old!"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}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}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Output (user input underlined):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How old are you? </a:t>
            </a:r>
            <a:r>
              <a:rPr b="1" lang="en-US" sz="1400" spc="-1" strike="noStrike" u="sng">
                <a:solidFill>
                  <a:srgbClr val="3d3d3d"/>
                </a:solidFill>
                <a:uFillTx/>
                <a:latin typeface="Consolas"/>
                <a:ea typeface="Consolas"/>
              </a:rPr>
              <a:t>14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1596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14... That's quite old!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4"/>
          <p:cNvSpPr/>
          <p:nvPr/>
        </p:nvSpPr>
        <p:spPr>
          <a:xfrm>
            <a:off x="2470320" y="3263760"/>
            <a:ext cx="2355840" cy="80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ANOTHER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Majalla UI"/>
              </a:rPr>
              <a:t>SCANNER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EXAMPL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71080" y="2495520"/>
            <a:ext cx="8131320" cy="38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import java.util.*;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</a:t>
            </a:r>
            <a:r>
              <a:rPr b="1" lang="en-US" sz="1400" spc="-1" strike="noStrike">
                <a:solidFill>
                  <a:srgbClr val="008080"/>
                </a:solidFill>
                <a:latin typeface="Consolas"/>
                <a:ea typeface="Consolas"/>
              </a:rPr>
              <a:t>// so that I can use Scanner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public class ScannerSum {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public static void main(String[] args) {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Scanner console = new Scanner(System.in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("Please type three numbers: "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int num1 = </a:t>
            </a: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console.nextInt(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int num2 = </a:t>
            </a: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console.nextInt(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int num3 = </a:t>
            </a:r>
            <a:r>
              <a:rPr b="1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console.nextInt(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int sum = num1 + num2 + num3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System.out.println("The sum is " + sum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}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}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231480" indent="-23148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Output (user input underlined):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Please type three numbers: </a:t>
            </a:r>
            <a:r>
              <a:rPr b="1" lang="en-US" sz="1400" spc="-1" strike="noStrike" u="sng">
                <a:solidFill>
                  <a:srgbClr val="3d3d3d"/>
                </a:solidFill>
                <a:uFillTx/>
                <a:latin typeface="Consolas"/>
                <a:ea typeface="Consolas"/>
              </a:rPr>
              <a:t>8 6 13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The sum is 27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477360" indent="-23112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nsolas"/>
                <a:ea typeface="Consolas"/>
              </a:rPr>
              <a:t>The Scanner can read multiple values from one line.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INPUT TOKEN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63320" y="2009880"/>
            <a:ext cx="8204040" cy="43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92680" indent="-2926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oken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: A unit of user input, as read by the Scanner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-2923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okens are separated by </a:t>
            </a:r>
            <a:r>
              <a:rPr b="0" i="1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whitespace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(spaces, tabs, newlines)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-2923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How many tokens appear on the following line of input?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Majalla UI"/>
              </a:rPr>
              <a:t>23  John Smith   42.0 "Hello world"   $2.50   " 19"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292680" indent="-29268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When a token is not the type you ask for, it crashe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7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endParaRPr b="0" lang="en-US" sz="6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("What is your age? "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Majalla UI"/>
              </a:rPr>
              <a:t>int age = 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  <a:ea typeface="Majalla UI"/>
              </a:rPr>
              <a:t>console.nextInt()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Majalla UI"/>
              </a:rPr>
              <a:t>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7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Output: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7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endParaRPr b="0" lang="en-US" sz="6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200" spc="-1" strike="noStrike">
                <a:solidFill>
                  <a:srgbClr val="3d3d3d"/>
                </a:solidFill>
                <a:latin typeface="Courier New"/>
                <a:ea typeface="Majalla UI"/>
              </a:rPr>
              <a:t>What is your age? </a:t>
            </a:r>
            <a:r>
              <a:rPr b="1" lang="en-US" sz="1200" spc="-1" strike="noStrike" u="sng">
                <a:solidFill>
                  <a:srgbClr val="3d3d3d"/>
                </a:solidFill>
                <a:uFillTx/>
                <a:latin typeface="Courier New"/>
                <a:ea typeface="Majalla UI"/>
              </a:rPr>
              <a:t>Timmy</a:t>
            </a: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Courier New"/>
                <a:ea typeface="Majalla UI"/>
              </a:rPr>
              <a:t>	</a:t>
            </a:r>
            <a:r>
              <a:rPr b="0" lang="en-US" sz="1200" spc="-1" strike="noStrike">
                <a:solidFill>
                  <a:srgbClr val="800000"/>
                </a:solidFill>
                <a:latin typeface="Courier New"/>
                <a:ea typeface="Majalla UI"/>
              </a:rPr>
              <a:t>java.util.InputMismatchException </a:t>
            </a: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Courier New"/>
                <a:ea typeface="Majalla UI"/>
              </a:rPr>
              <a:t>	</a:t>
            </a:r>
            <a:r>
              <a:rPr b="0" lang="en-US" sz="1200" spc="-1" strike="noStrike">
                <a:solidFill>
                  <a:srgbClr val="800000"/>
                </a:solidFill>
                <a:latin typeface="Courier New"/>
                <a:ea typeface="Majalla UI"/>
              </a:rPr>
              <a:t>        </a:t>
            </a:r>
            <a:r>
              <a:rPr b="0" lang="en-US" sz="1200" spc="-1" strike="noStrike">
                <a:solidFill>
                  <a:srgbClr val="800000"/>
                </a:solidFill>
                <a:latin typeface="Courier New"/>
                <a:ea typeface="Majalla UI"/>
              </a:rPr>
              <a:t>at java.util.Scanner.next(Unknown Source)</a:t>
            </a: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Courier New"/>
                <a:ea typeface="Majalla UI"/>
              </a:rPr>
              <a:t>	</a:t>
            </a:r>
            <a:r>
              <a:rPr b="0" lang="en-US" sz="1200" spc="-1" strike="noStrike">
                <a:solidFill>
                  <a:srgbClr val="800000"/>
                </a:solidFill>
                <a:latin typeface="Courier New"/>
                <a:ea typeface="Majalla UI"/>
              </a:rPr>
              <a:t>        </a:t>
            </a:r>
            <a:r>
              <a:rPr b="0" lang="en-US" sz="1200" spc="-1" strike="noStrike">
                <a:solidFill>
                  <a:srgbClr val="800000"/>
                </a:solidFill>
                <a:latin typeface="Courier New"/>
                <a:ea typeface="Majalla UI"/>
              </a:rPr>
              <a:t>at java.util.Scanner.nextInt(Unknown Source)</a:t>
            </a: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  <a:p>
            <a:pPr lvl="1" marL="603360" indent="0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200" spc="-1" strike="noStrike">
                <a:solidFill>
                  <a:srgbClr val="3d3d3d"/>
                </a:solidFill>
                <a:latin typeface="Courier New"/>
                <a:ea typeface="Majalla UI"/>
              </a:rPr>
              <a:t>        </a:t>
            </a:r>
            <a:r>
              <a:rPr b="0" lang="en-US" sz="1200" spc="-1" strike="noStrike">
                <a:solidFill>
                  <a:srgbClr val="3d3d3d"/>
                </a:solidFill>
                <a:latin typeface="Courier New"/>
                <a:ea typeface="Majalla UI"/>
              </a:rPr>
              <a:t>...</a:t>
            </a: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416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S PGothic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6" name="TextBox 8"/>
          <p:cNvSpPr/>
          <p:nvPr/>
        </p:nvSpPr>
        <p:spPr>
          <a:xfrm>
            <a:off x="201600" y="593640"/>
            <a:ext cx="8942400" cy="664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nsolas"/>
                <a:ea typeface="Consolas"/>
              </a:rPr>
              <a:t>import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java.util.Scanner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nsolas"/>
                <a:ea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Consolas"/>
                <a:ea typeface="Consolas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TestInput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Consolas"/>
                <a:ea typeface="Consola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Consolas"/>
                <a:ea typeface="Consolas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Consolas"/>
                <a:ea typeface="Consolas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main(String[] args)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Scanner input 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  </a:t>
            </a:r>
            <a:r>
              <a:rPr b="0" lang="en-US" sz="1800" spc="-1" strike="noStrike">
                <a:solidFill>
                  <a:srgbClr val="0070c0"/>
                </a:solidFill>
                <a:latin typeface="Consolas"/>
                <a:ea typeface="Consolas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area ,length, width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input = </a:t>
            </a:r>
            <a:r>
              <a:rPr b="0" lang="en-US" sz="1800" spc="-1" strike="noStrike">
                <a:solidFill>
                  <a:srgbClr val="0070c0"/>
                </a:solidFill>
                <a:latin typeface="Consolas"/>
                <a:ea typeface="Consolas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Scanner (System.in); </a:t>
            </a:r>
            <a:r>
              <a:rPr b="0" lang="en-US" sz="1800" spc="-1" strike="noStrike">
                <a:solidFill>
                  <a:srgbClr val="00b050"/>
                </a:solidFill>
                <a:latin typeface="Consolas"/>
                <a:ea typeface="Consolas"/>
              </a:rPr>
              <a:t>// creating an insta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System.out.println("enter the length "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length = input.nextInt(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  <a:ea typeface="Consolas"/>
              </a:rPr>
              <a:t>//reading the length from the keyboar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System.out.println("Enter the Width "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width = input.nextInt(); </a:t>
            </a:r>
            <a:r>
              <a:rPr b="0" lang="en-US" sz="1800" spc="-1" strike="noStrike">
                <a:solidFill>
                  <a:srgbClr val="00b050"/>
                </a:solidFill>
                <a:latin typeface="Consolas"/>
                <a:ea typeface="Consolas"/>
              </a:rPr>
              <a:t>//reading the width from the keyboar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area = length * width 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System.out.println("the length is "+ length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System.out.println("the width is "+ width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System.out.println("the area is "+ area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OUTPU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enter the length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2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Enter the Width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3  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e length is 2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e width is 3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e area is 6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5"/>
          <p:cNvSpPr/>
          <p:nvPr/>
        </p:nvSpPr>
        <p:spPr>
          <a:xfrm>
            <a:off x="7620120" y="6400800"/>
            <a:ext cx="12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DF8A9-2709-4C58-A181-BF58F5E947A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OMMONLY USED ESCAPE SEQUENC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61" name="Picture 6" descr="Tbl02-04"/>
          <p:cNvPicPr/>
          <p:nvPr/>
        </p:nvPicPr>
        <p:blipFill>
          <a:blip r:embed="rId1"/>
          <a:stretch/>
        </p:blipFill>
        <p:spPr>
          <a:xfrm>
            <a:off x="982800" y="2678040"/>
            <a:ext cx="727524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90320" y="871560"/>
            <a:ext cx="6621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GROUPS OF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90680" y="2125800"/>
            <a:ext cx="8076960" cy="27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There are 5 different groups of operators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Arithmetic Operators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Assignment Operator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Increment / Decrement Operators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Relational Operators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Logical Operators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81040" y="303696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PARSING</a:t>
            </a: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81040" y="4541400"/>
            <a:ext cx="79898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903163"/>
              </a:solidFill>
              <a:latin typeface="Gill Sans MT"/>
              <a:ea typeface="Majalla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5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91BA3-33B3-4E7A-A186-298BF67F1C7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ARSING NUMERIC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163440" y="1873080"/>
            <a:ext cx="85298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classes designed to convert a numeric string into a number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se classes are called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rapp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es.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rse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method of the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ich converts a numeric integer string into a value of the type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method of the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is used to convert a numeric decimal string into an equivalent value of the type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rse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method of the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ich is used to convert a numeric decimal string into an equivalent value of the type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5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C8CAD-3368-4C30-989F-A328FC0CA4B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ARSING NUMERIC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457200" y="1981080"/>
            <a:ext cx="8113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string consisting of only integers or decimal numbers is called a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umeric str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convert a string consisting of an integer to a value of the typ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we use the following express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Integer.parseInt(strExpressio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Integer.parseInt("6723") = 672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Integer.parseInt("-823") = -82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Slide Number Placeholder 5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C410A-7C4B-4C56-BFBE-4ED32387130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ARSING NUMERIC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417600" y="1927080"/>
            <a:ext cx="8153280" cy="44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convert a string consisting of a decimal number to a value of the type </a:t>
            </a:r>
            <a:r>
              <a:rPr b="0" lang="en-US" sz="2000" spc="-1" strike="noStrike">
                <a:solidFill>
                  <a:srgbClr val="903163"/>
                </a:solidFill>
                <a:latin typeface="Gill Sans MT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we use the following expressio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Float.parseFloat(strExpression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Float.parseFloat("34.56") = 34.5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Float.parseFloat("-542.97") = -542.9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buClr>
                <a:srgbClr val="666699"/>
              </a:buClr>
              <a:buFont typeface="Wingdings" charset="2"/>
              <a:buChar char="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convert a string consisting of a decimal number to a value of the type </a:t>
            </a:r>
            <a:r>
              <a:rPr b="0" lang="en-US" sz="2000" spc="-1" strike="noStrike">
                <a:solidFill>
                  <a:srgbClr val="903163"/>
                </a:solidFill>
                <a:latin typeface="Gill Sans MT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we use the following expressio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Double.parseDouble(strExpression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Double.parseDouble("345.78") = 345.78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  <a:ea typeface="Consolas"/>
              </a:rPr>
              <a:t>Double.parseDouble("-782.873") = -782.873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71600" y="11044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JAVA ARITHMETIC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71240" y="20887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Addition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+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ubtraction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 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–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Multiplication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</a:t>
            </a:r>
            <a:r>
              <a:rPr b="0" lang="en-US" sz="2400" spc="-1" strike="noStrike">
                <a:solidFill>
                  <a:srgbClr val="3d3d3d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Division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     /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Remainder (modulus 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%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ill Sans MT"/>
                <a:ea typeface="Majalla UI"/>
              </a:rPr>
              <a:t>Assignment Operator       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=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80960" y="1231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ARITHMETIC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66480" y="422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e following table summarizes the arithmetic operators available in Java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pic>
        <p:nvPicPr>
          <p:cNvPr id="598" name="Picture 2" descr="ch3-2"/>
          <p:cNvPicPr/>
          <p:nvPr/>
        </p:nvPicPr>
        <p:blipFill>
          <a:blip r:embed="rId1"/>
          <a:stretch/>
        </p:blipFill>
        <p:spPr>
          <a:xfrm>
            <a:off x="706320" y="2678040"/>
            <a:ext cx="6858000" cy="25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5120" y="73944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574560" y="182232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xample of division issu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10 / 3  gives  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10.0 / 3 gives 3.3333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465120" y="3656160"/>
            <a:ext cx="8305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As we can see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if we divide two integers we get an integer resul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if one or both operands is a floating-point value we get a floating-point resul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MODULU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3" name="Text Box 2"/>
          <p:cNvSpPr/>
          <p:nvPr/>
        </p:nvSpPr>
        <p:spPr>
          <a:xfrm>
            <a:off x="385920" y="1986120"/>
            <a:ext cx="85262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a5a5a5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Generates the remainder when you divide two integer valu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5%3 gives 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5%4 gives 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5%5 gives 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5%10 gives 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749"/>
              </a:spcBef>
              <a:buClr>
                <a:srgbClr val="a5a5a5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Modulus operator is most commonly used with integer operands. If we attempt to use the modulus operator on  floating-point values we will garbage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EXAMPLE: SUM OF TWO INTEGER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5" name="Text Box 2"/>
          <p:cNvSpPr/>
          <p:nvPr/>
        </p:nvSpPr>
        <p:spPr>
          <a:xfrm>
            <a:off x="341280" y="1865160"/>
            <a:ext cx="8229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{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 metho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, sum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20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10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a + b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</a:t>
            </a:r>
            <a:r>
              <a:rPr b="0" lang="en-US" sz="2000" spc="-1" strike="noStrike">
                <a:solidFill>
                  <a:srgbClr val="990033"/>
                </a:solidFill>
                <a:latin typeface="Courier New"/>
                <a:ea typeface="Courier New"/>
              </a:rPr>
              <a:t>a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0" lang="en-US" sz="2000" spc="-1" strike="noStrike">
                <a:solidFill>
                  <a:srgbClr val="990033"/>
                </a:solidFill>
                <a:latin typeface="Courier New"/>
                <a:ea typeface="Courier New"/>
              </a:rPr>
              <a:t> ” + ”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0" lang="en-US" sz="2000" spc="-1" strike="noStrike">
                <a:solidFill>
                  <a:srgbClr val="990033"/>
                </a:solidFill>
                <a:latin typeface="Courier New"/>
                <a:ea typeface="Courier New"/>
              </a:rPr>
              <a:t> b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0" lang="en-US" sz="2000" spc="-1" strike="noStrike">
                <a:solidFill>
                  <a:srgbClr val="990033"/>
                </a:solidFill>
                <a:latin typeface="Courier New"/>
                <a:ea typeface="Courier New"/>
              </a:rPr>
              <a:t> “  = “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0" lang="en-US" sz="2000" spc="-1" strike="noStrike">
                <a:solidFill>
                  <a:srgbClr val="990033"/>
                </a:solidFill>
                <a:latin typeface="Courier New"/>
                <a:ea typeface="Courier New"/>
              </a:rPr>
              <a:t> sum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u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12920" y="1191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ffffff"/>
                </a:solidFill>
                <a:latin typeface="Gill Sans MT"/>
                <a:ea typeface="Majalla UI"/>
              </a:rPr>
              <a:t>ARITHMETIC/ASSIGNMENT OPERATORS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84320" y="1984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Java allows combining arithmetic and assignment operators into a single operator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Addition/assignment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+=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ubtraction/assignment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-=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Multiplication/assignment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</a:t>
            </a:r>
            <a:r>
              <a:rPr b="0" lang="en-US" sz="2400" spc="-1" strike="noStrike">
                <a:solidFill>
                  <a:srgbClr val="3d3d3d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=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Division/assignment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/=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Remainder/assignment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%=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1T13:55:39Z</dcterms:created>
  <dc:creator>Aseel</dc:creator>
  <dc:description/>
  <dc:language>en-US</dc:language>
  <cp:lastModifiedBy>Aseel</cp:lastModifiedBy>
  <dcterms:modified xsi:type="dcterms:W3CDTF">2014-09-11T17:05:08Z</dcterms:modified>
  <cp:revision>55</cp:revision>
  <dc:subject/>
  <dc:title>Fundamentals 2</dc:title>
</cp:coreProperties>
</file>