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dt" idx="40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ftr" idx="41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 type="sldNum" idx="42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6DDAF-C03F-4AC2-A48D-E49BEB0E660B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07A678-40B1-4EDF-B124-C3886498B38B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26889-0535-40BF-BBE4-3A3E5AD34CFC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8630F4-C612-4C30-8239-942D3855BA3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758CE8-0BDA-4DE3-9E3D-2B5562BAC93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CF89D-2ED9-40C0-BA23-AA5448A724FF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B9755D-FE16-4E58-A694-84D0451A62B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1B9E24-7C90-4E69-B694-5F2559A761C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's also useful to write a program that prompts for multiple values, both on the same line or each on its own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's also useful to write a program that prompts for multiple values, both on the same line or each on its own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1E62A-295E-4A4F-B8B0-2D66A97F5B1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82BD43-A99D-4A1B-8356-BB1E400E0F9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96EA8-A411-448A-835F-7E99F116D16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07F68-2327-4D59-AE42-273B7A03350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30617-21E3-4F78-BA38-681D66A2F60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B19B38-FD2E-4EFE-94DC-A0761B24C52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6EC3-63EF-4079-8614-1849D82B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F4AA-C37B-4E08-BFDB-032B7EDC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84020-1247-4015-9D05-110FF010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D57E7-758E-4318-9953-AFD65391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2AE95-BB2F-428A-BD0F-F246DAC3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D7DBA-12FB-4629-B652-65944E9B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E7BFD-16F6-4BDC-9514-7D97693B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CA6DA-AC54-456C-BB98-9312CF42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EE42F-BEE5-4D1B-92D8-2DCA4229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264B5-C5FF-4ADC-8CDC-677BDB41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CB4EF-874F-4B38-AA65-F0C5F1EE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00C3C-113D-4BC6-AD1E-2EB9E208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21C1-9223-42FC-BB7D-D0A247BC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15231-5694-40E1-BB51-ABB447C4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5DDC4-9E72-4C9C-B27E-8058B36D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A0C1E-8D22-4640-8417-A72DBCF9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137F2-2C2D-4A3E-AEC9-6A9AC43A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B9A2B-D58B-49E8-BB7E-F4FD0805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864CE-6DAC-4F06-8E94-2DBAD61B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18676-1052-467B-B8F2-201A6ECC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E2723-9115-418E-9473-D7E69889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E1AAC-D3A1-4703-9201-574EF9E8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676AD-B92C-42E4-9E41-CA5F425A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927C-FA49-4AFB-AE28-DDC75BD8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F8D85-E6A3-4074-90F4-E78DA4E6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F6149-3912-4367-A212-815DBB82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8CE3E-F4DF-466F-9097-8A97C735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8E5B1-2EE8-4290-A41B-71F09850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90228-4353-4A78-815D-C434D0BA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D1DB8-1EAF-4CF8-AA88-F8B21311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04A10-2725-436E-957D-2F72E87F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7DA87-DAB5-4064-9D39-F6AAD1B0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323E5-1A33-4C5D-A60E-A758D23C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448D8-5AA5-40AF-AEE3-1FBD4777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DF7E-92B8-4700-8440-DFC44001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02A8F-CCB4-4B80-9D15-7186C4B0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6E407-DB2A-49F6-85EB-004E0834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FB00E-F4C3-431D-A8D0-3DE43C32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D3E95-3645-4956-9500-033A81D6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F0157-2FC0-4C1D-9BFB-01D4F8D2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B666C-7C61-4D43-9E7F-41446E28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0B1B9-C067-471E-96E6-C69C82C5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0C087-4687-43E6-83B1-6AA3D61A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F14A8-21ED-45B5-8B41-D2A9B0FC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FF4D7-E4B8-46C2-A7AD-8C8595F0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0F9E-ABDD-4AB1-986F-B42BAA89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52DE7-45A7-494C-BCC0-D5367422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3D887-CA82-4DC4-B67C-2454D559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49298-E64B-4E66-994B-14B364E3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85263-6737-4E97-A277-49EC70A9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16C2B-EA14-417B-B346-3398A653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232DC2-44A4-4AB0-B6B1-CA2461BC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526E15-DE2D-4451-92F3-A202E33F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5303E3-4139-4F38-8D6D-6BC78F7E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42CBEB-835A-4F76-9E10-E5432E15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13F9BC-4768-41BA-9966-2C052410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F35C-B188-4DC7-87EE-A99D6813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8C7A10-BD5F-4E27-8CE0-2B3C7AC6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73901B-D12A-4213-8101-BF080E16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687814-24C3-49E6-9BD5-EADAB30A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7299B3-90ED-45C5-B5CB-44BACE85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CDE2CF-4F7E-4507-AC69-28D42C4D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A8A505-C76A-4DEE-BF57-31FA42AC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69264E-238A-4680-9A07-F8B4A585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0BAD-6407-4AA1-A43B-DC6B73C6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3083-A23D-4F37-9DE5-CFF91897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DEA9-6D85-4D2F-97DF-6D1BCCC2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9B19-37C4-4364-AADA-5894C185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E04F-B1E3-46ED-8F6F-4BF1B470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8AB1-24D5-46CD-9E36-E7BB7A47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2837-44C9-418A-8824-13007423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BB81-3F25-4AA0-A744-611D24D7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E91B-4A46-4398-A71A-C0D19800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8BFB-D97E-422B-9B60-9B3EA328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E8416-F452-4DD9-903F-65AF7AF6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271F8-C980-48F8-B854-93125515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B3017-95B3-4FFD-84E5-420C5BB5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0809A-A1D6-454D-8360-20A63A0A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82EEF-DD0C-4C00-B94D-3748BBC9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6160-16EE-4E65-946C-64D72094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80F27-8217-4F12-A62C-5B3250C2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D1A6A-2638-498F-9E31-4062AAFE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3140C-5DFD-456C-843C-AF13AEDD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1453E-7D72-4F2D-A9DE-7C656FED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96A65-04A4-44BB-A5A1-346697A4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7C265-4912-4BDB-81D6-0E0F0E47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0267D-6584-4800-8A4B-179140B0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F0989-0CC5-4704-99F8-EA8031AA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C0844-6661-438B-B8D4-D7AAE0F0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9450A-A6B1-4979-B774-14C3A80F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413E-5DB8-4F78-946E-970A5DAA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B1FC6-5209-4F11-8B64-858ADC1E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58316-B8E9-4B28-87AB-893E5836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6C8C4-B215-445A-87C9-81F746D1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33B62-BF04-4DE8-B54B-0DFDF01B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7879B-1F68-4439-A487-5B8D4904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92129-CF19-422F-8619-4D108C78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4F206-FFAB-4EF1-A35D-2F10E730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8D5DD-D22F-418E-A89E-2679CD08A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522B5-3A49-489F-A745-F4C20733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14D3F-2ECB-40BB-B10B-75C81D23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1F61-7409-4075-8CB9-C3FDA075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20289-5D7F-4DE3-92CD-1A4C4FB7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BFD2A-D6C5-4BBD-9019-1855EF01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FF92E-13E5-4A3A-9C21-56D042D5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B747F-A38E-4D68-9846-C66457BB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C4D2F-C5E0-4E9C-BCDD-981F49A5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C4CA9-2155-47C5-ADD1-B53A21BE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FF613-3C6F-4AA3-BEC5-AFC2B058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C09A6-5F91-42DE-BBF5-65DDF964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68358-18AB-4805-BE6A-CEE260B3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5BAB4-D714-4BC5-BD99-4AAE76AC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AC65-6F4E-4C79-BCA1-B8452372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3C1FB-293E-447C-9A7F-1957A037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09E95-518E-4BDA-8312-B31C518E0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49A48-EC29-4BCF-9335-9A8AFAA1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F6A12-9920-4C29-A152-685324BD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402DD-2DBD-4AF2-ACDF-99969181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90B4D-A849-4104-90F4-42EE4F62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A1CFF-DE95-43DB-B0E1-B5A3DBD8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B7CCD-6236-45ED-9A9F-542D66DF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F7CEA-49B9-437B-8226-AE9AE8D4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FBCD3-328E-4884-9673-3DE6F54A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E229-1040-4E58-BEF4-62A307E3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B3A7B-5EC7-462C-97F0-9AD4BB8B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06146-C8E2-4D1A-A6D8-0118358E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F0225-8871-409C-8E45-41F366EA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E30C0-E2C4-471C-B8E8-E1519DA6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8C0F3-B8C9-4E31-9484-B4D1DC8E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2431C-1932-41D9-8578-7BD0A0C5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BAB25-1C02-4539-A8F1-94197186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D3FC7-CAEF-4A53-BDA2-159FA88B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5E882-627E-4393-862F-76C6318D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2A4A8-E672-4372-8872-C3690F3A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FA6E-5045-4A1C-A1E8-E180E980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55214-A2CD-4421-B4C5-552853FE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A7A7C-450C-4CB2-BF3E-E6592FD2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F4F29-D86D-4276-9873-8124190C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C7182-E864-45BB-A35C-BDF3BDB0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44180-6910-41FF-88DC-314E2F6A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5D25F-B903-4884-9C36-B90860D5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82228-42DB-4EC3-B9CE-CB77E3B6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6EB90-E576-4BD4-A15D-70AB27BA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B63C4-B755-4B39-94A2-A1BFC440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111CF-6584-483D-9A33-8CB3C1AE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7B15-8ACA-4D6D-8318-1AE9B278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A9A27-4061-470E-B110-BFFB6D63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0D733-45DD-4F08-8CE2-82ABCA3B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B5AF9-1DE4-4811-9190-421587C2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F6377-EDCB-4163-9149-132D31A1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62B1B-4283-4359-9F9D-CE2849E2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43FF1-8D39-4E1F-884A-CD725711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DCE45-AF02-4609-95E0-32F1CEB7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36E2D-82BA-4F5E-A661-B940A9B0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1A2FC-A689-41D5-B2FD-6228B2E1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87F99-2CBB-4DB6-906F-1F7F6D6E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rPr>
              <a:t>Introduction to O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DR. S. GANNOUNI &amp; DR.  A. TOUI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0B1CBD-4680-41CD-A3E4-CBB37781CFBE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6629400" y="600120"/>
            <a:ext cx="2057400" cy="58165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744960" y="5955840"/>
            <a:ext cx="947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900" spc="-1" strike="noStrike">
                <a:solidFill>
                  <a:srgbClr val="9f296b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900" spc="-1" strike="noStrike">
                <a:solidFill>
                  <a:srgbClr val="9f296b"/>
                </a:solidFill>
                <a:latin typeface="Times New Roman"/>
                <a:ea typeface="Majalla UI"/>
              </a:rPr>
              <a:t>Introduction to O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580680" y="5951520"/>
            <a:ext cx="592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DR. S. GANNOUNI &amp; DR.  A. TOUI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E15EE2-3CB3-43A8-9C27-6F1C1ED3C07E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rPr>
              <a:t>Introduction to O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DR. S. GANNOUNI &amp; DR.  A. TOU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  <a:ea typeface="Majalla UI"/>
              </a:rPr>
              <a:t>Page </a:t>
            </a:r>
            <a:fld id="{49008E21-F793-4EE7-9227-33F027A9E212}" type="slidenum">
              <a:rPr b="0" lang="en-US" sz="900" spc="-1" strike="noStrike">
                <a:solidFill>
                  <a:srgbClr val="903163"/>
                </a:solidFill>
                <a:latin typeface="Times New Roman"/>
                <a:ea typeface="Majalla U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rPr>
              <a:t>Introduction to O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DR. S. GANNOUNI &amp; DR.  A. TOU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  <a:ea typeface="Majalla UI"/>
              </a:rPr>
              <a:t>Page </a:t>
            </a:r>
            <a:fld id="{40BCB089-D8B7-452F-897E-8F01988EA3CB}" type="slidenum">
              <a:rPr b="0" lang="en-US" sz="900" spc="-1" strike="noStrike">
                <a:solidFill>
                  <a:srgbClr val="903163"/>
                </a:solidFill>
                <a:latin typeface="Times New Roman"/>
                <a:ea typeface="Majalla U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3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rPr>
              <a:t>Introduction to O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DR. S. GANNOUNI &amp; DR.  A. TOU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  <a:ea typeface="Majalla UI"/>
              </a:rPr>
              <a:t>Page </a:t>
            </a:r>
            <a:fld id="{D13E8C70-DFEB-4EC3-A7D7-C10335CC3DD7}" type="slidenum">
              <a:rPr b="0" lang="en-US" sz="900" spc="-1" strike="noStrike">
                <a:solidFill>
                  <a:srgbClr val="903163"/>
                </a:solidFill>
                <a:latin typeface="Times New Roman"/>
                <a:ea typeface="Majalla U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447840" y="3086280"/>
            <a:ext cx="8240400" cy="33051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900" spc="-1" strike="noStrike">
                <a:solidFill>
                  <a:srgbClr val="9f296b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900" spc="-1" strike="noStrike">
                <a:solidFill>
                  <a:srgbClr val="9f296b"/>
                </a:solidFill>
                <a:latin typeface="Times New Roman"/>
                <a:ea typeface="Majalla UI"/>
              </a:rPr>
              <a:t>Introduction to O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DR. S. GANNOUNI &amp; DR.  A. TOUI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DD3CB9-7005-4C25-AD58-07CBE7584677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rPr>
              <a:t>Introduction to O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DR. S. GANNOUNI &amp; DR.  A. TOUI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8F2834-0100-49B7-BCBC-4A75D6ABE342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452520" y="514188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900" spc="-1" strike="noStrike">
                <a:solidFill>
                  <a:srgbClr val="9f296b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900" spc="-1" strike="noStrike">
                <a:solidFill>
                  <a:srgbClr val="9f296b"/>
                </a:solidFill>
                <a:latin typeface="Times New Roman"/>
                <a:ea typeface="Majalla UI"/>
              </a:rPr>
              <a:t>Introduction to O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DR. S. GANNOUNI &amp; DR.  A. TOUI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E0BE61-F962-47A2-BBE1-8360AFF5150A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rPr>
              <a:t>Introduction to O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DR. S. GANNOUNI &amp; DR.  A. TOUI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A13D0-2B7B-4ADC-805D-85E721CE0EFA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rPr>
              <a:t>Introduction to O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DR. S. GANNOUNI &amp; DR.  A. TOUI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E2590C-C277-487F-8042-FA66D648D676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rPr>
              <a:t>Introduction to O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DR. S. GANNOUNI &amp; DR.  A. TOUI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0279AD-3D0A-4F51-A3FF-34120E7C3BF6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452520" y="5141880"/>
            <a:ext cx="8238960" cy="12747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900" spc="-1" strike="noStrike">
                <a:solidFill>
                  <a:srgbClr val="9f296b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900" spc="-1" strike="noStrike">
                <a:solidFill>
                  <a:srgbClr val="9f296b"/>
                </a:solidFill>
                <a:latin typeface="Times New Roman"/>
                <a:ea typeface="Majalla UI"/>
              </a:rPr>
              <a:t>Introduction to O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DR. S. GANNOUNI &amp; DR.  A. TOUI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4B433-9298-48E0-8D41-B486E6D84DD3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rPr>
              <a:t>Introduction to O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DR. S. GANNOUNI &amp; DR.  A. TOUI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0F272-34F8-4E1B-A710-F1525B45715F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81040" y="99072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d1434"/>
                </a:solidFill>
                <a:latin typeface="Gill Sans MT"/>
              </a:rPr>
              <a:t>FUNDAMENTALS 2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81040" y="2495160"/>
            <a:ext cx="7989840" cy="5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03163"/>
                </a:solidFill>
                <a:latin typeface="Gill Sans MT"/>
              </a:rPr>
              <a:t>CHAPTER 2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0280" y="952560"/>
            <a:ext cx="83167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INCREMENT/DECREMENT OPERATOR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9" name="Text Box 3"/>
          <p:cNvSpPr/>
          <p:nvPr/>
        </p:nvSpPr>
        <p:spPr>
          <a:xfrm>
            <a:off x="412920" y="2179800"/>
            <a:ext cx="77724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Only use ++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 when a variable is being incremented/decremented as a statement by itself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x++; is equivalent to x = x+1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x--; is equivalent to x = x-1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25520" y="700200"/>
            <a:ext cx="798984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RELATIONAL OPERATOR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581040" y="3166920"/>
          <a:ext cx="7989840" cy="3338640"/>
        </p:xfrm>
        <a:graphic>
          <a:graphicData uri="http://schemas.openxmlformats.org/drawingml/2006/table">
            <a:tbl>
              <a:tblPr/>
              <a:tblGrid>
                <a:gridCol w="2271600"/>
                <a:gridCol w="5718240"/>
              </a:tblGrid>
              <a:tr h="608040">
                <a:tc>
                  <a:txBody>
                    <a:bodyPr lIns="145440" rIns="145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145440" marR="145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45440" rIns="145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s true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145440" marR="145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79440">
                <a:tc>
                  <a:txBody>
                    <a:bodyPr lIns="145440" rIns="145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&gt;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145440" marR="145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  <a:tc>
                  <a:txBody>
                    <a:bodyPr lIns="145440" rIns="145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s greater tha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145440" marR="145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</a:tr>
              <a:tr h="606600">
                <a:tc>
                  <a:txBody>
                    <a:bodyPr lIns="145440" rIns="145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&gt;=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145440" marR="145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  <a:tc>
                  <a:txBody>
                    <a:bodyPr lIns="145440" rIns="145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s greater than or equal t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145440" marR="145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</a:tr>
              <a:tr h="380880">
                <a:tc>
                  <a:txBody>
                    <a:bodyPr lIns="145440" rIns="145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==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145440" marR="145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  <a:tc>
                  <a:txBody>
                    <a:bodyPr lIns="145440" rIns="145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is equal t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145440" marR="145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</a:tr>
              <a:tr h="378000">
                <a:tc>
                  <a:txBody>
                    <a:bodyPr lIns="145440" rIns="145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!=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145440" marR="145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  <a:tc>
                  <a:txBody>
                    <a:bodyPr lIns="145440" rIns="145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s not equal t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145440" marR="145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</a:tr>
              <a:tr h="608040">
                <a:tc>
                  <a:txBody>
                    <a:bodyPr lIns="145440" rIns="145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&lt;=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145440" marR="145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  <a:tc>
                  <a:txBody>
                    <a:bodyPr lIns="145440" rIns="145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s less than or equal t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145440" marR="145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</a:tr>
              <a:tr h="377640">
                <a:tc>
                  <a:txBody>
                    <a:bodyPr lIns="145440" rIns="145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&lt;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145440" marR="145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  <a:tc>
                  <a:txBody>
                    <a:bodyPr lIns="145440" rIns="145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s less tha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145440" marR="145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</a:tr>
            </a:tbl>
          </a:graphicData>
        </a:graphic>
      </p:graphicFrame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25520" y="19695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Relational operators compare two values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hey Produce a </a:t>
            </a:r>
            <a:r>
              <a:rPr b="0" i="1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boolean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value (</a:t>
            </a:r>
            <a:r>
              <a:rPr b="1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rue 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or </a:t>
            </a:r>
            <a:r>
              <a:rPr b="1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false) 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depending on the relationship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81040" y="1174320"/>
            <a:ext cx="7772400" cy="5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int x = 3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int y = 5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boolean result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   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result = (x &gt; y)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now result is assigned the value </a:t>
            </a:r>
            <a:r>
              <a:rPr b="0" lang="en-US" sz="2000" spc="-1" strike="noStrike">
                <a:solidFill>
                  <a:srgbClr val="cc3300"/>
                </a:solidFill>
                <a:latin typeface="Gill Sans MT"/>
                <a:ea typeface="Majalla UI"/>
              </a:rPr>
              <a:t>false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 because 3 is not greater than 5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81040" y="815760"/>
            <a:ext cx="7989840" cy="108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LOGICAL OPERATOR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324000" y="3693960"/>
          <a:ext cx="3706560" cy="1360800"/>
        </p:xfrm>
        <a:graphic>
          <a:graphicData uri="http://schemas.openxmlformats.org/drawingml/2006/table">
            <a:tbl>
              <a:tblPr/>
              <a:tblGrid>
                <a:gridCol w="1234800"/>
                <a:gridCol w="1236960"/>
                <a:gridCol w="1234800"/>
              </a:tblGrid>
              <a:tr h="459720">
                <a:tc>
                  <a:txBody>
                    <a:bodyPr lIns="274320" rIns="2743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d3d3d"/>
                          </a:solidFill>
                          <a:latin typeface="Tahoma"/>
                          <a:ea typeface="Arial"/>
                        </a:rPr>
                        <a:t>|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274320" marR="274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4320" rIns="2743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27432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4320" rIns="2743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274320" marR="274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274320" rIns="2743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274320" marR="274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4320" rIns="2743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27432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4320" rIns="2743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274320" marR="274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274320" rIns="2743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274320" marR="274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4320" rIns="2743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27432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4320" rIns="2743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274320" marR="274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690640" y="1900080"/>
            <a:ext cx="37720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Symbol       Name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&amp;&amp;</a:t>
            </a: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         AND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||</a:t>
            </a: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             OR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a5a5a5"/>
                </a:solidFill>
                <a:latin typeface="Gill Sans MT"/>
                <a:ea typeface="Majalla UI"/>
              </a:rPr>
              <a:t> </a:t>
            </a:r>
            <a:r>
              <a:rPr b="1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!</a:t>
            </a: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            NOT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5222880" y="3675240"/>
          <a:ext cx="3522600" cy="1463400"/>
        </p:xfrm>
        <a:graphic>
          <a:graphicData uri="http://schemas.openxmlformats.org/drawingml/2006/table">
            <a:tbl>
              <a:tblPr/>
              <a:tblGrid>
                <a:gridCol w="1174680"/>
                <a:gridCol w="1171800"/>
                <a:gridCol w="117612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d3d3d"/>
                          </a:solidFill>
                          <a:latin typeface="Tahoma"/>
                          <a:ea typeface="Arial"/>
                        </a:rPr>
                        <a:t>&amp;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480" y="1274400"/>
            <a:ext cx="77724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609480" y="2057040"/>
            <a:ext cx="655344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boolean x = </a:t>
            </a:r>
            <a:r>
              <a:rPr b="0" lang="en-US" sz="2400" spc="-1" strike="noStrike">
                <a:solidFill>
                  <a:srgbClr val="cc3300"/>
                </a:solidFill>
                <a:latin typeface="Gill Sans MT"/>
                <a:ea typeface="Majalla UI"/>
              </a:rPr>
              <a:t>tru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boolean y = </a:t>
            </a:r>
            <a:r>
              <a:rPr b="0" lang="en-US" sz="2400" spc="-1" strike="noStrike">
                <a:solidFill>
                  <a:srgbClr val="cc3300"/>
                </a:solidFill>
                <a:latin typeface="Gill Sans MT"/>
                <a:ea typeface="Majalla UI"/>
              </a:rPr>
              <a:t>fals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boolean result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result = (x &amp;&amp; y)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result is assigned the value </a:t>
            </a:r>
            <a:r>
              <a:rPr b="0" lang="en-US" sz="2400" spc="-1" strike="noStrike">
                <a:solidFill>
                  <a:srgbClr val="cc3300"/>
                </a:solidFill>
                <a:latin typeface="Gill Sans MT"/>
                <a:ea typeface="Majalla UI"/>
              </a:rPr>
              <a:t>fals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result = ((x || y) &amp;&amp; x)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(x || y) evaluates to </a:t>
            </a:r>
            <a:r>
              <a:rPr b="0" lang="en-US" sz="2400" spc="-1" strike="noStrike">
                <a:solidFill>
                  <a:srgbClr val="cc3300"/>
                </a:solidFill>
                <a:latin typeface="Gill Sans MT"/>
                <a:ea typeface="Majalla UI"/>
              </a:rPr>
              <a:t>tru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(true &amp;&amp; x) evaluates to </a:t>
            </a:r>
            <a:r>
              <a:rPr b="0" lang="en-US" sz="2400" spc="-1" strike="noStrike">
                <a:solidFill>
                  <a:srgbClr val="cc3300"/>
                </a:solidFill>
                <a:latin typeface="Gill Sans MT"/>
                <a:ea typeface="Majalla UI"/>
              </a:rPr>
              <a:t>tru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result is then assigned the value </a:t>
            </a:r>
            <a:r>
              <a:rPr b="0" lang="en-US" sz="2400" spc="-1" strike="noStrike">
                <a:solidFill>
                  <a:srgbClr val="cc3300"/>
                </a:solidFill>
                <a:latin typeface="Gill Sans MT"/>
                <a:ea typeface="Majalla UI"/>
              </a:rPr>
              <a:t>tru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OPERATORS PRECEDENC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581040" y="2227320"/>
          <a:ext cx="7989840" cy="3657600"/>
        </p:xfrm>
        <a:graphic>
          <a:graphicData uri="http://schemas.openxmlformats.org/drawingml/2006/table">
            <a:tbl>
              <a:tblPr/>
              <a:tblGrid>
                <a:gridCol w="3621240"/>
                <a:gridCol w="4368600"/>
              </a:tblGrid>
              <a:tr h="406440"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arenth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(), inside-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</a:tr>
              <a:tr h="406440"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Increment/decr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++,  --, 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</a:tr>
              <a:tr h="406440"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Multipl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*, /, %,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</a:tr>
              <a:tr h="406080"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dd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+, -,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</a:tr>
              <a:tr h="406440"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&lt;, &gt;, &lt;=, &gt;=,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</a:tr>
              <a:tr h="406440"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Equ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==, !=,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</a:tr>
              <a:tr h="406440"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Logical 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&amp;&amp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</a:tr>
              <a:tr h="406440"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Logical 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||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</a:tr>
              <a:tr h="406440"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=, +=, -=, *=, /=, %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81040" y="303696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d1434"/>
                </a:solidFill>
                <a:latin typeface="Gill Sans MT"/>
              </a:rPr>
              <a:t>INPUT &amp; OUTPU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81040" y="4541400"/>
            <a:ext cx="79898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800" spc="-1" strike="noStrike">
              <a:solidFill>
                <a:srgbClr val="903163"/>
              </a:solidFill>
              <a:latin typeface="Gill Sans MT"/>
              <a:ea typeface="Majalla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INPUT AND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Majalla UI"/>
              </a:rPr>
              <a:t>SYSTEM.I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71440" y="1957320"/>
            <a:ext cx="84996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System.out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An object with methods named println and prin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System.in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not intended to be used directly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We use a second object, from a class Scanner, to help us</a:t>
            </a: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Constructing a Scanner object to read console input: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Scanner </a:t>
            </a:r>
            <a:r>
              <a:rPr b="1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name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= new Scanner(System.in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3d3d3d"/>
                </a:solidFill>
                <a:uFillTx/>
                <a:latin typeface="Gill Sans MT"/>
                <a:ea typeface="Majalla UI"/>
              </a:rPr>
              <a:t>Example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Scanner console = new Scanner(System.in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19040" y="1185480"/>
            <a:ext cx="7772400" cy="5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S PGothic"/>
              </a:rPr>
              <a:t>STANDARD OUTPUT WINDOW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28240" y="1496520"/>
            <a:ext cx="84517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Using </a:t>
            </a:r>
            <a:r>
              <a:rPr b="1" lang="en-US" sz="2000" spc="-1" strike="noStrike">
                <a:solidFill>
                  <a:srgbClr val="cc3300"/>
                </a:solidFill>
                <a:latin typeface="Gill Sans MT"/>
                <a:ea typeface="Majalla UI"/>
              </a:rPr>
              <a:t>System.out</a:t>
            </a:r>
            <a:r>
              <a:rPr b="1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,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 we can output multiple lines of text to the standard output window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  <p:pic>
        <p:nvPicPr>
          <p:cNvPr id="629" name="Picture 4" descr="wu18847_0306"/>
          <p:cNvPicPr/>
          <p:nvPr/>
        </p:nvPicPr>
        <p:blipFill>
          <a:blip r:embed="rId1"/>
          <a:stretch/>
        </p:blipFill>
        <p:spPr>
          <a:xfrm>
            <a:off x="2500200" y="2728800"/>
            <a:ext cx="4572000" cy="227808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0" y="5295960"/>
            <a:ext cx="84614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SzPct val="92000"/>
              <a:buFont typeface="Gill Sans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ill Sans MT"/>
              </a:rPr>
              <a:t>The exact style of standard output window depends on the Java tool you us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68360" y="118116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S PGothic"/>
              </a:rPr>
              <a:t>THE PRINTLN METHOD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68000" y="2080800"/>
            <a:ext cx="85345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We use </a:t>
            </a:r>
            <a:r>
              <a:rPr b="1" lang="en-US" sz="1800" spc="-1" strike="noStrike">
                <a:solidFill>
                  <a:srgbClr val="cc3300"/>
                </a:solidFill>
                <a:latin typeface="Gill Sans MT"/>
                <a:ea typeface="Majalla UI"/>
              </a:rPr>
              <a:t>println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instead of </a:t>
            </a:r>
            <a:r>
              <a:rPr b="1" lang="en-US" sz="1800" spc="-1" strike="noStrike">
                <a:solidFill>
                  <a:srgbClr val="cc3300"/>
                </a:solidFill>
                <a:latin typeface="Gill Sans MT"/>
                <a:ea typeface="Majalla UI"/>
              </a:rPr>
              <a:t>print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to skip a line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grpSp>
        <p:nvGrpSpPr>
          <p:cNvPr id="633" name="Group 4"/>
          <p:cNvGrpSpPr/>
          <p:nvPr/>
        </p:nvGrpSpPr>
        <p:grpSpPr>
          <a:xfrm>
            <a:off x="944640" y="2679840"/>
            <a:ext cx="7014600" cy="2042640"/>
            <a:chOff x="944640" y="2679840"/>
            <a:chExt cx="7014600" cy="2042640"/>
          </a:xfrm>
        </p:grpSpPr>
        <p:sp>
          <p:nvSpPr>
            <p:cNvPr id="634" name="Rectangle 5"/>
            <p:cNvSpPr/>
            <p:nvPr/>
          </p:nvSpPr>
          <p:spPr>
            <a:xfrm>
              <a:off x="944640" y="2679840"/>
              <a:ext cx="7014600" cy="20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bebe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35" name="Text Box 6"/>
            <p:cNvSpPr/>
            <p:nvPr/>
          </p:nvSpPr>
          <p:spPr>
            <a:xfrm>
              <a:off x="1119240" y="2890440"/>
              <a:ext cx="66625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228600">
                <a:lnSpc>
                  <a:spcPct val="100000"/>
                </a:lnSpc>
                <a:spcBef>
                  <a:spcPts val="2200"/>
                </a:spcBef>
                <a:tabLst>
                  <a:tab algn="l" pos="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903163"/>
                  </a:solidFill>
                  <a:latin typeface="Courier New"/>
                  <a:ea typeface="MS PGothic"/>
                </a:rPr>
                <a:t>int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x = 123, y = x + x;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( </a:t>
              </a:r>
              <a:r>
                <a:rPr b="0" lang="en-US" sz="1800" spc="-1" strike="noStrike">
                  <a:solidFill>
                    <a:srgbClr val="66ccff"/>
                  </a:solidFill>
                  <a:latin typeface="Courier New"/>
                  <a:ea typeface="MS PGothic"/>
                </a:rPr>
                <a:t>" x = 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);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ln( x );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( </a:t>
              </a:r>
              <a:r>
                <a:rPr b="0" lang="en-US" sz="1800" spc="-1" strike="noStrike">
                  <a:solidFill>
                    <a:srgbClr val="66ccff"/>
                  </a:solidFill>
                  <a:latin typeface="Courier New"/>
                  <a:ea typeface="MS PGothic"/>
                </a:rPr>
                <a:t>" x + x = 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);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ln( y );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ln( </a:t>
              </a:r>
              <a:r>
                <a:rPr b="0" lang="en-US" sz="1800" spc="-1" strike="noStrike">
                  <a:solidFill>
                    <a:srgbClr val="66ccff"/>
                  </a:solidFill>
                  <a:latin typeface="Courier New"/>
                  <a:ea typeface="MS PGothic"/>
                </a:rPr>
                <a:t>" THE END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);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636" name="TextBox 10"/>
          <p:cNvSpPr/>
          <p:nvPr/>
        </p:nvSpPr>
        <p:spPr>
          <a:xfrm>
            <a:off x="2324160" y="5214960"/>
            <a:ext cx="3505320" cy="1191240"/>
          </a:xfrm>
          <a:prstGeom prst="rect">
            <a:avLst/>
          </a:prstGeom>
          <a:solidFill>
            <a:srgbClr val="ffffff"/>
          </a:solidFill>
          <a:ln cap="rnd" w="22320">
            <a:solidFill>
              <a:srgbClr val="4d1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x = 12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x + x = 24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42880" y="116064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OPERATOR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42880" y="2060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Majalla UI"/>
              </a:rPr>
              <a:t>Operators are special symbols used for: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mathematical functions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assignment statements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logical comparisons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Majalla UI"/>
              </a:rPr>
              <a:t>Examples of operators: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3 + 5              // uses + operator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14 + 5 – 4 * (5 – 3)     // uses +, -, * operators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Majalla UI"/>
              </a:rPr>
              <a:t>Expressions: can be combinations of variables and operators that result in a value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1720" y="979560"/>
            <a:ext cx="68709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S PGothic"/>
              </a:rPr>
              <a:t>STANDARD INPU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90600" y="2101320"/>
            <a:ext cx="8076960" cy="446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95560" indent="-29556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To input primitive data values, we use the Scanner class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95560" indent="-29556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4 steps are needed to be able to use input primitive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09480" indent="-29520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ill Sans MT"/>
                <a:ea typeface="Majalla UI"/>
              </a:rPr>
              <a:t>Step 1: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  import the Scanner class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2" marL="871560" indent="-261720"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import Java.util.Scanner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09480" indent="-29520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ill Sans MT"/>
                <a:ea typeface="Majalla UI"/>
              </a:rPr>
              <a:t>Step 2 :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 declaring a reference variable of a</a:t>
            </a:r>
            <a:r>
              <a:rPr b="0" lang="en-US" sz="14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Scanner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2" marL="871560" indent="-261720"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Scanner read ;   //we named the object read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09480" indent="-29520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ill Sans MT"/>
                <a:ea typeface="Majalla UI"/>
              </a:rPr>
              <a:t>Step 3: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 creating an instance of the Scanner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2" marL="871560" indent="-261720"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read = new Scanner (System.in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09480" indent="-29520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ill Sans MT"/>
                <a:ea typeface="Majalla UI"/>
              </a:rPr>
              <a:t>Step 4: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 use specific methods to enter data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2" marL="871560" indent="-261720"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int x = read.nextInt(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2" marL="871560" indent="-261720">
              <a:spcBef>
                <a:spcPts val="3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295560" indent="-295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JAVA CLASS LIBRARIES, IMPOR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93680" y="1893600"/>
            <a:ext cx="8640720" cy="47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01680" indent="-3016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Java class libraries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: Classes included with Java's JDK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organized into groups named </a:t>
            </a:r>
            <a:r>
              <a:rPr b="0" i="1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packages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o use a package, put an </a:t>
            </a:r>
            <a:r>
              <a:rPr b="0" i="1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import declaration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in your program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Syntax: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Majalla UI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nsolas"/>
                <a:ea typeface="Consolas"/>
              </a:rPr>
              <a:t>// put this at the very top of your program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nsolas"/>
                <a:ea typeface="Consolas"/>
              </a:rPr>
              <a:t>import </a:t>
            </a:r>
            <a:r>
              <a:rPr b="1" lang="en-US" sz="1800" spc="-1" strike="noStrike">
                <a:solidFill>
                  <a:srgbClr val="3d3d3d"/>
                </a:solidFill>
                <a:latin typeface="Consolas"/>
                <a:ea typeface="Consolas"/>
              </a:rPr>
              <a:t>packageName</a:t>
            </a:r>
            <a:r>
              <a:rPr b="0" lang="en-US" sz="1800" spc="-1" strike="noStrike">
                <a:solidFill>
                  <a:srgbClr val="3d3d3d"/>
                </a:solidFill>
                <a:latin typeface="Consolas"/>
                <a:ea typeface="Consolas"/>
              </a:rPr>
              <a:t>.*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Scanner is in a package named java.uti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nsolas"/>
                <a:ea typeface="Consolas"/>
              </a:rPr>
              <a:t>import java.util.*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nsolas"/>
                <a:ea typeface="Consolas"/>
              </a:rPr>
              <a:t>import java.util.</a:t>
            </a:r>
            <a:r>
              <a:rPr b="0" lang="en-US" sz="1800" spc="-1" strike="noStrike">
                <a:solidFill>
                  <a:srgbClr val="903163"/>
                </a:solidFill>
                <a:latin typeface="Consolas"/>
                <a:ea typeface="Consolas"/>
              </a:rPr>
              <a:t>Scanner</a:t>
            </a:r>
            <a:r>
              <a:rPr b="0" lang="en-US" sz="1800" spc="-1" strike="noStrike">
                <a:solidFill>
                  <a:srgbClr val="3d3d3d"/>
                </a:solidFill>
                <a:latin typeface="Consolas"/>
                <a:ea typeface="Consolas"/>
              </a:rPr>
              <a:t>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o use Scanner, you must place the above line at the top of your program (before the public class header)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Majalla UI"/>
              </a:rPr>
              <a:t>SCANNER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METHOD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7000" y="3954240"/>
            <a:ext cx="8628120" cy="29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32400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Each method waits until the user presses Enter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The value typed is returned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324000" indent="0">
              <a:lnSpc>
                <a:spcPct val="6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("How old are you? ");    </a:t>
            </a:r>
            <a:r>
              <a:rPr b="1" lang="en-US" sz="1900" spc="-1" strike="noStrike">
                <a:solidFill>
                  <a:srgbClr val="008080"/>
                </a:solidFill>
                <a:latin typeface="Consolas"/>
                <a:ea typeface="Consolas"/>
              </a:rPr>
              <a:t>// prompt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lvl="1" marL="324000" indent="0">
              <a:lnSpc>
                <a:spcPct val="6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nsolas"/>
                <a:ea typeface="Consolas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nsolas"/>
                <a:ea typeface="Consolas"/>
              </a:rPr>
              <a:t>int age = </a:t>
            </a:r>
            <a:r>
              <a:rPr b="1" lang="en-US" sz="1900" spc="-1" strike="noStrike">
                <a:solidFill>
                  <a:srgbClr val="3d3d3d"/>
                </a:solidFill>
                <a:latin typeface="Consolas"/>
                <a:ea typeface="Consolas"/>
              </a:rPr>
              <a:t>console.nextInt();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lvl="1" marL="324000" indent="0">
              <a:lnSpc>
                <a:spcPct val="6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nsolas"/>
                <a:ea typeface="Consolas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ln("You'll be 40 in " + 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lvl="1" marL="324000" indent="0">
              <a:lnSpc>
                <a:spcPct val="6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nsolas"/>
                <a:ea typeface="Consolas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nsolas"/>
                <a:ea typeface="Consolas"/>
              </a:rPr>
              <a:t>        </a:t>
            </a:r>
            <a:r>
              <a:rPr b="0" lang="en-US" sz="1900" spc="-1" strike="noStrike">
                <a:solidFill>
                  <a:srgbClr val="3d3d3d"/>
                </a:solidFill>
                <a:latin typeface="Consolas"/>
                <a:ea typeface="Consolas"/>
              </a:rPr>
              <a:t>(40 - age) + " years.");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lvl="1" marL="324000" indent="0">
              <a:lnSpc>
                <a:spcPct val="60000"/>
              </a:lnSpc>
              <a:spcBef>
                <a:spcPts val="374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900" spc="-1" strike="noStrike">
                <a:solidFill>
                  <a:srgbClr val="3d3d3d"/>
                </a:solidFill>
                <a:latin typeface="Gill Sans MT"/>
                <a:ea typeface="Majalla UI"/>
              </a:rPr>
              <a:t>prompt</a:t>
            </a:r>
            <a:r>
              <a:rPr b="0" lang="en-US" sz="1900" spc="-1" strike="noStrike">
                <a:solidFill>
                  <a:srgbClr val="3d3d3d"/>
                </a:solidFill>
                <a:latin typeface="Gill Sans MT"/>
                <a:ea typeface="Majalla UI"/>
              </a:rPr>
              <a:t>: A message telling the user what input to type.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lvl="1" marL="324000" indent="0">
              <a:lnSpc>
                <a:spcPct val="6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581040" y="1933560"/>
          <a:ext cx="8215200" cy="1981080"/>
        </p:xfrm>
        <a:graphic>
          <a:graphicData uri="http://schemas.openxmlformats.org/drawingml/2006/table">
            <a:tbl>
              <a:tblPr/>
              <a:tblGrid>
                <a:gridCol w="2535120"/>
                <a:gridCol w="5680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Majalla UI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Majalla U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Majalla UI"/>
                        </a:rPr>
                        <a:t>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Majalla UI"/>
                        </a:rPr>
                        <a:t>reads a token of user input a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Majalla UI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Majalla UI"/>
                        </a:rPr>
                        <a:t>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Majalla UI"/>
                        </a:rPr>
                        <a:t>reads a token of user input a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Majalla UI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Majalla UI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Majalla UI"/>
                        </a:rPr>
                        <a:t>reads a token of user input a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Majalla UI"/>
                        </a:rPr>
                        <a:t>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  <a:ea typeface="Majalla UI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Majalla UI"/>
                        </a:rPr>
                        <a:t>reads a </a:t>
                      </a: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Majalla UI"/>
                        </a:rPr>
                        <a:t>line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Majalla UI"/>
                        </a:rPr>
                        <a:t> of user input as a 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  <a:ea typeface="Majalla UI"/>
                        </a:rPr>
                        <a:t>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82400" y="10666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S PGothic"/>
              </a:rPr>
              <a:t>COMMON SCANNER METHOD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272520" y="213948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Method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Exampl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 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canner input = new Scanner (System.in)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nextByte( )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byte b = input.nextByte( )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nextDouble( )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double d = input.nextDouble( )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nextFloat( )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float f = input.nextFloat( )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nextInt( )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int i = input.nextInt( )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nextLong( )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long l = input.nextLong( )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nextShort( )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hort s = input.nextShort( )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next()               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tring str = input.next()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4"/>
          <p:cNvSpPr/>
          <p:nvPr/>
        </p:nvSpPr>
        <p:spPr>
          <a:xfrm>
            <a:off x="1579680" y="2887560"/>
            <a:ext cx="54608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2475000" y="3822840"/>
            <a:ext cx="23540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EXAMPLE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Majalla UI"/>
              </a:rPr>
              <a:t>SCANNER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USAG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90680" y="1938240"/>
            <a:ext cx="798984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lvl="1" marL="61596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import java.util.*;</a:t>
            </a: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</a:t>
            </a:r>
            <a:r>
              <a:rPr b="1" lang="en-US" sz="1400" spc="-1" strike="noStrike">
                <a:solidFill>
                  <a:srgbClr val="008080"/>
                </a:solidFill>
                <a:latin typeface="Consolas"/>
                <a:ea typeface="Consolas"/>
              </a:rPr>
              <a:t>// so that I can use Scanner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61596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public class ReadSomeInput {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61596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 </a:t>
            </a: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public static void main(String[] args) {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61596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     </a:t>
            </a:r>
            <a:r>
              <a:rPr b="1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Scanner console = new Scanner(System.in);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61596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61596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     </a:t>
            </a: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("How old are you? ");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61596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     </a:t>
            </a: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int age = </a:t>
            </a:r>
            <a:r>
              <a:rPr b="1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console.nextInt();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61596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     </a:t>
            </a: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ln(age + "... That's quite old!");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61596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 </a:t>
            </a: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}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61596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}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Output (user input underlined):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61596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61596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How old are you? </a:t>
            </a:r>
            <a:r>
              <a:rPr b="1" lang="en-US" sz="1400" spc="-1" strike="noStrike" u="sng">
                <a:solidFill>
                  <a:srgbClr val="3d3d3d"/>
                </a:solidFill>
                <a:uFillTx/>
                <a:latin typeface="Consolas"/>
                <a:ea typeface="Consolas"/>
              </a:rPr>
              <a:t>14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61596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14... That's quite old!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4"/>
          <p:cNvSpPr/>
          <p:nvPr/>
        </p:nvSpPr>
        <p:spPr>
          <a:xfrm>
            <a:off x="2470320" y="3263760"/>
            <a:ext cx="2355840" cy="806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ANOTHER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Majalla UI"/>
              </a:rPr>
              <a:t>SCANNER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EXAMPL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271080" y="2495520"/>
            <a:ext cx="8131320" cy="382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lvl="1" marL="477360" indent="0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import java.util.*;</a:t>
            </a: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</a:t>
            </a:r>
            <a:r>
              <a:rPr b="1" lang="en-US" sz="1400" spc="-1" strike="noStrike">
                <a:solidFill>
                  <a:srgbClr val="008080"/>
                </a:solidFill>
                <a:latin typeface="Consolas"/>
                <a:ea typeface="Consolas"/>
              </a:rPr>
              <a:t>// so that I can use Scanner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477360" indent="0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public class ScannerSum {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477360" indent="0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 </a:t>
            </a: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public static void main(String[] args) {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477360" indent="0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     </a:t>
            </a:r>
            <a:r>
              <a:rPr b="1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Scanner console = new Scanner(System.in);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477360" indent="0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     </a:t>
            </a: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("Please type three numbers: ");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477360" indent="0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     </a:t>
            </a: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int num1 = </a:t>
            </a:r>
            <a:r>
              <a:rPr b="1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console.nextInt();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477360" indent="0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     </a:t>
            </a: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int num2 = </a:t>
            </a:r>
            <a:r>
              <a:rPr b="1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console.nextInt();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477360" indent="0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     </a:t>
            </a: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int num3 = </a:t>
            </a:r>
            <a:r>
              <a:rPr b="1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console.nextInt();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477360" indent="0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477360" indent="0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     </a:t>
            </a: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int sum = num1 + num2 + num3;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477360" indent="0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     </a:t>
            </a: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ln("The sum is " + sum);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477360" indent="0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 </a:t>
            </a: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}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477360" indent="0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}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231480" indent="-23148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Output (user input underlined):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47736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Please type three numbers: </a:t>
            </a:r>
            <a:r>
              <a:rPr b="1" lang="en-US" sz="1400" spc="-1" strike="noStrike" u="sng">
                <a:solidFill>
                  <a:srgbClr val="3d3d3d"/>
                </a:solidFill>
                <a:uFillTx/>
                <a:latin typeface="Consolas"/>
                <a:ea typeface="Consolas"/>
              </a:rPr>
              <a:t>8 6 13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47736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The sum is 27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47736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477360" indent="-23112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The Scanner can read multiple values from one line.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INPUT TOKEN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63320" y="2009880"/>
            <a:ext cx="8204040" cy="43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292680" indent="-2926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oken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: A unit of user input, as read by the Scanner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03360" indent="-2923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okens are separated by </a:t>
            </a:r>
            <a:r>
              <a:rPr b="0" i="1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whitespace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(spaces, tabs, newlines)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03360" indent="-2923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How many tokens appear on the following line of input?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0336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Majalla UI"/>
              </a:rPr>
              <a:t>23  John Smith   42.0 "Hello world"   $2.50   " 19"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292680" indent="-2926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When a token is not the type you ask for, it crashes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03360" indent="0">
              <a:lnSpc>
                <a:spcPct val="7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endParaRPr b="0" lang="en-US" sz="600" spc="-1" strike="noStrike">
              <a:solidFill>
                <a:srgbClr val="3d3d3d"/>
              </a:solidFill>
              <a:latin typeface="Gill Sans MT"/>
            </a:endParaRPr>
          </a:p>
          <a:p>
            <a:pPr lvl="1" marL="603360" indent="0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Majalla UI"/>
              </a:rPr>
              <a:t>System.out.print("What is your age? ");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603360" indent="0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Majalla UI"/>
              </a:rPr>
              <a:t>int age = 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  <a:ea typeface="Majalla UI"/>
              </a:rPr>
              <a:t>console.nextInt()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Majalla UI"/>
              </a:rPr>
              <a:t>;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603360" indent="0">
              <a:lnSpc>
                <a:spcPct val="7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endParaRPr b="0" lang="en-US" sz="1200" spc="-1" strike="noStrike">
              <a:solidFill>
                <a:srgbClr val="3d3d3d"/>
              </a:solidFill>
              <a:latin typeface="Gill Sans MT"/>
            </a:endParaRPr>
          </a:p>
          <a:p>
            <a:pPr lvl="1" marL="603360" indent="0">
              <a:lnSpc>
                <a:spcPct val="7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Output: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03360" indent="0">
              <a:lnSpc>
                <a:spcPct val="7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endParaRPr b="0" lang="en-US" sz="600" spc="-1" strike="noStrike">
              <a:solidFill>
                <a:srgbClr val="3d3d3d"/>
              </a:solidFill>
              <a:latin typeface="Gill Sans MT"/>
            </a:endParaRPr>
          </a:p>
          <a:p>
            <a:pPr lvl="1" marL="603360" indent="0">
              <a:lnSpc>
                <a:spcPct val="7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200" spc="-1" strike="noStrike">
                <a:solidFill>
                  <a:srgbClr val="3d3d3d"/>
                </a:solidFill>
                <a:latin typeface="Courier New"/>
                <a:ea typeface="Majalla UI"/>
              </a:rPr>
              <a:t>What is your age? </a:t>
            </a:r>
            <a:r>
              <a:rPr b="1" lang="en-US" sz="1200" spc="-1" strike="noStrike" u="sng">
                <a:solidFill>
                  <a:srgbClr val="3d3d3d"/>
                </a:solidFill>
                <a:uFillTx/>
                <a:latin typeface="Courier New"/>
                <a:ea typeface="Majalla UI"/>
              </a:rPr>
              <a:t>Timmy</a:t>
            </a:r>
            <a:endParaRPr b="0" lang="en-US" sz="1200" spc="-1" strike="noStrike">
              <a:solidFill>
                <a:srgbClr val="3d3d3d"/>
              </a:solidFill>
              <a:latin typeface="Gill Sans MT"/>
            </a:endParaRPr>
          </a:p>
          <a:p>
            <a:pPr lvl="1" marL="603360" indent="0">
              <a:lnSpc>
                <a:spcPct val="7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Courier New"/>
                <a:ea typeface="Majalla UI"/>
              </a:rPr>
              <a:t>	</a:t>
            </a:r>
            <a:r>
              <a:rPr b="0" lang="en-US" sz="1200" spc="-1" strike="noStrike">
                <a:solidFill>
                  <a:srgbClr val="800000"/>
                </a:solidFill>
                <a:latin typeface="Courier New"/>
                <a:ea typeface="Majalla UI"/>
              </a:rPr>
              <a:t>java.util.InputMismatchException </a:t>
            </a:r>
            <a:endParaRPr b="0" lang="en-US" sz="1200" spc="-1" strike="noStrike">
              <a:solidFill>
                <a:srgbClr val="3d3d3d"/>
              </a:solidFill>
              <a:latin typeface="Gill Sans MT"/>
            </a:endParaRPr>
          </a:p>
          <a:p>
            <a:pPr lvl="1" marL="603360" indent="0">
              <a:lnSpc>
                <a:spcPct val="7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Courier New"/>
                <a:ea typeface="Majalla UI"/>
              </a:rPr>
              <a:t>	</a:t>
            </a:r>
            <a:r>
              <a:rPr b="0" lang="en-US" sz="1200" spc="-1" strike="noStrike">
                <a:solidFill>
                  <a:srgbClr val="800000"/>
                </a:solidFill>
                <a:latin typeface="Courier New"/>
                <a:ea typeface="Majalla UI"/>
              </a:rPr>
              <a:t>        </a:t>
            </a:r>
            <a:r>
              <a:rPr b="0" lang="en-US" sz="1200" spc="-1" strike="noStrike">
                <a:solidFill>
                  <a:srgbClr val="800000"/>
                </a:solidFill>
                <a:latin typeface="Courier New"/>
                <a:ea typeface="Majalla UI"/>
              </a:rPr>
              <a:t>at java.util.Scanner.next(Unknown Source)</a:t>
            </a:r>
            <a:endParaRPr b="0" lang="en-US" sz="1200" spc="-1" strike="noStrike">
              <a:solidFill>
                <a:srgbClr val="3d3d3d"/>
              </a:solidFill>
              <a:latin typeface="Gill Sans MT"/>
            </a:endParaRPr>
          </a:p>
          <a:p>
            <a:pPr lvl="1" marL="603360" indent="0">
              <a:lnSpc>
                <a:spcPct val="7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Courier New"/>
                <a:ea typeface="Majalla UI"/>
              </a:rPr>
              <a:t>	</a:t>
            </a:r>
            <a:r>
              <a:rPr b="0" lang="en-US" sz="1200" spc="-1" strike="noStrike">
                <a:solidFill>
                  <a:srgbClr val="800000"/>
                </a:solidFill>
                <a:latin typeface="Courier New"/>
                <a:ea typeface="Majalla UI"/>
              </a:rPr>
              <a:t>        </a:t>
            </a:r>
            <a:r>
              <a:rPr b="0" lang="en-US" sz="1200" spc="-1" strike="noStrike">
                <a:solidFill>
                  <a:srgbClr val="800000"/>
                </a:solidFill>
                <a:latin typeface="Courier New"/>
                <a:ea typeface="Majalla UI"/>
              </a:rPr>
              <a:t>at java.util.Scanner.nextInt(Unknown Source)</a:t>
            </a:r>
            <a:endParaRPr b="0" lang="en-US" sz="1200" spc="-1" strike="noStrike">
              <a:solidFill>
                <a:srgbClr val="3d3d3d"/>
              </a:solidFill>
              <a:latin typeface="Gill Sans MT"/>
            </a:endParaRPr>
          </a:p>
          <a:p>
            <a:pPr lvl="1" marL="603360" indent="0">
              <a:lnSpc>
                <a:spcPct val="7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200" spc="-1" strike="noStrike">
                <a:solidFill>
                  <a:srgbClr val="3d3d3d"/>
                </a:solidFill>
                <a:latin typeface="Courier New"/>
                <a:ea typeface="Majalla UI"/>
              </a:rPr>
              <a:t>        </a:t>
            </a:r>
            <a:r>
              <a:rPr b="0" lang="en-US" sz="1200" spc="-1" strike="noStrike">
                <a:solidFill>
                  <a:srgbClr val="3d3d3d"/>
                </a:solidFill>
                <a:latin typeface="Courier New"/>
                <a:ea typeface="Majalla UI"/>
              </a:rPr>
              <a:t>...</a:t>
            </a:r>
            <a:endParaRPr b="0" lang="en-US" sz="12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416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S PGothic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6" name="TextBox 8"/>
          <p:cNvSpPr/>
          <p:nvPr/>
        </p:nvSpPr>
        <p:spPr>
          <a:xfrm>
            <a:off x="201600" y="593640"/>
            <a:ext cx="8942400" cy="664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nsolas"/>
                <a:ea typeface="Consolas"/>
              </a:rPr>
              <a:t>import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 java.util.Scanner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nsolas"/>
                <a:ea typeface="Consola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Consolas"/>
                <a:ea typeface="Consola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 TestInput 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Consolas"/>
                <a:ea typeface="Consola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Consolas"/>
                <a:ea typeface="Consolas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Consolas"/>
                <a:ea typeface="Consola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 main(String[] args) 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Scanner input 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   </a:t>
            </a:r>
            <a:r>
              <a:rPr b="0" lang="en-US" sz="1800" spc="-1" strike="noStrike">
                <a:solidFill>
                  <a:srgbClr val="0070c0"/>
                </a:solidFill>
                <a:latin typeface="Consolas"/>
                <a:ea typeface="Consola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 area ,length, width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input = </a:t>
            </a:r>
            <a:r>
              <a:rPr b="0" lang="en-US" sz="1800" spc="-1" strike="noStrike">
                <a:solidFill>
                  <a:srgbClr val="0070c0"/>
                </a:solidFill>
                <a:latin typeface="Consolas"/>
                <a:ea typeface="Consola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 Scanner (System.in); </a:t>
            </a:r>
            <a:r>
              <a:rPr b="0" lang="en-US" sz="1800" spc="-1" strike="noStrike">
                <a:solidFill>
                  <a:srgbClr val="00b050"/>
                </a:solidFill>
                <a:latin typeface="Consolas"/>
                <a:ea typeface="Consolas"/>
              </a:rPr>
              <a:t>// creating an instan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System.out.println("enter the length "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length = input.nextInt(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  <a:ea typeface="Consolas"/>
              </a:rPr>
              <a:t>//reading the length from the keyboar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System.out.println("Enter the Width "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width = input.nextInt(); </a:t>
            </a:r>
            <a:r>
              <a:rPr b="0" lang="en-US" sz="1800" spc="-1" strike="noStrike">
                <a:solidFill>
                  <a:srgbClr val="00b050"/>
                </a:solidFill>
                <a:latin typeface="Consolas"/>
                <a:ea typeface="Consolas"/>
              </a:rPr>
              <a:t>//reading the width from the keyboar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area = length * width 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System.out.println("the length is "+ length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System.out.println("the width is "+ width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System.out.println("the area is "+ area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OUTPU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enter the length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2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Enter the Width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3  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he length is 2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he width is 3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he area is 6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Slide Number Placeholder 5"/>
          <p:cNvSpPr/>
          <p:nvPr/>
        </p:nvSpPr>
        <p:spPr>
          <a:xfrm>
            <a:off x="7620120" y="6400800"/>
            <a:ext cx="129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379E72-39B8-4CA5-A54D-2868F2363D9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OMMONLY USED ESCAPE SEQUENC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61" name="Picture 6" descr="Tbl02-04"/>
          <p:cNvPicPr/>
          <p:nvPr/>
        </p:nvPicPr>
        <p:blipFill>
          <a:blip r:embed="rId1"/>
          <a:stretch/>
        </p:blipFill>
        <p:spPr>
          <a:xfrm>
            <a:off x="982800" y="2678040"/>
            <a:ext cx="727524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90320" y="871560"/>
            <a:ext cx="6621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GROUPS OF OPERATOR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90680" y="2125800"/>
            <a:ext cx="8076960" cy="27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There are 5 different groups of operators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Arithmetic Operators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Assignment Operator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Increment / Decrement Operators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Relational Operators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Logical Operators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81040" y="303696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d1434"/>
                </a:solidFill>
                <a:latin typeface="Gill Sans MT"/>
              </a:rPr>
              <a:t>PARSING</a:t>
            </a:r>
            <a:r>
              <a:rPr b="0" lang="en-US" sz="3600" spc="-1" strike="noStrike">
                <a:solidFill>
                  <a:srgbClr val="4d1434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81040" y="4541400"/>
            <a:ext cx="79898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800" spc="-1" strike="noStrike">
              <a:solidFill>
                <a:srgbClr val="903163"/>
              </a:solidFill>
              <a:latin typeface="Gill Sans MT"/>
              <a:ea typeface="Majalla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lide Number Placeholder 5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74830C-5EFE-4DB7-8AEB-BF14811C3A6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ARSING NUMERIC STRING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163440" y="1873080"/>
            <a:ext cx="85298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classes designed to convert a numeric string into a number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se classes are called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rapp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es. 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arse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method of the 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hich converts a numeric integer string into a value of the type 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arseFlo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method of the 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is used to convert a numeric decimal string into an equivalent value of the type 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</a:rPr>
              <a:t>flo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arseDou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method of the 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hich is used to convert a numeric decimal string into an equivalent value of the type 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Slide Number Placeholder 5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D8A2F9-8166-4B5C-BD7E-8438C2CAF82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ARSING NUMERIC STRING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457200" y="1981080"/>
            <a:ext cx="8113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string consisting of only integers or decimal numbers is called a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umeric string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convert a string consisting of an integer to a value of the type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we use the following express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Integer.parseInt(strExpressio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Integer.parseInt("6723") = 672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Integer.parseInt("-823") = -82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Slide Number Placeholder 5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91D1AB-9FA6-4F4D-A625-B72EFCED4AF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ARSING NUMERIC STRING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2" name="Text Box 3"/>
          <p:cNvSpPr/>
          <p:nvPr/>
        </p:nvSpPr>
        <p:spPr>
          <a:xfrm>
            <a:off x="417600" y="1927080"/>
            <a:ext cx="8153280" cy="44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convert a string consisting of a decimal number to a value of the type </a:t>
            </a:r>
            <a:r>
              <a:rPr b="0" lang="en-US" sz="2000" spc="-1" strike="noStrike">
                <a:solidFill>
                  <a:srgbClr val="903163"/>
                </a:solidFill>
                <a:latin typeface="Gill Sans MT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we use the following expression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Float.parseFloat(strExpression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Float.parseFloat("34.56") = 34.56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Float.parseFloat("-542.97") = -542.97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convert a string consisting of a decimal number to a value of the type </a:t>
            </a:r>
            <a:r>
              <a:rPr b="0" lang="en-US" sz="2000" spc="-1" strike="noStrike">
                <a:solidFill>
                  <a:srgbClr val="903163"/>
                </a:solidFill>
                <a:latin typeface="Gill Sans MT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we use the following expression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Double.parseDouble(strExpression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Double.parseDouble("345.78") = 345.78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Double.parseDouble("-782.873") = -782.873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71600" y="11044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JAVA ARITHMETIC OPERATOR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71240" y="20887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Addition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+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ubtraction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   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–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Multiplication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 </a:t>
            </a:r>
            <a:r>
              <a:rPr b="0" lang="en-US" sz="2400" spc="-1" strike="noStrike">
                <a:solidFill>
                  <a:srgbClr val="3d3d3d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Division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       /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Remainder (modulus )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%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ill Sans MT"/>
                <a:ea typeface="Majalla UI"/>
              </a:rPr>
              <a:t>Assignment Operator       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=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80960" y="12319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ARITHMETIC OPERATOR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66480" y="4222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he following table summarizes the arithmetic operators available in Java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pic>
        <p:nvPicPr>
          <p:cNvPr id="598" name="Picture 2" descr="ch3-2"/>
          <p:cNvPicPr/>
          <p:nvPr/>
        </p:nvPicPr>
        <p:blipFill>
          <a:blip r:embed="rId1"/>
          <a:stretch/>
        </p:blipFill>
        <p:spPr>
          <a:xfrm>
            <a:off x="706320" y="2678040"/>
            <a:ext cx="6858000" cy="25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5120" y="73944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574560" y="182232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xample of division issu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10 / 3  gives  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10.0 / 3 gives 3.3333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465120" y="3656160"/>
            <a:ext cx="8305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As we can see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if we divide two integers we get an integer resul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if one or both operands is a floating-point value we get a floating-point resul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MODULU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3" name="Text Box 2"/>
          <p:cNvSpPr/>
          <p:nvPr/>
        </p:nvSpPr>
        <p:spPr>
          <a:xfrm>
            <a:off x="385920" y="1986120"/>
            <a:ext cx="85262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a5a5a5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Generates the remainder when you divide two integer valu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5%3 gives 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5%4 gives 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5%5 gives 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5%10 gives 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749"/>
              </a:spcBef>
              <a:buClr>
                <a:srgbClr val="a5a5a5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Modulus operator is most commonly used with integer operands. If we attempt to use the modulus operator on  floating-point values we will garbage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EXAMPLE: SUM OF TWO INTEGER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5" name="Text Box 2"/>
          <p:cNvSpPr/>
          <p:nvPr/>
        </p:nvSpPr>
        <p:spPr>
          <a:xfrm>
            <a:off x="341280" y="1865160"/>
            <a:ext cx="8229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{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in metho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, b, sum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20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10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a + b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</a:t>
            </a:r>
            <a:r>
              <a:rPr b="0" lang="en-US" sz="2000" spc="-1" strike="noStrike">
                <a:solidFill>
                  <a:srgbClr val="990033"/>
                </a:solidFill>
                <a:latin typeface="Courier New"/>
                <a:ea typeface="Courier New"/>
              </a:rPr>
              <a:t>a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0" lang="en-US" sz="2000" spc="-1" strike="noStrike">
                <a:solidFill>
                  <a:srgbClr val="990033"/>
                </a:solidFill>
                <a:latin typeface="Courier New"/>
                <a:ea typeface="Courier New"/>
              </a:rPr>
              <a:t> ” + ”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0" lang="en-US" sz="2000" spc="-1" strike="noStrike">
                <a:solidFill>
                  <a:srgbClr val="990033"/>
                </a:solidFill>
                <a:latin typeface="Courier New"/>
                <a:ea typeface="Courier New"/>
              </a:rPr>
              <a:t> b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0" lang="en-US" sz="2000" spc="-1" strike="noStrike">
                <a:solidFill>
                  <a:srgbClr val="990033"/>
                </a:solidFill>
                <a:latin typeface="Courier New"/>
                <a:ea typeface="Courier New"/>
              </a:rPr>
              <a:t> “  = “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0" lang="en-US" sz="2000" spc="-1" strike="noStrike">
                <a:solidFill>
                  <a:srgbClr val="990033"/>
                </a:solidFill>
                <a:latin typeface="Courier New"/>
                <a:ea typeface="Courier New"/>
              </a:rPr>
              <a:t> sum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u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12920" y="1191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ffffff"/>
                </a:solidFill>
                <a:latin typeface="Gill Sans MT"/>
                <a:ea typeface="Majalla UI"/>
              </a:rPr>
              <a:t>ARITHMETIC/ASSIGNMENT OPERATORS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84320" y="1984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Java allows combining arithmetic and assignment operators into a single operator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Addition/assignment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+=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ubtraction/assignment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-=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Multiplication/assignment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</a:t>
            </a:r>
            <a:r>
              <a:rPr b="0" lang="en-US" sz="2400" spc="-1" strike="noStrike">
                <a:solidFill>
                  <a:srgbClr val="3d3d3d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=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Division/assignment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 /=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Remainder/assignment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%=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1T13:55:39Z</dcterms:created>
  <dc:creator>Aseel</dc:creator>
  <dc:description/>
  <dc:language>en-US</dc:language>
  <cp:lastModifiedBy>Aseel</cp:lastModifiedBy>
  <dcterms:modified xsi:type="dcterms:W3CDTF">2014-09-11T17:05:08Z</dcterms:modified>
  <cp:revision>55</cp:revision>
  <dc:subject/>
  <dc:title>Fundamentals 2</dc:title>
</cp:coreProperties>
</file>