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FA1-9494-4087-B3DB-D6DFE256C4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A996-D5C8-4D71-B81F-C41B6DA7E5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614C-706F-4A22-BBF1-728CD6AFD7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81D-9C50-4FD8-81D8-3406E552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23D-F033-4D01-B44F-27A5A508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81FC2-F3E8-4BE0-BA88-5F42E3D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48F86-892F-454B-B952-13830FB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CF819-9755-4AB6-BC2C-7D9D6924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828AD-E98F-47F8-A4CD-63E1897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E4B96-035B-410B-B1C3-991F8A8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87D30-4063-48BC-8D3D-17450AE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E77DF-ED51-47E8-B994-B2F718B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DDB7C-8159-45EF-8F57-B471ACB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92AF-3617-47CD-BCB3-411090BE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3A268-8FB4-4446-AF5D-3C00F29E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DC6-E889-4ACC-99F4-0548C8A0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6F33-0F3B-4180-9DCE-FCBE5B6F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6EE5C-ED7A-4368-BB46-5A3346C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4A458-F38C-4041-9D42-282DD9F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8EEC-57D5-4CBC-8D3C-BA54975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8BFF5-C31C-44CA-8AA7-0D5D4A7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32351-5E36-45BC-B225-BC2637C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AA392-AA43-4EBB-8939-ECD38EB0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BBAF0-430E-4305-B7DE-C8AB34E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4AEA-C2B9-4A49-A089-65200A7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852C4-4A63-4804-8C5E-2231BB0F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B27-EF79-49D4-B811-0E63B293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BAAD-9668-4771-8748-70390C57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0CA5B-0CD9-4983-BE41-BB08044F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B28F3-9803-4222-9247-2E3806B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51CA-7B83-43E3-8719-0182E7B1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759F-D45B-4C49-A9B7-EE14E0D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3AA7D-550A-4ED9-ABE0-0117249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3C64-F476-4D29-B3B2-3FDCD00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86F2-07D1-4943-BB27-79E37718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4FCED-FE02-4765-918F-A21D6BC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D07F-0B63-4368-A903-9D94BD9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E98B-1498-461E-A790-F88B7A1E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449B1-075E-4960-83C4-A64E1AD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197A-5AA2-4807-9874-E4D19275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74676-12D1-41F4-9F7D-5B64BB32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7A4A1-0630-451A-BEEF-CB0ED06830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7F0DC-59DC-44F4-9CB5-AABEB874C7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D91F5-34D6-495E-AAEB-B07011050F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3FAC5-F16D-4963-B973-EBB1C7EC657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D5D9C-45DD-4384-A623-C0349C4812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BC04A-2CCE-4246-A78B-BEA5190CB33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8BA4D-D863-4898-9D5D-4874ADC343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E0DF-46A9-4C11-B1EA-AD7FE4C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B3D60-8019-43D8-94C3-E5911310A8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BF01D-A643-4C45-87C5-0C152101EFA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01D95-9E29-4E70-BE0B-37A1423C92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B672E-6E65-406F-AC75-95D01FD05F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23476-3995-4940-829A-3FC4B78969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214-23AB-4C43-B46A-442724E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8A90-CBEE-469B-8B17-90CDEB2C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F29E-00F3-4C0A-AF9D-28299AB4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BBC3-793E-4120-8D04-E36EA73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E54F-A372-4701-89E6-B2814AD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722-3AF9-4516-8280-4DE69E4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4D1D-2438-4B35-908A-3A02A90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00AB-FADB-4CCA-B45C-5233407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86B-5B67-438C-8061-CBC1547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049-40D5-4842-AA7E-52157F41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C04-6C24-4FAD-8A03-561E63E2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2C28-2AEF-4165-8AF5-958842DA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33B6-B1A8-41D7-90A1-D3BE4AF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781E-6415-4DBB-BDC9-D0E4594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4348-19EA-4922-97DF-E757F52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8392-B5DA-400C-90D3-6677B52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1A1-BE6D-4800-97FC-CE3A4A2A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8EED-B84B-4652-A761-5769D1A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ED72-5C75-44C7-9760-2991F6A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0F71-D6ED-4C8F-BC51-77221F2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17E6-2D80-4FCE-A898-5E21CE7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96E8-6223-4D48-81D3-CB1BD88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C375-2EFA-4F6A-8917-3A29B1A3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0DD9-CC6D-4898-97E2-698A366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BB77-7A4B-4EEB-9696-78DCD889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A29A-F1B6-4FFC-9598-5098139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D53E-358C-48F8-93C1-B29333C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274-B2DB-4488-8F92-9A5EA8E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CEDD-C9C7-4436-9810-8A989AA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731D-3D03-4979-8F1F-56AB75A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D36F-5C83-46B6-8F23-9ECFE73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55D9-D277-498E-A136-286FB73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FC55-BB5B-4D9E-86C2-0FE13BF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45D6-E5E5-4311-9E47-814FCC3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EB60-657D-4D72-8DA0-D9D6748D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B7C1-135A-412B-861C-2875FE71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1F70-40E8-4263-8529-E2D73AB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7BF8-A43C-466F-BF13-01639301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216-1CE8-49C4-90ED-7BC8722E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597C-E2EC-42DE-91CC-6C3A4E50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28D77-8929-4349-8B28-721B0B7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BFCB-6BA4-4CAA-A9F2-A6B12C81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5C1BA-C411-4669-8726-45DD748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A5B7-89AF-47A5-8ACD-70050BD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E4B5-47F2-4415-B03B-C2C388C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7BE3-59C8-4187-B88C-307800E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B17F-5AF3-4DD7-A5B4-4A297EB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5E6D-2865-4D29-BC6D-D502986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3C30-9464-4AAF-A64A-4BEEDCD5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A47-A37A-4E72-A811-2907FEE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B22D-6652-4ABF-A48A-1BF5D18D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6FBF-F5C5-4FBA-BAAB-48F3F8A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FC84-68D2-4906-97B8-41740E6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8C41-A511-46DB-AFEC-49ADADE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A3D31-BEB3-4E95-B88B-997A19F5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0EBF-66FD-46B5-808A-8E5E716B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16D1-6D20-4D43-885A-B87D41EA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1162-3496-4D78-8688-978CAE7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841C-36D2-40C8-A7F8-48D1D29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2E08-D00A-4786-9B2D-1F6D4F20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77-BDD4-4FB0-B42A-71C284B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1FC8-84F5-40BB-9951-097946C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935D-1C2F-4BDB-B7C5-8B12815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DC66-2992-49C6-B4F8-E59F4074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43D1-305C-4367-8129-0638B334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10FE-13D1-4FEA-9FD0-C0ED95C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0639-CAC3-4226-A5AB-3348A013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A984-6696-4798-956E-28D1B16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25E2-2044-473A-98DB-89021AF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C296-03C6-4D7B-BE30-B11749C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4298-AF66-474E-A312-3473F0F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38E-12F5-4F8E-AA6E-5DC1195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C8715-808D-49B5-BCF2-745C1DE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E702A-12C8-4062-A43B-FCD1C1E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DB01-F85B-43FF-A62C-389B15A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7F78-25B3-48BF-83B0-C865AA9A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AA80-4105-4DE4-BF30-49D50B14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ED99-09EB-4154-BDCD-6DE4A266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C9BA-ABD2-4575-B07A-AEB371A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EEB7-7834-49F7-970F-8A671742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C187B-A7B7-4DFB-9745-5548C9F7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4767-6CE8-4A0D-9A8F-CE01BA63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C90-5E05-4904-9CB6-0F6C96A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15BD-2C72-44AC-92A5-5ED3F01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5171-8BD1-4D7E-8D44-BF4584B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5EEA-6531-4410-AC37-34135F9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F9EA-0E60-4EA2-B098-4F2B22A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64C0F-D91E-4B5B-B9ED-61B2FF6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A68D-2B9A-4772-B394-3C15BF7F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05654-7F15-470F-A6FA-8A62831D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D80EF-9533-4E7B-B2C3-3182E580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A1E25-ADBB-4DEC-AC67-A7665D9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BF57F-EE6A-4646-BB42-C1D609A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399-4C94-4DAB-B3B2-02FB9108F6C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48F-90FB-4A49-8D67-9155C719E3F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7F1-517F-4B68-8895-8A1B1BB3C7AD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202-DD2C-477F-8F57-09D466AFF16F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B055-85FC-4E4A-9991-8B9CD3E655FB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B82B-04C0-48E8-9185-7EA89F73BF1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6B2-B95F-4172-A177-04C28D7F0F90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A64-7C44-4FBA-B379-399E4717EA39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4CD-299C-4EBD-ADE3-B993F1481BF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B0C-7221-4397-A4F4-B114CFB7EC0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ECE6-D6C2-4F21-8D85-9A9027737AD8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542C-B860-4EC5-9B93-75A29D70C63E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2BC-30B3-41BA-B66E-221BC2176DD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5693-4BFB-41B9-815F-C0AB7274925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0801-9263-4238-92B9-D225C481914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241-2F09-4225-ABA7-8FC8675523B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C70C-E650-47F7-8D54-11CE84B3A9E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89EA-0368-4AA8-B569-CFA6F572594B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5CF-73C9-4403-888D-7BCC9A5C2DF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270-517A-4895-B592-2C7670F08E46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E10-8DD5-422C-9544-F9C63DBFD2B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3E4-E180-447B-999A-783709D9930B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988-8604-4022-A7FC-0ACF4343A7F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TextBox 1"/>
          <p:cNvSpPr/>
          <p:nvPr/>
        </p:nvSpPr>
        <p:spPr>
          <a:xfrm>
            <a:off x="685800" y="4267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575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5"/>
            <p:cNvSpPr/>
            <p:nvPr/>
          </p:nvSpPr>
          <p:spPr>
            <a:xfrm>
              <a:off x="6892920" y="381564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6"/>
            <p:cNvSpPr/>
            <p:nvPr/>
          </p:nvSpPr>
          <p:spPr>
            <a:xfrm>
              <a:off x="6892920" y="495864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1"/>
            <p:cNvSpPr/>
            <p:nvPr/>
          </p:nvSpPr>
          <p:spPr>
            <a:xfrm>
              <a:off x="7432560" y="420264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32"/>
            <p:cNvSpPr/>
            <p:nvPr/>
          </p:nvSpPr>
          <p:spPr>
            <a:xfrm>
              <a:off x="6892920" y="441072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5"/>
            <p:cNvSpPr/>
            <p:nvPr/>
          </p:nvSpPr>
          <p:spPr>
            <a:xfrm flipV="1">
              <a:off x="7978680" y="5671080"/>
              <a:ext cx="622440" cy="72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606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609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3"/>
            <p:cNvSpPr/>
            <p:nvPr/>
          </p:nvSpPr>
          <p:spPr>
            <a:xfrm flipH="1" rot="5400000">
              <a:off x="6584760" y="485100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7"/>
            <p:cNvSpPr/>
            <p:nvPr/>
          </p:nvSpPr>
          <p:spPr>
            <a:xfrm>
              <a:off x="7815240" y="443988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 4-23 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4" name="ZoneTexte 5"/>
          <p:cNvSpPr/>
          <p:nvPr/>
        </p:nvSpPr>
        <p:spPr>
          <a:xfrm>
            <a:off x="380880" y="1770120"/>
            <a:ext cx="7929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ere are many situations in which the same statements need to be executed several tim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Exampl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Formulas used to find average grades for students in a class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0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45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;             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(i &lt;= 2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" ");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);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Output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0 5 10 15 20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838080" y="4692600"/>
            <a:ext cx="2233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51920" y="213372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 (CONTINUE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5600" y="20574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ount++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0" y="185688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put: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tegers (positive, negative, and zero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N = 20; 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Output: Number of 0s, number of even integers, number of odd integer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14280" y="2057400"/>
            <a:ext cx="8515440" cy="45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for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counter = 1; counter &lt;= N; counter++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number = console.nextInt(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System.out.print(number + " "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switch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% 2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0: even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== 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zero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break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1: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-1: odd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81040" y="1779480"/>
            <a:ext cx="6324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on referred to as decision m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referred to as actio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Fig04-04 "/>
          <p:cNvPicPr/>
          <p:nvPr/>
        </p:nvPicPr>
        <p:blipFill>
          <a:blip r:embed="rId1"/>
          <a:stretch/>
        </p:blipFill>
        <p:spPr>
          <a:xfrm>
            <a:off x="266760" y="3733920"/>
            <a:ext cx="7010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6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2093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609480" y="25146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09-19T18:26:12Z</dcterms:modified>
  <cp:revision>176</cp:revision>
  <dc:subject/>
  <dc:title>Chapter 1</dc:title>
</cp:coreProperties>
</file>