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C926-ABEA-457A-B981-897263FBCE4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2508-81FC-41A6-A6E2-79410F7F2E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2E63-5E8D-4D05-BB72-787A975E3A7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D9E-E971-475F-9406-64F3780F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12F-C059-4F65-8BFC-61B358A9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C354E-2068-4A9D-AFD0-B3FB71BE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5D14B-9BD5-4ACF-AE56-617C171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0BB1C-9F57-45BB-A26E-BCED7B1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B2D56-85DD-45DB-9233-E544892E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68D6-FCFE-4011-93F9-CA540DFD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84F86-F491-47A9-BCB8-19902DD0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62AF0-D2D1-4E99-AF90-E6B8E74D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62422-154F-48AC-9E58-B4B269AD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91089-BBC3-4661-A951-28CBBC81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05158-9BB2-46B4-B405-27099DA0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C09-F66A-4C25-A886-23BB9C6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D7449-94A8-42DF-A8DA-DDA8F033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059CD-3D1F-4B7A-B38D-48F04010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50027-C83B-4255-8B25-3D045844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E233-765D-4066-82BF-1CD11038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C9F14-3065-45FC-B55E-77BB461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8C31E-33F1-4F02-8830-A448F935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0E8A3-1099-4819-995E-A9ADB98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16037-FCBD-4B64-B5A4-5FF6D622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92C20-2A12-4E78-B7E6-6A976D70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C68C6-B849-4072-8199-85BA3F2A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3C1-0F3B-4C53-BC84-29CD17BE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CC86C-44C3-4A05-B9B0-8B5FC3D2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7EC3C-A693-455C-9405-D34D1228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29E29-D520-41B9-B9B7-EFFED0F5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E674-8E75-4E1D-B2A9-3ECD7945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CADE7-52FC-4EF5-88F7-9B8FF754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169F1-ACAE-4B21-A3D6-226B505B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C1C8D-2765-4B31-B08D-22DD5056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60216-CA85-47AC-836F-AE82D21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542E3-EA3D-4E8D-B514-569F2BE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D64C6-8C4F-4389-96AE-B983D00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0FDE-41CE-4D81-AC39-022D93DD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E704E-B083-4ACF-84ED-2F2E23D9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99537-F6BA-42EC-8C41-BC6C2148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90E01-3ECE-417A-B52C-F2968041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EE1C7-C7CF-4108-971A-777004791E0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11686-9AEB-4EC2-9388-8A7954BA1F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EC05C-AE20-47E7-BCF2-B5F8ACBEC2D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ECA5B-5AE4-4AC0-876F-97B79746E5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D6649-E39C-416C-B177-344E9CA9CA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E439D-8B70-4F71-8FDC-6B92DDEBCE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EDA3F-2CA0-46E5-BC8C-4268F9E77C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4B38-0A2F-4315-A922-8EEAE20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08F52-B00F-4EDD-A898-08DF243AAE3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F400B-BE80-486F-8E59-2078227C602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27F9A-8D21-4053-B9A6-734DB15D78F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BF5D9-151A-4E86-8016-4AD3D5C60E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88DD0-C395-44F8-95FE-E5F741F732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D013-4A3E-4297-9751-2B09F01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9255-86BD-420B-A2E2-2E9CB8CA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D9C6-17DC-470A-B6BC-A09F06ED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A6A6-747A-4E29-AEAF-3F07B7F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1669-31AC-453A-AB44-7342BEC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1DE-2D9E-402D-8A69-72743AF6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C96A-A99B-4517-AB04-ED8AD57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633-2379-4A69-9399-8165E89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6E7C-497C-4504-B1CA-9893F6DD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87CD-D363-4565-B47F-587EC7CE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58C6-D446-4699-B44C-E6EAFD08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26CC-94F5-4B53-B3D0-0DB0CE39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8F33-9722-4669-AB56-953F84FC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03BC-8195-42B2-AF9F-967C918E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A3FE-40ED-4233-A448-52A33C5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1877-9EC1-44CD-91E2-C9C85341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A28-2793-485F-A8F7-3BD6381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1106-4C87-4C90-8E15-1B445E9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3249-66B9-4581-8AC5-568149C4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8038-F8F3-4057-9587-0A2F692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1EB5-9A91-469E-B3BC-BF98647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EE08-C9CB-46B1-86CF-A7D9425C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4B92-0279-4790-95C4-6EF2C461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11E1-ED0D-48A1-A3A1-82E6CD27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A9C8-90C8-45F4-9D00-A29225DA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A68B-DF57-4D07-A71E-C4EE000B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6B338-6EBC-4404-9E0B-67D762ED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877-728A-4305-9BA7-8678A1A6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6F25-F850-45A0-83A9-29E8E32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0AB0-97E7-42C8-965B-5301AB62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2932-9FB8-4CC7-86C8-7631A9F8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99C1-9CEF-4FF9-8CA0-CA54C9AB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6772-22B2-40AA-9DEC-CC7DD05B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62F6-A112-4701-AD10-C0A7CDF2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9DA3-9666-48C5-B7D9-0300A562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3C89-49C5-43BA-B04B-7E20B2A9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15642-2076-49A3-BD19-EF91F071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E448-85E5-4F75-91D3-809D0E5B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7A5-F35C-4782-B7ED-401F40C1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97FD8-864F-4A19-8164-8ADF2F95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BAF9F-6A1E-483F-A03C-6B97863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9706B-8343-44EF-B0B9-1BAA0EB2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B557-1E48-4341-8B98-C2F9A6BD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AA79-8029-41D9-9DAA-273CD3A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9085D-798C-4B0F-827E-F014431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8A81-188B-4C40-8B3C-6DCAA68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EECB-662B-41C6-B665-61C61DF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69592-38E9-4779-90A8-D63C1B88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C8AD-C210-445A-8880-721ADA41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71E-334B-420B-B3FA-4AAB92D8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75083-D1B4-4A1F-BA89-D5896999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63C7-D314-4BC0-802A-CC3A9919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716E-34C3-42C4-AF61-BE5106EB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F98C4-5096-4EB6-A469-93BA8C2E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40F4-3DBC-4A24-BE91-50B9D80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6F66B-E319-4962-9FF8-4D82F30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C8335-E64F-4864-B822-B8A0A5DD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D43EA-73B0-44A8-9824-6E45A3F7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1566A-1D1C-4B32-A736-F50184F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F181-865A-4A9E-BCBD-0143EE0E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2F4-4FA5-487C-BA31-B219395B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F488-9E31-4B6E-AD54-8C57627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D40D-A415-4BBD-ACA8-FEC1607B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0E8B-4759-4251-A87B-99C3951B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FDC6-0E8B-40B4-A60A-68689C41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F357-67EF-4171-8EEF-41031C0D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CCBB-B104-4986-8A89-F8E93E9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3C213-CDB7-4336-87D7-3BCE6CC1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B68B-77E5-49FC-96A9-135E5FA7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0D01-7EB8-43C3-8CAD-675F0278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54BC-67CD-44AF-9906-7E4B671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119-5375-4E73-A656-B5A8C53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2F4C2-A43F-4158-86D3-D728416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93A2F-8033-42A6-A7A9-91C3D085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83B82-1DCF-4E0D-A280-C55FE411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463C7-4D1D-4D73-B1E4-07514790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122DF-C331-4B9D-8CE7-272E2EC0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1EF37-CDFE-4562-A7E2-E853138F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BB409-5834-4ABA-9E9D-FE3ECA7A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D5D45-38A0-4F08-B03B-938285F4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38763-300E-4E77-AC2D-46ACBC57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37184-4DC5-44D4-82D9-BCB6969A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72D-4082-4A24-82C8-879CFA7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C4050-7AA5-4FF9-81E7-1497C5DA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FDC2-E186-4527-84C6-0CB4EFC7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1F208-2AAF-48ED-8301-0454B46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BCEE3-F093-42B4-B494-192D34E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0A60-0936-463D-87D3-6694238A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50465-7DC1-4640-9FC6-A5590546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36B69-FED5-42AC-ABF6-8DFA519C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30C6D-ED59-45E9-95DF-6A29E7B7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1AB14-F78E-4B31-8D5E-7FC3A6E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77981-D579-4AAC-B6AF-42410875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2B21-B168-4282-8570-A6116728B05E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886-AA3E-4652-93DD-96265C6ACAC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9BEA-4943-436D-A5C8-902D04D7360C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40BA-0500-4010-9253-AD110BDBC2F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907A-5EA7-48D3-9EED-3686A61D7C24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BE9-BA80-4A81-BF8C-9024AAD201A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5D4-D482-45C8-81AC-ABD004C189B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27CF-39A3-422F-AEF2-3F616941BF24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EEA1-44B7-4C13-9901-5A9A67B9A970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F2B4-1582-4DA1-9486-7B047B9F2BA8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EBB0-36F8-4E7B-A60D-EC104CF950D4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C5C3-B2EB-4862-8CBD-730DC2B7ACDA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728-230D-4141-BCA1-333C16B97D51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6534-EF70-4305-AFD5-7E4B501001E9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261-6FC0-4771-8A47-1F2DD06668E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0B4-C665-4ECB-B7A5-8758D3CB869A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43D-8948-4F47-9E2B-70C57393DEF8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C4E-2C6D-41C1-AFBE-6C4DD3B4EFD2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0FB7-9EBA-4FBE-A5A6-13476A632B2E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E093-9005-429B-B844-F9CA6CE05A6E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15BB-3A08-4D28-8C4C-915CC07394F5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885E-1254-4158-B055-490D88BF262E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2AE-C30C-4A12-B12D-1BB06FA74BC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3200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TextBox 1"/>
          <p:cNvSpPr/>
          <p:nvPr/>
        </p:nvSpPr>
        <p:spPr>
          <a:xfrm>
            <a:off x="685800" y="4267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0880" y="19810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1880" y="20574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510552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80880" y="223524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4373640" y="1905120"/>
            <a:ext cx="4495680" cy="47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357120" y="2521080"/>
            <a:ext cx="33717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1: x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2: x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3: x =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9"/>
          <p:cNvGrpSpPr/>
          <p:nvPr/>
        </p:nvGrpSpPr>
        <p:grpSpPr>
          <a:xfrm>
            <a:off x="4530600" y="1905120"/>
            <a:ext cx="4162320" cy="4706280"/>
            <a:chOff x="4530600" y="1905120"/>
            <a:chExt cx="4162320" cy="4706280"/>
          </a:xfrm>
        </p:grpSpPr>
        <p:sp>
          <p:nvSpPr>
            <p:cNvPr id="575" name="AutoShape 10"/>
            <p:cNvSpPr/>
            <p:nvPr/>
          </p:nvSpPr>
          <p:spPr>
            <a:xfrm>
              <a:off x="6892920" y="266076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1"/>
            <p:cNvSpPr/>
            <p:nvPr/>
          </p:nvSpPr>
          <p:spPr>
            <a:xfrm>
              <a:off x="4530600" y="319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2"/>
            <p:cNvSpPr/>
            <p:nvPr/>
          </p:nvSpPr>
          <p:spPr>
            <a:xfrm>
              <a:off x="6046920" y="23662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3"/>
            <p:cNvSpPr/>
            <p:nvPr/>
          </p:nvSpPr>
          <p:spPr>
            <a:xfrm>
              <a:off x="4728960" y="2552040"/>
              <a:ext cx="1254240" cy="5461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5356080" y="190512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5"/>
            <p:cNvSpPr/>
            <p:nvPr/>
          </p:nvSpPr>
          <p:spPr>
            <a:xfrm>
              <a:off x="6892920" y="381564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6"/>
            <p:cNvSpPr/>
            <p:nvPr/>
          </p:nvSpPr>
          <p:spPr>
            <a:xfrm>
              <a:off x="6892920" y="495864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7"/>
            <p:cNvSpPr/>
            <p:nvPr/>
          </p:nvSpPr>
          <p:spPr>
            <a:xfrm>
              <a:off x="4728960" y="3695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8"/>
            <p:cNvSpPr/>
            <p:nvPr/>
          </p:nvSpPr>
          <p:spPr>
            <a:xfrm>
              <a:off x="4728960" y="4838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5959440" y="2833560"/>
              <a:ext cx="79992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0"/>
            <p:cNvSpPr/>
            <p:nvPr/>
          </p:nvSpPr>
          <p:spPr>
            <a:xfrm>
              <a:off x="5356080" y="3095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>
              <a:off x="5356080" y="4238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2"/>
            <p:cNvSpPr/>
            <p:nvPr/>
          </p:nvSpPr>
          <p:spPr>
            <a:xfrm>
              <a:off x="5356080" y="5393160"/>
              <a:ext cx="0" cy="1218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3"/>
            <p:cNvSpPr/>
            <p:nvPr/>
          </p:nvSpPr>
          <p:spPr>
            <a:xfrm>
              <a:off x="5984640" y="3964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4"/>
            <p:cNvSpPr/>
            <p:nvPr/>
          </p:nvSpPr>
          <p:spPr>
            <a:xfrm>
              <a:off x="6022800" y="5107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>
              <a:off x="7432560" y="304776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4530600" y="548532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27"/>
            <p:cNvSpPr/>
            <p:nvPr/>
          </p:nvSpPr>
          <p:spPr>
            <a:xfrm>
              <a:off x="4530600" y="4330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8"/>
            <p:cNvSpPr/>
            <p:nvPr/>
          </p:nvSpPr>
          <p:spPr>
            <a:xfrm>
              <a:off x="6046920" y="3485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9"/>
            <p:cNvSpPr/>
            <p:nvPr/>
          </p:nvSpPr>
          <p:spPr>
            <a:xfrm>
              <a:off x="6046920" y="46515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30"/>
            <p:cNvSpPr/>
            <p:nvPr/>
          </p:nvSpPr>
          <p:spPr>
            <a:xfrm>
              <a:off x="6892920" y="325620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1"/>
            <p:cNvSpPr/>
            <p:nvPr/>
          </p:nvSpPr>
          <p:spPr>
            <a:xfrm>
              <a:off x="7432560" y="420264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32"/>
            <p:cNvSpPr/>
            <p:nvPr/>
          </p:nvSpPr>
          <p:spPr>
            <a:xfrm>
              <a:off x="6892920" y="441072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33"/>
            <p:cNvSpPr/>
            <p:nvPr/>
          </p:nvSpPr>
          <p:spPr>
            <a:xfrm>
              <a:off x="7432560" y="533340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34"/>
            <p:cNvSpPr/>
            <p:nvPr/>
          </p:nvSpPr>
          <p:spPr>
            <a:xfrm>
              <a:off x="6892920" y="554148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35"/>
            <p:cNvSpPr/>
            <p:nvPr/>
          </p:nvSpPr>
          <p:spPr>
            <a:xfrm flipV="1">
              <a:off x="7978680" y="5671080"/>
              <a:ext cx="622440" cy="72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36"/>
            <p:cNvSpPr/>
            <p:nvPr/>
          </p:nvSpPr>
          <p:spPr>
            <a:xfrm>
              <a:off x="7978680" y="4559760"/>
              <a:ext cx="584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7"/>
            <p:cNvSpPr/>
            <p:nvPr/>
          </p:nvSpPr>
          <p:spPr>
            <a:xfrm>
              <a:off x="5492520" y="3407760"/>
              <a:ext cx="3200400" cy="2809440"/>
            </a:xfrm>
            <a:custGeom>
              <a:avLst/>
              <a:gdLst/>
              <a:ahLst/>
              <a:rect l="l" t="t" r="r" b="b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2120" y="68724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Majalla U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4824360" y="1908000"/>
            <a:ext cx="36576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423720" y="2203560"/>
            <a:ext cx="3503880" cy="2047680"/>
            <a:chOff x="423720" y="2203560"/>
            <a:chExt cx="3503880" cy="2047680"/>
          </a:xfrm>
        </p:grpSpPr>
        <p:sp>
          <p:nvSpPr>
            <p:cNvPr id="606" name="Rectangle 7"/>
            <p:cNvSpPr/>
            <p:nvPr/>
          </p:nvSpPr>
          <p:spPr>
            <a:xfrm>
              <a:off x="423720" y="2203560"/>
              <a:ext cx="350388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>
              <a:off x="471240" y="2303640"/>
              <a:ext cx="337176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9"/>
          <p:cNvGrpSpPr/>
          <p:nvPr/>
        </p:nvGrpSpPr>
        <p:grpSpPr>
          <a:xfrm>
            <a:off x="4932360" y="2171880"/>
            <a:ext cx="3422520" cy="4385880"/>
            <a:chOff x="4932360" y="2171880"/>
            <a:chExt cx="3422520" cy="4385880"/>
          </a:xfrm>
        </p:grpSpPr>
        <p:sp>
          <p:nvSpPr>
            <p:cNvPr id="609" name="AutoShape 10"/>
            <p:cNvSpPr/>
            <p:nvPr/>
          </p:nvSpPr>
          <p:spPr>
            <a:xfrm>
              <a:off x="7275600" y="2925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1"/>
            <p:cNvSpPr/>
            <p:nvPr/>
          </p:nvSpPr>
          <p:spPr>
            <a:xfrm>
              <a:off x="4932360" y="34628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2"/>
            <p:cNvSpPr/>
            <p:nvPr/>
          </p:nvSpPr>
          <p:spPr>
            <a:xfrm>
              <a:off x="6448680" y="2631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3"/>
            <p:cNvSpPr/>
            <p:nvPr/>
          </p:nvSpPr>
          <p:spPr>
            <a:xfrm>
              <a:off x="5130720" y="281736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"/>
            <p:cNvSpPr/>
            <p:nvPr/>
          </p:nvSpPr>
          <p:spPr>
            <a:xfrm>
              <a:off x="5757840" y="21718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5"/>
            <p:cNvSpPr/>
            <p:nvPr/>
          </p:nvSpPr>
          <p:spPr>
            <a:xfrm>
              <a:off x="7275600" y="4077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16"/>
            <p:cNvSpPr/>
            <p:nvPr/>
          </p:nvSpPr>
          <p:spPr>
            <a:xfrm>
              <a:off x="7275600" y="516996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7"/>
            <p:cNvSpPr/>
            <p:nvPr/>
          </p:nvSpPr>
          <p:spPr>
            <a:xfrm>
              <a:off x="5130720" y="395748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8"/>
            <p:cNvSpPr/>
            <p:nvPr/>
          </p:nvSpPr>
          <p:spPr>
            <a:xfrm>
              <a:off x="5130720" y="5097240"/>
              <a:ext cx="1254240" cy="5446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9"/>
            <p:cNvSpPr/>
            <p:nvPr/>
          </p:nvSpPr>
          <p:spPr>
            <a:xfrm>
              <a:off x="6361200" y="3097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0"/>
            <p:cNvSpPr/>
            <p:nvPr/>
          </p:nvSpPr>
          <p:spPr>
            <a:xfrm>
              <a:off x="5757840" y="335916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5757840" y="44992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>
              <a:off x="5757840" y="5650920"/>
              <a:ext cx="0" cy="906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3"/>
            <p:cNvSpPr/>
            <p:nvPr/>
          </p:nvSpPr>
          <p:spPr>
            <a:xfrm flipH="1" rot="5400000">
              <a:off x="6584760" y="4851000"/>
              <a:ext cx="522360" cy="1931760"/>
            </a:xfrm>
            <a:custGeom>
              <a:avLst/>
              <a:gdLst/>
              <a:ahLst/>
              <a:rect l="l" t="t" r="r" b="b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6386400" y="422604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6424560" y="536580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7815240" y="331164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7"/>
            <p:cNvSpPr/>
            <p:nvPr/>
          </p:nvSpPr>
          <p:spPr>
            <a:xfrm>
              <a:off x="7815240" y="443988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8"/>
            <p:cNvSpPr/>
            <p:nvPr/>
          </p:nvSpPr>
          <p:spPr>
            <a:xfrm>
              <a:off x="4932360" y="5743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9"/>
            <p:cNvSpPr/>
            <p:nvPr/>
          </p:nvSpPr>
          <p:spPr>
            <a:xfrm>
              <a:off x="4932360" y="4591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30"/>
            <p:cNvSpPr/>
            <p:nvPr/>
          </p:nvSpPr>
          <p:spPr>
            <a:xfrm>
              <a:off x="6448680" y="3747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1"/>
            <p:cNvSpPr/>
            <p:nvPr/>
          </p:nvSpPr>
          <p:spPr>
            <a:xfrm>
              <a:off x="6448680" y="491184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AND DEFAULT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5400" y="1981080"/>
            <a:ext cx="8962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 4-23 WITH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4" name="ZoneTexte 5"/>
          <p:cNvSpPr/>
          <p:nvPr/>
        </p:nvSpPr>
        <p:spPr>
          <a:xfrm>
            <a:off x="380880" y="1770120"/>
            <a:ext cx="7929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A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B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C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D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F'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WHY IS REPETITION NEEDED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ere are many situations in which the same statements need to be executed several tim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Example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</a:rPr>
              <a:t>Formulas used to find average grades for students in a class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Java has three repetition, or looping, structures that let you repeat statements over and over again until certain conditions are met: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for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</a:rPr>
              <a:t>do…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0" name="Picture 4" descr="Fig05-01"/>
          <p:cNvPicPr/>
          <p:nvPr/>
        </p:nvPicPr>
        <p:blipFill>
          <a:blip r:embed="rId1"/>
          <a:stretch/>
        </p:blipFill>
        <p:spPr>
          <a:xfrm>
            <a:off x="2139840" y="4876920"/>
            <a:ext cx="4872240" cy="16095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188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must change value of expression to false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finite loop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expression is always tru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45" name="Picture 2" descr="Fig04-01"/>
          <p:cNvPicPr/>
          <p:nvPr/>
        </p:nvPicPr>
        <p:blipFill>
          <a:blip r:embed="rId1"/>
          <a:stretch/>
        </p:blipFill>
        <p:spPr>
          <a:xfrm>
            <a:off x="380880" y="220968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;             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(i &lt;= 2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" ");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);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Output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0 5 10 15 20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838080" y="4692600"/>
            <a:ext cx="2233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49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when exact number of entry pieces is </a:t>
            </a:r>
            <a:r>
              <a:rPr b="0" lang="en-US" sz="2600" spc="-1" strike="noStrike">
                <a:solidFill>
                  <a:srgbClr val="903163"/>
                </a:solidFill>
                <a:latin typeface="Gill Sans MT"/>
              </a:rPr>
              <a:t>unknown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, but last entry (special/sentinel value) is known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51920" y="2133720"/>
            <a:ext cx="95410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Sentinel-controlled while loop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java.util.*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ControlledWhile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 console =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(System.in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 = -999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main 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number;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um = 0;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s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count = 0;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numbers re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System.out.println(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+ 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ding with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br>
              <a:rPr sz="1800"/>
            </a:b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 (CONTINUE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55600" y="20574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number != SENTINEL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sum = sum + number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ount++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ber = console.nextInt()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sum of the “+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 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+”numbers = “ 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count != 0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The average =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(sum / count));      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</a:rPr>
              <a:t>"No inpu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0880" y="191880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Boolean value used to control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oolean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!found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0" y="185688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pecialized form of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ts primary purpose is to simplify the writing of counter-controlled loops. For this reason, the for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oop is typically called a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</a:rPr>
              <a:t>counte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or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</a:rPr>
              <a:t>indexed fo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oop.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920" y="243792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Gill Sans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a star (on separate lines) five times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five times and the star only once: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FOR LOOPING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51920" y="19810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50920" y="1981080"/>
            <a:ext cx="85881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put: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tegers (positive, negative, and zeros)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N = 20; 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Times New Roman"/>
              </a:rPr>
              <a:t>//N easily modifie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Output: Number of 0s, number of even integers, number of odd integer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 (SOLUTION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14280" y="2057400"/>
            <a:ext cx="8515440" cy="45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for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counter = 1; counter &lt;= N; counter++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number = console.nextInt(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System.out.print(number + " "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switch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% 2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0: even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if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== 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zero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break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1: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-1: odd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switch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for loop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ONE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581040" y="1779480"/>
            <a:ext cx="6324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ression referred to as decision ma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 referred to as action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Fig04-04 "/>
          <p:cNvPicPr/>
          <p:nvPr/>
        </p:nvPicPr>
        <p:blipFill>
          <a:blip r:embed="rId1"/>
          <a:stretch/>
        </p:blipFill>
        <p:spPr>
          <a:xfrm>
            <a:off x="266760" y="3733920"/>
            <a:ext cx="7010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DO…WHILE LOOP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first and then expression is evaluated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at least once and then continued if expression is tru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6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do {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“ “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}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( i &lt;= 30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output : 0  5  10  15  20  25  30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457200" y="4952880"/>
            <a:ext cx="59738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to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it early from a loop.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(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)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skip remainder of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n be placed within if statement of a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condition is met, loop is exited immediately.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1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128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 ; count &lt;= 10 ; count ++ 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4178160" y="5257800"/>
            <a:ext cx="439272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28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9600" y="21333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d in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/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expression is evaluated immediately after continue statement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the update statement is executed after the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atement; the loop condition then executes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; count &lt;= 10 ; count ++ 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contin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22093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Provides new power, subtlety, and complexity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els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 can be placed within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 can be found within other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0880" y="196164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i = 1; i &lt;= 5; i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j = 1; j &lt;= i; j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ln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Output: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380880" y="415296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16000" y="2023920"/>
            <a:ext cx="8775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y) || (x==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a==b) &amp;&amp; (x&gt;=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04920" y="236232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76356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609480" y="25146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4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40.0 + rate * h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06520" y="192420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68360" y="21272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380880" y="193212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4338720" y="2095560"/>
            <a:ext cx="441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Aseel</cp:lastModifiedBy>
  <dcterms:modified xsi:type="dcterms:W3CDTF">2014-09-19T18:26:12Z</dcterms:modified>
  <cp:revision>176</cp:revision>
  <dc:subject/>
  <dc:title>Chapter 1</dc:title>
</cp:coreProperties>
</file>