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44480-1483-48CD-A7DF-D2B35D99F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4132-A7B8-40DB-8628-5D24FE342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CDB4A-19E4-4529-B33E-08E6DA73A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71CBB-EC6E-43F9-8B16-7692BD03E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1BD1DC-A2F8-4DD0-915B-F70570A57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7A1F26-527F-412B-B47E-FE32D8E20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609546-FD51-445D-8614-3C707263E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E2611E-30E2-47DF-90C5-E0BF6B86E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5AABAF-62A3-4055-A036-B67AF5E9C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21DA9F-579E-4DB1-83A3-FE3CB2504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98FDF2-1BB6-48E1-B529-00C3B3A59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C3E83-CE4E-4E51-B523-B28D37F7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8AD104-23C5-4FA1-B9A7-62C86E922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3C2399-A733-4E5E-955B-85AE5EFD5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7D79582-D2AF-4AF7-8027-569116F95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2164B0-CA79-4CF4-8FAD-C5B27817C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234F4E-2B04-4247-8710-759E241C2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26008-67FF-4074-8E07-70262B9B4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366BF-999C-4AB8-A857-A4706E4A0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58421-6BE6-4AD9-9830-6CF14DC92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9440A-DB38-4B20-9583-22835AB20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CA936F-8ED5-4294-B215-B624EE743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D23A-AC4C-4F72-8345-17467DA89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0ED56-76F6-47C5-B2C8-927BB6D12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5EE87-1D40-482E-A82D-FB216392C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CD4A0-C3F0-436D-BA7F-B421A9310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B94F5-5BD8-4F67-8D97-CAF85C49A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2A7BF-5C76-47BB-A1E4-BB2A52DE6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0BCC83-171D-4721-867A-DA38F2340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CC6649-7C3E-4906-90AB-633F3AB57B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4B645B0-B408-46DC-8606-45AE277ADD4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B996BB7-936C-4A5E-A3B4-1709CCF2E6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160473B-291E-4BCA-8F72-D69D03C026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616C6-5317-4254-890C-733D5B704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175B6C8-7571-4AB7-A1CA-C74CA18AB2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E2D30DC-36F8-4CE5-8DB7-9C937B8A8C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F2BBB23-DF4F-414F-95AD-09F129836AC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5DBD62A-6782-425E-9CBA-829AFDD82A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2BC783B-C4E0-4F31-B7BC-BE1479388A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CF573A4-1F9E-4C0E-8F6D-1D031087D7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4259845-1412-4542-95BB-3FE7890BB9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3327E4C-517F-43E6-B641-1226C14B225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1669CE3-D9D3-4CE2-B2D6-40F51A90B63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4E8A-0DBF-47AC-BDB7-8AECDD127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DAA9-5CF5-4213-8FE8-83455F189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1805B-13CA-49AD-A527-46CBE00E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B8AB-1A91-4B67-9A3B-EAE97225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268F-8E04-4BCB-BEB5-E79F115A1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901F-735F-4843-BBEF-96C801CBF50F}"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009dd9"/>
          </a:solidFill>
          <a:ln w="38160">
            <a:solidFill>
              <a:srgbClr val="009dd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7DC6-EA9A-44C0-97DE-96449005BCE1}"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C549-F594-432B-8321-C26571CF5933}"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C118-297C-43EE-A94E-2DA158D5D419}"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3" name="Group 6"/>
          <p:cNvGrpSpPr/>
          <p:nvPr/>
        </p:nvGrpSpPr>
        <p:grpSpPr>
          <a:xfrm>
            <a:off x="8648640" y="498600"/>
            <a:ext cx="306360" cy="122040"/>
            <a:chOff x="8648640" y="498600"/>
            <a:chExt cx="306360" cy="122040"/>
          </a:xfrm>
        </p:grpSpPr>
        <p:sp>
          <p:nvSpPr>
            <p:cNvPr id="1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7" name="Rectangle 10"/>
          <p:cNvSpPr/>
          <p:nvPr/>
        </p:nvSpPr>
        <p:spPr>
          <a:xfrm>
            <a:off x="3357720" y="20628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1"/>
          <p:cNvSpPr/>
          <p:nvPr/>
        </p:nvSpPr>
        <p:spPr>
          <a:xfrm>
            <a:off x="5572080" y="649440"/>
            <a:ext cx="40989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Times New Roman"/>
              </a:rPr>
              <a:t>Prepared by Suhail ALHumoud </a:t>
            </a:r>
            <a:endParaRPr b="0" lang="en-US" sz="1800" spc="-1" strike="noStrike">
              <a:solidFill>
                <a:srgbClr val="ffffff"/>
              </a:solidFill>
              <a:latin typeface="Arial"/>
            </a:endParaRPr>
          </a:p>
        </p:txBody>
      </p:sp>
      <p:sp>
        <p:nvSpPr>
          <p:cNvPr id="1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 Box 17"/>
          <p:cNvSpPr/>
          <p:nvPr/>
        </p:nvSpPr>
        <p:spPr>
          <a:xfrm>
            <a:off x="714240" y="1928880"/>
            <a:ext cx="7704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Introduction to Socio-cultural Variations in Health </a:t>
            </a:r>
            <a:endParaRPr b="0" lang="en-US" sz="4400" spc="-1" strike="noStrike">
              <a:solidFill>
                <a:srgbClr val="ffffff"/>
              </a:solidFill>
              <a:latin typeface="Arial"/>
            </a:endParaRPr>
          </a:p>
        </p:txBody>
      </p:sp>
      <p:sp>
        <p:nvSpPr>
          <p:cNvPr id="1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4A0B-BF0B-48B0-A56F-9E382CE0C5E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8" name="Group 6"/>
          <p:cNvGrpSpPr/>
          <p:nvPr/>
        </p:nvGrpSpPr>
        <p:grpSpPr>
          <a:xfrm>
            <a:off x="8648640" y="498600"/>
            <a:ext cx="306360" cy="122040"/>
            <a:chOff x="8648640" y="498600"/>
            <a:chExt cx="306360" cy="122040"/>
          </a:xfrm>
        </p:grpSpPr>
        <p:sp>
          <p:nvSpPr>
            <p:cNvPr id="2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2"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Text Box 17"/>
          <p:cNvSpPr/>
          <p:nvPr/>
        </p:nvSpPr>
        <p:spPr>
          <a:xfrm>
            <a:off x="214200" y="785880"/>
            <a:ext cx="8929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a:t>
            </a:r>
            <a:r>
              <a:rPr b="1" lang="en-US" sz="3200" spc="-1" strike="noStrike">
                <a:solidFill>
                  <a:srgbClr val="ffffff"/>
                </a:solidFill>
                <a:latin typeface="Comic Sans MS"/>
              </a:rPr>
              <a:t>symbol</a:t>
            </a:r>
            <a:r>
              <a:rPr b="0" lang="en-US" sz="3200" spc="-1" strike="noStrike">
                <a:solidFill>
                  <a:srgbClr val="ffffff"/>
                </a:solidFill>
                <a:latin typeface="Comic Sans MS"/>
              </a:rPr>
              <a:t> is simply understood as an expression that stands for or represents something else, usually a real world condition. The use of words in a language provides the most obvious example. Words stand for perceived objective entities and states. Words as symbols, however, differ from the objects they represent and have special qualities, which is why they are so useful to us. One important characteristic is that they bear no intrinsic relation to what they represent and are thereby arbitrary</a:t>
            </a:r>
            <a:endParaRPr b="0" lang="en-US" sz="3200" spc="-1" strike="noStrike">
              <a:solidFill>
                <a:srgbClr val="ffffff"/>
              </a:solidFill>
              <a:latin typeface="Arial"/>
            </a:endParaRPr>
          </a:p>
        </p:txBody>
      </p:sp>
      <p:sp>
        <p:nvSpPr>
          <p:cNvPr id="29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4E3F-E389-490C-BE86-FAE9743659F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0" name="Group 6"/>
          <p:cNvGrpSpPr/>
          <p:nvPr/>
        </p:nvGrpSpPr>
        <p:grpSpPr>
          <a:xfrm>
            <a:off x="8648640" y="498600"/>
            <a:ext cx="306360" cy="122040"/>
            <a:chOff x="8648640" y="498600"/>
            <a:chExt cx="306360" cy="122040"/>
          </a:xfrm>
        </p:grpSpPr>
        <p:sp>
          <p:nvSpPr>
            <p:cNvPr id="3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4"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Text Box 17"/>
          <p:cNvSpPr/>
          <p:nvPr/>
        </p:nvSpPr>
        <p:spPr>
          <a:xfrm>
            <a:off x="900000" y="785880"/>
            <a:ext cx="7201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ulture traits and broader cultural patterns inclusive of language, technology, institutions, beliefs, and values are transmitted across generations and maintain continuity through learning, technically termed </a:t>
            </a:r>
            <a:r>
              <a:rPr b="1" lang="en-US" sz="3200" spc="-1" strike="noStrike">
                <a:solidFill>
                  <a:srgbClr val="ffffff"/>
                </a:solidFill>
                <a:latin typeface="Comic Sans MS"/>
              </a:rPr>
              <a:t>enculturation</a:t>
            </a:r>
            <a:r>
              <a:rPr b="0" lang="en-US" sz="3200" spc="-1" strike="noStrike">
                <a:solidFill>
                  <a:srgbClr val="ffffff"/>
                </a:solidFill>
                <a:latin typeface="Comic Sans MS"/>
              </a:rPr>
              <a:t>. </a:t>
            </a:r>
            <a:endParaRPr b="0" lang="en-US" sz="3200" spc="-1" strike="noStrike">
              <a:solidFill>
                <a:srgbClr val="ffffff"/>
              </a:solidFill>
              <a:latin typeface="Arial"/>
            </a:endParaRPr>
          </a:p>
        </p:txBody>
      </p:sp>
      <p:sp>
        <p:nvSpPr>
          <p:cNvPr id="3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E0E3-9A2F-475E-951D-FBA964176CC1}"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6" name="Rectangle 10"/>
          <p:cNvSpPr/>
          <p:nvPr/>
        </p:nvSpPr>
        <p:spPr>
          <a:xfrm>
            <a:off x="3714840" y="190800"/>
            <a:ext cx="5359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Text Box 17"/>
          <p:cNvSpPr/>
          <p:nvPr/>
        </p:nvSpPr>
        <p:spPr>
          <a:xfrm>
            <a:off x="1403280" y="1571760"/>
            <a:ext cx="7015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ulture is observable only in the form of personal behavior but can be abstracted from individuals' actions and attributed to the social groups to which they belong</a:t>
            </a:r>
            <a:endParaRPr b="0" lang="en-US" sz="3200" spc="-1" strike="noStrike">
              <a:solidFill>
                <a:srgbClr val="ffffff"/>
              </a:solidFill>
              <a:latin typeface="Arial"/>
            </a:endParaRPr>
          </a:p>
        </p:txBody>
      </p:sp>
      <p:sp>
        <p:nvSpPr>
          <p:cNvPr id="3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C709-1186-4836-A025-3C5B364EDC8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4" name="Group 6"/>
          <p:cNvGrpSpPr/>
          <p:nvPr/>
        </p:nvGrpSpPr>
        <p:grpSpPr>
          <a:xfrm>
            <a:off x="8648640" y="498600"/>
            <a:ext cx="306360" cy="122040"/>
            <a:chOff x="8648640" y="498600"/>
            <a:chExt cx="306360" cy="122040"/>
          </a:xfrm>
        </p:grpSpPr>
        <p:sp>
          <p:nvSpPr>
            <p:cNvPr id="3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a:t>
            </a:r>
            <a:endParaRPr b="0" lang="en-US" sz="1600" spc="-1" strike="noStrike">
              <a:solidFill>
                <a:srgbClr val="ffffff"/>
              </a:solidFill>
              <a:latin typeface="Arial"/>
            </a:endParaRPr>
          </a:p>
        </p:txBody>
      </p:sp>
      <p:sp>
        <p:nvSpPr>
          <p:cNvPr id="32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Text Box 17"/>
          <p:cNvSpPr/>
          <p:nvPr/>
        </p:nvSpPr>
        <p:spPr>
          <a:xfrm>
            <a:off x="214200" y="785880"/>
            <a:ext cx="8204400" cy="69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haracteristics of culture:</a:t>
            </a:r>
            <a:endParaRPr b="0" lang="en-US" sz="32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an adaptive mechanism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learned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change (Dynamic)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multifaceted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People Usually are not Aware of their culture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We do not Know All of Our Own culture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Give Us a Range of Permissible Behavior Patterns </a:t>
            </a:r>
            <a:endParaRPr b="0" lang="en-US" sz="2400" spc="-1" strike="noStrike">
              <a:solidFill>
                <a:srgbClr val="ffffff"/>
              </a:solidFill>
              <a:latin typeface="Arial"/>
            </a:endParaRPr>
          </a:p>
          <a:p>
            <a:pPr>
              <a:lnSpc>
                <a:spcPct val="100000"/>
              </a:lnSpc>
              <a:spcBef>
                <a:spcPts val="1749"/>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s No Longer Exist in Isolation</a:t>
            </a:r>
            <a:r>
              <a:rPr b="1"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33"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0934-8B41-44A2-A8DA-6FDA54FAFF61}"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42"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Text Box 17"/>
          <p:cNvSpPr/>
          <p:nvPr/>
        </p:nvSpPr>
        <p:spPr>
          <a:xfrm>
            <a:off x="214200" y="1357200"/>
            <a:ext cx="8204400" cy="378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ulture is an adaptive mechanism</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We need our cultural skills to stay alive, to adapt with climate and geographic.</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Example: efficient hunting skills, fire use, and ultimately, clothing, warm housing, agriculture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46"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FE09-B8FE-44EC-B0B1-4D8D8A96BE31}"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4"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5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Text Box 17"/>
          <p:cNvSpPr/>
          <p:nvPr/>
        </p:nvSpPr>
        <p:spPr>
          <a:xfrm>
            <a:off x="214200" y="1357200"/>
            <a:ext cx="8204400" cy="617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Culture is learned</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Every human generation potentially can discover new things and invent better technologies. The new cultural skills and knowledge are added onto what was learned in previous generations. As a result, culture is cumulative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xample: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Most high school students today are now familiar with mathematical insights and solutions that ancient Greeks such as Archimedes struggled their lives to discover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59"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F59B-10E5-49B1-A0C9-6F9DC2B1068B}"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7"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68"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Text Box 17"/>
          <p:cNvSpPr/>
          <p:nvPr/>
        </p:nvSpPr>
        <p:spPr>
          <a:xfrm>
            <a:off x="214200" y="1357200"/>
            <a:ext cx="8204400" cy="3596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3) Culture is change (Dynamic)</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al knowledge does not perpetually accumulate. At the same time that new cultural traits are added, some old ones are lost because they are no longer useful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72"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80A2-C6E6-4CDA-BBEC-E023AA1D0C1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6" name="Group 6"/>
          <p:cNvGrpSpPr/>
          <p:nvPr/>
        </p:nvGrpSpPr>
        <p:grpSpPr>
          <a:xfrm>
            <a:off x="8648640" y="498600"/>
            <a:ext cx="306360" cy="122040"/>
            <a:chOff x="8648640" y="498600"/>
            <a:chExt cx="306360" cy="122040"/>
          </a:xfrm>
        </p:grpSpPr>
        <p:sp>
          <p:nvSpPr>
            <p:cNvPr id="3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0"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8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Text Box 17"/>
          <p:cNvSpPr/>
          <p:nvPr/>
        </p:nvSpPr>
        <p:spPr>
          <a:xfrm>
            <a:off x="214200" y="1357200"/>
            <a:ext cx="8204400" cy="286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4) Culture is multifaceted</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People belong to many different cultural groups at any given time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85"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328A-ADF9-4EDA-8202-41277837615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9" name="Group 6"/>
          <p:cNvGrpSpPr/>
          <p:nvPr/>
        </p:nvGrpSpPr>
        <p:grpSpPr>
          <a:xfrm>
            <a:off x="8648640" y="498600"/>
            <a:ext cx="306360" cy="122040"/>
            <a:chOff x="8648640" y="498600"/>
            <a:chExt cx="306360" cy="122040"/>
          </a:xfrm>
        </p:grpSpPr>
        <p:sp>
          <p:nvSpPr>
            <p:cNvPr id="3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3"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94"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Text Box 17"/>
          <p:cNvSpPr/>
          <p:nvPr/>
        </p:nvSpPr>
        <p:spPr>
          <a:xfrm>
            <a:off x="214200" y="1357200"/>
            <a:ext cx="8204400" cy="688680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5</a:t>
            </a:r>
            <a:r>
              <a:rPr b="1" lang="en-US" sz="2800" spc="-1" strike="noStrike">
                <a:solidFill>
                  <a:srgbClr val="ffffff"/>
                </a:solidFill>
                <a:latin typeface="Comic Sans MS"/>
              </a:rPr>
              <a:t>) People Usually are not Aware of their culture</a:t>
            </a:r>
            <a:endParaRPr b="0" lang="en-US" sz="28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The way that we interact and do things in our everyday lives seems ‘natural’ to us. We are unaware of our culture because we are so close to it and know it so well. For most people, it is as if their learned behavior was biologically inherited. It is usually only when they come into contact with people from another culture that they become aware that their patterns of behavior are not universal </a:t>
            </a:r>
            <a:r>
              <a:rPr b="1" lang="en-US" sz="2400" spc="-1" strike="noStrike">
                <a:solidFill>
                  <a:srgbClr val="ffffff"/>
                </a:solidFill>
                <a:latin typeface="Comic Sans MS"/>
              </a:rPr>
              <a:t> </a:t>
            </a:r>
            <a:endParaRPr b="0" lang="en-US" sz="24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98"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E551-C598-4A4F-A5AA-5860C5978632}"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2" name="Group 6"/>
          <p:cNvGrpSpPr/>
          <p:nvPr/>
        </p:nvGrpSpPr>
        <p:grpSpPr>
          <a:xfrm>
            <a:off x="8648640" y="498600"/>
            <a:ext cx="306360" cy="122040"/>
            <a:chOff x="8648640" y="498600"/>
            <a:chExt cx="306360" cy="122040"/>
          </a:xfrm>
        </p:grpSpPr>
        <p:sp>
          <p:nvSpPr>
            <p:cNvPr id="4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6"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40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Text Box 17"/>
          <p:cNvSpPr/>
          <p:nvPr/>
        </p:nvSpPr>
        <p:spPr>
          <a:xfrm>
            <a:off x="214200" y="1357200"/>
            <a:ext cx="8204400" cy="512532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6) We do not Know All of Our Own culture</a:t>
            </a:r>
            <a:endParaRPr b="0" lang="en-US" sz="24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No one knows everything about his or her own culture. An all societies , there are bodies of specialized cultural knowledge that are gender specific – they are known to men but not to women or vice versa. In many societies there are also bodies of knowledge that are limited largely to particular social classes, occupations, religious groups, or other special purpose associations  </a:t>
            </a:r>
            <a:endParaRPr b="0" lang="en-US" sz="2400" spc="-1" strike="noStrike">
              <a:solidFill>
                <a:srgbClr val="ffffff"/>
              </a:solidFill>
              <a:latin typeface="Arial"/>
            </a:endParaRPr>
          </a:p>
          <a:p>
            <a:pPr marL="250920" indent="-250920">
              <a:lnSpc>
                <a:spcPct val="100000"/>
              </a:lnSpc>
              <a:spcBef>
                <a:spcPts val="20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11"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0D2B-48A4-4FB5-B492-D3C98CB4376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0" name="Rectangle 10"/>
          <p:cNvSpPr/>
          <p:nvPr/>
        </p:nvSpPr>
        <p:spPr>
          <a:xfrm>
            <a:off x="3714840" y="191160"/>
            <a:ext cx="53593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11"/>
          <p:cNvSpPr/>
          <p:nvPr/>
        </p:nvSpPr>
        <p:spPr>
          <a:xfrm>
            <a:off x="6395400" y="571680"/>
            <a:ext cx="2539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Prepared by Suhail ALHumoud</a:t>
            </a:r>
            <a:r>
              <a:rPr b="0" lang="en-US" sz="1200" spc="-1" strike="noStrike">
                <a:solidFill>
                  <a:srgbClr val="ff0000"/>
                </a:solidFill>
                <a:latin typeface="Tempus Sans ITC"/>
                <a:ea typeface="Times New Roman"/>
              </a:rPr>
              <a:t> </a:t>
            </a:r>
            <a:endParaRPr b="0" lang="en-US" sz="1200" spc="-1" strike="noStrike">
              <a:solidFill>
                <a:srgbClr val="ffffff"/>
              </a:solidFill>
              <a:latin typeface="Arial"/>
            </a:endParaRPr>
          </a:p>
        </p:txBody>
      </p:sp>
      <p:sp>
        <p:nvSpPr>
          <p:cNvPr id="1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Text Box 17"/>
          <p:cNvSpPr/>
          <p:nvPr/>
        </p:nvSpPr>
        <p:spPr>
          <a:xfrm>
            <a:off x="214200" y="785880"/>
            <a:ext cx="8204400" cy="523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empus Sans ITC"/>
              </a:rPr>
              <a:t>Objectives</a:t>
            </a:r>
            <a:endParaRPr b="0" lang="en-US" sz="40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empus Sans ITC"/>
              </a:rPr>
              <a:t> </a:t>
            </a:r>
            <a:r>
              <a:rPr b="1" lang="en-US" sz="2800" spc="-1" strike="noStrike">
                <a:solidFill>
                  <a:srgbClr val="ff0000"/>
                </a:solidFill>
                <a:latin typeface="Tempus Sans ITC"/>
              </a:rPr>
              <a:t>After completion the lecture the students enable to:</a:t>
            </a:r>
            <a:endParaRPr b="0" lang="en-US" sz="2800" spc="-1" strike="noStrike">
              <a:solidFill>
                <a:srgbClr val="ffffff"/>
              </a:solidFill>
              <a:latin typeface="Arial"/>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fine culture and other related concept </a:t>
            </a:r>
            <a:endParaRPr b="0" lang="en-US" sz="2400" spc="-1" strike="noStrike">
              <a:solidFill>
                <a:srgbClr val="ffffff"/>
              </a:solidFill>
              <a:latin typeface="Arial"/>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scribe the characteristics of culture</a:t>
            </a:r>
            <a:endParaRPr b="0" lang="en-US" sz="2400" spc="-1" strike="noStrike">
              <a:solidFill>
                <a:srgbClr val="ffffff"/>
              </a:solidFill>
              <a:latin typeface="Arial"/>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trast the terms culture and sub cultur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 </a:t>
            </a:r>
            <a:endParaRPr b="0" lang="en-US" sz="2400" spc="-1" strike="noStrike">
              <a:solidFill>
                <a:srgbClr val="ffffff"/>
              </a:solidFill>
              <a:latin typeface="Arial"/>
            </a:endParaRPr>
          </a:p>
        </p:txBody>
      </p:sp>
      <p:sp>
        <p:nvSpPr>
          <p:cNvPr id="1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A81A-CE4D-4B15-8277-379F5DD4A57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5" name="Group 6"/>
          <p:cNvGrpSpPr/>
          <p:nvPr/>
        </p:nvGrpSpPr>
        <p:grpSpPr>
          <a:xfrm>
            <a:off x="8648640" y="498600"/>
            <a:ext cx="306360" cy="122040"/>
            <a:chOff x="8648640" y="498600"/>
            <a:chExt cx="306360" cy="122040"/>
          </a:xfrm>
        </p:grpSpPr>
        <p:sp>
          <p:nvSpPr>
            <p:cNvPr id="4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420"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Text Box 17"/>
          <p:cNvSpPr/>
          <p:nvPr/>
        </p:nvSpPr>
        <p:spPr>
          <a:xfrm>
            <a:off x="214200" y="1357200"/>
            <a:ext cx="8204400" cy="549108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7) Culture Give Us a Range of Permissible Behavior Patterns</a:t>
            </a:r>
            <a:endParaRPr b="0" lang="en-US" sz="24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s commonly allow a range of ways in which men can be men and women can be women. Culture also tells us how different activities should be conducted, such as how one should act as a husband, wife, parent, child etc. these rules of permissible behavior are usually flexible to degree – there are some alternatives rather than hard rules  </a:t>
            </a:r>
            <a:endParaRPr b="0" lang="en-US" sz="2400" spc="-1" strike="noStrike">
              <a:solidFill>
                <a:srgbClr val="ffffff"/>
              </a:solidFill>
              <a:latin typeface="Arial"/>
            </a:endParaRPr>
          </a:p>
          <a:p>
            <a:pPr marL="250920" indent="-250920">
              <a:lnSpc>
                <a:spcPct val="100000"/>
              </a:lnSpc>
              <a:spcBef>
                <a:spcPts val="20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24"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F5A0-9C44-4CCD-B977-C75F82959596}"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8" name="Group 6"/>
          <p:cNvGrpSpPr/>
          <p:nvPr/>
        </p:nvGrpSpPr>
        <p:grpSpPr>
          <a:xfrm>
            <a:off x="8648640" y="498600"/>
            <a:ext cx="306360" cy="122040"/>
            <a:chOff x="8648640" y="498600"/>
            <a:chExt cx="306360" cy="122040"/>
          </a:xfrm>
        </p:grpSpPr>
        <p:sp>
          <p:nvSpPr>
            <p:cNvPr id="4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43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214200" y="1357200"/>
            <a:ext cx="8204400" cy="396216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8) Cultures No Longer Exist in Isolation</a:t>
            </a:r>
            <a:endParaRPr b="0" lang="en-US" sz="24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It is highly unlikely that are any societies still existing in total isolation from the outside world. Even small, out of the way tribal societies are now being integrated to some extent into the global economy    </a:t>
            </a:r>
            <a:endParaRPr b="0" lang="en-US" sz="24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37"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431A-55C1-4934-9C31-40F67DFE2CB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1" name="Group 6"/>
          <p:cNvGrpSpPr/>
          <p:nvPr/>
        </p:nvGrpSpPr>
        <p:grpSpPr>
          <a:xfrm>
            <a:off x="8648640" y="498600"/>
            <a:ext cx="306360" cy="122040"/>
            <a:chOff x="8648640" y="498600"/>
            <a:chExt cx="306360" cy="122040"/>
          </a:xfrm>
        </p:grpSpPr>
        <p:sp>
          <p:nvSpPr>
            <p:cNvPr id="4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5" name="Rectangle 10"/>
          <p:cNvSpPr/>
          <p:nvPr/>
        </p:nvSpPr>
        <p:spPr>
          <a:xfrm>
            <a:off x="3857760" y="189360"/>
            <a:ext cx="5216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 </a:t>
            </a:r>
            <a:endParaRPr b="0" lang="en-US" sz="1600" spc="-1" strike="noStrike">
              <a:solidFill>
                <a:srgbClr val="ffffff"/>
              </a:solidFill>
              <a:latin typeface="Arial"/>
            </a:endParaRPr>
          </a:p>
        </p:txBody>
      </p:sp>
      <p:sp>
        <p:nvSpPr>
          <p:cNvPr id="446"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Text Box 17"/>
          <p:cNvSpPr/>
          <p:nvPr/>
        </p:nvSpPr>
        <p:spPr>
          <a:xfrm>
            <a:off x="214200" y="857160"/>
            <a:ext cx="8715600" cy="5878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ncultur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The process of transmitting culture through learning</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2) Ethnology:</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The theoretical analysis of cultures and cultural elements through comparison, generalization and hypothesis form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50"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8052-2F4B-40EA-B656-09545EEDABB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5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Text Box 17"/>
          <p:cNvSpPr/>
          <p:nvPr/>
        </p:nvSpPr>
        <p:spPr>
          <a:xfrm>
            <a:off x="214200" y="857160"/>
            <a:ext cx="8715600" cy="4581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 </a:t>
            </a:r>
            <a:r>
              <a:rPr b="1" lang="en-US" sz="2800" spc="-1" strike="noStrike">
                <a:solidFill>
                  <a:srgbClr val="ff0000"/>
                </a:solidFill>
                <a:latin typeface="Comic Sans MS"/>
              </a:rPr>
              <a:t>Ethnography</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The process of recording and describing a culture of a specific people and its traits, patterns, and principles of coherent integr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63"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1B36-6200-4AE0-B60B-CD44E75339F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67" name="Group 6"/>
          <p:cNvGrpSpPr/>
          <p:nvPr/>
        </p:nvGrpSpPr>
        <p:grpSpPr>
          <a:xfrm>
            <a:off x="8648640" y="498600"/>
            <a:ext cx="306360" cy="122040"/>
            <a:chOff x="8648640" y="498600"/>
            <a:chExt cx="306360" cy="122040"/>
          </a:xfrm>
        </p:grpSpPr>
        <p:sp>
          <p:nvSpPr>
            <p:cNvPr id="4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1"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72"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Text Box 17"/>
          <p:cNvSpPr/>
          <p:nvPr/>
        </p:nvSpPr>
        <p:spPr>
          <a:xfrm>
            <a:off x="214200" y="857160"/>
            <a:ext cx="8715600" cy="56386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 </a:t>
            </a:r>
            <a:r>
              <a:rPr b="1" lang="en-US" sz="2800" spc="-1" strike="noStrike">
                <a:solidFill>
                  <a:srgbClr val="ff0000"/>
                </a:solidFill>
                <a:latin typeface="Comic Sans MS"/>
              </a:rPr>
              <a:t>Ethnography for nurses </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Is the study of culture. The methodological approach of ethnographic research central to the nurse’s ability to develop a heightened awareness of culturally diverse needs of individuals, is to define a field for observation for study of the environment and its people, as well as the reciprocal relationship that exist between the two  </a:t>
            </a: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76"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EADF-0011-400F-B5E1-E95C6AE07CF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8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Text Box 17"/>
          <p:cNvSpPr/>
          <p:nvPr/>
        </p:nvSpPr>
        <p:spPr>
          <a:xfrm>
            <a:off x="214200" y="857160"/>
            <a:ext cx="8715600" cy="65095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0000"/>
                </a:solidFill>
                <a:latin typeface="Comic Sans MS"/>
              </a:rPr>
              <a:t>(4) Holism </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A position that maintains that individual culture elements must be understood in terms of how they are articulated to other elements and cannot be understood in isol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0000"/>
                </a:solidFill>
                <a:latin typeface="Comic Sans MS"/>
              </a:rPr>
              <a:t>(5) symbol:</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an expression that stands for or represents something else, usually a real world condition     </a:t>
            </a: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89"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358C-5CF9-465D-B964-63F80C48F057}"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Group 6"/>
          <p:cNvGrpSpPr/>
          <p:nvPr/>
        </p:nvGrpSpPr>
        <p:grpSpPr>
          <a:xfrm>
            <a:off x="8648640" y="498600"/>
            <a:ext cx="306360" cy="122040"/>
            <a:chOff x="8648640" y="498600"/>
            <a:chExt cx="306360" cy="122040"/>
          </a:xfrm>
        </p:grpSpPr>
        <p:sp>
          <p:nvSpPr>
            <p:cNvPr id="4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7"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98"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Text Box 17"/>
          <p:cNvSpPr/>
          <p:nvPr/>
        </p:nvSpPr>
        <p:spPr>
          <a:xfrm>
            <a:off x="214200" y="857160"/>
            <a:ext cx="8715600" cy="3097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6) World View:</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Basic philosophical and ethical orientation that provides the basis for a people to organize their perceptions of their natural and social surroundings  </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02"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7F1B-118B-4D38-8CFE-FB1B54480CB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6" name="Group 6"/>
          <p:cNvGrpSpPr/>
          <p:nvPr/>
        </p:nvGrpSpPr>
        <p:grpSpPr>
          <a:xfrm>
            <a:off x="8648640" y="498600"/>
            <a:ext cx="306360" cy="122040"/>
            <a:chOff x="8648640" y="498600"/>
            <a:chExt cx="306360" cy="122040"/>
          </a:xfrm>
        </p:grpSpPr>
        <p:sp>
          <p:nvSpPr>
            <p:cNvPr id="5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0"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1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Text Box 17"/>
          <p:cNvSpPr/>
          <p:nvPr/>
        </p:nvSpPr>
        <p:spPr>
          <a:xfrm>
            <a:off x="214200" y="857160"/>
            <a:ext cx="8715600" cy="4755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6) </a:t>
            </a:r>
            <a:r>
              <a:rPr b="0" lang="en-US" sz="3200" spc="-1" strike="noStrike">
                <a:solidFill>
                  <a:srgbClr val="ff0000"/>
                </a:solidFill>
                <a:latin typeface="Arial"/>
              </a:rPr>
              <a:t>Ethnocentrism</a:t>
            </a:r>
            <a:endParaRPr b="0" lang="en-US" sz="3200" spc="-1" strike="noStrike">
              <a:solidFill>
                <a:srgbClr val="ffffff"/>
              </a:solidFill>
              <a:latin typeface="Arial"/>
            </a:endParaRPr>
          </a:p>
          <a:p>
            <a:pPr marL="514440" indent="-514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s the belief that ones own cultural practices and values are inherently correct or superior to those of others.</a:t>
            </a:r>
            <a:endParaRPr b="0" lang="en-US" sz="3200" spc="-1" strike="noStrike">
              <a:solidFill>
                <a:srgbClr val="ffffff"/>
              </a:solidFill>
              <a:latin typeface="Arial"/>
            </a:endParaRPr>
          </a:p>
          <a:p>
            <a:pPr marL="514440" indent="-514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ractice of interpreting and judging other cultures by the values of one’s own </a:t>
            </a:r>
            <a:endParaRPr b="0" lang="en-US" sz="3200" spc="-1" strike="noStrike">
              <a:solidFill>
                <a:srgbClr val="ffffff"/>
              </a:solidFill>
              <a:latin typeface="Arial"/>
            </a:endParaRPr>
          </a:p>
          <a:p>
            <a:pPr marL="514440" indent="-514440">
              <a:lnSpc>
                <a:spcPct val="100000"/>
              </a:lnSpc>
              <a:spcBef>
                <a:spcPts val="20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Ethnocentric attitude can lead to the following problems</a:t>
            </a:r>
            <a:endParaRPr b="0" lang="en-US" sz="3200" spc="-1" strike="noStrike">
              <a:solidFill>
                <a:srgbClr val="ffffff"/>
              </a:solidFill>
              <a:latin typeface="Arial"/>
            </a:endParaRPr>
          </a:p>
        </p:txBody>
      </p:sp>
      <p:sp>
        <p:nvSpPr>
          <p:cNvPr id="5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15"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3F77-80A2-46DC-92FC-E3377ABE76B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3"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24"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Text Box 17"/>
          <p:cNvSpPr/>
          <p:nvPr/>
        </p:nvSpPr>
        <p:spPr>
          <a:xfrm>
            <a:off x="214200" y="857160"/>
            <a:ext cx="8715600" cy="496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Prejudice</a:t>
            </a:r>
            <a:r>
              <a:rPr b="0" lang="en-US" sz="3200" spc="-1" strike="noStrike">
                <a:solidFill>
                  <a:srgbClr val="ffffff"/>
                </a:solidFill>
                <a:latin typeface="Comic Sans MS"/>
              </a:rPr>
              <a:t>: Negative preconceived opinions about others people or groups based on hearsay, perception, or emotion.</a:t>
            </a:r>
            <a:endParaRPr b="0" lang="en-US" sz="32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a:t>
            </a:r>
            <a:r>
              <a:rPr b="0" lang="en-US" sz="3200" spc="-1" strike="noStrike">
                <a:solidFill>
                  <a:srgbClr val="ff33cc"/>
                </a:solidFill>
                <a:latin typeface="Comic Sans MS"/>
              </a:rPr>
              <a:t>Stereotyping</a:t>
            </a:r>
            <a:r>
              <a:rPr b="0" lang="en-US" sz="3200" spc="-1" strike="noStrike">
                <a:solidFill>
                  <a:srgbClr val="ffffff"/>
                </a:solidFill>
                <a:latin typeface="Comic Sans MS"/>
              </a:rPr>
              <a:t>: Believing that one member of a cultural group will display certain behaviors or hold certain attitudes (usually negative) simply because he or she is a member of that cultural group).</a:t>
            </a:r>
            <a:endParaRPr b="0" lang="en-US" sz="3200" spc="-1" strike="noStrike">
              <a:solidFill>
                <a:srgbClr val="ffffff"/>
              </a:solidFill>
              <a:latin typeface="Arial"/>
            </a:endParaRPr>
          </a:p>
        </p:txBody>
      </p:sp>
      <p:sp>
        <p:nvSpPr>
          <p:cNvPr id="5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28"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9E0B-4BA5-4D49-BD19-10E714034C1D}"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2" name="Group 6"/>
          <p:cNvGrpSpPr/>
          <p:nvPr/>
        </p:nvGrpSpPr>
        <p:grpSpPr>
          <a:xfrm>
            <a:off x="8648640" y="498600"/>
            <a:ext cx="306360" cy="122040"/>
            <a:chOff x="8648640" y="498600"/>
            <a:chExt cx="306360" cy="122040"/>
          </a:xfrm>
        </p:grpSpPr>
        <p:sp>
          <p:nvSpPr>
            <p:cNvPr id="5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3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Text Box 17"/>
          <p:cNvSpPr/>
          <p:nvPr/>
        </p:nvSpPr>
        <p:spPr>
          <a:xfrm>
            <a:off x="214200" y="857160"/>
            <a:ext cx="87156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a:solidFill>
                  <a:srgbClr val="ff33cc"/>
                </a:solidFill>
                <a:latin typeface="Comic Sans MS"/>
              </a:rPr>
              <a:t>Discrimination:</a:t>
            </a:r>
            <a:r>
              <a:rPr b="0" lang="en-US" sz="3200" spc="-1" strike="noStrike">
                <a:solidFill>
                  <a:srgbClr val="ffffff"/>
                </a:solidFill>
                <a:latin typeface="Comic Sans MS"/>
              </a:rPr>
              <a:t> Differential treatmen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based on race , class, sex, or othe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variables rather than on individual meri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a:t>
            </a:r>
            <a:r>
              <a:rPr b="0" lang="en-US" sz="3200" spc="-1" strike="noStrike">
                <a:solidFill>
                  <a:srgbClr val="ff33cc"/>
                </a:solidFill>
                <a:latin typeface="Comic Sans MS"/>
              </a:rPr>
              <a:t>Stigmatization: </a:t>
            </a:r>
            <a:r>
              <a:rPr b="0" lang="en-US" sz="3200" spc="-1" strike="noStrike">
                <a:solidFill>
                  <a:srgbClr val="ffffff"/>
                </a:solidFill>
                <a:latin typeface="Comic Sans MS"/>
              </a:rPr>
              <a:t>the attribution of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egative characteristics or identify t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one person or group, causing the person o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group to feel rejected and , alienated,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from societ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3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41"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6041-1206-441E-A646-7D8CEF0F3A89}"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Rectangle 10"/>
          <p:cNvSpPr/>
          <p:nvPr/>
        </p:nvSpPr>
        <p:spPr>
          <a:xfrm>
            <a:off x="3714840" y="191160"/>
            <a:ext cx="53593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11"/>
          <p:cNvSpPr/>
          <p:nvPr/>
        </p:nvSpPr>
        <p:spPr>
          <a:xfrm>
            <a:off x="63295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empus Sans ITC"/>
                <a:ea typeface="Times New Roman"/>
              </a:rPr>
              <a:t>Prepared by Suhail ALHumoud </a:t>
            </a:r>
            <a:endParaRPr b="0" lang="en-US" sz="1200" spc="-1" strike="noStrike">
              <a:solidFill>
                <a:srgbClr val="ffffff"/>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Text Box 17"/>
          <p:cNvSpPr/>
          <p:nvPr/>
        </p:nvSpPr>
        <p:spPr>
          <a:xfrm>
            <a:off x="214200" y="785880"/>
            <a:ext cx="8204400" cy="73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empus Sans ITC"/>
              </a:rPr>
              <a:t>Key point</a:t>
            </a:r>
            <a:r>
              <a:rPr b="1" lang="en-US" sz="2800" spc="-1" strike="noStrike">
                <a:solidFill>
                  <a:srgbClr val="ff0000"/>
                </a:solidFill>
                <a:latin typeface="Tempus Sans ITC"/>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ultural aspects of human behavior are not biologically based or conditioned but are acquired solely through learni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  Cultural conditioning of behavior is ultimately accomplished through habituation and thus acts through unconscious processes rather than rational deliberation, although secondary rationalizations are often offered to explain cultural value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E921-0393-4256-924B-67B10CEFFD52}"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5" name="Group 6"/>
          <p:cNvGrpSpPr/>
          <p:nvPr/>
        </p:nvGrpSpPr>
        <p:grpSpPr>
          <a:xfrm>
            <a:off x="8648640" y="498600"/>
            <a:ext cx="306360" cy="122040"/>
            <a:chOff x="8648640" y="498600"/>
            <a:chExt cx="306360" cy="122040"/>
          </a:xfrm>
        </p:grpSpPr>
        <p:sp>
          <p:nvSpPr>
            <p:cNvPr id="5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9"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50"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Text Box 17"/>
          <p:cNvSpPr/>
          <p:nvPr/>
        </p:nvSpPr>
        <p:spPr>
          <a:xfrm>
            <a:off x="857160" y="1714680"/>
            <a:ext cx="7215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Values, norms, beliefs, tradition and taboos: All together these terms are constitute the essential elements of the non-material dimension of cultur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54"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D246-0682-4E75-BABD-FCBBAD9B415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8" name="Group 6"/>
          <p:cNvGrpSpPr/>
          <p:nvPr/>
        </p:nvGrpSpPr>
        <p:grpSpPr>
          <a:xfrm>
            <a:off x="8648640" y="498600"/>
            <a:ext cx="306360" cy="122040"/>
            <a:chOff x="8648640" y="498600"/>
            <a:chExt cx="306360" cy="122040"/>
          </a:xfrm>
        </p:grpSpPr>
        <p:sp>
          <p:nvSpPr>
            <p:cNvPr id="5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2"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6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Text Box 17"/>
          <p:cNvSpPr/>
          <p:nvPr/>
        </p:nvSpPr>
        <p:spPr>
          <a:xfrm>
            <a:off x="395280" y="928800"/>
            <a:ext cx="853452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Values:</a:t>
            </a:r>
            <a:r>
              <a:rPr b="0" lang="en-US" sz="3600" spc="-1" strike="noStrike">
                <a:solidFill>
                  <a:srgbClr val="ffffff"/>
                </a:solidFill>
                <a:latin typeface="Comic Sans MS"/>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se are intrinsic beliefs or ideals about desirable conduct, custom, and other entities. As such they provide the basis fro each persons attitudes and behaviors and they assist in establishing hierarchic of needs and goals value orientations can be defined as principles that assist in the solution of common human problems.</a:t>
            </a:r>
            <a:endParaRPr b="0" lang="en-US" sz="3200" spc="-1" strike="noStrike">
              <a:solidFill>
                <a:srgbClr val="ffffff"/>
              </a:solidFill>
              <a:latin typeface="Arial"/>
            </a:endParaRPr>
          </a:p>
        </p:txBody>
      </p:sp>
      <p:sp>
        <p:nvSpPr>
          <p:cNvPr id="56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6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4EF6-F02F-40D0-B1E0-6633E8EF9BD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0" name="Group 6"/>
          <p:cNvGrpSpPr/>
          <p:nvPr/>
        </p:nvGrpSpPr>
        <p:grpSpPr>
          <a:xfrm>
            <a:off x="8648640" y="498600"/>
            <a:ext cx="306360" cy="122040"/>
            <a:chOff x="8648640" y="498600"/>
            <a:chExt cx="306360" cy="122040"/>
          </a:xfrm>
        </p:grpSpPr>
        <p:sp>
          <p:nvSpPr>
            <p:cNvPr id="5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7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Text Box 17"/>
          <p:cNvSpPr/>
          <p:nvPr/>
        </p:nvSpPr>
        <p:spPr>
          <a:xfrm>
            <a:off x="900000" y="928800"/>
            <a:ext cx="8029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alues:</a:t>
            </a:r>
            <a:r>
              <a:rPr b="0" lang="en-US" sz="3200" spc="-1" strike="noStrike">
                <a:solidFill>
                  <a:srgbClr val="ffffff"/>
                </a:solidFill>
                <a:latin typeface="Comic Sans MS"/>
              </a:rPr>
              <a:t> </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re are three different value orientations toward tim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Past ori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Present ori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Future ori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7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9A32-F58F-4510-9B54-6A04B382020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2" name="Group 6"/>
          <p:cNvGrpSpPr/>
          <p:nvPr/>
        </p:nvGrpSpPr>
        <p:grpSpPr>
          <a:xfrm>
            <a:off x="8648640" y="498600"/>
            <a:ext cx="306360" cy="122040"/>
            <a:chOff x="8648640" y="498600"/>
            <a:chExt cx="306360" cy="122040"/>
          </a:xfrm>
        </p:grpSpPr>
        <p:sp>
          <p:nvSpPr>
            <p:cNvPr id="5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6"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8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Text Box 17"/>
          <p:cNvSpPr/>
          <p:nvPr/>
        </p:nvSpPr>
        <p:spPr>
          <a:xfrm>
            <a:off x="539640" y="928800"/>
            <a:ext cx="8390160" cy="582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alues:</a:t>
            </a:r>
            <a:r>
              <a:rPr b="0" lang="en-US" sz="3200" spc="-1" strike="noStrike">
                <a:solidFill>
                  <a:srgbClr val="ffffff"/>
                </a:solidFill>
                <a:latin typeface="Comic Sans MS"/>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r example some people value punctuality and clock time, others value flexibility and lived time. A nurse who adheres to fixed schedules fro appointments, baths, meals and sleep may find conflict with a client who has a flexible time orientation. It is important not to assume that client shared the nurses value orientation. It is important not to assume that client share the nurses values orientation or that the nurses are inherently bet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9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9EB6-EA57-4AE6-AFE6-F3008433E6F2}"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4" name="Group 6"/>
          <p:cNvGrpSpPr/>
          <p:nvPr/>
        </p:nvGrpSpPr>
        <p:grpSpPr>
          <a:xfrm>
            <a:off x="8648640" y="498600"/>
            <a:ext cx="306360" cy="122040"/>
            <a:chOff x="8648640" y="498600"/>
            <a:chExt cx="306360" cy="122040"/>
          </a:xfrm>
        </p:grpSpPr>
        <p:sp>
          <p:nvSpPr>
            <p:cNvPr id="5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8"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9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Text Box 17"/>
          <p:cNvSpPr/>
          <p:nvPr/>
        </p:nvSpPr>
        <p:spPr>
          <a:xfrm>
            <a:off x="0" y="928800"/>
            <a:ext cx="9144000" cy="576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liefs:</a:t>
            </a:r>
            <a:r>
              <a:rPr b="0" lang="en-US" sz="2800" spc="-1" strike="noStrike">
                <a:solidFill>
                  <a:srgbClr val="ffffff"/>
                </a:solidFill>
                <a:latin typeface="Comic Sans MS"/>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t is conviction based on information held by people fro whish no socially acceptable means of validity exist, it is a conviction that is mentally accepted as true whether or not it based on fac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0000"/>
                </a:solidFill>
                <a:latin typeface="Comic Sans MS"/>
              </a:rPr>
              <a:t>Norms</a:t>
            </a:r>
            <a:r>
              <a:rPr b="0" lang="en-US" sz="2800" spc="-1" strike="noStrike">
                <a:solidFill>
                  <a:srgbClr val="ffffff"/>
                </a:solidFill>
                <a:latin typeface="Comic Sans MS"/>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they are expected behavior. They provide rul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about standards of appropriate behavior i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articular situations. Norms flow from cultura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values about what is important in various situ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02"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7FCF-BCB8-4299-9A22-074534B6A93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6" name="Group 6"/>
          <p:cNvGrpSpPr/>
          <p:nvPr/>
        </p:nvGrpSpPr>
        <p:grpSpPr>
          <a:xfrm>
            <a:off x="8648640" y="498600"/>
            <a:ext cx="306360" cy="122040"/>
            <a:chOff x="8648640" y="498600"/>
            <a:chExt cx="306360" cy="122040"/>
          </a:xfrm>
        </p:grpSpPr>
        <p:sp>
          <p:nvSpPr>
            <p:cNvPr id="6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0"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1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Text Box 17"/>
          <p:cNvSpPr/>
          <p:nvPr/>
        </p:nvSpPr>
        <p:spPr>
          <a:xfrm>
            <a:off x="0" y="928800"/>
            <a:ext cx="9144000" cy="545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radition</a:t>
            </a:r>
            <a:r>
              <a:rPr b="0" lang="en-US" sz="3200" spc="-1" strike="noStrike">
                <a:solidFill>
                  <a:srgbClr val="ffffff"/>
                </a:solidFill>
                <a:latin typeface="Comic Sans MS"/>
              </a:rPr>
              <a:t>: </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cient ethno-cultural-religious, belief and practices handed down through generations</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aboo:</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y are proscribes act and thoughts to avoid actual or potential harm to self and other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14"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3833-B617-4A8A-A2DE-9AFFBBF0C990}"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8" name="Group 6"/>
          <p:cNvGrpSpPr/>
          <p:nvPr/>
        </p:nvGrpSpPr>
        <p:grpSpPr>
          <a:xfrm>
            <a:off x="8648640" y="498600"/>
            <a:ext cx="306360" cy="122040"/>
            <a:chOff x="8648640" y="498600"/>
            <a:chExt cx="306360" cy="122040"/>
          </a:xfrm>
        </p:grpSpPr>
        <p:sp>
          <p:nvSpPr>
            <p:cNvPr id="6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22"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2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17"/>
          <p:cNvSpPr/>
          <p:nvPr/>
        </p:nvSpPr>
        <p:spPr>
          <a:xfrm>
            <a:off x="214200" y="928800"/>
            <a:ext cx="864396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knowledge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nowledge  that appertains to one particular , several or many cultur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discove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term used in reference to the discovery of cultural information that provides nurses for example , with insight into , and understanding of , a given culture or various cultur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2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8F67-4433-4608-97B6-85E5601CBF22}"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0" name="Group 6"/>
          <p:cNvGrpSpPr/>
          <p:nvPr/>
        </p:nvGrpSpPr>
        <p:grpSpPr>
          <a:xfrm>
            <a:off x="8648640" y="498600"/>
            <a:ext cx="306360" cy="122040"/>
            <a:chOff x="8648640" y="498600"/>
            <a:chExt cx="306360" cy="122040"/>
          </a:xfrm>
        </p:grpSpPr>
        <p:sp>
          <p:nvSpPr>
            <p:cNvPr id="6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3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Text Box 17"/>
          <p:cNvSpPr/>
          <p:nvPr/>
        </p:nvSpPr>
        <p:spPr>
          <a:xfrm>
            <a:off x="571680" y="928800"/>
            <a:ext cx="764352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imposi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ndency of an individual or cultural group to impose their beliefs, values, and patterns of behavior upon another culture for varied reasons e.g religious, economical,  political, and social</a:t>
            </a:r>
            <a:r>
              <a:rPr b="0" lang="en-US" sz="2800" spc="-1" strike="noStrike">
                <a:solidFill>
                  <a:srgbClr val="ffffff"/>
                </a:solidFill>
                <a:latin typeface="Arial"/>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3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416C-3260-4161-9ED3-53F5195F98FD}"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2" name="Group 6"/>
          <p:cNvGrpSpPr/>
          <p:nvPr/>
        </p:nvGrpSpPr>
        <p:grpSpPr>
          <a:xfrm>
            <a:off x="8648640" y="498600"/>
            <a:ext cx="306360" cy="122040"/>
            <a:chOff x="8648640" y="498600"/>
            <a:chExt cx="306360" cy="122040"/>
          </a:xfrm>
        </p:grpSpPr>
        <p:sp>
          <p:nvSpPr>
            <p:cNvPr id="6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6"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4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Text Box 17"/>
          <p:cNvSpPr/>
          <p:nvPr/>
        </p:nvSpPr>
        <p:spPr>
          <a:xfrm>
            <a:off x="571680" y="928800"/>
            <a:ext cx="764352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e shoc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Relates to an abrupt transition from a familiar to an alien environment and involves many major and minor differences in life styles and events.( when we move to live among members of an ethnic group dissimilar to our ow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5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A91E-B15E-4925-80F2-84555D325A5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4" name="Group 6"/>
          <p:cNvGrpSpPr/>
          <p:nvPr/>
        </p:nvGrpSpPr>
        <p:grpSpPr>
          <a:xfrm>
            <a:off x="8648640" y="498600"/>
            <a:ext cx="306360" cy="122040"/>
            <a:chOff x="8648640" y="498600"/>
            <a:chExt cx="306360" cy="122040"/>
          </a:xfrm>
        </p:grpSpPr>
        <p:sp>
          <p:nvSpPr>
            <p:cNvPr id="6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8"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5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Text Box 17"/>
          <p:cNvSpPr/>
          <p:nvPr/>
        </p:nvSpPr>
        <p:spPr>
          <a:xfrm>
            <a:off x="571680" y="928800"/>
            <a:ext cx="8358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tercultural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s used to describe situations, relationships and practice in which the client and the nurse are of different cultural traditions; at times both may be from a different ethnic minority group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tracultura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s used when the client and the nurse are of the same cultural tradi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62"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EF36-779D-4E40-B65D-E65CB5F767E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2" name="Group 6"/>
          <p:cNvGrpSpPr/>
          <p:nvPr/>
        </p:nvGrpSpPr>
        <p:grpSpPr>
          <a:xfrm>
            <a:off x="8648640" y="498600"/>
            <a:ext cx="306360" cy="122040"/>
            <a:chOff x="8648640" y="498600"/>
            <a:chExt cx="306360" cy="122040"/>
          </a:xfrm>
        </p:grpSpPr>
        <p:sp>
          <p:nvSpPr>
            <p:cNvPr id="2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Rectangle 10"/>
          <p:cNvSpPr/>
          <p:nvPr/>
        </p:nvSpPr>
        <p:spPr>
          <a:xfrm>
            <a:off x="3714840" y="144720"/>
            <a:ext cx="5429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Text Box 17"/>
          <p:cNvSpPr/>
          <p:nvPr/>
        </p:nvSpPr>
        <p:spPr>
          <a:xfrm>
            <a:off x="214200" y="785880"/>
            <a:ext cx="8204400" cy="69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empus Sans ITC"/>
              </a:rPr>
              <a:t>Key point: ……. Co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ffffff"/>
                </a:solidFill>
                <a:latin typeface="Comic Sans MS"/>
              </a:rPr>
              <a:t>All cultures are equally developed according to their own priorities and values; none is better, more advanced, or less primitive than any othe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4.  Cultural traits cannot be classified or interpreted according to universal categories appropriate to "human nature". They assume meaning only within the context of coherently interrelated elements internal to the particular culture under considera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E7B3-DBEB-4337-9895-0823418656D9}"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6" name="Group 6"/>
          <p:cNvGrpSpPr/>
          <p:nvPr/>
        </p:nvGrpSpPr>
        <p:grpSpPr>
          <a:xfrm>
            <a:off x="8648640" y="498600"/>
            <a:ext cx="306360" cy="122040"/>
            <a:chOff x="8648640" y="498600"/>
            <a:chExt cx="306360" cy="122040"/>
          </a:xfrm>
        </p:grpSpPr>
        <p:sp>
          <p:nvSpPr>
            <p:cNvPr id="6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0"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7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Text Box 17"/>
          <p:cNvSpPr/>
          <p:nvPr/>
        </p:nvSpPr>
        <p:spPr>
          <a:xfrm>
            <a:off x="571680" y="928800"/>
            <a:ext cx="835812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ranscultural </a:t>
            </a: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mplying the presence of, or in reference to, more than one culture, but also as denoting the existence of an affirmative desire to bridge and transcend cultural differences within the nurse – client  relationship.</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74"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2F05-1D7C-4648-869B-73B4FC7184B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8" name="Group 6"/>
          <p:cNvGrpSpPr/>
          <p:nvPr/>
        </p:nvGrpSpPr>
        <p:grpSpPr>
          <a:xfrm>
            <a:off x="8648640" y="498600"/>
            <a:ext cx="306360" cy="122040"/>
            <a:chOff x="8648640" y="498600"/>
            <a:chExt cx="306360" cy="122040"/>
          </a:xfrm>
        </p:grpSpPr>
        <p:sp>
          <p:nvSpPr>
            <p:cNvPr id="6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2"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8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Text Box 17"/>
          <p:cNvSpPr/>
          <p:nvPr/>
        </p:nvSpPr>
        <p:spPr>
          <a:xfrm>
            <a:off x="571680" y="928800"/>
            <a:ext cx="835812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ub cultur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mic Sans MS"/>
              </a:rPr>
              <a:t>A group that deviates in certain areas or features with respect to values, beliefs, and behavior from that of a dominant or parent culture with which they are perceived or known to be closely identified in daily lif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8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4655-56D2-4A0A-BB2B-A7F2406DAC6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0" name="Group 6"/>
          <p:cNvGrpSpPr/>
          <p:nvPr/>
        </p:nvGrpSpPr>
        <p:grpSpPr>
          <a:xfrm>
            <a:off x="8648640" y="498600"/>
            <a:ext cx="306360" cy="122040"/>
            <a:chOff x="8648640" y="498600"/>
            <a:chExt cx="306360" cy="122040"/>
          </a:xfrm>
        </p:grpSpPr>
        <p:sp>
          <p:nvSpPr>
            <p:cNvPr id="6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9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Text Box 17"/>
          <p:cNvSpPr/>
          <p:nvPr/>
        </p:nvSpPr>
        <p:spPr>
          <a:xfrm>
            <a:off x="571680" y="928800"/>
            <a:ext cx="835812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Relativis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mic Sans MS"/>
              </a:rPr>
              <a:t>the practice of interpreting and judging other cultures in terms of their own internal meaning and value system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9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CC82-72F8-4CB2-BD3A-90837B912FA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6"/>
          <p:cNvGrpSpPr/>
          <p:nvPr/>
        </p:nvGrpSpPr>
        <p:grpSpPr>
          <a:xfrm>
            <a:off x="8648640" y="498600"/>
            <a:ext cx="306360" cy="122040"/>
            <a:chOff x="8648640" y="498600"/>
            <a:chExt cx="306360" cy="122040"/>
          </a:xfrm>
        </p:grpSpPr>
        <p:sp>
          <p:nvSpPr>
            <p:cNvPr id="2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Rectangle 10"/>
          <p:cNvSpPr/>
          <p:nvPr/>
        </p:nvSpPr>
        <p:spPr>
          <a:xfrm>
            <a:off x="3714840" y="190800"/>
            <a:ext cx="5359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17"/>
          <p:cNvSpPr/>
          <p:nvPr/>
        </p:nvSpPr>
        <p:spPr>
          <a:xfrm>
            <a:off x="214200" y="785880"/>
            <a:ext cx="8929800" cy="74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Definition of Culture: </a:t>
            </a:r>
            <a:endParaRPr b="0" lang="en-US" sz="40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he system of shared beliefs, values, customs, behaviors, and artifacts that the members of society use to cope with their world and with one another, and that are transmitted from generation to generation through learning</a:t>
            </a:r>
            <a:endParaRPr b="0"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empus Sans ITC"/>
              </a:rPr>
              <a:t> </a:t>
            </a:r>
            <a:endParaRPr b="0" lang="en-US" sz="40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 </a:t>
            </a:r>
            <a:endParaRPr b="0" lang="en-US" sz="2400" spc="-1" strike="noStrike">
              <a:solidFill>
                <a:srgbClr val="ffffff"/>
              </a:solidFill>
              <a:latin typeface="Arial"/>
            </a:endParaRPr>
          </a:p>
        </p:txBody>
      </p:sp>
      <p:sp>
        <p:nvSpPr>
          <p:cNvPr id="2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Rectangle 13"/>
          <p:cNvSpPr/>
          <p:nvPr/>
        </p:nvSpPr>
        <p:spPr>
          <a:xfrm>
            <a:off x="2714760" y="6286680"/>
            <a:ext cx="6215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233"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4CF8-23BC-4D3C-AE45-7D7E16D1BC88}"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1"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2" name="Rectangle 11"/>
          <p:cNvSpPr/>
          <p:nvPr/>
        </p:nvSpPr>
        <p:spPr>
          <a:xfrm>
            <a:off x="63295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empus Sans ITC"/>
                <a:ea typeface="Times New Roman"/>
              </a:rPr>
              <a:t>Prepared by Suhail ALHumoud </a:t>
            </a:r>
            <a:endParaRPr b="0" lang="en-US" sz="1200" spc="-1" strike="noStrike">
              <a:solidFill>
                <a:srgbClr val="ffffff"/>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7"/>
          <p:cNvSpPr/>
          <p:nvPr/>
        </p:nvSpPr>
        <p:spPr>
          <a:xfrm>
            <a:off x="826920" y="1413000"/>
            <a:ext cx="759168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is is a complex definition and points to four important characteristics stressed by cultural relativists</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2C6B-F50F-4F05-8313-7AC80D0972C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0" name="Group 6"/>
          <p:cNvGrpSpPr/>
          <p:nvPr/>
        </p:nvGrpSpPr>
        <p:grpSpPr>
          <a:xfrm>
            <a:off x="8648640" y="498600"/>
            <a:ext cx="306360" cy="122040"/>
            <a:chOff x="8648640" y="498600"/>
            <a:chExt cx="306360" cy="122040"/>
          </a:xfrm>
        </p:grpSpPr>
        <p:sp>
          <p:nvSpPr>
            <p:cNvPr id="2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4"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5" name="Rectangle 11"/>
          <p:cNvSpPr/>
          <p:nvPr/>
        </p:nvSpPr>
        <p:spPr>
          <a:xfrm>
            <a:off x="63295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empus Sans ITC"/>
                <a:ea typeface="Times New Roman"/>
              </a:rPr>
              <a:t>Prepared by Suhail ALHumoud </a:t>
            </a:r>
            <a:endParaRPr b="0" lang="en-US" sz="1200" spc="-1" strike="noStrike">
              <a:solidFill>
                <a:srgbClr val="ffffff"/>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17"/>
          <p:cNvSpPr/>
          <p:nvPr/>
        </p:nvSpPr>
        <p:spPr>
          <a:xfrm>
            <a:off x="971640" y="1197000"/>
            <a:ext cx="744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efers to the beliefs, values, and behavior that are shared by members of a society and provide a design or map for living.</a:t>
            </a: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t is a culture that tells people what is acceptable or unacceptable also it is the integration of human behaviors(which include thoughts, communication, actions, customs, beliefs, values, and institutions) of a racial, ethnic, religious, or social group.</a:t>
            </a:r>
            <a:endParaRPr b="0" lang="en-US" sz="2800" spc="-1" strike="noStrike">
              <a:solidFill>
                <a:srgbClr val="ffffff"/>
              </a:solidFill>
              <a:latin typeface="Arial"/>
            </a:endParaRPr>
          </a:p>
        </p:txBody>
      </p:sp>
      <p:sp>
        <p:nvSpPr>
          <p:cNvPr id="2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06F6-1D7C-47AC-B59F-A9C76024E71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3" name="Group 6"/>
          <p:cNvGrpSpPr/>
          <p:nvPr/>
        </p:nvGrpSpPr>
        <p:grpSpPr>
          <a:xfrm>
            <a:off x="8648640" y="498600"/>
            <a:ext cx="306360" cy="122040"/>
            <a:chOff x="8648640" y="498600"/>
            <a:chExt cx="306360" cy="122040"/>
          </a:xfrm>
        </p:grpSpPr>
        <p:sp>
          <p:nvSpPr>
            <p:cNvPr id="2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7"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Comic Sans MS"/>
                <a:ea typeface="Times New Roman"/>
              </a:rPr>
              <a:t>Nur 471: Socio-cultural Variation in Heal</a:t>
            </a:r>
            <a:r>
              <a:rPr b="0" lang="en-US" sz="1600" spc="-1" strike="noStrike">
                <a:solidFill>
                  <a:srgbClr val="000099"/>
                </a:solidFill>
                <a:latin typeface="Tempus Sans ITC"/>
                <a:ea typeface="Times New Roman"/>
              </a:rPr>
              <a:t>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Text Box 17"/>
          <p:cNvSpPr/>
          <p:nvPr/>
        </p:nvSpPr>
        <p:spPr>
          <a:xfrm>
            <a:off x="755640" y="785880"/>
            <a:ext cx="76629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ulture represents the vast structure of ideas, attitude, and habits, languages, rituals, ceremonies, and practices peculiar to a particular group of peop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ulture also provides people with a general design for living and patterns by which to interpret reality.</a:t>
            </a:r>
            <a:endParaRPr b="0" lang="en-US" sz="3200" spc="-1" strike="noStrike">
              <a:solidFill>
                <a:srgbClr val="ffffff"/>
              </a:solidFill>
              <a:latin typeface="Arial"/>
            </a:endParaRPr>
          </a:p>
        </p:txBody>
      </p:sp>
      <p:sp>
        <p:nvSpPr>
          <p:cNvPr id="2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5342-8594-471D-8A50-B7B1AB99D64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5" name="Group 6"/>
          <p:cNvGrpSpPr/>
          <p:nvPr/>
        </p:nvGrpSpPr>
        <p:grpSpPr>
          <a:xfrm>
            <a:off x="8648640" y="498600"/>
            <a:ext cx="306360" cy="122040"/>
            <a:chOff x="8648640" y="498600"/>
            <a:chExt cx="306360" cy="122040"/>
          </a:xfrm>
        </p:grpSpPr>
        <p:sp>
          <p:nvSpPr>
            <p:cNvPr id="2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9"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Comic Sans MS"/>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 name="Rectangle 11"/>
          <p:cNvSpPr/>
          <p:nvPr/>
        </p:nvSpPr>
        <p:spPr>
          <a:xfrm>
            <a:off x="6500880" y="6429960"/>
            <a:ext cx="239544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ea typeface="Times New Roman"/>
              </a:rPr>
              <a:t>Suhail ALHumoud </a:t>
            </a:r>
            <a:endParaRPr b="0" lang="en-US" sz="1200" spc="-1" strike="noStrike">
              <a:solidFill>
                <a:srgbClr val="ffffff"/>
              </a:solidFill>
              <a:latin typeface="Arial"/>
            </a:endParaRPr>
          </a:p>
        </p:txBody>
      </p:sp>
      <p:sp>
        <p:nvSpPr>
          <p:cNvPr id="281" name="Line 12"/>
          <p:cNvSpPr/>
          <p:nvPr/>
        </p:nvSpPr>
        <p:spPr>
          <a:xfrm>
            <a:off x="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Text Box 17"/>
          <p:cNvSpPr/>
          <p:nvPr/>
        </p:nvSpPr>
        <p:spPr>
          <a:xfrm>
            <a:off x="684360" y="785880"/>
            <a:ext cx="8064360" cy="717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fundamental element or building block of culture is the culture trait. Traits assume many forms varying from material artifacts -- tools, house structures, art works -- to behavioral regularities -- family interrelationships, economic exchanges, and legal sanctions -- to abstract concepts and beliefs. All of these diverse and complex manifestations share one feature in common; they are symbols and as such express meaning</a:t>
            </a:r>
            <a:r>
              <a:rPr b="0" lang="en-US" sz="3200" spc="-1" strike="noStrike">
                <a:solidFill>
                  <a:srgbClr val="ffffff"/>
                </a:solidFill>
                <a:latin typeface="Comic Sans MS"/>
              </a:rPr>
              <a:t>.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9531-B975-4FE9-B155-CFA5AC359D8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admin</cp:lastModifiedBy>
  <cp:lastPrinted>2008-03-05T21:18:32Z</cp:lastPrinted>
  <dcterms:modified xsi:type="dcterms:W3CDTF">2013-08-01T21:38:04Z</dcterms:modified>
  <cp:revision>206</cp:revision>
  <dc:subject/>
  <dc:title>Slide 1</dc:title>
</cp:coreProperties>
</file>