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189-C1B3-41C6-BFAA-36D549D9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343-6495-4B6E-B832-5D57031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5B8-53CA-4BCC-8466-0C73434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FCE-37BD-449B-B71B-C97642A8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CCE6-8EBE-4771-BEC7-A97BBF32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C85E-51EF-40BE-A94D-0D4A410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9BEC-68BE-4000-9FFD-4378464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024B-FF3A-46FC-B742-4B70C7A5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ABC2-9524-4629-A933-3A296759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E9B-9CC9-4A9A-A46F-BE952F3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93A-2774-4D06-A9CC-CE89701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708-A169-4974-863B-DC184CE2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4A0-E73E-4872-8335-8465126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1089-6329-46D5-A8DB-0FD759A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295F-6A2E-4A65-89C1-CB668D3E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F74F-7A4B-482F-94B3-32A2ED69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A6B6-3390-432B-999F-238BC5CD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E18-808E-431E-A0D4-8AC8F0B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404-F790-41F3-A197-CA3437A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235-B054-4A8E-BC75-C3F1862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68D-462B-4E6D-9904-84CB30B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ED1-8A31-493B-9835-87561D2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63A-B81C-4281-9559-6427DFB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296-4C04-45E5-9701-7464D6F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D8BE-FE97-4EF9-A5BF-76AA8C963E0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321-0191-44AD-8C34-75CF0B619146}" type="slidenum">
              <a:rPr b="0" lang="ar-SA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209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Biochemistry of </a:t>
            </a:r>
            <a:br>
              <a:rPr sz="4000"/>
            </a:b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ushing Syndrom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0000" y="4581360"/>
            <a:ext cx="41036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Endocrine Block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Cortisol and ACTH measurements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r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asurement is preferred for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sma for AC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t be collected (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thout venous sta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betw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a.m. and 9 a.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betw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0 p.m. and 12 p.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because of the diurnal rhythm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se hormones may be observed as a response 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motional str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55640" y="1363680"/>
            <a:ext cx="7772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 Black"/>
              </a:rPr>
              <a:t>Serum [cortisol] and plasma [ACTH]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6262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 Black"/>
              </a:rPr>
              <a:t>Urinary cortisol excretion 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rtisol is removed from plasma by the liver 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metabolically inactive compounds 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excreted in urine mainly as conjugated metabolites (e.g. glucuronides)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small amount of cortisol is excreted unchanged in the urine (UFC)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normal individuals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rinary free cortisol (UFC)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250 nmol/24 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rtisol / Creatinine ratio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in an early morning specimen of uri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25  μmol cortisol / mol creatini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CAUSES OF ADRENOCORTICAL HYPERFUNCTION: CUSHING’S SYNDROME</a:t>
            </a:r>
            <a:r>
              <a:rPr b="0" lang="en-US" sz="28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06292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ACTH - dependent 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Pituitary ACTH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Cushing's disease)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. Ectopic ACTH by neoplasm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%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ACTH - independent 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Adrenal tum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adenoma or carcinoma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. Glucocorticoid therapy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81342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Causes of elevated serum cortisol concentrations: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Increased cortisol secretion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ushing's syndrom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xercis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tress, Anxiety, Depression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besity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lcohol abus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hronic renal failur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ncreased cortisol binding globulin (CBG)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ngenital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strogen therapy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914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Glucocorticoid functions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corticoids have widespread metabolic effects on carbohydrate, fat and protein metabolism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pon binding to its target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hances metabolism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in several ways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the liver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, Cortisol is an insulin antagonist and has a weak mineralocorticoid action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uconeogenesi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produc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from newly-released amino acids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ino acid uptak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radation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togenesi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4000" y="837720"/>
            <a:ext cx="8820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adipose tissu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 Cortisol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polysi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hrough breakdown of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fa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muscle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 Cortisol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teolysi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nd amino acid release.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serving glucose: by inhibiting uptake into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muscl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fat cell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 Black"/>
              </a:rPr>
              <a:t>Cushing’s Syndrome</a:t>
            </a:r>
            <a:endParaRPr b="0" lang="en-US" sz="4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60160"/>
            <a:ext cx="4100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mptoms: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eight ga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             trunk and face with sparing of the limbs (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entral obesity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uffalo’s hum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on fac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xcessive sweating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4" name="Picture 7" descr="823939Cushing12_264_3B13yo"/>
          <p:cNvPicPr/>
          <p:nvPr/>
        </p:nvPicPr>
        <p:blipFill>
          <a:blip r:embed="rId1"/>
          <a:stretch/>
        </p:blipFill>
        <p:spPr>
          <a:xfrm>
            <a:off x="4932360" y="3535200"/>
            <a:ext cx="3600360" cy="2054520"/>
          </a:xfrm>
          <a:prstGeom prst="rect">
            <a:avLst/>
          </a:prstGeom>
          <a:ln w="0">
            <a:noFill/>
          </a:ln>
        </p:spPr>
      </p:pic>
      <p:sp>
        <p:nvSpPr>
          <p:cNvPr id="155" name="Line 8"/>
          <p:cNvSpPr/>
          <p:nvPr/>
        </p:nvSpPr>
        <p:spPr>
          <a:xfrm>
            <a:off x="3276720" y="4869000"/>
            <a:ext cx="1439640" cy="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7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mptoms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…. (contd)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rophy of the skin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d mucous membrane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urple striae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n the trunk and leg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ximal muscle weakness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hips, shoulders)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irsuitism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excess cortisol may also affect other endocrine system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libido,  amenorrhoea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infertility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tients frequently suffer variou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sychological disturbances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ranging fro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euphoria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frank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sychosis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266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Signs: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62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oss of diurnal rhyth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f cortisol and ACTH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(due to the aldosterone - like effects)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erglycemia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abete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due to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sulin resistanc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okalemic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lkalosi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tein metabolism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mpaired immunity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Investigations of suspected adrenocortical hyperfunction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reening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ut-patient):                           to assess the clinical diagnosis of adrenocortical hyperfuncti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firmatory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in-patient):                   to confirm or exclude the provisional diagnosi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s to determine the cau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to ascertain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a) The site of the pathological lesion         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adrenal cortex, pituitary or elsewhere?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b) The nature of the pathological lesi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identify different causes of 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understand the diagnostic algorithm for 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understand the interpretation of laboratory and radiological tests of Cushing’s syndrom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63" name="Group 66"/>
          <p:cNvGrpSpPr/>
          <p:nvPr/>
        </p:nvGrpSpPr>
        <p:grpSpPr>
          <a:xfrm>
            <a:off x="362880" y="371520"/>
            <a:ext cx="8457120" cy="6377400"/>
            <a:chOff x="362880" y="371520"/>
            <a:chExt cx="8457120" cy="6377400"/>
          </a:xfrm>
        </p:grpSpPr>
        <p:sp>
          <p:nvSpPr>
            <p:cNvPr id="164" name="Rectangle 7"/>
            <p:cNvSpPr/>
            <p:nvPr/>
          </p:nvSpPr>
          <p:spPr>
            <a:xfrm>
              <a:off x="3912480" y="37152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?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3741840" y="1052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Low DST/UF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554480" y="176328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esudo-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6050160" y="1763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rue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3359520" y="2492640"/>
              <a:ext cx="25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Insulin hypoglycemia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577160" y="32439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rmal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6273720" y="324396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6058080" y="389628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ACTH/High D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4780800" y="457164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CTH-dependen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7747200" y="456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drenal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7686000" y="6095160"/>
              <a:ext cx="11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ULS/CT adrenal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5087520" y="51541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RH Test 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4440240" y="5681160"/>
              <a:ext cx="115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6096600" y="568116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Ectopi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84000" y="63806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T che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4230360" y="63673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MRI 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0" name="Straight Arrow Connector 26"/>
            <p:cNvCxnSpPr/>
            <p:nvPr/>
          </p:nvCxnSpPr>
          <p:spPr>
            <a:xfrm flipH="1">
              <a:off x="4571640" y="69192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1" name="Left-Right-Up Arrow 29"/>
            <p:cNvSpPr/>
            <p:nvPr/>
          </p:nvSpPr>
          <p:spPr>
            <a:xfrm>
              <a:off x="2600280" y="1412640"/>
              <a:ext cx="3960720" cy="360360"/>
            </a:xfrm>
            <a:custGeom>
              <a:avLst/>
              <a:gdLst/>
              <a:ahLst/>
              <a:rect l="l" t="t" r="r" b="b"/>
              <a:pathLst>
                <a:path w="3960221" h="360344">
                  <a:moveTo>
                    <a:pt x="0" y="270258"/>
                  </a:moveTo>
                  <a:lnTo>
                    <a:pt x="90086" y="180172"/>
                  </a:lnTo>
                  <a:lnTo>
                    <a:pt x="90086" y="225215"/>
                  </a:lnTo>
                  <a:lnTo>
                    <a:pt x="1935068" y="225215"/>
                  </a:lnTo>
                  <a:lnTo>
                    <a:pt x="1935068" y="90086"/>
                  </a:lnTo>
                  <a:lnTo>
                    <a:pt x="1890025" y="90086"/>
                  </a:lnTo>
                  <a:lnTo>
                    <a:pt x="1980111" y="0"/>
                  </a:lnTo>
                  <a:lnTo>
                    <a:pt x="2070197" y="90086"/>
                  </a:lnTo>
                  <a:lnTo>
                    <a:pt x="2025154" y="90086"/>
                  </a:lnTo>
                  <a:lnTo>
                    <a:pt x="2025154" y="225215"/>
                  </a:lnTo>
                  <a:lnTo>
                    <a:pt x="3870135" y="225215"/>
                  </a:lnTo>
                  <a:lnTo>
                    <a:pt x="3870135" y="180172"/>
                  </a:lnTo>
                  <a:lnTo>
                    <a:pt x="3960221" y="270258"/>
                  </a:lnTo>
                  <a:lnTo>
                    <a:pt x="3870135" y="360344"/>
                  </a:lnTo>
                  <a:lnTo>
                    <a:pt x="3870135" y="315301"/>
                  </a:lnTo>
                  <a:lnTo>
                    <a:pt x="90086" y="315301"/>
                  </a:lnTo>
                  <a:lnTo>
                    <a:pt x="90086" y="360344"/>
                  </a:lnTo>
                  <a:lnTo>
                    <a:pt x="0" y="270258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82" name="Left-Right-Up Arrow 30"/>
            <p:cNvSpPr/>
            <p:nvPr/>
          </p:nvSpPr>
          <p:spPr>
            <a:xfrm flipV="1">
              <a:off x="2671560" y="2130840"/>
              <a:ext cx="3889080" cy="360360"/>
            </a:xfrm>
            <a:custGeom>
              <a:avLst/>
              <a:gdLst/>
              <a:ahLst/>
              <a:rect l="l" t="t" r="r" b="b"/>
              <a:pathLst>
                <a:path w="3888794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899354" y="225214"/>
                  </a:lnTo>
                  <a:lnTo>
                    <a:pt x="1899354" y="90086"/>
                  </a:lnTo>
                  <a:lnTo>
                    <a:pt x="1854311" y="90086"/>
                  </a:lnTo>
                  <a:lnTo>
                    <a:pt x="1944397" y="0"/>
                  </a:lnTo>
                  <a:lnTo>
                    <a:pt x="2034483" y="90086"/>
                  </a:lnTo>
                  <a:lnTo>
                    <a:pt x="1989440" y="90086"/>
                  </a:lnTo>
                  <a:lnTo>
                    <a:pt x="1989440" y="225214"/>
                  </a:lnTo>
                  <a:lnTo>
                    <a:pt x="3798708" y="225214"/>
                  </a:lnTo>
                  <a:lnTo>
                    <a:pt x="3798708" y="180172"/>
                  </a:lnTo>
                  <a:lnTo>
                    <a:pt x="3888794" y="270257"/>
                  </a:lnTo>
                  <a:lnTo>
                    <a:pt x="3798708" y="360343"/>
                  </a:lnTo>
                  <a:lnTo>
                    <a:pt x="3798708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83" name="Left-Right-Up Arrow 31"/>
            <p:cNvSpPr/>
            <p:nvPr/>
          </p:nvSpPr>
          <p:spPr>
            <a:xfrm>
              <a:off x="2600280" y="2906640"/>
              <a:ext cx="4032000" cy="360360"/>
            </a:xfrm>
            <a:custGeom>
              <a:avLst/>
              <a:gdLst/>
              <a:ahLst/>
              <a:rect l="l" t="t" r="r" b="b"/>
              <a:pathLst>
                <a:path w="4031647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970781" y="225214"/>
                  </a:lnTo>
                  <a:lnTo>
                    <a:pt x="1970781" y="90086"/>
                  </a:lnTo>
                  <a:lnTo>
                    <a:pt x="1925738" y="90086"/>
                  </a:lnTo>
                  <a:lnTo>
                    <a:pt x="2015824" y="0"/>
                  </a:lnTo>
                  <a:lnTo>
                    <a:pt x="2105909" y="90086"/>
                  </a:lnTo>
                  <a:lnTo>
                    <a:pt x="2060866" y="90086"/>
                  </a:lnTo>
                  <a:lnTo>
                    <a:pt x="2060866" y="225214"/>
                  </a:lnTo>
                  <a:lnTo>
                    <a:pt x="3941561" y="225214"/>
                  </a:lnTo>
                  <a:lnTo>
                    <a:pt x="3941561" y="180172"/>
                  </a:lnTo>
                  <a:lnTo>
                    <a:pt x="4031647" y="270257"/>
                  </a:lnTo>
                  <a:lnTo>
                    <a:pt x="3941561" y="360343"/>
                  </a:lnTo>
                  <a:lnTo>
                    <a:pt x="3941561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4" name="Straight Arrow Connector 32"/>
            <p:cNvCxnSpPr/>
            <p:nvPr/>
          </p:nvCxnSpPr>
          <p:spPr>
            <a:xfrm flipH="1">
              <a:off x="7017840" y="3591000"/>
              <a:ext cx="2160" cy="3578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5" name="Left-Right-Up Arrow 33"/>
            <p:cNvSpPr/>
            <p:nvPr/>
          </p:nvSpPr>
          <p:spPr>
            <a:xfrm>
              <a:off x="5724360" y="4245120"/>
              <a:ext cx="2592360" cy="358560"/>
            </a:xfrm>
            <a:custGeom>
              <a:avLst/>
              <a:gdLst/>
              <a:ahLst/>
              <a:rect l="l" t="t" r="r" b="b"/>
              <a:pathLst>
                <a:path w="2592001" h="358756">
                  <a:moveTo>
                    <a:pt x="0" y="269067"/>
                  </a:moveTo>
                  <a:lnTo>
                    <a:pt x="89689" y="179378"/>
                  </a:lnTo>
                  <a:lnTo>
                    <a:pt x="89689" y="224223"/>
                  </a:lnTo>
                  <a:lnTo>
                    <a:pt x="1251156" y="224223"/>
                  </a:lnTo>
                  <a:lnTo>
                    <a:pt x="1251156" y="89689"/>
                  </a:lnTo>
                  <a:lnTo>
                    <a:pt x="1206312" y="89689"/>
                  </a:lnTo>
                  <a:lnTo>
                    <a:pt x="1296001" y="0"/>
                  </a:lnTo>
                  <a:lnTo>
                    <a:pt x="1385690" y="89689"/>
                  </a:lnTo>
                  <a:lnTo>
                    <a:pt x="1340845" y="89689"/>
                  </a:lnTo>
                  <a:lnTo>
                    <a:pt x="1340845" y="224223"/>
                  </a:lnTo>
                  <a:lnTo>
                    <a:pt x="2502312" y="224223"/>
                  </a:lnTo>
                  <a:lnTo>
                    <a:pt x="2502312" y="179378"/>
                  </a:lnTo>
                  <a:lnTo>
                    <a:pt x="2592001" y="269067"/>
                  </a:lnTo>
                  <a:lnTo>
                    <a:pt x="2502312" y="358756"/>
                  </a:lnTo>
                  <a:lnTo>
                    <a:pt x="2502312" y="313912"/>
                  </a:lnTo>
                  <a:lnTo>
                    <a:pt x="89689" y="313912"/>
                  </a:lnTo>
                  <a:lnTo>
                    <a:pt x="89689" y="358756"/>
                  </a:lnTo>
                  <a:lnTo>
                    <a:pt x="0" y="26906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6" name="Straight Arrow Connector 34"/>
            <p:cNvCxnSpPr/>
            <p:nvPr/>
          </p:nvCxnSpPr>
          <p:spPr>
            <a:xfrm flipH="1">
              <a:off x="5724000" y="486900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7" name="Left-Right-Up Arrow 35"/>
            <p:cNvSpPr/>
            <p:nvPr/>
          </p:nvSpPr>
          <p:spPr>
            <a:xfrm>
              <a:off x="4873680" y="5386320"/>
              <a:ext cx="1728720" cy="360360"/>
            </a:xfrm>
            <a:custGeom>
              <a:avLst/>
              <a:gdLst/>
              <a:ahLst/>
              <a:rect l="l" t="t" r="r" b="b"/>
              <a:pathLst>
                <a:path w="1728530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819222" y="225214"/>
                  </a:lnTo>
                  <a:lnTo>
                    <a:pt x="819222" y="90086"/>
                  </a:lnTo>
                  <a:lnTo>
                    <a:pt x="774179" y="90086"/>
                  </a:lnTo>
                  <a:lnTo>
                    <a:pt x="864265" y="0"/>
                  </a:lnTo>
                  <a:lnTo>
                    <a:pt x="954351" y="90086"/>
                  </a:lnTo>
                  <a:lnTo>
                    <a:pt x="909308" y="90086"/>
                  </a:lnTo>
                  <a:lnTo>
                    <a:pt x="909308" y="225214"/>
                  </a:lnTo>
                  <a:lnTo>
                    <a:pt x="1638444" y="225214"/>
                  </a:lnTo>
                  <a:lnTo>
                    <a:pt x="1638444" y="180172"/>
                  </a:lnTo>
                  <a:lnTo>
                    <a:pt x="1728530" y="270257"/>
                  </a:lnTo>
                  <a:lnTo>
                    <a:pt x="1638444" y="360343"/>
                  </a:lnTo>
                  <a:lnTo>
                    <a:pt x="1638444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8" name="Straight Arrow Connector 36"/>
            <p:cNvCxnSpPr/>
            <p:nvPr/>
          </p:nvCxnSpPr>
          <p:spPr>
            <a:xfrm flipH="1">
              <a:off x="658764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89" name="Straight Arrow Connector 37"/>
            <p:cNvCxnSpPr/>
            <p:nvPr/>
          </p:nvCxnSpPr>
          <p:spPr>
            <a:xfrm flipH="1">
              <a:off x="500328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0" name="Straight Arrow Connector 45"/>
            <p:cNvCxnSpPr/>
            <p:nvPr/>
          </p:nvCxnSpPr>
          <p:spPr>
            <a:xfrm flipH="1">
              <a:off x="8245080" y="5014800"/>
              <a:ext cx="2160" cy="108000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91" name="TextBox 48"/>
            <p:cNvSpPr/>
            <p:nvPr/>
          </p:nvSpPr>
          <p:spPr>
            <a:xfrm>
              <a:off x="362880" y="1038240"/>
              <a:ext cx="12855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creen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2" name="TextBox 49"/>
            <p:cNvSpPr/>
            <p:nvPr/>
          </p:nvSpPr>
          <p:spPr>
            <a:xfrm>
              <a:off x="381960" y="2482920"/>
              <a:ext cx="16149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Confirmato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3" name="TextBox 50"/>
            <p:cNvSpPr/>
            <p:nvPr/>
          </p:nvSpPr>
          <p:spPr>
            <a:xfrm>
              <a:off x="394920" y="3981600"/>
              <a:ext cx="86508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au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4" name="TextBox 51"/>
            <p:cNvSpPr/>
            <p:nvPr/>
          </p:nvSpPr>
          <p:spPr>
            <a:xfrm>
              <a:off x="1073520" y="45990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lcoholism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5" name="TextBox 52"/>
            <p:cNvSpPr/>
            <p:nvPr/>
          </p:nvSpPr>
          <p:spPr>
            <a:xfrm>
              <a:off x="2935800" y="458100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Depression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6" name="TextBox 53"/>
            <p:cNvSpPr/>
            <p:nvPr/>
          </p:nvSpPr>
          <p:spPr>
            <a:xfrm>
              <a:off x="1784880" y="500364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evere illnes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97" name="Straight Arrow Connector 54"/>
            <p:cNvCxnSpPr>
              <a:endCxn id="196" idx="0"/>
            </p:cNvCxnSpPr>
            <p:nvPr/>
          </p:nvCxnSpPr>
          <p:spPr>
            <a:xfrm flipH="1">
              <a:off x="2636280" y="3712680"/>
              <a:ext cx="8640" cy="12913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8" name="Straight Arrow Connector 55"/>
            <p:cNvCxnSpPr/>
            <p:nvPr/>
          </p:nvCxnSpPr>
          <p:spPr>
            <a:xfrm flipH="1">
              <a:off x="1788840" y="3730680"/>
              <a:ext cx="845280" cy="8690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9" name="Straight Arrow Connector 58"/>
            <p:cNvCxnSpPr/>
            <p:nvPr/>
          </p:nvCxnSpPr>
          <p:spPr>
            <a:xfrm>
              <a:off x="2646720" y="3720960"/>
              <a:ext cx="780120" cy="8611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3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ffective screening tests need to b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nsitiv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b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 not have to be highly specific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ncludes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ow-dose dexamethasone (DXM) suppression test (DST)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Overnight suppression test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XM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R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4-hour urinary free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0640" y="765000"/>
            <a:ext cx="845964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66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Low-dose DST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utpatient procedure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Procedure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1 mg DXM administered at  11-12 PM the night before attending the clinic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rum cortisol is measured at 8-9 A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Resul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Cortisol &lt; 50 nmol/L (suppression)</a:t>
            </a: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exclude hypercortisolnemia (Cushing Syndrome)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cau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rugs that induce hepatic microsomal enzymes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enobarbito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enytoin)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XM metabolism an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XM blood level to achieve CRH   suppress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false diagnosis of Cushing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097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4- hour urinary free cortisol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sult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 &lt; 250 nmol/day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exclude Cushing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advantag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incomplete collection of urine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 false-negative result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66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-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An alternative is to determin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urinary cortisol : creatinine rati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n an early morning specimen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68360" y="5475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 …. Cont’D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200" y="404640"/>
            <a:ext cx="7993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Interpretation of screening tests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creening tests serve to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istinguish simple non-endocrine obesity from obesity due to Cushing's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firmatory tests (in-patient basis)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rule out pseudo-Cushing'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seudo-Cushing's syndrom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pressed or extremely anxious patient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re intercurrent illnes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98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98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98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98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98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98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B. Confirmatory tests: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(Inpatient)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1342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sulin-induced hypoglycemia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seudo-Cushing patients show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bnormal diurnal rhythm of S. cortisol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t,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ith Insulin-induced hypoglycemia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H, ACTH and cortisol blood level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ue Cushing patients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response to hypoglycemia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sulin-induced hypoglycemia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ypoglycemia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R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test the integrity of the hypothalamic-pituitary-adrenal (HPA) axis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distinguish true Cushing's syndrome from pseudo-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traindicated i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pilepsy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eart disease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B. Confirmatory tests: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… Cont’d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98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98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98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sulin hypoglycemia test</a:t>
            </a:r>
            <a:r>
              <a:rPr b="1" lang="en-US" sz="3200" spc="-1" strike="noStrike">
                <a:solidFill>
                  <a:srgbClr val="0066cc"/>
                </a:solidFill>
                <a:latin typeface="Arial Black"/>
              </a:rPr>
              <a:t> …. Cont’d 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cedure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nsulin I.V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(0.15 U/kg) to lower blood glucose to 2.2 mmol/L or less 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amples for simultaneous measurement of serum glucose and cortisol levels are taken basally (before insulin injection) and a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 m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fter I.V. insulin injection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ailure to achieve a glucose level of 2.2 mmol/L invalidates the test and should be repeated with increment in step of 0.05U/kg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sulin hypoglycemia test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…. Cont’d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39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terpretation of the results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rmally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al serum cortisol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t least 145 nmol/L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60 - 90 minutes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level &gt; 425 nmol/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ients with Cushing's syndrom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atever the cause, do not respond normally to insulin-induced hypoglycemia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basal serum cortisol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an normal 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60 - 90 minutes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no increase in S. cortisol,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espite the production of an adequate degree of hypoglycemia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98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98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98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98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98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98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98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.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sts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used to determine the cause of Cushing's syndrome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fferentiate ACTH-dependant from ACTH-independent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lasma ACTH (Diurnal rhythm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tinguish between ACTH-dependent causes (Pitutary Vs Lung)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-438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-dose DST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-438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H stimulation te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logical tests: MRI of pituitary and ultrasound or CT of adrenal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98600"/>
            <a:ext cx="39607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ANATOMICALLY: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608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adrenal gland is situated on the anteriosuperior aspect of the kidney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24000" y="3860640"/>
            <a:ext cx="460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HISTOLOGICALLY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adrenal gland consists of two distinct tissues of different embryological origin, the outer cortex and inner medulla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" name="Picture 10" descr="kidney_adrenal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11" descr="adrenal"/>
          <p:cNvPicPr/>
          <p:nvPr/>
        </p:nvPicPr>
        <p:blipFill>
          <a:blip r:embed="rId2"/>
          <a:stretch/>
        </p:blipFill>
        <p:spPr>
          <a:xfrm>
            <a:off x="5148360" y="4248000"/>
            <a:ext cx="3529080" cy="19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8520" y="260280"/>
            <a:ext cx="604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1. Plasma [ACTH]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grpSp>
        <p:nvGrpSpPr>
          <p:cNvPr id="219" name="Organization Chart 7"/>
          <p:cNvGrpSpPr/>
          <p:nvPr/>
        </p:nvGrpSpPr>
        <p:grpSpPr>
          <a:xfrm>
            <a:off x="684360" y="1339920"/>
            <a:ext cx="7705440" cy="4537080"/>
            <a:chOff x="684360" y="1339920"/>
            <a:chExt cx="7705440" cy="4537080"/>
          </a:xfrm>
        </p:grpSpPr>
        <p:sp>
          <p:nvSpPr>
            <p:cNvPr id="220" name="AutoShape 6"/>
            <p:cNvSpPr/>
            <p:nvPr/>
          </p:nvSpPr>
          <p:spPr>
            <a:xfrm>
              <a:off x="684360" y="1339920"/>
              <a:ext cx="770544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21" name="_s1028"/>
            <p:cNvCxnSpPr>
              <a:stCxn id="222" idx="0"/>
              <a:endCxn id="223" idx="2"/>
            </p:cNvCxnSpPr>
            <p:nvPr/>
          </p:nvCxnSpPr>
          <p:spPr>
            <a:xfrm flipV="1" rot="16200000">
              <a:off x="5749920" y="1506600"/>
              <a:ext cx="229320" cy="265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224" name="_s1029"/>
            <p:cNvCxnSpPr>
              <a:stCxn id="225" idx="0"/>
              <a:endCxn id="223" idx="2"/>
            </p:cNvCxnSpPr>
            <p:nvPr/>
          </p:nvCxnSpPr>
          <p:spPr>
            <a:xfrm flipV="1">
              <a:off x="4537080" y="2720160"/>
              <a:ext cx="2160" cy="229320"/>
            </a:xfrm>
            <a:prstGeom prst="straightConnector1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226" name="_s1030"/>
            <p:cNvCxnSpPr>
              <a:stCxn id="227" idx="0"/>
              <a:endCxn id="223" idx="2"/>
            </p:cNvCxnSpPr>
            <p:nvPr/>
          </p:nvCxnSpPr>
          <p:spPr>
            <a:xfrm flipH="1" flipV="1" rot="5400000">
              <a:off x="3095280" y="1507320"/>
              <a:ext cx="229320" cy="2655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sp>
          <p:nvSpPr>
            <p:cNvPr id="223" name="_s1031"/>
            <p:cNvSpPr/>
            <p:nvPr/>
          </p:nvSpPr>
          <p:spPr>
            <a:xfrm>
              <a:off x="3170160" y="2095560"/>
              <a:ext cx="2733840" cy="62532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Arial"/>
                </a:rPr>
                <a:t>Plasma ACTH</a:t>
              </a:r>
              <a:endParaRPr b="0" lang="en-US" sz="31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684360" y="2949480"/>
              <a:ext cx="239544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Undetectable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5" name="_s1033"/>
            <p:cNvSpPr/>
            <p:nvPr/>
          </p:nvSpPr>
          <p:spPr>
            <a:xfrm>
              <a:off x="3340080" y="2949480"/>
              <a:ext cx="239400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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ACTH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2" name="_s1034"/>
            <p:cNvSpPr/>
            <p:nvPr/>
          </p:nvSpPr>
          <p:spPr>
            <a:xfrm>
              <a:off x="5994360" y="2949480"/>
              <a:ext cx="239544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</a:t>
              </a:r>
              <a:r>
                <a:rPr b="1" lang="ar-SA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</a:t>
              </a:r>
              <a:r>
                <a:rPr b="1" lang="ar-SA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ACTH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8" name="Text Box 19"/>
            <p:cNvSpPr/>
            <p:nvPr/>
          </p:nvSpPr>
          <p:spPr>
            <a:xfrm>
              <a:off x="3419640" y="4051440"/>
              <a:ext cx="2160360" cy="1557000"/>
            </a:xfrm>
            <a:prstGeom prst="rect">
              <a:avLst/>
            </a:prstGeom>
            <a:noFill/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Cushing's disease (pituitary-dependent)</a:t>
              </a:r>
              <a:endParaRPr b="0" lang="en-US" sz="24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147636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421164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687708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232" name="Text Box 17"/>
          <p:cNvSpPr/>
          <p:nvPr/>
        </p:nvSpPr>
        <p:spPr>
          <a:xfrm>
            <a:off x="539640" y="393372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395280" y="4041720"/>
            <a:ext cx="2808360" cy="228852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unctional adrenal tumor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confirmed by an abdominal CT scan to detect an adrenal mass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5867280" y="4056120"/>
            <a:ext cx="2808360" cy="119124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ctopic (non-endocrine) origin of ACTH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684360" y="107460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Plasma [ACTH] should be measured on blood specimens collected at 8-9 a.m. and 8-9 p.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(a).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igh-dose DST: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99760"/>
            <a:ext cx="84247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used to distinguish Cushing's disease from ectopic ACTH secretion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 mg dexamethasone six-hourly for 48 hours to suppress cortisol secretion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Basal (pre-dexamethasone) serum cortisol or 24-hour urine free cortisol is compared with the results at the end of the 48-hour period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is defined a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5102"/>
                </a:solidFill>
                <a:latin typeface="Arial"/>
              </a:rPr>
              <a:t>a fall to less than   50 % of basal valu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 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patie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th Cushing'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disea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cortisol output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contrast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ly 1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patients wit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topic ACTH produc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r with adrenal tumors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79720" y="447840"/>
            <a:ext cx="6858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(a).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igh-dose DS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….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389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2 (b). CRH stimulation test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9640" y="98064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asures the ACTH and cortisol levels basally and 60 minutes after injection of 100 µg CRH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508720" y="1928880"/>
            <a:ext cx="2519280" cy="1068840"/>
          </a:xfrm>
          <a:prstGeom prst="rect">
            <a:avLst/>
          </a:prstGeom>
          <a:solidFill>
            <a:srgbClr val="fdfbbb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shing's disease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16000" y="1925640"/>
            <a:ext cx="3456000" cy="1068840"/>
          </a:xfrm>
          <a:prstGeom prst="rect">
            <a:avLst/>
          </a:prstGeom>
          <a:solidFill>
            <a:srgbClr val="fdfbbb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topic ACTH &amp; adrenal tumor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932360" y="3220920"/>
            <a:ext cx="3672000" cy="1747440"/>
          </a:xfrm>
          <a:prstGeom prst="rect">
            <a:avLst/>
          </a:prstGeom>
          <a:solidFill>
            <a:srgbClr val="ccffcc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buClr>
                <a:srgbClr val="3333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TH &amp; cortisol above basal at 60 min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262080" indent="-262080">
              <a:spcBef>
                <a:spcPts val="15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0% of patients</a:t>
            </a:r>
            <a:r>
              <a:rPr b="1" lang="ar-SA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il to respond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84360" y="3227400"/>
            <a:ext cx="3958920" cy="1924920"/>
          </a:xfrm>
          <a:prstGeom prst="rect">
            <a:avLst/>
          </a:prstGeom>
          <a:solidFill>
            <a:srgbClr val="ccffcc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respons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lse-positive responses are unusua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229360"/>
            <a:ext cx="8496000" cy="1252080"/>
          </a:xfrm>
          <a:prstGeom prst="rect">
            <a:avLst/>
          </a:prstGeom>
          <a:solidFill>
            <a:srgbClr val="fdfbbb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ushing's diseas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gh-dose dexamethasone suppression test + the CRH test </a:t>
            </a:r>
            <a:r>
              <a:rPr b="1" lang="en-US" sz="2400" spc="-1" strike="noStrike">
                <a:solidFill>
                  <a:srgbClr val="33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100 % specificity and sensitivity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6804000" y="3078000"/>
            <a:ext cx="0" cy="1429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2771640" y="3078000"/>
            <a:ext cx="0" cy="1429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5003640" y="1916280"/>
            <a:ext cx="0" cy="57600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H="1">
            <a:off x="4572000" y="2492280"/>
            <a:ext cx="936720" cy="0"/>
          </a:xfrm>
          <a:prstGeom prst="line">
            <a:avLst/>
          </a:prstGeom>
          <a:ln w="7632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3. Radiological Investigations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7272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T scanning of the adrenal glands/ Lung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RI of the pituitary gland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440" y="83664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blood tests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mmonly performed for patients suspected to have Cushing’s syndrome are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ull blood count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lood glucos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lood electrolyte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d pH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nal func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ver function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255" name="Group 66"/>
          <p:cNvGrpSpPr/>
          <p:nvPr/>
        </p:nvGrpSpPr>
        <p:grpSpPr>
          <a:xfrm>
            <a:off x="362880" y="371520"/>
            <a:ext cx="8457120" cy="6377400"/>
            <a:chOff x="362880" y="371520"/>
            <a:chExt cx="8457120" cy="6377400"/>
          </a:xfrm>
        </p:grpSpPr>
        <p:sp>
          <p:nvSpPr>
            <p:cNvPr id="256" name="Rectangle 7"/>
            <p:cNvSpPr/>
            <p:nvPr/>
          </p:nvSpPr>
          <p:spPr>
            <a:xfrm>
              <a:off x="3912480" y="37152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?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3741840" y="1052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Low DST/UF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1554480" y="176328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esudo-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6050160" y="1763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rue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359520" y="2492640"/>
              <a:ext cx="25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Insulin hypoglycemia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1577160" y="32439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rmal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6273720" y="324396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6058080" y="389628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ACTH/High D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4780800" y="457164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CTH-dependen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7747200" y="456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drenal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7686000" y="6095160"/>
              <a:ext cx="11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ULS/CT adrenal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087520" y="51541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RH Test 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4440240" y="5681160"/>
              <a:ext cx="115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6096600" y="568116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Ectopi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0" name="Rectangle 21"/>
            <p:cNvSpPr/>
            <p:nvPr/>
          </p:nvSpPr>
          <p:spPr>
            <a:xfrm>
              <a:off x="6084000" y="63806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T che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4230360" y="63673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MRI 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2" name="Straight Arrow Connector 26"/>
            <p:cNvCxnSpPr/>
            <p:nvPr/>
          </p:nvCxnSpPr>
          <p:spPr>
            <a:xfrm flipH="1">
              <a:off x="4571640" y="69192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3" name="Left-Right-Up Arrow 29"/>
            <p:cNvSpPr/>
            <p:nvPr/>
          </p:nvSpPr>
          <p:spPr>
            <a:xfrm>
              <a:off x="2600280" y="1412640"/>
              <a:ext cx="3960720" cy="360360"/>
            </a:xfrm>
            <a:custGeom>
              <a:avLst/>
              <a:gdLst/>
              <a:ahLst/>
              <a:rect l="l" t="t" r="r" b="b"/>
              <a:pathLst>
                <a:path w="3960221" h="360344">
                  <a:moveTo>
                    <a:pt x="0" y="270258"/>
                  </a:moveTo>
                  <a:lnTo>
                    <a:pt x="90086" y="180172"/>
                  </a:lnTo>
                  <a:lnTo>
                    <a:pt x="90086" y="225215"/>
                  </a:lnTo>
                  <a:lnTo>
                    <a:pt x="1935068" y="225215"/>
                  </a:lnTo>
                  <a:lnTo>
                    <a:pt x="1935068" y="90086"/>
                  </a:lnTo>
                  <a:lnTo>
                    <a:pt x="1890025" y="90086"/>
                  </a:lnTo>
                  <a:lnTo>
                    <a:pt x="1980111" y="0"/>
                  </a:lnTo>
                  <a:lnTo>
                    <a:pt x="2070197" y="90086"/>
                  </a:lnTo>
                  <a:lnTo>
                    <a:pt x="2025154" y="90086"/>
                  </a:lnTo>
                  <a:lnTo>
                    <a:pt x="2025154" y="225215"/>
                  </a:lnTo>
                  <a:lnTo>
                    <a:pt x="3870135" y="225215"/>
                  </a:lnTo>
                  <a:lnTo>
                    <a:pt x="3870135" y="180172"/>
                  </a:lnTo>
                  <a:lnTo>
                    <a:pt x="3960221" y="270258"/>
                  </a:lnTo>
                  <a:lnTo>
                    <a:pt x="3870135" y="360344"/>
                  </a:lnTo>
                  <a:lnTo>
                    <a:pt x="3870135" y="315301"/>
                  </a:lnTo>
                  <a:lnTo>
                    <a:pt x="90086" y="315301"/>
                  </a:lnTo>
                  <a:lnTo>
                    <a:pt x="90086" y="360344"/>
                  </a:lnTo>
                  <a:lnTo>
                    <a:pt x="0" y="270258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4" name="Left-Right-Up Arrow 30"/>
            <p:cNvSpPr/>
            <p:nvPr/>
          </p:nvSpPr>
          <p:spPr>
            <a:xfrm flipV="1">
              <a:off x="2671560" y="2130840"/>
              <a:ext cx="3889080" cy="360360"/>
            </a:xfrm>
            <a:custGeom>
              <a:avLst/>
              <a:gdLst/>
              <a:ahLst/>
              <a:rect l="l" t="t" r="r" b="b"/>
              <a:pathLst>
                <a:path w="3888794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899354" y="225214"/>
                  </a:lnTo>
                  <a:lnTo>
                    <a:pt x="1899354" y="90086"/>
                  </a:lnTo>
                  <a:lnTo>
                    <a:pt x="1854311" y="90086"/>
                  </a:lnTo>
                  <a:lnTo>
                    <a:pt x="1944397" y="0"/>
                  </a:lnTo>
                  <a:lnTo>
                    <a:pt x="2034483" y="90086"/>
                  </a:lnTo>
                  <a:lnTo>
                    <a:pt x="1989440" y="90086"/>
                  </a:lnTo>
                  <a:lnTo>
                    <a:pt x="1989440" y="225214"/>
                  </a:lnTo>
                  <a:lnTo>
                    <a:pt x="3798708" y="225214"/>
                  </a:lnTo>
                  <a:lnTo>
                    <a:pt x="3798708" y="180172"/>
                  </a:lnTo>
                  <a:lnTo>
                    <a:pt x="3888794" y="270257"/>
                  </a:lnTo>
                  <a:lnTo>
                    <a:pt x="3798708" y="360343"/>
                  </a:lnTo>
                  <a:lnTo>
                    <a:pt x="3798708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5" name="Left-Right-Up Arrow 31"/>
            <p:cNvSpPr/>
            <p:nvPr/>
          </p:nvSpPr>
          <p:spPr>
            <a:xfrm>
              <a:off x="2600280" y="2906640"/>
              <a:ext cx="4032000" cy="360360"/>
            </a:xfrm>
            <a:custGeom>
              <a:avLst/>
              <a:gdLst/>
              <a:ahLst/>
              <a:rect l="l" t="t" r="r" b="b"/>
              <a:pathLst>
                <a:path w="4031647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970781" y="225214"/>
                  </a:lnTo>
                  <a:lnTo>
                    <a:pt x="1970781" y="90086"/>
                  </a:lnTo>
                  <a:lnTo>
                    <a:pt x="1925738" y="90086"/>
                  </a:lnTo>
                  <a:lnTo>
                    <a:pt x="2015824" y="0"/>
                  </a:lnTo>
                  <a:lnTo>
                    <a:pt x="2105909" y="90086"/>
                  </a:lnTo>
                  <a:lnTo>
                    <a:pt x="2060866" y="90086"/>
                  </a:lnTo>
                  <a:lnTo>
                    <a:pt x="2060866" y="225214"/>
                  </a:lnTo>
                  <a:lnTo>
                    <a:pt x="3941561" y="225214"/>
                  </a:lnTo>
                  <a:lnTo>
                    <a:pt x="3941561" y="180172"/>
                  </a:lnTo>
                  <a:lnTo>
                    <a:pt x="4031647" y="270257"/>
                  </a:lnTo>
                  <a:lnTo>
                    <a:pt x="3941561" y="360343"/>
                  </a:lnTo>
                  <a:lnTo>
                    <a:pt x="3941561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6" name="Straight Arrow Connector 32"/>
            <p:cNvCxnSpPr/>
            <p:nvPr/>
          </p:nvCxnSpPr>
          <p:spPr>
            <a:xfrm flipH="1">
              <a:off x="7017840" y="3591000"/>
              <a:ext cx="2160" cy="3578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7" name="Left-Right-Up Arrow 33"/>
            <p:cNvSpPr/>
            <p:nvPr/>
          </p:nvSpPr>
          <p:spPr>
            <a:xfrm>
              <a:off x="5724360" y="4245120"/>
              <a:ext cx="2592360" cy="358560"/>
            </a:xfrm>
            <a:custGeom>
              <a:avLst/>
              <a:gdLst/>
              <a:ahLst/>
              <a:rect l="l" t="t" r="r" b="b"/>
              <a:pathLst>
                <a:path w="2592001" h="358756">
                  <a:moveTo>
                    <a:pt x="0" y="269067"/>
                  </a:moveTo>
                  <a:lnTo>
                    <a:pt x="89689" y="179378"/>
                  </a:lnTo>
                  <a:lnTo>
                    <a:pt x="89689" y="224223"/>
                  </a:lnTo>
                  <a:lnTo>
                    <a:pt x="1251156" y="224223"/>
                  </a:lnTo>
                  <a:lnTo>
                    <a:pt x="1251156" y="89689"/>
                  </a:lnTo>
                  <a:lnTo>
                    <a:pt x="1206312" y="89689"/>
                  </a:lnTo>
                  <a:lnTo>
                    <a:pt x="1296001" y="0"/>
                  </a:lnTo>
                  <a:lnTo>
                    <a:pt x="1385690" y="89689"/>
                  </a:lnTo>
                  <a:lnTo>
                    <a:pt x="1340845" y="89689"/>
                  </a:lnTo>
                  <a:lnTo>
                    <a:pt x="1340845" y="224223"/>
                  </a:lnTo>
                  <a:lnTo>
                    <a:pt x="2502312" y="224223"/>
                  </a:lnTo>
                  <a:lnTo>
                    <a:pt x="2502312" y="179378"/>
                  </a:lnTo>
                  <a:lnTo>
                    <a:pt x="2592001" y="269067"/>
                  </a:lnTo>
                  <a:lnTo>
                    <a:pt x="2502312" y="358756"/>
                  </a:lnTo>
                  <a:lnTo>
                    <a:pt x="2502312" y="313912"/>
                  </a:lnTo>
                  <a:lnTo>
                    <a:pt x="89689" y="313912"/>
                  </a:lnTo>
                  <a:lnTo>
                    <a:pt x="89689" y="358756"/>
                  </a:lnTo>
                  <a:lnTo>
                    <a:pt x="0" y="26906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8" name="Straight Arrow Connector 34"/>
            <p:cNvCxnSpPr/>
            <p:nvPr/>
          </p:nvCxnSpPr>
          <p:spPr>
            <a:xfrm flipH="1">
              <a:off x="5724000" y="486900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9" name="Left-Right-Up Arrow 35"/>
            <p:cNvSpPr/>
            <p:nvPr/>
          </p:nvSpPr>
          <p:spPr>
            <a:xfrm>
              <a:off x="4873680" y="5386320"/>
              <a:ext cx="1728720" cy="360360"/>
            </a:xfrm>
            <a:custGeom>
              <a:avLst/>
              <a:gdLst/>
              <a:ahLst/>
              <a:rect l="l" t="t" r="r" b="b"/>
              <a:pathLst>
                <a:path w="1728530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819222" y="225214"/>
                  </a:lnTo>
                  <a:lnTo>
                    <a:pt x="819222" y="90086"/>
                  </a:lnTo>
                  <a:lnTo>
                    <a:pt x="774179" y="90086"/>
                  </a:lnTo>
                  <a:lnTo>
                    <a:pt x="864265" y="0"/>
                  </a:lnTo>
                  <a:lnTo>
                    <a:pt x="954351" y="90086"/>
                  </a:lnTo>
                  <a:lnTo>
                    <a:pt x="909308" y="90086"/>
                  </a:lnTo>
                  <a:lnTo>
                    <a:pt x="909308" y="225214"/>
                  </a:lnTo>
                  <a:lnTo>
                    <a:pt x="1638444" y="225214"/>
                  </a:lnTo>
                  <a:lnTo>
                    <a:pt x="1638444" y="180172"/>
                  </a:lnTo>
                  <a:lnTo>
                    <a:pt x="1728530" y="270257"/>
                  </a:lnTo>
                  <a:lnTo>
                    <a:pt x="1638444" y="360343"/>
                  </a:lnTo>
                  <a:lnTo>
                    <a:pt x="1638444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80" name="Straight Arrow Connector 36"/>
            <p:cNvCxnSpPr/>
            <p:nvPr/>
          </p:nvCxnSpPr>
          <p:spPr>
            <a:xfrm flipH="1">
              <a:off x="658764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81" name="Straight Arrow Connector 37"/>
            <p:cNvCxnSpPr/>
            <p:nvPr/>
          </p:nvCxnSpPr>
          <p:spPr>
            <a:xfrm flipH="1">
              <a:off x="500328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45"/>
            <p:cNvCxnSpPr/>
            <p:nvPr/>
          </p:nvCxnSpPr>
          <p:spPr>
            <a:xfrm flipH="1">
              <a:off x="8245080" y="5014800"/>
              <a:ext cx="2160" cy="108000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83" name="TextBox 48"/>
            <p:cNvSpPr/>
            <p:nvPr/>
          </p:nvSpPr>
          <p:spPr>
            <a:xfrm>
              <a:off x="362880" y="1038240"/>
              <a:ext cx="12855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creen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4" name="TextBox 49"/>
            <p:cNvSpPr/>
            <p:nvPr/>
          </p:nvSpPr>
          <p:spPr>
            <a:xfrm>
              <a:off x="381960" y="2482920"/>
              <a:ext cx="16149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Confirmato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5" name="TextBox 50"/>
            <p:cNvSpPr/>
            <p:nvPr/>
          </p:nvSpPr>
          <p:spPr>
            <a:xfrm>
              <a:off x="394920" y="3981600"/>
              <a:ext cx="86508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au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6" name="TextBox 51"/>
            <p:cNvSpPr/>
            <p:nvPr/>
          </p:nvSpPr>
          <p:spPr>
            <a:xfrm>
              <a:off x="1073520" y="45990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lcoholism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7" name="TextBox 52"/>
            <p:cNvSpPr/>
            <p:nvPr/>
          </p:nvSpPr>
          <p:spPr>
            <a:xfrm>
              <a:off x="2935800" y="458100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Depression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8" name="TextBox 53"/>
            <p:cNvSpPr/>
            <p:nvPr/>
          </p:nvSpPr>
          <p:spPr>
            <a:xfrm>
              <a:off x="1784880" y="500364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evere illnes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89" name="Straight Arrow Connector 54"/>
            <p:cNvCxnSpPr>
              <a:endCxn id="288" idx="0"/>
            </p:cNvCxnSpPr>
            <p:nvPr/>
          </p:nvCxnSpPr>
          <p:spPr>
            <a:xfrm flipH="1">
              <a:off x="2636280" y="3712680"/>
              <a:ext cx="8640" cy="12913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90" name="Straight Arrow Connector 55"/>
            <p:cNvCxnSpPr/>
            <p:nvPr/>
          </p:nvCxnSpPr>
          <p:spPr>
            <a:xfrm flipH="1">
              <a:off x="1788840" y="3730680"/>
              <a:ext cx="845280" cy="8690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91" name="Straight Arrow Connector 58"/>
            <p:cNvCxnSpPr/>
            <p:nvPr/>
          </p:nvCxnSpPr>
          <p:spPr>
            <a:xfrm>
              <a:off x="2646720" y="3720960"/>
              <a:ext cx="780120" cy="8611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drenal Hyperfunction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Summary of Biochemical Tests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0920" y="1125360"/>
          <a:ext cx="8713800" cy="5207040"/>
        </p:xfrm>
        <a:graphic>
          <a:graphicData uri="http://schemas.openxmlformats.org/drawingml/2006/table">
            <a:tbl>
              <a:tblPr/>
              <a:tblGrid>
                <a:gridCol w="2270160"/>
                <a:gridCol w="2122200"/>
                <a:gridCol w="2160720"/>
                <a:gridCol w="216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e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ushing’s disea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drenal     tumor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ctopic ACTH secreting tumor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. cortisol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ow dose D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Urinary cortisol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iurnal rhythm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sulin-induced hypoglycemia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a [ACTH]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rmal or</a:t>
                      </a:r>
                      <a:r>
                        <a:rPr b="1" lang="ar-SA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detectabl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dose D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H te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ase study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000" y="980640"/>
            <a:ext cx="8458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58 years old man was admitted with weight loss and respiratory distress. He had increased pigmentation and BP was 140/80.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b tests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rea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8.6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2.5-7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odium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44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135-145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otassium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3.5-4.5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tisol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5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150-550 n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ost overnight DMX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30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&lt;50n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rther investigation revealed the following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MX suppression test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asal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fter 48 h      after 48h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0.5 mg qid     2.0 mg qid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rum cortisol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35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42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        1100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suppress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8 am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22.00 pm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lasma ACTH (ng/L)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180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. range: 7-51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RH showed flat response for cortisol and ACTH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4920" y="126648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orders of the adrenals are uncomm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nsitive screening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for adrenocortical functions are important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ditional confirmatory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establish the diagnosis and rule out pseudo-Cushing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ther biochemical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diological investiga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determine the cause of Cushing’s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Take Home Message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The adrenal cortex comprises three zones based on cell type and function:</a:t>
            </a:r>
            <a:r>
              <a:rPr b="0" lang="en-US" sz="28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4749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lomerulosa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The outermost zone </a:t>
            </a: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cc"/>
                </a:solidFill>
                <a:latin typeface="Arial"/>
              </a:rPr>
              <a:t>aldosterone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the principal mineralocorticoid).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The deeper layers of the cortex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asciculata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glucocorticoids – mainly </a:t>
            </a:r>
            <a:r>
              <a:rPr b="1" lang="en-US" sz="2600" spc="-1" strike="noStrike">
                <a:solidFill>
                  <a:srgbClr val="0066cc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95%)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eticularis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ex hormones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" name="Picture 8" descr="miniadrenalAnat"/>
          <p:cNvPicPr/>
          <p:nvPr/>
        </p:nvPicPr>
        <p:blipFill>
          <a:blip r:embed="rId1"/>
          <a:stretch/>
        </p:blipFill>
        <p:spPr>
          <a:xfrm>
            <a:off x="5364000" y="1268280"/>
            <a:ext cx="326412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2" descr="Adrenal_cortex_layers"/>
          <p:cNvPicPr/>
          <p:nvPr/>
        </p:nvPicPr>
        <p:blipFill>
          <a:blip r:embed="rId2"/>
          <a:stretch/>
        </p:blipFill>
        <p:spPr>
          <a:xfrm>
            <a:off x="5364000" y="3500280"/>
            <a:ext cx="326412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979640" y="0"/>
            <a:ext cx="5400720" cy="520560"/>
          </a:xfrm>
          <a:prstGeom prst="rect">
            <a:avLst/>
          </a:prstGeom>
          <a:solidFill>
            <a:srgbClr val="fdfbb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teroid Hormone Synthesi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132000" y="5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lestero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27C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716360" y="1413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132000" y="170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gnenolone (21C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32360" y="213372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β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steroid dehydrogen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08360" y="256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esterone (21C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4716360" y="2997360"/>
            <a:ext cx="0" cy="5029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859280" y="2997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7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627280" y="34225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-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Hydroxyprogesterone (21C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796000" y="44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Androstenedione (19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86728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stosterone (19C)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15636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radiol (18C)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7236000" y="5877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859280" y="3860640"/>
            <a:ext cx="1584360" cy="576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348000" y="4718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-Deoxycortisol (21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250920" y="44308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-Deoxycorticosterone (21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716360" y="3860640"/>
            <a:ext cx="0" cy="936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4716360" y="5084640"/>
            <a:ext cx="0" cy="1152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363528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tisol (21C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 flipH="1">
            <a:off x="1835280" y="2789280"/>
            <a:ext cx="1908000" cy="15984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1952640" y="5013360"/>
            <a:ext cx="269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1- 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β</a:t>
            </a:r>
            <a:r>
              <a:rPr b="0" lang="el-GR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61128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rticosterone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835280" y="4797360"/>
            <a:ext cx="0" cy="576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368280" y="6165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dosterone (21C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835280" y="5661000"/>
            <a:ext cx="0" cy="50328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7236000" y="5373720"/>
            <a:ext cx="0" cy="43164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5913360" y="4765680"/>
            <a:ext cx="2808360" cy="1986120"/>
          </a:xfrm>
          <a:prstGeom prst="ellipse">
            <a:avLst/>
          </a:prstGeom>
          <a:noFill/>
          <a:ln w="2556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TextBox 37"/>
          <p:cNvSpPr/>
          <p:nvPr/>
        </p:nvSpPr>
        <p:spPr>
          <a:xfrm rot="16200000">
            <a:off x="7849440" y="5475600"/>
            <a:ext cx="2148120" cy="368280"/>
          </a:xfrm>
          <a:prstGeom prst="rect">
            <a:avLst/>
          </a:prstGeom>
          <a:solidFill>
            <a:srgbClr val="c9ff95"/>
          </a:solidFill>
          <a:ln w="936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Peripheral tissu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2556000" y="3860640"/>
            <a:ext cx="208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1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85264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ypothalamu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secret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ticotropin-releasing hormon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CRH) which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imulate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the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nterior pituitary gland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to synthesis and release ACTH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TH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s on the zona fasiculata cells </a:t>
            </a:r>
            <a:r>
              <a:rPr b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release of glucocorticoids (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158436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Hypothalamic-Pituitary-Adrena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(HPA) Axis 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1248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Regulation of ACTH and Cortisol Secretion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604880"/>
            <a:ext cx="55432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 Negative feedback control: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H release from the anterior pituitary is stimulated by hypothalamic secretion of corticotrophin releasing hormone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CT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] o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ynthetic steroid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uppres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&amp;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ecretion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1" name="Picture 8" descr="Cushings_Disease"/>
          <p:cNvPicPr/>
          <p:nvPr/>
        </p:nvPicPr>
        <p:blipFill>
          <a:blip r:embed="rId1"/>
          <a:stretch/>
        </p:blipFill>
        <p:spPr>
          <a:xfrm>
            <a:off x="5724360" y="1557360"/>
            <a:ext cx="2909880" cy="4535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132" name="Rectangle 9"/>
          <p:cNvSpPr/>
          <p:nvPr/>
        </p:nvSpPr>
        <p:spPr>
          <a:xfrm>
            <a:off x="6826320" y="3583080"/>
            <a:ext cx="1111320" cy="23652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7350120" y="1989000"/>
            <a:ext cx="1584360" cy="28764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ypothalamus</a:t>
            </a: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7842240" y="5013360"/>
            <a:ext cx="1122480" cy="25704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drenal</a:t>
            </a: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40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. 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(e.g.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jor surger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otional 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R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&amp; ACT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ortiso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. The diurnal rhythm of plasma cortisol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ighest Cortisol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morning ( 8 - 9 AM )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west Cortisol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afternoon and evening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8 - 9 PM )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5075280" y="2997360"/>
            <a:ext cx="3529080" cy="3240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3"/>
          <p:cNvSpPr/>
          <p:nvPr/>
        </p:nvSpPr>
        <p:spPr>
          <a:xfrm>
            <a:off x="468360" y="50259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The diurnal rhythm of cortisol secretion; the area between the curves represents values that lie within the reference range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424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 Black"/>
              </a:rPr>
              <a:t>Plasma [CBG] 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26972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4680" indent="-5446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the circulation, glucocorticoids are mainly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tein-bound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out 9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,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hiefly to cortisol-binding globul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BG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cort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.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-342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pregnancy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and with estrogen treatment (e.g. oral contraceptives).</a:t>
            </a:r>
            <a:endParaRPr b="0" lang="en-US" sz="29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-342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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hypoproteinemic states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                       (e.g. nephrotic syndrome). </a:t>
            </a:r>
            <a:endParaRPr b="0" lang="en-US" sz="29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00"/>
              </a:solidFill>
              <a:latin typeface="Arial"/>
            </a:endParaRPr>
          </a:p>
          <a:p>
            <a:pPr marL="544680" indent="-5446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biologically active fraction of cortisol in plasma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re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(unbound) component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22:02:11Z</dcterms:created>
  <dc:creator>sayed</dc:creator>
  <dc:description/>
  <cp:keywords/>
  <dc:language>en-US</dc:language>
  <cp:lastModifiedBy>Microsoft Office User</cp:lastModifiedBy>
  <cp:lastPrinted>2017-02-14T04:36:31Z</cp:lastPrinted>
  <dcterms:modified xsi:type="dcterms:W3CDTF">2017-02-26T08:49:14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01033</vt:lpwstr>
  </property>
</Properties>
</file>