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EF9-7008-4F36-BC2A-86D9A50F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EE6-A8EB-4F1C-84E9-AA688E30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1C5-8D4C-4F3C-B3C1-5F351927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59C-4F15-49FC-8F6E-75E51BA7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F688-2364-40C9-8344-F5E6DF1F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CF47-1689-4160-8500-13434074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DBCD-8230-4FAB-B1B7-D2CD9285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687B-C0DD-4D31-A957-A78AD0DF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91F1-E205-4968-9CE4-6D7CE435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7228-B7F4-47BE-9E95-F38D381E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7017-CFA6-4B0A-80A5-9F19E50A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91F-64ED-48B0-A87E-ED13B4D5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33DE-1984-4641-9D4A-F8AD51B4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3ED6-7A03-4B53-87D5-6391890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4B0C-3069-4BC2-9FA1-15820E8D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894-8B27-4991-9B32-813716F4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CB5E-C4AF-4216-9F20-BE6868B2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F9B-AD1F-4C01-A9E9-F74650AD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7BB-5CAC-4C26-8520-F43862E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1D4-C32E-431A-AA91-6989DC7B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68C-5DA8-4A99-BDDF-958ED46B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926-BC96-4C79-AF27-524C17D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CAA-8D41-4E2C-BB8D-FFF18126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696-B54D-41A7-935A-9582BEA0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26D1-F2BF-492D-922D-3548FCE04EE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5C87-F0EC-49F0-B85F-544FF5BF7681}" type="slidenum">
              <a:rPr b="0" lang="ar-SA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209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Biochemistry of </a:t>
            </a:r>
            <a:br>
              <a:rPr sz="4000"/>
            </a:b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ushing Syndrome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00000" y="4581360"/>
            <a:ext cx="41036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Endocrine Block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98600"/>
            <a:ext cx="7772400" cy="914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Black"/>
              </a:rPr>
              <a:t>Cortisol and ACTH measurements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r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asurement is preferred for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ortis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lasma for AC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ust be collected (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ithout venous sta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betw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8 a.m. and 9 a.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betw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0 p.m. and 12 p.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because of the diurnal rhythm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these hormones may be observed as a response t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motional str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55640" y="1363680"/>
            <a:ext cx="7772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 Black"/>
              </a:rPr>
              <a:t>Serum [cortisol] and plasma [ACTH]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6262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 Black"/>
              </a:rPr>
              <a:t>Urinary cortisol excretion :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rtisol is removed from plasma by the liver </a:t>
            </a:r>
            <a:r>
              <a:rPr b="1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metabolically inactive compounds </a:t>
            </a:r>
            <a:r>
              <a:rPr b="1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excreted in urine mainly as conjugated metabolites (e.g. glucuronides)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small amount of cortisol is excreted unchanged in the urine (UFC)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n normal individuals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rinary free cortisol (UFC)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250 nmol/24 h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rtisol / Creatinine ratio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in an early morning specimen of uri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25  μmol cortisol / mol creatinin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CAUSES OF ADRENOCORTICAL HYPERFUNCTION: CUSHING’S SYNDROME</a:t>
            </a:r>
            <a:r>
              <a:rPr b="0" lang="en-US" sz="28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06292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ACTH - dependent 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Pituitary ACTH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Cushing's disease)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2. Ectopic ACTH by neoplasm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%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ACTH - independent 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1. Adrenal tum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adenoma or carcinoma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2. Glucocorticoid therapy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81342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</a:rPr>
              <a:t>Causes of elevated serum cortisol concentrations:</a:t>
            </a: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Increased cortisol secretion: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ushing's syndrom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xercis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tress, Anxiety, Depression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Obesity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lcohol abus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hronic renal failur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ncreased cortisol binding globulin (CBG)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ongenital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strogen therapy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914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</a:rPr>
              <a:t>Glucocorticoid functions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corticoids have widespread metabolic effects on carbohydrate, fat and protein metabolism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Upon binding to its target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RTISOL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nhances metabolism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in several ways: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 the liver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, Cortisol is an insulin antagonist and has a weak mineralocorticoid action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uconeogenesi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produc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from newly-released amino acids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mino acid uptak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gradation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togenesi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4000" y="837720"/>
            <a:ext cx="8820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4680" indent="-27792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adipose tissue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: Cortisol </a:t>
            </a:r>
            <a:r>
              <a:rPr b="1" lang="en-US" sz="32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ipolysi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hrough breakdown of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fa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-27792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muscle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: Cortisol </a:t>
            </a:r>
            <a:r>
              <a:rPr b="1" lang="en-US" sz="32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teolysi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and amino acid release.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-27792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serving glucose: by inhibiting uptake into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muscle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fat cell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54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 Black"/>
              </a:rPr>
              <a:t>Cushing’s Syndrome</a:t>
            </a:r>
            <a:endParaRPr b="0" lang="en-US" sz="44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60160"/>
            <a:ext cx="4100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mptoms: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eight gai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:              trunk and face with sparing of the limbs (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entral obesity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uffalo’s hum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oon fac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xcessive sweating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54" name="Picture 7" descr="823939Cushing12_264_3B13yo"/>
          <p:cNvPicPr/>
          <p:nvPr/>
        </p:nvPicPr>
        <p:blipFill>
          <a:blip r:embed="rId1"/>
          <a:stretch/>
        </p:blipFill>
        <p:spPr>
          <a:xfrm>
            <a:off x="4932360" y="3535200"/>
            <a:ext cx="3600360" cy="2054520"/>
          </a:xfrm>
          <a:prstGeom prst="rect">
            <a:avLst/>
          </a:prstGeom>
          <a:ln w="0">
            <a:noFill/>
          </a:ln>
        </p:spPr>
      </p:pic>
      <p:sp>
        <p:nvSpPr>
          <p:cNvPr id="155" name="Line 8"/>
          <p:cNvSpPr/>
          <p:nvPr/>
        </p:nvSpPr>
        <p:spPr>
          <a:xfrm>
            <a:off x="3276720" y="4869000"/>
            <a:ext cx="1439640" cy="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77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Symptoms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…. (contd)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rophy of the skin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d mucous membrane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urple striae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on the trunk and leg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oximal muscle weakness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hips, shoulders)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irsuitism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excess cortisol may also affect other endocrine system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libido,  amenorrhoea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infertility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Patients frequently suffer variou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psychological disturbances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ranging from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euphoria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frank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psychosis.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266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Signs: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062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oss of diurnal rhyth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of cortisol and ACTH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(due to the aldosterone - like effects)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yperglycemia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iabete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due to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sulin resistance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ypokalemic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lkalosis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tein metabolism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mpaired immunity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Black"/>
              </a:rPr>
              <a:t>Investigations of suspected adrenocortical hyperfunction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creening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out-patient):                           to assess the clinical diagnosis of adrenocortical hyperfunction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firmatory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in-patient):                   to confirm or exclude the provisional diagnosi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s to determine the caus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: to ascertain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a) The site of the pathological lesion         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adrenal cortex, pituitary or elsewhere?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b) The nature of the pathological lesion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identify different causes of Cushing’s syndrom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understand the diagnostic algorithm for Cushing’s syndrom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understand the interpretation of laboratory and radiological tests of Cushing’s syndrome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2400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63" name="Group 66"/>
          <p:cNvGrpSpPr/>
          <p:nvPr/>
        </p:nvGrpSpPr>
        <p:grpSpPr>
          <a:xfrm>
            <a:off x="362880" y="371520"/>
            <a:ext cx="8457120" cy="6377400"/>
            <a:chOff x="362880" y="371520"/>
            <a:chExt cx="8457120" cy="6377400"/>
          </a:xfrm>
        </p:grpSpPr>
        <p:sp>
          <p:nvSpPr>
            <p:cNvPr id="164" name="Rectangle 7"/>
            <p:cNvSpPr/>
            <p:nvPr/>
          </p:nvSpPr>
          <p:spPr>
            <a:xfrm>
              <a:off x="3912480" y="37152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? 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3741840" y="10522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Low DST/UFC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1554480" y="1763280"/>
              <a:ext cx="19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esudo-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6050160" y="1763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rue 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3359520" y="2492640"/>
              <a:ext cx="250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Arial"/>
                </a:rPr>
                <a:t>Insulin hypoglycemia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1577160" y="32439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ormal respon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6273720" y="324396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o respon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6058080" y="3896280"/>
              <a:ext cx="19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ACTH/High DS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2" name="Rectangle 15"/>
            <p:cNvSpPr/>
            <p:nvPr/>
          </p:nvSpPr>
          <p:spPr>
            <a:xfrm>
              <a:off x="4780800" y="457164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CTH-dependen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7747200" y="4569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drenal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7686000" y="6095160"/>
              <a:ext cx="113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ULS/CT adrenals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5087520" y="515412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RH Test 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4440240" y="5681160"/>
              <a:ext cx="115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ituita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6096600" y="5681160"/>
              <a:ext cx="10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Ectopic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6084000" y="63806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T ches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4230360" y="636732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MRI pituita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80" name="Straight Arrow Connector 26"/>
            <p:cNvCxnSpPr/>
            <p:nvPr/>
          </p:nvCxnSpPr>
          <p:spPr>
            <a:xfrm flipH="1">
              <a:off x="4571640" y="69192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181" name="Left-Right-Up Arrow 29"/>
            <p:cNvSpPr/>
            <p:nvPr/>
          </p:nvSpPr>
          <p:spPr>
            <a:xfrm>
              <a:off x="2600280" y="1412640"/>
              <a:ext cx="3960720" cy="360360"/>
            </a:xfrm>
            <a:custGeom>
              <a:avLst/>
              <a:gdLst/>
              <a:ahLst/>
              <a:rect l="l" t="t" r="r" b="b"/>
              <a:pathLst>
                <a:path w="3960221" h="360344">
                  <a:moveTo>
                    <a:pt x="0" y="270258"/>
                  </a:moveTo>
                  <a:lnTo>
                    <a:pt x="90086" y="180172"/>
                  </a:lnTo>
                  <a:lnTo>
                    <a:pt x="90086" y="225215"/>
                  </a:lnTo>
                  <a:lnTo>
                    <a:pt x="1935068" y="225215"/>
                  </a:lnTo>
                  <a:lnTo>
                    <a:pt x="1935068" y="90086"/>
                  </a:lnTo>
                  <a:lnTo>
                    <a:pt x="1890025" y="90086"/>
                  </a:lnTo>
                  <a:lnTo>
                    <a:pt x="1980111" y="0"/>
                  </a:lnTo>
                  <a:lnTo>
                    <a:pt x="2070197" y="90086"/>
                  </a:lnTo>
                  <a:lnTo>
                    <a:pt x="2025154" y="90086"/>
                  </a:lnTo>
                  <a:lnTo>
                    <a:pt x="2025154" y="225215"/>
                  </a:lnTo>
                  <a:lnTo>
                    <a:pt x="3870135" y="225215"/>
                  </a:lnTo>
                  <a:lnTo>
                    <a:pt x="3870135" y="180172"/>
                  </a:lnTo>
                  <a:lnTo>
                    <a:pt x="3960221" y="270258"/>
                  </a:lnTo>
                  <a:lnTo>
                    <a:pt x="3870135" y="360344"/>
                  </a:lnTo>
                  <a:lnTo>
                    <a:pt x="3870135" y="315301"/>
                  </a:lnTo>
                  <a:lnTo>
                    <a:pt x="90086" y="315301"/>
                  </a:lnTo>
                  <a:lnTo>
                    <a:pt x="90086" y="360344"/>
                  </a:lnTo>
                  <a:lnTo>
                    <a:pt x="0" y="270258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82" name="Left-Right-Up Arrow 30"/>
            <p:cNvSpPr/>
            <p:nvPr/>
          </p:nvSpPr>
          <p:spPr>
            <a:xfrm flipV="1">
              <a:off x="2671560" y="2130840"/>
              <a:ext cx="3889080" cy="360360"/>
            </a:xfrm>
            <a:custGeom>
              <a:avLst/>
              <a:gdLst/>
              <a:ahLst/>
              <a:rect l="l" t="t" r="r" b="b"/>
              <a:pathLst>
                <a:path w="3888794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1899354" y="225214"/>
                  </a:lnTo>
                  <a:lnTo>
                    <a:pt x="1899354" y="90086"/>
                  </a:lnTo>
                  <a:lnTo>
                    <a:pt x="1854311" y="90086"/>
                  </a:lnTo>
                  <a:lnTo>
                    <a:pt x="1944397" y="0"/>
                  </a:lnTo>
                  <a:lnTo>
                    <a:pt x="2034483" y="90086"/>
                  </a:lnTo>
                  <a:lnTo>
                    <a:pt x="1989440" y="90086"/>
                  </a:lnTo>
                  <a:lnTo>
                    <a:pt x="1989440" y="225214"/>
                  </a:lnTo>
                  <a:lnTo>
                    <a:pt x="3798708" y="225214"/>
                  </a:lnTo>
                  <a:lnTo>
                    <a:pt x="3798708" y="180172"/>
                  </a:lnTo>
                  <a:lnTo>
                    <a:pt x="3888794" y="270257"/>
                  </a:lnTo>
                  <a:lnTo>
                    <a:pt x="3798708" y="360343"/>
                  </a:lnTo>
                  <a:lnTo>
                    <a:pt x="3798708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83" name="Left-Right-Up Arrow 31"/>
            <p:cNvSpPr/>
            <p:nvPr/>
          </p:nvSpPr>
          <p:spPr>
            <a:xfrm>
              <a:off x="2600280" y="2906640"/>
              <a:ext cx="4032000" cy="360360"/>
            </a:xfrm>
            <a:custGeom>
              <a:avLst/>
              <a:gdLst/>
              <a:ahLst/>
              <a:rect l="l" t="t" r="r" b="b"/>
              <a:pathLst>
                <a:path w="4031647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1970781" y="225214"/>
                  </a:lnTo>
                  <a:lnTo>
                    <a:pt x="1970781" y="90086"/>
                  </a:lnTo>
                  <a:lnTo>
                    <a:pt x="1925738" y="90086"/>
                  </a:lnTo>
                  <a:lnTo>
                    <a:pt x="2015824" y="0"/>
                  </a:lnTo>
                  <a:lnTo>
                    <a:pt x="2105909" y="90086"/>
                  </a:lnTo>
                  <a:lnTo>
                    <a:pt x="2060866" y="90086"/>
                  </a:lnTo>
                  <a:lnTo>
                    <a:pt x="2060866" y="225214"/>
                  </a:lnTo>
                  <a:lnTo>
                    <a:pt x="3941561" y="225214"/>
                  </a:lnTo>
                  <a:lnTo>
                    <a:pt x="3941561" y="180172"/>
                  </a:lnTo>
                  <a:lnTo>
                    <a:pt x="4031647" y="270257"/>
                  </a:lnTo>
                  <a:lnTo>
                    <a:pt x="3941561" y="360343"/>
                  </a:lnTo>
                  <a:lnTo>
                    <a:pt x="3941561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84" name="Straight Arrow Connector 32"/>
            <p:cNvCxnSpPr/>
            <p:nvPr/>
          </p:nvCxnSpPr>
          <p:spPr>
            <a:xfrm flipH="1">
              <a:off x="7017840" y="3591000"/>
              <a:ext cx="2160" cy="35784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185" name="Left-Right-Up Arrow 33"/>
            <p:cNvSpPr/>
            <p:nvPr/>
          </p:nvSpPr>
          <p:spPr>
            <a:xfrm>
              <a:off x="5724360" y="4245120"/>
              <a:ext cx="2592360" cy="358560"/>
            </a:xfrm>
            <a:custGeom>
              <a:avLst/>
              <a:gdLst/>
              <a:ahLst/>
              <a:rect l="l" t="t" r="r" b="b"/>
              <a:pathLst>
                <a:path w="2592001" h="358756">
                  <a:moveTo>
                    <a:pt x="0" y="269067"/>
                  </a:moveTo>
                  <a:lnTo>
                    <a:pt x="89689" y="179378"/>
                  </a:lnTo>
                  <a:lnTo>
                    <a:pt x="89689" y="224223"/>
                  </a:lnTo>
                  <a:lnTo>
                    <a:pt x="1251156" y="224223"/>
                  </a:lnTo>
                  <a:lnTo>
                    <a:pt x="1251156" y="89689"/>
                  </a:lnTo>
                  <a:lnTo>
                    <a:pt x="1206312" y="89689"/>
                  </a:lnTo>
                  <a:lnTo>
                    <a:pt x="1296001" y="0"/>
                  </a:lnTo>
                  <a:lnTo>
                    <a:pt x="1385690" y="89689"/>
                  </a:lnTo>
                  <a:lnTo>
                    <a:pt x="1340845" y="89689"/>
                  </a:lnTo>
                  <a:lnTo>
                    <a:pt x="1340845" y="224223"/>
                  </a:lnTo>
                  <a:lnTo>
                    <a:pt x="2502312" y="224223"/>
                  </a:lnTo>
                  <a:lnTo>
                    <a:pt x="2502312" y="179378"/>
                  </a:lnTo>
                  <a:lnTo>
                    <a:pt x="2592001" y="269067"/>
                  </a:lnTo>
                  <a:lnTo>
                    <a:pt x="2502312" y="358756"/>
                  </a:lnTo>
                  <a:lnTo>
                    <a:pt x="2502312" y="313912"/>
                  </a:lnTo>
                  <a:lnTo>
                    <a:pt x="89689" y="313912"/>
                  </a:lnTo>
                  <a:lnTo>
                    <a:pt x="89689" y="358756"/>
                  </a:lnTo>
                  <a:lnTo>
                    <a:pt x="0" y="26906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86" name="Straight Arrow Connector 34"/>
            <p:cNvCxnSpPr/>
            <p:nvPr/>
          </p:nvCxnSpPr>
          <p:spPr>
            <a:xfrm flipH="1">
              <a:off x="5724000" y="486900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187" name="Left-Right-Up Arrow 35"/>
            <p:cNvSpPr/>
            <p:nvPr/>
          </p:nvSpPr>
          <p:spPr>
            <a:xfrm>
              <a:off x="4873680" y="5386320"/>
              <a:ext cx="1728720" cy="360360"/>
            </a:xfrm>
            <a:custGeom>
              <a:avLst/>
              <a:gdLst/>
              <a:ahLst/>
              <a:rect l="l" t="t" r="r" b="b"/>
              <a:pathLst>
                <a:path w="1728530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819222" y="225214"/>
                  </a:lnTo>
                  <a:lnTo>
                    <a:pt x="819222" y="90086"/>
                  </a:lnTo>
                  <a:lnTo>
                    <a:pt x="774179" y="90086"/>
                  </a:lnTo>
                  <a:lnTo>
                    <a:pt x="864265" y="0"/>
                  </a:lnTo>
                  <a:lnTo>
                    <a:pt x="954351" y="90086"/>
                  </a:lnTo>
                  <a:lnTo>
                    <a:pt x="909308" y="90086"/>
                  </a:lnTo>
                  <a:lnTo>
                    <a:pt x="909308" y="225214"/>
                  </a:lnTo>
                  <a:lnTo>
                    <a:pt x="1638444" y="225214"/>
                  </a:lnTo>
                  <a:lnTo>
                    <a:pt x="1638444" y="180172"/>
                  </a:lnTo>
                  <a:lnTo>
                    <a:pt x="1728530" y="270257"/>
                  </a:lnTo>
                  <a:lnTo>
                    <a:pt x="1638444" y="360343"/>
                  </a:lnTo>
                  <a:lnTo>
                    <a:pt x="1638444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88" name="Straight Arrow Connector 36"/>
            <p:cNvCxnSpPr/>
            <p:nvPr/>
          </p:nvCxnSpPr>
          <p:spPr>
            <a:xfrm flipH="1">
              <a:off x="6587640" y="602316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189" name="Straight Arrow Connector 37"/>
            <p:cNvCxnSpPr/>
            <p:nvPr/>
          </p:nvCxnSpPr>
          <p:spPr>
            <a:xfrm flipH="1">
              <a:off x="5003280" y="602316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190" name="Straight Arrow Connector 45"/>
            <p:cNvCxnSpPr/>
            <p:nvPr/>
          </p:nvCxnSpPr>
          <p:spPr>
            <a:xfrm flipH="1">
              <a:off x="8245080" y="5014800"/>
              <a:ext cx="2160" cy="108000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191" name="TextBox 48"/>
            <p:cNvSpPr/>
            <p:nvPr/>
          </p:nvSpPr>
          <p:spPr>
            <a:xfrm>
              <a:off x="362880" y="1038240"/>
              <a:ext cx="128556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creen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2" name="TextBox 49"/>
            <p:cNvSpPr/>
            <p:nvPr/>
          </p:nvSpPr>
          <p:spPr>
            <a:xfrm>
              <a:off x="381960" y="2482920"/>
              <a:ext cx="161496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Arial"/>
                </a:rPr>
                <a:t>Confirmato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3" name="TextBox 50"/>
            <p:cNvSpPr/>
            <p:nvPr/>
          </p:nvSpPr>
          <p:spPr>
            <a:xfrm>
              <a:off x="394920" y="3981600"/>
              <a:ext cx="86508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au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4" name="TextBox 51"/>
            <p:cNvSpPr/>
            <p:nvPr/>
          </p:nvSpPr>
          <p:spPr>
            <a:xfrm>
              <a:off x="1073520" y="45990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lcoholism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5" name="TextBox 52"/>
            <p:cNvSpPr/>
            <p:nvPr/>
          </p:nvSpPr>
          <p:spPr>
            <a:xfrm>
              <a:off x="2935800" y="458100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Depression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196" name="TextBox 53"/>
            <p:cNvSpPr/>
            <p:nvPr/>
          </p:nvSpPr>
          <p:spPr>
            <a:xfrm>
              <a:off x="1784880" y="5003640"/>
              <a:ext cx="170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Severe illness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197" name="Straight Arrow Connector 54"/>
            <p:cNvCxnSpPr>
              <a:endCxn id="196" idx="0"/>
            </p:cNvCxnSpPr>
            <p:nvPr/>
          </p:nvCxnSpPr>
          <p:spPr>
            <a:xfrm flipH="1">
              <a:off x="2636280" y="3712680"/>
              <a:ext cx="8640" cy="12913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198" name="Straight Arrow Connector 55"/>
            <p:cNvCxnSpPr/>
            <p:nvPr/>
          </p:nvCxnSpPr>
          <p:spPr>
            <a:xfrm flipH="1">
              <a:off x="1788840" y="3730680"/>
              <a:ext cx="845280" cy="86904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199" name="Straight Arrow Connector 58"/>
            <p:cNvCxnSpPr/>
            <p:nvPr/>
          </p:nvCxnSpPr>
          <p:spPr>
            <a:xfrm>
              <a:off x="2646720" y="3720960"/>
              <a:ext cx="780120" cy="8611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. Screening tests: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38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Effective screening tests need to b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nsitiv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bu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 not have to be highly specific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t includes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ow-dose dexamethasone (DXM) suppression test (DST)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Overnight suppression test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XM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RH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CTH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ortisol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4-hour urinary free cortisol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9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98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98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98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98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98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. Screening tests: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50640" y="765000"/>
            <a:ext cx="845964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66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Low-dose DST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outpatient procedure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Procedure: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1 mg DXM administered at  11-12 PM the night before attending the clinic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erum cortisol is measured at 8-9 AM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Resul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Cortisol &lt; 50 nmol/L (suppression)</a:t>
            </a:r>
            <a:r>
              <a:rPr b="1" lang="en-US" sz="26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exclude hypercortisolnemia (Cushing Syndrome)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caution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rugs that induce hepatic microsomal enzymes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enobarbiton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&amp;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enytoin)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DXM metabolism and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DXM blood level to achieve CRH   suppress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false diagnosis of Cushing)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1017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98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98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98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98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98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98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097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4- hour urinary free cortisol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sult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ortisol &lt; 250 nmol/day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exclude Cushing Syndrome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sadvantag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: incomplete collection of urine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 false-negative result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66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-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An alternative is to determin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urinary cortisol : creatinine ratio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on an early morning specimen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68360" y="5475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. Screening tests: …. Cont’D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9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6200" y="404640"/>
            <a:ext cx="7993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Interpretation of screening tests: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creening tests serve to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istinguish simple non-endocrine obesity from obesity due to Cushing's syndrome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firmatory tests (in-patient basis)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required to rule out pseudo-Cushing's syndrom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seudo-Cushing's syndrom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Depressed or extremely anxious patient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evere intercurrent illnes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lcoholism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9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98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98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98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98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98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98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98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B. Confirmatory tests: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Arial Black"/>
              </a:rPr>
              <a:t>(Inpatient)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1342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sulin-induced hypoglycemia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seudo-Cushing patients show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bnormal diurnal rhythm of S. cortisol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t,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ith Insulin-induced hypoglycemia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RH, ACTH and cortisol blood level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rue Cushing patients: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response to hypoglycemia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77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sulin-induced hypoglycemia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Hypoglycemia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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RH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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CTH </a:t>
            </a:r>
            <a:r>
              <a:rPr b="1" lang="en-US" sz="2800" spc="-1" strike="noStrike">
                <a:solidFill>
                  <a:srgbClr val="336600"/>
                </a:solidFill>
                <a:latin typeface="Symbol"/>
                <a:ea typeface="Symbol"/>
              </a:rPr>
              <a:t>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cortisol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test the integrity of the hypothalamic-pituitary-adrenal (HPA) axis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o distinguish true Cushing's syndrome from pseudo-Cushing’s syndrom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traindicated i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pilepsy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eart disease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B. Confirmatory tests: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Arial Black"/>
              </a:rPr>
              <a:t>… Cont’d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98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98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98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98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98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sulin hypoglycemia test</a:t>
            </a:r>
            <a:r>
              <a:rPr b="1" lang="en-US" sz="3200" spc="-1" strike="noStrike">
                <a:solidFill>
                  <a:srgbClr val="0066cc"/>
                </a:solidFill>
                <a:latin typeface="Arial Black"/>
              </a:rPr>
              <a:t> …. Cont’d 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cedure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Insulin I.V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 (0.15 U/kg) to lower blood glucose to 2.2 mmol/L or less 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Samples for simultaneous measurement of serum glucose and cortisol levels are taken basally (before insulin injection) and a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 mi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fter I.V. insulin injection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Failure to achieve a glucose level of 2.2 mmol/L invalidates the test and should be repeated with increment in step of 0.05U/kg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9308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sulin hypoglycemia test</a:t>
            </a: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 …. Cont’d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39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nterpretation of the results: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rmally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al serum cortisol: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t least 145 nmol/L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t 60 - 90 minutes: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level &gt; 425 nmol/L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atients with Cushing's syndrom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atever the cause, do not respond normally to insulin-induced hypoglycemia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basal serum cortisol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an normal 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t 60 - 90 minutes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no increase in S. cortisol,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despite the production of an adequate degree of hypoglycemia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98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98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98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98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98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98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98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.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ests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used to determine the cause of Cushing's syndrome: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fferentiate ACTH-dependant from ACTH-independent: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lasma ACTH (Diurnal rhythm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tinguish between ACTH-dependent causes (Pitutary Vs Lung)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207080" indent="-438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-dose DST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207080" indent="-438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H stimulation te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logical tests: MRI of pituitary and ultrasound or CT of adrenal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98600"/>
            <a:ext cx="396072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ANATOMICALLY: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4608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adrenal gland is situated on the anteriosuperior aspect of the kidney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324000" y="3860640"/>
            <a:ext cx="4608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HISTOLOGICALLY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adrenal gland consists of two distinct tissues of different embryological origin, the outer cortex and inner medulla.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9" name="Picture 10" descr="kidney_adrenal"/>
          <p:cNvPicPr/>
          <p:nvPr/>
        </p:nvPicPr>
        <p:blipFill>
          <a:blip r:embed="rId1"/>
          <a:stretch/>
        </p:blipFill>
        <p:spPr>
          <a:xfrm>
            <a:off x="5076720" y="692280"/>
            <a:ext cx="36007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11" descr="adrenal"/>
          <p:cNvPicPr/>
          <p:nvPr/>
        </p:nvPicPr>
        <p:blipFill>
          <a:blip r:embed="rId2"/>
          <a:stretch/>
        </p:blipFill>
        <p:spPr>
          <a:xfrm>
            <a:off x="5148360" y="4248000"/>
            <a:ext cx="3529080" cy="19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8520" y="260280"/>
            <a:ext cx="6045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1. Plasma [ACTH]:</a:t>
            </a:r>
            <a:endParaRPr b="0" lang="en-US" sz="3400" spc="-1" strike="noStrike">
              <a:solidFill>
                <a:srgbClr val="800080"/>
              </a:solidFill>
              <a:latin typeface="Arial Black"/>
            </a:endParaRPr>
          </a:p>
        </p:txBody>
      </p:sp>
      <p:grpSp>
        <p:nvGrpSpPr>
          <p:cNvPr id="219" name="Organization Chart 7"/>
          <p:cNvGrpSpPr/>
          <p:nvPr/>
        </p:nvGrpSpPr>
        <p:grpSpPr>
          <a:xfrm>
            <a:off x="684360" y="1339920"/>
            <a:ext cx="7705440" cy="4537080"/>
            <a:chOff x="684360" y="1339920"/>
            <a:chExt cx="7705440" cy="4537080"/>
          </a:xfrm>
        </p:grpSpPr>
        <p:sp>
          <p:nvSpPr>
            <p:cNvPr id="220" name="AutoShape 6"/>
            <p:cNvSpPr/>
            <p:nvPr/>
          </p:nvSpPr>
          <p:spPr>
            <a:xfrm>
              <a:off x="684360" y="1339920"/>
              <a:ext cx="770544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21" name="_s1028"/>
            <p:cNvCxnSpPr>
              <a:stCxn id="222" idx="0"/>
              <a:endCxn id="223" idx="2"/>
            </p:cNvCxnSpPr>
            <p:nvPr/>
          </p:nvCxnSpPr>
          <p:spPr>
            <a:xfrm flipV="1" rot="16200000">
              <a:off x="5749920" y="1506600"/>
              <a:ext cx="229320" cy="2656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224" name="_s1029"/>
            <p:cNvCxnSpPr>
              <a:stCxn id="225" idx="0"/>
              <a:endCxn id="223" idx="2"/>
            </p:cNvCxnSpPr>
            <p:nvPr/>
          </p:nvCxnSpPr>
          <p:spPr>
            <a:xfrm flipV="1">
              <a:off x="4537080" y="2720160"/>
              <a:ext cx="2160" cy="229320"/>
            </a:xfrm>
            <a:prstGeom prst="straightConnector1">
              <a:avLst/>
            </a:prstGeom>
            <a:ln w="28440">
              <a:solidFill>
                <a:srgbClr val="336600"/>
              </a:solidFill>
              <a:miter/>
            </a:ln>
          </p:spPr>
        </p:cxnSp>
        <p:cxnSp>
          <p:nvCxnSpPr>
            <p:cNvPr id="226" name="_s1030"/>
            <p:cNvCxnSpPr>
              <a:stCxn id="227" idx="0"/>
              <a:endCxn id="223" idx="2"/>
            </p:cNvCxnSpPr>
            <p:nvPr/>
          </p:nvCxnSpPr>
          <p:spPr>
            <a:xfrm flipH="1" flipV="1" rot="5400000">
              <a:off x="3095280" y="1507320"/>
              <a:ext cx="229320" cy="2655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6600"/>
              </a:solidFill>
              <a:miter/>
            </a:ln>
          </p:spPr>
        </p:cxnSp>
        <p:sp>
          <p:nvSpPr>
            <p:cNvPr id="223" name="_s1031"/>
            <p:cNvSpPr/>
            <p:nvPr/>
          </p:nvSpPr>
          <p:spPr>
            <a:xfrm>
              <a:off x="3170160" y="2095560"/>
              <a:ext cx="2733840" cy="625320"/>
            </a:xfrm>
            <a:prstGeom prst="roundRect">
              <a:avLst>
                <a:gd name="adj" fmla="val 16667"/>
              </a:avLst>
            </a:prstGeom>
            <a:solidFill>
              <a:srgbClr val="fdfbbb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Arial"/>
                </a:rPr>
                <a:t>Plasma ACTH</a:t>
              </a:r>
              <a:endParaRPr b="0" lang="en-US" sz="31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>
              <a:off x="684360" y="2949480"/>
              <a:ext cx="2395440" cy="557280"/>
            </a:xfrm>
            <a:prstGeom prst="roundRect">
              <a:avLst>
                <a:gd name="adj" fmla="val 16667"/>
              </a:avLst>
            </a:prstGeom>
            <a:solidFill>
              <a:srgbClr val="fdfbbb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Undetectable</a:t>
              </a:r>
              <a:endParaRPr b="0" lang="en-US" sz="27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5" name="_s1033"/>
            <p:cNvSpPr/>
            <p:nvPr/>
          </p:nvSpPr>
          <p:spPr>
            <a:xfrm>
              <a:off x="3340080" y="2949480"/>
              <a:ext cx="2394000" cy="557280"/>
            </a:xfrm>
            <a:prstGeom prst="roundRect">
              <a:avLst>
                <a:gd name="adj" fmla="val 16667"/>
              </a:avLst>
            </a:prstGeom>
            <a:solidFill>
              <a:srgbClr val="fdfbbb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</a:t>
              </a: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ACTH</a:t>
              </a:r>
              <a:endParaRPr b="0" lang="en-US" sz="27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2" name="_s1034"/>
            <p:cNvSpPr/>
            <p:nvPr/>
          </p:nvSpPr>
          <p:spPr>
            <a:xfrm>
              <a:off x="5994360" y="2949480"/>
              <a:ext cx="2395440" cy="557280"/>
            </a:xfrm>
            <a:prstGeom prst="roundRect">
              <a:avLst>
                <a:gd name="adj" fmla="val 16667"/>
              </a:avLst>
            </a:prstGeom>
            <a:solidFill>
              <a:srgbClr val="fdfbbb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</a:t>
              </a:r>
              <a:r>
                <a:rPr b="1" lang="ar-SA" sz="27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ar-SA" sz="27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</a:t>
              </a:r>
              <a:r>
                <a:rPr b="1" lang="ar-SA" sz="27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ar-SA" sz="2700" spc="-1" strike="noStrike">
                  <a:solidFill>
                    <a:srgbClr val="336600"/>
                  </a:solidFill>
                  <a:latin typeface="Symbol"/>
                  <a:ea typeface="Symbol"/>
                </a:rPr>
                <a:t></a:t>
              </a: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336600"/>
                  </a:solidFill>
                  <a:latin typeface="Arial"/>
                </a:rPr>
                <a:t>ACTH</a:t>
              </a:r>
              <a:endParaRPr b="0" lang="en-US" sz="27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8" name="Text Box 19"/>
            <p:cNvSpPr/>
            <p:nvPr/>
          </p:nvSpPr>
          <p:spPr>
            <a:xfrm>
              <a:off x="3419640" y="4051440"/>
              <a:ext cx="2160360" cy="1557000"/>
            </a:xfrm>
            <a:prstGeom prst="rect">
              <a:avLst/>
            </a:prstGeom>
            <a:noFill/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Cushing's disease (pituitary-dependent)</a:t>
              </a:r>
              <a:endParaRPr b="0" lang="en-US" sz="24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1476360" y="335772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336600"/>
                  </a:solidFill>
                  <a:latin typeface="SPSS Marker Set"/>
                  <a:ea typeface="SPSS Marker Set"/>
                </a:rPr>
                <a:t></a:t>
              </a:r>
              <a:endParaRPr b="0" lang="en-US" sz="40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4211640" y="335772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336600"/>
                  </a:solidFill>
                  <a:latin typeface="SPSS Marker Set"/>
                  <a:ea typeface="SPSS Marker Set"/>
                </a:rPr>
                <a:t></a:t>
              </a:r>
              <a:endParaRPr b="0" lang="en-US" sz="40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6877080" y="335772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336600"/>
                  </a:solidFill>
                  <a:latin typeface="SPSS Marker Set"/>
                  <a:ea typeface="SPSS Marker Set"/>
                </a:rPr>
                <a:t></a:t>
              </a:r>
              <a:endParaRPr b="0" lang="en-US" sz="40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232" name="Text Box 17"/>
          <p:cNvSpPr/>
          <p:nvPr/>
        </p:nvSpPr>
        <p:spPr>
          <a:xfrm>
            <a:off x="539640" y="393372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395280" y="4041720"/>
            <a:ext cx="2808360" cy="228852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Functional adrenal tumor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confirmed by an abdominal CT scan to detect an adrenal mass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5867280" y="4056120"/>
            <a:ext cx="2808360" cy="119124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ctopic (non-endocrine) origin of ACTH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5" name="Rectangle 22"/>
          <p:cNvSpPr/>
          <p:nvPr/>
        </p:nvSpPr>
        <p:spPr>
          <a:xfrm>
            <a:off x="684360" y="107460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 Black"/>
              </a:rPr>
              <a:t>Plasma [ACTH] should be measured on blood specimens collected at 8-9 a.m. and 8-9 p.m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 (a).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igh-dose DST: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499760"/>
            <a:ext cx="84247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 is used to distinguish Cushing's disease from ectopic ACTH secretion.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2 mg dexamethasone six-hourly for 48 hours to suppress cortisol secretion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Basal (pre-dexamethasone) serum cortisol or 24-hour urine free cortisol is compared with the results at the end of the 48-hour period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1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ress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is defined a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75102"/>
                </a:solidFill>
                <a:latin typeface="Arial"/>
              </a:rPr>
              <a:t>a fall to less than   50 % of basal valu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bou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 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of patie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th Cushing'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disea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suppress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of cortisol output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contrast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ly 10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of patients wit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ctopic ACTH product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or with adrenal tumors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suppress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79720" y="447840"/>
            <a:ext cx="6858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 (a).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igh-dose DS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……….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389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2 (b). CRH stimulation test:</a:t>
            </a:r>
            <a:endParaRPr b="0" lang="en-US" sz="34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9640" y="980640"/>
            <a:ext cx="83534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easures the ACTH and cortisol levels basally and 60 minutes after injection of 100 µg CRH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508720" y="1928880"/>
            <a:ext cx="2519280" cy="1068840"/>
          </a:xfrm>
          <a:prstGeom prst="rect">
            <a:avLst/>
          </a:prstGeom>
          <a:solidFill>
            <a:srgbClr val="fdfbbb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shing's disease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16000" y="1925640"/>
            <a:ext cx="3456000" cy="1068840"/>
          </a:xfrm>
          <a:prstGeom prst="rect">
            <a:avLst/>
          </a:prstGeom>
          <a:solidFill>
            <a:srgbClr val="fdfbbb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topic ACTH &amp; adrenal tumors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932360" y="3220920"/>
            <a:ext cx="3672000" cy="1747440"/>
          </a:xfrm>
          <a:prstGeom prst="rect">
            <a:avLst/>
          </a:prstGeom>
          <a:solidFill>
            <a:srgbClr val="ccffcc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buClr>
                <a:srgbClr val="3333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CTH &amp; cortisol above basal at 60 min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262080" indent="-262080">
              <a:spcBef>
                <a:spcPts val="15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10% of patients</a:t>
            </a:r>
            <a:r>
              <a:rPr b="1" lang="ar-SA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ail to respond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84360" y="3227400"/>
            <a:ext cx="3958920" cy="1924920"/>
          </a:xfrm>
          <a:prstGeom prst="rect">
            <a:avLst/>
          </a:prstGeom>
          <a:solidFill>
            <a:srgbClr val="ccffcc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o respons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15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alse-positive responses are unusual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24000" y="5229360"/>
            <a:ext cx="8496000" cy="1252080"/>
          </a:xfrm>
          <a:prstGeom prst="rect">
            <a:avLst/>
          </a:prstGeom>
          <a:solidFill>
            <a:srgbClr val="fdfbbb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Cushing's diseas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gh-dose dexamethasone suppression test + the CRH test </a:t>
            </a:r>
            <a:r>
              <a:rPr b="1" lang="en-US" sz="2400" spc="-1" strike="noStrike">
                <a:solidFill>
                  <a:srgbClr val="33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100 % specificity and sensitivity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6804000" y="3078000"/>
            <a:ext cx="0" cy="14292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2771640" y="3078000"/>
            <a:ext cx="0" cy="14292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5003640" y="1916280"/>
            <a:ext cx="0" cy="57600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 flipH="1">
            <a:off x="4572000" y="2492280"/>
            <a:ext cx="936720" cy="0"/>
          </a:xfrm>
          <a:prstGeom prst="line">
            <a:avLst/>
          </a:prstGeom>
          <a:ln w="7632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89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3. Radiological Investigations:</a:t>
            </a:r>
            <a:endParaRPr b="0" lang="en-US" sz="34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7272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T scanning of the adrenal glands/ Lung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RI of the pituitary gland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440" y="83664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ther blood tests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commonly performed for patients suspected to have Cushing’s syndrome are: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ull blood count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lood glucose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lood electrolyte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nd pH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enal funct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iver function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2" marL="162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255" name="Group 66"/>
          <p:cNvGrpSpPr/>
          <p:nvPr/>
        </p:nvGrpSpPr>
        <p:grpSpPr>
          <a:xfrm>
            <a:off x="362880" y="371520"/>
            <a:ext cx="8457120" cy="6377400"/>
            <a:chOff x="362880" y="371520"/>
            <a:chExt cx="8457120" cy="6377400"/>
          </a:xfrm>
        </p:grpSpPr>
        <p:sp>
          <p:nvSpPr>
            <p:cNvPr id="256" name="Rectangle 7"/>
            <p:cNvSpPr/>
            <p:nvPr/>
          </p:nvSpPr>
          <p:spPr>
            <a:xfrm>
              <a:off x="3912480" y="37152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? 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3741840" y="10522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Low DST/UFC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1554480" y="1763280"/>
              <a:ext cx="19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esudo-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6050160" y="1763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rue Cush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3359520" y="2492640"/>
              <a:ext cx="250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Arial"/>
                </a:rPr>
                <a:t>Insulin hypoglycemia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1577160" y="32439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ormal respon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6273720" y="324396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o respon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6058080" y="3896280"/>
              <a:ext cx="19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ACTH/High DS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4780800" y="457164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CTH-dependen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7747200" y="45698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drenal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7686000" y="6095160"/>
              <a:ext cx="113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ULS/CT adrenals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087520" y="515412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RH Test 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4440240" y="5681160"/>
              <a:ext cx="115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ituita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69" name="Rectangle 20"/>
            <p:cNvSpPr/>
            <p:nvPr/>
          </p:nvSpPr>
          <p:spPr>
            <a:xfrm>
              <a:off x="6096600" y="5681160"/>
              <a:ext cx="10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Ectopic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70" name="Rectangle 21"/>
            <p:cNvSpPr/>
            <p:nvPr/>
          </p:nvSpPr>
          <p:spPr>
            <a:xfrm>
              <a:off x="6084000" y="63806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T chest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71" name="Rectangle 22"/>
            <p:cNvSpPr/>
            <p:nvPr/>
          </p:nvSpPr>
          <p:spPr>
            <a:xfrm>
              <a:off x="4230360" y="636732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MRI pituita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72" name="Straight Arrow Connector 26"/>
            <p:cNvCxnSpPr/>
            <p:nvPr/>
          </p:nvCxnSpPr>
          <p:spPr>
            <a:xfrm flipH="1">
              <a:off x="4571640" y="69192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273" name="Left-Right-Up Arrow 29"/>
            <p:cNvSpPr/>
            <p:nvPr/>
          </p:nvSpPr>
          <p:spPr>
            <a:xfrm>
              <a:off x="2600280" y="1412640"/>
              <a:ext cx="3960720" cy="360360"/>
            </a:xfrm>
            <a:custGeom>
              <a:avLst/>
              <a:gdLst/>
              <a:ahLst/>
              <a:rect l="l" t="t" r="r" b="b"/>
              <a:pathLst>
                <a:path w="3960221" h="360344">
                  <a:moveTo>
                    <a:pt x="0" y="270258"/>
                  </a:moveTo>
                  <a:lnTo>
                    <a:pt x="90086" y="180172"/>
                  </a:lnTo>
                  <a:lnTo>
                    <a:pt x="90086" y="225215"/>
                  </a:lnTo>
                  <a:lnTo>
                    <a:pt x="1935068" y="225215"/>
                  </a:lnTo>
                  <a:lnTo>
                    <a:pt x="1935068" y="90086"/>
                  </a:lnTo>
                  <a:lnTo>
                    <a:pt x="1890025" y="90086"/>
                  </a:lnTo>
                  <a:lnTo>
                    <a:pt x="1980111" y="0"/>
                  </a:lnTo>
                  <a:lnTo>
                    <a:pt x="2070197" y="90086"/>
                  </a:lnTo>
                  <a:lnTo>
                    <a:pt x="2025154" y="90086"/>
                  </a:lnTo>
                  <a:lnTo>
                    <a:pt x="2025154" y="225215"/>
                  </a:lnTo>
                  <a:lnTo>
                    <a:pt x="3870135" y="225215"/>
                  </a:lnTo>
                  <a:lnTo>
                    <a:pt x="3870135" y="180172"/>
                  </a:lnTo>
                  <a:lnTo>
                    <a:pt x="3960221" y="270258"/>
                  </a:lnTo>
                  <a:lnTo>
                    <a:pt x="3870135" y="360344"/>
                  </a:lnTo>
                  <a:lnTo>
                    <a:pt x="3870135" y="315301"/>
                  </a:lnTo>
                  <a:lnTo>
                    <a:pt x="90086" y="315301"/>
                  </a:lnTo>
                  <a:lnTo>
                    <a:pt x="90086" y="360344"/>
                  </a:lnTo>
                  <a:lnTo>
                    <a:pt x="0" y="270258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74" name="Left-Right-Up Arrow 30"/>
            <p:cNvSpPr/>
            <p:nvPr/>
          </p:nvSpPr>
          <p:spPr>
            <a:xfrm flipV="1">
              <a:off x="2671560" y="2130840"/>
              <a:ext cx="3889080" cy="360360"/>
            </a:xfrm>
            <a:custGeom>
              <a:avLst/>
              <a:gdLst/>
              <a:ahLst/>
              <a:rect l="l" t="t" r="r" b="b"/>
              <a:pathLst>
                <a:path w="3888794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1899354" y="225214"/>
                  </a:lnTo>
                  <a:lnTo>
                    <a:pt x="1899354" y="90086"/>
                  </a:lnTo>
                  <a:lnTo>
                    <a:pt x="1854311" y="90086"/>
                  </a:lnTo>
                  <a:lnTo>
                    <a:pt x="1944397" y="0"/>
                  </a:lnTo>
                  <a:lnTo>
                    <a:pt x="2034483" y="90086"/>
                  </a:lnTo>
                  <a:lnTo>
                    <a:pt x="1989440" y="90086"/>
                  </a:lnTo>
                  <a:lnTo>
                    <a:pt x="1989440" y="225214"/>
                  </a:lnTo>
                  <a:lnTo>
                    <a:pt x="3798708" y="225214"/>
                  </a:lnTo>
                  <a:lnTo>
                    <a:pt x="3798708" y="180172"/>
                  </a:lnTo>
                  <a:lnTo>
                    <a:pt x="3888794" y="270257"/>
                  </a:lnTo>
                  <a:lnTo>
                    <a:pt x="3798708" y="360343"/>
                  </a:lnTo>
                  <a:lnTo>
                    <a:pt x="3798708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75" name="Left-Right-Up Arrow 31"/>
            <p:cNvSpPr/>
            <p:nvPr/>
          </p:nvSpPr>
          <p:spPr>
            <a:xfrm>
              <a:off x="2600280" y="2906640"/>
              <a:ext cx="4032000" cy="360360"/>
            </a:xfrm>
            <a:custGeom>
              <a:avLst/>
              <a:gdLst/>
              <a:ahLst/>
              <a:rect l="l" t="t" r="r" b="b"/>
              <a:pathLst>
                <a:path w="4031647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1970781" y="225214"/>
                  </a:lnTo>
                  <a:lnTo>
                    <a:pt x="1970781" y="90086"/>
                  </a:lnTo>
                  <a:lnTo>
                    <a:pt x="1925738" y="90086"/>
                  </a:lnTo>
                  <a:lnTo>
                    <a:pt x="2015824" y="0"/>
                  </a:lnTo>
                  <a:lnTo>
                    <a:pt x="2105909" y="90086"/>
                  </a:lnTo>
                  <a:lnTo>
                    <a:pt x="2060866" y="90086"/>
                  </a:lnTo>
                  <a:lnTo>
                    <a:pt x="2060866" y="225214"/>
                  </a:lnTo>
                  <a:lnTo>
                    <a:pt x="3941561" y="225214"/>
                  </a:lnTo>
                  <a:lnTo>
                    <a:pt x="3941561" y="180172"/>
                  </a:lnTo>
                  <a:lnTo>
                    <a:pt x="4031647" y="270257"/>
                  </a:lnTo>
                  <a:lnTo>
                    <a:pt x="3941561" y="360343"/>
                  </a:lnTo>
                  <a:lnTo>
                    <a:pt x="3941561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76" name="Straight Arrow Connector 32"/>
            <p:cNvCxnSpPr/>
            <p:nvPr/>
          </p:nvCxnSpPr>
          <p:spPr>
            <a:xfrm flipH="1">
              <a:off x="7017840" y="3591000"/>
              <a:ext cx="2160" cy="35784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277" name="Left-Right-Up Arrow 33"/>
            <p:cNvSpPr/>
            <p:nvPr/>
          </p:nvSpPr>
          <p:spPr>
            <a:xfrm>
              <a:off x="5724360" y="4245120"/>
              <a:ext cx="2592360" cy="358560"/>
            </a:xfrm>
            <a:custGeom>
              <a:avLst/>
              <a:gdLst/>
              <a:ahLst/>
              <a:rect l="l" t="t" r="r" b="b"/>
              <a:pathLst>
                <a:path w="2592001" h="358756">
                  <a:moveTo>
                    <a:pt x="0" y="269067"/>
                  </a:moveTo>
                  <a:lnTo>
                    <a:pt x="89689" y="179378"/>
                  </a:lnTo>
                  <a:lnTo>
                    <a:pt x="89689" y="224223"/>
                  </a:lnTo>
                  <a:lnTo>
                    <a:pt x="1251156" y="224223"/>
                  </a:lnTo>
                  <a:lnTo>
                    <a:pt x="1251156" y="89689"/>
                  </a:lnTo>
                  <a:lnTo>
                    <a:pt x="1206312" y="89689"/>
                  </a:lnTo>
                  <a:lnTo>
                    <a:pt x="1296001" y="0"/>
                  </a:lnTo>
                  <a:lnTo>
                    <a:pt x="1385690" y="89689"/>
                  </a:lnTo>
                  <a:lnTo>
                    <a:pt x="1340845" y="89689"/>
                  </a:lnTo>
                  <a:lnTo>
                    <a:pt x="1340845" y="224223"/>
                  </a:lnTo>
                  <a:lnTo>
                    <a:pt x="2502312" y="224223"/>
                  </a:lnTo>
                  <a:lnTo>
                    <a:pt x="2502312" y="179378"/>
                  </a:lnTo>
                  <a:lnTo>
                    <a:pt x="2592001" y="269067"/>
                  </a:lnTo>
                  <a:lnTo>
                    <a:pt x="2502312" y="358756"/>
                  </a:lnTo>
                  <a:lnTo>
                    <a:pt x="2502312" y="313912"/>
                  </a:lnTo>
                  <a:lnTo>
                    <a:pt x="89689" y="313912"/>
                  </a:lnTo>
                  <a:lnTo>
                    <a:pt x="89689" y="358756"/>
                  </a:lnTo>
                  <a:lnTo>
                    <a:pt x="0" y="26906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78" name="Straight Arrow Connector 34"/>
            <p:cNvCxnSpPr/>
            <p:nvPr/>
          </p:nvCxnSpPr>
          <p:spPr>
            <a:xfrm flipH="1">
              <a:off x="5724000" y="486900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279" name="Left-Right-Up Arrow 35"/>
            <p:cNvSpPr/>
            <p:nvPr/>
          </p:nvSpPr>
          <p:spPr>
            <a:xfrm>
              <a:off x="4873680" y="5386320"/>
              <a:ext cx="1728720" cy="360360"/>
            </a:xfrm>
            <a:custGeom>
              <a:avLst/>
              <a:gdLst/>
              <a:ahLst/>
              <a:rect l="l" t="t" r="r" b="b"/>
              <a:pathLst>
                <a:path w="1728530" h="360343">
                  <a:moveTo>
                    <a:pt x="0" y="270257"/>
                  </a:moveTo>
                  <a:lnTo>
                    <a:pt x="90086" y="180172"/>
                  </a:lnTo>
                  <a:lnTo>
                    <a:pt x="90086" y="225214"/>
                  </a:lnTo>
                  <a:lnTo>
                    <a:pt x="819222" y="225214"/>
                  </a:lnTo>
                  <a:lnTo>
                    <a:pt x="819222" y="90086"/>
                  </a:lnTo>
                  <a:lnTo>
                    <a:pt x="774179" y="90086"/>
                  </a:lnTo>
                  <a:lnTo>
                    <a:pt x="864265" y="0"/>
                  </a:lnTo>
                  <a:lnTo>
                    <a:pt x="954351" y="90086"/>
                  </a:lnTo>
                  <a:lnTo>
                    <a:pt x="909308" y="90086"/>
                  </a:lnTo>
                  <a:lnTo>
                    <a:pt x="909308" y="225214"/>
                  </a:lnTo>
                  <a:lnTo>
                    <a:pt x="1638444" y="225214"/>
                  </a:lnTo>
                  <a:lnTo>
                    <a:pt x="1638444" y="180172"/>
                  </a:lnTo>
                  <a:lnTo>
                    <a:pt x="1728530" y="270257"/>
                  </a:lnTo>
                  <a:lnTo>
                    <a:pt x="1638444" y="360343"/>
                  </a:lnTo>
                  <a:lnTo>
                    <a:pt x="1638444" y="315300"/>
                  </a:lnTo>
                  <a:lnTo>
                    <a:pt x="90086" y="315300"/>
                  </a:lnTo>
                  <a:lnTo>
                    <a:pt x="90086" y="360343"/>
                  </a:lnTo>
                  <a:lnTo>
                    <a:pt x="0" y="270257"/>
                  </a:lnTo>
                  <a:close/>
                </a:path>
              </a:pathLst>
            </a:custGeom>
            <a:solidFill>
              <a:srgbClr val="fdfbbb"/>
            </a:solidFill>
            <a:ln w="25560">
              <a:solidFill>
                <a:srgbClr val="bab9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80" name="Straight Arrow Connector 36"/>
            <p:cNvCxnSpPr/>
            <p:nvPr/>
          </p:nvCxnSpPr>
          <p:spPr>
            <a:xfrm flipH="1">
              <a:off x="6587640" y="602316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281" name="Straight Arrow Connector 37"/>
            <p:cNvCxnSpPr/>
            <p:nvPr/>
          </p:nvCxnSpPr>
          <p:spPr>
            <a:xfrm flipH="1">
              <a:off x="5003280" y="6023160"/>
              <a:ext cx="2160" cy="3589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45"/>
            <p:cNvCxnSpPr/>
            <p:nvPr/>
          </p:nvCxnSpPr>
          <p:spPr>
            <a:xfrm flipH="1">
              <a:off x="8245080" y="5014800"/>
              <a:ext cx="2160" cy="108000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sp>
          <p:nvSpPr>
            <p:cNvPr id="283" name="TextBox 48"/>
            <p:cNvSpPr/>
            <p:nvPr/>
          </p:nvSpPr>
          <p:spPr>
            <a:xfrm>
              <a:off x="362880" y="1038240"/>
              <a:ext cx="128556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creening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4" name="TextBox 49"/>
            <p:cNvSpPr/>
            <p:nvPr/>
          </p:nvSpPr>
          <p:spPr>
            <a:xfrm>
              <a:off x="381960" y="2482920"/>
              <a:ext cx="161496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00"/>
                  </a:solidFill>
                  <a:latin typeface="Arial"/>
                </a:rPr>
                <a:t>Confirmatory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5" name="TextBox 50"/>
            <p:cNvSpPr/>
            <p:nvPr/>
          </p:nvSpPr>
          <p:spPr>
            <a:xfrm>
              <a:off x="394920" y="3981600"/>
              <a:ext cx="865080" cy="368280"/>
            </a:xfrm>
            <a:prstGeom prst="rect">
              <a:avLst/>
            </a:prstGeom>
            <a:solidFill>
              <a:srgbClr val="faf5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Arial"/>
                </a:rPr>
                <a:t>Cause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6" name="TextBox 51"/>
            <p:cNvSpPr/>
            <p:nvPr/>
          </p:nvSpPr>
          <p:spPr>
            <a:xfrm>
              <a:off x="1073520" y="45990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Alcoholism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7" name="TextBox 52"/>
            <p:cNvSpPr/>
            <p:nvPr/>
          </p:nvSpPr>
          <p:spPr>
            <a:xfrm>
              <a:off x="2935800" y="458100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Depression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sp>
          <p:nvSpPr>
            <p:cNvPr id="288" name="TextBox 53"/>
            <p:cNvSpPr/>
            <p:nvPr/>
          </p:nvSpPr>
          <p:spPr>
            <a:xfrm>
              <a:off x="1784880" y="5003640"/>
              <a:ext cx="170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Severe illness</a:t>
              </a: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  <p:cxnSp>
          <p:nvCxnSpPr>
            <p:cNvPr id="289" name="Straight Arrow Connector 54"/>
            <p:cNvCxnSpPr>
              <a:endCxn id="288" idx="0"/>
            </p:cNvCxnSpPr>
            <p:nvPr/>
          </p:nvCxnSpPr>
          <p:spPr>
            <a:xfrm flipH="1">
              <a:off x="2636280" y="3712680"/>
              <a:ext cx="8640" cy="12913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290" name="Straight Arrow Connector 55"/>
            <p:cNvCxnSpPr/>
            <p:nvPr/>
          </p:nvCxnSpPr>
          <p:spPr>
            <a:xfrm flipH="1">
              <a:off x="1788840" y="3730680"/>
              <a:ext cx="845280" cy="86904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  <p:cxnSp>
          <p:nvCxnSpPr>
            <p:cNvPr id="291" name="Straight Arrow Connector 58"/>
            <p:cNvCxnSpPr/>
            <p:nvPr/>
          </p:nvCxnSpPr>
          <p:spPr>
            <a:xfrm>
              <a:off x="2646720" y="3720960"/>
              <a:ext cx="780120" cy="861120"/>
            </a:xfrm>
            <a:prstGeom prst="straightConnector1">
              <a:avLst/>
            </a:prstGeom>
            <a:ln w="31680">
              <a:solidFill>
                <a:srgbClr val="3366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89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Adrenal Hyperfunction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Summary of Biochemical Tests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0920" y="1125360"/>
          <a:ext cx="8713800" cy="5207040"/>
        </p:xfrm>
        <a:graphic>
          <a:graphicData uri="http://schemas.openxmlformats.org/drawingml/2006/table">
            <a:tbl>
              <a:tblPr/>
              <a:tblGrid>
                <a:gridCol w="2270160"/>
                <a:gridCol w="2122200"/>
                <a:gridCol w="2160720"/>
                <a:gridCol w="2160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e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ushing’s disea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drenal     tumor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Ectopic ACTH secreting tumor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S. cortisol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ow dose D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Urinary cortisol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Diurnal rhythm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nsulin-induced hypoglycemia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a [ACTH]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rmal or</a:t>
                      </a:r>
                      <a:r>
                        <a:rPr b="1" lang="ar-SA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t detectabl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 dose D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t suppressed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H test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576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33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ase study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000" y="980640"/>
            <a:ext cx="8458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58 years old man was admitted with weight loss and respiratory distress. He had increased pigmentation and BP was 140/80.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b tests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rea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8.6 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2.5-7 m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odium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144 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135-145 m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otassium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0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3.5-4.5 m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tisol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50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150-550 n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ost overnight DMX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30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(&lt;50nmol/L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urther investigation revealed the following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DMX suppression test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Basal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after 48 h      after 48h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0.5 mg qid     2.0 mg qid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Serum cortisol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1350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1420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        1100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suppressio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8 am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22.00 pm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Plasma ACTH (ng/L)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2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180 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f. range: 7-51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RH showed flat response for cortisol and ACTH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4920" y="126648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orders of the adrenals are uncommon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nsitive screening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for adrenocortical functions are important.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ditional confirmatory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required to establish the diagnosis and rule out pseudo-Cushing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ther biochemical test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diological investigatio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required to determine the cause of Cushing’s syndrome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Take Home Message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The adrenal cortex comprises three zones based on cell type and function:</a:t>
            </a:r>
            <a:r>
              <a:rPr b="0" lang="en-US" sz="28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4749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77920">
              <a:lnSpc>
                <a:spcPct val="90000"/>
              </a:lnSpc>
              <a:spcBef>
                <a:spcPts val="649"/>
              </a:spcBef>
              <a:buClr>
                <a:srgbClr val="cf3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Zo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lomerulosa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The outermost zone </a:t>
            </a:r>
            <a:r>
              <a:rPr b="1" lang="en-US" sz="26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cc"/>
                </a:solidFill>
                <a:latin typeface="Arial"/>
              </a:rPr>
              <a:t>aldosterone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(the principal mineralocorticoid).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The deeper layers of the cortex: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-277920">
              <a:lnSpc>
                <a:spcPct val="90000"/>
              </a:lnSpc>
              <a:spcBef>
                <a:spcPts val="649"/>
              </a:spcBef>
              <a:buClr>
                <a:srgbClr val="cf3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Zo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asciculata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glucocorticoids – mainly </a:t>
            </a:r>
            <a:r>
              <a:rPr b="1" lang="en-US" sz="2600" spc="-1" strike="noStrike">
                <a:solidFill>
                  <a:srgbClr val="0066cc"/>
                </a:solidFill>
                <a:latin typeface="Arial"/>
              </a:rPr>
              <a:t>cortisol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(95%)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lvl="1" marL="457200" indent="-277920">
              <a:lnSpc>
                <a:spcPct val="90000"/>
              </a:lnSpc>
              <a:spcBef>
                <a:spcPts val="649"/>
              </a:spcBef>
              <a:buClr>
                <a:srgbClr val="cf3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Zo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2600" spc="-1" strike="noStrike">
                <a:solidFill>
                  <a:srgbClr val="cf3e00"/>
                </a:solidFill>
                <a:latin typeface="Arial"/>
              </a:rPr>
              <a:t>eticularis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Sex hormones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3" name="Picture 8" descr="miniadrenalAnat"/>
          <p:cNvPicPr/>
          <p:nvPr/>
        </p:nvPicPr>
        <p:blipFill>
          <a:blip r:embed="rId1"/>
          <a:stretch/>
        </p:blipFill>
        <p:spPr>
          <a:xfrm>
            <a:off x="5364000" y="1268280"/>
            <a:ext cx="3264120" cy="20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12" descr="Adrenal_cortex_layers"/>
          <p:cNvPicPr/>
          <p:nvPr/>
        </p:nvPicPr>
        <p:blipFill>
          <a:blip r:embed="rId2"/>
          <a:stretch/>
        </p:blipFill>
        <p:spPr>
          <a:xfrm>
            <a:off x="5364000" y="3500280"/>
            <a:ext cx="326412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979640" y="0"/>
            <a:ext cx="5400720" cy="520560"/>
          </a:xfrm>
          <a:prstGeom prst="rect">
            <a:avLst/>
          </a:prstGeom>
          <a:solidFill>
            <a:srgbClr val="fdfbb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teroid Hormone Synthesi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132000" y="549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lestero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(27C)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716360" y="1413000"/>
            <a:ext cx="0" cy="360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132000" y="1700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gnenolone (21C)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4716360" y="2133720"/>
            <a:ext cx="0" cy="43164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32360" y="2133720"/>
            <a:ext cx="33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3-</a:t>
            </a:r>
            <a:r>
              <a:rPr b="1" lang="el-GR" sz="1400" spc="-1" strike="noStrike">
                <a:solidFill>
                  <a:srgbClr val="0000cc"/>
                </a:solidFill>
                <a:latin typeface="Arial"/>
              </a:rPr>
              <a:t>β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-Hydroxysteroid dehydrogenase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708360" y="2565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esterone (21C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4716360" y="2997360"/>
            <a:ext cx="0" cy="5029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859280" y="2997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17-</a:t>
            </a:r>
            <a:r>
              <a:rPr b="1" lang="el-GR" sz="1400" spc="-1" strike="noStrike">
                <a:solidFill>
                  <a:srgbClr val="0000cc"/>
                </a:solidFill>
                <a:latin typeface="Arial"/>
              </a:rPr>
              <a:t>α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-Hydroxylase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2627280" y="34225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-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Hydroxyprogesterone (21C)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5796000" y="44308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Androstenedione (19C)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586728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stosterone (19C)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156360" y="61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radiol (18C) 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7236000" y="4797360"/>
            <a:ext cx="0" cy="28728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7236000" y="5877000"/>
            <a:ext cx="0" cy="360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859280" y="3860640"/>
            <a:ext cx="1584360" cy="576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3348000" y="4718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1-Deoxycortisol (21C)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250920" y="44308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1-Deoxycorticosterone (21C)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716360" y="3860640"/>
            <a:ext cx="0" cy="9367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4" name="Line 26"/>
          <p:cNvSpPr/>
          <p:nvPr/>
        </p:nvSpPr>
        <p:spPr>
          <a:xfrm>
            <a:off x="4716360" y="5084640"/>
            <a:ext cx="0" cy="115272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363528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tisol (21C)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 flipH="1">
            <a:off x="1835280" y="2789280"/>
            <a:ext cx="1908000" cy="15984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1952640" y="5013360"/>
            <a:ext cx="2690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11- </a:t>
            </a:r>
            <a:r>
              <a:rPr b="1" lang="el-GR" sz="1400" spc="-1" strike="noStrike">
                <a:solidFill>
                  <a:srgbClr val="0000cc"/>
                </a:solidFill>
                <a:latin typeface="Arial"/>
              </a:rPr>
              <a:t>β</a:t>
            </a:r>
            <a:r>
              <a:rPr b="0" lang="el-GR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-Hydroxylase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611280" y="5294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rticosterone 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1835280" y="4797360"/>
            <a:ext cx="0" cy="576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368280" y="6165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dosterone (21C)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1835280" y="5661000"/>
            <a:ext cx="0" cy="50328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7236000" y="5373720"/>
            <a:ext cx="0" cy="43164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4" name="Oval 36"/>
          <p:cNvSpPr/>
          <p:nvPr/>
        </p:nvSpPr>
        <p:spPr>
          <a:xfrm>
            <a:off x="5913360" y="4765680"/>
            <a:ext cx="2808360" cy="1986120"/>
          </a:xfrm>
          <a:prstGeom prst="ellipse">
            <a:avLst/>
          </a:prstGeom>
          <a:noFill/>
          <a:ln w="2556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TextBox 37"/>
          <p:cNvSpPr/>
          <p:nvPr/>
        </p:nvSpPr>
        <p:spPr>
          <a:xfrm rot="16200000">
            <a:off x="7849440" y="5475600"/>
            <a:ext cx="2148120" cy="368280"/>
          </a:xfrm>
          <a:prstGeom prst="rect">
            <a:avLst/>
          </a:prstGeom>
          <a:solidFill>
            <a:srgbClr val="c9ff95"/>
          </a:solidFill>
          <a:ln w="936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Peripheral tissues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2556000" y="3860640"/>
            <a:ext cx="2087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21-</a:t>
            </a:r>
            <a:r>
              <a:rPr b="1" lang="el-GR" sz="1400" spc="-1" strike="noStrike">
                <a:solidFill>
                  <a:srgbClr val="0000cc"/>
                </a:solidFill>
                <a:latin typeface="Arial"/>
              </a:rPr>
              <a:t>α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-Hydroxylase</a:t>
            </a:r>
            <a:endParaRPr b="0" lang="en-US" sz="14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285264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hypothalamu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secret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rticotropin-releasing hormone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CRH) which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imulates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the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anterior pituitary gland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to synthesis and release ACTH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TH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cts on the zona fasiculata cells </a:t>
            </a:r>
            <a:r>
              <a:rPr b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release of glucocorticoids (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ortisol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158436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Hypothalamic-Pituitary-Adrena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(HPA) Axis 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31248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 Black"/>
              </a:rPr>
              <a:t>Regulation of ACTH and Cortisol Secretion:</a:t>
            </a:r>
            <a:endParaRPr b="0" lang="en-US" sz="32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604880"/>
            <a:ext cx="55432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 Negative feedback control: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H release from the anterior pituitary is stimulated by hypothalamic secretion of corticotrophin releasing hormone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CRH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CRH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ACTH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[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rtisol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[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rtisol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] o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ynthetic steroid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suppres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RH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&amp;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H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 secretion</a:t>
            </a:r>
            <a:endParaRPr b="0" lang="en-US" sz="2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1" name="Picture 8" descr="Cushings_Disease"/>
          <p:cNvPicPr/>
          <p:nvPr/>
        </p:nvPicPr>
        <p:blipFill>
          <a:blip r:embed="rId1"/>
          <a:stretch/>
        </p:blipFill>
        <p:spPr>
          <a:xfrm>
            <a:off x="5724360" y="1557360"/>
            <a:ext cx="2909880" cy="4535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132" name="Rectangle 9"/>
          <p:cNvSpPr/>
          <p:nvPr/>
        </p:nvSpPr>
        <p:spPr>
          <a:xfrm>
            <a:off x="6826320" y="3583080"/>
            <a:ext cx="1111320" cy="236520"/>
          </a:xfrm>
          <a:prstGeom prst="rect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ituitary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7350120" y="1989000"/>
            <a:ext cx="1584360" cy="287640"/>
          </a:xfrm>
          <a:prstGeom prst="rect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Hypothalamus</a:t>
            </a: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7842240" y="5013360"/>
            <a:ext cx="1122480" cy="257040"/>
          </a:xfrm>
          <a:prstGeom prst="rect">
            <a:avLst/>
          </a:prstGeom>
          <a:solidFill>
            <a:srgbClr val="fdfbbb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Adrenal</a:t>
            </a:r>
            <a:endParaRPr b="0" lang="en-US" sz="16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40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. Stres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(e.g.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jor surger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motional stres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ress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RH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&amp; ACTH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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ortisol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. The diurnal rhythm of plasma cortisol: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ighest Cortisol 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morning ( 8 - 9 AM )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owest Cortisol 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afternoon and evening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8 - 9 PM ).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5075280" y="2997360"/>
            <a:ext cx="3529080" cy="3240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3"/>
          <p:cNvSpPr/>
          <p:nvPr/>
        </p:nvSpPr>
        <p:spPr>
          <a:xfrm>
            <a:off x="468360" y="50259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The diurnal rhythm of cortisol secretion; the area between the curves represents values that lie within the reference range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424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 Black"/>
              </a:rPr>
              <a:t>Plasma [CBG] :</a:t>
            </a:r>
            <a:endParaRPr b="0" lang="en-US" sz="36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26972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4680" indent="-5446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In the circulation, glucocorticoids are mainly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otein-bound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out 90%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),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chiefly to cortisol-binding globuli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BG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nscortin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).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-342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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in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pregnancy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 and with estrogen treatment (e.g. oral contraceptives).</a:t>
            </a:r>
            <a:endParaRPr b="0" lang="en-US" sz="29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-342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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in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hypoproteinemic states</a:t>
            </a:r>
            <a:r>
              <a:rPr b="1" lang="en-US" sz="2900" spc="-1" strike="noStrike">
                <a:solidFill>
                  <a:srgbClr val="336600"/>
                </a:solidFill>
                <a:latin typeface="Arial"/>
              </a:rPr>
              <a:t>                        (e.g. nephrotic syndrome). </a:t>
            </a:r>
            <a:endParaRPr b="0" lang="en-US" sz="29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66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00"/>
              </a:solidFill>
              <a:latin typeface="Arial"/>
            </a:endParaRPr>
          </a:p>
          <a:p>
            <a:pPr marL="544680" indent="-5446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biologically active fraction of cortisol in plasma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re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(unbound) component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22:02:11Z</dcterms:created>
  <dc:creator>sayed</dc:creator>
  <dc:description/>
  <cp:keywords/>
  <dc:language>en-US</dc:language>
  <cp:lastModifiedBy>Microsoft Office User</cp:lastModifiedBy>
  <cp:lastPrinted>2017-02-14T04:36:31Z</cp:lastPrinted>
  <dcterms:modified xsi:type="dcterms:W3CDTF">2017-02-26T08:49:14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01033</vt:lpwstr>
  </property>
</Properties>
</file>