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9795-17E7-4B25-910A-9C06D17F0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iculum vitae is singular. It means literally the course of one’s life.  The plural would be curricula vitae. Curricula Vitarum actually in La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DB0A-7CE4-4238-BAAA-68EFFD18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7223-829D-4DD2-B5F3-2BF31035D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B822-F085-478B-9B5A-1A49D275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08AD-4038-414E-B0DB-D4A0BCABA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1571-7592-446C-8840-1E6BEE7D7E5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indly contributed to the Adult Basic Skills Resource Centr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.skillsworkshop.org 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y Louise Swain, Milton Keynes Colleg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Swain, Louise swainlouise@gmail.com Makes a good introduction to any Adult Literacy, ESOL or Employment Skills class (Entry 3 upward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4C5-7DE6-4128-86BF-3081E7BC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CC3-0CFE-4663-B618-26A58FE9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853-1E43-4D13-AA91-0263B762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6B2-D34C-4DB5-82D1-5FE13F65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255-B225-4033-8047-445FE1C0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2D1-BED8-4A96-9C6E-16E107D4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3BF-5F6F-47E2-AD64-168EC6A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B02-248E-437E-AC11-3B79A576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93D-E096-4301-8F1B-CC7FBC4E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817-9115-4FC9-8C3A-42170EDC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D5A-5375-425A-AA39-40007070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628-3B28-4C73-BBE3-F971BAFD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7c8"/>
            </a:gs>
            <a:gs pos="100000">
              <a:srgbClr val="bfd6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8AD-C38C-4881-95B0-3EA0DAC26E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John.Manning@canberra.edu.au" TargetMode="External"/><Relationship Id="rId2" Type="http://schemas.openxmlformats.org/officeDocument/2006/relationships/hyperlink" Target="mailto:Carol.Wilson@SmithandJones.com.au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749920" y="2719440"/>
            <a:ext cx="1522440" cy="114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5749920" y="4552920"/>
            <a:ext cx="1552680" cy="117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1835280" y="2719440"/>
            <a:ext cx="1726920" cy="117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843200" y="4552920"/>
            <a:ext cx="1657080" cy="117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8" descr=""/>
          <p:cNvPicPr/>
          <p:nvPr/>
        </p:nvPicPr>
        <p:blipFill>
          <a:blip r:embed="rId5"/>
          <a:stretch/>
        </p:blipFill>
        <p:spPr>
          <a:xfrm>
            <a:off x="2865600" y="2459160"/>
            <a:ext cx="3408120" cy="327348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10" descr=""/>
          <p:cNvPicPr/>
          <p:nvPr/>
        </p:nvPicPr>
        <p:blipFill>
          <a:blip r:embed="rId6"/>
          <a:stretch/>
        </p:blipFill>
        <p:spPr>
          <a:xfrm>
            <a:off x="731880" y="523800"/>
            <a:ext cx="760104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4640" y="259920"/>
            <a:ext cx="7556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Educational Qua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5000" y="1700280"/>
            <a:ext cx="76917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written in a reverse 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ates and name of th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/certifications are what is important – not time sp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include poor grade – grade point a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ny degree honors or certificates, prizes, awards or accomplishments you achieved during your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‘degree expected’ if you have not yet grad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rcRect l="25535" t="33425" r="2421" b="25389"/>
          <a:stretch/>
        </p:blipFill>
        <p:spPr>
          <a:xfrm>
            <a:off x="395280" y="2133720"/>
            <a:ext cx="8329680" cy="280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817560" y="765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Educational Qualification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Tips on Professional Experience and Employment History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78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nything was exte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ist items relevant to academic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most recen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Sample of Professional Experience and Employment History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4" descr=""/>
          <p:cNvPicPr/>
          <p:nvPr/>
        </p:nvPicPr>
        <p:blipFill>
          <a:blip r:embed="rId1"/>
          <a:srcRect l="21377" t="24498" r="8854" b="23002"/>
          <a:stretch/>
        </p:blipFill>
        <p:spPr>
          <a:xfrm>
            <a:off x="146160" y="2276640"/>
            <a:ext cx="88516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Tips on Honors and Awards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0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s demonstrate your achievements to your emplo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most recen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s/Award Title – then date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ll relevant academic awards/recognition and dates rece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17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ublications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submitted and/or pending publications o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indicate others you work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Sample of Publications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rcRect l="19589" t="27682" r="9748" b="23002"/>
          <a:stretch/>
        </p:blipFill>
        <p:spPr>
          <a:xfrm>
            <a:off x="200160" y="2492280"/>
            <a:ext cx="87436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412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Volunteer experience and Community </a:t>
            </a:r>
            <a:r>
              <a:rPr b="0" lang="en-US" sz="3700" spc="-1" strike="noStrike">
                <a:solidFill>
                  <a:srgbClr val="cc0000"/>
                </a:solidFill>
                <a:latin typeface="Arial"/>
              </a:rPr>
              <a:t>Service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26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ection show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prospective employee is willing to try new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volved i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will take initiative and make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le of Volunteer experience and 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rcRect l="20480" t="11772" r="10641" b="15049"/>
          <a:stretch/>
        </p:blipFill>
        <p:spPr>
          <a:xfrm>
            <a:off x="438120" y="1557360"/>
            <a:ext cx="83264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280" y="91728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What is a Curriculum Vitae (or CV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riculum Vitae in Latin Means “the course of one’s lif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81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Arial"/>
              </a:rPr>
              <a:t>References or Refe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es are people who can attest to your work habits, skills, and accomplishment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or past employ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references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full name, title, institutional address, telephone, email, fa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sure your references know they are li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Arial"/>
              </a:rPr>
              <a:t>Sample of References or Referees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Refe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- John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cturer in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iversity of Canb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l: 6201 76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hn.Manning@canberr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- Carol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fi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mith and Jones Accoun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1/9 Green A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rton ACT 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l: 6234 0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rol.Wilson@SmithandJones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712C-E71C-49C1-A0C0-690FE4AA1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9440" y="544680"/>
            <a:ext cx="838512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What is a cover let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9440" y="175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ver letter generally accompanies a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mportant part of an application – not just a for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lights your key skills and suitability for the job clearly, concisely and posi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rget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job/sector you are apply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mplements and develops the information in the CV rather than duplicat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Opening para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2296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are you writing?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Name specific job vacancy and where adverti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State broad type of work you are interested in, on what basis (e.g. work placement, full time) and when you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are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1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ample of cover letter first paragraph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s Belmor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s excited to see your advertisement fo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th Coordin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ition on Augsburg College’s Career and Internship Center website.  I have been looking for a position that would allow me to work with youth and make a positive impact in their lives. 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8CC7-294E-497B-80F1-6976EEF374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08000" y="260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8000" y="404640"/>
            <a:ext cx="777708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ARAGRAPH 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 am writing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explain which job you are applying for and how/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ou heard abou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ther useful phr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noted with interest your advertisement for a .... in today’s edition o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writing in response to your advertisement in ... for the position o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would like to apply for the vacancy advertised i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interested in applying for the post o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With reference to your advertisement i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s you will see from my CV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have enclosed a copy of my CV, from which you will se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lease find enclosed a copy of my C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30880" y="7245360"/>
            <a:ext cx="6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476360" y="760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268360" y="7461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c2c90"/>
                </a:solidFill>
                <a:latin typeface="Arial"/>
              </a:rPr>
              <a:t>Department of Stud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8991-29B3-4B07-9B77-13731A910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Middle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that organisation and why that job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emonstrate qualifications, knowledge of and interest in both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ake links through your degree subject if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you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y should they consider you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at key skills/strengths can you offer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pport your statements with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recently graduated from Augsburg College with a bachelor of arts in psychology.  During my senior year, I did an internship at Family Services where I coordinated and recruited volunteers for their Youth and Family Mentoring Program.  Within that position, I was also able to do intakes, casework and develop an at-risk youth awareness program.  My education, internship, work, and volunteer experiences have increased my abilities in the following area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Effectiveness in developing and implementing programs for youth and famili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Excellent interpersonal and intercultural communication skill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Ability to recruit, interview, and retain volunteer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Effective intake and assessment skill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Successfully Supervised 20 first year student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Strong public speaking and training skill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2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7AD6-0C76-4758-A107-556A07169C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50920" y="333360"/>
            <a:ext cx="86421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ARAGRAPH 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Since graduating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briefly describe your most relevant qualifications and/or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ther useful phr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currently studying …. 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fter graduating from …, 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ince leaving university, I hav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n leaving school, 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aving gained a degree, 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While I was working 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uring my employment 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currently employed 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D8DB-59F1-42CD-97A3-557661C538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24000" y="33336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 would welcom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explain why you want the job and why you think you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would be good a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ther useful phr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his post interests me becau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would welcome the chance to gain more experience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would be greatful for the opportunity to improve my …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have extensive experience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urpose of the C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9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troduction to future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training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s experiences, skills, talen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DEF3-B65E-42A3-8AB9-53EFEF62C3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33336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ther useful phr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f you consider that my experience and qualifications are suitab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available for interview any afternoon and would be pleased to discuss the post in per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will be available for interview from … t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can arrange to attend an interview whenever convenient for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c2c90"/>
                </a:solidFill>
                <a:latin typeface="Arial"/>
              </a:rPr>
              <a:t>Department of Stud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0FE-DBB3-497F-AD75-3A5A5E673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Closing para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57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Arial"/>
              </a:rPr>
              <a:t>Polite ending – convey interest and enthusiasm in the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Arial"/>
              </a:rPr>
              <a:t>Indicate any times available/not available for inter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Paragraph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work, education, and leadership experiences have allowed me to grow both personally and professionally.  I am passionate about your mission to  help children grow and build relationships  and believe that I can make an important contribution to the Kids ‘n Kinship organization.  Enclosed is my CV for your further consideration.  I thank you in advance and look forward to meeting with you soon. I can be available for interview next Monday the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ecemb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rel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Kunstler Script"/>
              </a:rPr>
              <a:t>Jake R. Samp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e 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rial"/>
              </a:rPr>
              <a:t>DON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0800" y="155700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folding your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levant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proved awards, Prizes, and publication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what you did, not what you th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inclu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formation such as Religion, Health, native plac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6156360" y="35892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9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Arial"/>
              </a:rPr>
              <a:t>DONT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2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u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ish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sual spacin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repea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personal pronouns (I, my, 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227640" y="55404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rial"/>
              </a:rPr>
              <a:t>CV Writing Ti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4920" y="1628280"/>
            <a:ext cx="80010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the job you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on achievement an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read design an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spelling mistak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 or employmen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someone to review your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1143000" y="990720"/>
            <a:ext cx="6019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Thank You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4876920" y="2819520"/>
          <a:ext cx="388620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819520"/>
                    <a:ext cx="388620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WordArt 5"/>
          <p:cNvSpPr txBox="1"/>
          <p:nvPr/>
        </p:nvSpPr>
        <p:spPr>
          <a:xfrm>
            <a:off x="762120" y="3733920"/>
            <a:ext cx="278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estions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e difference between 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a Resume and a Vit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944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: Short (one 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: All-inclusive summary of qualifications and educational experi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rke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get an interview or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88000" y="2001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it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: As long as it 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: Area-specific listing of education and academic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promotion and tenure, employment, grants, specialist positions, award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Where to sta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hi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/Awards/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features/qualities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s/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Where to sta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im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ategory (eg. Education, Work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Arial"/>
              </a:rPr>
              <a:t>Design your CV 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r CV must be easy to r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per - white paper is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nt size:10-12 point for text; 14 or 16 for head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nt style:  Arial is best, then Tahoma, Garam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You can use bolding, italics, underlining, and CAPS for h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oxes, tables: do not use them, not helpf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te space is good, don’t cram your CV on one pag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00000"/>
                </a:solidFill>
                <a:latin typeface="Arial"/>
              </a:rPr>
              <a:t>Proof-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14346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obvious aspect of good CV writing is proof-reading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s should be checked, drafted, re-drafted and then checked ag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that your CV is the best document you possess.  It could make all the difference to get you that intervie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0" y="155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Order of Contents in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6040" y="764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 (as a heading rather than ‘CV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(term-time and ho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ephon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 and Qua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hievements: events, lectures, seminars, conferences, workshops…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: indicates the type of work you are see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 statement: highlights a person’s professional attributes and goals and why someone should consider your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ional Experience and Employment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s: computer skills, administration, research skills, personal skills: flexibility, effective communication, teamwork, initiative, language 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hips and Affil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nors and A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Experi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d0d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Volunteer experience and Community Ser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9:21:28Z</dcterms:created>
  <dc:creator>Cris</dc:creator>
  <dc:description/>
  <dc:language>en-US</dc:language>
  <cp:lastModifiedBy>Salwa Alharthi</cp:lastModifiedBy>
  <dcterms:modified xsi:type="dcterms:W3CDTF">2015-11-17T06:30:56Z</dcterms:modified>
  <cp:revision>71</cp:revision>
  <dc:subject/>
  <dc:title>Diapositiva 1</dc:title>
</cp:coreProperties>
</file>