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2D66F-5DE2-4FE6-B62B-996116D0081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rriculum vitae is singular. It means literally the course of one’s life.  The plural would be curricula vitae. Curricula Vitarum actually in Lat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0DDE8-96B5-4ADB-8828-F29DA7BB68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014C4-5AB7-4DAC-B568-0D21E47C8F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BD38E-119C-4671-B096-C37DFCD091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CA578-3326-40D9-BE13-664241CA7C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492A7-8D79-4EFF-A6B5-5915AB12E1CC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Kindly contributed to the Adult Basic Skills Resource Centre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ttp://www.skillsworkshop.org </a:t>
            </a: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by Louise Swain, Milton Keynes College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, Swain, Louise swainlouise@gmail.com Makes a good introduction to any Adult Literacy, ESOL or Employment Skills class (Entry 3 upwards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7CA2-9764-42C6-AB0D-6F75905E7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AA6E-1BB3-469A-8B90-3E71E2171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75C2-A207-4047-8A2C-3715BEBB5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BEB8-1493-42A8-A4B0-16D820D7B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1AE2-D791-49F6-9563-78E28985A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8E02-7C9F-4568-9FF7-1B35B8231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35D8-64A7-4854-908E-24F9E0850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7ECD-7E50-43F2-BEC9-78BADF071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433B-FAE0-45C6-A12E-AC13EAF13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81D7-5FD1-4371-976F-6691821BB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6B68-ACA0-4877-81A8-D7ED4F782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832F-6B87-4AB4-B655-9D56E9933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97c8"/>
            </a:gs>
            <a:gs pos="100000">
              <a:srgbClr val="bfd6e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F51E8-A33B-44CF-B86D-A1D7CFAD5E7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mailto:John.Manning@canberra.edu.au" TargetMode="External"/><Relationship Id="rId2" Type="http://schemas.openxmlformats.org/officeDocument/2006/relationships/hyperlink" Target="mailto:Carol.Wilson@SmithandJones.com.au" TargetMode="External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"/>
          <p:cNvPicPr/>
          <p:nvPr/>
        </p:nvPicPr>
        <p:blipFill>
          <a:blip r:embed="rId1"/>
          <a:stretch/>
        </p:blipFill>
        <p:spPr>
          <a:xfrm>
            <a:off x="5749920" y="2719440"/>
            <a:ext cx="1522440" cy="1141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9" name="Picture 3" descr=""/>
          <p:cNvPicPr/>
          <p:nvPr/>
        </p:nvPicPr>
        <p:blipFill>
          <a:blip r:embed="rId2"/>
          <a:stretch/>
        </p:blipFill>
        <p:spPr>
          <a:xfrm>
            <a:off x="5749920" y="4552920"/>
            <a:ext cx="1552680" cy="1179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0" name="Picture 5" descr=""/>
          <p:cNvPicPr/>
          <p:nvPr/>
        </p:nvPicPr>
        <p:blipFill>
          <a:blip r:embed="rId3"/>
          <a:stretch/>
        </p:blipFill>
        <p:spPr>
          <a:xfrm>
            <a:off x="1835280" y="2719440"/>
            <a:ext cx="1726920" cy="1177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1" name="Picture 9" descr=""/>
          <p:cNvPicPr/>
          <p:nvPr/>
        </p:nvPicPr>
        <p:blipFill>
          <a:blip r:embed="rId4"/>
          <a:stretch/>
        </p:blipFill>
        <p:spPr>
          <a:xfrm>
            <a:off x="1843200" y="4552920"/>
            <a:ext cx="1657080" cy="1179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2" name="Picture 8" descr=""/>
          <p:cNvPicPr/>
          <p:nvPr/>
        </p:nvPicPr>
        <p:blipFill>
          <a:blip r:embed="rId5"/>
          <a:stretch/>
        </p:blipFill>
        <p:spPr>
          <a:xfrm>
            <a:off x="2865600" y="2459160"/>
            <a:ext cx="3408120" cy="3273480"/>
          </a:xfrm>
          <a:prstGeom prst="rect">
            <a:avLst/>
          </a:prstGeom>
          <a:ln w="0">
            <a:noFill/>
          </a:ln>
        </p:spPr>
      </p:pic>
      <p:pic>
        <p:nvPicPr>
          <p:cNvPr id="53" name="Rectangle 10" descr=""/>
          <p:cNvPicPr/>
          <p:nvPr/>
        </p:nvPicPr>
        <p:blipFill>
          <a:blip r:embed="rId6"/>
          <a:stretch/>
        </p:blipFill>
        <p:spPr>
          <a:xfrm>
            <a:off x="731880" y="523800"/>
            <a:ext cx="7601040" cy="17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4640" y="259920"/>
            <a:ext cx="755676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Arial"/>
              </a:rPr>
              <a:t>Educational Qualif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5000" y="1700280"/>
            <a:ext cx="7691760" cy="36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 be written in a reverse chronological 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dates and name of the Instit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rees/certifications are what is important – not time sp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’t include poor grade – grade point avera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 any degree honors or certificates, prizes, awards or accomplishments you achieved during your stud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‘degree expected’ if you have not yet gradu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1" descr=""/>
          <p:cNvPicPr/>
          <p:nvPr/>
        </p:nvPicPr>
        <p:blipFill>
          <a:blip r:embed="rId1"/>
          <a:srcRect l="25535" t="33425" r="2421" b="25389"/>
          <a:stretch/>
        </p:blipFill>
        <p:spPr>
          <a:xfrm>
            <a:off x="395280" y="2133720"/>
            <a:ext cx="8329680" cy="280800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2"/>
          <p:cNvSpPr/>
          <p:nvPr/>
        </p:nvSpPr>
        <p:spPr>
          <a:xfrm>
            <a:off x="817560" y="76500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Arial"/>
              </a:rPr>
              <a:t>Educational Qualifications Exa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3640" y="105228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Arial"/>
              </a:rPr>
              <a:t>Tips on Professional Experience and Employment History s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68360" y="2781360"/>
            <a:ext cx="84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des anything was extensiv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list items relevant to academic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 most recent fir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Arial"/>
              </a:rPr>
              <a:t>Sample of Professional Experience and Employment History s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Content Placeholder 4" descr=""/>
          <p:cNvPicPr/>
          <p:nvPr/>
        </p:nvPicPr>
        <p:blipFill>
          <a:blip r:embed="rId1"/>
          <a:srcRect l="21377" t="24498" r="8854" b="23002"/>
          <a:stretch/>
        </p:blipFill>
        <p:spPr>
          <a:xfrm>
            <a:off x="146160" y="2276640"/>
            <a:ext cx="885168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800000"/>
                </a:solidFill>
                <a:latin typeface="Arial"/>
              </a:rPr>
              <a:t>Skil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ffective commun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am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dminis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iti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anguage 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Arial"/>
              </a:rPr>
              <a:t>Tips on Honors and Awards s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2205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wards demonstrate your achievements to your emplo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most recent fir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nors/Award Title – then date recei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clude all relevant academic awards/recognition and dates receiv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017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Arial"/>
              </a:rPr>
              <a:t>Publications s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611280" y="270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 submitted and/or pending publications or pres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indicate others you worked wi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Arial"/>
              </a:rPr>
              <a:t>Sample of Publications s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Content Placeholder 3" descr=""/>
          <p:cNvPicPr/>
          <p:nvPr/>
        </p:nvPicPr>
        <p:blipFill>
          <a:blip r:embed="rId1"/>
          <a:srcRect l="19589" t="27682" r="9748" b="23002"/>
          <a:stretch/>
        </p:blipFill>
        <p:spPr>
          <a:xfrm>
            <a:off x="200160" y="2492280"/>
            <a:ext cx="8743680" cy="34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412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Volunteer experience and Community </a:t>
            </a:r>
            <a:r>
              <a:rPr b="0" lang="en-US" sz="3700" spc="-1" strike="noStrike">
                <a:solidFill>
                  <a:srgbClr val="cc0000"/>
                </a:solidFill>
                <a:latin typeface="Arial"/>
              </a:rPr>
              <a:t>Service</a:t>
            </a:r>
            <a:br>
              <a:rPr sz="3700"/>
            </a:b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82680" y="24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is section shows tha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is prospective employee is willing to try new experi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 involved in 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d will take initiative and make things hap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Sample of Volunteer experience and Community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Content Placeholder 3" descr=""/>
          <p:cNvPicPr/>
          <p:nvPr/>
        </p:nvPicPr>
        <p:blipFill>
          <a:blip r:embed="rId1"/>
          <a:srcRect l="20480" t="11772" r="10641" b="15049"/>
          <a:stretch/>
        </p:blipFill>
        <p:spPr>
          <a:xfrm>
            <a:off x="438120" y="1557360"/>
            <a:ext cx="8326440" cy="497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5280" y="917280"/>
            <a:ext cx="8893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Arial"/>
              </a:rPr>
              <a:t>What is a Curriculum Vitae (or CV)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urriculum Vitae in Latin Means “the course of one’s lif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3812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c00000"/>
                </a:solidFill>
                <a:latin typeface="Arial"/>
              </a:rPr>
              <a:t>References or Refere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1128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ferees are people who can attest to your work habits, skills, and accomplishments such 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or past employer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ervisor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fess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vis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hoose references carefu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full name, title, institutional address, telephone, email, fax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e sure your references know they are lis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c00000"/>
                </a:solidFill>
                <a:latin typeface="Arial"/>
              </a:rPr>
              <a:t>Sample of References or Referees s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53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cc9900"/>
                </a:solidFill>
                <a:latin typeface="Arial"/>
              </a:rPr>
              <a:t>Refer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1- John Ma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Lecturer in Financial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University of Canber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el: 6201 76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Email: </a:t>
            </a:r>
            <a:r>
              <a:rPr b="0" lang="en-AU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John.Manning@canberra.edu.a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2- Carol Wil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Office 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Smith and Jones Account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21/9 Green Ave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Barton ACT 26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el: 6234 09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Email: </a:t>
            </a:r>
            <a:r>
              <a:rPr b="0" lang="en-AU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arol.Wilson@SmithandJones.com.a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01ACE-081D-435E-AE65-D186E973017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79440" y="544680"/>
            <a:ext cx="8385120" cy="105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800000"/>
                </a:solidFill>
                <a:latin typeface="Arial"/>
              </a:rPr>
              <a:t>What is a cover lette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79440" y="175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cover letter generally accompanies a C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 important part of an application – not just a form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ighlights your key skills and suitability for the job clearly, concisely and positiv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is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targeted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 the job/sector you are applying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complements and develops the information in the CV rather than duplicates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800000"/>
                </a:solidFill>
                <a:latin typeface="Arial"/>
              </a:rPr>
              <a:t>Opening paragrap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24000" y="2565000"/>
            <a:ext cx="8229600" cy="29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y are you writing?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Name specific job vacancy and where advertised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State broad type of work you are interested in, on what basis (e.g. work placement, full time) and when you are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o are you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3132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Sample of cover letter first paragraph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ar Ms Belmore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was excited to see your advertisement for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outh Coordina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osition on Augsburg College’s Career and Internship Center website.  I have been looking for a position that would allow me to work with youth and make a positive impact in their lives.  </a:t>
            </a:r>
            <a:br>
              <a:rPr sz="4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63CAA-8AB4-4111-ABAC-5F6DD4BB21C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08000" y="260280"/>
            <a:ext cx="777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108000" y="404640"/>
            <a:ext cx="7777080" cy="59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PARAGRAPH 1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800" spc="-1" strike="noStrike">
                <a:solidFill>
                  <a:srgbClr val="000000"/>
                </a:solidFill>
                <a:latin typeface="Arial"/>
              </a:rPr>
              <a:t>I am writing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- explain which job you are applying for and how/whe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you heard abou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other useful phras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I noted with interest your advertisement for a .... in today’s edition of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I am writing in response to your advertisement in ... for the position of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I would like to apply for the vacancy advertised in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I am interested in applying for the post of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With reference to your advertisement in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As you will see from my CV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I have enclosed a copy of my CV, from which you will see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lease find enclosed a copy of my CV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4430880" y="7245360"/>
            <a:ext cx="6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476360" y="7605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2268360" y="74613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c2c90"/>
                </a:solidFill>
                <a:latin typeface="Arial"/>
              </a:rPr>
              <a:t>Department of Student 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64E96-9B04-4FF1-B0F8-7CAC41F3D61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800000"/>
                </a:solidFill>
                <a:latin typeface="Arial"/>
              </a:rPr>
              <a:t>Middle paragraph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y that organisation and why that job?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demonstrate qualifications, knowledge of and interest in both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make links through your degree subject if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y you?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why should they consider you?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what key skills/strengths can you offer?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support your statements with ev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recently graduated from Augsburg College with a bachelor of arts in psychology.  During my senior year, I did an internship at Family Services where I coordinated and recruited volunteers for their Youth and Family Mentoring Program.  Within that position, I was also able to do intakes, casework and develop an at-risk youth awareness program.  My education, internship, work, and volunteer experiences have increased my abilities in the following areas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▪Effectiveness in developing and implementing programs for youth and families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▪Excellent interpersonal and intercultural communication skills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▪Ability to recruit, interview, and retain volunteers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▪Effective intake and assessment skills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▪Successfully Supervised 20 first year students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▪Strong public speaking and training skill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27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654B3-7CD2-45A0-90CA-4E4457E2241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250920" y="333360"/>
            <a:ext cx="8642160" cy="626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PARAGRAPH 2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800" spc="-1" strike="noStrike">
                <a:solidFill>
                  <a:srgbClr val="000000"/>
                </a:solidFill>
                <a:latin typeface="Arial"/>
              </a:rPr>
              <a:t>Since graduating 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- briefly describe your most relevant qualifications and/or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 exper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other useful phras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I am currently studying …. at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After graduating from …, I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Since leaving university, I have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On leaving school, I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Having gained a degree, I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While I was working at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During my employment at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I am currently employed at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3E15A-C216-44C4-BEE8-E6AF3DD5BE1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324000" y="333360"/>
            <a:ext cx="78483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800" spc="-1" strike="noStrike">
                <a:solidFill>
                  <a:srgbClr val="000000"/>
                </a:solidFill>
                <a:latin typeface="Arial"/>
              </a:rPr>
              <a:t>I would welcome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- explain why you want the job and why you think you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      would be good a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other useful phras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This post interests me because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I would welcome the chance to gain more experience of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I would be greatful for the opportunity to improve my … skil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I have extensive experience of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092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Arial"/>
              </a:rPr>
              <a:t>Purpose of the C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297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 introduction to future employ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ployment rec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ucation and training rec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lights experiences, skills, talent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4D5BB-9A6F-45B5-9A66-C1A825BCB9E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250920" y="333360"/>
            <a:ext cx="7921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other useful phras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If you consider that my experience and qualifications are suitable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I am available for interview any afternoon and would be pleased to discuss the post in pers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I will be available for interview from … to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I can arrange to attend an interview whenever convenient for yo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c2c90"/>
                </a:solidFill>
                <a:latin typeface="Arial"/>
              </a:rPr>
              <a:t>Department of Student 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0B468-ADFD-4CFD-AE16-F342F8978F9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36680" y="576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800000"/>
                </a:solidFill>
                <a:latin typeface="Arial"/>
              </a:rPr>
              <a:t>Closing paragrap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57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d0d0d"/>
                </a:solidFill>
                <a:latin typeface="Arial"/>
              </a:rPr>
              <a:t>Polite ending – convey interest and enthusiasm in the r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d0d0d"/>
                </a:solidFill>
                <a:latin typeface="Arial"/>
              </a:rPr>
              <a:t>Indicate any times available/not available for intervie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ast Paragraph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work, education, and leadership experiences have allowed me to grow both personally and professionally.  I am passionate about your mission to  help children grow and build relationships  and believe that I can make an important contribution to the Kids ‘n Kinship organization.  Enclosed is my CV for your further consideration.  I thank you in advance and look forward to meeting with you soon. I can be available for interview next Monday the 28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December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cerely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000" spc="-1" strike="noStrike">
                <a:solidFill>
                  <a:srgbClr val="000000"/>
                </a:solidFill>
                <a:latin typeface="Kunstler Script"/>
              </a:rPr>
              <a:t>Jake R. Sampl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ke R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800"/>
            </a:br>
            <a:br>
              <a:rPr sz="1800"/>
            </a:br>
            <a:br>
              <a:rPr sz="40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95280" y="54936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c00000"/>
                </a:solidFill>
                <a:latin typeface="Arial"/>
              </a:rPr>
              <a:t>DONT’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0800" y="1557000"/>
            <a:ext cx="7086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oid folding your C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n’t inclu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rrelevant inform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vious Sal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proved awards, Prizes, and publications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y what you did, not what you thi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n’t includ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sonal information such as Religion, Health, native place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1" descr=""/>
          <p:cNvPicPr/>
          <p:nvPr/>
        </p:nvPicPr>
        <p:blipFill>
          <a:blip r:embed="rId1"/>
          <a:stretch/>
        </p:blipFill>
        <p:spPr>
          <a:xfrm>
            <a:off x="6156360" y="358920"/>
            <a:ext cx="1046160" cy="104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98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00000"/>
                </a:solidFill>
                <a:latin typeface="Arial"/>
              </a:rPr>
              <a:t>DONT’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827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oid unusua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nt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ylish le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ph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l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usual spacing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oid repeating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oid personal pronouns (I, my, m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3" descr=""/>
          <p:cNvPicPr/>
          <p:nvPr/>
        </p:nvPicPr>
        <p:blipFill>
          <a:blip r:embed="rId1"/>
          <a:stretch/>
        </p:blipFill>
        <p:spPr>
          <a:xfrm>
            <a:off x="6227640" y="554040"/>
            <a:ext cx="1046160" cy="10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78483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c00000"/>
                </a:solidFill>
                <a:latin typeface="Arial"/>
              </a:rPr>
              <a:t>CV Writing Tip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64920" y="1628280"/>
            <a:ext cx="8001000" cy="454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cus on the job you w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phasis on achievement and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y to read design and langu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oid spelling mistak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ucation or employment fir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k someone to review your C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WordArt 2"/>
          <p:cNvSpPr txBox="1"/>
          <p:nvPr/>
        </p:nvSpPr>
        <p:spPr>
          <a:xfrm>
            <a:off x="1143000" y="990720"/>
            <a:ext cx="601992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Monotype Corsiva"/>
              </a:rPr>
              <a:t>Thank You</a:t>
            </a:r>
            <a:endParaRPr b="1" lang="en-US" sz="4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Monotype Corsiva"/>
              <a:ea typeface="Monotype Corsiva"/>
            </a:endParaRPr>
          </a:p>
        </p:txBody>
      </p:sp>
      <p:graphicFrame>
        <p:nvGraphicFramePr>
          <p:cNvPr id="133" name="Object 3"/>
          <p:cNvGraphicFramePr/>
          <p:nvPr/>
        </p:nvGraphicFramePr>
        <p:xfrm>
          <a:off x="4876920" y="2819520"/>
          <a:ext cx="3886200" cy="311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2819520"/>
                    <a:ext cx="3886200" cy="31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WordArt 5"/>
          <p:cNvSpPr txBox="1"/>
          <p:nvPr/>
        </p:nvSpPr>
        <p:spPr>
          <a:xfrm>
            <a:off x="762120" y="3733920"/>
            <a:ext cx="2781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Questions?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092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The difference between </a:t>
            </a:r>
            <a:br>
              <a:rPr sz="3200"/>
            </a:b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a Resume and a Vita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49440" y="198864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Resu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ngth: Short (one pag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: All-inclusive summary of qualifications and educational experien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arketing too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rpose: to get an interview or employ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788000" y="20019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Vita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ngth: As long as it tak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: Area-specific listing of education and academic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rpose: promotion and tenure, employment, grants, specialist positions, award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Arial"/>
              </a:rPr>
              <a:t>Where to star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her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 histor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ucation hi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omplishments/Awards/Achie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que features/qualities/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earch Exper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cations/Pres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70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Arial"/>
              </a:rPr>
              <a:t>Where to star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time fr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category (eg. Education, Work, et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impor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c00000"/>
                </a:solidFill>
                <a:latin typeface="Arial"/>
              </a:rPr>
              <a:t>Design your CV w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Your CV must be easy to rea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Paper - white paper is b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Font size:10-12 point for text; 14 or 16 for heading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Font style:  Arial is best, then Tahoma, Garamo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You can use bolding, italics, underlining, and CAPS for head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Boxes, tables: do not use them, not helpfu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White space is good, don’t cram your CV on one page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38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c00000"/>
                </a:solidFill>
                <a:latin typeface="Arial"/>
              </a:rPr>
              <a:t>Proof-re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38120" y="1434600"/>
            <a:ext cx="8229600" cy="48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e obvious aspect of good CV writing is proof-reading f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pel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nct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ther erro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Vs should be checked, drafted, re-drafted and then checked again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ke sure that your CV is the best document you possess.  It could make all the difference to get you that interview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12800" y="155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00000"/>
                </a:solidFill>
                <a:latin typeface="Arial"/>
              </a:rPr>
              <a:t>Order of Contents in C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16040" y="764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onal detai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34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Name (as a heading rather than ‘CV’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34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ddress (term-time and hom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34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elephone numb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34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mail add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ducation and Qual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hievements: events, lectures, seminars, conferences, workshops…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jective: indicates the type of work you are seek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onal statement: highlights a person’s professional attributes and goals and why someone should consider your appl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fessional Experience and Employment Hist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kills: computer skills, administration, research skills, personal skills: flexibility, effective communication, teamwork, initiative, language abi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berships and Affili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nors and Awa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earch Experienc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ublica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00"/>
              </a:spcBef>
              <a:buClr>
                <a:srgbClr val="0d0d0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d0d0d"/>
                </a:solidFill>
                <a:latin typeface="Arial"/>
              </a:rPr>
              <a:t>Volunteer experience and Community Servic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7T19:21:28Z</dcterms:created>
  <dc:creator>Cris</dc:creator>
  <dc:description/>
  <dc:language>en-US</dc:language>
  <cp:lastModifiedBy>Salwa Alharthi</cp:lastModifiedBy>
  <dcterms:modified xsi:type="dcterms:W3CDTF">2015-11-17T06:30:56Z</dcterms:modified>
  <cp:revision>71</cp:revision>
  <dc:subject/>
  <dc:title>Diapositiva 1</dc:title>
</cp:coreProperties>
</file>